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4.png" ContentType="image/png"/>
  <Override PartName="/ppt/media/image21.gif" ContentType="image/gif"/>
  <Override PartName="/ppt/media/image14.png" ContentType="image/png"/>
  <Override PartName="/ppt/media/image20.png" ContentType="image/png"/>
  <Override PartName="/ppt/media/image18.wmf" ContentType="image/x-wmf"/>
  <Override PartName="/ppt/media/image16.gif" ContentType="image/gif"/>
  <Override PartName="/ppt/media/image11.png" ContentType="image/png"/>
  <Override PartName="/ppt/media/image29.wmf" ContentType="image/x-wmf"/>
  <Override PartName="/ppt/media/image7.png" ContentType="image/png"/>
  <Override PartName="/ppt/media/image1.jpeg" ContentType="image/jpeg"/>
  <Override PartName="/ppt/media/image9.gif" ContentType="image/gif"/>
  <Override PartName="/ppt/media/image35.wmf" ContentType="image/x-wmf"/>
  <Override PartName="/ppt/media/image13.gif" ContentType="image/gif"/>
  <Override PartName="/ppt/media/image36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10.gif" ContentType="image/gif"/>
  <Override PartName="/ppt/media/image34.wmf" ContentType="image/x-wmf"/>
  <Override PartName="/ppt/media/image8.png" ContentType="image/png"/>
  <Override PartName="/ppt/media/image31.wmf" ContentType="image/x-wmf"/>
  <Override PartName="/ppt/media/image5.gif" ContentType="image/gif"/>
  <Override PartName="/ppt/media/image37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3.gif" ContentType="image/gif"/>
  <Override PartName="/ppt/media/image26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19.jpeg" ContentType="image/jpe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9140-3412-4065-B8E2-D5644A55353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2CAD-3098-4451-8C84-5F06B3D2802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16B0-F8B2-4B36-89EA-E176C8F62F9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5AA4-5937-465B-BFC6-95680F9072A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7875-D698-464C-94C1-3892DE89EF8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6CE4-D0C4-4868-A9F0-8926F3E01AE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738A-5CA2-4FE5-A9AB-FA99B7FA287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03BD-8A92-4C95-B20B-39E3116235C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FC5-CFCF-4864-A67A-28C833FD430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02DD-3B2B-4662-904A-38414EBA886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AA5A-C292-45E1-9804-B6D2A09F69C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F6EE-836C-48EC-A936-3A04E33347D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96BA-ED62-48B8-BFB1-8944B5A691B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3FA0-4046-4A16-8553-F7CCCD39621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8EF1-59F8-4182-AE4B-492DFBBB13B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9461-FBAF-4665-9795-43DD93B31AA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9534-B72F-4915-A71A-83803FE1156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70E8-7C64-4F02-8888-7658CA65BB8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2BC3-0BD6-44DB-9F22-25449B39E6F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97D9-6541-417D-BB26-8650D7E8B76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EAEC-04EF-4A7A-A392-B0F2A3D2D2F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387F-F6FB-4C56-9756-BE1AD03473E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4F4D-4002-4B75-A246-3DC2A7A3804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01BA-4ABD-4033-AA80-7C904645EA0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17D-DEDA-4740-8CB8-997AF5595A0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5E84-9DE0-4679-A62E-35CD30CE649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4594-6F05-470D-BE28-B9BEC14BB5E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5BA0-B0BF-40D4-85C1-47A4B20C829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389F-2AC7-4B9C-97B5-3517E491D29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392-F3F6-46C3-9220-36796F7351B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817A-75B3-47B8-918E-B327E44A818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428-49FC-45D1-B887-20466722DB2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2D77-9886-49FD-86B0-36E3B9B1BAE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6451-76A7-45F9-B1D2-1569CB9DE71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360-6970-473B-BBF0-A519A6D7319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F07B-E2F7-4569-B5CA-CD3020C3BFD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60F9-5441-481D-B0A3-82148188BBC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DAC0-96EC-4C03-BEA5-C546A745259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DFB7-4EF7-4EA1-A3A5-6E6A99A7C2D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2B12-A7CB-46C4-BBA7-5111CD2EE51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E423-D858-43F5-BD43-C130B87D2EB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ECD6-B2D1-4792-96CE-BB5DCA9C71D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FC4-1157-490B-8EE6-57A0F581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A2E-38B1-4595-8F3A-79B4AA77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D0D-9DF2-409A-A09B-D7BE6CA0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8D4-3D04-4940-9ACF-2634D120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F423-9D3A-48D2-99F7-D606CC6D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74D-2F97-4B45-94E8-13556FA7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101D-237A-4ADB-896A-5685DBB9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701C-73E1-42F1-A87B-8B6975FC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83F4-5756-4AEC-AB38-0A855FBA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FF2A-A9F0-4466-BE02-8A3F8501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26FF-36EF-4B3D-B8F7-3A630F9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556-5070-4350-8332-028B7F8E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FDDB-B6C8-48DF-BF71-3526A7A2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8848-FFC4-4E87-BE9D-ABE88198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432F-CE7B-4328-B04A-504DEAD2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FD2E-D1A9-4B93-8267-A1C49EA2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72AA-1B0A-434C-B662-B0365C9E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B551-5E21-4162-B19B-D87BCEC3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8EEA-8327-4596-BEC0-1A5E734A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52092-6FAF-47AD-B54E-D01D226D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0D17F-CF3D-4CF8-9FA7-D947E60D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DEF6-2B5C-4FB0-89BF-CCAF05D3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167-5084-425A-9536-A652B729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BC992-9822-4EC5-9C1C-6446158D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25180-C4C0-4A10-9897-A71E0769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B8D6-C7CE-474F-A899-FC6631AD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4D5D-5020-407D-9C20-4AADABB8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88668-B944-4AD7-96BC-E6C5257C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634B-012D-4666-BD75-8D855B0E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1DE2-71B2-4163-BCC5-D03DE358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27C1-5FA7-4DAB-84BB-47B480DB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1D38-64E8-4A83-B38C-E6E7F165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D7AB-F84D-4F42-A1D5-45C8C327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49B-DF73-4227-8C9E-D675946B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9149-8185-48EA-8CC4-1F78CFB4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7FBB-B770-46F2-9C81-014D14F1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E4ED-92AD-4C16-8C57-87271B4A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0ADE-687D-4084-B25F-CCF00357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5FB7-44C9-4DAC-B4D9-EE362EFA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9DAC-CD8E-43FB-AB00-EEAA3278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6431-56E4-4E43-A124-10378311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E9E9E-A939-4014-90A2-E0B7363B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032D6-FB23-4FE7-A30C-55CD1F27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40C8E-DF0F-4EA9-BC5E-6C85632A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86D-956C-40CB-8C27-674E4846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C6CA0-F1F6-4C3A-9C19-B22F1A0F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135CD-2537-40C3-9B18-BD2E7B6D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B0A86-85B3-4B17-87A0-42EED948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63624-1959-41AB-B05F-511BF35E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67264-5CD6-4812-AE72-5876CEF0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2DDC-2597-4A69-A093-581C5281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427B-CC8D-4293-8F2B-96016741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4F91-2913-426F-94D5-A578217D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46CC-2E44-445E-B711-08CFD681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178A7-88AF-4DE9-8176-0F842D1D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042-4DAD-4165-A335-1EB13E3A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1F8E-AE7B-4090-989F-FBC20825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56CA1-E637-440A-9FFA-7EC4C82B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CF736-4224-455C-B90E-40566EAE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82E0-C4F7-43BE-AD2E-63BCD0DF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1F0DA-8A0C-4853-AF0E-09BABC4D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7EC6-E3F6-4F81-9142-D7A828F1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9FC2-4ECA-4DA8-B052-CE9D0CB7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5A9D3-5412-43E7-BB46-5CB660CE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D18DD-C9D1-4F90-BD01-8DA70D66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5485E-3E75-4C79-B931-FCE6A8B4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117-E08E-4AB8-A193-55544DE9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01CFF-3830-474B-8A35-C0315A11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0845-3197-4605-8095-F2B48474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896B4-6B38-4AC2-8E6E-7928DC80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774C3-98C3-4498-8832-48A2704E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6EEA9-07A8-49E9-AC55-1434A2E1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7DD2F-ADA0-4C2D-BADA-058AD3F9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A8A08-48FD-443F-A21E-A77254A2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93C5A-660E-4317-B92B-B72AFBA9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3261-0474-4C47-B9C3-180A310E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8BA77-17B6-4BFF-8085-998BA43C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033-B5E2-4F1B-B498-A693A95F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3AB5-F153-40E9-89F4-13135903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0292A-F20C-44FF-AE2F-848541B0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4B588-7050-4E79-AC2F-AA0C5B2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E6B00-D7E3-4CE8-97DE-ED6929B2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9BFAD-7B7A-4425-A391-965269A5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FEC-E127-4848-AC5D-CABE4B3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2C32-C415-4E21-B85E-E9E445ADAE7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9BA5-6876-437F-A033-011EF32473C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CC2D-C401-4550-8DB9-803F3AA3D4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7979-D615-452D-9E1A-D721CAF7B2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CA9D-A8C3-4EA5-9739-1A08DAABA76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D03F-A871-44EC-B1B8-3BA76D3F0F0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9438-5D3B-466C-B3F8-EECE501FC90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la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Prostiranje tala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alasni front i talasni zraci 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Sferni talasi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040" y="2361960"/>
            <a:ext cx="57387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zvor: tač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rontovi: sfe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raci: radijalno polaze iz izvo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4162320" y="5181480"/>
            <a:ext cx="7632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5"/>
          <p:cNvGrpSpPr/>
          <p:nvPr/>
        </p:nvGrpSpPr>
        <p:grpSpPr>
          <a:xfrm>
            <a:off x="3276720" y="4267080"/>
            <a:ext cx="1828800" cy="1828800"/>
            <a:chOff x="3276720" y="4267080"/>
            <a:chExt cx="1828800" cy="1828800"/>
          </a:xfrm>
        </p:grpSpPr>
        <p:sp>
          <p:nvSpPr>
            <p:cNvPr id="378" name="Oval 5"/>
            <p:cNvSpPr/>
            <p:nvPr/>
          </p:nvSpPr>
          <p:spPr>
            <a:xfrm>
              <a:off x="3505320" y="4495680"/>
              <a:ext cx="1371600" cy="137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3276720" y="426708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6"/>
          <p:cNvGrpSpPr/>
          <p:nvPr/>
        </p:nvGrpSpPr>
        <p:grpSpPr>
          <a:xfrm>
            <a:off x="2971440" y="4038120"/>
            <a:ext cx="2756160" cy="2286360"/>
            <a:chOff x="2971440" y="4038120"/>
            <a:chExt cx="2756160" cy="2286360"/>
          </a:xfrm>
        </p:grpSpPr>
        <p:sp>
          <p:nvSpPr>
            <p:cNvPr id="381" name="Line 7"/>
            <p:cNvSpPr/>
            <p:nvPr/>
          </p:nvSpPr>
          <p:spPr>
            <a:xfrm>
              <a:off x="4213080" y="521964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"/>
            <p:cNvSpPr/>
            <p:nvPr/>
          </p:nvSpPr>
          <p:spPr>
            <a:xfrm flipV="1">
              <a:off x="4200480" y="4267080"/>
              <a:ext cx="98100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9"/>
            <p:cNvSpPr/>
            <p:nvPr/>
          </p:nvSpPr>
          <p:spPr>
            <a:xfrm flipV="1">
              <a:off x="4200480" y="403812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0"/>
            <p:cNvSpPr/>
            <p:nvPr/>
          </p:nvSpPr>
          <p:spPr>
            <a:xfrm flipH="1" flipV="1">
              <a:off x="3428640" y="4343400"/>
              <a:ext cx="77148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1"/>
            <p:cNvSpPr/>
            <p:nvPr/>
          </p:nvSpPr>
          <p:spPr>
            <a:xfrm flipH="1">
              <a:off x="2971440" y="5226120"/>
              <a:ext cx="12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2"/>
            <p:cNvSpPr/>
            <p:nvPr/>
          </p:nvSpPr>
          <p:spPr>
            <a:xfrm flipH="1">
              <a:off x="3276720" y="5226120"/>
              <a:ext cx="9237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3"/>
            <p:cNvSpPr/>
            <p:nvPr/>
          </p:nvSpPr>
          <p:spPr>
            <a:xfrm>
              <a:off x="4200480" y="5226120"/>
              <a:ext cx="0" cy="10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4"/>
            <p:cNvSpPr/>
            <p:nvPr/>
          </p:nvSpPr>
          <p:spPr>
            <a:xfrm>
              <a:off x="4200480" y="5226120"/>
              <a:ext cx="98100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alasni front i talasni zraci 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Cilindrični talasi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2361960"/>
            <a:ext cx="6629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Izvor: linijsk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rontovi: cilindr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Zraci: normalni na pravac izvo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15" descr="CilidricniTAlas"/>
          <p:cNvPicPr/>
          <p:nvPr/>
        </p:nvPicPr>
        <p:blipFill>
          <a:blip r:embed="rId1"/>
          <a:stretch/>
        </p:blipFill>
        <p:spPr>
          <a:xfrm>
            <a:off x="2209680" y="3733920"/>
            <a:ext cx="461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alasni front i talasni zraci 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Ravanski talasi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23623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zvor: rav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rontovi: ravn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raci: normale na ravn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" name="Picture 6" descr="plane-wave"/>
          <p:cNvPicPr/>
          <p:nvPr/>
        </p:nvPicPr>
        <p:blipFill>
          <a:blip r:embed="rId1"/>
          <a:stretch/>
        </p:blipFill>
        <p:spPr>
          <a:xfrm>
            <a:off x="1860480" y="3639960"/>
            <a:ext cx="4616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040" y="2362320"/>
            <a:ext cx="3505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Difrakcija je pojava promene oblika talasnog fronta pri nailasku talasa na prepreke i otvo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bjašnjava se Hajgensovim princip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Picture 9" descr="huygen"/>
          <p:cNvPicPr/>
          <p:nvPr/>
        </p:nvPicPr>
        <p:blipFill>
          <a:blip r:embed="rId1"/>
          <a:stretch/>
        </p:blipFill>
        <p:spPr>
          <a:xfrm>
            <a:off x="4387680" y="2514600"/>
            <a:ext cx="42228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98" name="Group 13"/>
          <p:cNvGrpSpPr/>
          <p:nvPr/>
        </p:nvGrpSpPr>
        <p:grpSpPr>
          <a:xfrm>
            <a:off x="6661080" y="2590920"/>
            <a:ext cx="0" cy="3429000"/>
            <a:chOff x="6661080" y="2590920"/>
            <a:chExt cx="0" cy="3429000"/>
          </a:xfrm>
        </p:grpSpPr>
        <p:sp>
          <p:nvSpPr>
            <p:cNvPr id="399" name="Line 10"/>
            <p:cNvSpPr/>
            <p:nvPr/>
          </p:nvSpPr>
          <p:spPr>
            <a:xfrm>
              <a:off x="6661080" y="25909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>
              <a:off x="6661080" y="4419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12"/>
          <p:cNvSpPr/>
          <p:nvPr/>
        </p:nvSpPr>
        <p:spPr>
          <a:xfrm>
            <a:off x="4572000" y="266688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4191120" y="4402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18"/>
          <p:cNvGrpSpPr/>
          <p:nvPr/>
        </p:nvGrpSpPr>
        <p:grpSpPr>
          <a:xfrm>
            <a:off x="6653160" y="3428640"/>
            <a:ext cx="1957320" cy="1600560"/>
            <a:chOff x="6653160" y="3428640"/>
            <a:chExt cx="1957320" cy="1600560"/>
          </a:xfrm>
        </p:grpSpPr>
        <p:sp>
          <p:nvSpPr>
            <p:cNvPr id="404" name="Line 15"/>
            <p:cNvSpPr/>
            <p:nvPr/>
          </p:nvSpPr>
          <p:spPr>
            <a:xfrm flipV="1">
              <a:off x="6653160" y="3428640"/>
              <a:ext cx="1576440" cy="9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6653160" y="4402080"/>
              <a:ext cx="157644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>
              <a:off x="6653160" y="4402080"/>
              <a:ext cx="19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19"/>
          <p:cNvSpPr/>
          <p:nvPr/>
        </p:nvSpPr>
        <p:spPr>
          <a:xfrm>
            <a:off x="914400" y="4419720"/>
            <a:ext cx="3505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nop zraka se ši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las zahvata prostor štićen preprek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ko nešto se snopu čestica ne bi moglo des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040" y="23619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realan otvor sadrži veliki broj tačaka, pa je za određivanje rezultata difrakcije potrebno uračunati efekte superpozicije (interferencije) svih sekundarnih talas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0" name="Picture 4" descr="Diffgaps"/>
          <p:cNvPicPr/>
          <p:nvPr/>
        </p:nvPicPr>
        <p:blipFill>
          <a:blip r:embed="rId1"/>
          <a:stretch/>
        </p:blipFill>
        <p:spPr>
          <a:xfrm>
            <a:off x="1982880" y="3429000"/>
            <a:ext cx="457020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040" y="2361960"/>
            <a:ext cx="746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ticaj difrakcije na prostiranje talasa zavisi od veličine otvo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Veliki otv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velika širina u poređenju sa talasnom dužinom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&gt;&gt;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mala difrakcij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rednji otv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širina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liska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talasno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dužin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~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zražena difrakcij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Mali otv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mala širina u poređenju sa talasnom dužinom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&lt;&lt;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ogromna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difrakcija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, svaki talas se pretvara u sferni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040" y="23623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ifrakcija na preprek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5" name="Picture 1028" descr="diffisland"/>
          <p:cNvPicPr/>
          <p:nvPr/>
        </p:nvPicPr>
        <p:blipFill>
          <a:blip r:embed="rId1"/>
          <a:srcRect l="0" t="0" r="0" b="14551"/>
          <a:stretch/>
        </p:blipFill>
        <p:spPr>
          <a:xfrm>
            <a:off x="1295280" y="2819520"/>
            <a:ext cx="7010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040" y="2361960"/>
            <a:ext cx="746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ticaj difrakcije na prostiranje talasa zavisi od veličin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pre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Velik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preprek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velika širina u poređenju sa talasnom dužinom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&gt;&gt;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mala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difrakcija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– velika senk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rednja preprek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širina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liska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talasno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dužin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~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zražena difrakcija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– smanjena senk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Ma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preprek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mala širina u poređenju sa talasnom dužinom talas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  <a:ea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&lt;&lt;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Velika difrakcija – senke uop</a:t>
            </a:r>
            <a:r>
              <a:rPr b="0" lang="hr-HR" sz="16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e nem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ifrakcija svetlosti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Difrakciona rešetk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62120" y="2361960"/>
            <a:ext cx="3581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ređaj namenjen upotrebi difrakcije za određivanje talasne dužine svetlosti i razlaganje svetlosti na spektralne komponen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22720" indent="-522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astoji se od velikog broja proreza na jednakom međusobnom rastojanj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4"/>
              <p:cNvSpPr txBox="1"/>
              <p:nvPr/>
            </p:nvSpPr>
            <p:spPr>
              <a:xfrm>
                <a:off x="3274920" y="5791320"/>
                <a:ext cx="2187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1" name="Picture 6" descr="difRes"/>
          <p:cNvPicPr/>
          <p:nvPr/>
        </p:nvPicPr>
        <p:blipFill>
          <a:blip r:embed="rId1"/>
          <a:stretch/>
        </p:blipFill>
        <p:spPr>
          <a:xfrm>
            <a:off x="4724280" y="2362320"/>
            <a:ext cx="4253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Refleksija i transmisija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ada talas pri prostiranju nai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đe na granicu sredine kroz koju se do tada prostirao, nastaju dva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reflektovani (odbijen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suprotni sm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ista sred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ista brz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transmitovani (prenesen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isti sm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nova sred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nova brzin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Intenziteti oba talasa manji od intenziteta upadnog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Zbir intenziteta reflektovanog i transmitovanog talasa jednak je intenzitetu upadnog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572314"/>
                </a:solidFill>
                <a:latin typeface="Gill Sans MT"/>
              </a:rPr>
              <a:t>Prostiranje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Drugačije od kretanj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superpozi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Interferen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rezonan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difrak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refleksija (odbijanj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refrakcija (prelamanj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disperz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Pokazuje da talasi nisu snopovi čes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Glavni razlog za proučavanje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Odbijanje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Odbijeni talas menja pravac prostiran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Dekartov zak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6" name="Group 4"/>
          <p:cNvGrpSpPr/>
          <p:nvPr/>
        </p:nvGrpSpPr>
        <p:grpSpPr>
          <a:xfrm>
            <a:off x="2133720" y="3124080"/>
            <a:ext cx="4190400" cy="2590560"/>
            <a:chOff x="2133720" y="3124080"/>
            <a:chExt cx="4190400" cy="2590560"/>
          </a:xfrm>
        </p:grpSpPr>
        <p:pic>
          <p:nvPicPr>
            <p:cNvPr id="427" name="Picture 5" descr="OdbijanjeDekart"/>
            <p:cNvPicPr/>
            <p:nvPr/>
          </p:nvPicPr>
          <p:blipFill>
            <a:blip r:embed="rId1"/>
            <a:stretch/>
          </p:blipFill>
          <p:spPr>
            <a:xfrm>
              <a:off x="2133720" y="3124080"/>
              <a:ext cx="4115880" cy="253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Line 6"/>
            <p:cNvSpPr/>
            <p:nvPr/>
          </p:nvSpPr>
          <p:spPr>
            <a:xfrm>
              <a:off x="2806920" y="5714640"/>
              <a:ext cx="351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Rectangle 7"/>
          <p:cNvSpPr/>
          <p:nvPr/>
        </p:nvSpPr>
        <p:spPr>
          <a:xfrm>
            <a:off x="914400" y="6019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adni zrak, odbojn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 i normala leže u istoj rav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1143000" y="4572000"/>
            <a:ext cx="2971800" cy="19051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572314"/>
                </a:solidFill>
                <a:latin typeface="Gill Sans MT"/>
              </a:rPr>
              <a:t>P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rostiranje talasa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Prelamanje talas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04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Transmitovani talas menja pravac prostiran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Snelov zak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1143000" y="45720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2514600" y="3048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1523880" y="3429000"/>
            <a:ext cx="9907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2514600" y="4572000"/>
            <a:ext cx="5335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4267080" y="30481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adni zrak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lomlj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 i normala leže u istoj ra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3416040" y="40449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3436920" y="45784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Object 0"/>
          <p:cNvGraphicFramePr/>
          <p:nvPr/>
        </p:nvGraphicFramePr>
        <p:xfrm>
          <a:off x="4940280" y="3759120"/>
          <a:ext cx="135900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0280" y="3759120"/>
                    <a:ext cx="13590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2" name="Group 28"/>
          <p:cNvGrpSpPr/>
          <p:nvPr/>
        </p:nvGrpSpPr>
        <p:grpSpPr>
          <a:xfrm>
            <a:off x="1968120" y="3809880"/>
            <a:ext cx="614160" cy="762120"/>
            <a:chOff x="1968120" y="3809880"/>
            <a:chExt cx="614160" cy="762120"/>
          </a:xfrm>
        </p:grpSpPr>
        <p:sp>
          <p:nvSpPr>
            <p:cNvPr id="443" name="Text Box 16"/>
            <p:cNvSpPr/>
            <p:nvPr/>
          </p:nvSpPr>
          <p:spPr>
            <a:xfrm>
              <a:off x="2121120" y="380988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Arc 24"/>
            <p:cNvSpPr/>
            <p:nvPr/>
          </p:nvSpPr>
          <p:spPr>
            <a:xfrm flipH="1">
              <a:off x="1967760" y="3809880"/>
              <a:ext cx="546120" cy="762120"/>
            </a:xfrm>
            <a:custGeom>
              <a:avLst/>
              <a:gdLst>
                <a:gd name="textAreaLeft" fmla="*/ -360 w 546120"/>
                <a:gd name="textAreaRight" fmla="*/ 546120 w 546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fill="none" w="13203" h="21600">
                  <a:moveTo>
                    <a:pt x="-1" y="0"/>
                  </a:moveTo>
                  <a:cubicBezTo>
                    <a:pt x="4778" y="0"/>
                    <a:pt x="9421" y="1584"/>
                    <a:pt x="13203" y="4504"/>
                  </a:cubicBezTo>
                </a:path>
                <a:path stroke="0" w="13203" h="21600">
                  <a:moveTo>
                    <a:pt x="-1" y="0"/>
                  </a:moveTo>
                  <a:cubicBezTo>
                    <a:pt x="4778" y="0"/>
                    <a:pt x="9421" y="1584"/>
                    <a:pt x="13203" y="450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29"/>
          <p:cNvGrpSpPr/>
          <p:nvPr/>
        </p:nvGrpSpPr>
        <p:grpSpPr>
          <a:xfrm>
            <a:off x="2446560" y="4572000"/>
            <a:ext cx="485640" cy="1295280"/>
            <a:chOff x="2446560" y="4572000"/>
            <a:chExt cx="485640" cy="1295280"/>
          </a:xfrm>
        </p:grpSpPr>
        <p:sp>
          <p:nvSpPr>
            <p:cNvPr id="446" name="Text Box 17"/>
            <p:cNvSpPr/>
            <p:nvPr/>
          </p:nvSpPr>
          <p:spPr>
            <a:xfrm>
              <a:off x="2446560" y="533412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rc 26"/>
            <p:cNvSpPr/>
            <p:nvPr/>
          </p:nvSpPr>
          <p:spPr>
            <a:xfrm flipV="1">
              <a:off x="2514600" y="4572000"/>
              <a:ext cx="417600" cy="1295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360 h 1295280"/>
                <a:gd name="textAreaBottom" fmla="*/ 1296000 h 1295280"/>
              </a:gdLst>
              <a:ahLst/>
              <a:rect l="textAreaLeft" t="textAreaTop" r="textAreaRight" b="textAreaBottom"/>
              <a:pathLst>
                <a:path fill="none" w="7681" h="21600">
                  <a:moveTo>
                    <a:pt x="-1" y="0"/>
                  </a:moveTo>
                  <a:cubicBezTo>
                    <a:pt x="2624" y="0"/>
                    <a:pt x="5227" y="478"/>
                    <a:pt x="7681" y="1411"/>
                  </a:cubicBezTo>
                </a:path>
                <a:path stroke="0" w="7681" h="21600">
                  <a:moveTo>
                    <a:pt x="-1" y="0"/>
                  </a:moveTo>
                  <a:cubicBezTo>
                    <a:pt x="2624" y="0"/>
                    <a:pt x="5227" y="478"/>
                    <a:pt x="7681" y="141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Totalna refleks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9" name="Picture 3" descr="OptickaVlakna"/>
          <p:cNvPicPr/>
          <p:nvPr/>
        </p:nvPicPr>
        <p:blipFill>
          <a:blip r:embed="rId1"/>
          <a:stretch/>
        </p:blipFill>
        <p:spPr>
          <a:xfrm>
            <a:off x="3124080" y="2438280"/>
            <a:ext cx="4496040" cy="300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3200400" y="5715000"/>
                <a:ext cx="45752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1" name="Picture 5" descr=""/>
          <p:cNvPicPr/>
          <p:nvPr/>
        </p:nvPicPr>
        <p:blipFill>
          <a:blip r:embed="rId2"/>
          <a:stretch/>
        </p:blipFill>
        <p:spPr>
          <a:xfrm>
            <a:off x="1219320" y="2328840"/>
            <a:ext cx="1268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Vibracije - poj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retanje tela kroz koje se prostire tal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zavanj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pa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 mase m, dužine d, i poprečnog preseka 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la F deluje vreme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uto tel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600200" y="3809880"/>
                <a:ext cx="7318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717640" y="3809880"/>
                <a:ext cx="13971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a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τ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Rectangle 6"/>
          <p:cNvSpPr/>
          <p:nvPr/>
        </p:nvSpPr>
        <p:spPr>
          <a:xfrm>
            <a:off x="914400" y="4648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formabilno t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z telo se prostire talasni impuls dužine L=c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752480" y="5791320"/>
            <a:ext cx="2362320" cy="3045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5105520" y="5791320"/>
            <a:ext cx="2361960" cy="3045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Group 9"/>
          <p:cNvGrpSpPr/>
          <p:nvPr/>
        </p:nvGrpSpPr>
        <p:grpSpPr>
          <a:xfrm>
            <a:off x="2133720" y="5638680"/>
            <a:ext cx="1395000" cy="1008720"/>
            <a:chOff x="2133720" y="5638680"/>
            <a:chExt cx="1395000" cy="1008720"/>
          </a:xfrm>
        </p:grpSpPr>
        <p:sp>
          <p:nvSpPr>
            <p:cNvPr id="460" name="Line 10"/>
            <p:cNvSpPr/>
            <p:nvPr/>
          </p:nvSpPr>
          <p:spPr>
            <a:xfrm>
              <a:off x="2133720" y="5638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Group 11"/>
            <p:cNvGrpSpPr/>
            <p:nvPr/>
          </p:nvGrpSpPr>
          <p:grpSpPr>
            <a:xfrm>
              <a:off x="2133720" y="5791320"/>
              <a:ext cx="1395000" cy="856080"/>
              <a:chOff x="2133720" y="5791320"/>
              <a:chExt cx="1395000" cy="856080"/>
            </a:xfrm>
          </p:grpSpPr>
          <p:sp>
            <p:nvSpPr>
              <p:cNvPr id="462" name="Text Box 12"/>
              <p:cNvSpPr/>
              <p:nvPr/>
            </p:nvSpPr>
            <p:spPr>
              <a:xfrm>
                <a:off x="2508120" y="6137280"/>
                <a:ext cx="102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sr-Latn-C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 d/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13"/>
              <p:cNvSpPr/>
              <p:nvPr/>
            </p:nvSpPr>
            <p:spPr>
              <a:xfrm>
                <a:off x="2133720" y="5791320"/>
                <a:ext cx="609480" cy="304560"/>
              </a:xfrm>
              <a:prstGeom prst="rect">
                <a:avLst/>
              </a:prstGeom>
              <a:solidFill>
                <a:srgbClr val="4f27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Group 14"/>
          <p:cNvGrpSpPr/>
          <p:nvPr/>
        </p:nvGrpSpPr>
        <p:grpSpPr>
          <a:xfrm>
            <a:off x="5976720" y="5562720"/>
            <a:ext cx="1052640" cy="1043280"/>
            <a:chOff x="5976720" y="5562720"/>
            <a:chExt cx="1052640" cy="1043280"/>
          </a:xfrm>
        </p:grpSpPr>
        <p:sp>
          <p:nvSpPr>
            <p:cNvPr id="465" name="Line 15"/>
            <p:cNvSpPr/>
            <p:nvPr/>
          </p:nvSpPr>
          <p:spPr>
            <a:xfrm flipH="1">
              <a:off x="6019920" y="5562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5976720" y="6095880"/>
              <a:ext cx="105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gt; d/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7"/>
            <p:cNvSpPr/>
            <p:nvPr/>
          </p:nvSpPr>
          <p:spPr>
            <a:xfrm>
              <a:off x="6095880" y="5791320"/>
              <a:ext cx="685800" cy="30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Vibracije - poj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14040" y="23623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ormabilno telo se kre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će kao gusenica !!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a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je modela krutog tela kada 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talasni impuls zahvata celo telo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 veliko,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veliko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 za sile koje traju mnogo du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 od L/c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ritično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za veliko L (veliki objekti) ili malo c (fluid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Vibracije - poj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Telo se deformiše tokom kre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etanje deformabilnog tela ima dve kompon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Kretanje C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nutrašnje kretanje – 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vib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eriodično kret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scilovanje deformisanj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Vibracije – sopstvene vibracij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14040" y="23619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Reakcija sistema na udar (kratkotrajni kompresioni deformacioni tala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Vibriranje tela prepuštenog samom seb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572314"/>
                </a:solidFill>
                <a:latin typeface="Gill Sans MT"/>
              </a:rPr>
              <a:t>S</a:t>
            </a: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opstvene vibracije štap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14400" y="23623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Štap slobodan na oba kra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1476360" y="3141720"/>
            <a:ext cx="228600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5307120" y="23623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ap fiksiran na oba kr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3"/>
          <p:cNvGrpSpPr/>
          <p:nvPr/>
        </p:nvGrpSpPr>
        <p:grpSpPr>
          <a:xfrm>
            <a:off x="5791320" y="2895480"/>
            <a:ext cx="2590560" cy="609840"/>
            <a:chOff x="5791320" y="2895480"/>
            <a:chExt cx="2590560" cy="609840"/>
          </a:xfrm>
        </p:grpSpPr>
        <p:sp>
          <p:nvSpPr>
            <p:cNvPr id="479" name="Rectangle 24"/>
            <p:cNvSpPr/>
            <p:nvPr/>
          </p:nvSpPr>
          <p:spPr>
            <a:xfrm>
              <a:off x="5943600" y="3124080"/>
              <a:ext cx="2286000" cy="2286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5"/>
            <p:cNvSpPr/>
            <p:nvPr/>
          </p:nvSpPr>
          <p:spPr>
            <a:xfrm>
              <a:off x="5791320" y="2895480"/>
              <a:ext cx="152280" cy="609840"/>
            </a:xfrm>
            <a:prstGeom prst="rect">
              <a:avLst/>
            </a:prstGeom>
            <a:solidFill>
              <a:srgbClr val="feb8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26"/>
            <p:cNvSpPr/>
            <p:nvPr/>
          </p:nvSpPr>
          <p:spPr>
            <a:xfrm>
              <a:off x="8229600" y="2895480"/>
              <a:ext cx="152280" cy="609840"/>
            </a:xfrm>
            <a:prstGeom prst="rect">
              <a:avLst/>
            </a:prstGeom>
            <a:solidFill>
              <a:srgbClr val="feb8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2" name="Object 36"/>
              <p:cNvSpPr txBox="1"/>
              <p:nvPr/>
            </p:nvSpPr>
            <p:spPr>
              <a:xfrm>
                <a:off x="4211640" y="3573360"/>
                <a:ext cx="9320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Rectangle 46"/>
          <p:cNvSpPr/>
          <p:nvPr/>
        </p:nvSpPr>
        <p:spPr>
          <a:xfrm>
            <a:off x="971640" y="450864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ap slobodan jednom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 fiksira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a drugom kra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7"/>
              <p:cNvSpPr txBox="1"/>
              <p:nvPr/>
            </p:nvSpPr>
            <p:spPr>
              <a:xfrm>
                <a:off x="4211640" y="5877000"/>
                <a:ext cx="9320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Group 48"/>
          <p:cNvGrpSpPr/>
          <p:nvPr/>
        </p:nvGrpSpPr>
        <p:grpSpPr>
          <a:xfrm>
            <a:off x="3718080" y="4979880"/>
            <a:ext cx="2437920" cy="609840"/>
            <a:chOff x="3718080" y="4979880"/>
            <a:chExt cx="2437920" cy="609840"/>
          </a:xfrm>
        </p:grpSpPr>
        <p:sp>
          <p:nvSpPr>
            <p:cNvPr id="486" name="Rectangle 49"/>
            <p:cNvSpPr/>
            <p:nvPr/>
          </p:nvSpPr>
          <p:spPr>
            <a:xfrm>
              <a:off x="3718080" y="5208480"/>
              <a:ext cx="2285640" cy="228600"/>
            </a:xfrm>
            <a:prstGeom prst="rect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50"/>
            <p:cNvSpPr/>
            <p:nvPr/>
          </p:nvSpPr>
          <p:spPr>
            <a:xfrm>
              <a:off x="6003720" y="4979880"/>
              <a:ext cx="152280" cy="609840"/>
            </a:xfrm>
            <a:prstGeom prst="rect">
              <a:avLst/>
            </a:prstGeom>
            <a:solidFill>
              <a:srgbClr val="feb80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</a:t>
            </a: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opstvene vibracij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14040" y="23623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dareni štap vibrira na tačno određenoj učestanosti: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–</a:t>
            </a:r>
            <a:r>
              <a:rPr b="1" lang="hr-HR" sz="2400" spc="-1" strike="noStrike">
                <a:solidFill>
                  <a:srgbClr val="000000"/>
                </a:solidFill>
                <a:latin typeface="Gill Sans MT"/>
              </a:rPr>
              <a:t>osnovna učestan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opstvene učesta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čestanosti na kojima vibrira telo prepušteno samo seb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avise od oblika i dimenzij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ko telo mo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že na više načina da vibrira na istoj frekvenci, onda se ti načini nazivaju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modovi vibrir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0" name="Picture 4" descr="MODE12"/>
          <p:cNvPicPr/>
          <p:nvPr/>
        </p:nvPicPr>
        <p:blipFill>
          <a:blip r:embed="rId1"/>
          <a:stretch/>
        </p:blipFill>
        <p:spPr>
          <a:xfrm>
            <a:off x="2286000" y="5060880"/>
            <a:ext cx="1644480" cy="1644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MODE21"/>
          <p:cNvPicPr/>
          <p:nvPr/>
        </p:nvPicPr>
        <p:blipFill>
          <a:blip r:embed="rId2"/>
          <a:stretch/>
        </p:blipFill>
        <p:spPr>
          <a:xfrm>
            <a:off x="5137200" y="5060880"/>
            <a:ext cx="164448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MODES"/>
          <p:cNvPicPr/>
          <p:nvPr/>
        </p:nvPicPr>
        <p:blipFill>
          <a:blip r:embed="rId1"/>
          <a:stretch/>
        </p:blipFill>
        <p:spPr>
          <a:xfrm>
            <a:off x="3124080" y="3809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S</a:t>
            </a: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opstve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14040" y="1447560"/>
            <a:ext cx="80010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Viši harmonic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neko kretanje ima period T, onda ima i period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 i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 i tako dal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iod 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T imaju kretanja sa periodima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/2, T/3,…,T/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lično, ako znamo da se neko kretanje ponavlja posle vremena T, frekvence tog kretanja mogu bi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5"/>
              <p:cNvSpPr txBox="1"/>
              <p:nvPr/>
            </p:nvSpPr>
            <p:spPr>
              <a:xfrm>
                <a:off x="1803240" y="3935520"/>
                <a:ext cx="7765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6"/>
              <p:cNvSpPr txBox="1"/>
              <p:nvPr/>
            </p:nvSpPr>
            <p:spPr>
              <a:xfrm>
                <a:off x="2782800" y="3935520"/>
                <a:ext cx="7984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7"/>
              <p:cNvSpPr txBox="1"/>
              <p:nvPr/>
            </p:nvSpPr>
            <p:spPr>
              <a:xfrm>
                <a:off x="4437000" y="3935520"/>
                <a:ext cx="8208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8"/>
              <p:cNvSpPr txBox="1"/>
              <p:nvPr/>
            </p:nvSpPr>
            <p:spPr>
              <a:xfrm>
                <a:off x="3897360" y="4213080"/>
                <a:ext cx="244440" cy="1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9"/>
              <p:cNvSpPr txBox="1"/>
              <p:nvPr/>
            </p:nvSpPr>
            <p:spPr>
              <a:xfrm>
                <a:off x="6095880" y="3933720"/>
                <a:ext cx="2086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Rectangle 10"/>
          <p:cNvSpPr/>
          <p:nvPr/>
        </p:nvSpPr>
        <p:spPr>
          <a:xfrm>
            <a:off x="914400" y="4648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armonici žice fiksirane na dva kr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uperpozicija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abiranje”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gu se sabirati samo talasi različitih pravaca ili smerova prost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4" descr="SUPER1"/>
          <p:cNvPicPr/>
          <p:nvPr/>
        </p:nvPicPr>
        <p:blipFill>
          <a:blip r:embed="rId1"/>
          <a:stretch/>
        </p:blipFill>
        <p:spPr>
          <a:xfrm>
            <a:off x="2651040" y="3489480"/>
            <a:ext cx="329256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Mehanički talasi u čvrstim telim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Vibracije – prinud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040" y="23623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nudno vibriran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Vibriranje koje nastaje kao posledica spoljašnje pobude koja se periodično ponavl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juljanje ljuljaške, vibracije konstrukcije sa uključenim motorom, poskakivanje vagona pri prelasku sa šine na šin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sledica: okolina predaje energiju sistem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Mehanički talasi u čvrstim telim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Vibracije – prinud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91404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zonan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1905120" y="3276720"/>
            <a:ext cx="5105160" cy="192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zonancija je pojava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glog uvećanja amplitude vibracija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da se frekvenca prinudne sile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klopi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a nekom od sopstvenih učesta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Mehanički talasi u čvrstim telim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Vibracije – prinud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14040" y="2361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zonan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Ako je prinudna učestanost jednaka nekoj od sopstvenih, deformacija se akumili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eformacija izazvane svakim novim udarom se </a:t>
            </a:r>
            <a:r>
              <a:rPr b="1" i="1" lang="hr-HR" sz="2000" spc="-1" strike="noStrike">
                <a:solidFill>
                  <a:srgbClr val="000000"/>
                </a:solidFill>
                <a:latin typeface="Gill Sans MT"/>
              </a:rPr>
              <a:t>sabiraj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Mehanički talasi u čvrstim telima</a:t>
            </a:r>
            <a:br>
              <a:rPr sz="2800"/>
            </a:br>
            <a:r>
              <a:rPr b="0" lang="hr-HR" sz="2800" spc="-1" strike="noStrike">
                <a:solidFill>
                  <a:srgbClr val="572314"/>
                </a:solidFill>
                <a:latin typeface="Gill Sans MT"/>
              </a:rPr>
              <a:t>Vibracije – prinudne vibracij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1404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Rezonan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914400" y="51055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uda male amplitude može izazvati velike deform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 konstruisanju se mora voditi računa da sopstvene (rezonantne) frekvence sistema budu iznad frekvenci mogućih pob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5" descr="force2"/>
          <p:cNvPicPr/>
          <p:nvPr/>
        </p:nvPicPr>
        <p:blipFill>
          <a:blip r:embed="rId1"/>
          <a:stretch/>
        </p:blipFill>
        <p:spPr>
          <a:xfrm>
            <a:off x="1550880" y="2895480"/>
            <a:ext cx="56120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Energija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alasi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renos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energij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 izvora u prostor oko nji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nergija je raspoređena po prostoru i ta raspodela se opisuje gustinom energ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4"/>
              <p:cNvSpPr txBox="1"/>
              <p:nvPr/>
            </p:nvSpPr>
            <p:spPr>
              <a:xfrm>
                <a:off x="3581280" y="3505320"/>
                <a:ext cx="1127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914040" y="2362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Fizička veličina koja meri brzinu kojom talasi prenose energiju u neki deo prosto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1447920" y="3505320"/>
            <a:ext cx="1523880" cy="761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7"/>
              <p:cNvSpPr txBox="1"/>
              <p:nvPr/>
            </p:nvSpPr>
            <p:spPr>
              <a:xfrm>
                <a:off x="3767040" y="4467240"/>
                <a:ext cx="5072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W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w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1"/>
              <p:cNvSpPr txBox="1"/>
              <p:nvPr/>
            </p:nvSpPr>
            <p:spPr>
              <a:xfrm>
                <a:off x="5162400" y="5105520"/>
                <a:ext cx="2000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w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Group 16"/>
          <p:cNvGrpSpPr/>
          <p:nvPr/>
        </p:nvGrpSpPr>
        <p:grpSpPr>
          <a:xfrm>
            <a:off x="1447920" y="4495680"/>
            <a:ext cx="1523880" cy="357480"/>
            <a:chOff x="1447920" y="4495680"/>
            <a:chExt cx="1523880" cy="357480"/>
          </a:xfrm>
        </p:grpSpPr>
        <mc:AlternateContent>
          <mc:Choice xmlns:a14="http://schemas.microsoft.com/office/drawing/2010/main" Requires="a14">
            <p:sp>
              <p:nvSpPr>
                <p:cNvPr id="521" name="Object 8"/>
                <p:cNvSpPr txBox="1"/>
                <p:nvPr/>
              </p:nvSpPr>
              <p:spPr>
                <a:xfrm>
                  <a:off x="1874880" y="4495680"/>
                  <a:ext cx="639720" cy="3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12"/>
            <p:cNvSpPr/>
            <p:nvPr/>
          </p:nvSpPr>
          <p:spPr>
            <a:xfrm>
              <a:off x="14479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5"/>
          <p:cNvGrpSpPr/>
          <p:nvPr/>
        </p:nvGrpSpPr>
        <p:grpSpPr>
          <a:xfrm>
            <a:off x="3048120" y="3603600"/>
            <a:ext cx="1172880" cy="358920"/>
            <a:chOff x="3048120" y="3603600"/>
            <a:chExt cx="1172880" cy="358920"/>
          </a:xfrm>
        </p:grpSpPr>
        <p:sp>
          <p:nvSpPr>
            <p:cNvPr id="524" name="Line 5"/>
            <p:cNvSpPr/>
            <p:nvPr/>
          </p:nvSpPr>
          <p:spPr>
            <a:xfrm>
              <a:off x="3048120" y="38098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5" name="Object 13"/>
                <p:cNvSpPr txBox="1"/>
                <p:nvPr/>
              </p:nvSpPr>
              <p:spPr>
                <a:xfrm>
                  <a:off x="3657600" y="3603600"/>
                  <a:ext cx="56340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6" name="Object 14"/>
              <p:cNvSpPr txBox="1"/>
              <p:nvPr/>
            </p:nvSpPr>
            <p:spPr>
              <a:xfrm>
                <a:off x="5164200" y="6037200"/>
                <a:ext cx="2049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7" name="Group 22"/>
          <p:cNvGrpSpPr/>
          <p:nvPr/>
        </p:nvGrpSpPr>
        <p:grpSpPr>
          <a:xfrm>
            <a:off x="2971800" y="3352320"/>
            <a:ext cx="162000" cy="914760"/>
            <a:chOff x="2971800" y="3352320"/>
            <a:chExt cx="162000" cy="914760"/>
          </a:xfrm>
        </p:grpSpPr>
        <p:sp>
          <p:nvSpPr>
            <p:cNvPr id="528" name="Line 18"/>
            <p:cNvSpPr/>
            <p:nvPr/>
          </p:nvSpPr>
          <p:spPr>
            <a:xfrm flipV="1">
              <a:off x="3133800" y="3352320"/>
              <a:ext cx="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9"/>
            <p:cNvSpPr/>
            <p:nvPr/>
          </p:nvSpPr>
          <p:spPr>
            <a:xfrm>
              <a:off x="2971800" y="3503520"/>
              <a:ext cx="0" cy="76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20"/>
            <p:cNvSpPr/>
            <p:nvPr/>
          </p:nvSpPr>
          <p:spPr>
            <a:xfrm flipV="1">
              <a:off x="2971800" y="3352320"/>
              <a:ext cx="162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21"/>
            <p:cNvSpPr/>
            <p:nvPr/>
          </p:nvSpPr>
          <p:spPr>
            <a:xfrm flipV="1">
              <a:off x="2971800" y="4114440"/>
              <a:ext cx="162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2" name="Object 26"/>
              <p:cNvSpPr txBox="1"/>
              <p:nvPr/>
            </p:nvSpPr>
            <p:spPr>
              <a:xfrm>
                <a:off x="3276720" y="3141720"/>
                <a:ext cx="436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bljenje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manjenje intenziteta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r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je u prostor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451"/>
              </a:spcBef>
              <a:buClr>
                <a:srgbClr val="feb80a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manjenje intenziteta usled povećanja prostora koji talas zahva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sorpcija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5280" indent="-380880">
              <a:spcBef>
                <a:spcPts val="451"/>
              </a:spcBef>
              <a:buClr>
                <a:srgbClr val="feb80a"/>
              </a:buClr>
              <a:buFont typeface="Gill Sans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manjenje intenziteta talasa usled prelaska energije talasa u druge oblik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91404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Širenje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Oval 4"/>
          <p:cNvSpPr/>
          <p:nvPr/>
        </p:nvSpPr>
        <p:spPr>
          <a:xfrm>
            <a:off x="2470320" y="4503600"/>
            <a:ext cx="75960" cy="7632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5"/>
          <p:cNvSpPr/>
          <p:nvPr/>
        </p:nvSpPr>
        <p:spPr>
          <a:xfrm>
            <a:off x="1600200" y="3657600"/>
            <a:ext cx="18288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"/>
          <p:cNvSpPr/>
          <p:nvPr/>
        </p:nvSpPr>
        <p:spPr>
          <a:xfrm>
            <a:off x="1143000" y="3200400"/>
            <a:ext cx="2741760" cy="274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22"/>
          <p:cNvGrpSpPr/>
          <p:nvPr/>
        </p:nvGrpSpPr>
        <p:grpSpPr>
          <a:xfrm>
            <a:off x="2503440" y="3809520"/>
            <a:ext cx="468360" cy="731880"/>
            <a:chOff x="2503440" y="3809520"/>
            <a:chExt cx="468360" cy="731880"/>
          </a:xfrm>
        </p:grpSpPr>
        <p:sp>
          <p:nvSpPr>
            <p:cNvPr id="541" name="Line 7"/>
            <p:cNvSpPr/>
            <p:nvPr/>
          </p:nvSpPr>
          <p:spPr>
            <a:xfrm flipV="1">
              <a:off x="2503440" y="3809520"/>
              <a:ext cx="46836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2" name="Object 9"/>
                <p:cNvSpPr txBox="1"/>
                <p:nvPr/>
              </p:nvSpPr>
              <p:spPr>
                <a:xfrm>
                  <a:off x="2562120" y="3906720"/>
                  <a:ext cx="25740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3" name="Group 23"/>
          <p:cNvGrpSpPr/>
          <p:nvPr/>
        </p:nvGrpSpPr>
        <p:grpSpPr>
          <a:xfrm>
            <a:off x="2503440" y="4038480"/>
            <a:ext cx="1265400" cy="502920"/>
            <a:chOff x="2503440" y="4038480"/>
            <a:chExt cx="1265400" cy="502920"/>
          </a:xfrm>
        </p:grpSpPr>
        <p:sp>
          <p:nvSpPr>
            <p:cNvPr id="544" name="Line 8"/>
            <p:cNvSpPr/>
            <p:nvPr/>
          </p:nvSpPr>
          <p:spPr>
            <a:xfrm flipV="1">
              <a:off x="2503440" y="4065120"/>
              <a:ext cx="12654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5" name="Object 10"/>
                <p:cNvSpPr txBox="1"/>
                <p:nvPr/>
              </p:nvSpPr>
              <p:spPr>
                <a:xfrm>
                  <a:off x="3070080" y="4038480"/>
                  <a:ext cx="3081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6" name="Object 11"/>
              <p:cNvSpPr txBox="1"/>
              <p:nvPr/>
            </p:nvSpPr>
            <p:spPr>
              <a:xfrm>
                <a:off x="4164120" y="3174840"/>
                <a:ext cx="20001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2"/>
              <p:cNvSpPr txBox="1"/>
              <p:nvPr/>
            </p:nvSpPr>
            <p:spPr>
              <a:xfrm>
                <a:off x="4114800" y="4226040"/>
                <a:ext cx="208908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3"/>
              <p:cNvSpPr txBox="1"/>
              <p:nvPr/>
            </p:nvSpPr>
            <p:spPr>
              <a:xfrm>
                <a:off x="4773600" y="5232240"/>
                <a:ext cx="8222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9" name="Text Box 17"/>
          <p:cNvSpPr/>
          <p:nvPr/>
        </p:nvSpPr>
        <p:spPr>
          <a:xfrm>
            <a:off x="4494600" y="263196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ferni ta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6854760" y="259092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ilindrični ta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19"/>
              <p:cNvSpPr txBox="1"/>
              <p:nvPr/>
            </p:nvSpPr>
            <p:spPr>
              <a:xfrm>
                <a:off x="6853320" y="3211560"/>
                <a:ext cx="2044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20"/>
              <p:cNvSpPr txBox="1"/>
              <p:nvPr/>
            </p:nvSpPr>
            <p:spPr>
              <a:xfrm>
                <a:off x="6794640" y="4262400"/>
                <a:ext cx="21556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21"/>
              <p:cNvSpPr txBox="1"/>
              <p:nvPr/>
            </p:nvSpPr>
            <p:spPr>
              <a:xfrm>
                <a:off x="7562880" y="5268960"/>
                <a:ext cx="666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040" y="2362320"/>
            <a:ext cx="800100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Apsorpcija talas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868680" indent="-4341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Gill Sans MT"/>
              </a:rPr>
              <a:t>smanjenje energije usled transformacije energije talasa u druge vidove energi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868680" indent="-4341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Gill Sans MT"/>
              </a:rPr>
              <a:t>najčešće u toplotu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9"/>
              <p:cNvSpPr txBox="1"/>
              <p:nvPr/>
            </p:nvSpPr>
            <p:spPr>
              <a:xfrm>
                <a:off x="2419200" y="3973680"/>
                <a:ext cx="34131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psorpcij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20"/>
              <p:cNvSpPr txBox="1"/>
              <p:nvPr/>
            </p:nvSpPr>
            <p:spPr>
              <a:xfrm>
                <a:off x="2438280" y="4595760"/>
                <a:ext cx="282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Text Box 21"/>
          <p:cNvSpPr/>
          <p:nvPr/>
        </p:nvSpPr>
        <p:spPr>
          <a:xfrm>
            <a:off x="2724480" y="454500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koeficijent apsorp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22"/>
              <p:cNvSpPr txBox="1"/>
              <p:nvPr/>
            </p:nvSpPr>
            <p:spPr>
              <a:xfrm>
                <a:off x="3414600" y="5103720"/>
                <a:ext cx="11574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040" y="90792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br>
              <a:rPr sz="2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Nivo zvuka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14040" y="23623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Da ne bi čuli “previše”, ne čujemo zvuke inteziteta manjeg od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sr-CS" sz="2000" spc="-1" strike="noStrike" baseline="30000">
                <a:solidFill>
                  <a:srgbClr val="000000"/>
                </a:solidFill>
                <a:latin typeface="Corbel"/>
              </a:rPr>
              <a:t>-1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W/m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(prag čujnosti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Da bi dobro čuli i slabije i jače zvuke. naš sluh prigušuje jače zvu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Naš osećaj zvuk izražava se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nivoom zvu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10"/>
              <p:cNvSpPr txBox="1"/>
              <p:nvPr/>
            </p:nvSpPr>
            <p:spPr>
              <a:xfrm>
                <a:off x="1919160" y="4581360"/>
                <a:ext cx="16225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1"/>
              <p:cNvSpPr txBox="1"/>
              <p:nvPr/>
            </p:nvSpPr>
            <p:spPr>
              <a:xfrm>
                <a:off x="5904000" y="4759200"/>
                <a:ext cx="1116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12"/>
              <p:cNvSpPr txBox="1"/>
              <p:nvPr/>
            </p:nvSpPr>
            <p:spPr>
              <a:xfrm>
                <a:off x="3948120" y="4606920"/>
                <a:ext cx="167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f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uperpozicija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44953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svojstvo prostiranj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čestice se ne mogu sabira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dve čestice ne mogu u istom trenutku da budu na istom mestu, a dva talasa mog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talas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nije materija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, talas je </a:t>
            </a:r>
            <a:r>
              <a:rPr b="1" i="1" lang="sr-Latn-CS" sz="2000" spc="-1" strike="noStrike">
                <a:solidFill>
                  <a:srgbClr val="000000"/>
                </a:solidFill>
                <a:latin typeface="Gill Sans MT"/>
              </a:rPr>
              <a:t>način prostiranja poremećaja kroz materiju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; talas je način kretanja i može se slaga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8" descr="SUPER1start"/>
          <p:cNvPicPr/>
          <p:nvPr/>
        </p:nvPicPr>
        <p:blipFill>
          <a:blip r:embed="rId1"/>
          <a:srcRect l="0" t="18005" r="0" b="17690"/>
          <a:stretch/>
        </p:blipFill>
        <p:spPr>
          <a:xfrm>
            <a:off x="76320" y="1219320"/>
            <a:ext cx="2962080" cy="1904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SUPER1sredina"/>
          <p:cNvPicPr/>
          <p:nvPr/>
        </p:nvPicPr>
        <p:blipFill>
          <a:blip r:embed="rId2"/>
          <a:srcRect l="0" t="18005" r="0" b="20262"/>
          <a:stretch/>
        </p:blipFill>
        <p:spPr>
          <a:xfrm>
            <a:off x="3124080" y="1752480"/>
            <a:ext cx="2962440" cy="1828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SUPER1kraj"/>
          <p:cNvPicPr/>
          <p:nvPr/>
        </p:nvPicPr>
        <p:blipFill>
          <a:blip r:embed="rId3"/>
          <a:srcRect l="0" t="18005" r="0" b="20262"/>
          <a:stretch/>
        </p:blipFill>
        <p:spPr>
          <a:xfrm>
            <a:off x="6105600" y="2362320"/>
            <a:ext cx="2962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933480" y="2362320"/>
            <a:ext cx="7601040" cy="41274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5"/>
          <p:cNvSpPr/>
          <p:nvPr/>
        </p:nvSpPr>
        <p:spPr>
          <a:xfrm>
            <a:off x="914400" y="907920"/>
            <a:ext cx="800100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f271c"/>
                </a:solidFill>
                <a:latin typeface="Arial"/>
              </a:rPr>
              <a:t>Intenzitet talasa</a:t>
            </a:r>
            <a:br>
              <a:rPr sz="3200"/>
            </a:br>
            <a:r>
              <a:rPr b="1" lang="hr-HR" sz="3200" spc="-1" strike="noStrike">
                <a:solidFill>
                  <a:srgbClr val="4f271c"/>
                </a:solidFill>
                <a:latin typeface="Arial"/>
              </a:rPr>
              <a:t>Nivo zv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Intenzitet talasa</a:t>
            </a:r>
            <a:br>
              <a:rPr sz="3200"/>
            </a:br>
            <a:r>
              <a:rPr b="0" lang="hr-HR" sz="3200" spc="-1" strike="noStrike">
                <a:solidFill>
                  <a:srgbClr val="572314"/>
                </a:solidFill>
                <a:latin typeface="Gill Sans MT"/>
              </a:rPr>
              <a:t>Zvučni pritisak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2120" y="2362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Gill Sans MT"/>
              </a:rPr>
              <a:t>Natpritisa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ill Sans MT"/>
              </a:rPr>
              <a:t>Povećanje ili smanjenje vazdušnog pritiska usled prostiranja zvuk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ill Sans MT"/>
              </a:rPr>
              <a:t>može se meriti instrumentim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ruge veli</a:t>
            </a:r>
            <a:r>
              <a:rPr b="0" lang="sr-Latn-CS" sz="19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ine </a:t>
            </a:r>
            <a:r>
              <a:rPr b="0" lang="sr-Latn-CS" sz="1900" spc="-1" strike="noStrike">
                <a:solidFill>
                  <a:srgbClr val="000000"/>
                </a:solidFill>
                <a:latin typeface="Gill Sans MT"/>
              </a:rPr>
              <a:t>treba izraziti preko natpritisk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5"/>
              <p:cNvSpPr txBox="1"/>
              <p:nvPr/>
            </p:nvSpPr>
            <p:spPr>
              <a:xfrm>
                <a:off x="3780000" y="5229360"/>
                <a:ext cx="13428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p</m:t>
                        </m: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ρ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6"/>
              <p:cNvSpPr txBox="1"/>
              <p:nvPr/>
            </p:nvSpPr>
            <p:spPr>
              <a:xfrm>
                <a:off x="3718080" y="4487760"/>
                <a:ext cx="1468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Osvetljen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34640" y="12682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etlost = Elektromagnetski talasi vidljivi ljudskom ok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alasne dužine 780 nm &gt; </a:t>
            </a:r>
            <a:r>
              <a:rPr b="0" lang="hr-H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&gt; 330 n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setljivost ok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K (0&lt;K&lt;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avisi od talasne dužine svetlosti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K=K(</a:t>
            </a:r>
            <a:r>
              <a:rPr b="0" lang="hr-HR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Picture 5" descr="D:\My Documents\NASTAVA\Fizika\Stof\4\PhotoEffic.gif"/>
          <p:cNvPicPr/>
          <p:nvPr/>
        </p:nvPicPr>
        <p:blipFill>
          <a:blip r:embed="rId1"/>
          <a:stretch/>
        </p:blipFill>
        <p:spPr>
          <a:xfrm>
            <a:off x="1619280" y="2881440"/>
            <a:ext cx="5832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vetlost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svetlje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73040" y="15336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zvor svetl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vetljeni objek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vetlosni sn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4344840" y="5114880"/>
            <a:ext cx="1067040" cy="763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49"/>
          <p:cNvGrpSpPr/>
          <p:nvPr/>
        </p:nvGrpSpPr>
        <p:grpSpPr>
          <a:xfrm>
            <a:off x="4420800" y="1533240"/>
            <a:ext cx="3616560" cy="3581640"/>
            <a:chOff x="4420800" y="1533240"/>
            <a:chExt cx="3616560" cy="3581640"/>
          </a:xfrm>
        </p:grpSpPr>
        <p:cxnSp>
          <p:nvCxnSpPr>
            <p:cNvPr id="578" name="AutoShape 9"/>
            <p:cNvCxnSpPr>
              <a:endCxn id="576" idx="3"/>
            </p:cNvCxnSpPr>
            <p:nvPr/>
          </p:nvCxnSpPr>
          <p:spPr>
            <a:xfrm flipH="1">
              <a:off x="5865840" y="1931760"/>
              <a:ext cx="2171880" cy="240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9" name="AutoShape 10"/>
            <p:cNvCxnSpPr>
              <a:endCxn id="576" idx="0"/>
            </p:cNvCxnSpPr>
            <p:nvPr/>
          </p:nvCxnSpPr>
          <p:spPr>
            <a:xfrm flipH="1">
              <a:off x="5331600" y="1898640"/>
              <a:ext cx="2624760" cy="2396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0" name="AutoShape 11"/>
            <p:cNvCxnSpPr>
              <a:endCxn id="576" idx="1"/>
            </p:cNvCxnSpPr>
            <p:nvPr/>
          </p:nvCxnSpPr>
          <p:spPr>
            <a:xfrm flipH="1">
              <a:off x="4798440" y="1703520"/>
              <a:ext cx="3239280" cy="262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1" name="Line 13"/>
            <p:cNvSpPr/>
            <p:nvPr/>
          </p:nvSpPr>
          <p:spPr>
            <a:xfrm flipH="1">
              <a:off x="6021000" y="2905200"/>
              <a:ext cx="16002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4"/>
            <p:cNvSpPr/>
            <p:nvPr/>
          </p:nvSpPr>
          <p:spPr>
            <a:xfrm flipH="1">
              <a:off x="6706800" y="2981160"/>
              <a:ext cx="10666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5"/>
            <p:cNvSpPr/>
            <p:nvPr/>
          </p:nvSpPr>
          <p:spPr>
            <a:xfrm flipH="1">
              <a:off x="4497120" y="24480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16"/>
            <p:cNvSpPr/>
            <p:nvPr/>
          </p:nvSpPr>
          <p:spPr>
            <a:xfrm flipH="1">
              <a:off x="4420800" y="2523960"/>
              <a:ext cx="2971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7"/>
            <p:cNvSpPr/>
            <p:nvPr/>
          </p:nvSpPr>
          <p:spPr>
            <a:xfrm flipH="1">
              <a:off x="4801680" y="2600280"/>
              <a:ext cx="25909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8"/>
            <p:cNvSpPr/>
            <p:nvPr/>
          </p:nvSpPr>
          <p:spPr>
            <a:xfrm flipH="1" flipV="1">
              <a:off x="6173640" y="153324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9"/>
            <p:cNvSpPr/>
            <p:nvPr/>
          </p:nvSpPr>
          <p:spPr>
            <a:xfrm flipH="1" flipV="1">
              <a:off x="7239960" y="153360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21"/>
            <p:cNvSpPr/>
            <p:nvPr/>
          </p:nvSpPr>
          <p:spPr>
            <a:xfrm flipH="1" flipV="1">
              <a:off x="7773840" y="153324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22"/>
            <p:cNvSpPr/>
            <p:nvPr/>
          </p:nvSpPr>
          <p:spPr>
            <a:xfrm flipH="1" flipV="1">
              <a:off x="5945040" y="199080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50"/>
          <p:cNvGrpSpPr/>
          <p:nvPr/>
        </p:nvGrpSpPr>
        <p:grpSpPr>
          <a:xfrm>
            <a:off x="4878000" y="3095280"/>
            <a:ext cx="2426400" cy="1448280"/>
            <a:chOff x="4878000" y="3095280"/>
            <a:chExt cx="2426400" cy="1448280"/>
          </a:xfrm>
        </p:grpSpPr>
        <p:cxnSp>
          <p:nvCxnSpPr>
            <p:cNvPr id="591" name="AutoShape 28"/>
            <p:cNvCxnSpPr>
              <a:stCxn id="592" idx="2"/>
              <a:endCxn id="593" idx="2"/>
            </p:cNvCxnSpPr>
            <p:nvPr/>
          </p:nvCxnSpPr>
          <p:spPr>
            <a:xfrm flipV="1">
              <a:off x="4878000" y="4009680"/>
              <a:ext cx="686520" cy="5342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4" name="AutoShape 29"/>
            <p:cNvCxnSpPr>
              <a:stCxn id="593" idx="2"/>
              <a:endCxn id="595" idx="1"/>
            </p:cNvCxnSpPr>
            <p:nvPr/>
          </p:nvCxnSpPr>
          <p:spPr>
            <a:xfrm flipV="1">
              <a:off x="5563800" y="3406680"/>
              <a:ext cx="797400" cy="60372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6" name="AutoShape 30"/>
            <p:cNvCxnSpPr>
              <a:stCxn id="595" idx="1"/>
              <a:endCxn id="597" idx="2"/>
            </p:cNvCxnSpPr>
            <p:nvPr/>
          </p:nvCxnSpPr>
          <p:spPr>
            <a:xfrm flipV="1">
              <a:off x="6360480" y="3095280"/>
              <a:ext cx="423000" cy="3117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8" name="AutoShape 31"/>
            <p:cNvCxnSpPr>
              <a:stCxn id="592" idx="6"/>
              <a:endCxn id="593" idx="6"/>
            </p:cNvCxnSpPr>
            <p:nvPr/>
          </p:nvCxnSpPr>
          <p:spPr>
            <a:xfrm flipV="1">
              <a:off x="6173640" y="4009680"/>
              <a:ext cx="457920" cy="5342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99" name="AutoShape 32"/>
            <p:cNvCxnSpPr>
              <a:stCxn id="593" idx="6"/>
              <a:endCxn id="595" idx="6"/>
            </p:cNvCxnSpPr>
            <p:nvPr/>
          </p:nvCxnSpPr>
          <p:spPr>
            <a:xfrm flipV="1">
              <a:off x="6630840" y="3514320"/>
              <a:ext cx="381600" cy="496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600" name="AutoShape 33"/>
            <p:cNvCxnSpPr>
              <a:stCxn id="595" idx="6"/>
              <a:endCxn id="597" idx="5"/>
            </p:cNvCxnSpPr>
            <p:nvPr/>
          </p:nvCxnSpPr>
          <p:spPr>
            <a:xfrm flipV="1">
              <a:off x="7011720" y="3175920"/>
              <a:ext cx="293040" cy="3387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601" name="Text Box 36"/>
          <p:cNvSpPr/>
          <p:nvPr/>
        </p:nvSpPr>
        <p:spPr>
          <a:xfrm>
            <a:off x="1443600" y="290520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etski fluk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J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1442520" y="374328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etlosni fluks F [lume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38"/>
              <p:cNvSpPr txBox="1"/>
              <p:nvPr/>
            </p:nvSpPr>
            <p:spPr>
              <a:xfrm>
                <a:off x="1484280" y="3362400"/>
                <a:ext cx="270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dΦ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9"/>
              <p:cNvSpPr txBox="1"/>
              <p:nvPr/>
            </p:nvSpPr>
            <p:spPr>
              <a:xfrm>
                <a:off x="1525680" y="3940200"/>
                <a:ext cx="23349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5" name="Text Box 40"/>
          <p:cNvSpPr/>
          <p:nvPr/>
        </p:nvSpPr>
        <p:spPr>
          <a:xfrm>
            <a:off x="1445400" y="479412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 svetlos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41"/>
              <p:cNvSpPr txBox="1"/>
              <p:nvPr/>
            </p:nvSpPr>
            <p:spPr>
              <a:xfrm>
                <a:off x="1525680" y="5103720"/>
                <a:ext cx="10191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7" name="Group 54"/>
          <p:cNvGrpSpPr/>
          <p:nvPr/>
        </p:nvGrpSpPr>
        <p:grpSpPr>
          <a:xfrm>
            <a:off x="4878360" y="4352760"/>
            <a:ext cx="1295280" cy="381240"/>
            <a:chOff x="4878360" y="4352760"/>
            <a:chExt cx="1295280" cy="381240"/>
          </a:xfrm>
        </p:grpSpPr>
        <p:sp>
          <p:nvSpPr>
            <p:cNvPr id="592" name="Oval 24"/>
            <p:cNvSpPr/>
            <p:nvPr/>
          </p:nvSpPr>
          <p:spPr>
            <a:xfrm>
              <a:off x="4878360" y="4352760"/>
              <a:ext cx="1295280" cy="381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Object 42"/>
                <p:cNvSpPr txBox="1"/>
                <p:nvPr/>
              </p:nvSpPr>
              <p:spPr>
                <a:xfrm>
                  <a:off x="5259240" y="4384800"/>
                  <a:ext cx="473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9" name="Group 53"/>
          <p:cNvGrpSpPr/>
          <p:nvPr/>
        </p:nvGrpSpPr>
        <p:grpSpPr>
          <a:xfrm>
            <a:off x="5564160" y="3819600"/>
            <a:ext cx="1066680" cy="380880"/>
            <a:chOff x="5564160" y="3819600"/>
            <a:chExt cx="1066680" cy="380880"/>
          </a:xfrm>
        </p:grpSpPr>
        <p:sp>
          <p:nvSpPr>
            <p:cNvPr id="593" name="Oval 23"/>
            <p:cNvSpPr/>
            <p:nvPr/>
          </p:nvSpPr>
          <p:spPr>
            <a:xfrm>
              <a:off x="5564160" y="3819600"/>
              <a:ext cx="10666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Object 43"/>
                <p:cNvSpPr txBox="1"/>
                <p:nvPr/>
              </p:nvSpPr>
              <p:spPr>
                <a:xfrm>
                  <a:off x="5852880" y="3851280"/>
                  <a:ext cx="473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1" name="Group 52"/>
          <p:cNvGrpSpPr/>
          <p:nvPr/>
        </p:nvGrpSpPr>
        <p:grpSpPr>
          <a:xfrm>
            <a:off x="6249960" y="3317760"/>
            <a:ext cx="761760" cy="349200"/>
            <a:chOff x="6249960" y="3317760"/>
            <a:chExt cx="761760" cy="349200"/>
          </a:xfrm>
        </p:grpSpPr>
        <p:sp>
          <p:nvSpPr>
            <p:cNvPr id="595" name="Oval 26"/>
            <p:cNvSpPr/>
            <p:nvPr/>
          </p:nvSpPr>
          <p:spPr>
            <a:xfrm>
              <a:off x="6249960" y="3362400"/>
              <a:ext cx="761760" cy="304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Object 44"/>
                <p:cNvSpPr txBox="1"/>
                <p:nvPr/>
              </p:nvSpPr>
              <p:spPr>
                <a:xfrm>
                  <a:off x="6386400" y="3317760"/>
                  <a:ext cx="473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3" name="Group 51"/>
          <p:cNvGrpSpPr/>
          <p:nvPr/>
        </p:nvGrpSpPr>
        <p:grpSpPr>
          <a:xfrm>
            <a:off x="6783480" y="2905200"/>
            <a:ext cx="609480" cy="349200"/>
            <a:chOff x="6783480" y="2905200"/>
            <a:chExt cx="609480" cy="349200"/>
          </a:xfrm>
        </p:grpSpPr>
        <p:sp>
          <p:nvSpPr>
            <p:cNvPr id="597" name="Oval 27"/>
            <p:cNvSpPr/>
            <p:nvPr/>
          </p:nvSpPr>
          <p:spPr>
            <a:xfrm>
              <a:off x="6783480" y="2981160"/>
              <a:ext cx="60948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4" name="Object 45"/>
                <p:cNvSpPr txBox="1"/>
                <p:nvPr/>
              </p:nvSpPr>
              <p:spPr>
                <a:xfrm>
                  <a:off x="6783480" y="2905200"/>
                  <a:ext cx="4726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5" name="Text Box 46"/>
          <p:cNvSpPr/>
          <p:nvPr/>
        </p:nvSpPr>
        <p:spPr>
          <a:xfrm>
            <a:off x="5455800" y="4886280"/>
            <a:ext cx="1409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osvetlj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47"/>
          <p:cNvSpPr/>
          <p:nvPr/>
        </p:nvSpPr>
        <p:spPr>
          <a:xfrm>
            <a:off x="7848360" y="2143080"/>
            <a:ext cx="107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iz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48"/>
              <p:cNvSpPr txBox="1"/>
              <p:nvPr/>
            </p:nvSpPr>
            <p:spPr>
              <a:xfrm>
                <a:off x="2668680" y="5267160"/>
                <a:ext cx="213660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ume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r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AutoShape 12"/>
          <p:cNvSpPr/>
          <p:nvPr/>
        </p:nvSpPr>
        <p:spPr>
          <a:xfrm rot="16200000">
            <a:off x="7392960" y="1762200"/>
            <a:ext cx="1295280" cy="1295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95280"/>
              <a:gd name="textAreaBottom" fmla="*/ 462600 h 1295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vetlost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svetljenj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18960" y="155736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zvor svetl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Rectangle 40"/>
          <p:cNvSpPr/>
          <p:nvPr/>
        </p:nvSpPr>
        <p:spPr>
          <a:xfrm>
            <a:off x="1219320" y="292896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vetlje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Object 41"/>
          <p:cNvGraphicFramePr/>
          <p:nvPr/>
        </p:nvGraphicFramePr>
        <p:xfrm>
          <a:off x="3814920" y="1940040"/>
          <a:ext cx="131580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4920" y="1940040"/>
                    <a:ext cx="131580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42"/>
          <p:cNvGraphicFramePr/>
          <p:nvPr/>
        </p:nvGraphicFramePr>
        <p:xfrm>
          <a:off x="6629400" y="1963800"/>
          <a:ext cx="19987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5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1963800"/>
                    <a:ext cx="19987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43"/>
          <p:cNvGraphicFramePr/>
          <p:nvPr/>
        </p:nvGraphicFramePr>
        <p:xfrm>
          <a:off x="4340160" y="3565440"/>
          <a:ext cx="131616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7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0160" y="3565440"/>
                    <a:ext cx="13161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44"/>
          <p:cNvGraphicFramePr/>
          <p:nvPr/>
        </p:nvGraphicFramePr>
        <p:xfrm>
          <a:off x="6932520" y="3409920"/>
          <a:ext cx="187344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9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2520" y="3409920"/>
                    <a:ext cx="18734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Rectangle 45"/>
          <p:cNvSpPr/>
          <p:nvPr/>
        </p:nvSpPr>
        <p:spPr>
          <a:xfrm>
            <a:off x="1143000" y="44528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nop sijalice od 100 W F~1400 lumena, J ~ 100 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nce u zenitu L ~1,5 Gnit, električni luk L ~0,7 G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nevno svetlo do E ~ 10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lux, mesečina E ~ 0,2 l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čitanje je potrebno oko E ~ 50 l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960" indent="-7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54"/>
          <p:cNvGrpSpPr/>
          <p:nvPr/>
        </p:nvGrpSpPr>
        <p:grpSpPr>
          <a:xfrm>
            <a:off x="1371600" y="3386160"/>
            <a:ext cx="1447920" cy="1218960"/>
            <a:chOff x="1371600" y="3386160"/>
            <a:chExt cx="1447920" cy="1218960"/>
          </a:xfrm>
        </p:grpSpPr>
        <p:grpSp>
          <p:nvGrpSpPr>
            <p:cNvPr id="632" name="Group 53"/>
            <p:cNvGrpSpPr/>
            <p:nvPr/>
          </p:nvGrpSpPr>
          <p:grpSpPr>
            <a:xfrm>
              <a:off x="1371600" y="3386160"/>
              <a:ext cx="1447920" cy="761760"/>
              <a:chOff x="1371600" y="3386160"/>
              <a:chExt cx="1447920" cy="761760"/>
            </a:xfrm>
          </p:grpSpPr>
          <p:sp>
            <p:nvSpPr>
              <p:cNvPr id="633" name="Line 46"/>
              <p:cNvSpPr/>
              <p:nvPr/>
            </p:nvSpPr>
            <p:spPr>
              <a:xfrm flipH="1">
                <a:off x="1981080" y="3386160"/>
                <a:ext cx="5331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47"/>
              <p:cNvSpPr/>
              <p:nvPr/>
            </p:nvSpPr>
            <p:spPr>
              <a:xfrm>
                <a:off x="1371600" y="4071960"/>
                <a:ext cx="1447920" cy="75960"/>
              </a:xfrm>
              <a:prstGeom prst="rect">
                <a:avLst/>
              </a:prstGeom>
              <a:solidFill>
                <a:srgbClr val="389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Arc 50"/>
              <p:cNvSpPr/>
              <p:nvPr/>
            </p:nvSpPr>
            <p:spPr>
              <a:xfrm>
                <a:off x="1981440" y="3387600"/>
                <a:ext cx="412560" cy="693720"/>
              </a:xfrm>
              <a:custGeom>
                <a:avLst/>
                <a:gdLst/>
                <a:ahLst/>
                <a:rect l="l" t="t" r="r" b="b"/>
                <a:pathLst>
                  <a:path fill="none" w="12269" h="21597">
                    <a:moveTo>
                      <a:pt x="342" y="-1"/>
                    </a:moveTo>
                    <a:cubicBezTo>
                      <a:pt x="4607" y="67"/>
                      <a:pt x="8757" y="1396"/>
                      <a:pt x="12269" y="3819"/>
                    </a:cubicBezTo>
                  </a:path>
                  <a:path stroke="0" w="12269" h="21597">
                    <a:moveTo>
                      <a:pt x="342" y="-1"/>
                    </a:moveTo>
                    <a:cubicBezTo>
                      <a:pt x="4607" y="67"/>
                      <a:pt x="8757" y="1396"/>
                      <a:pt x="12269" y="3819"/>
                    </a:cubicBezTo>
                    <a:lnTo>
                      <a:pt x="0" y="21597"/>
                    </a:lnTo>
                    <a:lnTo>
                      <a:pt x="342" y="-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6" name="Object 51"/>
                  <p:cNvSpPr txBox="1"/>
                  <p:nvPr/>
                </p:nvSpPr>
                <p:spPr>
                  <a:xfrm>
                    <a:off x="2006640" y="3487680"/>
                    <a:ext cx="27936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37" name="Line 52"/>
            <p:cNvSpPr/>
            <p:nvPr/>
          </p:nvSpPr>
          <p:spPr>
            <a:xfrm>
              <a:off x="1981440" y="338616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Zakon obrnutih kvadr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325520" y="1557360"/>
            <a:ext cx="403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Osvetljenost objekta je inverzno proporcionalna kvadratu njegovog rastojanju od tačkastog izvo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Dalje-tamnij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Važi za tačkaste izv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Object 8"/>
          <p:cNvGraphicFramePr/>
          <p:nvPr/>
        </p:nvGraphicFramePr>
        <p:xfrm>
          <a:off x="4067280" y="4095720"/>
          <a:ext cx="4787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4095720"/>
                    <a:ext cx="4787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4"/>
          <p:cNvGraphicFramePr/>
          <p:nvPr/>
        </p:nvGraphicFramePr>
        <p:xfrm>
          <a:off x="2062080" y="5665680"/>
          <a:ext cx="157320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2080" y="5665680"/>
                    <a:ext cx="15732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Kosinusni za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1311120" y="1719360"/>
            <a:ext cx="59151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Omogućava proračun osvetlje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Gill Sans MT"/>
              </a:rPr>
              <a:t>U više položa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Gill Sans MT"/>
              </a:rPr>
              <a:t>Složenih izvo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Gill Sans MT"/>
              </a:rPr>
              <a:t>Više izvo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Gill Sans MT"/>
              </a:rPr>
              <a:t>Sa refleksija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Object 5"/>
          <p:cNvGraphicFramePr/>
          <p:nvPr/>
        </p:nvGraphicFramePr>
        <p:xfrm>
          <a:off x="4637160" y="2852640"/>
          <a:ext cx="403848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7160" y="2852640"/>
                    <a:ext cx="403848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6"/>
          <p:cNvGraphicFramePr/>
          <p:nvPr/>
        </p:nvGraphicFramePr>
        <p:xfrm>
          <a:off x="5983200" y="4724280"/>
          <a:ext cx="182880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0" y="4724280"/>
                    <a:ext cx="18288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Kosinusni zak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1166760" y="1268280"/>
            <a:ext cx="403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Rastojanja se ne mere, već se računaju na osnovu visina i Pitagorine teore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Gill Sans MT"/>
              </a:rPr>
              <a:t>Ugao očitavamo kod izvo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Object 5"/>
          <p:cNvGraphicFramePr/>
          <p:nvPr/>
        </p:nvGraphicFramePr>
        <p:xfrm>
          <a:off x="5076720" y="1268280"/>
          <a:ext cx="4038840" cy="35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268280"/>
                    <a:ext cx="40388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4" name="Object 4"/>
              <p:cNvSpPr txBox="1"/>
              <p:nvPr/>
            </p:nvSpPr>
            <p:spPr>
              <a:xfrm>
                <a:off x="1671480" y="3898800"/>
                <a:ext cx="12448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55" name="Object 5"/>
          <p:cNvGraphicFramePr/>
          <p:nvPr/>
        </p:nvGraphicFramePr>
        <p:xfrm>
          <a:off x="3327480" y="3865680"/>
          <a:ext cx="12445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27480" y="3865680"/>
                    <a:ext cx="1244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7" name="Object 6"/>
              <p:cNvSpPr txBox="1"/>
              <p:nvPr/>
            </p:nvSpPr>
            <p:spPr>
              <a:xfrm>
                <a:off x="1843200" y="5229360"/>
                <a:ext cx="25128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8" name="Object 7"/>
          <p:cNvGraphicFramePr/>
          <p:nvPr/>
        </p:nvGraphicFramePr>
        <p:xfrm>
          <a:off x="6114960" y="5614920"/>
          <a:ext cx="177804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4960" y="5614920"/>
                    <a:ext cx="1778040" cy="73656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lasi u prostor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040" y="41144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zvor nije samo jedna ta</a:t>
            </a: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čka, izvori su tel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Svaka tačka izvora ima sopstveno ponaš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Svaka tačka stvara svoj ta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ill Sans MT"/>
              </a:rPr>
              <a:t>Svaki realni talas je superpozicija talasa koje stvaraju sve tačke izvo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2274120" y="2438280"/>
            <a:ext cx="39618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čka na mestu x, u trenutku 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 ponaša 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o i izvor pre x/c vre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alasi u prostoru</a:t>
            </a:r>
            <a:br>
              <a:rPr sz="3900"/>
            </a:br>
            <a:r>
              <a:rPr b="0" lang="hr-HR" sz="2900" spc="-1" strike="noStrike">
                <a:solidFill>
                  <a:srgbClr val="572314"/>
                </a:solidFill>
                <a:latin typeface="Gill Sans MT"/>
              </a:rPr>
              <a:t>Hajgensov princip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857240" y="2590920"/>
            <a:ext cx="4551480" cy="1373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vaka tačka pogođena talas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naša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ao izvor novih tal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7" descr="p_huygens1"/>
          <p:cNvPicPr/>
          <p:nvPr/>
        </p:nvPicPr>
        <p:blipFill>
          <a:blip r:embed="rId1"/>
          <a:stretch/>
        </p:blipFill>
        <p:spPr>
          <a:xfrm>
            <a:off x="3147840" y="4245120"/>
            <a:ext cx="233856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alasi u prostoru</a:t>
            </a:r>
            <a:br>
              <a:rPr sz="3900"/>
            </a:b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Talasni front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914400" y="3657600"/>
            <a:ext cx="4267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er: talas u ravni koji izaziva tačkasti iz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to se ponašaju tačke koje su jednako udaljene od izv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lasni frontovi su kruž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997560" y="2575080"/>
            <a:ext cx="718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asni front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 geometrijsko mesto tačaka koje imaju istu fa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kojima se uvek događa 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1" descr="monopole"/>
          <p:cNvPicPr/>
          <p:nvPr/>
        </p:nvPicPr>
        <p:blipFill>
          <a:blip r:embed="rId1"/>
          <a:stretch/>
        </p:blipFill>
        <p:spPr>
          <a:xfrm>
            <a:off x="5486400" y="3429000"/>
            <a:ext cx="32925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572314"/>
                </a:solidFill>
                <a:latin typeface="Gill Sans MT"/>
              </a:rPr>
              <a:t>Talasni zra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218040" y="1628640"/>
            <a:ext cx="30916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lasni zrak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ormala na talasni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4400" y="273060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kazuje pravac prostiranja 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2050920" y="4005360"/>
            <a:ext cx="720720" cy="720720"/>
          </a:xfrm>
          <a:prstGeom prst="ellipse">
            <a:avLst/>
          </a:prstGeom>
          <a:noFill/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1908000" y="3860640"/>
            <a:ext cx="1008360" cy="1009800"/>
          </a:xfrm>
          <a:prstGeom prst="ellipse">
            <a:avLst/>
          </a:prstGeom>
          <a:noFill/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2224080" y="4178160"/>
            <a:ext cx="360360" cy="360360"/>
          </a:xfrm>
          <a:prstGeom prst="ellipse">
            <a:avLst/>
          </a:prstGeom>
          <a:noFill/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27"/>
          <p:cNvGrpSpPr/>
          <p:nvPr/>
        </p:nvGrpSpPr>
        <p:grpSpPr>
          <a:xfrm>
            <a:off x="1692000" y="3509640"/>
            <a:ext cx="1511640" cy="1729080"/>
            <a:chOff x="1692000" y="3509640"/>
            <a:chExt cx="1511640" cy="1729080"/>
          </a:xfrm>
        </p:grpSpPr>
        <p:sp>
          <p:nvSpPr>
            <p:cNvPr id="354" name="Line 10"/>
            <p:cNvSpPr/>
            <p:nvPr/>
          </p:nvSpPr>
          <p:spPr>
            <a:xfrm>
              <a:off x="2411280" y="437364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1"/>
            <p:cNvSpPr/>
            <p:nvPr/>
          </p:nvSpPr>
          <p:spPr>
            <a:xfrm>
              <a:off x="2411280" y="437364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2"/>
            <p:cNvSpPr/>
            <p:nvPr/>
          </p:nvSpPr>
          <p:spPr>
            <a:xfrm>
              <a:off x="2411280" y="4373640"/>
              <a:ext cx="72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 flipV="1">
              <a:off x="2411280" y="3654360"/>
              <a:ext cx="7207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4"/>
            <p:cNvSpPr/>
            <p:nvPr/>
          </p:nvSpPr>
          <p:spPr>
            <a:xfrm flipV="1">
              <a:off x="2411280" y="3509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5"/>
            <p:cNvSpPr/>
            <p:nvPr/>
          </p:nvSpPr>
          <p:spPr>
            <a:xfrm flipH="1">
              <a:off x="1692000" y="437364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6"/>
            <p:cNvSpPr/>
            <p:nvPr/>
          </p:nvSpPr>
          <p:spPr>
            <a:xfrm flipH="1" flipV="1">
              <a:off x="1763280" y="3654360"/>
              <a:ext cx="6476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17"/>
            <p:cNvSpPr/>
            <p:nvPr/>
          </p:nvSpPr>
          <p:spPr>
            <a:xfrm flipH="1">
              <a:off x="1692000" y="4373640"/>
              <a:ext cx="718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Line 18"/>
          <p:cNvSpPr/>
          <p:nvPr/>
        </p:nvSpPr>
        <p:spPr>
          <a:xfrm>
            <a:off x="6012000" y="3654360"/>
            <a:ext cx="0" cy="1440000"/>
          </a:xfrm>
          <a:prstGeom prst="line">
            <a:avLst/>
          </a:prstGeom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6300720" y="3654360"/>
            <a:ext cx="0" cy="1440000"/>
          </a:xfrm>
          <a:prstGeom prst="line">
            <a:avLst/>
          </a:prstGeom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6588000" y="3654360"/>
            <a:ext cx="0" cy="1440000"/>
          </a:xfrm>
          <a:prstGeom prst="line">
            <a:avLst/>
          </a:prstGeom>
          <a:ln w="38160">
            <a:solidFill>
              <a:srgbClr val="aa8a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5867280" y="4013280"/>
            <a:ext cx="1009800" cy="720720"/>
            <a:chOff x="5867280" y="4013280"/>
            <a:chExt cx="1009800" cy="720720"/>
          </a:xfrm>
        </p:grpSpPr>
        <p:sp>
          <p:nvSpPr>
            <p:cNvPr id="366" name="Line 21"/>
            <p:cNvSpPr/>
            <p:nvPr/>
          </p:nvSpPr>
          <p:spPr>
            <a:xfrm>
              <a:off x="5867280" y="401328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2"/>
            <p:cNvSpPr/>
            <p:nvPr/>
          </p:nvSpPr>
          <p:spPr>
            <a:xfrm>
              <a:off x="5867280" y="415764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3"/>
            <p:cNvSpPr/>
            <p:nvPr/>
          </p:nvSpPr>
          <p:spPr>
            <a:xfrm>
              <a:off x="5867280" y="430056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4"/>
            <p:cNvSpPr/>
            <p:nvPr/>
          </p:nvSpPr>
          <p:spPr>
            <a:xfrm>
              <a:off x="5867280" y="444528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25"/>
            <p:cNvSpPr/>
            <p:nvPr/>
          </p:nvSpPr>
          <p:spPr>
            <a:xfrm>
              <a:off x="5867280" y="458964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6"/>
            <p:cNvSpPr/>
            <p:nvPr/>
          </p:nvSpPr>
          <p:spPr>
            <a:xfrm>
              <a:off x="5867280" y="473400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Talasni front i talasni zrac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7720" y="12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blik talasnog fronta zavisi od oblika izvor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Osnovni oblici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ferni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ilindri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 i ravanski talas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3:28:25Z</dcterms:created>
  <dc:creator>Zlatan Soskic</dc:creator>
  <dc:description/>
  <dc:language>en-US</dc:language>
  <cp:lastModifiedBy>Zlatan Soskic</cp:lastModifiedBy>
  <dcterms:modified xsi:type="dcterms:W3CDTF">2016-04-03T11:33:36Z</dcterms:modified>
  <cp:revision>617</cp:revision>
  <dc:subject/>
  <dc:title>Talasi</dc:title>
</cp:coreProperties>
</file>