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5.gif" ContentType="image/gif"/>
  <Override PartName="/ppt/media/image19.png" ContentType="image/png"/>
  <Override PartName="/ppt/media/image17.wmf" ContentType="image/x-wmf"/>
  <Override PartName="/ppt/media/image16.png" ContentType="image/png"/>
  <Override PartName="/ppt/media/image18.wmf" ContentType="image/x-wmf"/>
  <Override PartName="/ppt/media/image7.gif" ContentType="image/gif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560A-8363-4A99-B8CA-DD1D4320EAF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3721-D61B-412D-97CD-21E03D84446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1F05-8E42-4061-8C3D-DAD3F4E69E2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5CDF-51A8-4D94-8AB7-C6935707857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1DC6-4CDF-4784-9DE0-31022FEA80B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DD52-2C90-4C23-94D1-EC2391C3511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7A88-D61A-4EAC-8E7A-E0C92110622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E135-BAF1-49C7-9B73-C4E97E915A8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41AA-0BA1-4926-8BE4-3451FF1E51C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3E70-1EA7-4B39-A60C-4A8E5EAE145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3FA2-3865-494C-947D-DF193891C6F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BA5F-635C-4F61-AD14-1682464C1EA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FC0E-69FC-4B59-8C75-6455B94F27C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1ED8-E3F8-47F8-8DF1-ED7B241DCA0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3D8F-AD11-403E-B2D1-3E5D7CBEC4F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8662-A54E-4436-9D73-80676700D42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6135-2FE6-4082-915F-48196E43B8E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CD25-2DE8-414E-94E0-14A1255CCF0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1182-CACC-47E9-9B90-5A343556411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D24B-0C8C-4DC6-850E-A5286A9EE26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96BC-3442-4CEB-B3C6-181C0E5F2EB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9475-EDD2-4949-B4E3-DDA63D58619A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104F-B2DE-48F7-93F9-35CC4B72C29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F996-D355-4441-B94A-C23F72C0C1F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7CD2-80A6-415F-9718-964D5F9CEC9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59F2-B4E8-40D4-8443-4834ECDB3F5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D45-5BE9-4B70-9508-316A5039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0B4-3AE7-45A4-A3C1-D7D5D1B1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5B5-3D52-4BD7-9673-D270F475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171-4401-44A3-BA75-63ACA2E0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7180-702E-4A8D-BE81-54053E32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40BC-6D5B-480E-83D2-866D9C0D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027D-365A-49A9-81F9-11A4A605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4BB7-77F7-411B-A7E3-6B1D580D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BCF5-3FFD-4380-9C9B-DF455752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286C-92F1-4C92-ACA7-C2E2F6B3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1F9E-BAC0-4BA4-9C7E-6111D07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293-B871-4382-BA70-52BAAD9D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C264-4FE2-4FA0-BC78-F2220CE8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D80D-98B1-48A1-9997-A7C34980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AC5A-9319-40DB-8609-CC07E525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3F50-2673-4DB6-B5C0-BD9DFD5C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1516-F6E1-47D0-A9A3-B1EA6165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7AA1-D939-4572-8B82-1B44F769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E2EDE-4EFE-48A6-8CA0-A21FE61F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85B7-B1D7-4B78-B6C0-394CBFBB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7D7B2-68DE-4C7A-AAF9-CD8F9057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E1275-A7E3-4E61-981B-846CD0BA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7CD-661C-412B-849A-6C19E327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1A7A-06F6-4AA2-A324-DEFD9A11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839C-AFF3-449F-8004-78956F2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E5C6C-CDEC-49DE-A3E3-C5945F0C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2DBBA-0364-4084-B258-603D5BE8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DB10-E10E-466A-9985-74548111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F5C1-0A31-4A0B-A5DB-BC8BBEAD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559C-AF4E-489B-A130-32E49EAD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49EF-3104-401C-BD45-A84DD63B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A231-ADA4-4D27-81F2-0173189F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62F42-B69E-4176-AA13-F585928E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97C-1121-45E8-BF7B-1C823E93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1D10B-CF2C-4D55-89B5-AE34379B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25680-D903-4756-8754-C850E2BA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01D80-9346-44D1-A1E9-FA90C5DB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FC9A-8888-48EA-AEA2-35DF61D7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F2909-5A22-46D9-B8E9-9BB0CFD8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F344B-76FB-41FA-A09C-2D9EA740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28330-4C6B-4ED1-8CE6-E1017D6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C65F1-5C61-4715-B1B7-07086855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CDAD-F10F-4F1C-912B-E98548E1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2AB6-5F70-4D92-938F-5C029F91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163-F214-4D22-AB56-C511A681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B808F-C50D-4794-B654-AB4532F8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9BF2E-2E3D-4A18-ADAC-AE7A271C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7A108-58FA-471E-B630-3F3277AF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0E517-9ED9-4684-8D25-36A5410A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7A0BF-DCE4-4D77-8339-AAFBAB7A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431DD-A1F6-4F48-BBA2-02E490CD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9BC54-40CC-42A4-8696-102A22CC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2CB39-0E2E-4E1B-A0E1-8C422046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90740-7BB6-4780-8EDE-56F7165C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BEC7E-696C-4BFB-9068-CCAB5596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DDF-36C1-420E-A85F-14D38E1D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6913-1FA8-4371-AD7A-FB55A9A0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04181-B0EC-4CD1-B027-274D1E65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473F5-E126-4463-B736-BCAB8D2F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5475-2D8F-442A-9C05-E1BF245C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FBF7B-3E5D-4862-9791-A783C5FA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3107E-0AAA-4F25-9B9A-0C85EF9D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A451A-BE14-45E9-9495-21AA89AC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D125-4038-4BD1-A325-A09992C4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F0051-5064-4567-BCD9-808A2C4F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0DC42-DD3F-4AF2-9E7D-9062D753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CB5-AEEE-4871-B1D9-A00E922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63A72-4DBA-4B8D-840C-D1C18A11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BABF8-B0EA-4920-BE54-532B3D2E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DEDD9-B40B-43D9-B444-2F2920BF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84E83-22E8-4294-8399-1F68406F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6A1F0-574A-4843-BA84-354326B4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E81C2-1728-4D55-A11C-2446E88C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17332-3A11-4A7C-935A-D1F86E0B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0E711-91F3-4F7B-9580-E47187F1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DD014-12F4-4813-AF03-FA490F61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5560D-417D-49DC-A19F-3B2A08C4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00E-98BD-45EA-9896-537B8415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D379D-A1AD-4990-AF64-52D8E2A3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700D2-ADEE-4EEC-AAAD-8F9529F2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BF6DE-E6CC-42CC-B1F7-8BD72089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6D61A-0DA9-42BA-9E3A-8A2262AB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CED6A-C3F5-44C4-A7C3-575489F6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9AC-A18B-4106-A5BF-0C7B50D0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A987-BD22-419A-8DB5-27CBED4A9D7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E42A-D0E1-49B8-A947-A1E49E671FF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D727-4757-46ED-A4DE-4941173932E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708E-B874-45AF-B018-146160F2137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9C48-9002-4F94-A41A-0B370D441DB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A403-50C3-4AC1-ADA1-64E5313EB20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3E57-08EC-40DA-B3F4-3A0113908A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alas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673520" y="4220640"/>
            <a:ext cx="4146480" cy="528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Prostiranje poremeća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visi samo o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vrste talas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redine kroz koju se talas prosti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e zavisi o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Energije koju talas prenos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14040" y="2362320"/>
            <a:ext cx="80010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zina mehaničkih talasa (zvuka) u čvrstim teli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1693800" y="3087720"/>
                <a:ext cx="1177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5"/>
              <p:cNvSpPr txBox="1"/>
              <p:nvPr/>
            </p:nvSpPr>
            <p:spPr>
              <a:xfrm>
                <a:off x="4284720" y="3054240"/>
                <a:ext cx="12031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5" name="Text Box 6"/>
          <p:cNvSpPr/>
          <p:nvPr/>
        </p:nvSpPr>
        <p:spPr>
          <a:xfrm>
            <a:off x="1401120" y="41958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ongitudina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4068720" y="415440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nsverza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900000" y="4809960"/>
            <a:ext cx="8001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zina mehaničkih talasa (zvuka) u vazdu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9"/>
              <p:cNvSpPr txBox="1"/>
              <p:nvPr/>
            </p:nvSpPr>
            <p:spPr>
              <a:xfrm>
                <a:off x="1476360" y="5373720"/>
                <a:ext cx="24861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79" name="Text Box 10"/>
          <p:cNvSpPr/>
          <p:nvPr/>
        </p:nvSpPr>
        <p:spPr>
          <a:xfrm>
            <a:off x="4281120" y="5445000"/>
            <a:ext cx="418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 5/3 za jednoatomske gas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 7/5 za dvoatomske gas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1"/>
              <p:cNvSpPr txBox="1"/>
              <p:nvPr/>
            </p:nvSpPr>
            <p:spPr>
              <a:xfrm>
                <a:off x="6746760" y="3430440"/>
                <a:ext cx="1497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2"/>
              <p:cNvSpPr txBox="1"/>
              <p:nvPr/>
            </p:nvSpPr>
            <p:spPr>
              <a:xfrm>
                <a:off x="6746760" y="3789360"/>
                <a:ext cx="1497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Text Box 13"/>
          <p:cNvSpPr/>
          <p:nvPr/>
        </p:nvSpPr>
        <p:spPr>
          <a:xfrm>
            <a:off x="6948360" y="3068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e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4"/>
              <p:cNvSpPr txBox="1"/>
              <p:nvPr/>
            </p:nvSpPr>
            <p:spPr>
              <a:xfrm>
                <a:off x="6777000" y="6237360"/>
                <a:ext cx="1827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m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Brzina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040" y="2362320"/>
            <a:ext cx="80010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Brzina elektromagnetskih talasa (svetlosti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5"/>
              <p:cNvSpPr txBox="1"/>
              <p:nvPr/>
            </p:nvSpPr>
            <p:spPr>
              <a:xfrm>
                <a:off x="2700360" y="3916440"/>
                <a:ext cx="844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1"/>
              <p:cNvSpPr txBox="1"/>
              <p:nvPr/>
            </p:nvSpPr>
            <p:spPr>
              <a:xfrm>
                <a:off x="3851280" y="3763800"/>
                <a:ext cx="3855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8" name="Text Box 14"/>
          <p:cNvSpPr/>
          <p:nvPr/>
        </p:nvSpPr>
        <p:spPr>
          <a:xfrm>
            <a:off x="3771360" y="431316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 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deks prelamanj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astajanje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stiranje talasa: svaka tačka radi isto što i susedna, samo malo kasn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liko kasnije: dok talas stigne od suseda do 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990720" y="44956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de sve to počinje? U izvoru tal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2857680" y="3549600"/>
                <a:ext cx="1153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3" name="Text Box 7"/>
          <p:cNvSpPr/>
          <p:nvPr/>
        </p:nvSpPr>
        <p:spPr>
          <a:xfrm>
            <a:off x="4097160" y="369396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šnjenje za sus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1140840" y="5124600"/>
            <a:ext cx="72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a tačka pogođena talasom ponavlja ponašanje iz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9"/>
              <p:cNvSpPr txBox="1"/>
              <p:nvPr/>
            </p:nvSpPr>
            <p:spPr>
              <a:xfrm>
                <a:off x="3060720" y="5759280"/>
                <a:ext cx="770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Text Box 10"/>
          <p:cNvSpPr/>
          <p:nvPr/>
        </p:nvSpPr>
        <p:spPr>
          <a:xfrm>
            <a:off x="4108680" y="590400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šnjenje za izvo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ranzijen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ntinualni talas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anzijent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040" y="23619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ranzijenti predstavljaju vremenski kratkotrajne poremećaje (udari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mpulsni tal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Group 10"/>
          <p:cNvGrpSpPr/>
          <p:nvPr/>
        </p:nvGrpSpPr>
        <p:grpSpPr>
          <a:xfrm>
            <a:off x="1371600" y="3962160"/>
            <a:ext cx="2057400" cy="1447920"/>
            <a:chOff x="1371600" y="3962160"/>
            <a:chExt cx="2057400" cy="1447920"/>
          </a:xfrm>
        </p:grpSpPr>
        <p:sp>
          <p:nvSpPr>
            <p:cNvPr id="402" name="Line 5"/>
            <p:cNvSpPr/>
            <p:nvPr/>
          </p:nvSpPr>
          <p:spPr>
            <a:xfrm>
              <a:off x="1371600" y="54100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6"/>
            <p:cNvSpPr/>
            <p:nvPr/>
          </p:nvSpPr>
          <p:spPr>
            <a:xfrm flipV="1">
              <a:off x="1981080" y="396216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7"/>
            <p:cNvSpPr/>
            <p:nvPr/>
          </p:nvSpPr>
          <p:spPr>
            <a:xfrm>
              <a:off x="1981080" y="39625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8"/>
            <p:cNvSpPr/>
            <p:nvPr/>
          </p:nvSpPr>
          <p:spPr>
            <a:xfrm>
              <a:off x="2743200" y="396252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9"/>
            <p:cNvSpPr/>
            <p:nvPr/>
          </p:nvSpPr>
          <p:spPr>
            <a:xfrm>
              <a:off x="2743200" y="5410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3581280" y="3733920"/>
            <a:ext cx="2590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in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tuda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janj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14"/>
              <p:cNvSpPr txBox="1"/>
              <p:nvPr/>
            </p:nvSpPr>
            <p:spPr>
              <a:xfrm>
                <a:off x="1905120" y="6095880"/>
                <a:ext cx="8953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cτ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9" name="Group 24"/>
          <p:cNvGrpSpPr/>
          <p:nvPr/>
        </p:nvGrpSpPr>
        <p:grpSpPr>
          <a:xfrm>
            <a:off x="1981080" y="5510160"/>
            <a:ext cx="762120" cy="281160"/>
            <a:chOff x="1981080" y="5510160"/>
            <a:chExt cx="762120" cy="281160"/>
          </a:xfrm>
        </p:grpSpPr>
        <p:sp>
          <p:nvSpPr>
            <p:cNvPr id="410" name="Line 15"/>
            <p:cNvSpPr/>
            <p:nvPr/>
          </p:nvSpPr>
          <p:spPr>
            <a:xfrm>
              <a:off x="1981080" y="5791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16"/>
                <p:cNvSpPr txBox="1"/>
                <p:nvPr/>
              </p:nvSpPr>
              <p:spPr>
                <a:xfrm>
                  <a:off x="2259000" y="5510160"/>
                  <a:ext cx="25560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2" name="Group 21"/>
          <p:cNvGrpSpPr/>
          <p:nvPr/>
        </p:nvGrpSpPr>
        <p:grpSpPr>
          <a:xfrm>
            <a:off x="1981080" y="4191120"/>
            <a:ext cx="762120" cy="331560"/>
            <a:chOff x="1981080" y="4191120"/>
            <a:chExt cx="762120" cy="331560"/>
          </a:xfrm>
        </p:grpSpPr>
        <p:sp>
          <p:nvSpPr>
            <p:cNvPr id="413" name="Line 17"/>
            <p:cNvSpPr/>
            <p:nvPr/>
          </p:nvSpPr>
          <p:spPr>
            <a:xfrm>
              <a:off x="1981080" y="44971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Object 18"/>
                <p:cNvSpPr txBox="1"/>
                <p:nvPr/>
              </p:nvSpPr>
              <p:spPr>
                <a:xfrm>
                  <a:off x="2246400" y="4191120"/>
                  <a:ext cx="28080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5" name="Group 23"/>
          <p:cNvGrpSpPr/>
          <p:nvPr/>
        </p:nvGrpSpPr>
        <p:grpSpPr>
          <a:xfrm>
            <a:off x="1219320" y="3962520"/>
            <a:ext cx="407880" cy="1523880"/>
            <a:chOff x="1219320" y="3962520"/>
            <a:chExt cx="407880" cy="1523880"/>
          </a:xfrm>
        </p:grpSpPr>
        <p:sp>
          <p:nvSpPr>
            <p:cNvPr id="416" name="Line 11"/>
            <p:cNvSpPr/>
            <p:nvPr/>
          </p:nvSpPr>
          <p:spPr>
            <a:xfrm>
              <a:off x="1219320" y="3962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Object 19"/>
                <p:cNvSpPr txBox="1"/>
                <p:nvPr/>
              </p:nvSpPr>
              <p:spPr>
                <a:xfrm>
                  <a:off x="1293840" y="4483080"/>
                  <a:ext cx="3333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8" name="Group 25"/>
          <p:cNvGrpSpPr/>
          <p:nvPr/>
        </p:nvGrpSpPr>
        <p:grpSpPr>
          <a:xfrm>
            <a:off x="2743200" y="4419720"/>
            <a:ext cx="533520" cy="304560"/>
            <a:chOff x="2743200" y="4419720"/>
            <a:chExt cx="533520" cy="304560"/>
          </a:xfrm>
        </p:grpSpPr>
        <p:sp>
          <p:nvSpPr>
            <p:cNvPr id="419" name="Line 20"/>
            <p:cNvSpPr/>
            <p:nvPr/>
          </p:nvSpPr>
          <p:spPr>
            <a:xfrm>
              <a:off x="2743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Object 22"/>
                <p:cNvSpPr txBox="1"/>
                <p:nvPr/>
              </p:nvSpPr>
              <p:spPr>
                <a:xfrm>
                  <a:off x="2894040" y="4419720"/>
                  <a:ext cx="23004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1" name="Rectangle 26"/>
          <p:cNvSpPr/>
          <p:nvPr/>
        </p:nvSpPr>
        <p:spPr>
          <a:xfrm>
            <a:off x="3581280" y="37339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rakterist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7"/>
          <p:cNvSpPr/>
          <p:nvPr/>
        </p:nvSpPr>
        <p:spPr>
          <a:xfrm>
            <a:off x="6095880" y="36576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janj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tudu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nu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8"/>
          <p:cNvSpPr/>
          <p:nvPr/>
        </p:nvSpPr>
        <p:spPr>
          <a:xfrm>
            <a:off x="6095880" y="36576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vor određ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9"/>
          <p:cNvSpPr/>
          <p:nvPr/>
        </p:nvSpPr>
        <p:spPr>
          <a:xfrm>
            <a:off x="6019920" y="5181480"/>
            <a:ext cx="259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inu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užinu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0"/>
          <p:cNvSpPr/>
          <p:nvPr/>
        </p:nvSpPr>
        <p:spPr>
          <a:xfrm>
            <a:off x="6019920" y="51814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redina određ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Kontinual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ntinualni talasi predstavljaju poremećaje koje izvor talasa generiše u dužem vremenskom  period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eriodič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eriodični talasi predstavljaju poremećaje koje izvor talasa generiše na isti način u pravilnim vremenskim interval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vor određuj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iod talasa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ekvenc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alasa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ru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rekvenc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u talasa </a:t>
            </a:r>
            <a:r>
              <a:rPr b="0" lang="hr-HR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Periodič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040" y="52574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redina određu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lasn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u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alasni vek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" name="Picture 4" descr="perioodicniTalas"/>
          <p:cNvPicPr/>
          <p:nvPr/>
        </p:nvPicPr>
        <p:blipFill>
          <a:blip r:embed="rId1"/>
          <a:srcRect l="0" t="28465" r="0" b="22371"/>
          <a:stretch/>
        </p:blipFill>
        <p:spPr>
          <a:xfrm>
            <a:off x="1143000" y="2362320"/>
            <a:ext cx="4670280" cy="144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3" name="Object 5"/>
              <p:cNvSpPr txBox="1"/>
              <p:nvPr/>
            </p:nvSpPr>
            <p:spPr>
              <a:xfrm>
                <a:off x="1084320" y="4038480"/>
                <a:ext cx="10605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6"/>
              <p:cNvSpPr txBox="1"/>
              <p:nvPr/>
            </p:nvSpPr>
            <p:spPr>
              <a:xfrm>
                <a:off x="2362320" y="3809880"/>
                <a:ext cx="8334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7"/>
              <p:cNvSpPr txBox="1"/>
              <p:nvPr/>
            </p:nvSpPr>
            <p:spPr>
              <a:xfrm>
                <a:off x="4361040" y="3809880"/>
                <a:ext cx="2576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8"/>
              <p:cNvSpPr txBox="1"/>
              <p:nvPr/>
            </p:nvSpPr>
            <p:spPr>
              <a:xfrm>
                <a:off x="7499520" y="3835440"/>
                <a:ext cx="958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Harmonijsk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040" y="23623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eriodični talas čiji je profil harmonijska funk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752480" y="3276720"/>
                <a:ext cx="35308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6095880" y="3276720"/>
                <a:ext cx="12272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ϕ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1" name="Line 8"/>
          <p:cNvSpPr/>
          <p:nvPr/>
        </p:nvSpPr>
        <p:spPr>
          <a:xfrm>
            <a:off x="54864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5037120" y="2790720"/>
                <a:ext cx="29638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3" name="Picture 10" descr="D:\SoskicZ Documents\Nastava\Fizika\Predavanja\HAR_TAL.BMP"/>
          <p:cNvPicPr/>
          <p:nvPr/>
        </p:nvPicPr>
        <p:blipFill>
          <a:blip r:embed="rId1"/>
          <a:srcRect l="12964" t="11110" r="12964" b="44449"/>
          <a:stretch/>
        </p:blipFill>
        <p:spPr>
          <a:xfrm>
            <a:off x="1447920" y="4076640"/>
            <a:ext cx="4724280" cy="216072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13"/>
          <p:cNvGrpSpPr/>
          <p:nvPr/>
        </p:nvGrpSpPr>
        <p:grpSpPr>
          <a:xfrm>
            <a:off x="2971800" y="4272120"/>
            <a:ext cx="1143000" cy="358560"/>
            <a:chOff x="2971800" y="4272120"/>
            <a:chExt cx="1143000" cy="358560"/>
          </a:xfrm>
        </p:grpSpPr>
        <p:sp>
          <p:nvSpPr>
            <p:cNvPr id="445" name="Line 11"/>
            <p:cNvSpPr/>
            <p:nvPr/>
          </p:nvSpPr>
          <p:spPr>
            <a:xfrm>
              <a:off x="2971800" y="4478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Object 10"/>
                <p:cNvSpPr txBox="1"/>
                <p:nvPr/>
              </p:nvSpPr>
              <p:spPr>
                <a:xfrm>
                  <a:off x="3352680" y="4272120"/>
                  <a:ext cx="28116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7" name="Group 14"/>
          <p:cNvGrpSpPr/>
          <p:nvPr/>
        </p:nvGrpSpPr>
        <p:grpSpPr>
          <a:xfrm>
            <a:off x="3505320" y="5326200"/>
            <a:ext cx="1143000" cy="358560"/>
            <a:chOff x="3505320" y="5326200"/>
            <a:chExt cx="1143000" cy="358560"/>
          </a:xfrm>
        </p:grpSpPr>
        <p:sp>
          <p:nvSpPr>
            <p:cNvPr id="448" name="Line 15"/>
            <p:cNvSpPr/>
            <p:nvPr/>
          </p:nvSpPr>
          <p:spPr>
            <a:xfrm>
              <a:off x="3505320" y="5532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Object 9"/>
                <p:cNvSpPr txBox="1"/>
                <p:nvPr/>
              </p:nvSpPr>
              <p:spPr>
                <a:xfrm>
                  <a:off x="3886200" y="5326200"/>
                  <a:ext cx="28116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0" name="Group 17"/>
          <p:cNvGrpSpPr/>
          <p:nvPr/>
        </p:nvGrpSpPr>
        <p:grpSpPr>
          <a:xfrm>
            <a:off x="4343400" y="4846680"/>
            <a:ext cx="1143000" cy="358560"/>
            <a:chOff x="4343400" y="4846680"/>
            <a:chExt cx="1143000" cy="358560"/>
          </a:xfrm>
        </p:grpSpPr>
        <p:sp>
          <p:nvSpPr>
            <p:cNvPr id="451" name="Line 18"/>
            <p:cNvSpPr/>
            <p:nvPr/>
          </p:nvSpPr>
          <p:spPr>
            <a:xfrm>
              <a:off x="4343400" y="5052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2" name="Object 8"/>
                <p:cNvSpPr txBox="1"/>
                <p:nvPr/>
              </p:nvSpPr>
              <p:spPr>
                <a:xfrm>
                  <a:off x="4724280" y="4846680"/>
                  <a:ext cx="28116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3" name="Object 6"/>
              <p:cNvSpPr txBox="1"/>
              <p:nvPr/>
            </p:nvSpPr>
            <p:spPr>
              <a:xfrm>
                <a:off x="1778040" y="2743200"/>
                <a:ext cx="2968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54" name="Object 7"/>
          <p:cNvGraphicFramePr/>
          <p:nvPr/>
        </p:nvGraphicFramePr>
        <p:xfrm>
          <a:off x="6523200" y="4586400"/>
          <a:ext cx="12715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3200" y="4586400"/>
                    <a:ext cx="1271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572314"/>
                </a:solidFill>
                <a:latin typeface="Gill Sans MT"/>
              </a:rPr>
              <a:t>Navijački tal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1028" descr="peoplewave"/>
          <p:cNvPicPr/>
          <p:nvPr/>
        </p:nvPicPr>
        <p:blipFill>
          <a:blip r:embed="rId1"/>
          <a:stretch/>
        </p:blipFill>
        <p:spPr>
          <a:xfrm>
            <a:off x="965160" y="3733920"/>
            <a:ext cx="7211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urijeova analiza i spektar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14040" y="2361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snovna tez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talas se može predstaviti kao zbir harmonijskih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Furijeova analiza omogućava da se odredi od kakvih harmonijskih talasa je sastavljen neki tal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Frekvenc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mplitud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Početna faz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Spektar je skup svih komponenti koje sačinjavaju jedan tal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urijeova analiza i spektar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42560" y="236196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mplitudno-frekventni spekt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kazuje amplitude komponenti prema njihovim frekvenc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979560" y="4495680"/>
            <a:ext cx="4952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azno-frekventni (fazni) spek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kazuje početne faze komponenti prema njihovim frekvenc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icture 6" descr="D:\SoskicZ Documents\Nastava\Fizika\Predavanja\am-frek.bmp"/>
          <p:cNvPicPr/>
          <p:nvPr/>
        </p:nvPicPr>
        <p:blipFill>
          <a:blip r:embed="rId1"/>
          <a:srcRect l="7106" t="13397" r="10016" b="0"/>
          <a:stretch/>
        </p:blipFill>
        <p:spPr>
          <a:xfrm>
            <a:off x="6008760" y="2438280"/>
            <a:ext cx="2666880" cy="1970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D:\SoskicZ Documents\Nastava\Fizika\Predavanja\faz-frek.bmp"/>
          <p:cNvPicPr/>
          <p:nvPr/>
        </p:nvPicPr>
        <p:blipFill>
          <a:blip r:embed="rId2"/>
          <a:srcRect l="4734" t="6698" r="10016" b="6207"/>
          <a:stretch/>
        </p:blipFill>
        <p:spPr>
          <a:xfrm>
            <a:off x="5932440" y="457200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urijeova analiza i spektar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4" name="Picture 8" descr="D:\My Documents\Nastava\Fizika\Stof\4\FFT-1a.gif"/>
          <p:cNvPicPr/>
          <p:nvPr/>
        </p:nvPicPr>
        <p:blipFill>
          <a:blip r:embed="rId1"/>
          <a:stretch/>
        </p:blipFill>
        <p:spPr>
          <a:xfrm>
            <a:off x="1200240" y="1989000"/>
            <a:ext cx="7619760" cy="2248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D:\My Documents\Nastava\Fizika\Stof\4\FFT-1b.gif"/>
          <p:cNvPicPr/>
          <p:nvPr/>
        </p:nvPicPr>
        <p:blipFill>
          <a:blip r:embed="rId2"/>
          <a:stretch/>
        </p:blipFill>
        <p:spPr>
          <a:xfrm>
            <a:off x="1200240" y="4218120"/>
            <a:ext cx="7619760" cy="22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5"/>
          <p:cNvGraphicFramePr/>
          <p:nvPr/>
        </p:nvGraphicFramePr>
        <p:xfrm>
          <a:off x="5797440" y="2428920"/>
          <a:ext cx="165420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7440" y="2428920"/>
                    <a:ext cx="16542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6"/>
          <p:cNvGraphicFramePr/>
          <p:nvPr/>
        </p:nvGraphicFramePr>
        <p:xfrm>
          <a:off x="5700600" y="4689360"/>
          <a:ext cx="3335400" cy="3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4689360"/>
                    <a:ext cx="33354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Oblic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Furijeova analiza i spektar talas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153800" y="49525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Blage i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stoje samo komponente talasa niskih frekvenc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Oštre i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stoje i komponente talasa visokih frekvenc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2" name="Picture 5" descr="D:\My Documents\Nastava\Fizika\Stof\4\FFT-1j.gif"/>
          <p:cNvPicPr/>
          <p:nvPr/>
        </p:nvPicPr>
        <p:blipFill>
          <a:blip r:embed="rId1"/>
          <a:srcRect l="1871" t="0" r="2802" b="0"/>
          <a:stretch/>
        </p:blipFill>
        <p:spPr>
          <a:xfrm>
            <a:off x="1001880" y="2354400"/>
            <a:ext cx="81532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rekvence zvučnih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963360" y="2362320"/>
            <a:ext cx="80010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vuk su mehanički talasi na koje je osetljivo ljudsko uh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Longitudinalni, jer uho ispunjava flui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2738520" y="3718080"/>
            <a:ext cx="2879640" cy="2174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1009800" y="3719520"/>
            <a:ext cx="172872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3798360" y="3214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v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9"/>
          <p:cNvSpPr/>
          <p:nvPr/>
        </p:nvSpPr>
        <p:spPr>
          <a:xfrm>
            <a:off x="1098720" y="31892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frazv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6787800" y="31431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ltrazv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771480" y="4006800"/>
                <a:ext cx="655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2"/>
              <p:cNvSpPr txBox="1"/>
              <p:nvPr/>
            </p:nvSpPr>
            <p:spPr>
              <a:xfrm>
                <a:off x="2378160" y="4006800"/>
                <a:ext cx="7826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AutoShape 13"/>
          <p:cNvSpPr/>
          <p:nvPr/>
        </p:nvSpPr>
        <p:spPr>
          <a:xfrm>
            <a:off x="5618160" y="3603600"/>
            <a:ext cx="3240000" cy="432000"/>
          </a:xfrm>
          <a:prstGeom prst="rightArrow">
            <a:avLst>
              <a:gd name="adj1" fmla="val 50000"/>
              <a:gd name="adj2" fmla="val 18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14"/>
              <p:cNvSpPr txBox="1"/>
              <p:nvPr/>
            </p:nvSpPr>
            <p:spPr>
              <a:xfrm>
                <a:off x="5203800" y="3935520"/>
                <a:ext cx="909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15"/>
              <p:cNvSpPr txBox="1"/>
              <p:nvPr/>
            </p:nvSpPr>
            <p:spPr>
              <a:xfrm>
                <a:off x="2438280" y="4384800"/>
                <a:ext cx="6811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16"/>
              <p:cNvSpPr txBox="1"/>
              <p:nvPr/>
            </p:nvSpPr>
            <p:spPr>
              <a:xfrm>
                <a:off x="5218200" y="4357800"/>
                <a:ext cx="9079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Rectangle 3"/>
          <p:cNvSpPr/>
          <p:nvPr/>
        </p:nvSpPr>
        <p:spPr>
          <a:xfrm>
            <a:off x="1000080" y="4714920"/>
            <a:ext cx="35719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Infrazv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Niske frekv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Velike tal. duž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iska energ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Širenje pri prostiran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g do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5500800" y="4714920"/>
            <a:ext cx="35719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ltra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zv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soke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 frekv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ratke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 tal. duž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soka energ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avolinijsko prostir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ka apsorp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Talasne dužine EM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14040" y="2361960"/>
            <a:ext cx="80010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etlost predstavljaju elektromagnetski talasi na koje je osetljivo ljudsko ok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900000" y="319392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ma talasnoj duž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7dec9"/>
                </a:solidFill>
                <a:latin typeface="Arial"/>
              </a:rPr>
              <a:t>Radio talasi ( </a:t>
            </a:r>
            <a:r>
              <a:rPr b="0" lang="hr-HR" sz="2400" spc="-1" strike="noStrike">
                <a:solidFill>
                  <a:srgbClr val="e7dec9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e7dec9"/>
                </a:solidFill>
                <a:latin typeface="Arial"/>
              </a:rPr>
              <a:t> &gt; 1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Mikrotalasi (100 cm &gt; </a:t>
            </a:r>
            <a:r>
              <a:rPr b="0" lang="hr-HR" sz="2400" spc="-1" strike="noStrike">
                <a:solidFill>
                  <a:srgbClr val="cc00cc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 &gt; 0,1 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Infracrveni zraci (100 </a:t>
            </a:r>
            <a:r>
              <a:rPr b="0" lang="hr-HR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m &gt; </a:t>
            </a:r>
            <a:r>
              <a:rPr b="0" lang="hr-HR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&gt; 0,8 </a:t>
            </a:r>
            <a:r>
              <a:rPr b="0" lang="hr-HR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f271c"/>
                </a:solidFill>
                <a:latin typeface="Arial"/>
              </a:rPr>
              <a:t>Svetlosni zraci (780 nm &gt; </a:t>
            </a:r>
            <a:r>
              <a:rPr b="0" lang="hr-HR" sz="2400" spc="-1" strike="noStrike">
                <a:solidFill>
                  <a:srgbClr val="4f271c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4f271c"/>
                </a:solidFill>
                <a:latin typeface="Arial"/>
              </a:rPr>
              <a:t> &gt; 330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66ff"/>
                </a:solidFill>
                <a:latin typeface="Arial"/>
              </a:rPr>
              <a:t>Ultraljubičasti zraci (330 nm &gt; </a:t>
            </a:r>
            <a:r>
              <a:rPr b="0" lang="hr-HR" sz="24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0066ff"/>
                </a:solidFill>
                <a:latin typeface="Arial"/>
              </a:rPr>
              <a:t> &gt; 10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Rendgenski zraci (10 nm &gt; </a:t>
            </a:r>
            <a:r>
              <a:rPr b="0" lang="hr-HR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 &gt; 1 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Gama zraci (</a:t>
            </a:r>
            <a:r>
              <a:rPr b="0" lang="hr-HR" sz="24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&lt; 1 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ojam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040" y="2361960"/>
            <a:ext cx="80010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stiranje porem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ja kroz materij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utra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je 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retanje siste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stiranje porem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ćaja je moguć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kroz tela i kroz fizi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a pol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4" descr="ProfilTalasa"/>
          <p:cNvPicPr/>
          <p:nvPr/>
        </p:nvPicPr>
        <p:blipFill>
          <a:blip r:embed="rId1"/>
          <a:stretch/>
        </p:blipFill>
        <p:spPr>
          <a:xfrm>
            <a:off x="5105520" y="4191120"/>
            <a:ext cx="3500280" cy="22082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900000" y="4221000"/>
            <a:ext cx="8001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am profila ta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jam brzine ta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ina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faz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Fazn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ina tal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ije isto što i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grupn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rste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ehanički talas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nutrašnje kretanje deformabilnog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remećaj je kretanje delova te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avijački tal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orski tal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rostiranje udara kroz te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vu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Kod mehaničkih talasa se sredina kroz koju se prostire talas zaista kreće i deformiš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rste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040" y="2361960"/>
            <a:ext cx="800100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lektromagnetski talas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oremećaj polja, a ne tel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omene jačine električnog i magnetskog pol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vetl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1476360" y="5086440"/>
            <a:ext cx="431640" cy="431640"/>
          </a:xfrm>
          <a:prstGeom prst="irregularSeal1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6"/>
          <p:cNvSpPr/>
          <p:nvPr/>
        </p:nvSpPr>
        <p:spPr>
          <a:xfrm flipV="1">
            <a:off x="2124000" y="4726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 flipV="1">
            <a:off x="2413080" y="4726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2268360" y="4726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1"/>
              <p:cNvSpPr txBox="1"/>
              <p:nvPr/>
            </p:nvSpPr>
            <p:spPr>
              <a:xfrm>
                <a:off x="2124000" y="4221000"/>
                <a:ext cx="308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42" name="Group 15"/>
          <p:cNvGrpSpPr/>
          <p:nvPr/>
        </p:nvGrpSpPr>
        <p:grpSpPr>
          <a:xfrm>
            <a:off x="2916360" y="4726080"/>
            <a:ext cx="288720" cy="576000"/>
            <a:chOff x="2916360" y="4726080"/>
            <a:chExt cx="288720" cy="576000"/>
          </a:xfrm>
        </p:grpSpPr>
        <p:sp>
          <p:nvSpPr>
            <p:cNvPr id="343" name="Line 12"/>
            <p:cNvSpPr/>
            <p:nvPr/>
          </p:nvSpPr>
          <p:spPr>
            <a:xfrm flipV="1">
              <a:off x="2916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3"/>
            <p:cNvSpPr/>
            <p:nvPr/>
          </p:nvSpPr>
          <p:spPr>
            <a:xfrm flipV="1">
              <a:off x="320508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4"/>
            <p:cNvSpPr/>
            <p:nvPr/>
          </p:nvSpPr>
          <p:spPr>
            <a:xfrm flipV="1">
              <a:off x="3060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6"/>
          <p:cNvGrpSpPr/>
          <p:nvPr/>
        </p:nvGrpSpPr>
        <p:grpSpPr>
          <a:xfrm>
            <a:off x="3780000" y="4726080"/>
            <a:ext cx="288720" cy="576000"/>
            <a:chOff x="3780000" y="4726080"/>
            <a:chExt cx="288720" cy="576000"/>
          </a:xfrm>
        </p:grpSpPr>
        <p:sp>
          <p:nvSpPr>
            <p:cNvPr id="347" name="Line 17"/>
            <p:cNvSpPr/>
            <p:nvPr/>
          </p:nvSpPr>
          <p:spPr>
            <a:xfrm flipV="1">
              <a:off x="378000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 flipV="1">
              <a:off x="4068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9"/>
            <p:cNvSpPr/>
            <p:nvPr/>
          </p:nvSpPr>
          <p:spPr>
            <a:xfrm flipV="1">
              <a:off x="3924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24"/>
          <p:cNvGrpSpPr/>
          <p:nvPr/>
        </p:nvGrpSpPr>
        <p:grpSpPr>
          <a:xfrm>
            <a:off x="4572000" y="4726080"/>
            <a:ext cx="288720" cy="576000"/>
            <a:chOff x="4572000" y="4726080"/>
            <a:chExt cx="288720" cy="576000"/>
          </a:xfrm>
        </p:grpSpPr>
        <p:sp>
          <p:nvSpPr>
            <p:cNvPr id="351" name="Line 25"/>
            <p:cNvSpPr/>
            <p:nvPr/>
          </p:nvSpPr>
          <p:spPr>
            <a:xfrm flipV="1">
              <a:off x="457200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6"/>
            <p:cNvSpPr/>
            <p:nvPr/>
          </p:nvSpPr>
          <p:spPr>
            <a:xfrm flipV="1">
              <a:off x="4860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7"/>
            <p:cNvSpPr/>
            <p:nvPr/>
          </p:nvSpPr>
          <p:spPr>
            <a:xfrm flipV="1">
              <a:off x="4716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Line 28"/>
          <p:cNvSpPr/>
          <p:nvPr/>
        </p:nvSpPr>
        <p:spPr>
          <a:xfrm>
            <a:off x="2050920" y="530208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9"/>
              <p:cNvSpPr txBox="1"/>
              <p:nvPr/>
            </p:nvSpPr>
            <p:spPr>
              <a:xfrm>
                <a:off x="6122880" y="5148360"/>
                <a:ext cx="2304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Rectangle 30"/>
          <p:cNvSpPr/>
          <p:nvPr/>
        </p:nvSpPr>
        <p:spPr>
          <a:xfrm>
            <a:off x="971640" y="5661000"/>
            <a:ext cx="8001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redina kroz koju se kreće elektromagnetski talas se ne po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ipovi talas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verzal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Longitu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naln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ešovi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ipov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ansverzal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040" y="1981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ransverzalni talasi su oni kod kojih je poremećaj normalan na pravac prostiranja talas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vijački talas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alasi na struni (bič, tepih koji se trese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vetlost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6" descr="peoplewave"/>
          <p:cNvPicPr/>
          <p:nvPr/>
        </p:nvPicPr>
        <p:blipFill>
          <a:blip r:embed="rId1"/>
          <a:stretch/>
        </p:blipFill>
        <p:spPr>
          <a:xfrm>
            <a:off x="965160" y="3809880"/>
            <a:ext cx="7211880" cy="1611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stringpulse"/>
          <p:cNvPicPr/>
          <p:nvPr/>
        </p:nvPicPr>
        <p:blipFill>
          <a:blip r:embed="rId2"/>
          <a:stretch/>
        </p:blipFill>
        <p:spPr>
          <a:xfrm>
            <a:off x="2325600" y="5516640"/>
            <a:ext cx="44928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ipov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ransverzal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981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lektromagnetski talas predstavlja i talas električnog i magnetskog polja, i oba su transverzal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Picture 6" descr="EMTalas"/>
          <p:cNvPicPr/>
          <p:nvPr/>
        </p:nvPicPr>
        <p:blipFill>
          <a:blip r:embed="rId1"/>
          <a:stretch/>
        </p:blipFill>
        <p:spPr>
          <a:xfrm>
            <a:off x="900000" y="3068640"/>
            <a:ext cx="762012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ipovi talasa</a:t>
            </a:r>
            <a:br>
              <a:rPr sz="3900"/>
            </a:b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Long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t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d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i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n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</a:t>
            </a: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lni talasi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040" y="23623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Longitudinalni talasi su oni kod kojih je poremećaj paralelan pravcu prostiranja tal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olazak vago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vu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6" descr="wavepulse"/>
          <p:cNvPicPr/>
          <p:nvPr/>
        </p:nvPicPr>
        <p:blipFill>
          <a:blip r:embed="rId1"/>
          <a:stretch/>
        </p:blipFill>
        <p:spPr>
          <a:xfrm>
            <a:off x="1846440" y="4378320"/>
            <a:ext cx="54511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3:28:25Z</dcterms:created>
  <dc:creator>Zlatan Soskic</dc:creator>
  <dc:description/>
  <dc:language>en-US</dc:language>
  <cp:lastModifiedBy>Zlatan Soskic</cp:lastModifiedBy>
  <dcterms:modified xsi:type="dcterms:W3CDTF">2019-12-10T10:21:28Z</dcterms:modified>
  <cp:revision>496</cp:revision>
  <dc:subject/>
  <dc:title>Talasi</dc:title>
</cp:coreProperties>
</file>