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CCE-2D2F-4BDE-B56E-DBF6260F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088-EB47-4D8C-B7A3-4D86583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E0D-9376-422B-8AC1-7B97CF10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43D-7CA9-4851-A4C6-F0DE48AA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3ED-CC74-4A63-A7AD-4FCD1CC4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2ED-DC3E-4677-98BF-2CCFF16F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053-E962-4648-9856-9B1E05A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F64-9A45-443C-A86C-E18E0A8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E5D-A0F2-4722-8CAD-6170711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B3C-123A-4FF7-8977-20E6734E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FAC-A237-4290-8B67-34C374BE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83B-0167-4C76-B11F-CBBA69A9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7BE-D0B9-40BF-84FE-813C22A9E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ffff"/>
                </a:solidFill>
                <a:latin typeface="Arial"/>
              </a:rPr>
              <a:t>Naizmenične stru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Električna kola naizmenične električne stru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 kolo sa kondenzat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leksno opis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914400" y="1905120"/>
                <a:ext cx="7129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↦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U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868320" y="2362320"/>
                <a:ext cx="6675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↦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96760" y="3048120"/>
                <a:ext cx="72565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914400" y="3836880"/>
                <a:ext cx="6953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U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08360" y="4827600"/>
                <a:ext cx="1365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r>
                      <m:t xml:space="preserve">jωC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664080" y="5565600"/>
                <a:ext cx="14414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 kolo sa kale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39880" y="1843200"/>
            <a:ext cx="231120" cy="368280"/>
            <a:chOff x="839880" y="1843200"/>
            <a:chExt cx="231120" cy="368280"/>
          </a:xfrm>
        </p:grpSpPr>
        <p:sp>
          <p:nvSpPr>
            <p:cNvPr id="252" name=""/>
            <p:cNvSpPr/>
            <p:nvPr/>
          </p:nvSpPr>
          <p:spPr>
            <a:xfrm>
              <a:off x="914400" y="22096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9880" y="184320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85800" y="2209680"/>
            <a:ext cx="1523880" cy="534960"/>
            <a:chOff x="685800" y="2209680"/>
            <a:chExt cx="1523880" cy="534960"/>
          </a:xfrm>
        </p:grpSpPr>
        <p:sp>
          <p:nvSpPr>
            <p:cNvPr id="255" name=""/>
            <p:cNvSpPr/>
            <p:nvPr/>
          </p:nvSpPr>
          <p:spPr>
            <a:xfrm>
              <a:off x="68580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096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" y="2568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81600" y="237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692440" y="1828800"/>
                <a:ext cx="1339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05320" y="1944720"/>
                <a:ext cx="2630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3429000" y="2514240"/>
            <a:ext cx="2286000" cy="533880"/>
            <a:chOff x="3429000" y="2514240"/>
            <a:chExt cx="2286000" cy="533880"/>
          </a:xfrm>
        </p:grpSpPr>
        <p:sp>
          <p:nvSpPr>
            <p:cNvPr id="262" name=""/>
            <p:cNvSpPr/>
            <p:nvPr/>
          </p:nvSpPr>
          <p:spPr>
            <a:xfrm>
              <a:off x="4191120" y="2743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9000" y="2743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42900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71500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20600" y="3025800"/>
                <a:ext cx="6294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027320" y="3670200"/>
                <a:ext cx="2754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85800" y="3962520"/>
                <a:ext cx="2476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106880" y="3962520"/>
                <a:ext cx="3564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526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4572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191120" y="5105520"/>
            <a:ext cx="1752480" cy="1143000"/>
            <a:chOff x="4191120" y="5105520"/>
            <a:chExt cx="1752480" cy="114300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4411800" y="5167440"/>
                  <a:ext cx="11127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4349880" y="5410080"/>
                  <a:ext cx="1288800" cy="78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ψ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4191120" y="5105520"/>
              <a:ext cx="1752480" cy="1143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mensko opisivanje – analitički pri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85800" y="1828800"/>
            <a:ext cx="1523880" cy="600120"/>
            <a:chOff x="685800" y="1828800"/>
            <a:chExt cx="1523880" cy="600120"/>
          </a:xfrm>
        </p:grpSpPr>
        <p:sp>
          <p:nvSpPr>
            <p:cNvPr id="278" name=""/>
            <p:cNvSpPr/>
            <p:nvPr/>
          </p:nvSpPr>
          <p:spPr>
            <a:xfrm>
              <a:off x="685800" y="2209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0200" y="2209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0000" y="182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24000" y="1967040"/>
              <a:ext cx="404640" cy="4618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0" y="153"/>
                  </a:moveTo>
                  <a:cubicBezTo>
                    <a:pt x="3" y="124"/>
                    <a:pt x="10" y="47"/>
                    <a:pt x="33" y="24"/>
                  </a:cubicBezTo>
                  <a:cubicBezTo>
                    <a:pt x="43" y="14"/>
                    <a:pt x="58" y="11"/>
                    <a:pt x="69" y="0"/>
                  </a:cubicBezTo>
                  <a:cubicBezTo>
                    <a:pt x="94" y="4"/>
                    <a:pt x="82" y="0"/>
                    <a:pt x="105" y="15"/>
                  </a:cubicBezTo>
                  <a:cubicBezTo>
                    <a:pt x="108" y="17"/>
                    <a:pt x="114" y="21"/>
                    <a:pt x="114" y="21"/>
                  </a:cubicBezTo>
                  <a:cubicBezTo>
                    <a:pt x="127" y="59"/>
                    <a:pt x="145" y="96"/>
                    <a:pt x="153" y="135"/>
                  </a:cubicBezTo>
                  <a:cubicBezTo>
                    <a:pt x="152" y="184"/>
                    <a:pt x="165" y="237"/>
                    <a:pt x="129" y="273"/>
                  </a:cubicBezTo>
                  <a:cubicBezTo>
                    <a:pt x="125" y="285"/>
                    <a:pt x="120" y="287"/>
                    <a:pt x="108" y="291"/>
                  </a:cubicBezTo>
                  <a:cubicBezTo>
                    <a:pt x="102" y="290"/>
                    <a:pt x="91" y="288"/>
                    <a:pt x="87" y="282"/>
                  </a:cubicBezTo>
                  <a:cubicBezTo>
                    <a:pt x="84" y="277"/>
                    <a:pt x="81" y="264"/>
                    <a:pt x="81" y="264"/>
                  </a:cubicBezTo>
                  <a:cubicBezTo>
                    <a:pt x="82" y="218"/>
                    <a:pt x="63" y="90"/>
                    <a:pt x="114" y="39"/>
                  </a:cubicBezTo>
                  <a:cubicBezTo>
                    <a:pt x="118" y="27"/>
                    <a:pt x="132" y="14"/>
                    <a:pt x="144" y="9"/>
                  </a:cubicBezTo>
                  <a:cubicBezTo>
                    <a:pt x="150" y="6"/>
                    <a:pt x="162" y="3"/>
                    <a:pt x="162" y="3"/>
                  </a:cubicBezTo>
                  <a:cubicBezTo>
                    <a:pt x="190" y="7"/>
                    <a:pt x="177" y="2"/>
                    <a:pt x="201" y="18"/>
                  </a:cubicBezTo>
                  <a:cubicBezTo>
                    <a:pt x="204" y="20"/>
                    <a:pt x="210" y="24"/>
                    <a:pt x="210" y="24"/>
                  </a:cubicBezTo>
                  <a:cubicBezTo>
                    <a:pt x="233" y="58"/>
                    <a:pt x="239" y="90"/>
                    <a:pt x="249" y="129"/>
                  </a:cubicBezTo>
                  <a:cubicBezTo>
                    <a:pt x="252" y="157"/>
                    <a:pt x="246" y="150"/>
                    <a:pt x="255" y="1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838080" y="1620720"/>
            <a:ext cx="6324840" cy="5085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 kolo sa kale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6019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mensko opisivanje - grafički pri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674800" y="1828800"/>
            <a:ext cx="883440" cy="838080"/>
            <a:chOff x="2674800" y="1828800"/>
            <a:chExt cx="883440" cy="838080"/>
          </a:xfrm>
        </p:grpSpPr>
        <p:sp>
          <p:nvSpPr>
            <p:cNvPr id="286" name=""/>
            <p:cNvSpPr/>
            <p:nvPr/>
          </p:nvSpPr>
          <p:spPr>
            <a:xfrm flipV="1">
              <a:off x="2674800" y="2209680"/>
              <a:ext cx="457200" cy="457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55040" y="1828800"/>
              <a:ext cx="403200" cy="405720"/>
            </a:xfrm>
            <a:prstGeom prst="rect">
              <a:avLst/>
            </a:prstGeom>
            <a:noFill/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7d"/>
                  </a:solidFill>
                  <a:latin typeface="Arial"/>
                </a:rPr>
                <a:t>u</a:t>
              </a:r>
              <a:r>
                <a:rPr b="0" lang="sr-Latn-CS" sz="1800" spc="-1" strike="noStrike" baseline="-25000">
                  <a:solidFill>
                    <a:srgbClr val="00007d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27840" y="1905120"/>
            <a:ext cx="807120" cy="838080"/>
            <a:chOff x="6027840" y="1905120"/>
            <a:chExt cx="807120" cy="838080"/>
          </a:xfrm>
        </p:grpSpPr>
        <p:sp>
          <p:nvSpPr>
            <p:cNvPr id="289" name=""/>
            <p:cNvSpPr/>
            <p:nvPr/>
          </p:nvSpPr>
          <p:spPr>
            <a:xfrm flipV="1">
              <a:off x="6027840" y="228600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7720" y="1905120"/>
              <a:ext cx="327240" cy="405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 kolo sa kale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zorsko opis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46483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1523520" y="2666880"/>
            <a:ext cx="1143000" cy="1981440"/>
          </a:xfrm>
          <a:prstGeom prst="line">
            <a:avLst/>
          </a:prstGeom>
          <a:ln w="284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73040" y="3506760"/>
            <a:ext cx="25905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2" y="1139"/>
                </a:moveTo>
                <a:arcTo wR="10800" hR="10800" stAng="-6993374" swAng="6993374"/>
                <a:lnTo>
                  <a:pt x="10800" y="10800"/>
                </a:lnTo>
                <a:close/>
              </a:path>
              <a:path fill="none" w="21600" h="21600">
                <a:moveTo>
                  <a:pt x="5972" y="1139"/>
                </a:moveTo>
                <a:arcTo wR="10800" hR="10800" stAng="-6993374" swAng="6993374"/>
              </a:path>
            </a:pathLst>
          </a:cu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74920" y="3581280"/>
                <a:ext cx="977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655640" y="3241800"/>
                <a:ext cx="8305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33440" y="2286000"/>
                <a:ext cx="333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2666880" y="3529080"/>
            <a:ext cx="1905120" cy="1119240"/>
            <a:chOff x="2666880" y="3529080"/>
            <a:chExt cx="1905120" cy="1119240"/>
          </a:xfrm>
        </p:grpSpPr>
        <p:sp>
          <p:nvSpPr>
            <p:cNvPr id="300" name=""/>
            <p:cNvSpPr/>
            <p:nvPr/>
          </p:nvSpPr>
          <p:spPr>
            <a:xfrm flipV="1">
              <a:off x="2666880" y="3809520"/>
              <a:ext cx="1600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76720" y="434340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0"/>
                  </a:moveTo>
                  <a:cubicBezTo>
                    <a:pt x="36" y="32"/>
                    <a:pt x="72" y="64"/>
                    <a:pt x="96" y="96"/>
                  </a:cubicBezTo>
                  <a:cubicBezTo>
                    <a:pt x="120" y="128"/>
                    <a:pt x="136" y="176"/>
                    <a:pt x="144" y="19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4316400" y="3529080"/>
                  <a:ext cx="25560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r>
                            <m:t xml:space="preserve">I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3543480" y="4114800"/>
                  <a:ext cx="19044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3124080" y="4389480"/>
                  <a:ext cx="22860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 kolo sa kale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leksno opis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14400" y="2133720"/>
                <a:ext cx="7129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↦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U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020600" y="1703520"/>
                <a:ext cx="6675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↦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909720" y="3048120"/>
                <a:ext cx="72309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U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052640" y="3836880"/>
                <a:ext cx="66754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jωL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732120" y="4827600"/>
                <a:ext cx="1316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r>
                      <m:t xml:space="preserve">jωL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689280" y="5565600"/>
                <a:ext cx="13906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a električna kol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ze između napona i struje potroša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2000" y="2286000"/>
            <a:ext cx="88200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pe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fektivne vrednosti napona proporcionalne su efektivnim vrednostima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ično propocionalnosti napona i struje kod jednosmer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nos napona i struje ima ulogu otpornosti kod jednosmer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541680" y="2819520"/>
                <a:ext cx="9367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590920" y="3352680"/>
                <a:ext cx="885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187280" y="5388120"/>
                <a:ext cx="1543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448080" y="5388120"/>
                <a:ext cx="1797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948280" y="5388120"/>
                <a:ext cx="1671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905280" y="3305160"/>
                <a:ext cx="2278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71320" y="4572000"/>
            <a:ext cx="7976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pedansa električnog elementa je odnos efektivnih vrednosti napona i str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53200" y="6281640"/>
            <a:ext cx="74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pedansa električnog elementa zavisi od frekvence naizmenične str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leksna impe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leksne vrednosti napona proporcionalne su kompleksnim vrednostima str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590920" y="2384280"/>
                <a:ext cx="8856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43000" y="4419720"/>
                <a:ext cx="1568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865600" y="4419720"/>
                <a:ext cx="29620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73840" y="4419720"/>
                <a:ext cx="1874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05280" y="2362320"/>
                <a:ext cx="22780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551960" y="3429000"/>
            <a:ext cx="5587920" cy="703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leksna impedansa električnog elementa je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nos kompleksnih vrednosti napona i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a električna kol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a za rešavanje električnih kola su Kirhofovi zak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31520" y="1905120"/>
            <a:ext cx="5379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rhofovi zakoni važe u svakom pojedinom trenut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43360" y="2590920"/>
            <a:ext cx="4530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rhofovi zakoni važe za trenutne v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93760" y="3276720"/>
            <a:ext cx="4327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rhofovi zakoni važe za početni trenu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601360" y="3962520"/>
            <a:ext cx="333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rhofovi zakoni važe za faz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87760" y="4834080"/>
            <a:ext cx="518724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7d"/>
                </a:solidFill>
                <a:latin typeface="Arial"/>
              </a:rPr>
              <a:t>Kirhofovi zakoni važe za kompleksno prikaz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00800" y="5638680"/>
            <a:ext cx="49233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Kirhofovi zakoni ne važe za efektivne v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2286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3657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343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37720" y="2743200"/>
            <a:ext cx="1219320" cy="3124080"/>
            <a:chOff x="837720" y="2743200"/>
            <a:chExt cx="1219320" cy="3124080"/>
          </a:xfrm>
        </p:grpSpPr>
        <p:sp>
          <p:nvSpPr>
            <p:cNvPr id="347" name=""/>
            <p:cNvSpPr/>
            <p:nvPr/>
          </p:nvSpPr>
          <p:spPr>
            <a:xfrm flipH="1">
              <a:off x="837720" y="27432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8080" y="274320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58672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a električna kol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275292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1111320" y="2286000"/>
            <a:ext cx="336600" cy="430200"/>
            <a:chOff x="1111320" y="2286000"/>
            <a:chExt cx="336600" cy="430200"/>
          </a:xfrm>
        </p:grpSpPr>
        <p:sp>
          <p:nvSpPr>
            <p:cNvPr id="354" name=""/>
            <p:cNvSpPr/>
            <p:nvPr/>
          </p:nvSpPr>
          <p:spPr>
            <a:xfrm flipV="1">
              <a:off x="11113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1219320" y="2286000"/>
                  <a:ext cx="2286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6" name=""/>
          <p:cNvGrpSpPr/>
          <p:nvPr/>
        </p:nvGrpSpPr>
        <p:grpSpPr>
          <a:xfrm>
            <a:off x="2247840" y="2286000"/>
            <a:ext cx="355680" cy="430200"/>
            <a:chOff x="2247840" y="2286000"/>
            <a:chExt cx="355680" cy="430200"/>
          </a:xfrm>
        </p:grpSpPr>
        <p:sp>
          <p:nvSpPr>
            <p:cNvPr id="357" name=""/>
            <p:cNvSpPr/>
            <p:nvPr/>
          </p:nvSpPr>
          <p:spPr>
            <a:xfrm flipV="1">
              <a:off x="2247840" y="2381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349360" y="2286000"/>
                  <a:ext cx="2541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9" name=""/>
          <p:cNvGrpSpPr/>
          <p:nvPr/>
        </p:nvGrpSpPr>
        <p:grpSpPr>
          <a:xfrm>
            <a:off x="3092400" y="2273400"/>
            <a:ext cx="336600" cy="455400"/>
            <a:chOff x="3092400" y="2273400"/>
            <a:chExt cx="336600" cy="455400"/>
          </a:xfrm>
        </p:grpSpPr>
        <p:sp>
          <p:nvSpPr>
            <p:cNvPr id="360" name=""/>
            <p:cNvSpPr/>
            <p:nvPr/>
          </p:nvSpPr>
          <p:spPr>
            <a:xfrm flipV="1">
              <a:off x="3092400" y="2381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3174840" y="2273400"/>
                  <a:ext cx="254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"/>
          <p:cNvGrpSpPr/>
          <p:nvPr/>
        </p:nvGrpSpPr>
        <p:grpSpPr>
          <a:xfrm>
            <a:off x="1523880" y="2813040"/>
            <a:ext cx="457200" cy="539640"/>
            <a:chOff x="1523880" y="2813040"/>
            <a:chExt cx="457200" cy="539640"/>
          </a:xfrm>
        </p:grpSpPr>
        <p:sp>
          <p:nvSpPr>
            <p:cNvPr id="363" name=""/>
            <p:cNvSpPr/>
            <p:nvPr/>
          </p:nvSpPr>
          <p:spPr>
            <a:xfrm>
              <a:off x="1523880" y="2819520"/>
              <a:ext cx="45720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48080" y="289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7280" y="2813040"/>
              <a:ext cx="759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38280" y="2806560"/>
            <a:ext cx="457200" cy="546120"/>
            <a:chOff x="2438280" y="2806560"/>
            <a:chExt cx="457200" cy="546120"/>
          </a:xfrm>
        </p:grpSpPr>
        <p:sp>
          <p:nvSpPr>
            <p:cNvPr id="367" name=""/>
            <p:cNvSpPr/>
            <p:nvPr/>
          </p:nvSpPr>
          <p:spPr>
            <a:xfrm>
              <a:off x="2438280" y="2819520"/>
              <a:ext cx="457200" cy="533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34040" y="2908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654280" y="2806560"/>
              <a:ext cx="763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4343400" y="2106720"/>
                <a:ext cx="248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394160" y="2590920"/>
                <a:ext cx="384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419720" y="3124080"/>
                <a:ext cx="3265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343400" y="3657600"/>
            <a:ext cx="4114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3809880"/>
                <a:ext cx="248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394160" y="4294080"/>
                <a:ext cx="384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R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L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379760" y="4624560"/>
                <a:ext cx="3544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ωL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a kol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sto kolo naizmenične električne struje sastoji se od izvora naizmenične električne struje i jednog potroš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24960" y="2424240"/>
            <a:ext cx="384120" cy="1828800"/>
            <a:chOff x="1524960" y="2424240"/>
            <a:chExt cx="384120" cy="1828800"/>
          </a:xfrm>
        </p:grpSpPr>
        <p:sp>
          <p:nvSpPr>
            <p:cNvPr id="108" name=""/>
            <p:cNvSpPr/>
            <p:nvPr/>
          </p:nvSpPr>
          <p:spPr>
            <a:xfrm>
              <a:off x="1600200" y="24242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4960" y="2438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2000" y="3124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62360" y="2057400"/>
            <a:ext cx="231120" cy="368280"/>
            <a:chOff x="1062360" y="2057400"/>
            <a:chExt cx="231120" cy="368280"/>
          </a:xfrm>
        </p:grpSpPr>
        <p:sp>
          <p:nvSpPr>
            <p:cNvPr id="112" name=""/>
            <p:cNvSpPr/>
            <p:nvPr/>
          </p:nvSpPr>
          <p:spPr>
            <a:xfrm>
              <a:off x="1066680" y="242424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2360" y="205740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34600" y="2416320"/>
            <a:ext cx="1980000" cy="1855800"/>
            <a:chOff x="534600" y="2416320"/>
            <a:chExt cx="1980000" cy="1855800"/>
          </a:xfrm>
        </p:grpSpPr>
        <p:sp>
          <p:nvSpPr>
            <p:cNvPr id="115" name=""/>
            <p:cNvSpPr/>
            <p:nvPr/>
          </p:nvSpPr>
          <p:spPr>
            <a:xfrm>
              <a:off x="609480" y="3262320"/>
              <a:ext cx="381240" cy="3808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3033720"/>
              <a:ext cx="228600" cy="762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>
              <a:stCxn id="115" idx="0"/>
              <a:endCxn id="116" idx="0"/>
            </p:cNvCxnSpPr>
            <p:nvPr/>
          </p:nvCxnSpPr>
          <p:spPr>
            <a:xfrm flipH="1" flipV="1" rot="5400000">
              <a:off x="1485720" y="2347200"/>
              <a:ext cx="229320" cy="1600920"/>
            </a:xfrm>
            <a:prstGeom prst="bentConnector3">
              <a:avLst>
                <a:gd name="adj1" fmla="val 3693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stCxn id="116" idx="2"/>
              <a:endCxn id="115" idx="4"/>
            </p:cNvCxnSpPr>
            <p:nvPr/>
          </p:nvCxnSpPr>
          <p:spPr>
            <a:xfrm flipV="1" rot="16200000">
              <a:off x="1523520" y="2918880"/>
              <a:ext cx="153360" cy="1600920"/>
            </a:xfrm>
            <a:prstGeom prst="bentConnector3">
              <a:avLst>
                <a:gd name="adj1" fmla="val -31129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534600" y="29718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43434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misao referentnog smera struje i napona u kolu naizmenič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30320" y="4724280"/>
                <a:ext cx="1719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14400" y="5106960"/>
                <a:ext cx="41464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943600" y="4648320"/>
            <a:ext cx="2514600" cy="2011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43200" y="2819520"/>
            <a:ext cx="6095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rediti vezu između napona na potrošaču i struje koja protiče kroz granu sa potrošač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rediti veze efektivnih vrednosti (U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rediti veze početnih faza (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651640" y="2349360"/>
                <a:ext cx="250164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06560" y="2349360"/>
                <a:ext cx="260352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a električna kol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zivanje impedan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dno vez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 vez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33160" y="2949480"/>
            <a:ext cx="4038480" cy="671040"/>
            <a:chOff x="533160" y="2949480"/>
            <a:chExt cx="4038480" cy="671040"/>
          </a:xfrm>
        </p:grpSpPr>
        <p:grpSp>
          <p:nvGrpSpPr>
            <p:cNvPr id="380" name=""/>
            <p:cNvGrpSpPr/>
            <p:nvPr/>
          </p:nvGrpSpPr>
          <p:grpSpPr>
            <a:xfrm>
              <a:off x="533160" y="2949480"/>
              <a:ext cx="4038480" cy="228600"/>
              <a:chOff x="533160" y="2949480"/>
              <a:chExt cx="4038480" cy="228600"/>
            </a:xfrm>
          </p:grpSpPr>
          <p:sp>
            <p:nvSpPr>
              <p:cNvPr id="381" name=""/>
              <p:cNvSpPr/>
              <p:nvPr/>
            </p:nvSpPr>
            <p:spPr>
              <a:xfrm>
                <a:off x="1136520" y="2949480"/>
                <a:ext cx="1218960" cy="2286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84440" y="2949480"/>
                <a:ext cx="1218600" cy="2286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533160" y="30700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361960" y="307008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09880" y="30700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712800" y="3063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61040" y="32148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1640" y="319248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407360" y="3129120"/>
                <a:ext cx="1519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876920" y="2595600"/>
                <a:ext cx="1569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7437600" y="2584440"/>
                <a:ext cx="1493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6645240" y="2824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45240" y="3357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892760" y="3129120"/>
            <a:ext cx="1544400" cy="430200"/>
            <a:chOff x="4892760" y="3129120"/>
            <a:chExt cx="1544400" cy="43020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4917960" y="3129120"/>
                  <a:ext cx="15192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96" name=""/>
            <p:cNvSpPr/>
            <p:nvPr/>
          </p:nvSpPr>
          <p:spPr>
            <a:xfrm flipV="1">
              <a:off x="4892760" y="3129120"/>
              <a:ext cx="152388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92760" y="3129120"/>
              <a:ext cx="152388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V="1">
            <a:off x="7483320" y="3129120"/>
            <a:ext cx="152424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83320" y="3129120"/>
            <a:ext cx="152424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3900600"/>
            <a:ext cx="4114440" cy="1610640"/>
            <a:chOff x="533520" y="3900600"/>
            <a:chExt cx="4114440" cy="1610640"/>
          </a:xfrm>
        </p:grpSpPr>
        <p:sp>
          <p:nvSpPr>
            <p:cNvPr id="401" name=""/>
            <p:cNvSpPr/>
            <p:nvPr/>
          </p:nvSpPr>
          <p:spPr>
            <a:xfrm>
              <a:off x="2133720" y="4267080"/>
              <a:ext cx="1066680" cy="22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4800600"/>
              <a:ext cx="1066680" cy="22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94440" y="3900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87600" y="510552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33520" y="4648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428640" y="464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"/>
            <p:cNvCxnSpPr>
              <a:stCxn id="401" idx="1"/>
              <a:endCxn id="402" idx="1"/>
            </p:cNvCxnSpPr>
            <p:nvPr/>
          </p:nvCxnSpPr>
          <p:spPr>
            <a:xfrm flipH="1" flipV="1" rot="10800000">
              <a:off x="2133360" y="4381200"/>
              <a:ext cx="2160" cy="53424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8" name=""/>
            <p:cNvCxnSpPr>
              <a:stCxn id="401" idx="3"/>
              <a:endCxn id="402" idx="3"/>
            </p:cNvCxnSpPr>
            <p:nvPr/>
          </p:nvCxnSpPr>
          <p:spPr>
            <a:xfrm>
              <a:off x="3200400" y="4381560"/>
              <a:ext cx="2160" cy="53424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003640" y="4125960"/>
                <a:ext cx="1316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7350120" y="3900600"/>
                <a:ext cx="1670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645240" y="4354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045040" y="4952880"/>
                <a:ext cx="1265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664524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892760" y="4952520"/>
            <a:ext cx="1523880" cy="381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92760" y="4952880"/>
            <a:ext cx="1523880" cy="381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356600" y="4738680"/>
            <a:ext cx="1650960" cy="860400"/>
            <a:chOff x="7356600" y="4738680"/>
            <a:chExt cx="1650960" cy="860400"/>
          </a:xfrm>
        </p:grpSpPr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7356600" y="4738680"/>
                  <a:ext cx="16207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8" name=""/>
            <p:cNvSpPr/>
            <p:nvPr/>
          </p:nvSpPr>
          <p:spPr>
            <a:xfrm flipV="1">
              <a:off x="7483320" y="4952520"/>
              <a:ext cx="1524240" cy="38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83320" y="4952880"/>
              <a:ext cx="1524240" cy="38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ena električn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rcRect l="0" t="0" r="0" b="13403"/>
          <a:stretch/>
        </p:blipFill>
        <p:spPr>
          <a:xfrm>
            <a:off x="590400" y="1600200"/>
            <a:ext cx="177192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438280" y="2209680"/>
                <a:ext cx="835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657600" y="2362320"/>
                <a:ext cx="506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5" name=""/>
          <p:cNvGrpSpPr/>
          <p:nvPr/>
        </p:nvGrpSpPr>
        <p:grpSpPr>
          <a:xfrm>
            <a:off x="2438280" y="1716120"/>
            <a:ext cx="5562720" cy="341280"/>
            <a:chOff x="2438280" y="1716120"/>
            <a:chExt cx="5562720" cy="341280"/>
          </a:xfrm>
        </p:grpSpPr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2438280" y="1754280"/>
                  <a:ext cx="987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20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3432240" y="1752480"/>
                  <a:ext cx="98748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4498920" y="1716120"/>
                  <a:ext cx="1063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5638680" y="1754280"/>
                  <a:ext cx="968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6861240" y="1752480"/>
                  <a:ext cx="11397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80880" y="3352680"/>
                <a:ext cx="8587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0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908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0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9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986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233880" y="4267080"/>
                <a:ext cx="1763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d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"/>
          <p:cNvGrpSpPr/>
          <p:nvPr/>
        </p:nvGrpSpPr>
        <p:grpSpPr>
          <a:xfrm>
            <a:off x="762120" y="5021280"/>
            <a:ext cx="2055600" cy="322200"/>
            <a:chOff x="762120" y="5021280"/>
            <a:chExt cx="2055600" cy="322200"/>
          </a:xfrm>
        </p:grpSpPr>
        <p:sp>
          <p:nvSpPr>
            <p:cNvPr id="434" name=""/>
            <p:cNvSpPr/>
            <p:nvPr/>
          </p:nvSpPr>
          <p:spPr>
            <a:xfrm>
              <a:off x="762120" y="5181480"/>
              <a:ext cx="175248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590920" y="5021280"/>
                  <a:ext cx="226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r>
                            <m:t xml:space="preserve">E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6" name=""/>
          <p:cNvGrpSpPr/>
          <p:nvPr/>
        </p:nvGrpSpPr>
        <p:grpSpPr>
          <a:xfrm>
            <a:off x="762120" y="5181480"/>
            <a:ext cx="1427040" cy="609840"/>
            <a:chOff x="762120" y="5181480"/>
            <a:chExt cx="1427040" cy="609840"/>
          </a:xfrm>
        </p:grpSpPr>
        <p:sp>
          <p:nvSpPr>
            <p:cNvPr id="437" name=""/>
            <p:cNvSpPr/>
            <p:nvPr/>
          </p:nvSpPr>
          <p:spPr>
            <a:xfrm>
              <a:off x="762120" y="5181480"/>
              <a:ext cx="121896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2000160" y="5468760"/>
                  <a:ext cx="18900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r>
                            <m:t xml:space="preserve">I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3124080" y="4876920"/>
                <a:ext cx="2687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,1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3013200" y="5334120"/>
                <a:ext cx="29937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ψ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130800" y="4800600"/>
                <a:ext cx="2589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,1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leksna impedansa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85800" y="1363680"/>
            <a:ext cx="1523880" cy="847800"/>
            <a:chOff x="685800" y="1363680"/>
            <a:chExt cx="1523880" cy="847800"/>
          </a:xfrm>
        </p:grpSpPr>
        <p:sp>
          <p:nvSpPr>
            <p:cNvPr id="444" name=""/>
            <p:cNvSpPr/>
            <p:nvPr/>
          </p:nvSpPr>
          <p:spPr>
            <a:xfrm>
              <a:off x="685800" y="1730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23880" y="1730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14400" y="1730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9880" y="136368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96720" y="1371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5800" y="1730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09680" y="1730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" y="20350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1600" y="18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19320" y="1663560"/>
              <a:ext cx="533160" cy="152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743200" y="1523880"/>
                <a:ext cx="32385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5" name=""/>
          <p:cNvGrpSpPr/>
          <p:nvPr/>
        </p:nvGrpSpPr>
        <p:grpSpPr>
          <a:xfrm>
            <a:off x="6019920" y="1712880"/>
            <a:ext cx="1625760" cy="368280"/>
            <a:chOff x="6019920" y="1712880"/>
            <a:chExt cx="1625760" cy="368280"/>
          </a:xfrm>
        </p:grpSpPr>
        <p:sp>
          <p:nvSpPr>
            <p:cNvPr id="456" name=""/>
            <p:cNvSpPr/>
            <p:nvPr/>
          </p:nvSpPr>
          <p:spPr>
            <a:xfrm flipH="1">
              <a:off x="601992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3800" y="171288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eaktan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666880" y="2390760"/>
                <a:ext cx="56419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ψ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685800" y="3559320"/>
                <a:ext cx="6100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806480" y="4319640"/>
                <a:ext cx="12416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55920" y="4343400"/>
                <a:ext cx="159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5413320" y="4343400"/>
                <a:ext cx="1596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3" name=""/>
          <p:cNvGrpSpPr/>
          <p:nvPr/>
        </p:nvGrpSpPr>
        <p:grpSpPr>
          <a:xfrm>
            <a:off x="603360" y="5257800"/>
            <a:ext cx="4573800" cy="1297440"/>
            <a:chOff x="603360" y="5257800"/>
            <a:chExt cx="4573800" cy="1297440"/>
          </a:xfrm>
        </p:grpSpPr>
        <p:grpSp>
          <p:nvGrpSpPr>
            <p:cNvPr id="464" name=""/>
            <p:cNvGrpSpPr/>
            <p:nvPr/>
          </p:nvGrpSpPr>
          <p:grpSpPr>
            <a:xfrm>
              <a:off x="603360" y="5257800"/>
              <a:ext cx="2131560" cy="1297440"/>
              <a:chOff x="603360" y="5257800"/>
              <a:chExt cx="2131560" cy="1297440"/>
            </a:xfrm>
          </p:grpSpPr>
          <p:sp>
            <p:nvSpPr>
              <p:cNvPr id="465" name=""/>
              <p:cNvSpPr/>
              <p:nvPr/>
            </p:nvSpPr>
            <p:spPr>
              <a:xfrm flipV="1">
                <a:off x="1060560" y="5257800"/>
                <a:ext cx="129528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43240" y="528336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551240" y="6110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01920" y="5562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550880" y="52722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3360" y="5639760"/>
                <a:ext cx="914040" cy="91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34" y="5368"/>
                    </a:moveTo>
                    <a:arcTo wR="10800" hR="10800" stAng="-1811881" swAng="18118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34" y="5368"/>
                    </a:moveTo>
                    <a:arcTo wR="10800" hR="10800" stAng="-1811881" swAng="181188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1" name=""/>
                  <p:cNvSpPr txBox="1"/>
                  <p:nvPr/>
                </p:nvSpPr>
                <p:spPr>
                  <a:xfrm>
                    <a:off x="1517760" y="5791320"/>
                    <a:ext cx="244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ϕ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2" name=""/>
              <p:cNvSpPr/>
              <p:nvPr/>
            </p:nvSpPr>
            <p:spPr>
              <a:xfrm>
                <a:off x="1060560" y="609588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2969640" y="550080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rougao impeda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373800" y="5257800"/>
                <a:ext cx="119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7648560" y="5257800"/>
                <a:ext cx="119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410080" y="5438880"/>
                <a:ext cx="8874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naga potrošač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09480" y="1219320"/>
            <a:ext cx="1524240" cy="847440"/>
            <a:chOff x="609480" y="1219320"/>
            <a:chExt cx="1524240" cy="847440"/>
          </a:xfrm>
        </p:grpSpPr>
        <p:sp>
          <p:nvSpPr>
            <p:cNvPr id="479" name=""/>
            <p:cNvSpPr/>
            <p:nvPr/>
          </p:nvSpPr>
          <p:spPr>
            <a:xfrm>
              <a:off x="609480" y="158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47920" y="158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15858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3920" y="12193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20760" y="12272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9480" y="1585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33720" y="1585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9480" y="18907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05280" y="169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43000" y="1519200"/>
              <a:ext cx="53352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308400" y="1371600"/>
                <a:ext cx="4097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143160" y="1752480"/>
                <a:ext cx="48578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52680" y="2514600"/>
                <a:ext cx="4273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2" name=""/>
          <p:cNvGrpSpPr/>
          <p:nvPr/>
        </p:nvGrpSpPr>
        <p:grpSpPr>
          <a:xfrm>
            <a:off x="304920" y="3159000"/>
            <a:ext cx="4190760" cy="3318120"/>
            <a:chOff x="304920" y="3159000"/>
            <a:chExt cx="4190760" cy="331812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304920" y="3159000"/>
              <a:ext cx="4190760" cy="33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960840" y="3367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16200" y="405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4040" y="435780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5410080" y="3252960"/>
                <a:ext cx="1592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4881240" y="39225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rednja il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ktiv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n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7391520" y="3200400"/>
                <a:ext cx="103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609480" y="46036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nag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aktivna sn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1600200"/>
            <a:ext cx="4496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naga osciluje sa srednjom vrednošću UIcos(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amplitudom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ektrični element nekad radi kao potrošač, a nekada kao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ektrični element u delu perioda prima energiju od izvora, a u delu perioda vraća energiju izv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o energije koji se vraća izvoru je reaktivna 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rednja vrednost reaktivne energije je n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479240" y="504360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reaktivne s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2840" y="5029200"/>
                <a:ext cx="1567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400800" y="5029200"/>
                <a:ext cx="12891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Q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nag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aktivna sn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povoljna pojava u kolima naizmenične str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 reaktivne snage u oba smera je rasipanj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ra energetskog kvaliteta elementa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aktor s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laćuje se samo aktivna sn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stributeri električne energije uslovljavaju snabdevanje visokom vrednošću faktora s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tupak povećanja faktora snage se naziv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mpen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858000" y="2362320"/>
                <a:ext cx="7333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066680" y="4224240"/>
            <a:ext cx="2362320" cy="17956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2514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nag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ougao s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990720" y="1905120"/>
                <a:ext cx="1592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895480" y="1905120"/>
                <a:ext cx="1567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876920" y="1830240"/>
                <a:ext cx="24001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5189760" y="25146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vi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n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57200" y="4419720"/>
            <a:ext cx="2131920" cy="1296360"/>
            <a:chOff x="457200" y="4419720"/>
            <a:chExt cx="2131920" cy="1296360"/>
          </a:xfrm>
        </p:grpSpPr>
        <p:sp>
          <p:nvSpPr>
            <p:cNvPr id="520" name=""/>
            <p:cNvSpPr/>
            <p:nvPr/>
          </p:nvSpPr>
          <p:spPr>
            <a:xfrm flipV="1">
              <a:off x="914400" y="441972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97080" y="44449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05080" y="5272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56120" y="4724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4720" y="44337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200" y="4802040"/>
              <a:ext cx="9140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34" y="5368"/>
                  </a:moveTo>
                  <a:arcTo wR="10800" hR="10800" stAng="-1811881" swAng="1811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34" y="5368"/>
                  </a:moveTo>
                  <a:arcTo wR="10800" hR="10800" stAng="-1811881" swAng="181188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"/>
                <p:cNvSpPr txBox="1"/>
                <p:nvPr/>
              </p:nvSpPr>
              <p:spPr>
                <a:xfrm>
                  <a:off x="1371600" y="4952880"/>
                  <a:ext cx="244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7" name=""/>
            <p:cNvSpPr/>
            <p:nvPr/>
          </p:nvSpPr>
          <p:spPr>
            <a:xfrm>
              <a:off x="914400" y="525780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33520" y="2971800"/>
            <a:ext cx="2157120" cy="1297440"/>
            <a:chOff x="533520" y="2971800"/>
            <a:chExt cx="2157120" cy="1297440"/>
          </a:xfrm>
        </p:grpSpPr>
        <p:sp>
          <p:nvSpPr>
            <p:cNvPr id="529" name=""/>
            <p:cNvSpPr/>
            <p:nvPr/>
          </p:nvSpPr>
          <p:spPr>
            <a:xfrm flipV="1">
              <a:off x="990720" y="2971800"/>
              <a:ext cx="1295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73400" y="29973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81400" y="3824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31720" y="3276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81400" y="2986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520" y="3353760"/>
              <a:ext cx="914040" cy="91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34" y="5368"/>
                  </a:moveTo>
                  <a:arcTo wR="10800" hR="10800" stAng="-1811881" swAng="1811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34" y="5368"/>
                  </a:moveTo>
                  <a:arcTo wR="10800" hR="10800" stAng="-1811881" swAng="181188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1447920" y="3505320"/>
                  <a:ext cx="244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"/>
            <p:cNvSpPr/>
            <p:nvPr/>
          </p:nvSpPr>
          <p:spPr>
            <a:xfrm>
              <a:off x="990720" y="38098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054600" y="321480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rougao snage i trougao impedanse su sli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537000" y="3657600"/>
                <a:ext cx="16430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505320" y="4116240"/>
                <a:ext cx="3765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537000" y="4572000"/>
                <a:ext cx="3690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nag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leksna sn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429000" y="1789200"/>
                <a:ext cx="1060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379520" y="2565360"/>
                <a:ext cx="5554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p/>
                    </m:s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p/>
                    </m:s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jX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2361960" y="3292560"/>
            <a:ext cx="4038480" cy="671040"/>
            <a:chOff x="2361960" y="3292560"/>
            <a:chExt cx="4038480" cy="671040"/>
          </a:xfrm>
        </p:grpSpPr>
        <p:grpSp>
          <p:nvGrpSpPr>
            <p:cNvPr id="546" name=""/>
            <p:cNvGrpSpPr/>
            <p:nvPr/>
          </p:nvGrpSpPr>
          <p:grpSpPr>
            <a:xfrm>
              <a:off x="2361960" y="3292560"/>
              <a:ext cx="4038480" cy="228600"/>
              <a:chOff x="2361960" y="3292560"/>
              <a:chExt cx="4038480" cy="228600"/>
            </a:xfrm>
          </p:grpSpPr>
          <p:sp>
            <p:nvSpPr>
              <p:cNvPr id="547" name=""/>
              <p:cNvSpPr/>
              <p:nvPr/>
            </p:nvSpPr>
            <p:spPr>
              <a:xfrm>
                <a:off x="2965320" y="3292560"/>
                <a:ext cx="1218960" cy="2286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13240" y="3292560"/>
                <a:ext cx="1218600" cy="2286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2361960" y="34131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190760" y="34131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38680" y="341316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2541600" y="34070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89840" y="355788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0440" y="35355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981080" y="4456080"/>
            <a:ext cx="4114440" cy="1610640"/>
            <a:chOff x="1981080" y="4456080"/>
            <a:chExt cx="4114440" cy="1610640"/>
          </a:xfrm>
        </p:grpSpPr>
        <p:sp>
          <p:nvSpPr>
            <p:cNvPr id="556" name=""/>
            <p:cNvSpPr/>
            <p:nvPr/>
          </p:nvSpPr>
          <p:spPr>
            <a:xfrm>
              <a:off x="3581280" y="4822560"/>
              <a:ext cx="1066680" cy="22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81280" y="5356080"/>
              <a:ext cx="1066680" cy="22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42000" y="445608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35160" y="566100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981080" y="52038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76200" y="5203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6" idx="1"/>
              <a:endCxn id="557" idx="1"/>
            </p:cNvCxnSpPr>
            <p:nvPr/>
          </p:nvCxnSpPr>
          <p:spPr>
            <a:xfrm flipH="1" flipV="1" rot="10800000">
              <a:off x="3580920" y="4936680"/>
              <a:ext cx="2160" cy="53424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3" name=""/>
            <p:cNvCxnSpPr>
              <a:stCxn id="556" idx="3"/>
              <a:endCxn id="557" idx="3"/>
            </p:cNvCxnSpPr>
            <p:nvPr/>
          </p:nvCxnSpPr>
          <p:spPr>
            <a:xfrm>
              <a:off x="4647960" y="4937040"/>
              <a:ext cx="2160" cy="53424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228680" y="3936960"/>
                <a:ext cx="5781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p/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1447920" y="6070680"/>
                <a:ext cx="5376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p/>
                    </m:s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(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nag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račun električne instal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upna potrošnja električn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upna jačina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23115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" y="43689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04920" y="2311560"/>
            <a:ext cx="838080" cy="2057400"/>
            <a:chOff x="304920" y="2311560"/>
            <a:chExt cx="838080" cy="2057400"/>
          </a:xfrm>
        </p:grpSpPr>
        <p:sp>
          <p:nvSpPr>
            <p:cNvPr id="571" name=""/>
            <p:cNvSpPr/>
            <p:nvPr/>
          </p:nvSpPr>
          <p:spPr>
            <a:xfrm>
              <a:off x="1143000" y="2311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04920" y="2921040"/>
                  <a:ext cx="8078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220</m:t>
                          </m:r>
                          <m:r>
                            <m:t xml:space="preserve"> 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3" name=""/>
          <p:cNvSpPr/>
          <p:nvPr/>
        </p:nvSpPr>
        <p:spPr>
          <a:xfrm>
            <a:off x="7520040" y="2119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448040" y="41544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362320" y="2311560"/>
            <a:ext cx="304560" cy="2057400"/>
            <a:chOff x="2362320" y="2311560"/>
            <a:chExt cx="304560" cy="2057400"/>
          </a:xfrm>
        </p:grpSpPr>
        <p:sp>
          <p:nvSpPr>
            <p:cNvPr id="576" name=""/>
            <p:cNvSpPr/>
            <p:nvPr/>
          </p:nvSpPr>
          <p:spPr>
            <a:xfrm>
              <a:off x="2362320" y="3302280"/>
              <a:ext cx="304560" cy="685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14600" y="231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14600" y="3988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514240" y="254016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14600" y="27687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733920" y="2311560"/>
            <a:ext cx="1676160" cy="2060280"/>
            <a:chOff x="3733920" y="2311560"/>
            <a:chExt cx="1676160" cy="2060280"/>
          </a:xfrm>
        </p:grpSpPr>
        <p:grpSp>
          <p:nvGrpSpPr>
            <p:cNvPr id="582" name=""/>
            <p:cNvGrpSpPr/>
            <p:nvPr/>
          </p:nvGrpSpPr>
          <p:grpSpPr>
            <a:xfrm>
              <a:off x="3733920" y="2314440"/>
              <a:ext cx="304560" cy="2057400"/>
              <a:chOff x="3733920" y="2314440"/>
              <a:chExt cx="304560" cy="2057400"/>
            </a:xfrm>
          </p:grpSpPr>
          <p:sp>
            <p:nvSpPr>
              <p:cNvPr id="583" name=""/>
              <p:cNvSpPr/>
              <p:nvPr/>
            </p:nvSpPr>
            <p:spPr>
              <a:xfrm>
                <a:off x="3733920" y="3304800"/>
                <a:ext cx="304560" cy="6858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86200" y="2314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886200" y="39906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885840" y="254304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886200" y="277164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5105520" y="2311560"/>
              <a:ext cx="304560" cy="2057400"/>
              <a:chOff x="5105520" y="2311560"/>
              <a:chExt cx="304560" cy="2057400"/>
            </a:xfrm>
          </p:grpSpPr>
          <p:sp>
            <p:nvSpPr>
              <p:cNvPr id="589" name=""/>
              <p:cNvSpPr/>
              <p:nvPr/>
            </p:nvSpPr>
            <p:spPr>
              <a:xfrm>
                <a:off x="5105520" y="3302280"/>
                <a:ext cx="304560" cy="6858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57800" y="23115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57800" y="39880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257440" y="254016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57800" y="276876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6477120" y="2311560"/>
            <a:ext cx="304560" cy="2057400"/>
            <a:chOff x="6477120" y="2311560"/>
            <a:chExt cx="304560" cy="2057400"/>
          </a:xfrm>
        </p:grpSpPr>
        <p:sp>
          <p:nvSpPr>
            <p:cNvPr id="595" name=""/>
            <p:cNvSpPr/>
            <p:nvPr/>
          </p:nvSpPr>
          <p:spPr>
            <a:xfrm>
              <a:off x="6477120" y="2540160"/>
              <a:ext cx="304560" cy="685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29400" y="231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3988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629040" y="37594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32259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533520" y="4795920"/>
            <a:ext cx="815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66520" y="46116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zemlj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248520" y="1930320"/>
            <a:ext cx="838080" cy="2667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47920" y="2311560"/>
            <a:ext cx="609480" cy="330120"/>
            <a:chOff x="1447920" y="2311560"/>
            <a:chExt cx="609480" cy="330120"/>
          </a:xfrm>
        </p:grpSpPr>
        <p:sp>
          <p:nvSpPr>
            <p:cNvPr id="604" name=""/>
            <p:cNvSpPr/>
            <p:nvPr/>
          </p:nvSpPr>
          <p:spPr>
            <a:xfrm>
              <a:off x="1447920" y="23115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1576440" y="2311560"/>
                  <a:ext cx="2523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5105520"/>
                <a:ext cx="7751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92200" y="5587920"/>
                <a:ext cx="5503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8320" y="6019920"/>
                <a:ext cx="2068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naga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tivna snaga se pretvara u toplotu i mehanički rad i plaćamo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aktivnu snagu vraćamo izvorima električne energije i ne plaćamo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vidna snaga se koristi za dimenzionisanje električnih instal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sto kolo sa otporni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9880" y="18432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514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8160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68480" y="1828800"/>
                <a:ext cx="986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43400" y="1944720"/>
                <a:ext cx="2755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3429000" y="2514240"/>
            <a:ext cx="2286000" cy="533880"/>
            <a:chOff x="3429000" y="2514240"/>
            <a:chExt cx="2286000" cy="533880"/>
          </a:xfrm>
        </p:grpSpPr>
        <p:sp>
          <p:nvSpPr>
            <p:cNvPr id="140" name=""/>
            <p:cNvSpPr/>
            <p:nvPr/>
          </p:nvSpPr>
          <p:spPr>
            <a:xfrm>
              <a:off x="4191120" y="2743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2743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42900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71500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116000" y="3025800"/>
                <a:ext cx="5535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898800" y="3773520"/>
                <a:ext cx="26542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029200" y="42670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5240" y="5084640"/>
                <a:ext cx="834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602240" y="5791320"/>
                <a:ext cx="784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191120" y="5105520"/>
            <a:ext cx="17524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mensko opisivanje - analitički pri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2057040"/>
            <a:ext cx="304560" cy="305280"/>
            <a:chOff x="1219320" y="2057040"/>
            <a:chExt cx="304560" cy="305280"/>
          </a:xfrm>
        </p:grpSpPr>
        <p:sp>
          <p:nvSpPr>
            <p:cNvPr id="152" name=""/>
            <p:cNvSpPr/>
            <p:nvPr/>
          </p:nvSpPr>
          <p:spPr>
            <a:xfrm flipV="1">
              <a:off x="1219320" y="205704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5280" y="205740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371600" y="205704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20574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7379" t="10394" r="12718" b="0"/>
          <a:stretch/>
        </p:blipFill>
        <p:spPr>
          <a:xfrm>
            <a:off x="1120680" y="1752480"/>
            <a:ext cx="5737320" cy="4902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sto kolo sa otporni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mensko opisivanje - grafički pri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819520" y="2057400"/>
            <a:ext cx="815040" cy="838080"/>
            <a:chOff x="2819520" y="2057400"/>
            <a:chExt cx="815040" cy="838080"/>
          </a:xfrm>
        </p:grpSpPr>
        <p:sp>
          <p:nvSpPr>
            <p:cNvPr id="160" name=""/>
            <p:cNvSpPr/>
            <p:nvPr/>
          </p:nvSpPr>
          <p:spPr>
            <a:xfrm flipV="1">
              <a:off x="2819520" y="2438280"/>
              <a:ext cx="457200" cy="457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31360" y="2057400"/>
              <a:ext cx="403200" cy="405720"/>
            </a:xfrm>
            <a:prstGeom prst="rect">
              <a:avLst/>
            </a:prstGeom>
            <a:noFill/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7d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7d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13440" y="2362320"/>
            <a:ext cx="807120" cy="838080"/>
            <a:chOff x="5113440" y="2362320"/>
            <a:chExt cx="807120" cy="838080"/>
          </a:xfrm>
        </p:grpSpPr>
        <p:sp>
          <p:nvSpPr>
            <p:cNvPr id="163" name=""/>
            <p:cNvSpPr/>
            <p:nvPr/>
          </p:nvSpPr>
          <p:spPr>
            <a:xfrm flipV="1">
              <a:off x="5113440" y="274320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3320" y="2362320"/>
              <a:ext cx="327240" cy="405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sto kolo sa otporni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zor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pis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46483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666880" y="2819520"/>
            <a:ext cx="3429000" cy="1828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666880" y="3352320"/>
            <a:ext cx="2438640" cy="1295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3400" y="3508200"/>
            <a:ext cx="2590200" cy="228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052" y="5229"/>
                </a:moveTo>
                <a:arcTo wR="10800" hR="10800" stAng="-1863289" swAng="1863289"/>
                <a:lnTo>
                  <a:pt x="10800" y="10800"/>
                </a:lnTo>
                <a:close/>
              </a:path>
              <a:path fill="none" w="21600" h="21600">
                <a:moveTo>
                  <a:pt x="20052" y="5229"/>
                </a:moveTo>
                <a:arcTo wR="10800" hR="10800" stAng="-1863289" swAng="1863289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307040" y="4105440"/>
                <a:ext cx="5936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414600" y="3379680"/>
                <a:ext cx="6238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45000" y="3048120"/>
                <a:ext cx="255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72200" y="2614680"/>
                <a:ext cx="331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4120" y="2860560"/>
                <a:ext cx="2458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8120" y="4379760"/>
                <a:ext cx="19044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057400" y="4037040"/>
            <a:ext cx="1371240" cy="12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561" y="4484"/>
                </a:moveTo>
                <a:arcTo wR="10800" hR="10800" stAng="-2147314" swAng="2147314"/>
                <a:lnTo>
                  <a:pt x="10800" y="10800"/>
                </a:lnTo>
                <a:close/>
              </a:path>
              <a:path fill="none" w="21600" h="21600">
                <a:moveTo>
                  <a:pt x="19561" y="4484"/>
                </a:moveTo>
                <a:arcTo wR="10800" hR="10800" stAng="-2147314" swAng="2147314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sto kolo sa otporni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leksno opis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14400" y="1905120"/>
                <a:ext cx="7129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↦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U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868320" y="2362320"/>
                <a:ext cx="6675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↦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932120" y="3048120"/>
                <a:ext cx="5182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784600" y="3659040"/>
                <a:ext cx="3211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U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73680" y="4649760"/>
                <a:ext cx="8334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890880" y="5767560"/>
                <a:ext cx="986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r>
                      <m:t xml:space="preserve">R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 kolo sa kondenzat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9880" y="1843200"/>
            <a:ext cx="231120" cy="368280"/>
            <a:chOff x="839880" y="1843200"/>
            <a:chExt cx="231120" cy="368280"/>
          </a:xfrm>
        </p:grpSpPr>
        <p:sp>
          <p:nvSpPr>
            <p:cNvPr id="188" name=""/>
            <p:cNvSpPr/>
            <p:nvPr/>
          </p:nvSpPr>
          <p:spPr>
            <a:xfrm>
              <a:off x="914400" y="22096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9880" y="184320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85800" y="1828800"/>
            <a:ext cx="1523880" cy="533520"/>
            <a:chOff x="685800" y="1828800"/>
            <a:chExt cx="1523880" cy="533520"/>
          </a:xfrm>
        </p:grpSpPr>
        <p:sp>
          <p:nvSpPr>
            <p:cNvPr id="191" name=""/>
            <p:cNvSpPr/>
            <p:nvPr/>
          </p:nvSpPr>
          <p:spPr>
            <a:xfrm>
              <a:off x="68580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1600" y="2057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3880" y="2057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38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81400" y="1828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5800" y="2209680"/>
            <a:ext cx="1523880" cy="480960"/>
            <a:chOff x="685800" y="2209680"/>
            <a:chExt cx="1523880" cy="480960"/>
          </a:xfrm>
        </p:grpSpPr>
        <p:sp>
          <p:nvSpPr>
            <p:cNvPr id="197" name=""/>
            <p:cNvSpPr/>
            <p:nvPr/>
          </p:nvSpPr>
          <p:spPr>
            <a:xfrm>
              <a:off x="68580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096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2514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81600" y="2322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666880" y="1828800"/>
                <a:ext cx="1390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343400" y="1932120"/>
                <a:ext cx="275580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3429000" y="2514240"/>
            <a:ext cx="2286000" cy="533880"/>
            <a:chOff x="3429000" y="2514240"/>
            <a:chExt cx="2286000" cy="533880"/>
          </a:xfrm>
        </p:grpSpPr>
        <p:sp>
          <p:nvSpPr>
            <p:cNvPr id="204" name=""/>
            <p:cNvSpPr/>
            <p:nvPr/>
          </p:nvSpPr>
          <p:spPr>
            <a:xfrm>
              <a:off x="4191120" y="2743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9000" y="2743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42900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71500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5800" y="3025800"/>
                <a:ext cx="6396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3657600"/>
                <a:ext cx="2654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85800" y="3962520"/>
                <a:ext cx="2476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81320" y="3962520"/>
                <a:ext cx="3614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3526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4572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191120" y="5105520"/>
            <a:ext cx="1752480" cy="1143000"/>
            <a:chOff x="4191120" y="5105520"/>
            <a:chExt cx="1752480" cy="114300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4373280" y="5167440"/>
                  <a:ext cx="11887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C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4349520" y="5410440"/>
                  <a:ext cx="128880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4191120" y="5105520"/>
              <a:ext cx="1752480" cy="1143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mensko opisivanje - analitički pri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019560" cy="49878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 kolo sa kondenzat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mensko opisivanje - grafički pri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743200" y="2057400"/>
            <a:ext cx="883440" cy="838080"/>
            <a:chOff x="2743200" y="2057400"/>
            <a:chExt cx="883440" cy="838080"/>
          </a:xfrm>
        </p:grpSpPr>
        <p:sp>
          <p:nvSpPr>
            <p:cNvPr id="223" name=""/>
            <p:cNvSpPr/>
            <p:nvPr/>
          </p:nvSpPr>
          <p:spPr>
            <a:xfrm flipV="1">
              <a:off x="2743200" y="2438280"/>
              <a:ext cx="457200" cy="457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23440" y="2057400"/>
              <a:ext cx="403200" cy="405720"/>
            </a:xfrm>
            <a:prstGeom prst="rect">
              <a:avLst/>
            </a:prstGeom>
            <a:noFill/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7d"/>
                  </a:solidFill>
                  <a:latin typeface="Arial"/>
                </a:rPr>
                <a:t>u</a:t>
              </a:r>
              <a:r>
                <a:rPr b="0" lang="sr-Latn-CS" sz="1800" spc="-1" strike="noStrike" baseline="-25000">
                  <a:solidFill>
                    <a:srgbClr val="00007d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72000" y="1905120"/>
            <a:ext cx="807120" cy="838080"/>
            <a:chOff x="4572000" y="1905120"/>
            <a:chExt cx="807120" cy="838080"/>
          </a:xfrm>
        </p:grpSpPr>
        <p:sp>
          <p:nvSpPr>
            <p:cNvPr id="226" name=""/>
            <p:cNvSpPr/>
            <p:nvPr/>
          </p:nvSpPr>
          <p:spPr>
            <a:xfrm flipV="1">
              <a:off x="4572000" y="228600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51880" y="1905120"/>
              <a:ext cx="327240" cy="405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 kolo sa kondenzat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azorski opis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46483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523520" y="2666880"/>
            <a:ext cx="1143000" cy="1981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73040" y="3506760"/>
            <a:ext cx="25905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2" y="1139"/>
                </a:moveTo>
                <a:arcTo wR="10800" hR="10800" stAng="-6993374" swAng="6993374"/>
                <a:lnTo>
                  <a:pt x="10800" y="10800"/>
                </a:lnTo>
                <a:close/>
              </a:path>
              <a:path fill="none" w="21600" h="21600">
                <a:moveTo>
                  <a:pt x="5972" y="1139"/>
                </a:moveTo>
                <a:arcTo wR="10800" hR="10800" stAng="-6993374" swAng="6993374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374920" y="3581280"/>
                <a:ext cx="977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600200" y="3048120"/>
                <a:ext cx="8874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371600" y="2286000"/>
                <a:ext cx="255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36" name=""/>
          <p:cNvGrpSpPr/>
          <p:nvPr/>
        </p:nvGrpSpPr>
        <p:grpSpPr>
          <a:xfrm>
            <a:off x="2666880" y="3529080"/>
            <a:ext cx="1943280" cy="1119240"/>
            <a:chOff x="2666880" y="3529080"/>
            <a:chExt cx="1943280" cy="1119240"/>
          </a:xfrm>
        </p:grpSpPr>
        <p:sp>
          <p:nvSpPr>
            <p:cNvPr id="237" name=""/>
            <p:cNvSpPr/>
            <p:nvPr/>
          </p:nvSpPr>
          <p:spPr>
            <a:xfrm flipV="1">
              <a:off x="2666880" y="3809520"/>
              <a:ext cx="1600200" cy="838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6720" y="4343400"/>
              <a:ext cx="228600" cy="30492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0"/>
                  </a:moveTo>
                  <a:cubicBezTo>
                    <a:pt x="36" y="32"/>
                    <a:pt x="72" y="64"/>
                    <a:pt x="96" y="96"/>
                  </a:cubicBezTo>
                  <a:cubicBezTo>
                    <a:pt x="120" y="128"/>
                    <a:pt x="136" y="176"/>
                    <a:pt x="144" y="192"/>
                  </a:cubicBezTo>
                </a:path>
              </a:pathLst>
            </a:custGeom>
            <a:noFill/>
            <a:ln w="2844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278240" y="3529080"/>
                  <a:ext cx="33192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r>
                            <m:t xml:space="preserve">U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3505320" y="4038480"/>
                  <a:ext cx="24588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3086280" y="4379760"/>
                  <a:ext cx="190440" cy="2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3:41:18Z</dcterms:created>
  <dc:creator>Zlatan Šoškić</dc:creator>
  <dc:description/>
  <dc:language>en-US</dc:language>
  <cp:lastModifiedBy>Zlatan Soskic</cp:lastModifiedBy>
  <dcterms:modified xsi:type="dcterms:W3CDTF">2007-03-30T22:57:59Z</dcterms:modified>
  <cp:revision>255</cp:revision>
  <dc:subject/>
  <dc:title>Naizmenične struje</dc:title>
</cp:coreProperties>
</file>