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E13-0E81-4734-B32A-AF08D789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A5E-AC84-49E5-9D83-2E79121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E84-2454-4CCF-B421-D85402DE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F6C-1E72-4074-9EDF-C9DA155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BC5-4763-4A7B-AFE9-8B8E071B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1C9-07ED-4833-898A-DA6DFCD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9DA-DAA1-4627-8E2F-986FC9A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142-229B-479A-BACF-9FCFA88F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23E-8A06-4A58-ADB8-7928AFE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549-1BB3-4966-A78B-34C51712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944-4753-41EC-A661-1627DD86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7BB-25DE-4C7C-A526-C7824747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E29-EB0E-4BF8-B585-C0364CD48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linearna pasivna elektronska k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utalasni ispravlja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oLUTAL" descr=""/>
          <p:cNvPicPr/>
          <p:nvPr/>
        </p:nvPicPr>
        <p:blipFill>
          <a:blip r:embed="rId1"/>
          <a:srcRect l="7673" t="9724" r="11908" b="0"/>
          <a:stretch/>
        </p:blipFill>
        <p:spPr>
          <a:xfrm>
            <a:off x="1600200" y="1676520"/>
            <a:ext cx="4495680" cy="384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on jeste jednosmeran, ali puls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najvećem broju slučajeva - neupotreblj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ecov spoj (punotalasni ispravlja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676240" cy="2333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733920" y="1905120"/>
            <a:ext cx="5105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je generator u pozitivnoj poluperiodi, struja teče putem A-C-D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je generator u negativnoj poluperiodi, struja teče putem B-C-D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oz potrošač struja uvek teče u sme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44400" y="4800600"/>
                <a:ext cx="3546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42960" y="4498920"/>
                <a:ext cx="836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&gt;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98400" y="5565600"/>
                <a:ext cx="2578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648320" y="4784760"/>
                <a:ext cx="4162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687920" y="4422600"/>
                <a:ext cx="968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37080" y="5489640"/>
                <a:ext cx="29527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ecov sp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lsirajući napon na izl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“peglanje” napona, dakle potreban je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unTALAS" descr=""/>
          <p:cNvPicPr/>
          <p:nvPr/>
        </p:nvPicPr>
        <p:blipFill>
          <a:blip r:embed="rId1"/>
          <a:srcRect l="6611" t="9724" r="11908" b="0"/>
          <a:stretch/>
        </p:blipFill>
        <p:spPr>
          <a:xfrm>
            <a:off x="1752480" y="1563840"/>
            <a:ext cx="464832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ijelna šema ispravljača za elektronske uređ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1828800"/>
            <a:ext cx="52387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17800" y="3798720"/>
                <a:ext cx="24210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657680" y="3736800"/>
                <a:ext cx="12985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95880" y="3683160"/>
                <a:ext cx="16956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95880" y="4024440"/>
                <a:ext cx="19368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053040" y="4724280"/>
                <a:ext cx="3014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5,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linearna pasivna elektronska kola se zasnivaju na električnom elementu koji se naziva 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11480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simetrič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linear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siv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2362320"/>
            <a:ext cx="1447560" cy="380880"/>
            <a:chOff x="1219320" y="2362320"/>
            <a:chExt cx="1447560" cy="380880"/>
          </a:xfrm>
        </p:grpSpPr>
        <p:sp>
          <p:nvSpPr>
            <p:cNvPr id="109" name=""/>
            <p:cNvSpPr/>
            <p:nvPr/>
          </p:nvSpPr>
          <p:spPr>
            <a:xfrm>
              <a:off x="1219320" y="2514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236232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25146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523880" y="1933560"/>
            <a:ext cx="990720" cy="428760"/>
            <a:chOff x="1523880" y="1933560"/>
            <a:chExt cx="990720" cy="428760"/>
          </a:xfrm>
        </p:grpSpPr>
        <p:sp>
          <p:nvSpPr>
            <p:cNvPr id="113" name=""/>
            <p:cNvSpPr/>
            <p:nvPr/>
          </p:nvSpPr>
          <p:spPr>
            <a:xfrm>
              <a:off x="1523880" y="21337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214720" y="1933560"/>
                  <a:ext cx="2998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457200" y="4114800"/>
            <a:ext cx="3962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ealna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potencijal anode viši od potencijala katode, dioda provodi električnu struju bez ot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potencijal anode niži od potencijala katode, dioda provodi ne provodi str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142640" y="25909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5000" y="34434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n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07240" y="342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2514600"/>
            <a:ext cx="1447560" cy="685800"/>
            <a:chOff x="1219320" y="2514600"/>
            <a:chExt cx="1447560" cy="685800"/>
          </a:xfrm>
        </p:grpSpPr>
        <p:sp>
          <p:nvSpPr>
            <p:cNvPr id="120" name=""/>
            <p:cNvSpPr/>
            <p:nvPr/>
          </p:nvSpPr>
          <p:spPr>
            <a:xfrm>
              <a:off x="1219320" y="3048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219320" y="2514600"/>
              <a:ext cx="1447560" cy="685800"/>
              <a:chOff x="1219320" y="2514600"/>
              <a:chExt cx="1447560" cy="685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219320" y="2514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66880" y="25146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1766880" y="2668680"/>
                    <a:ext cx="376200" cy="42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1268280" y="2741760"/>
                    <a:ext cx="276480" cy="27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26" name=""/>
          <p:cNvSpPr/>
          <p:nvPr/>
        </p:nvSpPr>
        <p:spPr>
          <a:xfrm>
            <a:off x="2133720" y="25909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uidioDE" descr=""/>
          <p:cNvPicPr/>
          <p:nvPr/>
        </p:nvPicPr>
        <p:blipFill>
          <a:blip r:embed="rId1"/>
          <a:srcRect l="4544" t="12750" r="7576" b="0"/>
          <a:stretch/>
        </p:blipFill>
        <p:spPr>
          <a:xfrm>
            <a:off x="4495680" y="1828800"/>
            <a:ext cx="2971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lna poluprovodnička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nogo prosto se pravi, samo se spoje jedan komad 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ovodnika i jedan komad 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ad 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ovodnika je tada anoda, a komad 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ovodnika je ka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adi mogu biti PROIZVOLJNO MALI, minijaturizacija moguća do mikronskih raz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1757520" cy="644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4070520"/>
            <a:ext cx="1776240" cy="653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7680" y="49896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rektna polar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13640" y="4967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verzna polar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ujno naponska zavisnost realne poluprovodničke d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uipPDIOD" descr=""/>
          <p:cNvPicPr/>
          <p:nvPr/>
        </p:nvPicPr>
        <p:blipFill>
          <a:blip r:embed="rId1"/>
          <a:srcRect l="0" t="10783" r="7576" b="0"/>
          <a:stretch/>
        </p:blipFill>
        <p:spPr>
          <a:xfrm>
            <a:off x="533520" y="1905120"/>
            <a:ext cx="3886200" cy="2898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4876920"/>
            <a:ext cx="4191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ko 0,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V varira, obično nekoliko desetina vol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pređu 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li BV dioda obično pregor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UIPPID" descr=""/>
          <p:cNvPicPr/>
          <p:nvPr/>
        </p:nvPicPr>
        <p:blipFill>
          <a:blip r:embed="rId2"/>
          <a:srcRect l="4544" t="12706" r="7636" b="0"/>
          <a:stretch/>
        </p:blipFill>
        <p:spPr>
          <a:xfrm>
            <a:off x="4908600" y="1979640"/>
            <a:ext cx="3701880" cy="284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23280" y="21700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lna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040" y="21477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ealizovana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952880"/>
            <a:ext cx="3733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diode se ne može odrediti na osnovu napona na di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u određuju drugi elementi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ređivanje jačine struje koja protiče kroz di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81200" cy="259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16765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oda je na višem potencijalu, dioda prov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on na diodi je V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akle oko 0,5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86000" y="2587680"/>
                <a:ext cx="4560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47800" y="4114800"/>
            <a:ext cx="752400" cy="26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880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oda je na višem potencijalu, a napona napajanja nije dovoljan za proboj, znači dioda ne prov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čina struje je jednaka n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514600" y="5630760"/>
                <a:ext cx="396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ecijalne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ener 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D (“light emitting diode”) dioda ili foto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unel 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otkijeva dio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38148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ener 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oda koja normalno radi u probo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bojni napon izuzetno temperaturno stabilan i iznosi 6,3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62320" y="5362560"/>
            <a:ext cx="714240" cy="73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338148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D di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oda koja emituje svetlost kada je direktno polari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24480" y="5324400"/>
            <a:ext cx="743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odn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su ustvari, pasivna nelinearna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postavljači niv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postavljači niv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a koja stvaraju i održavaju potrebne naponske niv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on diode približno ne zavisi od jačine struje koja protiče kroz 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15811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3800" y="5410080"/>
            <a:ext cx="300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z obzira kako se menj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napajanja i otp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rošača, napon potroš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nosi 2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05520" y="1990800"/>
            <a:ext cx="1523880" cy="3343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52280" y="5410080"/>
            <a:ext cx="30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z obzira kako se menj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napajanja i otp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rošača, napon potroš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nosi 6,3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nska kola koja naizmeničnu struju pretvaraju u jednosmer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obilazni deo svakog elektronskog uređ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utalasni ispravlj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28880" cy="178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33920" y="2438280"/>
            <a:ext cx="5105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je generator u pozitivnoj poluperiodi, potencijal anode je viši od potencijala katode, i dioda prov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je generator u negativnoj poluperiodi, potencijal katode je niži od potencijala katode, i dioda ne prov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60360" y="4800600"/>
                <a:ext cx="2930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08120" y="4498920"/>
                <a:ext cx="704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95280" y="5565600"/>
                <a:ext cx="2446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62720" y="4989600"/>
                <a:ext cx="550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756320" y="4419720"/>
                <a:ext cx="684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562720" y="5565600"/>
                <a:ext cx="749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8:20:32Z</dcterms:created>
  <dc:creator>Zlatan Šoškić</dc:creator>
  <dc:description/>
  <dc:language>en-US</dc:language>
  <cp:lastModifiedBy>Šole</cp:lastModifiedBy>
  <dcterms:modified xsi:type="dcterms:W3CDTF">2004-12-20T10:20:11Z</dcterms:modified>
  <cp:revision>57</cp:revision>
  <dc:subject/>
  <dc:title>Elektronika</dc:title>
</cp:coreProperties>
</file>