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5E6-8F5C-45DD-9072-37AA1AEC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490E-CD3F-4C3F-82E7-E1053FDB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00A-4F97-40F7-A915-EB17C07C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40A-2D08-4BD1-8855-7820BBDC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3D4-EBFF-4492-A570-053463BE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F40-CEFC-4930-9A50-40E91244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F2C-CA34-448B-B441-E1FD10C2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D1F7-5149-4FBB-9489-EA7CFA1E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D92-FB0C-4EA0-9A81-1A45FE93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021-595E-42DB-B561-AE3F09A2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2C3-3A5F-47FD-86A3-C3120C94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4DC-E77C-49A0-A3BA-3328B26E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4C3A-6F54-4EA7-94EC-90B96BF90E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ektronik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novni pojmo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linearne elektronske kom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6095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luprovodničke kompo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luprovodnici su izolatori u kojima pod dejstvom spoljašnjih uticaja nastaju pokretna naelektris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lementi četvrte grupe periodnog sistema (silicijum i germanij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Jedinjenja elemenata III i V grupe, ili II i VI gru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emijskom obradom stvaramo u njima naelektrisanja u onoj meri u kojoj to želimo !!! (to kod metala ne može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egativna naelektrisanja – elektroni (n poluprovodni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zitivna nelektrisanja – šupljine (p poluprovodni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ma želji, ostavljamo neobrađen da bude izo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elo kolo od jednog materijala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5334120"/>
            <a:ext cx="1981080" cy="99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5334120"/>
            <a:ext cx="380880" cy="99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5334120"/>
            <a:ext cx="380880" cy="99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88200" y="6308640"/>
            <a:ext cx="653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... i to najjeftinijeg, jer je zemljina kora (pesak) sastavljena od silicij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5334120"/>
            <a:ext cx="1676520" cy="990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553080" y="1828800"/>
            <a:ext cx="236556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linearne elektronske kom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uprovodn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 k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po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inimaln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le dimenz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la potrošnja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obus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dost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Šum nešto veći nego kod elektronskih ce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etljivije na NEKE spoljašnje promene (tem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ura, radioaktivno zračen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v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jam elektro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ignal je nosilac inform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nalogne inform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igitalne inform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295280"/>
            <a:ext cx="5486400" cy="916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ktronika je oblast elektrotehnike koja se bavi proizv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, prenosom i obradom elektr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h sign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035600"/>
            <a:ext cx="45720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lektro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nalogna elektro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igitalna elektro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495680" y="3505320"/>
            <a:ext cx="4038840" cy="990360"/>
            <a:chOff x="4495680" y="3505320"/>
            <a:chExt cx="4038840" cy="990360"/>
          </a:xfrm>
        </p:grpSpPr>
        <p:sp>
          <p:nvSpPr>
            <p:cNvPr id="110" name=""/>
            <p:cNvSpPr/>
            <p:nvPr/>
          </p:nvSpPr>
          <p:spPr>
            <a:xfrm>
              <a:off x="5638680" y="3505320"/>
              <a:ext cx="1752840" cy="99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lektrons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ko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95680" y="3962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3962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4360" y="35812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lazn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50840" y="397656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ign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7400" y="35812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zlazn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63880" y="397656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ign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nalogni sig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NTEMP" descr=""/>
          <p:cNvPicPr/>
          <p:nvPr/>
        </p:nvPicPr>
        <p:blipFill>
          <a:blip r:embed="rId1"/>
          <a:srcRect l="0" t="10048" r="7645" b="0"/>
          <a:stretch/>
        </p:blipFill>
        <p:spPr>
          <a:xfrm>
            <a:off x="533520" y="1219320"/>
            <a:ext cx="3886200" cy="2676240"/>
          </a:xfrm>
          <a:prstGeom prst="rect">
            <a:avLst/>
          </a:prstGeom>
          <a:ln w="0">
            <a:noFill/>
          </a:ln>
        </p:spPr>
      </p:pic>
      <p:pic>
        <p:nvPicPr>
          <p:cNvPr id="119" name="anvolt" descr=""/>
          <p:cNvPicPr/>
          <p:nvPr/>
        </p:nvPicPr>
        <p:blipFill>
          <a:blip r:embed="rId2"/>
          <a:stretch/>
        </p:blipFill>
        <p:spPr>
          <a:xfrm>
            <a:off x="4576680" y="1981080"/>
            <a:ext cx="4186440" cy="2960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510516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dna električna veličina opisuje jedan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le vrednosti napona i stru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elika osetljivost na š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 obaziremo se na koeficijent korisnog dej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nalogni elektronski sig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dnosmerne struje obezbeđuju rad elektronskih 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ignali su promenljivi, pa i struje moraju biti promenlj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ruje u elektronici s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menljive jednosmerne str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53000" y="2590920"/>
                <a:ext cx="6030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" name=""/>
          <p:cNvGrpSpPr/>
          <p:nvPr/>
        </p:nvGrpSpPr>
        <p:grpSpPr>
          <a:xfrm>
            <a:off x="1546560" y="2766240"/>
            <a:ext cx="2187720" cy="1107360"/>
            <a:chOff x="1546560" y="2766240"/>
            <a:chExt cx="2187720" cy="1107360"/>
          </a:xfrm>
        </p:grpSpPr>
        <p:sp>
          <p:nvSpPr>
            <p:cNvPr id="125" name=""/>
            <p:cNvSpPr/>
            <p:nvPr/>
          </p:nvSpPr>
          <p:spPr>
            <a:xfrm>
              <a:off x="1546560" y="3505320"/>
              <a:ext cx="138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Veliki sig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"/>
            <p:cNvCxnSpPr>
              <a:stCxn id="125" idx="0"/>
            </p:cNvCxnSpPr>
            <p:nvPr/>
          </p:nvCxnSpPr>
          <p:spPr>
            <a:xfrm flipV="1">
              <a:off x="2238480" y="2766240"/>
              <a:ext cx="1496160" cy="73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7" name=""/>
          <p:cNvGrpSpPr/>
          <p:nvPr/>
        </p:nvGrpSpPr>
        <p:grpSpPr>
          <a:xfrm>
            <a:off x="4374720" y="2766240"/>
            <a:ext cx="1990800" cy="1107360"/>
            <a:chOff x="4374720" y="2766240"/>
            <a:chExt cx="1990800" cy="1107360"/>
          </a:xfrm>
        </p:grpSpPr>
        <p:sp>
          <p:nvSpPr>
            <p:cNvPr id="128" name=""/>
            <p:cNvSpPr/>
            <p:nvPr/>
          </p:nvSpPr>
          <p:spPr>
            <a:xfrm>
              <a:off x="5108760" y="3505320"/>
              <a:ext cx="12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Mali sig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8" idx="0"/>
            </p:cNvCxnSpPr>
            <p:nvPr/>
          </p:nvCxnSpPr>
          <p:spPr>
            <a:xfrm flipH="1" flipV="1">
              <a:off x="4374720" y="2766240"/>
              <a:ext cx="1362960" cy="73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0" name=""/>
          <p:cNvSpPr/>
          <p:nvPr/>
        </p:nvSpPr>
        <p:spPr>
          <a:xfrm>
            <a:off x="424440" y="384660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bezbeđuje rad elektronskog 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uli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99600" y="38098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osi inform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luma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velmal" descr=""/>
          <p:cNvPicPr/>
          <p:nvPr/>
        </p:nvPicPr>
        <p:blipFill>
          <a:blip r:embed="rId1"/>
          <a:srcRect l="8729" t="9724" r="10846" b="0"/>
          <a:stretch/>
        </p:blipFill>
        <p:spPr>
          <a:xfrm>
            <a:off x="2666880" y="4419720"/>
            <a:ext cx="259092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553080" y="3886200"/>
            <a:ext cx="2224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4038480"/>
            <a:ext cx="228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4038480"/>
            <a:ext cx="228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gitalni sig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1795680" cy="1444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61544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8840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892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944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3640" y="1828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1360" y="13716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7840" y="13716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08360" y="13716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8880" y="13716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9040" y="13716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2286000"/>
            <a:ext cx="228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2743200"/>
            <a:ext cx="152640" cy="76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2743200"/>
            <a:ext cx="152640" cy="76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2743200"/>
            <a:ext cx="152280" cy="76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2743200"/>
            <a:ext cx="152640" cy="76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491000" y="2274840"/>
            <a:ext cx="3357720" cy="546840"/>
            <a:chOff x="4491000" y="2274840"/>
            <a:chExt cx="3357720" cy="546840"/>
          </a:xfrm>
        </p:grpSpPr>
        <p:sp>
          <p:nvSpPr>
            <p:cNvPr id="154" name=""/>
            <p:cNvSpPr/>
            <p:nvPr/>
          </p:nvSpPr>
          <p:spPr>
            <a:xfrm>
              <a:off x="4876920" y="24382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76920" y="26668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91000" y="227484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3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7120" y="25146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950080" y="3124080"/>
            <a:ext cx="228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16560" y="3581280"/>
            <a:ext cx="152280" cy="76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59560" y="2971800"/>
            <a:ext cx="2221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9040" y="3581280"/>
            <a:ext cx="152640" cy="76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02560" y="3581280"/>
            <a:ext cx="152280" cy="76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97120" y="3112920"/>
            <a:ext cx="3357720" cy="546840"/>
            <a:chOff x="4497120" y="3112920"/>
            <a:chExt cx="3357720" cy="546840"/>
          </a:xfrm>
        </p:grpSpPr>
        <p:sp>
          <p:nvSpPr>
            <p:cNvPr id="164" name=""/>
            <p:cNvSpPr/>
            <p:nvPr/>
          </p:nvSpPr>
          <p:spPr>
            <a:xfrm>
              <a:off x="4883040" y="3276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83040" y="35053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7120" y="311292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3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03600" y="33526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643920" y="2322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78840" y="3200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4038480"/>
            <a:ext cx="2286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4495680"/>
            <a:ext cx="152640" cy="76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491000" y="4027320"/>
            <a:ext cx="3510000" cy="546840"/>
            <a:chOff x="4491000" y="4027320"/>
            <a:chExt cx="3510000" cy="546840"/>
          </a:xfrm>
        </p:grpSpPr>
        <p:sp>
          <p:nvSpPr>
            <p:cNvPr id="173" name=""/>
            <p:cNvSpPr/>
            <p:nvPr/>
          </p:nvSpPr>
          <p:spPr>
            <a:xfrm>
              <a:off x="4876920" y="419112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76920" y="441972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91000" y="402732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3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97120" y="42670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672360" y="4114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50288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dna električna veličina opisuje jednu cifru (0 ili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dan signal se opisuje sa više cif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manjena osetljivost (praktično neosetljiv) na š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onente elektronskih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inearne elektronske kompo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d ovih komponenti se opisuje linearnim diferencijalnim jednačin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tpornici, kalemovi, kondenz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linearne elektronske kompo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rujno naponska zavisnost je neline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iode, tranzistori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linearne elektronske kom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lektronske c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luprovodničke kompo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linearne elektronske kom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lektronske c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ruja elektrona koja protiče kroz vak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ruja elektrona potiče iz usijane negativno naelektrisane žice - kat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3609720" cy="2868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046920" y="2678040"/>
            <a:ext cx="1649160" cy="2732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708440" y="2666880"/>
            <a:ext cx="4283280" cy="2711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386240" y="2666880"/>
            <a:ext cx="46054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linearne elektronske kom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lektronske c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li š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tpornost na radioaktivno zrač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dost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elike dimenz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elika potrošnja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etljivost na 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kupa proizvod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jna elektro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i-fi audio uređaji ekstremnog kvaliteta reproduk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15:44:55Z</dcterms:created>
  <dc:creator>Zlatan Soskic</dc:creator>
  <dc:description/>
  <dc:language>en-US</dc:language>
  <cp:lastModifiedBy>Zlatan Soskic</cp:lastModifiedBy>
  <dcterms:modified xsi:type="dcterms:W3CDTF">2007-05-15T14:41:20Z</dcterms:modified>
  <cp:revision>53</cp:revision>
  <dc:subject/>
  <dc:title>Elektronika</dc:title>
</cp:coreProperties>
</file>