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55A-8B94-4853-B37A-485E36DA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524-B73B-4A75-A1E0-D37851AE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FCB-A934-4868-B651-A8AB9E1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C48-4AAB-48F6-A560-F4F0E0AB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358-1E1F-4124-AB11-22093758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1F3-7F61-4197-B26A-EFD4ECBD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F78-B32F-46B1-894A-11701761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FCF-DE90-4971-A2E1-29703364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D52-8B1E-4228-943C-E6AAA351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D53-4D1D-4AA4-BEC2-C74C38A3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1AC-E927-4227-8591-8841894D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D94-89E9-4F58-A7AD-1C91BABC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2C68-75C4-49C6-8D83-70DDE5EB9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ktron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ktronska k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lektronska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skretna elektronska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stavljena od prethodno proizvedenih kompon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like dimenz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pravljiva i pode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15000" y="3411360"/>
            <a:ext cx="2819520" cy="1617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1366920"/>
            <a:ext cx="2743200" cy="1757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494320" y="5105520"/>
            <a:ext cx="3344760" cy="1695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3048120"/>
            <a:ext cx="457200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grisana elektronska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komponente kola se proizvode istovrem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nijature dimenz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lika gustina kompon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eži se smanjenju proizvedene top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ibridna elektronska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lektronska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asivna elektronska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riste energiju signala za svoj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la pasivnih 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ivna linearna kola (sad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mo linearne komponent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 otpornike, kondenzatore i kalemo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ivna nelinearna kola 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rže bar jednu nelinearnu komponent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tivna elektronska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ebna je dopunska energija za njihov rad (sadrže komponente kojima je potrebno napajanje, a to su tranzistori i operacioni pojačavač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 aktivna kola su neline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pajanje elektronsk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stantno jednosmerno napajanje, smatramo idealnim naponskim generatorima, jer su najmanje impedanse elektronskih komponenti reda kilo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ma i važnu ulogu obezbeđivanja referentnih potencij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tencijal polova napajanja je konstantan, ne menja se tokom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jedan od njih, obično onaj koji ima manji potencijal (minus) se uzima da ima vrednost nula, i taj kraj se naziva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mas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nekad i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zeml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na sličan način kao što se nivo mora uzima za nulti nivo vi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vi ostali potencijali u kolu se računaju u odnosu na taj potencij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SVI NAPONI U KOLU SU MANJI OD NAPONA IZMEĐU POLOVA NAPAJANJA (kao što je i svaka visina između dve tačke na reci manja od visine između izvora i ušća re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SVI POTENCIJALI U KOLU MORAJU BITI MANJI OD POTENCIJALA POZITIVNOG KRAJA NAPAJANJA (kao što izvor mora imati najveću visinu od svih tačaka na jednoj re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ori elektronskih sig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gnal generatori, prijemnici (antene) i pretvarači (senzo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oni su izvori električne struje 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lni, a ne idealni (imaju velike unutrašnje impedan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menljivog a ne kostantnog potencijala (stvaraju mali sig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stavljanje elektronsk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iki broj elem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onomisanje u prikaziva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 prikazuju se konture‚koje sadrže napajanje, već samo njihovi ele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 prikazuju se jedinice već samo vrednosti veličina kojima se opisuju ele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2751120" cy="1568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80040" y="2987640"/>
            <a:ext cx="8460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5257800" y="3084480"/>
            <a:ext cx="1981440" cy="368280"/>
            <a:chOff x="5257800" y="3084480"/>
            <a:chExt cx="1981440" cy="368280"/>
          </a:xfrm>
        </p:grpSpPr>
        <p:sp>
          <p:nvSpPr>
            <p:cNvPr id="122" name=""/>
            <p:cNvSpPr/>
            <p:nvPr/>
          </p:nvSpPr>
          <p:spPr>
            <a:xfrm flipH="1">
              <a:off x="5257800" y="3276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59240" y="308448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aterija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4419720"/>
            <a:ext cx="1902960" cy="368280"/>
            <a:chOff x="5257800" y="4419720"/>
            <a:chExt cx="1902960" cy="368280"/>
          </a:xfrm>
        </p:grpSpPr>
        <p:sp>
          <p:nvSpPr>
            <p:cNvPr id="125" name=""/>
            <p:cNvSpPr/>
            <p:nvPr/>
          </p:nvSpPr>
          <p:spPr>
            <a:xfrm flipH="1">
              <a:off x="5257800" y="4611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69760" y="441972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asa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066680" y="4984920"/>
            <a:ext cx="3429000" cy="187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410000" y="4819680"/>
            <a:ext cx="8478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računi elektronsk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ncipijelno jednostavn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tko se traže tačne vrednosti napona i struja u kolu, već su od interesa njihove međusobne zavisnosti, odnosno kako promena jedne od struja ili napona utiče na neku drugu struju ili nap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tko, skoro nikada se ne koristi metoda Kirhofovih za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ično se koriste Omov zakon i ekvivalentne transform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828800" y="3657600"/>
                <a:ext cx="16272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317840" y="3657600"/>
                <a:ext cx="15256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33520" y="4800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nogo se koristi i razlaganje kola na blokove kojima je poznata funkcija (metoda “Lego kockica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819520" y="5154120"/>
            <a:ext cx="3151800" cy="1551600"/>
            <a:chOff x="2819520" y="5154120"/>
            <a:chExt cx="3151800" cy="1551600"/>
          </a:xfrm>
        </p:grpSpPr>
        <p:sp>
          <p:nvSpPr>
            <p:cNvPr id="135" name=""/>
            <p:cNvSpPr/>
            <p:nvPr/>
          </p:nvSpPr>
          <p:spPr>
            <a:xfrm>
              <a:off x="3124080" y="6172200"/>
              <a:ext cx="533520" cy="533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6172200"/>
              <a:ext cx="533520" cy="533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9520" y="5715000"/>
              <a:ext cx="2590560" cy="457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900000">
              <a:off x="4876920" y="5562360"/>
              <a:ext cx="121896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računi elektronsk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67328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8752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61760" y="2322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54280" y="2944800"/>
                <a:ext cx="2694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20:45:41Z</dcterms:created>
  <dc:creator>Zlatan Šoškić</dc:creator>
  <dc:description/>
  <dc:language>en-US</dc:language>
  <cp:lastModifiedBy>Zlatan Šoškić</cp:lastModifiedBy>
  <dcterms:modified xsi:type="dcterms:W3CDTF">2004-12-12T23:50:12Z</dcterms:modified>
  <cp:revision>30</cp:revision>
  <dc:subject/>
  <dc:title>Elektronika</dc:title>
</cp:coreProperties>
</file>