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495E-2039-4CB0-8C58-C320564B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A4E4-FC5B-48FB-9D7D-615DC51C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23CB-BB89-4E50-A343-6C78AE97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45AE-AFFA-4AB5-99DD-BF21E6AE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77C0-F696-4496-ACE0-19469277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109-67D1-4A84-AD5B-07CC6098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3018-E20A-4C4D-8057-26CEE623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E2EE-FA43-4FA9-9A33-E53E3FC5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8DB6-805A-40F6-900C-9096FD1B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878-7710-4418-AC0A-EABFC819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6264-F333-47AA-AFB8-195E853D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4480-0B8C-4F25-B0FA-2323AA90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0C89-AE37-47D8-9E43-1C35E519FF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ffffff"/>
                </a:solidFill>
                <a:latin typeface="Arial"/>
              </a:rPr>
              <a:t>Električna struj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Naelektrisanja u kretanj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jam električ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00200" y="1866960"/>
            <a:ext cx="6248520" cy="1333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676520" y="3429000"/>
            <a:ext cx="6400800" cy="13669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533520" y="1905120"/>
            <a:ext cx="914400" cy="1143000"/>
            <a:chOff x="533520" y="1905120"/>
            <a:chExt cx="914400" cy="1143000"/>
          </a:xfrm>
        </p:grpSpPr>
        <p:grpSp>
          <p:nvGrpSpPr>
            <p:cNvPr id="109" name=""/>
            <p:cNvGrpSpPr/>
            <p:nvPr/>
          </p:nvGrpSpPr>
          <p:grpSpPr>
            <a:xfrm>
              <a:off x="533520" y="1905120"/>
              <a:ext cx="457200" cy="1143000"/>
              <a:chOff x="533520" y="1905120"/>
              <a:chExt cx="457200" cy="114300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533520" y="1905120"/>
                <a:ext cx="457200" cy="1143000"/>
                <a:chOff x="533520" y="1905120"/>
                <a:chExt cx="457200" cy="11430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533520" y="1905120"/>
                  <a:ext cx="457200" cy="45720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62120" y="236232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"/>
              <p:cNvSpPr/>
              <p:nvPr/>
            </p:nvSpPr>
            <p:spPr>
              <a:xfrm>
                <a:off x="610920" y="194148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990720" y="2133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57200" y="3429000"/>
            <a:ext cx="1066680" cy="1219320"/>
            <a:chOff x="457200" y="3429000"/>
            <a:chExt cx="1066680" cy="1219320"/>
          </a:xfrm>
        </p:grpSpPr>
        <p:grpSp>
          <p:nvGrpSpPr>
            <p:cNvPr id="116" name=""/>
            <p:cNvGrpSpPr/>
            <p:nvPr/>
          </p:nvGrpSpPr>
          <p:grpSpPr>
            <a:xfrm>
              <a:off x="457200" y="3429000"/>
              <a:ext cx="685800" cy="1219320"/>
              <a:chOff x="457200" y="3429000"/>
              <a:chExt cx="685800" cy="1219320"/>
            </a:xfrm>
          </p:grpSpPr>
          <p:sp>
            <p:nvSpPr>
              <p:cNvPr id="117" name=""/>
              <p:cNvSpPr/>
              <p:nvPr/>
            </p:nvSpPr>
            <p:spPr>
              <a:xfrm>
                <a:off x="685800" y="3429000"/>
                <a:ext cx="457200" cy="4572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14400" y="388620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08200" y="34653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457200" y="3505320"/>
                <a:ext cx="457200" cy="1143000"/>
                <a:chOff x="457200" y="3505320"/>
                <a:chExt cx="457200" cy="11430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457200" y="3505320"/>
                  <a:ext cx="457200" cy="1143000"/>
                  <a:chOff x="457200" y="3505320"/>
                  <a:chExt cx="457200" cy="11430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457200" y="3505320"/>
                    <a:ext cx="457200" cy="457200"/>
                  </a:xfrm>
                  <a:prstGeom prst="ellipse">
                    <a:avLst/>
                  </a:prstGeom>
                  <a:solidFill>
                    <a:srgbClr val="99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85800" y="3962520"/>
                    <a:ext cx="0" cy="685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534600" y="3541680"/>
                  <a:ext cx="31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914400" y="3733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43000" y="3657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419720" y="1752480"/>
            <a:ext cx="533160" cy="1524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3352680"/>
            <a:ext cx="533160" cy="1524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52280" y="5029200"/>
            <a:ext cx="1447560" cy="1219320"/>
            <a:chOff x="152280" y="5029200"/>
            <a:chExt cx="1447560" cy="1219320"/>
          </a:xfrm>
        </p:grpSpPr>
        <p:sp>
          <p:nvSpPr>
            <p:cNvPr id="130" name=""/>
            <p:cNvSpPr/>
            <p:nvPr/>
          </p:nvSpPr>
          <p:spPr>
            <a:xfrm>
              <a:off x="533160" y="50292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1760" y="548640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5200" y="506556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761760" y="5105520"/>
              <a:ext cx="457200" cy="1143000"/>
              <a:chOff x="761760" y="5105520"/>
              <a:chExt cx="457200" cy="114300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761760" y="5105520"/>
                <a:ext cx="457200" cy="1143000"/>
                <a:chOff x="761760" y="5105520"/>
                <a:chExt cx="457200" cy="11430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761760" y="5105520"/>
                  <a:ext cx="457200" cy="457200"/>
                </a:xfrm>
                <a:prstGeom prst="ellipse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990360" y="556272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"/>
              <p:cNvSpPr/>
              <p:nvPr/>
            </p:nvSpPr>
            <p:spPr>
              <a:xfrm>
                <a:off x="839160" y="514188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1218960" y="5334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280" y="5257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941240" y="1752480"/>
            <a:ext cx="1125720" cy="1206720"/>
            <a:chOff x="7941240" y="1752480"/>
            <a:chExt cx="1125720" cy="1206720"/>
          </a:xfrm>
        </p:grpSpPr>
        <p:sp>
          <p:nvSpPr>
            <p:cNvPr id="141" name=""/>
            <p:cNvSpPr/>
            <p:nvPr/>
          </p:nvSpPr>
          <p:spPr>
            <a:xfrm>
              <a:off x="7941240" y="1752480"/>
              <a:ext cx="1125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poc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= 0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49520" y="2133720"/>
              <a:ext cx="1023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r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= 1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41240" y="259092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Q= 1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8014320" y="3352680"/>
            <a:ext cx="1125720" cy="1144800"/>
            <a:chOff x="8014320" y="3352680"/>
            <a:chExt cx="1125720" cy="1144800"/>
          </a:xfrm>
        </p:grpSpPr>
        <p:sp>
          <p:nvSpPr>
            <p:cNvPr id="145" name=""/>
            <p:cNvSpPr/>
            <p:nvPr/>
          </p:nvSpPr>
          <p:spPr>
            <a:xfrm>
              <a:off x="8014320" y="3352680"/>
              <a:ext cx="1125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poc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= 0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22600" y="3733920"/>
              <a:ext cx="1023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r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= 0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14320" y="412920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Q= 0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8001720" y="4952880"/>
            <a:ext cx="1201680" cy="1144800"/>
            <a:chOff x="8001720" y="4952880"/>
            <a:chExt cx="1201680" cy="1144800"/>
          </a:xfrm>
        </p:grpSpPr>
        <p:sp>
          <p:nvSpPr>
            <p:cNvPr id="149" name=""/>
            <p:cNvSpPr/>
            <p:nvPr/>
          </p:nvSpPr>
          <p:spPr>
            <a:xfrm>
              <a:off x="8001720" y="4952880"/>
              <a:ext cx="120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poc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= -1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10000" y="5334120"/>
              <a:ext cx="1023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r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= 1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01720" y="572940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Q= 2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mereno kretanje naelektris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752480" y="5105520"/>
            <a:ext cx="5943600" cy="1268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419720" y="4952880"/>
            <a:ext cx="533160" cy="1524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jam električ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toci naelektrisanja suprotnih znakova u istom smeru međusobno poništavaju efe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tok negativnih naelektrisanja u jednom smeru ima isti efekat kao protok pozitivnih naelektrisanja u suprotnom sme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etali: elektr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lektroliti: negativni i pozitivni j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onizovani gasovi: elektroni i pozitivni j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ačina električ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izička veličina kojom se opisuje električna stru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914400" y="1752480"/>
                <a:ext cx="10238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286000" y="1752480"/>
                <a:ext cx="9986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809880" y="1752480"/>
                <a:ext cx="227988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I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Q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966960" y="2590920"/>
                <a:ext cx="63482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ΔQ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Q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533520" y="3581280"/>
            <a:ext cx="82296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ačina struje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nij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ve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ačina struje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jest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usmerena velič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govor: za smer električne struje uzima se smer kretanja pozitivnih naelektrisanja (suprotan od smera kretanja negativnih naelektrisan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lasifikacije električnih stru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ma smeru str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osm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izmenič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ma vremenskoj promenljiv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acionarne (oznake velikim slovi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menljive (oznake malim slovi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ma uzroku električne str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ifu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dukc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066680" y="5410080"/>
            <a:ext cx="5029200" cy="409680"/>
            <a:chOff x="1066680" y="5410080"/>
            <a:chExt cx="5029200" cy="409680"/>
          </a:xfrm>
        </p:grpSpPr>
        <p:sp>
          <p:nvSpPr>
            <p:cNvPr id="167" name=""/>
            <p:cNvSpPr/>
            <p:nvPr/>
          </p:nvSpPr>
          <p:spPr>
            <a:xfrm>
              <a:off x="1066680" y="5715000"/>
              <a:ext cx="472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5788080" y="5410080"/>
                  <a:ext cx="30780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E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9" name=""/>
          <p:cNvSpPr/>
          <p:nvPr/>
        </p:nvSpPr>
        <p:spPr>
          <a:xfrm>
            <a:off x="3276720" y="6019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6019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049200" y="5943600"/>
            <a:ext cx="315000" cy="480960"/>
            <a:chOff x="3049200" y="5943600"/>
            <a:chExt cx="315000" cy="480960"/>
          </a:xfrm>
        </p:grpSpPr>
        <p:sp>
          <p:nvSpPr>
            <p:cNvPr id="172" name=""/>
            <p:cNvSpPr/>
            <p:nvPr/>
          </p:nvSpPr>
          <p:spPr>
            <a:xfrm>
              <a:off x="3124080" y="5943600"/>
              <a:ext cx="15264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49200" y="6056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789280" y="5943600"/>
            <a:ext cx="257040" cy="480960"/>
            <a:chOff x="2789280" y="5943600"/>
            <a:chExt cx="257040" cy="480960"/>
          </a:xfrm>
        </p:grpSpPr>
        <p:sp>
          <p:nvSpPr>
            <p:cNvPr id="175" name=""/>
            <p:cNvSpPr/>
            <p:nvPr/>
          </p:nvSpPr>
          <p:spPr>
            <a:xfrm>
              <a:off x="2819520" y="594360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89280" y="605628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fekti električne st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ovek ne može da opa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fek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vek se pojavlju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magnetn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: postojanje magnetnog polja u okol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velikom broju slučajeva se pojavlju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oplotni: zagrevanje sredine kroz koji protiče el. stru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vetlosni: sredina emituje svetlost usled zagrev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hemijski: promena hemijskog sastava sredine kroz koju električna struja prola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lektroli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ehnološki postupak za dobijanje metala iz rastv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zlaganje rastvora pomoću električne struje i taloženje metala iz rastvora na plo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996920" y="3948120"/>
            <a:ext cx="4572000" cy="2438280"/>
            <a:chOff x="1996920" y="3948120"/>
            <a:chExt cx="4572000" cy="2438280"/>
          </a:xfrm>
        </p:grpSpPr>
        <p:sp>
          <p:nvSpPr>
            <p:cNvPr id="182" name=""/>
            <p:cNvSpPr/>
            <p:nvPr/>
          </p:nvSpPr>
          <p:spPr>
            <a:xfrm>
              <a:off x="1996920" y="3948120"/>
              <a:ext cx="0" cy="243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96920" y="6386400"/>
              <a:ext cx="45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68920" y="3948120"/>
              <a:ext cx="0" cy="243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073240" y="4329000"/>
            <a:ext cx="4419720" cy="19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5480" y="3338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3248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978360" y="4253040"/>
                <a:ext cx="30780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743200" y="3124080"/>
                <a:ext cx="297648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uSO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↔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sub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820960" y="2603520"/>
                <a:ext cx="2436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↔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91" name=""/>
          <p:cNvGrpSpPr/>
          <p:nvPr/>
        </p:nvGrpSpPr>
        <p:grpSpPr>
          <a:xfrm>
            <a:off x="1235160" y="3490920"/>
            <a:ext cx="1143000" cy="2133360"/>
            <a:chOff x="1235160" y="3490920"/>
            <a:chExt cx="1143000" cy="2133360"/>
          </a:xfrm>
        </p:grpSpPr>
        <p:sp>
          <p:nvSpPr>
            <p:cNvPr id="192" name=""/>
            <p:cNvSpPr/>
            <p:nvPr/>
          </p:nvSpPr>
          <p:spPr>
            <a:xfrm>
              <a:off x="1235160" y="3490920"/>
              <a:ext cx="1143000" cy="0"/>
            </a:xfrm>
            <a:prstGeom prst="line">
              <a:avLst/>
            </a:prstGeom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78160" y="3490920"/>
              <a:ext cx="0" cy="1066680"/>
            </a:xfrm>
            <a:prstGeom prst="line">
              <a:avLst/>
            </a:prstGeom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78160" y="4557600"/>
              <a:ext cx="0" cy="1066680"/>
            </a:xfrm>
            <a:prstGeom prst="line">
              <a:avLst/>
            </a:prstGeom>
            <a:ln w="7632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095880" y="3490920"/>
            <a:ext cx="1158840" cy="2147760"/>
            <a:chOff x="6095880" y="3490920"/>
            <a:chExt cx="1158840" cy="2147760"/>
          </a:xfrm>
        </p:grpSpPr>
        <p:grpSp>
          <p:nvGrpSpPr>
            <p:cNvPr id="196" name=""/>
            <p:cNvGrpSpPr/>
            <p:nvPr/>
          </p:nvGrpSpPr>
          <p:grpSpPr>
            <a:xfrm>
              <a:off x="6111720" y="3490920"/>
              <a:ext cx="1143000" cy="2133360"/>
              <a:chOff x="6111720" y="3490920"/>
              <a:chExt cx="1143000" cy="213336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6111720" y="3490920"/>
                <a:ext cx="0" cy="2133360"/>
                <a:chOff x="6111720" y="3490920"/>
                <a:chExt cx="0" cy="21333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111720" y="3490920"/>
                  <a:ext cx="0" cy="1066680"/>
                </a:xfrm>
                <a:prstGeom prst="line">
                  <a:avLst/>
                </a:prstGeom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111720" y="4557600"/>
                  <a:ext cx="0" cy="1066680"/>
                </a:xfrm>
                <a:prstGeom prst="line">
                  <a:avLst/>
                </a:prstGeom>
                <a:ln w="7632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6111720" y="3490920"/>
                <a:ext cx="1143000" cy="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6095880" y="4572000"/>
              <a:ext cx="0" cy="106668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378160" y="471024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17480" y="52182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n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26760" y="5181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at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368520" y="4648320"/>
            <a:ext cx="743040" cy="519120"/>
            <a:chOff x="3368520" y="4648320"/>
            <a:chExt cx="743040" cy="519120"/>
          </a:xfrm>
        </p:grpSpPr>
        <p:sp>
          <p:nvSpPr>
            <p:cNvPr id="206" name=""/>
            <p:cNvSpPr/>
            <p:nvPr/>
          </p:nvSpPr>
          <p:spPr>
            <a:xfrm>
              <a:off x="3902040" y="501480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68520" y="5091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74640" y="4648320"/>
              <a:ext cx="73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nj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117320" y="4648320"/>
            <a:ext cx="788760" cy="519120"/>
            <a:chOff x="4117320" y="4648320"/>
            <a:chExt cx="788760" cy="519120"/>
          </a:xfrm>
        </p:grpSpPr>
        <p:sp>
          <p:nvSpPr>
            <p:cNvPr id="210" name=""/>
            <p:cNvSpPr/>
            <p:nvPr/>
          </p:nvSpPr>
          <p:spPr>
            <a:xfrm>
              <a:off x="4206960" y="5014800"/>
              <a:ext cx="152280" cy="152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59240" y="5091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17320" y="464832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katj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aradejevi zakoni elektrol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vantitativno opisuju proces elektrol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2197080"/>
            <a:ext cx="6400800" cy="642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sa metala koji se izdvoji na katodi proporcionalna je ukupnom naelektrisanju koje protekne kroz rastv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9600" y="175248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 zakon elektro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295800" y="3048120"/>
                <a:ext cx="164304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I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295280" y="4406760"/>
            <a:ext cx="6400800" cy="642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ektrohemijski ekvivalent nekog elementa proporcionalan je njegovom hemijskom ekvival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55560" y="3962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 zakon elektro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061720" y="3505320"/>
            <a:ext cx="41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 – hemijski ekvivalent elementa [kg/C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416400" y="5486400"/>
                <a:ext cx="15364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2:53:44Z</dcterms:created>
  <dc:creator>Zlatan Šoškić</dc:creator>
  <dc:description/>
  <dc:language>en-US</dc:language>
  <cp:lastModifiedBy>Zlatan Soskic</cp:lastModifiedBy>
  <dcterms:modified xsi:type="dcterms:W3CDTF">2007-03-08T17:14:42Z</dcterms:modified>
  <cp:revision>92</cp:revision>
  <dc:subject/>
  <dc:title>Električna struja</dc:title>
</cp:coreProperties>
</file>