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362-7FEE-4EF2-9562-3A06390A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360-399E-4787-8438-D5A56896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785-5E27-40D4-BD42-88DE26CA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8B7-5DD3-45B6-B799-24F27EE9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BEC-F1FC-436C-881F-187FADB7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0C7-034B-4890-A4B3-2A3E1011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534-B72C-4B5C-8E45-4A5589FD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F2B-3DB6-4750-8685-737F2193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935-6C9F-4C94-9B3D-C3581160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94CD-818D-4349-9BE8-8C51DD91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54D-8C3D-4255-8563-D1988DB8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5589-5730-47D0-BF8A-A9C0E3F8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EA2F-82BB-49D8-9272-72BD9E8C02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Elektronik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Tranzistorska k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ponski stabiliz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ektrični uređaj kome izlazni napon ne reaguje na promene ulaznog napona, izlazne struje, temperature i drugih poremeć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eo svakog napaj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B konfigur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aza se nalazi na nekom stabilnom potencijalu, rad tranzistora je stabi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38080" y="3425760"/>
            <a:ext cx="3429000" cy="2278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066680" y="5784840"/>
                <a:ext cx="23623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5,6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503600" y="3063960"/>
            <a:ext cx="410688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čavač s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lektrični uređaj koji ne menja oblik već snagu sig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vršni stepen kola za obradu signa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C konfigur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3838680" cy="3540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862520" y="2514600"/>
                <a:ext cx="3543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400800" y="3429000"/>
                <a:ext cx="11811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326280" y="2971800"/>
                <a:ext cx="1827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864320" y="30081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liki sig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1480" y="34290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li sig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272200" y="4473720"/>
                <a:ext cx="2652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08640" y="412920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naga ulaznog signa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202360" y="5257800"/>
                <a:ext cx="27637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394240" y="489096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naga izlaznog signa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181480" y="5945040"/>
                <a:ext cx="305460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la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a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la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az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la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az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dvojni st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o koje sprečava nepoželjan uticaj izlaza na ul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Lepak” elektronike, “elektronski šraf”, “elektronska zakovica”, kolo koje ne učestvuje u funkciji kola ali omogućava modularno projekto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C konfigur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3504960" cy="3095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389640" y="3657600"/>
                <a:ext cx="1203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a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dvojni st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 imamo akumulator od 12V, a treba da sijalicu koja ima unutrašnji otpor od 1 kilooma povežemo na napon napajanja koji iznosi između 7V (ako je više pregoreće) i 4,5 V (ako je manje neće sija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– razdelnik nap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47800" y="2438280"/>
            <a:ext cx="2084400" cy="3300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962680" y="2514600"/>
            <a:ext cx="1170000" cy="3149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765120" y="592776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tastrofa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352680" y="2657520"/>
            <a:ext cx="1876680" cy="320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498680" y="5791320"/>
                <a:ext cx="4611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!!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dvojni st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dodati razdvojni stepen koji će sprečiti da naredni stepen (korisnik) utiče na rad prethodnog step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330280"/>
            <a:ext cx="46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enta je u tome da iz prethodnog u nare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epen teče struja baze koja je zanemarljiva, i ne utiče na rad razdelnika nap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22800" y="3733920"/>
            <a:ext cx="46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prethodnom slučaju je iz prethodnog u naredni stepen tekla velika struja koja je remetila rad razdelnika nap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54120" y="1933560"/>
            <a:ext cx="3232080" cy="37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066680" y="5959440"/>
                <a:ext cx="22496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5,3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zistorska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ktično sva kola i analogne i digitalne elektron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i osnovne konfigur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 zajedničkim emito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aponski pojačavač (analogna elektroni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kidač (digitalna elektroni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 zajedničkom baz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aponski stabilizator (analogna elektroni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 zajedničkim kolekto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jačavač snage (analogna elektroni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dvojni stepen (analogna i digitalna elektroni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anzistorske konfigu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71480" y="1295280"/>
            <a:ext cx="2048040" cy="220032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762120" y="2285640"/>
            <a:ext cx="600480" cy="1143000"/>
            <a:chOff x="762120" y="2285640"/>
            <a:chExt cx="600480" cy="1143000"/>
          </a:xfrm>
        </p:grpSpPr>
        <p:sp>
          <p:nvSpPr>
            <p:cNvPr id="110" name=""/>
            <p:cNvSpPr/>
            <p:nvPr/>
          </p:nvSpPr>
          <p:spPr>
            <a:xfrm flipV="1">
              <a:off x="762120" y="22856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4280" y="270360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l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5880" y="1371240"/>
            <a:ext cx="683640" cy="2057400"/>
            <a:chOff x="2135880" y="1371240"/>
            <a:chExt cx="683640" cy="2057400"/>
          </a:xfrm>
        </p:grpSpPr>
        <p:sp>
          <p:nvSpPr>
            <p:cNvPr id="113" name=""/>
            <p:cNvSpPr/>
            <p:nvPr/>
          </p:nvSpPr>
          <p:spPr>
            <a:xfrm flipV="1">
              <a:off x="2819520" y="1371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5880" y="21337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zl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841320" y="36180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E konfigur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971800" y="4572000"/>
            <a:ext cx="207648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3067200" y="4723920"/>
            <a:ext cx="600480" cy="892440"/>
            <a:chOff x="3067200" y="4723920"/>
            <a:chExt cx="600480" cy="892440"/>
          </a:xfrm>
        </p:grpSpPr>
        <p:sp>
          <p:nvSpPr>
            <p:cNvPr id="118" name=""/>
            <p:cNvSpPr/>
            <p:nvPr/>
          </p:nvSpPr>
          <p:spPr>
            <a:xfrm flipV="1">
              <a:off x="3067200" y="4723920"/>
              <a:ext cx="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69360" y="49672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l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332960" y="4723920"/>
            <a:ext cx="639000" cy="892440"/>
            <a:chOff x="4332960" y="4723920"/>
            <a:chExt cx="639000" cy="892440"/>
          </a:xfrm>
        </p:grpSpPr>
        <p:sp>
          <p:nvSpPr>
            <p:cNvPr id="121" name=""/>
            <p:cNvSpPr/>
            <p:nvPr/>
          </p:nvSpPr>
          <p:spPr>
            <a:xfrm flipV="1">
              <a:off x="4971960" y="4723920"/>
              <a:ext cx="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32960" y="49672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zl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146400" y="580536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B konfigur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562720" y="1438200"/>
            <a:ext cx="2238120" cy="206712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5743440" y="1676520"/>
            <a:ext cx="600840" cy="815760"/>
            <a:chOff x="5743440" y="1676520"/>
            <a:chExt cx="600840" cy="815760"/>
          </a:xfrm>
        </p:grpSpPr>
        <p:sp>
          <p:nvSpPr>
            <p:cNvPr id="126" name=""/>
            <p:cNvSpPr/>
            <p:nvPr/>
          </p:nvSpPr>
          <p:spPr>
            <a:xfrm flipV="1">
              <a:off x="5743440" y="167652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960" y="190512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l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933240" y="1676160"/>
            <a:ext cx="639000" cy="1654200"/>
            <a:chOff x="6933240" y="1676160"/>
            <a:chExt cx="639000" cy="1654200"/>
          </a:xfrm>
        </p:grpSpPr>
        <p:sp>
          <p:nvSpPr>
            <p:cNvPr id="129" name=""/>
            <p:cNvSpPr/>
            <p:nvPr/>
          </p:nvSpPr>
          <p:spPr>
            <a:xfrm flipV="1">
              <a:off x="7572240" y="1676160"/>
              <a:ext cx="0" cy="16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33240" y="23004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zl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870880" y="35193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C konfigur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čavač nap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đaj kod koga je izlazni napon proporcionalan ulaznom nap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E konfiguracija u aktivnom režimu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0440" y="189396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tencijal baz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629320" y="1895400"/>
                <a:ext cx="8478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894840" y="25178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ruja baz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257800" y="2354400"/>
                <a:ext cx="162720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889080" y="32796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ruja emitor-kolek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248520" y="3112920"/>
                <a:ext cx="2673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96640" y="3813120"/>
            <a:ext cx="252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pon na otporniku R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962520" y="4259160"/>
                <a:ext cx="41432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992400" y="5021280"/>
                <a:ext cx="20275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β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546960" y="4944960"/>
                <a:ext cx="12254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β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1884240"/>
            <a:ext cx="3562200" cy="39718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1219320" y="3646080"/>
            <a:ext cx="490320" cy="1676520"/>
            <a:chOff x="1219320" y="3646080"/>
            <a:chExt cx="490320" cy="1676520"/>
          </a:xfrm>
        </p:grpSpPr>
        <p:sp>
          <p:nvSpPr>
            <p:cNvPr id="146" name=""/>
            <p:cNvSpPr/>
            <p:nvPr/>
          </p:nvSpPr>
          <p:spPr>
            <a:xfrm flipV="1">
              <a:off x="1219320" y="364608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1219320" y="4255920"/>
                  <a:ext cx="49032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la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" name=""/>
          <p:cNvGrpSpPr/>
          <p:nvPr/>
        </p:nvGrpSpPr>
        <p:grpSpPr>
          <a:xfrm>
            <a:off x="2514600" y="3188880"/>
            <a:ext cx="893880" cy="2133720"/>
            <a:chOff x="2514600" y="3188880"/>
            <a:chExt cx="893880" cy="2133720"/>
          </a:xfrm>
        </p:grpSpPr>
        <p:grpSp>
          <p:nvGrpSpPr>
            <p:cNvPr id="149" name=""/>
            <p:cNvGrpSpPr/>
            <p:nvPr/>
          </p:nvGrpSpPr>
          <p:grpSpPr>
            <a:xfrm>
              <a:off x="2514600" y="3188880"/>
              <a:ext cx="457200" cy="2133720"/>
              <a:chOff x="2514600" y="3188880"/>
              <a:chExt cx="457200" cy="2133720"/>
            </a:xfrm>
          </p:grpSpPr>
          <p:sp>
            <p:nvSpPr>
              <p:cNvPr id="150" name=""/>
              <p:cNvSpPr/>
              <p:nvPr/>
            </p:nvSpPr>
            <p:spPr>
              <a:xfrm>
                <a:off x="2514600" y="31892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2819520" y="3188880"/>
                <a:ext cx="0" cy="21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2895480" y="4235400"/>
                  <a:ext cx="51300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zla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733920" y="5856120"/>
                <a:ext cx="530064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−</m:t>
                    </m:r>
                    <m:r>
                      <m:t xml:space="preserve">β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620120" y="1133640"/>
                <a:ext cx="118260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čavač nap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951360" cy="3405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86960" y="460836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kupan ulazni i izlazni na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398840" y="1216080"/>
            <a:ext cx="4059360" cy="3355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84120" y="4586400"/>
            <a:ext cx="39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li signal ulaznog i izlaznog nap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838080" y="5032440"/>
                <a:ext cx="4032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a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β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e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β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762120" y="57913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li signal se pojačava nekoliko desetina puta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li signal menja znak (fazno se pomera za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čavač nap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izdvajanje malog signala koriste se visokofrekventni filtri sa što nižom graničnom frekvencom (da se nebi prigušili neki sporopromenljivi sign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veća pojačanja – više istih step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 pojačava nepromenljivi napon, ali to nije od značaja u elektro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71880" y="2781360"/>
            <a:ext cx="453384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kid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nova digitalne elektronike i svih sistema upravlj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ulova (prekidačka) algebra, račun pomoću 0 ili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E konfiguracija koja radi u režimu zakočenja ili režimu zasić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09480" y="2724120"/>
            <a:ext cx="2495520" cy="3524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200400" y="2819520"/>
            <a:ext cx="5638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ulazni napon nizak, nijedan spoj u tranzistoru nije direktno polarisan, kroz tranzistor ne teče struja, i izlazni napon je blizak naponu napajanja, odnosno, izlazni napon je vi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ulazni napon visok, oba spoja su direktno polarisana, kroz tranzistor protiče struja, a izlazni napon je nizak i iznosi oko 0,2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kid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ostavni primer automatskog upravlj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01000" cy="4384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11240" y="6284880"/>
            <a:ext cx="43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ektrično upravljanje električnom struj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ka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la koja vrše logička izračunavanja (rezultat DA ili 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-nizak napon, NE-visok nap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2143080"/>
            <a:ext cx="2247840" cy="341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236600" y="5638680"/>
                <a:ext cx="127152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¬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724280" y="5668920"/>
                <a:ext cx="1405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¬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∨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858000" y="5745240"/>
                <a:ext cx="10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∨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395520" y="2327400"/>
            <a:ext cx="4834080" cy="3082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80040" y="609588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ulova teorija pokazuje da se bilo koja logička operacija može predstaviti putem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gacije i disjunkcije (ili pomoću negacije i konjukci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32:44Z</dcterms:created>
  <dc:creator>Zlatan Šoškić</dc:creator>
  <dc:description/>
  <dc:language>en-US</dc:language>
  <cp:lastModifiedBy>Zlatan Soskic</cp:lastModifiedBy>
  <dcterms:modified xsi:type="dcterms:W3CDTF">2007-05-30T16:13:41Z</dcterms:modified>
  <cp:revision>94</cp:revision>
  <dc:subject/>
  <dc:title>Elektronika</dc:title>
</cp:coreProperties>
</file>