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3E4-FEA2-408A-8D90-B0ED937B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F64-3382-4DF7-9826-4B72BDC9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5E6-6278-4168-BACD-AA812B3F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9B5-9165-427A-9AA0-DCDEF474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C97-75A3-4503-B766-9E4B3D1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DCC-4BAF-4660-B2ED-F5AA3B3C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815-6C35-474E-BB5F-C10F9F5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E7D-B301-478B-A3C8-8E06BAC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594-ED5F-4AFA-9890-72AC5570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9F4-5C5E-4133-82E6-8C2874A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B32-1F7E-4FF3-9942-393F20CD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13A-DB65-4AC4-A7F6-695BD3B8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8D24-67DF-4AA1-ACD9-76E0B4B0F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asivne linearne komponente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asivna linearna elektronska k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ma nam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skofrekventni (NF ili 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uštaju niskofrekventne, a ne propuštaju visokofrekventne komponente sig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isokofrekventni (VF ili H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uštaju visokofrekventne, a ne propuštaju niskofrekventne komponente sig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usnici opsega (“band pas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uštaju frekvence u nekom opsegu, a niže frekvence i više frekvence ne propušt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gušnici opsega (“band stop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gušuju frekvence u nekom opsegu, a niže frekvence i više frekvence propušt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ma nam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752480" y="1676520"/>
            <a:ext cx="4734000" cy="990360"/>
            <a:chOff x="1752480" y="1676520"/>
            <a:chExt cx="4734000" cy="990360"/>
          </a:xfrm>
        </p:grpSpPr>
        <p:sp>
          <p:nvSpPr>
            <p:cNvPr id="199" name=""/>
            <p:cNvSpPr/>
            <p:nvPr/>
          </p:nvSpPr>
          <p:spPr>
            <a:xfrm>
              <a:off x="2819520" y="1676520"/>
              <a:ext cx="2133360" cy="99036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il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2480" y="18288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2880" y="18288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2480" y="25146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52880" y="25146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05120" y="1828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410080" y="1828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905120" y="2057400"/>
                  <a:ext cx="25056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486400" y="1959120"/>
                  <a:ext cx="10000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nfgRAPH" descr=""/>
          <p:cNvPicPr/>
          <p:nvPr/>
        </p:nvPicPr>
        <p:blipFill>
          <a:blip r:embed="rId1"/>
          <a:srcRect l="0" t="12750" r="9088" b="0"/>
          <a:stretch/>
        </p:blipFill>
        <p:spPr>
          <a:xfrm>
            <a:off x="609480" y="2781360"/>
            <a:ext cx="3581640" cy="2655720"/>
          </a:xfrm>
          <a:prstGeom prst="rect">
            <a:avLst/>
          </a:prstGeom>
          <a:ln w="0">
            <a:noFill/>
          </a:ln>
        </p:spPr>
      </p:pic>
      <p:pic>
        <p:nvPicPr>
          <p:cNvPr id="209" name="vfgRAPH" descr=""/>
          <p:cNvPicPr/>
          <p:nvPr/>
        </p:nvPicPr>
        <p:blipFill>
          <a:blip r:embed="rId2"/>
          <a:srcRect l="0" t="12750" r="9088" b="0"/>
          <a:stretch/>
        </p:blipFill>
        <p:spPr>
          <a:xfrm>
            <a:off x="4572000" y="2819520"/>
            <a:ext cx="3429000" cy="2543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24040" y="54468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dealni NF fil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62160" y="5410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dealni VF fil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162240" y="2895480"/>
            <a:ext cx="952560" cy="3076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ma elementima koje kor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C fi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L fi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C fi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jednostavniji filtri su razdelnici naizmeničnog nap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1219320" cy="2952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49760" y="5958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" y="3276360"/>
            <a:ext cx="837720" cy="1981440"/>
            <a:chOff x="685800" y="3276360"/>
            <a:chExt cx="837720" cy="1981440"/>
          </a:xfrm>
        </p:grpSpPr>
        <p:sp>
          <p:nvSpPr>
            <p:cNvPr id="218" name=""/>
            <p:cNvSpPr/>
            <p:nvPr/>
          </p:nvSpPr>
          <p:spPr>
            <a:xfrm flipH="1">
              <a:off x="914040" y="5257800"/>
              <a:ext cx="6094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3276720"/>
              <a:ext cx="6094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066680" y="3276360"/>
              <a:ext cx="0" cy="19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685800" y="3975120"/>
                  <a:ext cx="3985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"/>
          <p:cNvGrpSpPr/>
          <p:nvPr/>
        </p:nvGrpSpPr>
        <p:grpSpPr>
          <a:xfrm>
            <a:off x="1523880" y="3276360"/>
            <a:ext cx="1019160" cy="1981440"/>
            <a:chOff x="1523880" y="3276360"/>
            <a:chExt cx="1019160" cy="1981440"/>
          </a:xfrm>
        </p:grpSpPr>
        <p:sp>
          <p:nvSpPr>
            <p:cNvPr id="223" name=""/>
            <p:cNvSpPr/>
            <p:nvPr/>
          </p:nvSpPr>
          <p:spPr>
            <a:xfrm>
              <a:off x="1523880" y="327672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426708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981080" y="3276360"/>
              <a:ext cx="0" cy="99036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3880" y="525780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81080" y="4267080"/>
              <a:ext cx="0" cy="99072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6000" y="3584520"/>
                  <a:ext cx="4986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068560" y="4495680"/>
                  <a:ext cx="47448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2895480" y="3276360"/>
            <a:ext cx="1870200" cy="3049920"/>
            <a:chOff x="2895480" y="3276360"/>
            <a:chExt cx="1870200" cy="3049920"/>
          </a:xfrm>
        </p:grpSpPr>
        <p:sp>
          <p:nvSpPr>
            <p:cNvPr id="231" name=""/>
            <p:cNvSpPr/>
            <p:nvPr/>
          </p:nvSpPr>
          <p:spPr>
            <a:xfrm>
              <a:off x="3259800" y="59580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L fil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124080" y="5257800"/>
              <a:ext cx="6098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24080" y="3276720"/>
              <a:ext cx="6098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6720" y="3276360"/>
              <a:ext cx="0" cy="19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895480" y="3975120"/>
                  <a:ext cx="3985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3733920" y="3276720"/>
              <a:ext cx="76176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411480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191120" y="3276720"/>
              <a:ext cx="0" cy="83808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33920" y="5257800"/>
              <a:ext cx="76176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191120" y="4114440"/>
              <a:ext cx="0" cy="114300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238640" y="3584520"/>
                  <a:ext cx="47304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4265640" y="4495680"/>
                  <a:ext cx="50004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81800" y="2990880"/>
            <a:ext cx="971280" cy="31813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181480" y="3276360"/>
            <a:ext cx="1946520" cy="3049920"/>
            <a:chOff x="5181480" y="3276360"/>
            <a:chExt cx="1946520" cy="3049920"/>
          </a:xfrm>
        </p:grpSpPr>
        <p:sp>
          <p:nvSpPr>
            <p:cNvPr id="245" name=""/>
            <p:cNvSpPr/>
            <p:nvPr/>
          </p:nvSpPr>
          <p:spPr>
            <a:xfrm flipH="1">
              <a:off x="5410080" y="5257800"/>
              <a:ext cx="6098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10080" y="3276720"/>
              <a:ext cx="6098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562720" y="3276360"/>
              <a:ext cx="0" cy="19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181480" y="3975120"/>
                  <a:ext cx="3985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6095880" y="327672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5880" y="434340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553080" y="3276360"/>
              <a:ext cx="0" cy="106668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5257800"/>
              <a:ext cx="76212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553080" y="4343400"/>
              <a:ext cx="0" cy="91440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600960" y="3584520"/>
                  <a:ext cx="47304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627960" y="4495680"/>
                  <a:ext cx="50004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>
              <a:off x="5583960" y="59580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LC fil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jednostavniji i najčešći jer su mu dimenzije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61920" y="1600200"/>
            <a:ext cx="1933560" cy="1838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95520" y="35053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F R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09680" y="2133720"/>
            <a:ext cx="249480" cy="326880"/>
            <a:chOff x="2209680" y="2133720"/>
            <a:chExt cx="249480" cy="326880"/>
          </a:xfrm>
        </p:grpSpPr>
        <p:sp>
          <p:nvSpPr>
            <p:cNvPr id="262" name=""/>
            <p:cNvSpPr/>
            <p:nvPr/>
          </p:nvSpPr>
          <p:spPr>
            <a:xfrm>
              <a:off x="2209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2286000" y="2133720"/>
                  <a:ext cx="1731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733920" y="2286000"/>
                <a:ext cx="41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26000" y="1600200"/>
                <a:ext cx="1226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733920" y="3352680"/>
                <a:ext cx="35067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741840" y="4114800"/>
                <a:ext cx="51735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57200" y="533412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frekvence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iske frekvence): g(f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 frekvence f&gt;&gt;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isoke frekvence): g(f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 n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ranična frekven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fil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218360" y="5405400"/>
                <a:ext cx="1468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osna karakteristika filtra g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14400" y="1676520"/>
                <a:ext cx="4141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3" name="" descr=""/>
          <p:cNvPicPr/>
          <p:nvPr/>
        </p:nvPicPr>
        <p:blipFill>
          <a:blip r:embed="rId1"/>
          <a:srcRect l="6611" t="9724" r="11908" b="0"/>
          <a:stretch/>
        </p:blipFill>
        <p:spPr>
          <a:xfrm>
            <a:off x="685800" y="3048120"/>
            <a:ext cx="4267080" cy="3601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29200" y="312408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lt;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&gt;0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gt;10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&lt;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oro idealno radi za frekvence 10 puta v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manje od grani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ba izabrati graničnu frekvencu desetak puta manju od one koje hoćemo da guš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57800" y="1828800"/>
                <a:ext cx="103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477120" y="1873080"/>
                <a:ext cx="2147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labljenj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lt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gušenje visokofrekventnih smetnji pri mere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lanjanje “talasanja” kod ispravlj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signfVF" descr=""/>
          <p:cNvPicPr/>
          <p:nvPr/>
        </p:nvPicPr>
        <p:blipFill>
          <a:blip r:embed="rId1"/>
          <a:srcRect l="6605" t="8331" r="12952" b="0"/>
          <a:stretch/>
        </p:blipFill>
        <p:spPr>
          <a:xfrm>
            <a:off x="533520" y="2514600"/>
            <a:ext cx="3728880" cy="3238560"/>
          </a:xfrm>
          <a:prstGeom prst="rect">
            <a:avLst/>
          </a:prstGeom>
          <a:ln w="0">
            <a:noFill/>
          </a:ln>
        </p:spPr>
      </p:pic>
      <p:pic>
        <p:nvPicPr>
          <p:cNvPr id="280" name="SIG-NF" descr=""/>
          <p:cNvPicPr/>
          <p:nvPr/>
        </p:nvPicPr>
        <p:blipFill>
          <a:blip r:embed="rId2"/>
          <a:srcRect l="7619" t="9669" r="11938" b="0"/>
          <a:stretch/>
        </p:blipFill>
        <p:spPr>
          <a:xfrm>
            <a:off x="4997520" y="2568600"/>
            <a:ext cx="3765600" cy="3222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419720" y="3886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F fi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je upravo obrnuto od NF fil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7200" y="1905120"/>
            <a:ext cx="2181240" cy="2501640"/>
            <a:chOff x="457200" y="1905120"/>
            <a:chExt cx="2181240" cy="25016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218124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828800" y="2657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20760" y="403848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F RC fil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1960560" y="2581200"/>
                  <a:ext cx="17316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733920" y="2438280"/>
                <a:ext cx="41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26000" y="1752480"/>
                <a:ext cx="1226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z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930480" y="3505320"/>
                <a:ext cx="3113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753000" y="4278240"/>
                <a:ext cx="51512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57200" y="54864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frekvence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iske frekvence): g(f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 frekvence f&gt;&gt;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isoke frekvence): g(f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 n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ranična frekven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fil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218360" y="5557680"/>
                <a:ext cx="14684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osna karakteristika filtra g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914400" y="1676520"/>
                <a:ext cx="4141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den>
                    </m:f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f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5029200" y="312408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lt;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10 </a:t>
            </a:r>
            <a:r>
              <a:rPr b="0" lang="sr-Latn-C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&lt;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&gt;0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oro idealno radi za frekvence 10 puta v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manje od grani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ba izabrati graničnu frekvencu desetak pu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 od one koje hoćemo da guš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257800" y="1828800"/>
                <a:ext cx="103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477120" y="1873080"/>
                <a:ext cx="21477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labljenj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ltr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1" name="" descr=""/>
          <p:cNvPicPr/>
          <p:nvPr/>
        </p:nvPicPr>
        <p:blipFill>
          <a:blip r:embed="rId1"/>
          <a:srcRect l="6605" t="8331" r="11938" b="0"/>
          <a:stretch/>
        </p:blipFill>
        <p:spPr>
          <a:xfrm>
            <a:off x="533520" y="3105000"/>
            <a:ext cx="42876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fi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na VF fil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lanjan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caja nestabilnosti napajanja pri merenjima, u audio-sistemima (brujanje zv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a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drugim prime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3886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sigvfNF" descr=""/>
          <p:cNvPicPr/>
          <p:nvPr/>
        </p:nvPicPr>
        <p:blipFill>
          <a:blip r:embed="rId1"/>
          <a:srcRect l="7619" t="8331" r="11938" b="0"/>
          <a:stretch/>
        </p:blipFill>
        <p:spPr>
          <a:xfrm>
            <a:off x="568440" y="2514600"/>
            <a:ext cx="3774960" cy="3276720"/>
          </a:xfrm>
          <a:prstGeom prst="rect">
            <a:avLst/>
          </a:prstGeom>
          <a:ln w="0">
            <a:noFill/>
          </a:ln>
        </p:spPr>
      </p:pic>
      <p:pic>
        <p:nvPicPr>
          <p:cNvPr id="306" name="SIG-VF" descr=""/>
          <p:cNvPicPr/>
          <p:nvPr/>
        </p:nvPicPr>
        <p:blipFill>
          <a:blip r:embed="rId2"/>
          <a:srcRect l="7619" t="8331" r="11938" b="0"/>
          <a:stretch/>
        </p:blipFill>
        <p:spPr>
          <a:xfrm>
            <a:off x="5064120" y="2514600"/>
            <a:ext cx="377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asivne linearne elektronske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pornici, kalemovi i konden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por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ju velike vrednosti, da bi se smanjilo generisanje toplote (Q=U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pornici velikih vrednosti imaju male dimenzije, što je pogodno za minijaturiz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den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principu kapacitivnost od reda pikofarada do nanofarada, male dimenz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lem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 mogu da se proizvedu od poluprovo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ju velike dimenzije ako su od bakarne žice sa jezg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40388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ivna linearna elektrons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del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ski razdel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ni razdel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skofrekvent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sokofrekvent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pusnici ops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gušnici ops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del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ponski razd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1905120"/>
            <a:ext cx="2133720" cy="99036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zdel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057040"/>
            <a:ext cx="1066680" cy="686160"/>
            <a:chOff x="914400" y="2057040"/>
            <a:chExt cx="1066680" cy="686160"/>
          </a:xfrm>
        </p:grpSpPr>
        <p:sp>
          <p:nvSpPr>
            <p:cNvPr id="114" name=""/>
            <p:cNvSpPr/>
            <p:nvPr/>
          </p:nvSpPr>
          <p:spPr>
            <a:xfrm>
              <a:off x="914400" y="20574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27432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06668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1066680" y="2286000"/>
                  <a:ext cx="25092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4114800" y="1981080"/>
            <a:ext cx="1066680" cy="782640"/>
            <a:chOff x="4114800" y="1981080"/>
            <a:chExt cx="1066680" cy="782640"/>
          </a:xfrm>
        </p:grpSpPr>
        <p:sp>
          <p:nvSpPr>
            <p:cNvPr id="119" name=""/>
            <p:cNvSpPr/>
            <p:nvPr/>
          </p:nvSpPr>
          <p:spPr>
            <a:xfrm>
              <a:off x="4114800" y="20574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27432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57200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624560" y="1981080"/>
                  <a:ext cx="29988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3238560"/>
            <a:ext cx="800280" cy="28573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892080" y="3428640"/>
            <a:ext cx="2232000" cy="1981440"/>
            <a:chOff x="892080" y="3428640"/>
            <a:chExt cx="2232000" cy="1981440"/>
          </a:xfrm>
        </p:grpSpPr>
        <p:sp>
          <p:nvSpPr>
            <p:cNvPr id="125" name=""/>
            <p:cNvSpPr/>
            <p:nvPr/>
          </p:nvSpPr>
          <p:spPr>
            <a:xfrm flipH="1">
              <a:off x="990720" y="5410080"/>
              <a:ext cx="213336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990360" y="3429000"/>
              <a:ext cx="20574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143000" y="3428640"/>
              <a:ext cx="0" cy="198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892080" y="4141800"/>
                  <a:ext cx="25092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3124080" y="4419360"/>
            <a:ext cx="1524240" cy="990720"/>
            <a:chOff x="3124080" y="4419360"/>
            <a:chExt cx="1524240" cy="990720"/>
          </a:xfrm>
        </p:grpSpPr>
        <p:sp>
          <p:nvSpPr>
            <p:cNvPr id="130" name=""/>
            <p:cNvSpPr/>
            <p:nvPr/>
          </p:nvSpPr>
          <p:spPr>
            <a:xfrm>
              <a:off x="3124080" y="5410080"/>
              <a:ext cx="152424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4419720"/>
              <a:ext cx="1524240" cy="0"/>
            </a:xfrm>
            <a:prstGeom prst="line">
              <a:avLst/>
            </a:prstGeom>
            <a:ln w="9360">
              <a:solidFill>
                <a:srgbClr val="15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038480" y="4419360"/>
              <a:ext cx="0" cy="990360"/>
            </a:xfrm>
            <a:prstGeom prst="line">
              <a:avLst/>
            </a:prstGeom>
            <a:ln w="936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91120" y="4495680"/>
                  <a:ext cx="29988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3110040" y="3429000"/>
            <a:ext cx="264960" cy="326880"/>
            <a:chOff x="3110040" y="3429000"/>
            <a:chExt cx="264960" cy="326880"/>
          </a:xfrm>
        </p:grpSpPr>
        <p:sp>
          <p:nvSpPr>
            <p:cNvPr id="135" name=""/>
            <p:cNvSpPr/>
            <p:nvPr/>
          </p:nvSpPr>
          <p:spPr>
            <a:xfrm>
              <a:off x="311004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200400" y="3429000"/>
                  <a:ext cx="17460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095800" y="3251160"/>
                <a:ext cx="2600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133960" y="4195800"/>
                <a:ext cx="34765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73880" y="5257800"/>
                <a:ext cx="2503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51560" y="1995480"/>
                <a:ext cx="876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del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nski razd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go se koristi da se dobiju svi potrebni naponi polaz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i od napona napa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1233720" cy="4038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3519360" y="3276720"/>
            <a:ext cx="2667240" cy="2590560"/>
            <a:chOff x="3519360" y="3276720"/>
            <a:chExt cx="2667240" cy="2590560"/>
          </a:xfrm>
        </p:grpSpPr>
        <p:sp>
          <p:nvSpPr>
            <p:cNvPr id="145" name=""/>
            <p:cNvSpPr/>
            <p:nvPr/>
          </p:nvSpPr>
          <p:spPr>
            <a:xfrm>
              <a:off x="3519360" y="58672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9360" y="32767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357800" y="32767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357800" y="4343400"/>
                <a:ext cx="420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3519360" y="4038480"/>
            <a:ext cx="2667240" cy="1828800"/>
            <a:chOff x="3519360" y="4038480"/>
            <a:chExt cx="2667240" cy="1828800"/>
          </a:xfrm>
        </p:grpSpPr>
        <p:sp>
          <p:nvSpPr>
            <p:cNvPr id="150" name=""/>
            <p:cNvSpPr/>
            <p:nvPr/>
          </p:nvSpPr>
          <p:spPr>
            <a:xfrm>
              <a:off x="3519360" y="40384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890960" y="40384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948200" y="4702320"/>
                  <a:ext cx="42084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" name=""/>
          <p:cNvGrpSpPr/>
          <p:nvPr/>
        </p:nvGrpSpPr>
        <p:grpSpPr>
          <a:xfrm>
            <a:off x="3519360" y="4876560"/>
            <a:ext cx="2667240" cy="990360"/>
            <a:chOff x="3519360" y="4876560"/>
            <a:chExt cx="2667240" cy="990360"/>
          </a:xfrm>
        </p:grpSpPr>
        <p:sp>
          <p:nvSpPr>
            <p:cNvPr id="154" name=""/>
            <p:cNvSpPr/>
            <p:nvPr/>
          </p:nvSpPr>
          <p:spPr>
            <a:xfrm>
              <a:off x="3519360" y="4876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500800" y="48765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5557680" y="5235480"/>
                  <a:ext cx="4208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del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j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razd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05120"/>
            <a:ext cx="2133720" cy="99036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zdel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19760" y="3251160"/>
                <a:ext cx="33256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38680" y="4195800"/>
                <a:ext cx="2051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573880" y="5257800"/>
                <a:ext cx="2503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489720" y="1995480"/>
                <a:ext cx="799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914400" y="2019240"/>
            <a:ext cx="1066680" cy="343080"/>
            <a:chOff x="914400" y="2019240"/>
            <a:chExt cx="1066680" cy="343080"/>
          </a:xfrm>
        </p:grpSpPr>
        <p:sp>
          <p:nvSpPr>
            <p:cNvPr id="165" name=""/>
            <p:cNvSpPr/>
            <p:nvPr/>
          </p:nvSpPr>
          <p:spPr>
            <a:xfrm>
              <a:off x="914400" y="2362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370160" y="2019240"/>
                  <a:ext cx="17460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4114800" y="1523880"/>
            <a:ext cx="1066680" cy="838440"/>
            <a:chOff x="4114800" y="1523880"/>
            <a:chExt cx="1066680" cy="838440"/>
          </a:xfrm>
        </p:grpSpPr>
        <p:sp>
          <p:nvSpPr>
            <p:cNvPr id="168" name=""/>
            <p:cNvSpPr/>
            <p:nvPr/>
          </p:nvSpPr>
          <p:spPr>
            <a:xfrm>
              <a:off x="4114800" y="2362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433760" y="1523880"/>
                  <a:ext cx="29844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3886200"/>
            <a:ext cx="2133360" cy="11905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143000" y="4038480"/>
            <a:ext cx="1295280" cy="457200"/>
            <a:chOff x="1143000" y="4038480"/>
            <a:chExt cx="1295280" cy="457200"/>
          </a:xfrm>
        </p:grpSpPr>
        <p:sp>
          <p:nvSpPr>
            <p:cNvPr id="172" name=""/>
            <p:cNvSpPr/>
            <p:nvPr/>
          </p:nvSpPr>
          <p:spPr>
            <a:xfrm>
              <a:off x="1143000" y="4495680"/>
              <a:ext cx="12952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95280" y="4038480"/>
                  <a:ext cx="17460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ujni signali nisu pogodni za obradu, ali su pogodni za prenos provodni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67160" y="3335400"/>
            <a:ext cx="457200" cy="906480"/>
            <a:chOff x="3467160" y="3335400"/>
            <a:chExt cx="457200" cy="906480"/>
          </a:xfrm>
        </p:grpSpPr>
        <p:sp>
          <p:nvSpPr>
            <p:cNvPr id="176" name=""/>
            <p:cNvSpPr/>
            <p:nvPr/>
          </p:nvSpPr>
          <p:spPr>
            <a:xfrm>
              <a:off x="3467160" y="4241880"/>
              <a:ext cx="457200" cy="0"/>
            </a:xfrm>
            <a:prstGeom prst="line">
              <a:avLst/>
            </a:prstGeom>
            <a:ln w="28440">
              <a:solidFill>
                <a:srgbClr val="15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581280" y="3335400"/>
                  <a:ext cx="2984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nska kola čija je namena da menjaju frekventni sadržaj sig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češća primena – uklanjanje nepoželjno nastalih napona (šum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nski filtar se različito ponaša prema signalima različitih frekve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nski filtri imaju impedansu koja zavisi od frekvence (ne mogu da se naprave samo od otporn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ekventni sadržaj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SIGNAL" descr=""/>
          <p:cNvPicPr/>
          <p:nvPr/>
        </p:nvPicPr>
        <p:blipFill>
          <a:blip r:embed="rId1"/>
          <a:srcRect l="7493" t="8331" r="12190" b="0"/>
          <a:stretch/>
        </p:blipFill>
        <p:spPr>
          <a:xfrm>
            <a:off x="3143160" y="1460520"/>
            <a:ext cx="2876760" cy="2502000"/>
          </a:xfrm>
          <a:prstGeom prst="rect">
            <a:avLst/>
          </a:prstGeom>
          <a:ln w="0">
            <a:noFill/>
          </a:ln>
        </p:spPr>
      </p:pic>
      <p:pic>
        <p:nvPicPr>
          <p:cNvPr id="183" name="SIG-JED" descr=""/>
          <p:cNvPicPr/>
          <p:nvPr/>
        </p:nvPicPr>
        <p:blipFill>
          <a:blip r:embed="rId2"/>
          <a:srcRect l="0" t="8331" r="12190" b="0"/>
          <a:stretch/>
        </p:blipFill>
        <p:spPr>
          <a:xfrm>
            <a:off x="0" y="4267080"/>
            <a:ext cx="3162240" cy="2516400"/>
          </a:xfrm>
          <a:prstGeom prst="rect">
            <a:avLst/>
          </a:prstGeom>
          <a:ln w="0">
            <a:noFill/>
          </a:ln>
        </p:spPr>
      </p:pic>
      <p:pic>
        <p:nvPicPr>
          <p:cNvPr id="184" name="SIG-NF" descr=""/>
          <p:cNvPicPr/>
          <p:nvPr/>
        </p:nvPicPr>
        <p:blipFill>
          <a:blip r:embed="rId3"/>
          <a:srcRect l="7493" t="8331" r="12190" b="0"/>
          <a:stretch/>
        </p:blipFill>
        <p:spPr>
          <a:xfrm>
            <a:off x="3200400" y="4267080"/>
            <a:ext cx="2897280" cy="2519640"/>
          </a:xfrm>
          <a:prstGeom prst="rect">
            <a:avLst/>
          </a:prstGeom>
          <a:ln w="0">
            <a:noFill/>
          </a:ln>
        </p:spPr>
      </p:pic>
      <p:pic>
        <p:nvPicPr>
          <p:cNvPr id="185" name="SIG-VF" descr=""/>
          <p:cNvPicPr/>
          <p:nvPr/>
        </p:nvPicPr>
        <p:blipFill>
          <a:blip r:embed="rId4"/>
          <a:srcRect l="7493" t="8331" r="12190" b="0"/>
          <a:stretch/>
        </p:blipFill>
        <p:spPr>
          <a:xfrm>
            <a:off x="6102360" y="4267080"/>
            <a:ext cx="2889360" cy="2519640"/>
          </a:xfrm>
          <a:prstGeom prst="rect">
            <a:avLst/>
          </a:prstGeom>
          <a:ln w="0">
            <a:noFill/>
          </a:ln>
        </p:spPr>
      </p:pic>
      <p:cxnSp>
        <p:nvCxnSpPr>
          <p:cNvPr id="186" name=""/>
          <p:cNvCxnSpPr>
            <a:stCxn id="182" idx="1"/>
            <a:endCxn id="183" idx="0"/>
          </p:cNvCxnSpPr>
          <p:nvPr/>
        </p:nvCxnSpPr>
        <p:spPr>
          <a:xfrm flipH="1">
            <a:off x="1580400" y="2711160"/>
            <a:ext cx="1562760" cy="155628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647960" y="3962520"/>
            <a:ext cx="13320" cy="30528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5" idx="0"/>
          </p:cNvCxnSpPr>
          <p:nvPr/>
        </p:nvCxnSpPr>
        <p:spPr>
          <a:xfrm>
            <a:off x="6019920" y="2711160"/>
            <a:ext cx="1527840" cy="155628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71560" y="5997600"/>
                <a:ext cx="1828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promenlji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657600" y="6019920"/>
                <a:ext cx="22543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oropromenlji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40560" y="6019920"/>
                <a:ext cx="2077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opromenlji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ekventni sadržaj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raženo brzinom prom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promenljiva kompon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oropromenljiva kompon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opromenljiva kompon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ražemo frekven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osmerna (f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skofrekventna kompon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sokofrekventna kompon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22:42:11Z</dcterms:created>
  <dc:creator>Zlatan Šoškić</dc:creator>
  <dc:description/>
  <dc:language>en-US</dc:language>
  <cp:lastModifiedBy>Zlatan Soskic</cp:lastModifiedBy>
  <dcterms:modified xsi:type="dcterms:W3CDTF">2007-05-23T13:33:44Z</dcterms:modified>
  <cp:revision>115</cp:revision>
  <dc:subject/>
  <dc:title>Elektronika</dc:title>
</cp:coreProperties>
</file>