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8F2-4C65-42B5-BDA1-09F284EC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724-0127-42E0-BCBC-F6FFF94C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FB4-44FB-4C3E-81D3-F74D7792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C82-732A-4E6A-8518-D007ED35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04F-1287-4B81-B14A-36618E1D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C2A-DB9F-4115-912C-FE0F36FE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B82-A28A-4D29-9F40-4F0317F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04B-1761-44AA-80E8-01E8E0B8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2B4-D263-4857-AD61-EA03166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95A-3C2B-40C9-BD56-04A43F0E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797-CD00-45AF-ACC6-601A9A07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C84-7380-42E3-AD73-D4A4B6B6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67BC-8AA2-4DCB-B80C-5D8920A16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ranzi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ariz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ajanje tranzistora tako da radi u određenom rež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prema pozornice”, “postavljanje kuli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davanje velikog sig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2979720"/>
            <a:ext cx="3067200" cy="2028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3680" y="5052960"/>
            <a:ext cx="25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larizacija sa dve bate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505320" y="2836800"/>
            <a:ext cx="245736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130400" y="5465880"/>
                <a:ext cx="14716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283920" y="505296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larizacija jednom baterij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429240" y="2362320"/>
            <a:ext cx="1800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ksimacije pri pro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a tranzis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a baze je veoma mala, nekoliko mikroampera, pa se pri proračunu često uzima da je približno jednaka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između baze i emitora tranzistora koji provodi je u stvari napon na direktno polarisanom PN spoju (diodi) koji provodi, i uzima se da iznosi oko 0,7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pon na bazi poraste tako da postane za 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oko 0,5V) veći od napona kolektora onda tranzistor prelazi u režim zasićenja (velike bazne struje). Tada je napon između kolektora i emitora oko 0,2V (0,7V-0,5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n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lo drugačija fizika, ali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potpuno ista elektroteh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i napon 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oko 0,2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pravljačka struja potpuno jednaka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razito pogodni za integrisana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800600" cy="1949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414400" y="26812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rs(source)=izvor, uloga emi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15120" y="320040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ejt(gate)=kapija, uloga b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15840" y="374796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ejn(drain)=bunar, uloga kolek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3560" y="48909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4320" y="48769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08920" y="5343480"/>
            <a:ext cx="1245960" cy="1203120"/>
            <a:chOff x="808920" y="5343480"/>
            <a:chExt cx="1245960" cy="120312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1200240" y="5343480"/>
              <a:ext cx="47628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08920" y="590400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(kao NP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62600" y="5362560"/>
            <a:ext cx="1233720" cy="1191960"/>
            <a:chOff x="2262600" y="5362560"/>
            <a:chExt cx="1233720" cy="1191960"/>
          </a:xfrm>
        </p:grpSpPr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2581200" y="5362560"/>
              <a:ext cx="5428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262600" y="591192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(kao PN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36640" y="5362560"/>
            <a:ext cx="1245960" cy="1184040"/>
            <a:chOff x="5336640" y="5362560"/>
            <a:chExt cx="1245960" cy="1184040"/>
          </a:xfrm>
        </p:grpSpPr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5638680" y="5362560"/>
              <a:ext cx="5144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336640" y="590400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(kao NP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781680" y="5334120"/>
            <a:ext cx="1242360" cy="1220400"/>
            <a:chOff x="6781680" y="5334120"/>
            <a:chExt cx="1242360" cy="1220400"/>
          </a:xfrm>
        </p:grpSpPr>
        <p:pic>
          <p:nvPicPr>
            <p:cNvPr id="263" name="" descr=""/>
            <p:cNvPicPr/>
            <p:nvPr/>
          </p:nvPicPr>
          <p:blipFill>
            <a:blip r:embed="rId5"/>
            <a:stretch/>
          </p:blipFill>
          <p:spPr>
            <a:xfrm>
              <a:off x="6781680" y="5334120"/>
              <a:ext cx="5810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790320" y="591192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(kao PN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n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arizacija (kao pr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648320" y="2104920"/>
            <a:ext cx="2314440" cy="3381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1800360" cy="3000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828800" y="5640480"/>
                <a:ext cx="13590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270400" y="5627520"/>
                <a:ext cx="1359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8160" y="6095880"/>
                <a:ext cx="15145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168880" y="6095880"/>
                <a:ext cx="15368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zi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3276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ce elektro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a svih važnih primena i sastavni deo svakog elektronskog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90% slučajeva se primena zasniva na nj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preostalih 10% slučajeva, značajno poboljšava kvalitet reš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371600"/>
            <a:ext cx="807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-R-A-N-Z-I-S-T-O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ranzistor je jedna apsolutno genijalna naprava, i molim Vas da se prema njoj, kao prema takvoj odn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rof. dr. Slavoljub Marjanovi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zloglasni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75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75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75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deja tranzis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nski element sa tri kr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2209680"/>
            <a:ext cx="152388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ranz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1680" y="224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732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 napona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 struje 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ranzistor j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kolu čvor, a ne element g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il u meha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3280" y="14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5638680"/>
            <a:ext cx="2971800" cy="15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8840" y="552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5560" y="550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5181480"/>
            <a:ext cx="457200" cy="1067040"/>
          </a:xfrm>
          <a:prstGeom prst="flowChartCollat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449388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41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648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4495680"/>
            <a:ext cx="4495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aj 3 upravlja tokom između 1 i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d pritiska između 1 i 2 nije ključni faktor koji odrežuje protok među 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le promene na 3 mogu da uzrokuju drastične promene između 1 i 2 – pojačavački efe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tranzis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uprovodnički uređ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polarni (imaju i pozitivna i negativna naelektrisa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ipolarni (imaju većinom ili pozitivna ili negativna naelektrisanja), FET ili MOSF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i sloja poluprovod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va PN konta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dan sloj sa 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e naelektrisanja jednog znaka – em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rugi sloj sa naelektrisanjima suprotnog znaka – b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reći sloj sa manje naelektrisanja prvog znaka - kole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1447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1447920"/>
            <a:ext cx="38124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1447920"/>
            <a:ext cx="38088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057400"/>
            <a:ext cx="380880" cy="38088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2057400"/>
            <a:ext cx="38124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2057400"/>
            <a:ext cx="380880" cy="380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3124440" cy="21495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276720" y="3581280"/>
            <a:ext cx="1143000" cy="380880"/>
            <a:chOff x="3276720" y="3581280"/>
            <a:chExt cx="1143000" cy="380880"/>
          </a:xfrm>
        </p:grpSpPr>
        <p:sp>
          <p:nvSpPr>
            <p:cNvPr id="138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57600" y="3581280"/>
              <a:ext cx="380880" cy="380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38480" y="3581280"/>
              <a:ext cx="381240" cy="380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982880" y="3541680"/>
            <a:ext cx="1293840" cy="368280"/>
            <a:chOff x="1982880" y="3541680"/>
            <a:chExt cx="1293840" cy="368280"/>
          </a:xfrm>
        </p:grpSpPr>
        <p:sp>
          <p:nvSpPr>
            <p:cNvPr id="142" name=""/>
            <p:cNvSpPr/>
            <p:nvPr/>
          </p:nvSpPr>
          <p:spPr>
            <a:xfrm>
              <a:off x="28195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2880" y="354168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mi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419720" y="3519360"/>
            <a:ext cx="1477080" cy="368280"/>
            <a:chOff x="4419720" y="3519360"/>
            <a:chExt cx="1477080" cy="368280"/>
          </a:xfrm>
        </p:grpSpPr>
        <p:sp>
          <p:nvSpPr>
            <p:cNvPr id="145" name=""/>
            <p:cNvSpPr/>
            <p:nvPr/>
          </p:nvSpPr>
          <p:spPr>
            <a:xfrm flipH="1">
              <a:off x="4419720" y="3733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9440" y="35193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Kolek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431160" y="2855880"/>
            <a:ext cx="700560" cy="725040"/>
            <a:chOff x="3431160" y="2855880"/>
            <a:chExt cx="700560" cy="725040"/>
          </a:xfrm>
        </p:grpSpPr>
        <p:sp>
          <p:nvSpPr>
            <p:cNvPr id="148" name=""/>
            <p:cNvSpPr/>
            <p:nvPr/>
          </p:nvSpPr>
          <p:spPr>
            <a:xfrm>
              <a:off x="3809880" y="3200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31160" y="285588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a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63000" y="6338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skret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46600" y="4008600"/>
            <a:ext cx="3102120" cy="2338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708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egris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ncip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va spoja pripadaju dvema kontu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lazni spoj direktno polarisan, stvara veliku stru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lazni spoj inverzno polarisan, skoro ne stvara stru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a baze je mnogo manja od struja kolektora i emitera, pa struja teče praktično od emitera ka kolektoru (tome služe emitor i kole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j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među baze i kolektora uopšte ne zavisi od napona U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B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već od “komandnog” napona U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60920" y="3200400"/>
                <a:ext cx="134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667560" y="2971800"/>
                <a:ext cx="88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1828800" y="2743200"/>
            <a:ext cx="2057400" cy="457200"/>
            <a:chOff x="1828800" y="2743200"/>
            <a:chExt cx="2057400" cy="457200"/>
          </a:xfrm>
        </p:grpSpPr>
        <p:sp>
          <p:nvSpPr>
            <p:cNvPr id="159" name=""/>
            <p:cNvSpPr/>
            <p:nvPr/>
          </p:nvSpPr>
          <p:spPr>
            <a:xfrm>
              <a:off x="1828800" y="2743200"/>
              <a:ext cx="6858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4600" y="2743200"/>
              <a:ext cx="68580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0400" y="2743200"/>
              <a:ext cx="6858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151280" y="3276720"/>
            <a:ext cx="372600" cy="405720"/>
            <a:chOff x="1151280" y="3276720"/>
            <a:chExt cx="372600" cy="405720"/>
          </a:xfrm>
        </p:grpSpPr>
        <p:sp>
          <p:nvSpPr>
            <p:cNvPr id="163" name=""/>
            <p:cNvSpPr/>
            <p:nvPr/>
          </p:nvSpPr>
          <p:spPr>
            <a:xfrm flipV="1">
              <a:off x="152388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1280" y="3276720"/>
              <a:ext cx="319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hr-HR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374920" y="3276720"/>
            <a:ext cx="380880" cy="405720"/>
            <a:chOff x="2374920" y="3276720"/>
            <a:chExt cx="380880" cy="405720"/>
          </a:xfrm>
        </p:grpSpPr>
        <p:sp>
          <p:nvSpPr>
            <p:cNvPr id="166" name=""/>
            <p:cNvSpPr/>
            <p:nvPr/>
          </p:nvSpPr>
          <p:spPr>
            <a:xfrm flipV="1">
              <a:off x="275580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74920" y="3276720"/>
              <a:ext cx="336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hr-HR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733920" y="3251160"/>
            <a:ext cx="380880" cy="405720"/>
            <a:chOff x="3733920" y="3251160"/>
            <a:chExt cx="380880" cy="405720"/>
          </a:xfrm>
        </p:grpSpPr>
        <p:sp>
          <p:nvSpPr>
            <p:cNvPr id="169" name=""/>
            <p:cNvSpPr/>
            <p:nvPr/>
          </p:nvSpPr>
          <p:spPr>
            <a:xfrm flipV="1">
              <a:off x="4057560" y="32511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3920" y="32511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hr-HR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00200" y="2971440"/>
            <a:ext cx="2514600" cy="1625400"/>
            <a:chOff x="1600200" y="2971440"/>
            <a:chExt cx="2514600" cy="1625400"/>
          </a:xfrm>
        </p:grpSpPr>
        <p:sp>
          <p:nvSpPr>
            <p:cNvPr id="172" name=""/>
            <p:cNvSpPr/>
            <p:nvPr/>
          </p:nvSpPr>
          <p:spPr>
            <a:xfrm>
              <a:off x="3505320" y="3733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600200" y="2971440"/>
              <a:ext cx="2514600" cy="1625400"/>
              <a:chOff x="1600200" y="2971440"/>
              <a:chExt cx="2514600" cy="1625400"/>
            </a:xfrm>
          </p:grpSpPr>
          <p:sp>
            <p:nvSpPr>
              <p:cNvPr id="174" name=""/>
              <p:cNvSpPr/>
              <p:nvPr/>
            </p:nvSpPr>
            <p:spPr>
              <a:xfrm>
                <a:off x="2819520" y="32004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1600200" y="2971440"/>
                <a:ext cx="2514600" cy="1625400"/>
                <a:chOff x="1600200" y="2971440"/>
                <a:chExt cx="2514600" cy="1625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05320" y="342900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29000" y="35812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352680" y="342900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276720" y="35812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200400" y="342900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124080" y="35812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86000" y="3429000"/>
                  <a:ext cx="0" cy="68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35812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4114800" y="2971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3885840" y="2971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2437920" y="3733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1600200" y="3733920"/>
                  <a:ext cx="83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00200" y="2971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1600200" y="2971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133000" y="4151160"/>
                  <a:ext cx="52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39560" y="4191120"/>
                  <a:ext cx="529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8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C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ncip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4191120"/>
            <a:ext cx="7467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napon 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manji, i ulazni i izlazni spoj su inverzno polarisani, pa struja prestaje da teče između emitora i kolektora, bez obzira na to što postoji naponska razlika među nj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om na bazi se upravlja jačinom struje između emitora i kolektora (tome služi ba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52480" y="2057400"/>
            <a:ext cx="2057400" cy="457200"/>
            <a:chOff x="1752480" y="2057400"/>
            <a:chExt cx="2057400" cy="457200"/>
          </a:xfrm>
        </p:grpSpPr>
        <p:sp>
          <p:nvSpPr>
            <p:cNvPr id="196" name=""/>
            <p:cNvSpPr/>
            <p:nvPr/>
          </p:nvSpPr>
          <p:spPr>
            <a:xfrm>
              <a:off x="1752480" y="2057400"/>
              <a:ext cx="6858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2057400"/>
              <a:ext cx="68580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2057400"/>
              <a:ext cx="685800" cy="457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74960" y="2590920"/>
            <a:ext cx="372600" cy="405720"/>
            <a:chOff x="1074960" y="2590920"/>
            <a:chExt cx="372600" cy="405720"/>
          </a:xfrm>
        </p:grpSpPr>
        <p:sp>
          <p:nvSpPr>
            <p:cNvPr id="200" name=""/>
            <p:cNvSpPr/>
            <p:nvPr/>
          </p:nvSpPr>
          <p:spPr>
            <a:xfrm flipV="1">
              <a:off x="1447560" y="2590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4960" y="2590920"/>
              <a:ext cx="319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hr-HR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298600" y="2590920"/>
            <a:ext cx="380880" cy="405720"/>
            <a:chOff x="2298600" y="2590920"/>
            <a:chExt cx="380880" cy="405720"/>
          </a:xfrm>
        </p:grpSpPr>
        <p:sp>
          <p:nvSpPr>
            <p:cNvPr id="203" name=""/>
            <p:cNvSpPr/>
            <p:nvPr/>
          </p:nvSpPr>
          <p:spPr>
            <a:xfrm flipV="1">
              <a:off x="2679480" y="2590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98600" y="2590920"/>
              <a:ext cx="336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hr-HR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657600" y="2565360"/>
            <a:ext cx="380880" cy="405720"/>
            <a:chOff x="3657600" y="2565360"/>
            <a:chExt cx="380880" cy="405720"/>
          </a:xfrm>
        </p:grpSpPr>
        <p:sp>
          <p:nvSpPr>
            <p:cNvPr id="206" name=""/>
            <p:cNvSpPr/>
            <p:nvPr/>
          </p:nvSpPr>
          <p:spPr>
            <a:xfrm flipV="1">
              <a:off x="3981240" y="2565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57600" y="25653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hr-HR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23520" y="2285640"/>
            <a:ext cx="2514960" cy="1143360"/>
            <a:chOff x="1523520" y="2285640"/>
            <a:chExt cx="2514960" cy="1143360"/>
          </a:xfrm>
        </p:grpSpPr>
        <p:sp>
          <p:nvSpPr>
            <p:cNvPr id="209" name=""/>
            <p:cNvSpPr/>
            <p:nvPr/>
          </p:nvSpPr>
          <p:spPr>
            <a:xfrm>
              <a:off x="3429000" y="3048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320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9000" y="2743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2680" y="2895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76720" y="2743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0400" y="2895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24080" y="2743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2895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038480" y="2285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095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361960" y="3048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523520" y="30481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523880" y="2285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žimi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42670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d PNP tranzistora princip je potpuno isti, samo su naponi obr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814400"/>
            <a:ext cx="88203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polarni tranzis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zn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90080" y="2438280"/>
            <a:ext cx="1665000" cy="2044800"/>
            <a:chOff x="1990080" y="2438280"/>
            <a:chExt cx="1665000" cy="204480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2043000" y="2438280"/>
              <a:ext cx="12337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990080" y="411480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PN tranzis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497840" y="2362320"/>
            <a:ext cx="1652760" cy="2135160"/>
            <a:chOff x="4497840" y="2362320"/>
            <a:chExt cx="1652760" cy="213516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4510080" y="2362320"/>
              <a:ext cx="12049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497840" y="412920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NP tranzis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4:08:46Z</dcterms:created>
  <dc:creator>Zlatan Šoškić</dc:creator>
  <dc:description/>
  <dc:language>en-US</dc:language>
  <cp:lastModifiedBy>Zlatan Soskic</cp:lastModifiedBy>
  <dcterms:modified xsi:type="dcterms:W3CDTF">2007-05-30T13:37:52Z</dcterms:modified>
  <cp:revision>111</cp:revision>
  <dc:subject/>
  <dc:title>Elektronika</dc:title>
</cp:coreProperties>
</file>