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F8B-EF36-4476-BC76-3EC14EF0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B1B-E2A5-4BE3-8713-57EBF91A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3D2-3AC0-49C8-A479-1BC0CE7E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589-12F6-4A23-BC43-776D9E76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B43-049D-444E-ACD6-AC4936B6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2D1-0DAB-4DF3-A8F9-48C8EBCB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8DF-03BB-4802-88B5-ED154381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3B9-6264-4EE0-AE98-0C2569D7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840-AE92-43D5-BBD5-20D3F68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B99-366A-4431-B342-531B70B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C92-E5BB-407C-BE91-002EDD51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B0F-FFB9-4791-A97D-6A8E3B10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CBB-4530-4A4A-9BDD-96B47B130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Provodnici u električnom kolu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mov i Džulov zak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C k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omogeni deo: komponente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homogeni deo: iz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: da li je i koliko kondenzator napun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C kolo sa jednosmernim izv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nj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004480" y="28195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 kondenz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8080" y="43434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a kondenz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4800600"/>
                <a:ext cx="4232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324480" y="6324480"/>
                <a:ext cx="1360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800600" y="312408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C kolo sa jednosmernim izv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žnj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8080" y="434340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ruja kondenz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004480" y="28195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pon kondenz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dealni provod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apčevo prav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0574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atki sp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828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620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3228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13372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9160" y="2529000"/>
            <a:ext cx="1294560" cy="900000"/>
            <a:chOff x="839160" y="2529000"/>
            <a:chExt cx="1294560" cy="900000"/>
          </a:xfrm>
        </p:grpSpPr>
        <p:sp>
          <p:nvSpPr>
            <p:cNvPr id="113" name=""/>
            <p:cNvSpPr/>
            <p:nvPr/>
          </p:nvSpPr>
          <p:spPr>
            <a:xfrm>
              <a:off x="1143000" y="3429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839160" y="2529000"/>
              <a:ext cx="1294560" cy="900000"/>
              <a:chOff x="839160" y="2529000"/>
              <a:chExt cx="1294560" cy="900000"/>
            </a:xfrm>
          </p:grpSpPr>
          <p:sp>
            <p:nvSpPr>
              <p:cNvPr id="115" name=""/>
              <p:cNvSpPr/>
              <p:nvPr/>
            </p:nvSpPr>
            <p:spPr>
              <a:xfrm>
                <a:off x="1143000" y="259092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839160" y="2529000"/>
                <a:ext cx="378000" cy="900000"/>
                <a:chOff x="839160" y="2529000"/>
                <a:chExt cx="378000" cy="9000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143000" y="259092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839160" y="2529000"/>
                  <a:ext cx="378000" cy="658800"/>
                  <a:chOff x="839160" y="2529000"/>
                  <a:chExt cx="378000" cy="6588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839160" y="252900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r-Latn-C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71920" y="2819520"/>
                    <a:ext cx="345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r-Latn-C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21" name=""/>
          <p:cNvSpPr/>
          <p:nvPr/>
        </p:nvSpPr>
        <p:spPr>
          <a:xfrm flipV="1">
            <a:off x="24382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05740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atki spoj izv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399120" y="2590920"/>
            <a:ext cx="1341000" cy="838080"/>
            <a:chOff x="3399120" y="2590920"/>
            <a:chExt cx="1341000" cy="838080"/>
          </a:xfrm>
        </p:grpSpPr>
        <p:sp>
          <p:nvSpPr>
            <p:cNvPr id="124" name=""/>
            <p:cNvSpPr/>
            <p:nvPr/>
          </p:nvSpPr>
          <p:spPr>
            <a:xfrm>
              <a:off x="374976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9760" y="25909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9760" y="3429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4012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3440" y="26049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99120" y="2833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28954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57200" y="37339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bl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43000" y="4419720"/>
            <a:ext cx="6477120" cy="838080"/>
            <a:chOff x="1143000" y="4419720"/>
            <a:chExt cx="6477120" cy="838080"/>
          </a:xfrm>
        </p:grpSpPr>
        <p:sp>
          <p:nvSpPr>
            <p:cNvPr id="133" name=""/>
            <p:cNvSpPr/>
            <p:nvPr/>
          </p:nvSpPr>
          <p:spPr>
            <a:xfrm>
              <a:off x="1143000" y="4419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3000" y="52578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63200" y="4357800"/>
            <a:ext cx="377640" cy="900000"/>
            <a:chOff x="763200" y="4357800"/>
            <a:chExt cx="377640" cy="900000"/>
          </a:xfrm>
        </p:grpSpPr>
        <p:sp>
          <p:nvSpPr>
            <p:cNvPr id="136" name=""/>
            <p:cNvSpPr/>
            <p:nvPr/>
          </p:nvSpPr>
          <p:spPr>
            <a:xfrm>
              <a:off x="1066680" y="4419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3200" y="43578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60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392600" y="4343400"/>
            <a:ext cx="377640" cy="914400"/>
            <a:chOff x="7392600" y="4343400"/>
            <a:chExt cx="377640" cy="914400"/>
          </a:xfrm>
        </p:grpSpPr>
        <p:sp>
          <p:nvSpPr>
            <p:cNvPr id="140" name=""/>
            <p:cNvSpPr/>
            <p:nvPr/>
          </p:nvSpPr>
          <p:spPr>
            <a:xfrm flipV="1">
              <a:off x="7696080" y="4419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2600" y="43434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25000" y="4633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mov z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i provodnik u električnom k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mov zakon opisuje strujno naponsku zavisnost provo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655640" y="2108160"/>
                <a:ext cx="3907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∝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⇔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57200" y="3048120"/>
            <a:ext cx="3962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: otpornost provo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: provodnost provo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343400" y="3048120"/>
                <a:ext cx="8874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95520" y="3936960"/>
                <a:ext cx="30672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666880" y="4648320"/>
                <a:ext cx="2637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h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2514600" y="5790960"/>
            <a:ext cx="2819520" cy="686160"/>
            <a:chOff x="2514600" y="5790960"/>
            <a:chExt cx="2819520" cy="686160"/>
          </a:xfrm>
        </p:grpSpPr>
        <p:sp>
          <p:nvSpPr>
            <p:cNvPr id="151" name=""/>
            <p:cNvSpPr/>
            <p:nvPr/>
          </p:nvSpPr>
          <p:spPr>
            <a:xfrm>
              <a:off x="2514600" y="60962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505320" y="579096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913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886200" y="60199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8480" y="60199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354840" y="6033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žulov z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šta se pretvara električna energija u provodniku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TOPL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žulov zakon određuje količinu toplote koja se oslobađa u provodniku kroz koji protiče električna str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63720" y="2743200"/>
                <a:ext cx="4384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24080" y="3352680"/>
                <a:ext cx="19018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57200" y="44956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vezivanju na isti izvor, manje toplote se oslobađa u otporniku veće otpornosti, jer kroz njega teče manja str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lu otpornost imaju uređaji za proizvodnju toplote (električne peći, grejalice, bojleri, ringle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liku otpornost imaju uređaji kod koji je zagrevanje neželjeno (elektron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tpornost provod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visi od konstrukcionih karakteristika otpor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užine provodnika (povećava opor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prečnog preseka provodnika (smanjuje otpor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ste materijala od koga je provodnik napravl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529080" y="2844720"/>
                <a:ext cx="1090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1055520" y="376704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specifična otpornost provod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987800" y="3505320"/>
                <a:ext cx="29386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r>
                      <m:t xml:space="preserve">[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m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80880" y="42670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visi od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ćava se sa temperatu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19320" y="5156280"/>
                <a:ext cx="45910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219320" y="5638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temperaturski koeficijent otpo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080" y="617220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perprovodnost 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0, R=0 !!! olovo, niobijum, keram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zivanje otpor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 dobijanja otpornik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eljene otpor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ledica toga što je svaki provodnik otpor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dno (iste stru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648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alelno (isti napo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658960" y="3287880"/>
                <a:ext cx="282744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3147840"/>
            <a:ext cx="1857240" cy="562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1828800" cy="60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666880" y="3733920"/>
                <a:ext cx="1447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v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791320" y="3429000"/>
                <a:ext cx="14904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85800" y="6172200"/>
            <a:ext cx="182880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09480" y="5105520"/>
            <a:ext cx="1905120" cy="110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44720" y="5299200"/>
                <a:ext cx="2471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819520" y="6095880"/>
                <a:ext cx="1158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k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821200" y="5715000"/>
                <a:ext cx="1646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k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alni gene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om rada, izvor se zagr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stavlja se unut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njom otpornošć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1143000" cy="1019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2286000" cy="84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" y="3124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pon na krajevima realnog generatora je manji od njegove elektromotorne sile i zavisi od jačine struje koju izvor 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2590920" cy="731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909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29160" y="39988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657600" y="4148280"/>
                <a:ext cx="3341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57200" y="5105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motorna sila izvora jednaka je naponu na njegovim krajevima kada kroz izvor ne protiče električna str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dealni izvor ima unutrašnju otpornost jednaku n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alno prosto električno k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i generator i potroš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196236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1357200" y="1676520"/>
            <a:ext cx="319320" cy="457200"/>
            <a:chOff x="1357200" y="1676520"/>
            <a:chExt cx="319320" cy="457200"/>
          </a:xfrm>
        </p:grpSpPr>
        <p:sp>
          <p:nvSpPr>
            <p:cNvPr id="198" name=""/>
            <p:cNvSpPr/>
            <p:nvPr/>
          </p:nvSpPr>
          <p:spPr>
            <a:xfrm>
              <a:off x="1371600" y="2133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57200" y="1676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989440" y="1900080"/>
                <a:ext cx="35636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∧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1" name=""/>
          <p:cNvGrpSpPr/>
          <p:nvPr/>
        </p:nvGrpSpPr>
        <p:grpSpPr>
          <a:xfrm>
            <a:off x="1585440" y="2133720"/>
            <a:ext cx="345960" cy="1752480"/>
            <a:chOff x="1585440" y="2133720"/>
            <a:chExt cx="345960" cy="1752480"/>
          </a:xfrm>
        </p:grpSpPr>
        <p:sp>
          <p:nvSpPr>
            <p:cNvPr id="202" name=""/>
            <p:cNvSpPr/>
            <p:nvPr/>
          </p:nvSpPr>
          <p:spPr>
            <a:xfrm>
              <a:off x="1905120" y="21337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6160" y="277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5440" y="2170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962440" y="2693880"/>
                <a:ext cx="21160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971800" y="3429000"/>
                <a:ext cx="3581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u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971800" y="4227480"/>
                <a:ext cx="3608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o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89680" y="4255920"/>
                <a:ext cx="178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60948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povećanje koeficijenta korisnog dejstva bitno je da je otpornost potrošača što veća u odnosu na un. otp. iz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preuzimanje najveće snage iz izvora, otpornost potrošača treba da bude jednaka otpornosti iz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C k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lo sa izvorom, otpornikom i kondenzato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6745" t="11030" r="0" b="0"/>
          <a:stretch/>
        </p:blipFill>
        <p:spPr>
          <a:xfrm>
            <a:off x="4038480" y="2120760"/>
            <a:ext cx="3657600" cy="2135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V="1">
            <a:off x="4419720" y="1904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201080" y="1904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76840" y="2527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38760" y="21067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31400" y="17035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84080" y="1779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39160" y="2527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01080" y="414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00920" y="2527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09560" y="315108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03800" y="2465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809880" y="5638680"/>
                <a:ext cx="1247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334120" y="5791320"/>
                <a:ext cx="8474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1733400"/>
                <a:ext cx="12258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33520" y="2054160"/>
                <a:ext cx="733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936800" y="2057400"/>
                <a:ext cx="1111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914400" y="2819520"/>
            <a:ext cx="1752480" cy="609120"/>
            <a:chOff x="914400" y="2819520"/>
            <a:chExt cx="1752480" cy="609120"/>
          </a:xfrm>
        </p:grpSpPr>
        <p:grpSp>
          <p:nvGrpSpPr>
            <p:cNvPr id="230" name=""/>
            <p:cNvGrpSpPr/>
            <p:nvPr/>
          </p:nvGrpSpPr>
          <p:grpSpPr>
            <a:xfrm>
              <a:off x="914400" y="2819520"/>
              <a:ext cx="1752480" cy="228240"/>
              <a:chOff x="914400" y="2819520"/>
              <a:chExt cx="1752480" cy="228240"/>
            </a:xfrm>
          </p:grpSpPr>
          <p:sp>
            <p:nvSpPr>
              <p:cNvPr id="231" name=""/>
              <p:cNvSpPr/>
              <p:nvPr/>
            </p:nvSpPr>
            <p:spPr>
              <a:xfrm>
                <a:off x="914400" y="28195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14400" y="304776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666880" y="28195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828800" y="3047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352680"/>
                <a:ext cx="1470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8288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930240" y="4492800"/>
                <a:ext cx="18050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2514600" y="1981080"/>
            <a:ext cx="1066680" cy="2895480"/>
            <a:chOff x="2514600" y="1981080"/>
            <a:chExt cx="1066680" cy="2895480"/>
          </a:xfrm>
        </p:grpSpPr>
        <p:sp>
          <p:nvSpPr>
            <p:cNvPr id="239" name=""/>
            <p:cNvSpPr/>
            <p:nvPr/>
          </p:nvSpPr>
          <p:spPr>
            <a:xfrm>
              <a:off x="2514600" y="19810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81280" y="198108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895120" y="4876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05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01720" y="5559480"/>
                <a:ext cx="21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30481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09000" y="57913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remenska konstanta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21337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2280" y="6361200"/>
            <a:ext cx="38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homogena linearna DJ prvog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3:43:58Z</dcterms:created>
  <dc:creator>Zlatan Šoškić</dc:creator>
  <dc:description/>
  <dc:language>en-US</dc:language>
  <cp:lastModifiedBy>Zlatan Šoškić</cp:lastModifiedBy>
  <dcterms:modified xsi:type="dcterms:W3CDTF">2004-10-24T15:08:51Z</dcterms:modified>
  <cp:revision>136</cp:revision>
  <dc:subject/>
  <dc:title>Provodnici u električnom kolu</dc:title>
</cp:coreProperties>
</file>