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8CD-A790-4AE2-AC2D-07317DCB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C22-FB4E-41E4-A1CA-9B8E231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065-F5A0-4A4F-8ACF-6711108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3ED-6461-4C6B-AFBC-08E7E035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DC5-4446-45FB-947B-99F7790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032-EECD-445A-9D02-8163FDFE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A43-2763-4327-96C8-49CE9EF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827-02DB-4726-A6ED-E0A44C0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506-8097-496B-B98F-F98E659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DEA-1D5D-4941-956D-2038F45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87E-86F5-484C-8768-8C814C68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A73-9370-4983-8908-6BB16807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F7C4-21DD-4208-BD52-7782A3327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eracioni pojačava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operacionih pojačav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ktronski u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aj koji ulazni napon množi nekim velikim bro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1752480"/>
            <a:ext cx="3527280" cy="762120"/>
            <a:chOff x="914400" y="1752480"/>
            <a:chExt cx="3527280" cy="762120"/>
          </a:xfrm>
        </p:grpSpPr>
        <p:sp>
          <p:nvSpPr>
            <p:cNvPr id="108" name=""/>
            <p:cNvSpPr/>
            <p:nvPr/>
          </p:nvSpPr>
          <p:spPr>
            <a:xfrm>
              <a:off x="1828800" y="1752480"/>
              <a:ext cx="1752480" cy="762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160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58128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447920" y="1905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86200" y="1905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1905120"/>
                  <a:ext cx="46836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951360" y="1905120"/>
                  <a:ext cx="4903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z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19760" y="1905120"/>
                <a:ext cx="14716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3757680"/>
            <a:ext cx="2701800" cy="2643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2743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jačanje A iznosi uvek preko 100 000, a u praksi ga smatramo beskonačnim kod idealnog pojačav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4062240"/>
            <a:ext cx="609480" cy="914400"/>
            <a:chOff x="533520" y="4062240"/>
            <a:chExt cx="609480" cy="914400"/>
          </a:xfrm>
        </p:grpSpPr>
        <p:sp>
          <p:nvSpPr>
            <p:cNvPr id="121" name=""/>
            <p:cNvSpPr/>
            <p:nvPr/>
          </p:nvSpPr>
          <p:spPr>
            <a:xfrm>
              <a:off x="1143000" y="40622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533520" y="4290840"/>
                  <a:ext cx="4683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3200400" y="4443480"/>
            <a:ext cx="566640" cy="914400"/>
            <a:chOff x="3200400" y="4443480"/>
            <a:chExt cx="566640" cy="914400"/>
          </a:xfrm>
        </p:grpSpPr>
        <p:sp>
          <p:nvSpPr>
            <p:cNvPr id="124" name=""/>
            <p:cNvSpPr/>
            <p:nvPr/>
          </p:nvSpPr>
          <p:spPr>
            <a:xfrm flipV="1">
              <a:off x="3767040" y="44434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200400" y="4672080"/>
                  <a:ext cx="49068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z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4114800" y="3505320"/>
            <a:ext cx="4800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nijedan napon u kolu ne može biti veći od napona napajanja,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lazni napon operacionog pojačavač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u realnom kolu je uvek reda mikrovolta i smatramo da je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je ulazni napon operacionog pojačavača približno jednak nuli, i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ulazna struja  operacionog pojačavač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približno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jednaka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" y="511668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einvertujući ul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920" y="350532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nvertujući ul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95240" y="5791320"/>
                <a:ext cx="18954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ratna sp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ratna sprega je uticaj izlaza na ul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zitivna povratna sp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vezivanje izlaza sa neinvertujućim krajem - “podjarivanje” pojačavač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stabilan izl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 konstrukciju oscila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gativna povratna sp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vezivanje izlaza sa invertujućim krajem - “smirivanje” pojačavač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tabilan izl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 konstrukciju operacinih k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4448160"/>
            <a:ext cx="373392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3581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čajan pojam vezan za primenu operacionih pojačav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1884240"/>
            <a:ext cx="2682720" cy="1697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86200" y="1905120"/>
            <a:ext cx="434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na negativne povratne sprege stabilizovala je napone u 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invertujući (+) ulaza operacionog pojačavača vezan je za masu, pa je potencijal tog ulaza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između ulaznih krajeva operacionog pojačavača je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encijal invertujućeg (-) ulaza operacionog pojačavača je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X [ invertujući (-) ulaz ] se u ovakvoj konfiguraciji ima potencijal jednak nuli iako nema direktnu veu sa masom i naziva se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virtuelna (prividna)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2666520"/>
            <a:ext cx="380880" cy="1753200"/>
            <a:chOff x="1219320" y="2666520"/>
            <a:chExt cx="380880" cy="1753200"/>
          </a:xfrm>
        </p:grpSpPr>
        <p:sp>
          <p:nvSpPr>
            <p:cNvPr id="139" name=""/>
            <p:cNvSpPr/>
            <p:nvPr/>
          </p:nvSpPr>
          <p:spPr>
            <a:xfrm flipV="1">
              <a:off x="1219320" y="26665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9320" y="3048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60440" y="44337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rtueln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7:21:25Z</dcterms:created>
  <dc:creator>Zlatan Šoškić</dc:creator>
  <dc:description/>
  <dc:language>en-US</dc:language>
  <cp:lastModifiedBy>Zlatan Šoškić</cp:lastModifiedBy>
  <dcterms:modified xsi:type="dcterms:W3CDTF">2004-12-19T21:52:18Z</dcterms:modified>
  <cp:revision>27</cp:revision>
  <dc:subject/>
  <dc:title>Elektronika</dc:title>
</cp:coreProperties>
</file>