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475-0491-4D00-922B-1E01D361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A3F-9EB1-43D6-9A6B-762EEA6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3F6-5868-4206-875D-B3DA775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758-BFBE-4E5F-9CFC-B91BB6F4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502-D771-4C80-9E40-F11704C7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5AD-AFF4-4F72-8661-4EE89CF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D95-E3C5-47DC-A25A-6EA5384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455-A467-420A-8BB2-D4800C1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2FB-2E29-48C1-AC41-2056524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691-ADF7-4591-85A1-B7F68E0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A3F-B3A8-4941-9D7D-CE543B8D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9C4-0BB5-4D0C-8ED9-D433547F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DF0-D7B7-4D0A-82EE-DEA1462D9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o</a:t>
            </a: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žena električna kol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a paralelne 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8080" y="2843280"/>
            <a:ext cx="1457280" cy="1423800"/>
            <a:chOff x="838080" y="2843280"/>
            <a:chExt cx="1457280" cy="14238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838080" y="2981160"/>
              <a:ext cx="1457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371600" y="320976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73040" y="28432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43120" y="3213000"/>
                <a:ext cx="60436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743200" y="4584600"/>
                <a:ext cx="2065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827080" y="5562720"/>
            <a:ext cx="50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čina struje na paralelno vezanim otporni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rnuto je proporcionalna njihovim otporno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43200" y="4191120"/>
                <a:ext cx="13762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4584600"/>
                <a:ext cx="21319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19000" y="1447920"/>
            <a:ext cx="21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123920" y="1523880"/>
            <a:ext cx="246240" cy="368280"/>
            <a:chOff x="1123920" y="1523880"/>
            <a:chExt cx="246240" cy="368280"/>
          </a:xfrm>
        </p:grpSpPr>
        <p:sp>
          <p:nvSpPr>
            <p:cNvPr id="278" name=""/>
            <p:cNvSpPr/>
            <p:nvPr/>
          </p:nvSpPr>
          <p:spPr>
            <a:xfrm>
              <a:off x="1123920" y="189072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25360" y="1523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523880" y="1295280"/>
            <a:ext cx="356040" cy="405720"/>
            <a:chOff x="1523880" y="1295280"/>
            <a:chExt cx="356040" cy="405720"/>
          </a:xfrm>
        </p:grpSpPr>
        <p:sp>
          <p:nvSpPr>
            <p:cNvPr id="281" name=""/>
            <p:cNvSpPr/>
            <p:nvPr/>
          </p:nvSpPr>
          <p:spPr>
            <a:xfrm>
              <a:off x="1523880" y="166212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32880" y="1295280"/>
              <a:ext cx="34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ff00ff"/>
                  </a:solidFill>
                  <a:latin typeface="Arial"/>
                </a:rPr>
                <a:t>‚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523880" y="1828800"/>
            <a:ext cx="324720" cy="405720"/>
            <a:chOff x="1523880" y="1828800"/>
            <a:chExt cx="324720" cy="405720"/>
          </a:xfrm>
        </p:grpSpPr>
        <p:sp>
          <p:nvSpPr>
            <p:cNvPr id="284" name=""/>
            <p:cNvSpPr/>
            <p:nvPr/>
          </p:nvSpPr>
          <p:spPr>
            <a:xfrm>
              <a:off x="1523880" y="219564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30720" y="182880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447560" y="1004760"/>
            <a:ext cx="1175040" cy="900000"/>
            <a:chOff x="1447560" y="1004760"/>
            <a:chExt cx="1175040" cy="900000"/>
          </a:xfrm>
        </p:grpSpPr>
        <p:sp>
          <p:nvSpPr>
            <p:cNvPr id="287" name=""/>
            <p:cNvSpPr/>
            <p:nvPr/>
          </p:nvSpPr>
          <p:spPr>
            <a:xfrm flipV="1">
              <a:off x="1447920" y="1066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22600" y="1066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47560" y="1295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0600" y="1004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e trougla i zvez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29840" y="12952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roug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7160" y="1295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ve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04880" y="1714680"/>
            <a:ext cx="2495520" cy="2323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019840" y="1571760"/>
            <a:ext cx="2371680" cy="269532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708120" y="4255920"/>
            <a:ext cx="2263680" cy="2449800"/>
            <a:chOff x="708120" y="4255920"/>
            <a:chExt cx="2263680" cy="244980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752400" y="4255920"/>
                  <a:ext cx="221940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762120" y="5054760"/>
                  <a:ext cx="219708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708120" y="5956200"/>
                  <a:ext cx="226368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5173560" y="4191120"/>
            <a:ext cx="2237040" cy="2514600"/>
            <a:chOff x="5173560" y="4191120"/>
            <a:chExt cx="2237040" cy="2514600"/>
          </a:xfrm>
        </p:grpSpPr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5216400" y="4191120"/>
                  <a:ext cx="213048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5173560" y="5041800"/>
                  <a:ext cx="215280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5257800" y="5956200"/>
                  <a:ext cx="215280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"/>
          <p:cNvSpPr/>
          <p:nvPr/>
        </p:nvSpPr>
        <p:spPr>
          <a:xfrm>
            <a:off x="6705720" y="2743200"/>
            <a:ext cx="533160" cy="45720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e trougla i zvez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2514600" cy="23619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33520" y="1228680"/>
            <a:ext cx="2562120" cy="2352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90720" y="1600200"/>
            <a:ext cx="1600200" cy="160020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1219320"/>
            <a:ext cx="1219320" cy="83808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2743200"/>
            <a:ext cx="1219320" cy="83808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2333520" cy="228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505320" y="2438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m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91456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1280" y="12193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up redno vezanih elemenata (kroz koje protiče ista struja) čini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gran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ktričnog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up međusobno povezanih grana u kome je početna tačka prve grane ujedno i krajnja tačka poslednje grane naziva se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ko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tura u kojoj svaka grana ima kontakt samo sa dve grane te konture naziva se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ok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ktričnog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čka u kojoj se spajaju bar tri grane naziva se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čv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ktričnog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796000"/>
            <a:ext cx="8458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iti električno kolo znači odrediti jačine struja svih grana u električnom 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oni električ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irhofovi zak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791320" cy="785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Kirhofov za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lgebarski zbir struja u jednom čvoru jednak je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934320" y="1828800"/>
                <a:ext cx="1170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vo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982880" y="2604960"/>
            <a:ext cx="333000" cy="519120"/>
            <a:chOff x="1982880" y="2604960"/>
            <a:chExt cx="333000" cy="519120"/>
          </a:xfrm>
        </p:grpSpPr>
        <p:sp>
          <p:nvSpPr>
            <p:cNvPr id="113" name=""/>
            <p:cNvSpPr/>
            <p:nvPr/>
          </p:nvSpPr>
          <p:spPr>
            <a:xfrm>
              <a:off x="2057400" y="29718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2880" y="2604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95280" y="2681280"/>
            <a:ext cx="762120" cy="405720"/>
            <a:chOff x="1295280" y="2681280"/>
            <a:chExt cx="762120" cy="405720"/>
          </a:xfrm>
        </p:grpSpPr>
        <p:sp>
          <p:nvSpPr>
            <p:cNvPr id="116" name=""/>
            <p:cNvSpPr/>
            <p:nvPr/>
          </p:nvSpPr>
          <p:spPr>
            <a:xfrm>
              <a:off x="129528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17040" y="2681280"/>
              <a:ext cx="30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60040" y="3124080"/>
            <a:ext cx="373680" cy="482040"/>
            <a:chOff x="1760040" y="3124080"/>
            <a:chExt cx="373680" cy="482040"/>
          </a:xfrm>
        </p:grpSpPr>
        <p:sp>
          <p:nvSpPr>
            <p:cNvPr id="119" name=""/>
            <p:cNvSpPr/>
            <p:nvPr/>
          </p:nvSpPr>
          <p:spPr>
            <a:xfrm flipV="1">
              <a:off x="21337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0040" y="3200400"/>
              <a:ext cx="30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09680" y="2681280"/>
            <a:ext cx="762120" cy="405720"/>
            <a:chOff x="2209680" y="2681280"/>
            <a:chExt cx="762120" cy="405720"/>
          </a:xfrm>
        </p:grpSpPr>
        <p:sp>
          <p:nvSpPr>
            <p:cNvPr id="122" name=""/>
            <p:cNvSpPr/>
            <p:nvPr/>
          </p:nvSpPr>
          <p:spPr>
            <a:xfrm>
              <a:off x="2209680" y="3048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3600" y="2681280"/>
              <a:ext cx="33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‚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817720"/>
                <a:ext cx="11952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819520"/>
                <a:ext cx="162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20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3886200"/>
            <a:ext cx="5791320" cy="785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Kirhofov za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lgebarski zbir napona u jednoj konturi jednak je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32440" y="3962520"/>
                <a:ext cx="13734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ontur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871560" y="4967280"/>
            <a:ext cx="2936160" cy="1587600"/>
            <a:chOff x="871560" y="4967280"/>
            <a:chExt cx="2936160" cy="1587600"/>
          </a:xfrm>
        </p:grpSpPr>
        <p:sp>
          <p:nvSpPr>
            <p:cNvPr id="131" name=""/>
            <p:cNvSpPr/>
            <p:nvPr/>
          </p:nvSpPr>
          <p:spPr>
            <a:xfrm>
              <a:off x="1511280" y="5257800"/>
              <a:ext cx="60948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45000" y="5486400"/>
              <a:ext cx="152280" cy="533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4800" y="6095880"/>
              <a:ext cx="685800" cy="152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5" idx="0"/>
              <a:endCxn id="131" idx="1"/>
            </p:cNvCxnSpPr>
            <p:nvPr/>
          </p:nvCxnSpPr>
          <p:spPr>
            <a:xfrm flipH="1" flipV="1" rot="5400000">
              <a:off x="1174320" y="5225400"/>
              <a:ext cx="2293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1" idx="3"/>
              <a:endCxn id="137" idx="2"/>
            </p:cNvCxnSpPr>
            <p:nvPr/>
          </p:nvCxnSpPr>
          <p:spPr>
            <a:xfrm>
              <a:off x="2120400" y="5333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7" idx="6"/>
              <a:endCxn id="132" idx="0"/>
            </p:cNvCxnSpPr>
            <p:nvPr/>
          </p:nvCxnSpPr>
          <p:spPr>
            <a:xfrm>
              <a:off x="2971440" y="5333760"/>
              <a:ext cx="749880" cy="15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32" idx="2"/>
              <a:endCxn id="133" idx="3"/>
            </p:cNvCxnSpPr>
            <p:nvPr/>
          </p:nvCxnSpPr>
          <p:spPr>
            <a:xfrm rot="5400000">
              <a:off x="3148920" y="5600520"/>
              <a:ext cx="153000" cy="99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33" idx="1"/>
              <a:endCxn id="135" idx="4"/>
            </p:cNvCxnSpPr>
            <p:nvPr/>
          </p:nvCxnSpPr>
          <p:spPr>
            <a:xfrm rot="10800000">
              <a:off x="1065960" y="5866560"/>
              <a:ext cx="978840" cy="30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871560" y="496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67200" y="496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480" y="4967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9880" y="6186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3600" y="617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5562720"/>
              <a:ext cx="304920" cy="304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5181480"/>
              <a:ext cx="304920" cy="304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371600" y="5562720"/>
            <a:ext cx="2057400" cy="0"/>
          </a:xfrm>
          <a:prstGeom prst="line">
            <a:avLst/>
          </a:prstGeom>
          <a:ln w="38160">
            <a:solidFill>
              <a:srgbClr val="19cb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562720"/>
            <a:ext cx="0" cy="457200"/>
          </a:xfrm>
          <a:prstGeom prst="line">
            <a:avLst/>
          </a:prstGeom>
          <a:ln w="38160">
            <a:solidFill>
              <a:srgbClr val="19cb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71240" y="6019920"/>
            <a:ext cx="2057400" cy="0"/>
          </a:xfrm>
          <a:prstGeom prst="line">
            <a:avLst/>
          </a:prstGeom>
          <a:ln w="38160">
            <a:solidFill>
              <a:srgbClr val="19cb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371600" y="5562720"/>
            <a:ext cx="0" cy="45720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038480" y="5560920"/>
                <a:ext cx="40942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oni električ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ebarski n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590920"/>
            <a:ext cx="22860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63920" y="2514600"/>
            <a:ext cx="2145600" cy="534960"/>
            <a:chOff x="763920" y="2514600"/>
            <a:chExt cx="2145600" cy="534960"/>
          </a:xfrm>
        </p:grpSpPr>
        <p:sp>
          <p:nvSpPr>
            <p:cNvPr id="155" name=""/>
            <p:cNvSpPr/>
            <p:nvPr/>
          </p:nvSpPr>
          <p:spPr>
            <a:xfrm>
              <a:off x="9144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2514600"/>
              <a:ext cx="914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920" y="2681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6520" y="266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14400" y="1905120"/>
            <a:ext cx="1828800" cy="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14400" y="1941480"/>
            <a:ext cx="1828800" cy="649440"/>
            <a:chOff x="914400" y="1941480"/>
            <a:chExt cx="1828800" cy="649440"/>
          </a:xfrm>
        </p:grpSpPr>
        <p:sp>
          <p:nvSpPr>
            <p:cNvPr id="162" name=""/>
            <p:cNvSpPr/>
            <p:nvPr/>
          </p:nvSpPr>
          <p:spPr>
            <a:xfrm>
              <a:off x="91440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400" y="2286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23520" y="1941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63800" y="3048120"/>
                <a:ext cx="1552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763920" y="3987720"/>
            <a:ext cx="2145600" cy="1144800"/>
            <a:chOff x="763920" y="3987720"/>
            <a:chExt cx="2145600" cy="1144800"/>
          </a:xfrm>
        </p:grpSpPr>
        <p:sp>
          <p:nvSpPr>
            <p:cNvPr id="168" name=""/>
            <p:cNvSpPr/>
            <p:nvPr/>
          </p:nvSpPr>
          <p:spPr>
            <a:xfrm>
              <a:off x="91440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71600" y="4597560"/>
              <a:ext cx="914400" cy="152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67352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4216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4216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43689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920" y="4764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76520" y="474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4400" y="3987720"/>
              <a:ext cx="1828800" cy="0"/>
            </a:xfrm>
            <a:prstGeom prst="line">
              <a:avLst/>
            </a:prstGeom>
            <a:ln w="38160">
              <a:solidFill>
                <a:srgbClr val="19cb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3520" y="40244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155600" y="5181480"/>
                <a:ext cx="1374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724280" y="1930320"/>
            <a:ext cx="1828800" cy="0"/>
          </a:xfrm>
          <a:prstGeom prst="line">
            <a:avLst/>
          </a:prstGeom>
          <a:ln w="3816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013360" y="3073320"/>
                <a:ext cx="1271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740120" y="2071800"/>
            <a:ext cx="1840320" cy="595080"/>
            <a:chOff x="4740120" y="2071800"/>
            <a:chExt cx="1840320" cy="595080"/>
          </a:xfrm>
        </p:grpSpPr>
        <p:sp>
          <p:nvSpPr>
            <p:cNvPr id="183" name=""/>
            <p:cNvSpPr/>
            <p:nvPr/>
          </p:nvSpPr>
          <p:spPr>
            <a:xfrm>
              <a:off x="65530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0120" y="2362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65440" y="2071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012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3800" y="2376360"/>
            <a:ext cx="2145960" cy="698760"/>
            <a:chOff x="4573800" y="2376360"/>
            <a:chExt cx="2145960" cy="698760"/>
          </a:xfrm>
        </p:grpSpPr>
        <p:sp>
          <p:nvSpPr>
            <p:cNvPr id="188" name=""/>
            <p:cNvSpPr/>
            <p:nvPr/>
          </p:nvSpPr>
          <p:spPr>
            <a:xfrm>
              <a:off x="5959440" y="266688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3800" y="2706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86760" y="2692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02240" y="2438280"/>
              <a:ext cx="4572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40120" y="2666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84200" y="2376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029200" y="5054760"/>
                <a:ext cx="12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4589640" y="3911760"/>
            <a:ext cx="2145960" cy="1144440"/>
            <a:chOff x="4589640" y="3911760"/>
            <a:chExt cx="2145960" cy="1144440"/>
          </a:xfrm>
        </p:grpSpPr>
        <p:sp>
          <p:nvSpPr>
            <p:cNvPr id="196" name=""/>
            <p:cNvSpPr/>
            <p:nvPr/>
          </p:nvSpPr>
          <p:spPr>
            <a:xfrm>
              <a:off x="5975280" y="464832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689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6320" y="4343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89640" y="468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2600" y="467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40120" y="3911760"/>
              <a:ext cx="1828800" cy="0"/>
            </a:xfrm>
            <a:prstGeom prst="line">
              <a:avLst/>
            </a:prstGeom>
            <a:ln w="38160">
              <a:solidFill>
                <a:srgbClr val="19cb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65440" y="40528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18080" y="4419720"/>
              <a:ext cx="4572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56320" y="46483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6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62120" y="4357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98000" y="243828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z vod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8000" y="43434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z vod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21000" y="2475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z pump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37200" y="441972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z pump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šavanje električnih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i rešavanja celog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a Kirhofovih za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a konturnih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a potencijala čvo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šavanje dela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superpozi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venenova teo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tonova teo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šavanje pojedinih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odi transformacije 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toda Kirhofovih za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isanje jednačina prema I i II Kirhofovom zak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ko elektr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olo m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e da se reši na taj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up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eležiti čvorove, grane i okca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abrati i naznačiti algebarske smerove struja u gra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isati jednačine I Kirhofovog zakona za 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1 č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isati jednačine II Kirhofovog zakona za sve ko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iti dobijen sistem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tumačiti rez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toda Kirhofovih za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68632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914400" y="1600200"/>
            <a:ext cx="380880" cy="457200"/>
            <a:chOff x="914400" y="1600200"/>
            <a:chExt cx="380880" cy="457200"/>
          </a:xfrm>
        </p:grpSpPr>
        <p:sp>
          <p:nvSpPr>
            <p:cNvPr id="218" name=""/>
            <p:cNvSpPr/>
            <p:nvPr/>
          </p:nvSpPr>
          <p:spPr>
            <a:xfrm>
              <a:off x="914400" y="2057400"/>
              <a:ext cx="380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080" y="1600200"/>
              <a:ext cx="30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828800" y="2285640"/>
            <a:ext cx="387720" cy="420480"/>
            <a:chOff x="1828800" y="2285640"/>
            <a:chExt cx="387720" cy="420480"/>
          </a:xfrm>
        </p:grpSpPr>
        <p:sp>
          <p:nvSpPr>
            <p:cNvPr id="221" name=""/>
            <p:cNvSpPr/>
            <p:nvPr/>
          </p:nvSpPr>
          <p:spPr>
            <a:xfrm>
              <a:off x="1912320" y="2300400"/>
              <a:ext cx="30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ff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8800" y="2285640"/>
              <a:ext cx="0" cy="3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09320" y="1600200"/>
            <a:ext cx="526320" cy="457200"/>
            <a:chOff x="2209320" y="1600200"/>
            <a:chExt cx="526320" cy="457200"/>
          </a:xfrm>
        </p:grpSpPr>
        <p:sp>
          <p:nvSpPr>
            <p:cNvPr id="224" name=""/>
            <p:cNvSpPr/>
            <p:nvPr/>
          </p:nvSpPr>
          <p:spPr>
            <a:xfrm>
              <a:off x="2431440" y="1600200"/>
              <a:ext cx="30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r>
                <a:rPr b="0" lang="sr-Latn-CS" sz="1800" spc="-1" strike="noStrike" baseline="-25000">
                  <a:solidFill>
                    <a:srgbClr val="ff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209320" y="2057400"/>
              <a:ext cx="38124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05320" y="2055960"/>
                <a:ext cx="2415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95880" y="2057400"/>
                <a:ext cx="2619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"/>
          <p:cNvGrpSpPr/>
          <p:nvPr/>
        </p:nvGrpSpPr>
        <p:grpSpPr>
          <a:xfrm>
            <a:off x="1143000" y="2819520"/>
            <a:ext cx="380880" cy="761760"/>
            <a:chOff x="1143000" y="2819520"/>
            <a:chExt cx="380880" cy="761760"/>
          </a:xfrm>
        </p:grpSpPr>
        <p:sp>
          <p:nvSpPr>
            <p:cNvPr id="229" name=""/>
            <p:cNvSpPr/>
            <p:nvPr/>
          </p:nvSpPr>
          <p:spPr>
            <a:xfrm flipV="1">
              <a:off x="1143000" y="2819520"/>
              <a:ext cx="0" cy="761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2819520"/>
              <a:ext cx="380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2819520"/>
              <a:ext cx="0" cy="761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143000" y="3581280"/>
              <a:ext cx="380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05280" y="300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86000" y="2819520"/>
            <a:ext cx="380880" cy="761760"/>
            <a:chOff x="2286000" y="2819520"/>
            <a:chExt cx="380880" cy="761760"/>
          </a:xfrm>
        </p:grpSpPr>
        <p:sp>
          <p:nvSpPr>
            <p:cNvPr id="235" name=""/>
            <p:cNvSpPr/>
            <p:nvPr/>
          </p:nvSpPr>
          <p:spPr>
            <a:xfrm flipV="1">
              <a:off x="2286000" y="2819520"/>
              <a:ext cx="0" cy="761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2819520"/>
              <a:ext cx="380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6880" y="2819520"/>
              <a:ext cx="0" cy="761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286000" y="3581280"/>
              <a:ext cx="380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87800" y="298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525840" y="2843280"/>
                <a:ext cx="3560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551400" y="3516480"/>
                <a:ext cx="36115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838080" y="4343400"/>
            <a:ext cx="769644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9 V, 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12 V, 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4,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10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 5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-0,075 А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1,125 А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-1,05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tode transformacije 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o se transformiše tako da se svede na jednostavnije kolo u koje se rešava primenom Omovog za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cija paralelne i redne v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formacija trougla i zvez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acija redne 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843280"/>
            <a:ext cx="1457280" cy="1423800"/>
            <a:chOff x="838080" y="2843280"/>
            <a:chExt cx="1457280" cy="14238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38080" y="2981160"/>
              <a:ext cx="1457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371600" y="320976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3040" y="28432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14400" y="1685880"/>
            <a:ext cx="1952640" cy="10573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143000" y="1600200"/>
            <a:ext cx="246240" cy="368280"/>
            <a:chOff x="1143000" y="1600200"/>
            <a:chExt cx="246240" cy="368280"/>
          </a:xfrm>
        </p:grpSpPr>
        <p:sp>
          <p:nvSpPr>
            <p:cNvPr id="252" name=""/>
            <p:cNvSpPr/>
            <p:nvPr/>
          </p:nvSpPr>
          <p:spPr>
            <a:xfrm>
              <a:off x="1143000" y="1967040"/>
              <a:ext cx="2286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4440" y="1600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47560" y="1233360"/>
            <a:ext cx="1295640" cy="747360"/>
            <a:chOff x="1447560" y="1233360"/>
            <a:chExt cx="1295640" cy="747360"/>
          </a:xfrm>
        </p:grpSpPr>
        <p:sp>
          <p:nvSpPr>
            <p:cNvPr id="255" name=""/>
            <p:cNvSpPr/>
            <p:nvPr/>
          </p:nvSpPr>
          <p:spPr>
            <a:xfrm flipV="1">
              <a:off x="1447920" y="1447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057400" y="1447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743200" y="1447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447560" y="1600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057040" y="1600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55200" y="12556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65040" y="12333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535120" y="3213000"/>
                <a:ext cx="35100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24040" y="4267080"/>
                <a:ext cx="22654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300640" y="4267080"/>
                <a:ext cx="2325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37840" y="5334120"/>
            <a:ext cx="80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na redno vezanim otpornicima proporcionalan je njihovim otpornos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0:17:26Z</dcterms:created>
  <dc:creator>Zlatan Šoškić</dc:creator>
  <dc:description/>
  <dc:language>en-US</dc:language>
  <cp:lastModifiedBy>Šole</cp:lastModifiedBy>
  <dcterms:modified xsi:type="dcterms:W3CDTF">2004-10-25T09:53:13Z</dcterms:modified>
  <cp:revision>127</cp:revision>
  <dc:subject/>
  <dc:title>Složena električna kola</dc:title>
</cp:coreProperties>
</file>