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287-8E7D-4F23-BEF4-469C9E6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A05-8CAD-4840-812F-68FD7B5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709-4CED-4DFD-83D6-0CAAC24D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309-9E5C-407E-85CA-98A62576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FE2-99A9-422E-A45F-0E644C0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C43-B662-4F16-B47D-4FA0126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DB9-F948-4071-B194-0B86D89C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B17-0119-4A2C-B49C-F6DC239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C5A-DF68-412F-A848-38D9896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6FC-5643-438E-BE8C-9F26036F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CB6-2B5A-44A9-A161-F6D52B5B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A03-0E6D-4098-8CA8-B71A50B5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B554-52E9-47B2-8DBF-8D3C148AE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Jednosmerna i naizmenična električna struj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ređe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nosti naizmenične struje u odnosu na jednosmer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transform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polifaznih sistema za prenos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formiranja obrtnog magnetn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 konstrukcije motora bez kolektorskog skl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nosti jednosmerne struje u odnosu na naizmenič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inom rada rednog motora sa jednosmernom strujom se upravlja jednosta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osmerni motori mogu da menjaju smer okretanja promenom smera struje koja teče kroz induktor (namotaj na stato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ravljanj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upa motor-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izmenični motor pokreće jednosmerni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kupo reš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i koeficijent korisnog dej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isti se za velike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pravlja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onski uređa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e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23:59:23Z</dcterms:created>
  <dc:creator>Zlatan Šoškić</dc:creator>
  <dc:description/>
  <dc:language>en-US</dc:language>
  <cp:lastModifiedBy>Zlatan Šoškić</cp:lastModifiedBy>
  <dcterms:modified xsi:type="dcterms:W3CDTF">2004-12-06T00:48:57Z</dcterms:modified>
  <cp:revision>9</cp:revision>
  <dc:subject/>
  <dc:title>Jednosmerna i naizmenična električna struja</dc:title>
</cp:coreProperties>
</file>