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5.png" ContentType="image/png"/>
  <Override PartName="/ppt/media/image28.png" ContentType="image/png"/>
  <Override PartName="/ppt/media/image10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9.wmf" ContentType="image/x-wmf"/>
  <Override PartName="/ppt/media/image1.png" ContentType="image/png"/>
  <Override PartName="/ppt/media/image14.png" ContentType="image/png"/>
  <Override PartName="/ppt/media/image17.png" ContentType="image/png"/>
  <Override PartName="/ppt/media/image18.jpeg" ContentType="image/jpeg"/>
  <Override PartName="/ppt/media/image20.png" ContentType="image/png"/>
  <Override PartName="/ppt/media/image21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C11F-8B40-4496-A164-07846C9B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775-1534-44DC-BDB5-83D82E4D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BEC7-B849-4352-A709-99228D12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0DD-B9A3-4F57-B316-F59FFD37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C0A-EB8B-4A52-B0BB-A118E936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063-FD69-4723-8853-005C6030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9BC-1AB7-4B7D-8154-2F3670E3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A82A-E480-4E80-B4A1-1659E162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A52-5DD4-4394-BB57-BBE2A33C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29F5-D12B-491C-817D-1F93B866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3E92-7920-4C05-A22D-9664CF41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209-2F48-4F51-B18C-35C5A440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FFD7-BE89-4866-818E-0EF6B885B1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ffffff"/>
                </a:solidFill>
                <a:latin typeface="Arial"/>
              </a:rPr>
              <a:t>Električne maš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ašine jednosmerne stru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strukcija mašin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akcija indu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bog indukovane struje, i indukt stvara svoje magnetsko po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o dovodi do varničenja na četkic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vođenje kompenzacionog namotaja u stato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takt dve sekcije sa četkicama dovodi do varničenja zbog promene smera str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18836" t="0" r="16078" b="0"/>
          <a:stretch/>
        </p:blipFill>
        <p:spPr>
          <a:xfrm>
            <a:off x="266760" y="3581280"/>
            <a:ext cx="2705040" cy="26672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rcRect l="18836" t="0" r="16078" b="0"/>
          <a:stretch/>
        </p:blipFill>
        <p:spPr>
          <a:xfrm>
            <a:off x="3124080" y="3581280"/>
            <a:ext cx="2714760" cy="2675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rcRect l="18836" t="0" r="16078" b="0"/>
          <a:stretch/>
        </p:blipFill>
        <p:spPr>
          <a:xfrm>
            <a:off x="5943600" y="3581280"/>
            <a:ext cx="2714760" cy="2675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36560" y="4807080"/>
            <a:ext cx="38124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636560" y="4571640"/>
            <a:ext cx="0" cy="23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636560" y="4611240"/>
            <a:ext cx="365400" cy="195480"/>
          </a:xfrm>
          <a:prstGeom prst="line">
            <a:avLst/>
          </a:prstGeom>
          <a:ln w="19080">
            <a:solidFill>
              <a:srgbClr val="00007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495680" y="4611240"/>
            <a:ext cx="365400" cy="195480"/>
          </a:xfrm>
          <a:prstGeom prst="line">
            <a:avLst/>
          </a:prstGeom>
          <a:ln w="19080">
            <a:solidFill>
              <a:srgbClr val="00007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81600" y="3822840"/>
            <a:ext cx="971280" cy="1892160"/>
          </a:xfrm>
          <a:prstGeom prst="line">
            <a:avLst/>
          </a:prstGeom>
          <a:ln w="19080">
            <a:solidFill>
              <a:srgbClr val="0000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4807080"/>
            <a:ext cx="3808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315200" y="4571640"/>
            <a:ext cx="0" cy="23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4807080"/>
            <a:ext cx="0" cy="222120"/>
          </a:xfrm>
          <a:prstGeom prst="line">
            <a:avLst/>
          </a:prstGeom>
          <a:ln w="19080">
            <a:solidFill>
              <a:srgbClr val="0099cc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49040" y="62485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ovi komut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enerator 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ektrična snaga je manja od uložene mehanič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žulov efekat u namotaju indu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žulov efekat indukovanih struja u gvožđu ro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isterezis gvožđa ro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ophodno trošenje energije na pokretanje ventil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KD od 0,85 kod malih do 0,95 kod velikih maš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1778040" cy="221436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748080" y="1663200"/>
            <a:ext cx="345240" cy="1600200"/>
            <a:chOff x="748080" y="1663200"/>
            <a:chExt cx="345240" cy="1600200"/>
          </a:xfrm>
        </p:grpSpPr>
        <p:sp>
          <p:nvSpPr>
            <p:cNvPr id="219" name=""/>
            <p:cNvSpPr/>
            <p:nvPr/>
          </p:nvSpPr>
          <p:spPr>
            <a:xfrm flipV="1">
              <a:off x="800280" y="16632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8080" y="2170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823000" y="2341440"/>
                <a:ext cx="20257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t xml:space="preserve">≈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I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2" name=""/>
          <p:cNvGrpSpPr/>
          <p:nvPr/>
        </p:nvGrpSpPr>
        <p:grpSpPr>
          <a:xfrm>
            <a:off x="915840" y="1255680"/>
            <a:ext cx="244800" cy="392040"/>
            <a:chOff x="915840" y="1255680"/>
            <a:chExt cx="244800" cy="392040"/>
          </a:xfrm>
        </p:grpSpPr>
        <p:sp>
          <p:nvSpPr>
            <p:cNvPr id="223" name=""/>
            <p:cNvSpPr/>
            <p:nvPr/>
          </p:nvSpPr>
          <p:spPr>
            <a:xfrm flipH="1">
              <a:off x="919080" y="164772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5840" y="12556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959200" y="2362320"/>
                <a:ext cx="14238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654440" y="2362320"/>
                <a:ext cx="8017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enerator 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buđ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pajanje namotaja sta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poljaš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aralel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mbinov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pravljanje (regulacija) EMS genera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2428920" cy="2466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486400" y="3429000"/>
            <a:ext cx="2971800" cy="2629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502360" y="62085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aralel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76120" y="62118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mbinov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05720" y="3276720"/>
            <a:ext cx="1523880" cy="1676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3048120" y="3581280"/>
            <a:ext cx="2092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lektrični motor 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KD se umanjuje iz istih razloga kao kada se mašina koristi kao 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KD od 0,85 do 0,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1778040" cy="221436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751320" y="1663200"/>
            <a:ext cx="389520" cy="1600200"/>
            <a:chOff x="751320" y="1663200"/>
            <a:chExt cx="389520" cy="1600200"/>
          </a:xfrm>
        </p:grpSpPr>
        <p:sp>
          <p:nvSpPr>
            <p:cNvPr id="239" name=""/>
            <p:cNvSpPr/>
            <p:nvPr/>
          </p:nvSpPr>
          <p:spPr>
            <a:xfrm flipV="1">
              <a:off x="800280" y="16632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1320" y="2170080"/>
              <a:ext cx="389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915840" y="1255680"/>
            <a:ext cx="244800" cy="392040"/>
            <a:chOff x="915840" y="1255680"/>
            <a:chExt cx="244800" cy="392040"/>
          </a:xfrm>
        </p:grpSpPr>
        <p:sp>
          <p:nvSpPr>
            <p:cNvPr id="242" name=""/>
            <p:cNvSpPr/>
            <p:nvPr/>
          </p:nvSpPr>
          <p:spPr>
            <a:xfrm flipH="1">
              <a:off x="919080" y="164772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15840" y="12556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411880" y="1600200"/>
                <a:ext cx="18684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EI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568680" y="1600200"/>
                <a:ext cx="16016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622600" y="1600200"/>
                <a:ext cx="8906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700440" y="2189160"/>
                <a:ext cx="23353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n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01480" y="4724280"/>
                <a:ext cx="21798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852720" y="4794120"/>
                <a:ext cx="15145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50" name=""/>
          <p:cNvGraphicFramePr/>
          <p:nvPr/>
        </p:nvGraphicFramePr>
        <p:xfrm>
          <a:off x="2689200" y="2517840"/>
          <a:ext cx="46036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89200" y="2517840"/>
                    <a:ext cx="46036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2940120" y="5105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033560" y="5237280"/>
                <a:ext cx="160164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n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54" name=""/>
          <p:cNvGrpSpPr/>
          <p:nvPr/>
        </p:nvGrpSpPr>
        <p:grpSpPr>
          <a:xfrm>
            <a:off x="5302080" y="4876920"/>
            <a:ext cx="1477080" cy="368280"/>
            <a:chOff x="5302080" y="4876920"/>
            <a:chExt cx="1477080" cy="368280"/>
          </a:xfrm>
        </p:grpSpPr>
        <p:sp>
          <p:nvSpPr>
            <p:cNvPr id="255" name=""/>
            <p:cNvSpPr/>
            <p:nvPr/>
          </p:nvSpPr>
          <p:spPr>
            <a:xfrm>
              <a:off x="5302080" y="5105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90400" y="487692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nduk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368960" y="5334120"/>
            <a:ext cx="1090440" cy="1303200"/>
            <a:chOff x="4368960" y="5334120"/>
            <a:chExt cx="1090440" cy="1303200"/>
          </a:xfrm>
        </p:grpSpPr>
        <p:sp>
          <p:nvSpPr>
            <p:cNvPr id="258" name=""/>
            <p:cNvSpPr/>
            <p:nvPr/>
          </p:nvSpPr>
          <p:spPr>
            <a:xfrm>
              <a:off x="4921200" y="53341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66520" y="588168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nduk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4368960" y="6234120"/>
                  <a:ext cx="109044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61" name=""/>
          <p:cNvGraphicFramePr/>
          <p:nvPr/>
        </p:nvGraphicFramePr>
        <p:xfrm>
          <a:off x="7189920" y="4800600"/>
          <a:ext cx="159372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89920" y="4800600"/>
                    <a:ext cx="1593720" cy="45720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lektrični motor 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3505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dna pob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124080" y="1274760"/>
                <a:ext cx="755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581040" y="1676520"/>
            <a:ext cx="3610080" cy="2619360"/>
            <a:chOff x="581040" y="1676520"/>
            <a:chExt cx="3610080" cy="261936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581040" y="1676520"/>
              <a:ext cx="3610080" cy="26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 flipV="1">
              <a:off x="4038480" y="198072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43560" y="2855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029200" y="1981080"/>
                <a:ext cx="20462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294160" y="1276200"/>
                <a:ext cx="1401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917960" y="2819520"/>
                <a:ext cx="2581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L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4983120" y="3584520"/>
                <a:ext cx="2158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6016680" y="2438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16680" y="3276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838080" y="4419720"/>
                <a:ext cx="3159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n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685800" y="54864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ez opterećenja M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 opterećenj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rzina se brzo smanj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725560" y="1600200"/>
            <a:ext cx="244800" cy="404640"/>
            <a:chOff x="2725560" y="1600200"/>
            <a:chExt cx="244800" cy="404640"/>
          </a:xfrm>
        </p:grpSpPr>
        <p:sp>
          <p:nvSpPr>
            <p:cNvPr id="279" name=""/>
            <p:cNvSpPr/>
            <p:nvPr/>
          </p:nvSpPr>
          <p:spPr>
            <a:xfrm flipH="1">
              <a:off x="2728440" y="200484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25560" y="16002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lektrični motor 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dna pob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visnost momenta motora od napona i broja obrat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rcRect l="11112" t="8334" r="12698" b="8334"/>
          <a:stretch/>
        </p:blipFill>
        <p:spPr>
          <a:xfrm>
            <a:off x="441360" y="2514600"/>
            <a:ext cx="3749760" cy="31240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rcRect l="10686" t="10020" r="11451" b="7810"/>
          <a:stretch/>
        </p:blipFill>
        <p:spPr>
          <a:xfrm>
            <a:off x="4419720" y="2590920"/>
            <a:ext cx="3886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lektrični motor 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gulacija brzine kod redne pob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ključni reostat, upravljanje induk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egulacioni reostat, upravljanje indukto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ožemo da upravljamo brzin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685880" y="3000240"/>
            <a:ext cx="471492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lektrični motor 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aralelna pob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2504880" cy="2933640"/>
          </a:xfrm>
          <a:prstGeom prst="rect">
            <a:avLst/>
          </a:prstGeom>
          <a:ln w="0">
            <a:noFill/>
          </a:ln>
        </p:spPr>
      </p:pic>
      <p:grpSp>
        <p:nvGrpSpPr>
          <p:cNvPr id="291" name=""/>
          <p:cNvGrpSpPr/>
          <p:nvPr/>
        </p:nvGrpSpPr>
        <p:grpSpPr>
          <a:xfrm>
            <a:off x="2573280" y="1741320"/>
            <a:ext cx="244800" cy="405000"/>
            <a:chOff x="2573280" y="1741320"/>
            <a:chExt cx="244800" cy="405000"/>
          </a:xfrm>
        </p:grpSpPr>
        <p:sp>
          <p:nvSpPr>
            <p:cNvPr id="292" name=""/>
            <p:cNvSpPr/>
            <p:nvPr/>
          </p:nvSpPr>
          <p:spPr>
            <a:xfrm flipH="1">
              <a:off x="2576160" y="214632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73280" y="17413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738080" y="1676520"/>
            <a:ext cx="289080" cy="476280"/>
            <a:chOff x="1738080" y="1676520"/>
            <a:chExt cx="289080" cy="476280"/>
          </a:xfrm>
        </p:grpSpPr>
        <p:sp>
          <p:nvSpPr>
            <p:cNvPr id="295" name=""/>
            <p:cNvSpPr/>
            <p:nvPr/>
          </p:nvSpPr>
          <p:spPr>
            <a:xfrm flipH="1">
              <a:off x="1758600" y="215280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38080" y="1676520"/>
              <a:ext cx="28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247840" y="2300400"/>
            <a:ext cx="362160" cy="405720"/>
            <a:chOff x="2247840" y="2300400"/>
            <a:chExt cx="362160" cy="405720"/>
          </a:xfrm>
        </p:grpSpPr>
        <p:sp>
          <p:nvSpPr>
            <p:cNvPr id="298" name=""/>
            <p:cNvSpPr/>
            <p:nvPr/>
          </p:nvSpPr>
          <p:spPr>
            <a:xfrm>
              <a:off x="2247840" y="23623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86000" y="2300400"/>
              <a:ext cx="32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666960" y="1905120"/>
                <a:ext cx="113364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5102280" y="1752480"/>
                <a:ext cx="3355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2" name=""/>
          <p:cNvGraphicFramePr/>
          <p:nvPr/>
        </p:nvGraphicFramePr>
        <p:xfrm>
          <a:off x="5160960" y="2517840"/>
          <a:ext cx="2666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60960" y="2517840"/>
                    <a:ext cx="2666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013280" y="4192560"/>
          <a:ext cx="3649680" cy="76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13280" y="4192560"/>
                    <a:ext cx="3649680" cy="7603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3664080" y="3279600"/>
          <a:ext cx="4444920" cy="758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64080" y="3279600"/>
                    <a:ext cx="44449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457200" y="51814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otori sa paralelnom pobudom imaju približno konstantnu brzinu rada pri konstantnom naponu napajanja (povećanjem momenta raste struja i snaga mot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godni za režime rada sa konstantnom brzinom rada (mašine alat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lektrični motor 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aralelna pob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visnost momenta motora od napona i broja obrat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12212" t="10020" r="12977" b="7810"/>
          <a:stretch/>
        </p:blipFill>
        <p:spPr>
          <a:xfrm>
            <a:off x="685800" y="2514600"/>
            <a:ext cx="3733920" cy="31240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rcRect l="12212" t="10020" r="11451" b="7810"/>
          <a:stretch/>
        </p:blipFill>
        <p:spPr>
          <a:xfrm>
            <a:off x="4495680" y="2514600"/>
            <a:ext cx="3810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lektrični motori 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pravljanje kod paralelne pob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ključni reos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gulacioni reos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486160" y="2781360"/>
            <a:ext cx="284796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ašine jednosmer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tori jednosmerne str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eneratori jednosmerne str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deja komu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izmeničnu ems (struju) indukovanu u namotajima generatora povezati sa kolom tako da bude jednosm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617840" y="4033800"/>
            <a:ext cx="261720" cy="1378080"/>
            <a:chOff x="1617840" y="4033800"/>
            <a:chExt cx="261720" cy="1378080"/>
          </a:xfrm>
        </p:grpSpPr>
        <p:sp>
          <p:nvSpPr>
            <p:cNvPr id="108" name=""/>
            <p:cNvSpPr/>
            <p:nvPr/>
          </p:nvSpPr>
          <p:spPr>
            <a:xfrm>
              <a:off x="1617840" y="4033800"/>
              <a:ext cx="261720" cy="230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17840" y="5181480"/>
              <a:ext cx="261720" cy="230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295280" y="4205160"/>
            <a:ext cx="914400" cy="1040040"/>
            <a:chOff x="1295280" y="4205160"/>
            <a:chExt cx="914400" cy="1040040"/>
          </a:xfrm>
        </p:grpSpPr>
        <p:grpSp>
          <p:nvGrpSpPr>
            <p:cNvPr id="111" name=""/>
            <p:cNvGrpSpPr/>
            <p:nvPr/>
          </p:nvGrpSpPr>
          <p:grpSpPr>
            <a:xfrm>
              <a:off x="1295280" y="4267080"/>
              <a:ext cx="914400" cy="914400"/>
              <a:chOff x="1295280" y="4267080"/>
              <a:chExt cx="914400" cy="914400"/>
            </a:xfrm>
          </p:grpSpPr>
          <p:sp>
            <p:nvSpPr>
              <p:cNvPr id="112" name=""/>
              <p:cNvSpPr/>
              <p:nvPr/>
            </p:nvSpPr>
            <p:spPr>
              <a:xfrm>
                <a:off x="1295280" y="4267080"/>
                <a:ext cx="914400" cy="9144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0800000">
                <a:off x="1295280" y="4267080"/>
                <a:ext cx="914400" cy="9144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1601280" y="42051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46280" y="48769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680160" y="4216320"/>
            <a:ext cx="914400" cy="1039680"/>
            <a:chOff x="6680160" y="4216320"/>
            <a:chExt cx="914400" cy="1039680"/>
          </a:xfrm>
        </p:grpSpPr>
        <p:sp>
          <p:nvSpPr>
            <p:cNvPr id="117" name=""/>
            <p:cNvSpPr/>
            <p:nvPr/>
          </p:nvSpPr>
          <p:spPr>
            <a:xfrm>
              <a:off x="6680160" y="4279680"/>
              <a:ext cx="914400" cy="9144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800000">
              <a:off x="6680160" y="4278240"/>
              <a:ext cx="914400" cy="9144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85800" y="42163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30800" y="48877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888000" y="4265640"/>
            <a:ext cx="988200" cy="915840"/>
            <a:chOff x="3888000" y="4265640"/>
            <a:chExt cx="988200" cy="915840"/>
          </a:xfrm>
        </p:grpSpPr>
        <p:sp>
          <p:nvSpPr>
            <p:cNvPr id="122" name=""/>
            <p:cNvSpPr/>
            <p:nvPr/>
          </p:nvSpPr>
          <p:spPr>
            <a:xfrm rot="5400000">
              <a:off x="3917880" y="4267080"/>
              <a:ext cx="914400" cy="9144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3917880" y="4265640"/>
              <a:ext cx="914400" cy="9144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8000" y="4532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69120" y="455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85840"/>
            <a:ext cx="838440" cy="1676880"/>
            <a:chOff x="1752480" y="3885840"/>
            <a:chExt cx="838440" cy="1676880"/>
          </a:xfrm>
        </p:grpSpPr>
        <p:sp>
          <p:nvSpPr>
            <p:cNvPr id="127" name=""/>
            <p:cNvSpPr/>
            <p:nvPr/>
          </p:nvSpPr>
          <p:spPr>
            <a:xfrm flipV="1">
              <a:off x="1752480" y="3885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38862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52480" y="5334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52480" y="556272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240080" y="3885840"/>
            <a:ext cx="1017720" cy="1676880"/>
            <a:chOff x="4240080" y="3885840"/>
            <a:chExt cx="1017720" cy="1676880"/>
          </a:xfrm>
        </p:grpSpPr>
        <p:sp>
          <p:nvSpPr>
            <p:cNvPr id="132" name=""/>
            <p:cNvSpPr/>
            <p:nvPr/>
          </p:nvSpPr>
          <p:spPr>
            <a:xfrm>
              <a:off x="4240080" y="4032360"/>
              <a:ext cx="262080" cy="230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40080" y="5180040"/>
              <a:ext cx="262080" cy="230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19360" y="5334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19360" y="556272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419360" y="3885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19360" y="38862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002360" y="3898440"/>
            <a:ext cx="973080" cy="1676880"/>
            <a:chOff x="7002360" y="3898440"/>
            <a:chExt cx="973080" cy="1676880"/>
          </a:xfrm>
        </p:grpSpPr>
        <p:sp>
          <p:nvSpPr>
            <p:cNvPr id="139" name=""/>
            <p:cNvSpPr/>
            <p:nvPr/>
          </p:nvSpPr>
          <p:spPr>
            <a:xfrm>
              <a:off x="7002360" y="4044960"/>
              <a:ext cx="261720" cy="230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02360" y="5192640"/>
              <a:ext cx="261720" cy="230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37360" y="534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37360" y="5575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7137360" y="3898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37360" y="3898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13160" y="4521240"/>
            <a:ext cx="2142360" cy="369720"/>
            <a:chOff x="713160" y="4521240"/>
            <a:chExt cx="2142360" cy="369720"/>
          </a:xfrm>
        </p:grpSpPr>
        <p:sp>
          <p:nvSpPr>
            <p:cNvPr id="146" name=""/>
            <p:cNvSpPr/>
            <p:nvPr/>
          </p:nvSpPr>
          <p:spPr>
            <a:xfrm>
              <a:off x="713160" y="4521240"/>
              <a:ext cx="3452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2520" y="4522680"/>
              <a:ext cx="3330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472428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373920" y="4559400"/>
            <a:ext cx="3452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62680" y="4560840"/>
            <a:ext cx="333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54920" y="4533840"/>
            <a:ext cx="3452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24960" y="4548240"/>
            <a:ext cx="333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4876560" cy="347796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lektrični motor 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zavisna pob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lo indukta i kolo induktora su potpuno nezavis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430520" y="2403360"/>
            <a:ext cx="289080" cy="476280"/>
            <a:chOff x="4430520" y="2403360"/>
            <a:chExt cx="289080" cy="476280"/>
          </a:xfrm>
        </p:grpSpPr>
        <p:sp>
          <p:nvSpPr>
            <p:cNvPr id="320" name=""/>
            <p:cNvSpPr/>
            <p:nvPr/>
          </p:nvSpPr>
          <p:spPr>
            <a:xfrm flipH="1">
              <a:off x="4451040" y="287964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30520" y="2403360"/>
              <a:ext cx="28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270160" y="2925720"/>
            <a:ext cx="361440" cy="405720"/>
            <a:chOff x="2270160" y="2925720"/>
            <a:chExt cx="361440" cy="405720"/>
          </a:xfrm>
        </p:grpSpPr>
        <p:sp>
          <p:nvSpPr>
            <p:cNvPr id="323" name=""/>
            <p:cNvSpPr/>
            <p:nvPr/>
          </p:nvSpPr>
          <p:spPr>
            <a:xfrm>
              <a:off x="2270160" y="2987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07960" y="2925720"/>
              <a:ext cx="32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5" name=""/>
          <p:cNvGraphicFramePr/>
          <p:nvPr/>
        </p:nvGraphicFramePr>
        <p:xfrm>
          <a:off x="6861240" y="2590920"/>
          <a:ext cx="91116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61240" y="2590920"/>
                    <a:ext cx="9111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5680080" y="3581280"/>
          <a:ext cx="2911320" cy="75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80080" y="3581280"/>
                    <a:ext cx="29113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mu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6248160" cy="5597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629400" y="2971800"/>
                <a:ext cx="22939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sSub>
                      <m:e>
                        <m:r>
                          <m:t xml:space="preserve">ω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strukcija mašina za 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haničke kompo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ator (nepokretni de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to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kretni de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utatorski sk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ektor (mehanički u vezi sa rotor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tkice (mehanički u vezi sa stator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strukcija mašina za 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ektrič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duk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otaj koji predstavlja stacionarni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ektromag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du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kretni namotaj u kome se indukuje 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324480" y="3343320"/>
            <a:ext cx="2686320" cy="32860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strukcija mašina za 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ktromagnet jednosmerne str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tralna lin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elektr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 sm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lu, kalem kroz koji protiče 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28760" y="3276720"/>
            <a:ext cx="4971960" cy="3189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28760" y="3276720"/>
            <a:ext cx="4981320" cy="3195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95760" y="4532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4824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90880" y="4724280"/>
            <a:ext cx="1522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181480" y="4038480"/>
            <a:ext cx="1422360" cy="2057400"/>
            <a:chOff x="5181480" y="4038480"/>
            <a:chExt cx="1422360" cy="2057400"/>
          </a:xfrm>
        </p:grpSpPr>
        <p:sp>
          <p:nvSpPr>
            <p:cNvPr id="169" name=""/>
            <p:cNvSpPr/>
            <p:nvPr/>
          </p:nvSpPr>
          <p:spPr>
            <a:xfrm>
              <a:off x="6603840" y="4038480"/>
              <a:ext cx="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5181480" y="4724280"/>
                  <a:ext cx="132552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1" name=""/>
          <p:cNvGrpSpPr/>
          <p:nvPr/>
        </p:nvGrpSpPr>
        <p:grpSpPr>
          <a:xfrm>
            <a:off x="8001000" y="3429000"/>
            <a:ext cx="331920" cy="609480"/>
            <a:chOff x="8001000" y="3429000"/>
            <a:chExt cx="331920" cy="609480"/>
          </a:xfrm>
        </p:grpSpPr>
        <p:sp>
          <p:nvSpPr>
            <p:cNvPr id="172" name=""/>
            <p:cNvSpPr/>
            <p:nvPr/>
          </p:nvSpPr>
          <p:spPr>
            <a:xfrm>
              <a:off x="807732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8001000" y="3429000"/>
                  <a:ext cx="33192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strukcija mašina za 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visnost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od struje induk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visnost indukcije magnetskog polja elektromagneta od pobudne str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isterezisna zavis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938760" y="4892760"/>
                <a:ext cx="1317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 flipV="1">
            <a:off x="2352600" y="4114800"/>
            <a:ext cx="221004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6264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996920" y="2742840"/>
            <a:ext cx="4827600" cy="3809880"/>
            <a:chOff x="1996920" y="2742840"/>
            <a:chExt cx="4827600" cy="3809880"/>
          </a:xfrm>
        </p:grpSpPr>
        <p:sp>
          <p:nvSpPr>
            <p:cNvPr id="180" name=""/>
            <p:cNvSpPr/>
            <p:nvPr/>
          </p:nvSpPr>
          <p:spPr>
            <a:xfrm flipH="1" flipV="1">
              <a:off x="2492280" y="2742840"/>
              <a:ext cx="1296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48040" y="617220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6496200" y="5975280"/>
                  <a:ext cx="3283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1996920" y="2743200"/>
                  <a:ext cx="430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570560" y="3673440"/>
                <a:ext cx="1469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3488760" y="5241960"/>
            <a:ext cx="19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ž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porcional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08520" y="295596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ž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sić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strukcija mašina za 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124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du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 namot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rzina obrtanja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zi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525840" y="2003400"/>
                <a:ext cx="14270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0" name="" descr=""/>
          <p:cNvPicPr/>
          <p:nvPr/>
        </p:nvPicPr>
        <p:blipFill>
          <a:blip r:embed="rId1"/>
          <a:srcRect l="17709" t="0" r="15606" b="0"/>
          <a:stretch/>
        </p:blipFill>
        <p:spPr>
          <a:xfrm>
            <a:off x="685800" y="2803680"/>
            <a:ext cx="3581280" cy="3444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rcRect l="8638" t="19230" r="22739" b="7511"/>
          <a:stretch/>
        </p:blipFill>
        <p:spPr>
          <a:xfrm>
            <a:off x="4343400" y="3048120"/>
            <a:ext cx="4191120" cy="28699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4900680" y="5867280"/>
            <a:ext cx="3247920" cy="782640"/>
            <a:chOff x="4900680" y="5867280"/>
            <a:chExt cx="3247920" cy="782640"/>
          </a:xfrm>
        </p:grpSpPr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4900680" y="5867280"/>
                  <a:ext cx="324792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5099040" y="6248520"/>
                  <a:ext cx="282564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6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9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7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strukcija mašina za 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du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električnom smislu, indukt je izvor električne str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917720" y="5099040"/>
                <a:ext cx="44067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sSub>
                      <m:e>
                        <m:r>
                          <m:t xml:space="preserve">ω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n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1778040" cy="2214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809880" y="1905120"/>
            <a:ext cx="365760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451320" y="6087960"/>
                <a:ext cx="1493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n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9:10:26Z</dcterms:created>
  <dc:creator>Zlatan Šoškić</dc:creator>
  <dc:description/>
  <dc:language>en-US</dc:language>
  <cp:lastModifiedBy>Zlatan Soskic</cp:lastModifiedBy>
  <dcterms:modified xsi:type="dcterms:W3CDTF">2007-05-23T18:22:13Z</dcterms:modified>
  <cp:revision>172</cp:revision>
  <dc:subject/>
  <dc:title>Električne mašine</dc:title>
</cp:coreProperties>
</file>