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ABAB-A773-4C1A-968D-C1303A71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2AD1-66D1-44B2-8236-E3F5B30F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FB93-AA6A-4600-856F-FE818C90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2B83-006A-4686-AE5B-DD9E5BF9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D7B5-7501-4105-B853-FFB9EDBB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82C4-6396-494F-AFE4-58C5086E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DCBE-4D14-4743-82F9-46194947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39FA-94B5-4773-B2F4-00064A20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8311-ED07-463C-B02B-BAE7E7E8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8851-5EFE-444A-B50E-E3FEAFCC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60FC-C663-45C0-8308-6E03A8855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6B8A-25B4-44DE-8D59-D35751B30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F30D-4E88-45D8-852F-ED43BF7740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ffffff"/>
                </a:solidFill>
                <a:latin typeface="Arial"/>
              </a:rPr>
              <a:t>Naizmenične struj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Opisivanje prostoperiodičnih velič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mpleksno opisi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kaz fazora kompleksnim brojev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914400" y="2743200"/>
            <a:ext cx="3909960" cy="1371600"/>
            <a:chOff x="914400" y="2743200"/>
            <a:chExt cx="3909960" cy="1371600"/>
          </a:xfrm>
        </p:grpSpPr>
        <p:sp>
          <p:nvSpPr>
            <p:cNvPr id="217" name=""/>
            <p:cNvSpPr/>
            <p:nvPr/>
          </p:nvSpPr>
          <p:spPr>
            <a:xfrm>
              <a:off x="2743200" y="274320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2820960" y="3247920"/>
                  <a:ext cx="200340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Im</m:t>
                      </m:r>
                      <m:r>
                        <m:t xml:space="preserve">(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I</m:t>
                          </m:r>
                        </m:e>
                      </m:ba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ϕ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9" name=""/>
            <p:cNvSpPr/>
            <p:nvPr/>
          </p:nvSpPr>
          <p:spPr>
            <a:xfrm>
              <a:off x="914400" y="274320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914400" y="2743200"/>
            <a:ext cx="1371600" cy="1371600"/>
            <a:chOff x="914400" y="2743200"/>
            <a:chExt cx="1371600" cy="1371600"/>
          </a:xfrm>
        </p:grpSpPr>
        <p:sp>
          <p:nvSpPr>
            <p:cNvPr id="221" name=""/>
            <p:cNvSpPr/>
            <p:nvPr/>
          </p:nvSpPr>
          <p:spPr>
            <a:xfrm flipV="1">
              <a:off x="914400" y="2743200"/>
              <a:ext cx="1371600" cy="1371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1311120" y="3765600"/>
                  <a:ext cx="24300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ϕ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1379520" y="3143160"/>
                  <a:ext cx="22068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5257800" y="2730600"/>
                <a:ext cx="148284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7315200" y="3200400"/>
                <a:ext cx="1200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I</m:t>
                        </m:r>
                      </m:e>
                    </m:ba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ϕ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257800" y="4254480"/>
                <a:ext cx="16351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27" name=""/>
          <p:cNvGrpSpPr/>
          <p:nvPr/>
        </p:nvGrpSpPr>
        <p:grpSpPr>
          <a:xfrm>
            <a:off x="457200" y="2297160"/>
            <a:ext cx="3575160" cy="2198160"/>
            <a:chOff x="457200" y="2297160"/>
            <a:chExt cx="3575160" cy="2198160"/>
          </a:xfrm>
        </p:grpSpPr>
        <p:sp>
          <p:nvSpPr>
            <p:cNvPr id="228" name=""/>
            <p:cNvSpPr/>
            <p:nvPr/>
          </p:nvSpPr>
          <p:spPr>
            <a:xfrm>
              <a:off x="457200" y="411480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914400" y="243792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3656160" y="3962520"/>
                  <a:ext cx="37620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995400" y="2297160"/>
                  <a:ext cx="376200" cy="28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m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2286000" y="2370240"/>
                <a:ext cx="10954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I</m:t>
                        </m:r>
                      </m:e>
                    </m:ba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j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3" name=""/>
          <p:cNvGrpSpPr/>
          <p:nvPr/>
        </p:nvGrpSpPr>
        <p:grpSpPr>
          <a:xfrm>
            <a:off x="674640" y="2743200"/>
            <a:ext cx="2068560" cy="2209680"/>
            <a:chOff x="674640" y="2743200"/>
            <a:chExt cx="2068560" cy="2209680"/>
          </a:xfrm>
        </p:grpSpPr>
        <p:sp>
          <p:nvSpPr>
            <p:cNvPr id="234" name=""/>
            <p:cNvSpPr/>
            <p:nvPr/>
          </p:nvSpPr>
          <p:spPr>
            <a:xfrm>
              <a:off x="914400" y="43434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86000" y="274320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674640" y="4579920"/>
                  <a:ext cx="206856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r>
                        <m:t xml:space="preserve">(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I</m:t>
                          </m:r>
                        </m:e>
                      </m:ba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ϕ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mpleksno opisi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12193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r: sabiranje dve prostoperiodične veličine (Kirhofovi zako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887400" y="3657600"/>
                <a:ext cx="50166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I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j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888840" y="1638360"/>
                <a:ext cx="28893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838080" y="1981080"/>
                <a:ext cx="297684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5805360" y="1698480"/>
                <a:ext cx="123516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3962520" y="2057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195880" y="1981080"/>
                <a:ext cx="242424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887400" y="2590920"/>
                <a:ext cx="42577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887400" y="3124080"/>
                <a:ext cx="44863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87400" y="4317840"/>
                <a:ext cx="291132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5410080" y="5834160"/>
                <a:ext cx="348480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5827680" y="4843440"/>
                <a:ext cx="255744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mpleksno opisi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d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r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tematički jednostav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ako se uočavaju zavisnosti među veličin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dosta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ompleksni broj u algebarskom obliku nema direktno fizičko objašnje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ransformacije op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ransformacija kom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ksnog oblika u fazorski obl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ni deo kompleksnog broja je x projekcija faz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maginarni deo kompleksnog broja je y projekcija faz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352680" y="2590920"/>
                <a:ext cx="127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I</m:t>
                        </m:r>
                      </m:e>
                    </m:ba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j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5" name=""/>
          <p:cNvGrpSpPr/>
          <p:nvPr/>
        </p:nvGrpSpPr>
        <p:grpSpPr>
          <a:xfrm>
            <a:off x="2719440" y="3733920"/>
            <a:ext cx="3452760" cy="2298600"/>
            <a:chOff x="2719440" y="3733920"/>
            <a:chExt cx="3452760" cy="2298600"/>
          </a:xfrm>
        </p:grpSpPr>
        <p:sp>
          <p:nvSpPr>
            <p:cNvPr id="256" name=""/>
            <p:cNvSpPr/>
            <p:nvPr/>
          </p:nvSpPr>
          <p:spPr>
            <a:xfrm flipV="1">
              <a:off x="3176640" y="4114800"/>
              <a:ext cx="1371600" cy="1371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19440" y="548640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176640" y="380952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005440" y="411480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76640" y="57150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1" name=""/>
                <p:cNvSpPr txBox="1"/>
                <p:nvPr/>
              </p:nvSpPr>
              <p:spPr>
                <a:xfrm>
                  <a:off x="5037120" y="4651200"/>
                  <a:ext cx="220680" cy="30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2" name=""/>
                <p:cNvSpPr txBox="1"/>
                <p:nvPr/>
              </p:nvSpPr>
              <p:spPr>
                <a:xfrm>
                  <a:off x="3741840" y="5791320"/>
                  <a:ext cx="22068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3" name=""/>
            <p:cNvSpPr/>
            <p:nvPr/>
          </p:nvSpPr>
          <p:spPr>
            <a:xfrm>
              <a:off x="3176640" y="411480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48240" y="411480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3641760" y="4471920"/>
                  <a:ext cx="22068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bot"/>
                        </m:barPr>
                        <m:e>
                          <m:r>
                            <m:t xml:space="preserve">I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5951520" y="5397480"/>
                  <a:ext cx="22068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3276720" y="3733920"/>
                  <a:ext cx="242640" cy="28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ransformacije op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ransformacija kompleksnog u vremens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294000" y="1981080"/>
                <a:ext cx="12780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I</m:t>
                        </m:r>
                      </m:e>
                    </m:ba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j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828800" y="2743200"/>
                <a:ext cx="452268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 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ransformacije op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ransformacija vremenskog u kompleks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2496960" y="2260440"/>
                <a:ext cx="28180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362320" y="3429000"/>
                <a:ext cx="30970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etodi opisi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data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mogućiti efikasno rešavanje električnih k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mogućiti efikasno proučavanje oscilatornih 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stoperiodična velič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mplituda (efektivna vredn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čestanost (kružna učestan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četna fa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kolima prostoperiodične struje sve veličine imaju istu frekven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mplituda (efektivna vredn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četna fa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etodi opisi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remenski (trigonometrijsk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azorski (geometrijsk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mpleksni (aritmetičk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remensko opisi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nalitički prikaz trigonometrijskim funkcij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298600" y="1892160"/>
                <a:ext cx="31003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rcRect l="5712" t="9369" r="11482" b="0"/>
          <a:stretch/>
        </p:blipFill>
        <p:spPr>
          <a:xfrm>
            <a:off x="762120" y="2409840"/>
            <a:ext cx="5105160" cy="425772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5181480" y="2819520"/>
            <a:ext cx="2057400" cy="1393560"/>
            <a:chOff x="5181480" y="2819520"/>
            <a:chExt cx="2057400" cy="1393560"/>
          </a:xfrm>
        </p:grpSpPr>
        <p:sp>
          <p:nvSpPr>
            <p:cNvPr id="112" name=""/>
            <p:cNvSpPr/>
            <p:nvPr/>
          </p:nvSpPr>
          <p:spPr>
            <a:xfrm>
              <a:off x="5181480" y="28195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15000" y="42130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629400" y="2819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6515280" y="3301920"/>
                  <a:ext cx="60948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6" name=""/>
          <p:cNvGrpSpPr/>
          <p:nvPr/>
        </p:nvGrpSpPr>
        <p:grpSpPr>
          <a:xfrm>
            <a:off x="3886200" y="4191120"/>
            <a:ext cx="1066680" cy="2577960"/>
            <a:chOff x="3886200" y="4191120"/>
            <a:chExt cx="1066680" cy="2577960"/>
          </a:xfrm>
        </p:grpSpPr>
        <p:sp>
          <p:nvSpPr>
            <p:cNvPr id="117" name=""/>
            <p:cNvSpPr/>
            <p:nvPr/>
          </p:nvSpPr>
          <p:spPr>
            <a:xfrm>
              <a:off x="3886200" y="4191120"/>
              <a:ext cx="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52880" y="4216320"/>
              <a:ext cx="0" cy="24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86200" y="640080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3975120" y="6413400"/>
                  <a:ext cx="83808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ω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1" name=""/>
          <p:cNvGrpSpPr/>
          <p:nvPr/>
        </p:nvGrpSpPr>
        <p:grpSpPr>
          <a:xfrm>
            <a:off x="1523880" y="4216320"/>
            <a:ext cx="279360" cy="2527560"/>
            <a:chOff x="1523880" y="4216320"/>
            <a:chExt cx="279360" cy="2527560"/>
          </a:xfrm>
        </p:grpSpPr>
        <p:sp>
          <p:nvSpPr>
            <p:cNvPr id="122" name=""/>
            <p:cNvSpPr/>
            <p:nvPr/>
          </p:nvSpPr>
          <p:spPr>
            <a:xfrm flipV="1">
              <a:off x="1790640" y="4216320"/>
              <a:ext cx="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1523880" y="4241520"/>
              <a:ext cx="0" cy="23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23880" y="6400800"/>
              <a:ext cx="26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1523880" y="6413400"/>
                  <a:ext cx="27936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ϕ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remensko opisi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888840" y="1638360"/>
                <a:ext cx="28893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457200" y="12193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mer: sabiranje dve prostoperiodične veličine (Kirhofovi zako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838080" y="1981080"/>
                <a:ext cx="297684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805360" y="1698480"/>
                <a:ext cx="123516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3962520" y="2057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5195880" y="1981080"/>
                <a:ext cx="242424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838080" y="2590920"/>
                <a:ext cx="59533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80880" y="3048120"/>
                <a:ext cx="50943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276720" y="3489480"/>
                <a:ext cx="471780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80880" y="4000680"/>
                <a:ext cx="78501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[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37" name=""/>
          <p:cNvGrpSpPr/>
          <p:nvPr/>
        </p:nvGrpSpPr>
        <p:grpSpPr>
          <a:xfrm>
            <a:off x="7543440" y="2209680"/>
            <a:ext cx="1067040" cy="2590920"/>
            <a:chOff x="7543440" y="2209680"/>
            <a:chExt cx="1067040" cy="2590920"/>
          </a:xfrm>
        </p:grpSpPr>
        <p:sp>
          <p:nvSpPr>
            <p:cNvPr id="138" name=""/>
            <p:cNvSpPr/>
            <p:nvPr/>
          </p:nvSpPr>
          <p:spPr>
            <a:xfrm>
              <a:off x="7620120" y="22096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10480" y="2209680"/>
              <a:ext cx="0" cy="25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7543440" y="480060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512720" y="4572000"/>
                <a:ext cx="54244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[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[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792520" y="5376960"/>
                <a:ext cx="348444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remensko opisi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12193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mer: sabiranje dve prostoperiodične veličine (Kirhofovi zako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666880" y="1752480"/>
                <a:ext cx="3484800" cy="7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6" name=""/>
          <p:cNvGrpSpPr/>
          <p:nvPr/>
        </p:nvGrpSpPr>
        <p:grpSpPr>
          <a:xfrm>
            <a:off x="1828800" y="2057400"/>
            <a:ext cx="838080" cy="1066680"/>
            <a:chOff x="1828800" y="2057400"/>
            <a:chExt cx="838080" cy="1066680"/>
          </a:xfrm>
        </p:grpSpPr>
        <p:sp>
          <p:nvSpPr>
            <p:cNvPr id="147" name=""/>
            <p:cNvSpPr/>
            <p:nvPr/>
          </p:nvSpPr>
          <p:spPr>
            <a:xfrm flipH="1">
              <a:off x="1828800" y="20574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28800" y="20574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04920" y="3200400"/>
                <a:ext cx="57340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30040" y="3957480"/>
                <a:ext cx="58453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51" name=""/>
          <p:cNvGrpSpPr/>
          <p:nvPr/>
        </p:nvGrpSpPr>
        <p:grpSpPr>
          <a:xfrm>
            <a:off x="6172200" y="2057400"/>
            <a:ext cx="1828800" cy="2743200"/>
            <a:chOff x="6172200" y="2057400"/>
            <a:chExt cx="1828800" cy="2743200"/>
          </a:xfrm>
        </p:grpSpPr>
        <p:sp>
          <p:nvSpPr>
            <p:cNvPr id="152" name=""/>
            <p:cNvSpPr/>
            <p:nvPr/>
          </p:nvSpPr>
          <p:spPr>
            <a:xfrm>
              <a:off x="6172200" y="20574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001000" y="2057400"/>
              <a:ext cx="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541840" y="4822920"/>
                <a:ext cx="322128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375160" y="5757840"/>
                <a:ext cx="359568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remensko opisi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d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jasan fizički smisao dobijenih rezult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dosta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p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dložno grešk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Fazorsko opisi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rafički prikaz vektor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Fazor je vektor koj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ma napadnu tačku u koordinatnom počet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e okreće konstantnom ugaonom brzinom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oko koordinatnog poče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886200" y="4114800"/>
            <a:ext cx="13716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143000" y="3200400"/>
            <a:ext cx="5486400" cy="3200400"/>
            <a:chOff x="1143000" y="3200400"/>
            <a:chExt cx="5486400" cy="3200400"/>
          </a:xfrm>
        </p:grpSpPr>
        <p:sp>
          <p:nvSpPr>
            <p:cNvPr id="162" name=""/>
            <p:cNvSpPr/>
            <p:nvPr/>
          </p:nvSpPr>
          <p:spPr>
            <a:xfrm>
              <a:off x="1143000" y="5486400"/>
              <a:ext cx="5486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86200" y="3200400"/>
              <a:ext cx="0" cy="32004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351320" y="4514760"/>
                <a:ext cx="22068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3809880" y="4038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41148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71800" y="4648320"/>
            <a:ext cx="1828440" cy="167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09" y="2942"/>
                </a:moveTo>
                <a:arcTo wR="10800" hR="10800" stAng="-2800940" swAng="2800940"/>
                <a:lnTo>
                  <a:pt x="10800" y="10800"/>
                </a:lnTo>
                <a:close/>
              </a:path>
              <a:path fill="none" w="21600" h="21600">
                <a:moveTo>
                  <a:pt x="18209" y="2942"/>
                </a:moveTo>
                <a:arcTo wR="10800" hR="10800" stAng="-2800940" swAng="280094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282920" y="5137200"/>
                <a:ext cx="24300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257800" y="41148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715000" y="4114800"/>
            <a:ext cx="798480" cy="1371600"/>
            <a:chOff x="5715000" y="4114800"/>
            <a:chExt cx="798480" cy="1371600"/>
          </a:xfrm>
        </p:grpSpPr>
        <p:sp>
          <p:nvSpPr>
            <p:cNvPr id="171" name=""/>
            <p:cNvSpPr/>
            <p:nvPr/>
          </p:nvSpPr>
          <p:spPr>
            <a:xfrm>
              <a:off x="5715000" y="411480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5764320" y="4630680"/>
                  <a:ext cx="749160" cy="35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ϕ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3" name=""/>
          <p:cNvGrpSpPr/>
          <p:nvPr/>
        </p:nvGrpSpPr>
        <p:grpSpPr>
          <a:xfrm>
            <a:off x="3886200" y="5867280"/>
            <a:ext cx="1371600" cy="457200"/>
            <a:chOff x="3886200" y="5867280"/>
            <a:chExt cx="1371600" cy="457200"/>
          </a:xfrm>
        </p:grpSpPr>
        <p:sp>
          <p:nvSpPr>
            <p:cNvPr id="174" name=""/>
            <p:cNvSpPr/>
            <p:nvPr/>
          </p:nvSpPr>
          <p:spPr>
            <a:xfrm>
              <a:off x="3886200" y="586728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4168800" y="5973840"/>
                  <a:ext cx="79380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ϕ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6" name=""/>
          <p:cNvSpPr/>
          <p:nvPr/>
        </p:nvSpPr>
        <p:spPr>
          <a:xfrm flipH="1" flipV="1">
            <a:off x="2045160" y="4989240"/>
            <a:ext cx="1837440" cy="48960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43560" y="4343400"/>
            <a:ext cx="228528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71" y="7994"/>
                </a:moveTo>
                <a:arcTo wR="10800" hR="10800" stAng="-9896466" swAng="9896466"/>
                <a:lnTo>
                  <a:pt x="10800" y="10800"/>
                </a:lnTo>
                <a:close/>
              </a:path>
              <a:path fill="none" w="21600" h="21600">
                <a:moveTo>
                  <a:pt x="371" y="7994"/>
                </a:moveTo>
                <a:arcTo wR="10800" hR="10800" stAng="-9896466" swAng="9896466"/>
              </a:path>
            </a:pathLst>
          </a:custGeom>
          <a:noFill/>
          <a:ln w="93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700360" y="4267080"/>
                <a:ext cx="72864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+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3809880" y="491508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4991040"/>
            <a:ext cx="2743200" cy="0"/>
          </a:xfrm>
          <a:prstGeom prst="line">
            <a:avLst/>
          </a:prstGeom>
          <a:ln w="93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42800" y="4991040"/>
            <a:ext cx="1389240" cy="495360"/>
            <a:chOff x="442800" y="4991040"/>
            <a:chExt cx="1389240" cy="495360"/>
          </a:xfrm>
        </p:grpSpPr>
        <p:sp>
          <p:nvSpPr>
            <p:cNvPr id="182" name=""/>
            <p:cNvSpPr/>
            <p:nvPr/>
          </p:nvSpPr>
          <p:spPr>
            <a:xfrm>
              <a:off x="1828800" y="4991040"/>
              <a:ext cx="0" cy="495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442800" y="5059440"/>
                  <a:ext cx="138924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(</m:t>
                      </m:r>
                      <m:r>
                        <m:t xml:space="preserve">ωt</m:t>
                      </m:r>
                      <m:r>
                        <m:t xml:space="preserve">+</m:t>
                      </m:r>
                      <m:r>
                        <m:t xml:space="preserve">ϕ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Fazorsko opisi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888840" y="1638360"/>
                <a:ext cx="28893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457200" y="12193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mer: sabiranje dve prostoperiodične veličine (Kirhofovi zako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38080" y="1981080"/>
                <a:ext cx="297684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805360" y="1698480"/>
                <a:ext cx="123516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3962520" y="2057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195880" y="1981080"/>
                <a:ext cx="242424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1" name=""/>
          <p:cNvGrpSpPr/>
          <p:nvPr/>
        </p:nvGrpSpPr>
        <p:grpSpPr>
          <a:xfrm>
            <a:off x="2286000" y="3657600"/>
            <a:ext cx="2438280" cy="2212200"/>
            <a:chOff x="2286000" y="3657600"/>
            <a:chExt cx="2438280" cy="2212200"/>
          </a:xfrm>
        </p:grpSpPr>
        <p:sp>
          <p:nvSpPr>
            <p:cNvPr id="192" name=""/>
            <p:cNvSpPr/>
            <p:nvPr/>
          </p:nvSpPr>
          <p:spPr>
            <a:xfrm flipV="1">
              <a:off x="3200400" y="3657600"/>
              <a:ext cx="1371600" cy="1371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4481640" y="3733920"/>
                  <a:ext cx="24264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94" name=""/>
            <p:cNvSpPr/>
            <p:nvPr/>
          </p:nvSpPr>
          <p:spPr>
            <a:xfrm>
              <a:off x="2286000" y="4191120"/>
              <a:ext cx="1828440" cy="167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09" y="2942"/>
                  </a:moveTo>
                  <a:arcTo wR="10800" hR="10800" stAng="-2800940" swAng="28009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09" y="2942"/>
                  </a:moveTo>
                  <a:arcTo wR="10800" hR="10800" stAng="-2800940" swAng="2800940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5" name=""/>
                <p:cNvSpPr txBox="1"/>
                <p:nvPr/>
              </p:nvSpPr>
              <p:spPr>
                <a:xfrm>
                  <a:off x="3576600" y="4637160"/>
                  <a:ext cx="28584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6" name=""/>
          <p:cNvGrpSpPr/>
          <p:nvPr/>
        </p:nvGrpSpPr>
        <p:grpSpPr>
          <a:xfrm>
            <a:off x="457200" y="2743200"/>
            <a:ext cx="4800600" cy="3200400"/>
            <a:chOff x="457200" y="2743200"/>
            <a:chExt cx="4800600" cy="3200400"/>
          </a:xfrm>
        </p:grpSpPr>
        <p:sp>
          <p:nvSpPr>
            <p:cNvPr id="197" name=""/>
            <p:cNvSpPr/>
            <p:nvPr/>
          </p:nvSpPr>
          <p:spPr>
            <a:xfrm>
              <a:off x="457200" y="5029200"/>
              <a:ext cx="4800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200400" y="2743200"/>
              <a:ext cx="0" cy="32004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142640" y="3962520"/>
            <a:ext cx="3200400" cy="2133000"/>
            <a:chOff x="1142640" y="3962520"/>
            <a:chExt cx="3200400" cy="2133000"/>
          </a:xfrm>
        </p:grpSpPr>
        <p:sp>
          <p:nvSpPr>
            <p:cNvPr id="200" name=""/>
            <p:cNvSpPr/>
            <p:nvPr/>
          </p:nvSpPr>
          <p:spPr>
            <a:xfrm flipH="1" flipV="1">
              <a:off x="1142640" y="4343040"/>
              <a:ext cx="20574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51280" y="3962520"/>
              <a:ext cx="2291760" cy="21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2" y="6815"/>
                  </a:moveTo>
                  <a:arcTo wR="10800" hR="10800" stAng="-9500909" swAng="9500909"/>
                  <a:lnTo>
                    <a:pt x="10800" y="10800"/>
                  </a:lnTo>
                  <a:close/>
                </a:path>
                <a:path fill="none" w="21600" h="21600">
                  <a:moveTo>
                    <a:pt x="762" y="6815"/>
                  </a:moveTo>
                  <a:arcTo wR="10800" hR="10800" stAng="-9500909" swAng="9500909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1143000" y="4495680"/>
                  <a:ext cx="28728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2286000" y="4267080"/>
                  <a:ext cx="30780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4" name=""/>
          <p:cNvSpPr/>
          <p:nvPr/>
        </p:nvSpPr>
        <p:spPr>
          <a:xfrm flipV="1">
            <a:off x="1143000" y="2971800"/>
            <a:ext cx="137160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2514240" y="297144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2514240" y="2971440"/>
            <a:ext cx="68580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9160" y="3657600"/>
            <a:ext cx="274248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462" y="529"/>
                </a:moveTo>
                <a:arcTo wR="10800" hR="10800" stAng="-6480153" swAng="6480153"/>
                <a:lnTo>
                  <a:pt x="10800" y="10800"/>
                </a:lnTo>
                <a:close/>
              </a:path>
              <a:path fill="none" w="21600" h="21600">
                <a:moveTo>
                  <a:pt x="7462" y="529"/>
                </a:moveTo>
                <a:arcTo wR="10800" hR="10800" stAng="-6480153" swAng="6480153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319480" y="3244680"/>
                <a:ext cx="22068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895480" y="3352680"/>
                <a:ext cx="24300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5410080" y="4267080"/>
                <a:ext cx="3484800" cy="7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6400800" y="3090960"/>
                <a:ext cx="141120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Fazorsko opisi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ed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r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edosta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e uočava se fizička veza sa veličinama koji se proučava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rtež može da bude prenatr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blematično je precizno crtanje kada se crtane veličine mnogo razlikuju po redu veli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e uočava se lako međusobna zavisnost velič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4T18:59:17Z</dcterms:created>
  <dc:creator>Zlatan Šoškić</dc:creator>
  <dc:description/>
  <dc:language>en-US</dc:language>
  <cp:lastModifiedBy>Zlatan Soskic</cp:lastModifiedBy>
  <dcterms:modified xsi:type="dcterms:W3CDTF">2007-03-29T19:01:22Z</dcterms:modified>
  <cp:revision>153</cp:revision>
  <dc:subject/>
  <dc:title>Naizmenične struje</dc:title>
</cp:coreProperties>
</file>