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331-6C45-412B-A96F-63E258FC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B15-9BED-4B59-BA54-723EAD3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90C-E753-433C-827E-1FBD3BCA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E5D-1760-4B49-AF42-55C65B14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A11-F6C6-4C4C-A8FE-6A5D544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7E5-AB02-428B-BDE5-8BD86281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B8C-BF62-46E4-953E-DAB5F74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44C-95CA-449D-B335-4CC5B5F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2FC-0ECD-472C-9BBA-C154294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BAC-A3AC-4969-8F6F-33186AE1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10D-3E9F-4420-8190-D5959558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07F-A326-4764-B24F-E4A888FD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31B-30DB-465B-8174-F397BBEB7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ično kol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elektrisanja u stalnom kretan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lan tok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konzervaciji elektrostatičkog polja ukazuje da nije moguće napraviti stalan tok električne struje na osnovu elektrostatičkih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statičke sile vode ravnotežnom st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logno gravitacionim silama, gde voda ne može da kruži u prirodi samo na osnovu gravi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048120"/>
            <a:ext cx="83844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0481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8" idx="2"/>
          </p:cNvCxnSpPr>
          <p:nvPr/>
        </p:nvCxnSpPr>
        <p:spPr>
          <a:xfrm>
            <a:off x="1676160" y="346680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838080" y="4800600"/>
            <a:ext cx="2819520" cy="838080"/>
            <a:chOff x="838080" y="4800600"/>
            <a:chExt cx="2819520" cy="838080"/>
          </a:xfrm>
        </p:grpSpPr>
        <p:sp>
          <p:nvSpPr>
            <p:cNvPr id="111" name=""/>
            <p:cNvSpPr/>
            <p:nvPr/>
          </p:nvSpPr>
          <p:spPr>
            <a:xfrm>
              <a:off x="838080" y="4800600"/>
              <a:ext cx="838440" cy="838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4800600"/>
              <a:ext cx="914400" cy="8380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1" idx="6"/>
              <a:endCxn id="112" idx="2"/>
            </p:cNvCxnSpPr>
            <p:nvPr/>
          </p:nvCxnSpPr>
          <p:spPr>
            <a:xfrm>
              <a:off x="1676160" y="5219280"/>
              <a:ext cx="1067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4" name=""/>
          <p:cNvSpPr/>
          <p:nvPr/>
        </p:nvSpPr>
        <p:spPr>
          <a:xfrm>
            <a:off x="1034280" y="397656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4480" y="3962520"/>
            <a:ext cx="42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5920" y="3062160"/>
            <a:ext cx="75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51936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7920" y="571500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57006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4800600"/>
            <a:ext cx="95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440" y="5257800"/>
            <a:ext cx="95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14800" y="3123720"/>
            <a:ext cx="4495680" cy="1143360"/>
            <a:chOff x="4114800" y="3123720"/>
            <a:chExt cx="4495680" cy="1143360"/>
          </a:xfrm>
        </p:grpSpPr>
        <p:sp>
          <p:nvSpPr>
            <p:cNvPr id="123" name=""/>
            <p:cNvSpPr/>
            <p:nvPr/>
          </p:nvSpPr>
          <p:spPr>
            <a:xfrm flipV="1">
              <a:off x="4114800" y="31237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952880" y="3124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3429000"/>
              <a:ext cx="838080" cy="838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114800" y="426708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4114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772400" y="3124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8610480" y="31237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114800" y="4647960"/>
            <a:ext cx="4495680" cy="1143360"/>
            <a:chOff x="4114800" y="4647960"/>
            <a:chExt cx="4495680" cy="1143360"/>
          </a:xfrm>
        </p:grpSpPr>
        <p:sp>
          <p:nvSpPr>
            <p:cNvPr id="131" name=""/>
            <p:cNvSpPr/>
            <p:nvPr/>
          </p:nvSpPr>
          <p:spPr>
            <a:xfrm flipV="1">
              <a:off x="4114800" y="46479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952880" y="46479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5257800"/>
              <a:ext cx="83808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114800" y="57913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56386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772400" y="46479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610480" y="46479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2400" y="5257800"/>
              <a:ext cx="838080" cy="53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5638680"/>
              <a:ext cx="2819520" cy="152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or elek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ređaj koji pretvara neku neelektričnu energiju u električ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ra” naelektrisanja da se kreću suprotno električnom po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029200"/>
            <a:ext cx="685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4"/>
            <a:endCxn id="142" idx="3"/>
          </p:cNvCxnSpPr>
          <p:nvPr/>
        </p:nvCxnSpPr>
        <p:spPr>
          <a:xfrm rot="5400000">
            <a:off x="7733520" y="4762440"/>
            <a:ext cx="4579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5867280" y="3962520"/>
            <a:ext cx="2819520" cy="838080"/>
            <a:chOff x="5867280" y="3962520"/>
            <a:chExt cx="2819520" cy="838080"/>
          </a:xfrm>
        </p:grpSpPr>
        <p:sp>
          <p:nvSpPr>
            <p:cNvPr id="146" name=""/>
            <p:cNvSpPr/>
            <p:nvPr/>
          </p:nvSpPr>
          <p:spPr>
            <a:xfrm>
              <a:off x="5867280" y="3962520"/>
              <a:ext cx="838440" cy="838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2400" y="3962520"/>
              <a:ext cx="9144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5120" y="3976560"/>
              <a:ext cx="75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6" idx="6"/>
              <a:endCxn id="144" idx="2"/>
            </p:cNvCxnSpPr>
            <p:nvPr/>
          </p:nvCxnSpPr>
          <p:spPr>
            <a:xfrm>
              <a:off x="6705360" y="4381200"/>
              <a:ext cx="1067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49" name=""/>
          <p:cNvCxnSpPr>
            <a:stCxn id="142" idx="1"/>
            <a:endCxn id="146" idx="4"/>
          </p:cNvCxnSpPr>
          <p:nvPr/>
        </p:nvCxnSpPr>
        <p:spPr>
          <a:xfrm rot="10800000">
            <a:off x="6285960" y="4799880"/>
            <a:ext cx="72432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533160" y="3504960"/>
            <a:ext cx="4648320" cy="2668680"/>
            <a:chOff x="533160" y="3504960"/>
            <a:chExt cx="4648320" cy="2668680"/>
          </a:xfrm>
        </p:grpSpPr>
        <p:sp>
          <p:nvSpPr>
            <p:cNvPr id="151" name=""/>
            <p:cNvSpPr/>
            <p:nvPr/>
          </p:nvSpPr>
          <p:spPr>
            <a:xfrm>
              <a:off x="762120" y="4343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47920" y="4191120"/>
              <a:ext cx="2818800" cy="609480"/>
              <a:chOff x="1447920" y="4191120"/>
              <a:chExt cx="2818800" cy="609480"/>
            </a:xfrm>
          </p:grpSpPr>
          <p:sp>
            <p:nvSpPr>
              <p:cNvPr id="153" name=""/>
              <p:cNvSpPr/>
              <p:nvPr/>
            </p:nvSpPr>
            <p:spPr>
              <a:xfrm>
                <a:off x="1447920" y="4191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6000" y="4191120"/>
                <a:ext cx="11426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29000" y="48006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447920" y="4343400"/>
              <a:ext cx="2818800" cy="609480"/>
              <a:chOff x="1447920" y="4343400"/>
              <a:chExt cx="2818800" cy="609480"/>
            </a:xfrm>
          </p:grpSpPr>
          <p:sp>
            <p:nvSpPr>
              <p:cNvPr id="157" name=""/>
              <p:cNvSpPr/>
              <p:nvPr/>
            </p:nvSpPr>
            <p:spPr>
              <a:xfrm>
                <a:off x="1447920" y="4343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86000" y="4343400"/>
                <a:ext cx="11426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29000" y="495288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4267080" y="4190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41911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67080" y="4952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61760" y="4343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447920" y="3504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33520" y="35049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3160" y="4952880"/>
              <a:ext cx="4648320" cy="1220760"/>
              <a:chOff x="533160" y="4952880"/>
              <a:chExt cx="4648320" cy="122076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2514600" y="548640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76520" y="5029200"/>
                <a:ext cx="838080" cy="7621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29200" y="49528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14240" y="533412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2120" y="53341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33160" y="548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02720" y="58053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pum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7031520" y="56386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or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ma vrsti energije koju kor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emij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ate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kumul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toizv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dukcioni (generato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z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66680" y="4245120"/>
            <a:ext cx="1371600" cy="761760"/>
            <a:chOff x="1066680" y="4245120"/>
            <a:chExt cx="1371600" cy="761760"/>
          </a:xfrm>
        </p:grpSpPr>
        <p:sp>
          <p:nvSpPr>
            <p:cNvPr id="178" name=""/>
            <p:cNvSpPr/>
            <p:nvPr/>
          </p:nvSpPr>
          <p:spPr>
            <a:xfrm>
              <a:off x="1752480" y="424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99840" y="439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462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2480" y="4626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334120" y="4168800"/>
            <a:ext cx="1447560" cy="685800"/>
            <a:chOff x="5334120" y="4168800"/>
            <a:chExt cx="1447560" cy="685800"/>
          </a:xfrm>
        </p:grpSpPr>
        <p:sp>
          <p:nvSpPr>
            <p:cNvPr id="183" name=""/>
            <p:cNvSpPr/>
            <p:nvPr/>
          </p:nvSpPr>
          <p:spPr>
            <a:xfrm>
              <a:off x="5715000" y="4321080"/>
              <a:ext cx="532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4120" y="4626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60320" y="41688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4120" y="5006880"/>
            <a:ext cx="1447200" cy="533520"/>
            <a:chOff x="5334120" y="5006880"/>
            <a:chExt cx="1447200" cy="533520"/>
          </a:xfrm>
        </p:grpSpPr>
        <p:sp>
          <p:nvSpPr>
            <p:cNvPr id="187" name=""/>
            <p:cNvSpPr/>
            <p:nvPr/>
          </p:nvSpPr>
          <p:spPr>
            <a:xfrm>
              <a:off x="5790960" y="5006880"/>
              <a:ext cx="5331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4120" y="53118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4480" y="53118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31720" y="5083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160020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or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ličine kojima se opisuju izvori električne str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motorna sila (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NIJE MEHANIČK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NIJE MEHANIČKA S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mo se tako z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ri koliku energiju izvor predaje nelektris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946080" y="4336920"/>
                <a:ext cx="5378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W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560760" y="3352680"/>
                <a:ext cx="115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W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088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 hemijskih izvo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apacitet iz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a naelektrisanja koju izvor može da prenese sa nižeg energetskog nivoa na vi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ca C, ali u praksi je često Ah (1 Ah = 1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600 s = 3,6 k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629400" y="4518000"/>
                <a:ext cx="973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o elek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no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ična struktura koja se sastoji od izvora i prijemnika povezanih idealnim provodni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ošač je električni element u kome se energija električne struje pretvara u neki drugi vod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200400"/>
            <a:ext cx="1526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43000" y="2819520"/>
            <a:ext cx="1600200" cy="1752480"/>
            <a:chOff x="1143000" y="2819520"/>
            <a:chExt cx="1600200" cy="1752480"/>
          </a:xfrm>
        </p:grpSpPr>
        <p:sp>
          <p:nvSpPr>
            <p:cNvPr id="202" name=""/>
            <p:cNvSpPr/>
            <p:nvPr/>
          </p:nvSpPr>
          <p:spPr>
            <a:xfrm flipV="1">
              <a:off x="1143000" y="2819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1430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3000" y="2819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2819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4572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43200" y="4266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9000" y="3505320"/>
            <a:ext cx="988560" cy="368280"/>
            <a:chOff x="459000" y="3505320"/>
            <a:chExt cx="988560" cy="368280"/>
          </a:xfrm>
        </p:grpSpPr>
        <p:grpSp>
          <p:nvGrpSpPr>
            <p:cNvPr id="209" name=""/>
            <p:cNvGrpSpPr/>
            <p:nvPr/>
          </p:nvGrpSpPr>
          <p:grpSpPr>
            <a:xfrm>
              <a:off x="838080" y="3657600"/>
              <a:ext cx="609480" cy="76320"/>
              <a:chOff x="838080" y="3657600"/>
              <a:chExt cx="609480" cy="76320"/>
            </a:xfrm>
          </p:grpSpPr>
          <p:sp>
            <p:nvSpPr>
              <p:cNvPr id="210" name=""/>
              <p:cNvSpPr/>
              <p:nvPr/>
            </p:nvSpPr>
            <p:spPr>
              <a:xfrm>
                <a:off x="838080" y="36576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733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59000" y="350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95280" y="2819520"/>
            <a:ext cx="385560" cy="404640"/>
            <a:chOff x="1295280" y="2819520"/>
            <a:chExt cx="385560" cy="404640"/>
          </a:xfrm>
        </p:grpSpPr>
        <p:sp>
          <p:nvSpPr>
            <p:cNvPr id="214" name=""/>
            <p:cNvSpPr/>
            <p:nvPr/>
          </p:nvSpPr>
          <p:spPr>
            <a:xfrm>
              <a:off x="129528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9720" y="285588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976760" y="2743200"/>
            <a:ext cx="320400" cy="1828800"/>
            <a:chOff x="1976760" y="2743200"/>
            <a:chExt cx="320400" cy="1828800"/>
          </a:xfrm>
        </p:grpSpPr>
        <p:sp>
          <p:nvSpPr>
            <p:cNvPr id="217" name=""/>
            <p:cNvSpPr/>
            <p:nvPr/>
          </p:nvSpPr>
          <p:spPr>
            <a:xfrm>
              <a:off x="1981080" y="28195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6760" y="350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2160" y="2743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00400" y="2666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vor povećava energiju naelektris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699000" y="3044880"/>
                <a:ext cx="3976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200400" y="3429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ergija izvora se smanj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957920" y="3730680"/>
                <a:ext cx="17319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200400" y="3962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naga iz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764240" y="4114800"/>
                <a:ext cx="2311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200400" y="47242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ošač umanjuje energiju naelektris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21160" y="5102280"/>
                <a:ext cx="4332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⋅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200400" y="54864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ergija potrošača se poveć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35680" y="5788080"/>
                <a:ext cx="15760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200400" y="60199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naga potroš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984920" y="6168960"/>
                <a:ext cx="2178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k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no k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sto električno kolo je električna struktura u kojoj se energija izvora pretvara u energiju potroš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9000" y="1981080"/>
            <a:ext cx="2360520" cy="1828800"/>
            <a:chOff x="459000" y="1981080"/>
            <a:chExt cx="2360520" cy="1828800"/>
          </a:xfrm>
        </p:grpSpPr>
        <p:sp>
          <p:nvSpPr>
            <p:cNvPr id="235" name=""/>
            <p:cNvSpPr/>
            <p:nvPr/>
          </p:nvSpPr>
          <p:spPr>
            <a:xfrm>
              <a:off x="459000" y="274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838080" y="1981080"/>
              <a:ext cx="1981440" cy="1828800"/>
              <a:chOff x="838080" y="1981080"/>
              <a:chExt cx="1981440" cy="18288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838080" y="2895480"/>
                <a:ext cx="609480" cy="76320"/>
                <a:chOff x="838080" y="2895480"/>
                <a:chExt cx="609480" cy="76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838080" y="28954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90360" y="29718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666880" y="2438280"/>
                <a:ext cx="152640" cy="106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143000" y="2057400"/>
                <a:ext cx="1600200" cy="1752480"/>
                <a:chOff x="1143000" y="2057400"/>
                <a:chExt cx="1600200" cy="1752480"/>
              </a:xfrm>
            </p:grpSpPr>
            <p:sp>
              <p:nvSpPr>
                <p:cNvPr id="242" name=""/>
                <p:cNvSpPr/>
                <p:nvPr/>
              </p:nvSpPr>
              <p:spPr>
                <a:xfrm flipV="1">
                  <a:off x="1143000" y="20574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143000" y="29718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43000" y="2057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43200" y="20574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3000" y="3809880"/>
                  <a:ext cx="160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743200" y="35046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1981080" y="205740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6760" y="2743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5280" y="20574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49720" y="2093760"/>
                <a:ext cx="23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82160" y="19810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81560" y="2060640"/>
                <a:ext cx="1242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538960" y="2057400"/>
                <a:ext cx="109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962520" y="2746440"/>
                <a:ext cx="245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891600" y="313848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41148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ično kolo je električna struktura u kojoj se energija m izvora pretvara u energije n potroš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882800" y="4800600"/>
                <a:ext cx="1851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343400" y="4800600"/>
                <a:ext cx="1700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900880" y="626256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355920" y="5816520"/>
                <a:ext cx="1444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ori i potroš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i izvori mogu i da primaju ener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njenje” akumulatora 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rechargabl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ate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153440" y="1981080"/>
            <a:ext cx="1556280" cy="1204920"/>
            <a:chOff x="1153440" y="1981080"/>
            <a:chExt cx="1556280" cy="1204920"/>
          </a:xfrm>
        </p:grpSpPr>
        <p:sp>
          <p:nvSpPr>
            <p:cNvPr id="265" name=""/>
            <p:cNvSpPr/>
            <p:nvPr/>
          </p:nvSpPr>
          <p:spPr>
            <a:xfrm>
              <a:off x="1582560" y="2347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2560" y="23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82560" y="3186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573280" y="2347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26600" y="2362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53440" y="2590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90760" y="2652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17320" y="2362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6600" y="2590920"/>
              <a:ext cx="420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81120" y="2652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8000" y="23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93600" y="1981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200400" y="2500200"/>
                <a:ext cx="988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5072760" y="2347920"/>
            <a:ext cx="1556640" cy="853920"/>
            <a:chOff x="5072760" y="2347920"/>
            <a:chExt cx="1556640" cy="853920"/>
          </a:xfrm>
        </p:grpSpPr>
        <p:sp>
          <p:nvSpPr>
            <p:cNvPr id="279" name=""/>
            <p:cNvSpPr/>
            <p:nvPr/>
          </p:nvSpPr>
          <p:spPr>
            <a:xfrm>
              <a:off x="5502240" y="2347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02240" y="23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02240" y="3186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92960" y="2347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6280" y="2362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72760" y="2590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2652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6640" y="28335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56280" y="2590920"/>
              <a:ext cx="420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00800" y="265284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27680" y="23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813280" y="1981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1981080"/>
            <a:ext cx="1524240" cy="152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1981080"/>
            <a:ext cx="1676160" cy="152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733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i potrošači mogu da predaju ener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žnjenje” kondenz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35320" y="4495680"/>
            <a:ext cx="2360160" cy="1828800"/>
            <a:chOff x="535320" y="4495680"/>
            <a:chExt cx="2360160" cy="1828800"/>
          </a:xfrm>
        </p:grpSpPr>
        <p:sp>
          <p:nvSpPr>
            <p:cNvPr id="295" name=""/>
            <p:cNvSpPr/>
            <p:nvPr/>
          </p:nvSpPr>
          <p:spPr>
            <a:xfrm>
              <a:off x="914400" y="5410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5638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3200" y="4952880"/>
              <a:ext cx="15228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219320" y="4572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219320" y="5638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9320" y="4572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19520" y="457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19320" y="6324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819520" y="6019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5320" y="5348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45720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3080" y="52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1600" y="4572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460836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8480" y="4495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rujno-naponska zavi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visnost jačine struje od napona koji postoji na nekom električnom ele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mogućava opisivanje rada električnog elementa u k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denz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16040" y="2870280"/>
                <a:ext cx="3345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490920" y="3860640"/>
                <a:ext cx="13939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20:16:24Z</dcterms:created>
  <dc:creator>Zlatan Šoškić</dc:creator>
  <dc:description/>
  <dc:language>en-US</dc:language>
  <cp:lastModifiedBy>Zlatan Soskic</cp:lastModifiedBy>
  <dcterms:modified xsi:type="dcterms:W3CDTF">2006-03-07T10:15:41Z</dcterms:modified>
  <cp:revision>134</cp:revision>
  <dc:subject/>
  <dc:title>Električno kolo</dc:title>
</cp:coreProperties>
</file>