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B0AB4-A977-440F-B1A8-3976FDB8E7E6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4B914-7D16-4F6B-82EC-F8D9B12269A7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A327C-B395-4430-9461-11450B038242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49FE9-685C-4D02-8858-8D38477A0ECC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A1C7B-13AD-486F-B0DF-EDA0A993CCCD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BFCEA-A971-4D50-976E-A422E9DA3466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5D48E-6827-4D5F-A55E-C7982744DBBA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7C88B8-9E49-4758-8154-BBFD9F8DB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0E8C84-FE3D-4342-BFAF-AB87B5B52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0ADD75-83D8-42F6-AED0-3E19EEB90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98346E-17AB-4477-B268-739DA7C57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FF263-86B4-438C-B8DB-0F8F1C897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09EF2-1513-4E6F-8603-99288C930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6A4C3-1413-411D-B1C1-997CA040A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DAC74-90B6-4A17-B801-05F343F04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24996-E811-41DA-986F-C3D6BDA89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85767-D412-405F-A87C-0E5666872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A81A0-92BB-4338-9ABD-0857B569B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891E82-58D4-4BA6-9F0E-DAC4C2A5A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AF7D3-B6E7-4B70-AA93-D6CF9AE59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1C1A2-4EAF-4175-A2EA-501E6ADEB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3B6FB-1941-45F6-A9B5-14C32B11E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506EE-43C3-4502-A408-1D42ACDFA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77849-DB19-4C11-BF01-9CD7155E3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78BB41-0E3E-43EB-8F73-1179E0CB9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317DDF-9B5E-4BEA-8277-F5954F127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C41E21-DF79-4967-B953-29795C79E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C297D6-3E08-4CEE-A96E-DD2B8AD52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17E033-8D42-448F-BF31-485367704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735F18-3552-4F8D-B7F9-7E71A1FFA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4BD23A-1495-4D40-B9AD-E41E34C52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069DC-16A0-4CFA-B57A-ADD460A376A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CDE93-2BEF-4A81-A229-4D2167457BE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Elektrotehnika sa elektronikom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Uvod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stavno osobl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stavni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 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Zlata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n Šoški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 Slobodanka Galovi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Saradnic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Jelena Tomić, master inženjer elektrotehni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Slobodan Todosijević, dipl. ing. elektrotehni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Labor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Milorad Stamboli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Nastavni pl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Predava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3 časa sedmič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Vež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časa sedmič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Auditor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Laboratorijs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Isp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Usl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Odbranjene laboratorijske vež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Položen pismeni ispit (bar 44 poen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Parcijalno polaganje – 4 kolokviju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Oce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80 poena – pismeni isp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10 poena – lab. Vež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5 poena – rad na predavanji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5 poena – rad na auditornim vežba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55-64(6), 65-74(7), 75-84(8), 85-94(9), 95-100(1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Literatu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Udžbenic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Osnovi elektrotehnike”, I-III, J. Surutka, ETF Beogr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Elektrotehnika”, Petar Miljanić, MF Beogr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Skrip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Osnovi elektrotehnike”, Stanimir Čajetina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Zbir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ZZ iz elektrotehnike”, S. Čajetina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ZZ iz Fizike – deo D”, M. Dimi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ZZ iz Fizi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aktikum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aktikum računskih vežbanja iz elektrotehni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aktikum za laboratorijske vežbe iz elektrotehni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Elektrotehnik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Oblast tehnike koja se bavi primenom fizičkih pojava povezanih sa naelektrisanj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Osnove elektrotehnike: elektrostatika, elektrodinamika, magnetizam, elektromagnetizam, teorija električnih ko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Energetika: proizvodnja, prenos i upotreba električne energi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Elektronika: proizvodnja, prenos i upotreba električnih signa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0T08:36:40Z</dcterms:created>
  <dc:creator>Šole</dc:creator>
  <dc:description/>
  <dc:language>en-US</dc:language>
  <cp:lastModifiedBy>Zlatan Soskic</cp:lastModifiedBy>
  <dcterms:modified xsi:type="dcterms:W3CDTF">2013-02-27T09:44:56Z</dcterms:modified>
  <cp:revision>19</cp:revision>
  <dc:subject/>
  <dc:title>Elektrotehnika sa elektronikom</dc:title>
</cp:coreProperties>
</file>