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889-E7E7-4141-9824-133B460A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9F4-99E9-4403-85F4-6E11F7C3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B70-A7C1-4DF5-88E4-DD399649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95D-3B63-4FB8-81DB-172D8645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E93-1F05-4296-B13D-F3D96FFF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A1B-E785-4C60-92BB-56D6A7F0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A6A-B2E2-433E-9BF8-52762F51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288-7EE3-4B74-8225-84789946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C0F-7EB2-4BAD-9CFB-2AB930C9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5E7-81C8-4A53-8198-3ACFC205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DCB-32A4-48AD-BCAA-3E9293B6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ED0-CC41-413B-ABA7-C8D04635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A9DA-B7BE-4040-A8E2-CD18201B8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lektronik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ciona k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nteza operacionih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ektronska š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3520" y="1695600"/>
            <a:ext cx="6705360" cy="346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295280" y="5181480"/>
                <a:ext cx="11430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224720" y="5881680"/>
            <a:ext cx="45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to više jednakih elementa – to jeftinije k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295280" y="6305400"/>
                <a:ext cx="23544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=R=R'=</m:t>
                    </m:r>
                    <m: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`M %OMEGA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1224720" y="5522760"/>
            <a:ext cx="30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denzator malih dimenz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394160" y="5562720"/>
                <a:ext cx="12333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=</m:t>
                    </m:r>
                    <m: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` ital </m:t>
                    </m:r>
                    <m:r>
                      <m:t xml:space="preserve">nF</m:t>
                    </m:r>
                    <m:r>
                      <m:rPr>
                        <m:lit/>
                        <m:nor/>
                      </m:rPr>
                      <m:t xml:space="preserve">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780160" y="5562720"/>
                <a:ext cx="14587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=</m:t>
                    </m:r>
                    <m: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`M %OMEGA } {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am operacionih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la koja vrše matematičke oper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nožač (y = 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birač (y = ax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iferencijator (y = dx/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teg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641680" y="2695680"/>
                <a:ext cx="116532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x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80880" y="38862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bezbeđuju realizaciju sistema automatskog upravl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243400" y="2057400"/>
            <a:ext cx="3138480" cy="838080"/>
            <a:chOff x="5243400" y="2057400"/>
            <a:chExt cx="3138480" cy="838080"/>
          </a:xfrm>
        </p:grpSpPr>
        <p:sp>
          <p:nvSpPr>
            <p:cNvPr id="110" name=""/>
            <p:cNvSpPr/>
            <p:nvPr/>
          </p:nvSpPr>
          <p:spPr>
            <a:xfrm>
              <a:off x="6095880" y="2057400"/>
              <a:ext cx="152424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Operacio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ko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34120" y="25146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25146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43400" y="2170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10280" y="2170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523960" y="4419720"/>
                <a:ext cx="28101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+</m:t>
                    </m:r>
                    <m:r>
                      <m:t xml:space="preserve">I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xdt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044800" y="5599080"/>
            <a:ext cx="35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, I, D – konstante (realni broje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ncip operacionih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5029200" cy="2973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914400" y="3733920"/>
                <a:ext cx="12524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a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a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 flipV="1">
            <a:off x="2819520" y="1523520"/>
            <a:ext cx="3733560" cy="11430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40480" y="1332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rtuelna 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447920" y="1766880"/>
            <a:ext cx="761760" cy="442800"/>
            <a:chOff x="1447920" y="1766880"/>
            <a:chExt cx="761760" cy="442800"/>
          </a:xfrm>
        </p:grpSpPr>
        <p:sp>
          <p:nvSpPr>
            <p:cNvPr id="123" name=""/>
            <p:cNvSpPr/>
            <p:nvPr/>
          </p:nvSpPr>
          <p:spPr>
            <a:xfrm>
              <a:off x="1447920" y="2209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4200" y="1766880"/>
              <a:ext cx="47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ul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200400" y="1066680"/>
            <a:ext cx="761760" cy="442800"/>
            <a:chOff x="3200400" y="1066680"/>
            <a:chExt cx="761760" cy="442800"/>
          </a:xfrm>
        </p:grpSpPr>
        <p:sp>
          <p:nvSpPr>
            <p:cNvPr id="126" name=""/>
            <p:cNvSpPr/>
            <p:nvPr/>
          </p:nvSpPr>
          <p:spPr>
            <a:xfrm>
              <a:off x="3200400" y="15094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18120" y="1066680"/>
              <a:ext cx="49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izl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934320" y="2798640"/>
                <a:ext cx="1073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34320" y="1676520"/>
                <a:ext cx="7603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934320" y="2362320"/>
                <a:ext cx="7826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949480" y="3733920"/>
                <a:ext cx="12985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zla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zla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80880" y="4676760"/>
                <a:ext cx="17449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022560" y="4648320"/>
                <a:ext cx="18115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295280" y="5259240"/>
                <a:ext cx="286236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a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a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zla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zla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343400" y="56386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019920" y="5238720"/>
                <a:ext cx="22208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zla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az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noža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0920" y="1371600"/>
            <a:ext cx="3138840" cy="838080"/>
            <a:chOff x="610920" y="1371600"/>
            <a:chExt cx="3138840" cy="838080"/>
          </a:xfrm>
        </p:grpSpPr>
        <p:sp>
          <p:nvSpPr>
            <p:cNvPr id="139" name=""/>
            <p:cNvSpPr/>
            <p:nvPr/>
          </p:nvSpPr>
          <p:spPr>
            <a:xfrm>
              <a:off x="1463760" y="1371600"/>
              <a:ext cx="15238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noža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1640" y="1828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87640" y="1828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0920" y="1484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78520" y="148428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2728800"/>
            <a:ext cx="4419720" cy="226692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1066680" y="3048120"/>
            <a:ext cx="761760" cy="442800"/>
            <a:chOff x="1066680" y="3048120"/>
            <a:chExt cx="761760" cy="442800"/>
          </a:xfrm>
        </p:grpSpPr>
        <p:sp>
          <p:nvSpPr>
            <p:cNvPr id="146" name=""/>
            <p:cNvSpPr/>
            <p:nvPr/>
          </p:nvSpPr>
          <p:spPr>
            <a:xfrm>
              <a:off x="1066680" y="3490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82960" y="3048120"/>
              <a:ext cx="47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ul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666880" y="2286000"/>
            <a:ext cx="761760" cy="442800"/>
            <a:chOff x="2666880" y="2286000"/>
            <a:chExt cx="761760" cy="442800"/>
          </a:xfrm>
        </p:grpSpPr>
        <p:sp>
          <p:nvSpPr>
            <p:cNvPr id="149" name=""/>
            <p:cNvSpPr/>
            <p:nvPr/>
          </p:nvSpPr>
          <p:spPr>
            <a:xfrm>
              <a:off x="2666880" y="2728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84600" y="2286000"/>
              <a:ext cx="49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izl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037120" y="2354400"/>
                <a:ext cx="1744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57640" y="3146400"/>
                <a:ext cx="21052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105520" y="4038480"/>
                <a:ext cx="19033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27080" y="5257800"/>
                <a:ext cx="12099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ver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10920" y="1371600"/>
            <a:ext cx="3138840" cy="838080"/>
            <a:chOff x="610920" y="1371600"/>
            <a:chExt cx="3138840" cy="838080"/>
          </a:xfrm>
        </p:grpSpPr>
        <p:sp>
          <p:nvSpPr>
            <p:cNvPr id="157" name=""/>
            <p:cNvSpPr/>
            <p:nvPr/>
          </p:nvSpPr>
          <p:spPr>
            <a:xfrm>
              <a:off x="1463760" y="1371600"/>
              <a:ext cx="15238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nver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640" y="1828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87640" y="1828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0920" y="1484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8160" y="14842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-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477120" y="3711600"/>
                <a:ext cx="10843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52600" y="2438280"/>
            <a:ext cx="501012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6560" y="2895480"/>
            <a:ext cx="4486320" cy="2249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j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10920" y="1371600"/>
            <a:ext cx="3197160" cy="838080"/>
            <a:chOff x="610920" y="1371600"/>
            <a:chExt cx="3197160" cy="838080"/>
          </a:xfrm>
        </p:grpSpPr>
        <p:sp>
          <p:nvSpPr>
            <p:cNvPr id="167" name=""/>
            <p:cNvSpPr/>
            <p:nvPr/>
          </p:nvSpPr>
          <p:spPr>
            <a:xfrm>
              <a:off x="1463760" y="1371600"/>
              <a:ext cx="15238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Arial"/>
                </a:rPr>
                <a:t>Diferencij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640" y="1828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87640" y="1828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0920" y="1484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41560" y="1447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 dx/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066680" y="3048120"/>
            <a:ext cx="761760" cy="442800"/>
            <a:chOff x="1066680" y="3048120"/>
            <a:chExt cx="761760" cy="442800"/>
          </a:xfrm>
        </p:grpSpPr>
        <p:sp>
          <p:nvSpPr>
            <p:cNvPr id="173" name=""/>
            <p:cNvSpPr/>
            <p:nvPr/>
          </p:nvSpPr>
          <p:spPr>
            <a:xfrm>
              <a:off x="1066680" y="3490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82960" y="3048120"/>
              <a:ext cx="47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ul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743200" y="2376360"/>
            <a:ext cx="761760" cy="442800"/>
            <a:chOff x="2743200" y="2376360"/>
            <a:chExt cx="761760" cy="442800"/>
          </a:xfrm>
        </p:grpSpPr>
        <p:sp>
          <p:nvSpPr>
            <p:cNvPr id="176" name=""/>
            <p:cNvSpPr/>
            <p:nvPr/>
          </p:nvSpPr>
          <p:spPr>
            <a:xfrm>
              <a:off x="2743200" y="28191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60920" y="2376360"/>
              <a:ext cx="49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izl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029200" y="2354400"/>
                <a:ext cx="37353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az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029200" y="3146400"/>
                <a:ext cx="19922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111640" y="3962520"/>
                <a:ext cx="13654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712880" y="5621400"/>
                <a:ext cx="16383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37960" y="3465360"/>
            <a:ext cx="4486320" cy="2249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g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14400" y="3595680"/>
            <a:ext cx="761760" cy="442800"/>
            <a:chOff x="914400" y="3595680"/>
            <a:chExt cx="761760" cy="442800"/>
          </a:xfrm>
        </p:grpSpPr>
        <p:sp>
          <p:nvSpPr>
            <p:cNvPr id="185" name=""/>
            <p:cNvSpPr/>
            <p:nvPr/>
          </p:nvSpPr>
          <p:spPr>
            <a:xfrm>
              <a:off x="914400" y="40384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30680" y="3595680"/>
              <a:ext cx="47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ul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514600" y="2909880"/>
            <a:ext cx="761760" cy="442800"/>
            <a:chOff x="2514600" y="2909880"/>
            <a:chExt cx="761760" cy="442800"/>
          </a:xfrm>
        </p:grpSpPr>
        <p:sp>
          <p:nvSpPr>
            <p:cNvPr id="188" name=""/>
            <p:cNvSpPr/>
            <p:nvPr/>
          </p:nvSpPr>
          <p:spPr>
            <a:xfrm>
              <a:off x="2514600" y="3352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32320" y="2909880"/>
              <a:ext cx="49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izl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800600" y="2354400"/>
                <a:ext cx="1744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800600" y="3068640"/>
                <a:ext cx="41641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zlaz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zlaz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az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800600" y="3951360"/>
                <a:ext cx="308916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600200" y="5715000"/>
                <a:ext cx="20923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94" name=""/>
          <p:cNvGrpSpPr/>
          <p:nvPr/>
        </p:nvGrpSpPr>
        <p:grpSpPr>
          <a:xfrm>
            <a:off x="382320" y="1371600"/>
            <a:ext cx="4435920" cy="851040"/>
            <a:chOff x="382320" y="1371600"/>
            <a:chExt cx="4435920" cy="851040"/>
          </a:xfrm>
        </p:grpSpPr>
        <p:sp>
          <p:nvSpPr>
            <p:cNvPr id="195" name=""/>
            <p:cNvSpPr/>
            <p:nvPr/>
          </p:nvSpPr>
          <p:spPr>
            <a:xfrm>
              <a:off x="1463760" y="1371600"/>
              <a:ext cx="15238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nteg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1640" y="1828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87640" y="1828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2320" y="1600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809880" y="1371600"/>
                  <a:ext cx="100836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879800" y="4800600"/>
                <a:ext cx="26640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6019560" cy="273528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2743200" y="2300400"/>
            <a:ext cx="761760" cy="442800"/>
            <a:chOff x="2743200" y="2300400"/>
            <a:chExt cx="761760" cy="442800"/>
          </a:xfrm>
        </p:grpSpPr>
        <p:sp>
          <p:nvSpPr>
            <p:cNvPr id="204" name=""/>
            <p:cNvSpPr/>
            <p:nvPr/>
          </p:nvSpPr>
          <p:spPr>
            <a:xfrm>
              <a:off x="2743200" y="2743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59480" y="2300400"/>
              <a:ext cx="47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ul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191120" y="1143000"/>
            <a:ext cx="761760" cy="442800"/>
            <a:chOff x="4191120" y="1143000"/>
            <a:chExt cx="761760" cy="442800"/>
          </a:xfrm>
        </p:grpSpPr>
        <p:sp>
          <p:nvSpPr>
            <p:cNvPr id="207" name=""/>
            <p:cNvSpPr/>
            <p:nvPr/>
          </p:nvSpPr>
          <p:spPr>
            <a:xfrm>
              <a:off x="4191120" y="1585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08840" y="1143000"/>
              <a:ext cx="49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izl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52400" y="4267080"/>
                <a:ext cx="40482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62120" y="5029200"/>
                <a:ext cx="19936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62120" y="5791320"/>
                <a:ext cx="31334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477120" y="5867280"/>
                <a:ext cx="19159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nteza operacionih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ces projektovanja kola koje vrši zadatu funk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860400" y="1852560"/>
                <a:ext cx="15019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202572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954080" y="3200400"/>
                <a:ext cx="223920" cy="2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2863800" y="3124080"/>
            <a:ext cx="990720" cy="762120"/>
            <a:chOff x="2863800" y="3124080"/>
            <a:chExt cx="990720" cy="762120"/>
          </a:xfrm>
        </p:grpSpPr>
        <p:sp>
          <p:nvSpPr>
            <p:cNvPr id="219" name=""/>
            <p:cNvSpPr/>
            <p:nvPr/>
          </p:nvSpPr>
          <p:spPr>
            <a:xfrm>
              <a:off x="2863800" y="3124080"/>
              <a:ext cx="990720" cy="762120"/>
            </a:xfrm>
            <a:prstGeom prst="rect">
              <a:avLst/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2997360" y="3352680"/>
                  <a:ext cx="628560" cy="35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1" name=""/>
          <p:cNvGrpSpPr/>
          <p:nvPr/>
        </p:nvGrpSpPr>
        <p:grpSpPr>
          <a:xfrm>
            <a:off x="2863800" y="4267080"/>
            <a:ext cx="990720" cy="762120"/>
            <a:chOff x="2863800" y="4267080"/>
            <a:chExt cx="990720" cy="762120"/>
          </a:xfrm>
        </p:grpSpPr>
        <p:sp>
          <p:nvSpPr>
            <p:cNvPr id="222" name=""/>
            <p:cNvSpPr/>
            <p:nvPr/>
          </p:nvSpPr>
          <p:spPr>
            <a:xfrm>
              <a:off x="2863800" y="4267080"/>
              <a:ext cx="990720" cy="762120"/>
            </a:xfrm>
            <a:prstGeom prst="rect">
              <a:avLst/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2940120" y="4267080"/>
                  <a:ext cx="71892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</m:den>
                      </m:f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2406600" y="3505320"/>
            <a:ext cx="457200" cy="1143000"/>
            <a:chOff x="2406600" y="3505320"/>
            <a:chExt cx="457200" cy="1143000"/>
          </a:xfrm>
        </p:grpSpPr>
        <p:sp>
          <p:nvSpPr>
            <p:cNvPr id="225" name=""/>
            <p:cNvSpPr/>
            <p:nvPr/>
          </p:nvSpPr>
          <p:spPr>
            <a:xfrm>
              <a:off x="2406600" y="35053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0660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183200" y="3192480"/>
                <a:ext cx="5410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214880" y="4335480"/>
                <a:ext cx="4284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5302080" y="3657600"/>
            <a:ext cx="990720" cy="762120"/>
            <a:chOff x="5302080" y="3657600"/>
            <a:chExt cx="990720" cy="762120"/>
          </a:xfrm>
        </p:grpSpPr>
        <p:sp>
          <p:nvSpPr>
            <p:cNvPr id="230" name=""/>
            <p:cNvSpPr/>
            <p:nvPr/>
          </p:nvSpPr>
          <p:spPr>
            <a:xfrm>
              <a:off x="5302080" y="3657600"/>
              <a:ext cx="990720" cy="762120"/>
            </a:xfrm>
            <a:prstGeom prst="rect">
              <a:avLst/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5479920" y="3809880"/>
                  <a:ext cx="58428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+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3854520" y="4419360"/>
            <a:ext cx="1981080" cy="228960"/>
            <a:chOff x="3854520" y="4419360"/>
            <a:chExt cx="1981080" cy="228960"/>
          </a:xfrm>
        </p:grpSpPr>
        <p:sp>
          <p:nvSpPr>
            <p:cNvPr id="233" name=""/>
            <p:cNvSpPr/>
            <p:nvPr/>
          </p:nvSpPr>
          <p:spPr>
            <a:xfrm>
              <a:off x="3854520" y="46483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835600" y="4419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854520" y="3505320"/>
            <a:ext cx="1981080" cy="152280"/>
            <a:chOff x="3854520" y="3505320"/>
            <a:chExt cx="1981080" cy="152280"/>
          </a:xfrm>
        </p:grpSpPr>
        <p:sp>
          <p:nvSpPr>
            <p:cNvPr id="236" name=""/>
            <p:cNvSpPr/>
            <p:nvPr/>
          </p:nvSpPr>
          <p:spPr>
            <a:xfrm>
              <a:off x="3854520" y="35053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3560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292800" y="4038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673680" y="3649680"/>
                <a:ext cx="717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457200" y="2362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lok dij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17:45:30Z</dcterms:created>
  <dc:creator>Zlatan Šoškić</dc:creator>
  <dc:description/>
  <dc:language>en-US</dc:language>
  <cp:lastModifiedBy>Šole</cp:lastModifiedBy>
  <dcterms:modified xsi:type="dcterms:W3CDTF">2004-12-27T12:03:03Z</dcterms:modified>
  <cp:revision>51</cp:revision>
  <dc:subject/>
  <dc:title>Elektronika</dc:title>
</cp:coreProperties>
</file>