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852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CEC4-5E61-46FD-A1E6-38D8A27DA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0B40-9649-4582-9E58-A458C2755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ACB7-F1FF-4F20-BC19-9693D7B68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4C2E-2356-462D-971D-C9C01FCC2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F7C9-71CE-4EE1-853C-A70D787C5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0B27-4A3C-4387-92A6-8A8E5C4ED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6E7D-A0B5-4949-8AE7-040865AD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6353-7DC9-4006-AC6E-5FA8105E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1A41-F0DB-4858-9743-ABCC2747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852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7DEC-0097-482C-92C6-EDD1B0AB6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3574-7128-4878-B07A-DFA9E9BA5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F10E-D3D4-4398-96FE-01E8F7767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" name="PlaceHolder 1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5A351-3259-45DD-B110-718182B4A8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Elektri</a:t>
            </a:r>
            <a:r>
              <a:rPr b="0" lang="sr-Latn-CS" sz="3800" spc="-1" strike="noStrike">
                <a:solidFill>
                  <a:srgbClr val="ffffff"/>
                </a:solidFill>
                <a:latin typeface="Arial"/>
              </a:rPr>
              <a:t>čne maši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Princip ra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jam mašine i električne maš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ređaj koji energiju transformiše u mehanički r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lektrične mašine transformišu energiju električne stuje u mehanički r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lektrične mašine su reverzibil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lektrični mot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lektrični generat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ransformat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incip rada električnih maš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inamička elektromagnetska induk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ncip rada generat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293840" y="2092320"/>
            <a:ext cx="4878360" cy="2936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28600" y="5245200"/>
                <a:ext cx="3648240" cy="59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dΦ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BS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 flipV="1">
            <a:off x="6705720" y="2895120"/>
            <a:ext cx="1904760" cy="11430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53080" y="35053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162920" y="3049200"/>
            <a:ext cx="914040" cy="1063800"/>
            <a:chOff x="7162920" y="3049200"/>
            <a:chExt cx="914040" cy="1063800"/>
          </a:xfrm>
        </p:grpSpPr>
        <p:sp>
          <p:nvSpPr>
            <p:cNvPr id="114" name=""/>
            <p:cNvSpPr/>
            <p:nvPr/>
          </p:nvSpPr>
          <p:spPr>
            <a:xfrm>
              <a:off x="7162920" y="3049200"/>
              <a:ext cx="914040" cy="106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9" y="19350"/>
                  </a:moveTo>
                  <a:arcTo wR="10800" hR="10800" stAng="3140381" swAng="22015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9" y="19350"/>
                  </a:moveTo>
                  <a:arcTo wR="10800" hR="10800" stAng="3140381" swAng="2201521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5" name=""/>
                <p:cNvSpPr txBox="1"/>
                <p:nvPr/>
              </p:nvSpPr>
              <p:spPr>
                <a:xfrm>
                  <a:off x="7620120" y="3827520"/>
                  <a:ext cx="230040" cy="21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919240" y="6019920"/>
                <a:ext cx="806760" cy="23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ω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3886200" y="58672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638600" y="5576760"/>
                <a:ext cx="422424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BS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ωt</m:t>
                        </m:r>
                      </m:e>
                    </m:d>
                    <m:r>
                      <m:t xml:space="preserve">=</m:t>
                    </m:r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BS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t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Φ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9" name=""/>
          <p:cNvGrpSpPr/>
          <p:nvPr/>
        </p:nvGrpSpPr>
        <p:grpSpPr>
          <a:xfrm>
            <a:off x="7010280" y="2817720"/>
            <a:ext cx="1295640" cy="2287800"/>
            <a:chOff x="7010280" y="2817720"/>
            <a:chExt cx="1295640" cy="2287800"/>
          </a:xfrm>
        </p:grpSpPr>
        <p:sp>
          <p:nvSpPr>
            <p:cNvPr id="120" name=""/>
            <p:cNvSpPr/>
            <p:nvPr/>
          </p:nvSpPr>
          <p:spPr>
            <a:xfrm>
              <a:off x="7010280" y="2895480"/>
              <a:ext cx="0" cy="2133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20120" y="2895480"/>
              <a:ext cx="0" cy="2133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305920" y="2895480"/>
              <a:ext cx="0" cy="22100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3" name=""/>
                <p:cNvSpPr txBox="1"/>
                <p:nvPr/>
              </p:nvSpPr>
              <p:spPr>
                <a:xfrm>
                  <a:off x="7694640" y="2817720"/>
                  <a:ext cx="230040" cy="30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B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4" name=""/>
          <p:cNvSpPr/>
          <p:nvPr/>
        </p:nvSpPr>
        <p:spPr>
          <a:xfrm>
            <a:off x="7620120" y="3505320"/>
            <a:ext cx="533160" cy="9144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7790040" y="4191120"/>
                <a:ext cx="21096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ip rada elektr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h m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6553080" cy="57024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8077320" y="2666880"/>
            <a:ext cx="0" cy="18288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7924680" y="2362320"/>
            <a:ext cx="304920" cy="2438280"/>
            <a:chOff x="7924680" y="2362320"/>
            <a:chExt cx="304920" cy="2438280"/>
          </a:xfrm>
        </p:grpSpPr>
        <p:sp>
          <p:nvSpPr>
            <p:cNvPr id="130" name=""/>
            <p:cNvSpPr/>
            <p:nvPr/>
          </p:nvSpPr>
          <p:spPr>
            <a:xfrm>
              <a:off x="7924680" y="2362320"/>
              <a:ext cx="304920" cy="304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924680" y="4495680"/>
              <a:ext cx="304920" cy="304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7315200" y="2362320"/>
            <a:ext cx="1447920" cy="2896920"/>
            <a:chOff x="7315200" y="2362320"/>
            <a:chExt cx="1447920" cy="2896920"/>
          </a:xfrm>
        </p:grpSpPr>
        <p:sp>
          <p:nvSpPr>
            <p:cNvPr id="133" name=""/>
            <p:cNvSpPr/>
            <p:nvPr/>
          </p:nvSpPr>
          <p:spPr>
            <a:xfrm>
              <a:off x="7391520" y="2362320"/>
              <a:ext cx="0" cy="2514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763120" y="2362320"/>
              <a:ext cx="0" cy="2514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5" name=""/>
                <p:cNvSpPr txBox="1"/>
                <p:nvPr/>
              </p:nvSpPr>
              <p:spPr>
                <a:xfrm>
                  <a:off x="7315200" y="4952880"/>
                  <a:ext cx="230040" cy="30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B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6" name=""/>
          <p:cNvSpPr/>
          <p:nvPr/>
        </p:nvSpPr>
        <p:spPr>
          <a:xfrm>
            <a:off x="7238880" y="3581280"/>
            <a:ext cx="1676520" cy="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7238880" y="2666880"/>
            <a:ext cx="1676520" cy="1828800"/>
            <a:chOff x="7238880" y="2666880"/>
            <a:chExt cx="1676520" cy="1828800"/>
          </a:xfrm>
        </p:grpSpPr>
        <p:sp>
          <p:nvSpPr>
            <p:cNvPr id="138" name=""/>
            <p:cNvSpPr/>
            <p:nvPr/>
          </p:nvSpPr>
          <p:spPr>
            <a:xfrm>
              <a:off x="7238880" y="2666880"/>
              <a:ext cx="1676520" cy="182880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7413480" y="2917800"/>
              <a:ext cx="108000" cy="108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incip rada električnih maš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inamička elektromagnetska induk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ncip rada električnih mot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371600" y="2209680"/>
            <a:ext cx="3191040" cy="2732040"/>
          </a:xfrm>
          <a:prstGeom prst="rect">
            <a:avLst/>
          </a:prstGeom>
          <a:ln w="0">
            <a:noFill/>
          </a:ln>
        </p:spPr>
      </p:pic>
      <p:grpSp>
        <p:nvGrpSpPr>
          <p:cNvPr id="143" name=""/>
          <p:cNvGrpSpPr/>
          <p:nvPr/>
        </p:nvGrpSpPr>
        <p:grpSpPr>
          <a:xfrm>
            <a:off x="6172200" y="2725560"/>
            <a:ext cx="1371600" cy="2303640"/>
            <a:chOff x="6172200" y="2725560"/>
            <a:chExt cx="1371600" cy="2303640"/>
          </a:xfrm>
        </p:grpSpPr>
        <p:sp>
          <p:nvSpPr>
            <p:cNvPr id="144" name=""/>
            <p:cNvSpPr/>
            <p:nvPr/>
          </p:nvSpPr>
          <p:spPr>
            <a:xfrm>
              <a:off x="6172200" y="2725560"/>
              <a:ext cx="0" cy="222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858000" y="2725560"/>
              <a:ext cx="0" cy="222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543800" y="2725560"/>
              <a:ext cx="0" cy="230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7" name=""/>
                <p:cNvSpPr txBox="1"/>
                <p:nvPr/>
              </p:nvSpPr>
              <p:spPr>
                <a:xfrm>
                  <a:off x="6477120" y="4648320"/>
                  <a:ext cx="230040" cy="30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B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8" name=""/>
          <p:cNvGrpSpPr/>
          <p:nvPr/>
        </p:nvGrpSpPr>
        <p:grpSpPr>
          <a:xfrm>
            <a:off x="7848720" y="3903840"/>
            <a:ext cx="685800" cy="363240"/>
            <a:chOff x="7848720" y="3903840"/>
            <a:chExt cx="685800" cy="363240"/>
          </a:xfrm>
        </p:grpSpPr>
        <p:sp>
          <p:nvSpPr>
            <p:cNvPr id="149" name=""/>
            <p:cNvSpPr/>
            <p:nvPr/>
          </p:nvSpPr>
          <p:spPr>
            <a:xfrm>
              <a:off x="7848720" y="42670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0" name=""/>
                <p:cNvSpPr txBox="1"/>
                <p:nvPr/>
              </p:nvSpPr>
              <p:spPr>
                <a:xfrm>
                  <a:off x="7991640" y="3903840"/>
                  <a:ext cx="249120" cy="36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1" name=""/>
          <p:cNvGrpSpPr/>
          <p:nvPr/>
        </p:nvGrpSpPr>
        <p:grpSpPr>
          <a:xfrm>
            <a:off x="5181480" y="2532240"/>
            <a:ext cx="685800" cy="363240"/>
            <a:chOff x="5181480" y="2532240"/>
            <a:chExt cx="685800" cy="363240"/>
          </a:xfrm>
        </p:grpSpPr>
        <p:sp>
          <p:nvSpPr>
            <p:cNvPr id="152" name=""/>
            <p:cNvSpPr/>
            <p:nvPr/>
          </p:nvSpPr>
          <p:spPr>
            <a:xfrm>
              <a:off x="5181480" y="28954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3" name=""/>
                <p:cNvSpPr txBox="1"/>
                <p:nvPr/>
              </p:nvSpPr>
              <p:spPr>
                <a:xfrm>
                  <a:off x="5380200" y="2532240"/>
                  <a:ext cx="268200" cy="36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380880" y="5378400"/>
                <a:ext cx="14796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⋅</m:t>
                    </m:r>
                    <m:r>
                      <m:t xml:space="preserve">l</m:t>
                    </m:r>
                    <m:r>
                      <m:t xml:space="preserve">⋅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380880" y="5867280"/>
                <a:ext cx="320364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lBd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BS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4038480" y="58672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4876920" y="5715000"/>
                <a:ext cx="26175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Φ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Φ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5867280" y="2895480"/>
            <a:ext cx="1981440" cy="13716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5638680" y="3581280"/>
            <a:ext cx="1219320" cy="1295640"/>
            <a:chOff x="5638680" y="3581280"/>
            <a:chExt cx="1219320" cy="1295640"/>
          </a:xfrm>
        </p:grpSpPr>
        <p:sp>
          <p:nvSpPr>
            <p:cNvPr id="160" name=""/>
            <p:cNvSpPr/>
            <p:nvPr/>
          </p:nvSpPr>
          <p:spPr>
            <a:xfrm flipH="1">
              <a:off x="5867280" y="3581280"/>
              <a:ext cx="990720" cy="1295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1" name=""/>
                <p:cNvSpPr txBox="1"/>
                <p:nvPr/>
              </p:nvSpPr>
              <p:spPr>
                <a:xfrm>
                  <a:off x="5638680" y="4419720"/>
                  <a:ext cx="211320" cy="32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S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2" name=""/>
          <p:cNvGrpSpPr/>
          <p:nvPr/>
        </p:nvGrpSpPr>
        <p:grpSpPr>
          <a:xfrm>
            <a:off x="6171120" y="3504960"/>
            <a:ext cx="1370880" cy="761400"/>
            <a:chOff x="6171120" y="3504960"/>
            <a:chExt cx="1370880" cy="761400"/>
          </a:xfrm>
        </p:grpSpPr>
        <mc:AlternateContent>
          <mc:Choice xmlns:a14="http://schemas.microsoft.com/office/drawing/2010/main" Requires="a14">
            <p:sp>
              <p:nvSpPr>
                <p:cNvPr id="163" name=""/>
                <p:cNvSpPr txBox="1"/>
                <p:nvPr/>
              </p:nvSpPr>
              <p:spPr>
                <a:xfrm>
                  <a:off x="6553080" y="3962520"/>
                  <a:ext cx="230400" cy="21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4" name=""/>
            <p:cNvSpPr/>
            <p:nvPr/>
          </p:nvSpPr>
          <p:spPr>
            <a:xfrm flipH="1" flipV="1">
              <a:off x="6171120" y="3504600"/>
              <a:ext cx="137088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25427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254278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5000" y="2972880"/>
            <a:ext cx="2133720" cy="1216800"/>
            <a:chOff x="5715000" y="2972880"/>
            <a:chExt cx="2133720" cy="1216800"/>
          </a:xfrm>
        </p:grpSpPr>
        <p:sp>
          <p:nvSpPr>
            <p:cNvPr id="166" name=""/>
            <p:cNvSpPr/>
            <p:nvPr/>
          </p:nvSpPr>
          <p:spPr>
            <a:xfrm>
              <a:off x="5715000" y="358128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6095160" y="2972880"/>
              <a:ext cx="1523880" cy="1216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991" y="3761"/>
                  </a:moveTo>
                  <a:arcTo wR="10800" hR="10800" stAng="-2440268" swAng="2440268"/>
                  <a:lnTo>
                    <a:pt x="10800" y="10800"/>
                  </a:lnTo>
                  <a:close/>
                </a:path>
                <a:path fill="none" w="21600" h="21600">
                  <a:moveTo>
                    <a:pt x="18991" y="3761"/>
                  </a:moveTo>
                  <a:arcTo wR="10800" hR="10800" stAng="-2440268" swAng="2440268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8" name=""/>
                <p:cNvSpPr txBox="1"/>
                <p:nvPr/>
              </p:nvSpPr>
              <p:spPr>
                <a:xfrm>
                  <a:off x="6248520" y="3352680"/>
                  <a:ext cx="230040" cy="21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9" name=""/>
          <p:cNvGrpSpPr/>
          <p:nvPr/>
        </p:nvGrpSpPr>
        <p:grpSpPr>
          <a:xfrm>
            <a:off x="5867280" y="1676520"/>
            <a:ext cx="2971800" cy="2590560"/>
            <a:chOff x="5867280" y="1676520"/>
            <a:chExt cx="2971800" cy="2590560"/>
          </a:xfrm>
        </p:grpSpPr>
        <p:sp>
          <p:nvSpPr>
            <p:cNvPr id="170" name=""/>
            <p:cNvSpPr/>
            <p:nvPr/>
          </p:nvSpPr>
          <p:spPr>
            <a:xfrm flipV="1">
              <a:off x="5867280" y="1676520"/>
              <a:ext cx="99072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7848720" y="2971800"/>
              <a:ext cx="99036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781680" y="1752480"/>
              <a:ext cx="190512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3" name=""/>
                <p:cNvSpPr txBox="1"/>
                <p:nvPr/>
              </p:nvSpPr>
              <p:spPr>
                <a:xfrm>
                  <a:off x="7629480" y="2104920"/>
                  <a:ext cx="211320" cy="26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uma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inc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inamička elektromagnetska indukc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astaje naizmenična 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ncip je reverzibi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ak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risti se istovremeno veliki broj namota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agnetsko polje se proizvodi elektromagne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17:06:48Z</dcterms:created>
  <dc:creator>Zlatan Šoškić</dc:creator>
  <dc:description/>
  <dc:language>en-US</dc:language>
  <cp:lastModifiedBy>Zlatan Šoškić</cp:lastModifiedBy>
  <dcterms:modified xsi:type="dcterms:W3CDTF">2004-11-29T00:45:17Z</dcterms:modified>
  <cp:revision>44</cp:revision>
  <dc:subject/>
  <dc:title>Električne mašine</dc:title>
</cp:coreProperties>
</file>