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10E-220E-471C-B652-4BD1F0D3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3BA-01AB-46CC-8E18-27DC5EB5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AE3-3C87-47E7-A1F7-6F0860A6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D4F-F67F-44B3-953E-75BD3906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415-A418-4AC0-9D97-9480BC7A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5B6-EFE1-4DC3-A8A1-70D656A5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6C5-23B4-426D-ADDD-733D1414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496-DE26-43F7-A735-B3E5C27C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B63-6FFF-4D4E-AF07-64DE0CAD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D5B-BA03-4FDC-BDD5-029A4319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A8F-7714-41F9-AACC-BFA2A90A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8B9-01F9-4E85-920D-87DD1981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5482-B29B-4787-A8D2-6A4127E0C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Elektromagnetska indukcij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nergija magnetskog polja strujne ko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povećanju struje u strujnoj konturi stvara se magnetsko polje, suprotstavljajući se ems samoindu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tvaranje magnetskog polja mora da se uloži rad, odnosno mora se određena količina energije izvora električne struje pretvoriti u energiju magnetskog p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gnetsko polje strujne konture ima energ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354480" y="3465360"/>
                <a:ext cx="12873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upan fluks kroz kon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većanje sopstvenog fluksa – povećanje induktivnosti kon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luks pokazuje koliko puta linije magnetskog polja “probadaju” površ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žna caka: jedna linija magnetskog polja može više puta da prođe kroz neku površ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računanju ukupnog magnetskog fluksa mora se voditi računa o stranama površ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90720" y="4491000"/>
            <a:ext cx="2286000" cy="1573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581280" y="3987720"/>
            <a:ext cx="1676520" cy="111780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4267080" y="3276720"/>
            <a:ext cx="379440" cy="2666880"/>
            <a:chOff x="4267080" y="3276720"/>
            <a:chExt cx="379440" cy="266688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4343400" y="3429000"/>
                  <a:ext cx="3031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 flipV="1">
              <a:off x="4267080" y="327672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057400" y="3276720"/>
            <a:ext cx="380880" cy="2666880"/>
            <a:chOff x="2057400" y="3276720"/>
            <a:chExt cx="380880" cy="266688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135160" y="3429000"/>
                  <a:ext cx="3031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 flipV="1">
              <a:off x="2057400" y="327672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629400" y="3276720"/>
            <a:ext cx="379440" cy="2666880"/>
            <a:chOff x="6629400" y="3276720"/>
            <a:chExt cx="379440" cy="2666880"/>
          </a:xfrm>
        </p:grpSpPr>
        <p:sp>
          <p:nvSpPr>
            <p:cNvPr id="277" name=""/>
            <p:cNvSpPr/>
            <p:nvPr/>
          </p:nvSpPr>
          <p:spPr>
            <a:xfrm flipV="1">
              <a:off x="6629400" y="327672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6705720" y="3429000"/>
                  <a:ext cx="3031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474920" y="6173640"/>
                <a:ext cx="10112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78360" y="61722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6418440" y="6172200"/>
                <a:ext cx="11635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B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2" name=""/>
          <p:cNvGrpSpPr/>
          <p:nvPr/>
        </p:nvGrpSpPr>
        <p:grpSpPr>
          <a:xfrm>
            <a:off x="5486400" y="3914640"/>
            <a:ext cx="2286000" cy="1195560"/>
            <a:chOff x="5486400" y="3914640"/>
            <a:chExt cx="2286000" cy="1195560"/>
          </a:xfrm>
        </p:grpSpPr>
        <p:grpSp>
          <p:nvGrpSpPr>
            <p:cNvPr id="283" name=""/>
            <p:cNvGrpSpPr/>
            <p:nvPr/>
          </p:nvGrpSpPr>
          <p:grpSpPr>
            <a:xfrm>
              <a:off x="5505480" y="3938400"/>
              <a:ext cx="2228760" cy="442800"/>
              <a:chOff x="5505480" y="3938400"/>
              <a:chExt cx="2228760" cy="442800"/>
            </a:xfrm>
          </p:grpSpPr>
          <p:sp>
            <p:nvSpPr>
              <p:cNvPr id="284" name=""/>
              <p:cNvSpPr/>
              <p:nvPr/>
            </p:nvSpPr>
            <p:spPr>
              <a:xfrm flipV="1">
                <a:off x="5505480" y="3938400"/>
                <a:ext cx="2228760" cy="385560"/>
              </a:xfrm>
              <a:prstGeom prst="line">
                <a:avLst/>
              </a:prstGeom>
              <a:ln w="5724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505480" y="3990600"/>
                <a:ext cx="2228760" cy="3906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5514840" y="4295520"/>
              <a:ext cx="2228760" cy="442800"/>
              <a:chOff x="5514840" y="4295520"/>
              <a:chExt cx="2228760" cy="442800"/>
            </a:xfrm>
          </p:grpSpPr>
          <p:sp>
            <p:nvSpPr>
              <p:cNvPr id="287" name=""/>
              <p:cNvSpPr/>
              <p:nvPr/>
            </p:nvSpPr>
            <p:spPr>
              <a:xfrm flipV="1">
                <a:off x="5514840" y="4295520"/>
                <a:ext cx="2228760" cy="385560"/>
              </a:xfrm>
              <a:prstGeom prst="line">
                <a:avLst/>
              </a:prstGeom>
              <a:ln w="5724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5514840" y="4347720"/>
                <a:ext cx="2228760" cy="3906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5543640" y="4662000"/>
              <a:ext cx="2228760" cy="442800"/>
              <a:chOff x="5543640" y="4662000"/>
              <a:chExt cx="2228760" cy="442800"/>
            </a:xfrm>
          </p:grpSpPr>
          <p:sp>
            <p:nvSpPr>
              <p:cNvPr id="290" name=""/>
              <p:cNvSpPr/>
              <p:nvPr/>
            </p:nvSpPr>
            <p:spPr>
              <a:xfrm flipV="1">
                <a:off x="5543640" y="4662000"/>
                <a:ext cx="2228760" cy="385560"/>
              </a:xfrm>
              <a:prstGeom prst="line">
                <a:avLst/>
              </a:prstGeom>
              <a:ln w="5724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5543640" y="4714200"/>
                <a:ext cx="2228760" cy="3906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553000" y="5062680"/>
              <a:ext cx="2209680" cy="47520"/>
              <a:chOff x="5553000" y="5062680"/>
              <a:chExt cx="2209680" cy="47520"/>
            </a:xfrm>
          </p:grpSpPr>
          <p:sp>
            <p:nvSpPr>
              <p:cNvPr id="293" name=""/>
              <p:cNvSpPr/>
              <p:nvPr/>
            </p:nvSpPr>
            <p:spPr>
              <a:xfrm>
                <a:off x="5553000" y="5062680"/>
                <a:ext cx="2209680" cy="0"/>
              </a:xfrm>
              <a:prstGeom prst="line">
                <a:avLst/>
              </a:prstGeom>
              <a:ln w="5724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53000" y="5110200"/>
                <a:ext cx="22096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562720" y="4676760"/>
              <a:ext cx="2209680" cy="47520"/>
              <a:chOff x="5562720" y="4676760"/>
              <a:chExt cx="2209680" cy="47520"/>
            </a:xfrm>
          </p:grpSpPr>
          <p:sp>
            <p:nvSpPr>
              <p:cNvPr id="296" name=""/>
              <p:cNvSpPr/>
              <p:nvPr/>
            </p:nvSpPr>
            <p:spPr>
              <a:xfrm>
                <a:off x="5562720" y="4676760"/>
                <a:ext cx="2209680" cy="0"/>
              </a:xfrm>
              <a:prstGeom prst="line">
                <a:avLst/>
              </a:prstGeom>
              <a:ln w="5724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62720" y="4724280"/>
                <a:ext cx="22096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5514840" y="4329000"/>
              <a:ext cx="2209680" cy="47520"/>
              <a:chOff x="5514840" y="4329000"/>
              <a:chExt cx="2209680" cy="47520"/>
            </a:xfrm>
          </p:grpSpPr>
          <p:sp>
            <p:nvSpPr>
              <p:cNvPr id="299" name=""/>
              <p:cNvSpPr/>
              <p:nvPr/>
            </p:nvSpPr>
            <p:spPr>
              <a:xfrm>
                <a:off x="5514840" y="4329000"/>
                <a:ext cx="2209680" cy="0"/>
              </a:xfrm>
              <a:prstGeom prst="line">
                <a:avLst/>
              </a:prstGeom>
              <a:ln w="5724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514840" y="4376520"/>
                <a:ext cx="22096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486400" y="3914640"/>
              <a:ext cx="2209680" cy="47520"/>
              <a:chOff x="5486400" y="3914640"/>
              <a:chExt cx="2209680" cy="47520"/>
            </a:xfrm>
          </p:grpSpPr>
          <p:sp>
            <p:nvSpPr>
              <p:cNvPr id="302" name=""/>
              <p:cNvSpPr/>
              <p:nvPr/>
            </p:nvSpPr>
            <p:spPr>
              <a:xfrm>
                <a:off x="5486400" y="3914640"/>
                <a:ext cx="2209680" cy="0"/>
              </a:xfrm>
              <a:prstGeom prst="line">
                <a:avLst/>
              </a:prstGeom>
              <a:ln w="5724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86400" y="3962160"/>
                <a:ext cx="22096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3505320" cy="22496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ična struktura koja služi nakupljanju magnetske energije u električnom ko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ercijalni element električnih kola – usporivač procesa – nazivaju ga i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priguš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ična ma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286000" y="3244680"/>
                <a:ext cx="379440" cy="4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2097000" y="3854160"/>
            <a:ext cx="2595600" cy="228600"/>
            <a:chOff x="2097000" y="3854160"/>
            <a:chExt cx="2595600" cy="228600"/>
          </a:xfrm>
        </p:grpSpPr>
        <p:sp>
          <p:nvSpPr>
            <p:cNvPr id="309" name=""/>
            <p:cNvSpPr/>
            <p:nvPr/>
          </p:nvSpPr>
          <p:spPr>
            <a:xfrm flipV="1">
              <a:off x="2097000" y="38541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344680" y="3854160"/>
              <a:ext cx="2347920" cy="228600"/>
              <a:chOff x="2344680" y="3854160"/>
              <a:chExt cx="2347920" cy="228600"/>
            </a:xfrm>
          </p:grpSpPr>
          <p:sp>
            <p:nvSpPr>
              <p:cNvPr id="311" name=""/>
              <p:cNvSpPr/>
              <p:nvPr/>
            </p:nvSpPr>
            <p:spPr>
              <a:xfrm flipV="1">
                <a:off x="2344680" y="385416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2637000" y="385416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2935440" y="385416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3182760" y="385416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3373560" y="385416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3625920" y="385416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3924360" y="385416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4114800" y="385416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4292640" y="385416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4483080" y="385416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4692600" y="385416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"/>
          <p:cNvSpPr/>
          <p:nvPr/>
        </p:nvSpPr>
        <p:spPr>
          <a:xfrm flipV="1">
            <a:off x="2133720" y="4920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648320" y="4920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574640" y="3728880"/>
                <a:ext cx="2779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5" name=""/>
          <p:cNvGrpSpPr/>
          <p:nvPr/>
        </p:nvGrpSpPr>
        <p:grpSpPr>
          <a:xfrm>
            <a:off x="1676520" y="2705040"/>
            <a:ext cx="3200400" cy="495360"/>
            <a:chOff x="1676520" y="2705040"/>
            <a:chExt cx="3200400" cy="495360"/>
          </a:xfrm>
        </p:grpSpPr>
        <p:sp>
          <p:nvSpPr>
            <p:cNvPr id="326" name=""/>
            <p:cNvSpPr/>
            <p:nvPr/>
          </p:nvSpPr>
          <p:spPr>
            <a:xfrm>
              <a:off x="167652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7692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76520" y="30481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3048120" y="2705040"/>
                  <a:ext cx="17784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162240" y="4267080"/>
                <a:ext cx="3556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530520" y="5410080"/>
                <a:ext cx="18288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S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457200" y="5943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tpostav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ug ka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usto mo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6324480" y="3581280"/>
            <a:ext cx="11527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rujno naponska zavisnost ka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330280" y="1320840"/>
            <a:ext cx="2940120" cy="1028520"/>
            <a:chOff x="2330280" y="1320840"/>
            <a:chExt cx="2940120" cy="1028520"/>
          </a:xfrm>
        </p:grpSpPr>
        <p:sp>
          <p:nvSpPr>
            <p:cNvPr id="336" name=""/>
            <p:cNvSpPr/>
            <p:nvPr/>
          </p:nvSpPr>
          <p:spPr>
            <a:xfrm>
              <a:off x="2363400" y="19810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330280" y="1320840"/>
              <a:ext cx="2940120" cy="988920"/>
              <a:chOff x="2330280" y="1320840"/>
              <a:chExt cx="2940120" cy="988920"/>
            </a:xfrm>
          </p:grpSpPr>
          <p:pic>
            <p:nvPicPr>
              <p:cNvPr id="3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2080" y="1320840"/>
                <a:ext cx="1152720" cy="61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4191120" y="18288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362320" y="18288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232240" y="1822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94440" y="17780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62320" y="1828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330280" y="1797120"/>
                <a:ext cx="76320" cy="7596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362320" y="2057400"/>
                <a:ext cx="286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64356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666880" y="18288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662560" y="1461960"/>
                <a:ext cx="23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2317680" y="2274840"/>
            <a:ext cx="2944800" cy="887400"/>
            <a:chOff x="2317680" y="2274840"/>
            <a:chExt cx="2944800" cy="887400"/>
          </a:xfrm>
        </p:grpSpPr>
        <p:sp>
          <p:nvSpPr>
            <p:cNvPr id="350" name=""/>
            <p:cNvSpPr/>
            <p:nvPr/>
          </p:nvSpPr>
          <p:spPr>
            <a:xfrm>
              <a:off x="2649600" y="227484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2317680" y="2362320"/>
              <a:ext cx="2944800" cy="799920"/>
              <a:chOff x="2317680" y="2362320"/>
              <a:chExt cx="2944800" cy="799920"/>
            </a:xfrm>
          </p:grpSpPr>
          <p:sp>
            <p:nvSpPr>
              <p:cNvPr id="352" name=""/>
              <p:cNvSpPr/>
              <p:nvPr/>
            </p:nvSpPr>
            <p:spPr>
              <a:xfrm>
                <a:off x="5219640" y="2635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186520" y="261000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349360" y="26416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317680" y="2610000"/>
                <a:ext cx="76320" cy="7596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349360" y="2870280"/>
                <a:ext cx="287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630960" y="2754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50440" y="279396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654280" y="2641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657600" y="2514600"/>
                <a:ext cx="228600" cy="228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1" name=""/>
              <p:cNvCxnSpPr>
                <a:stCxn id="355" idx="6"/>
                <a:endCxn id="353" idx="2"/>
              </p:cNvCxnSpPr>
              <p:nvPr/>
            </p:nvCxnSpPr>
            <p:spPr>
              <a:xfrm>
                <a:off x="2393640" y="2647440"/>
                <a:ext cx="2793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62" name=""/>
              <p:cNvSpPr/>
              <p:nvPr/>
            </p:nvSpPr>
            <p:spPr>
              <a:xfrm>
                <a:off x="3417480" y="23623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12040" y="2362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971800" y="3301920"/>
                <a:ext cx="1828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struja jednosmerna stacionarna, napon na kalemu je jednak nuli, on je kratak sp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ezivanje kalem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izički veliki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begava se njegova prim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serijska proizvod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vezi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d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ralel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2152800" cy="5526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447920" y="4743360"/>
            <a:ext cx="1066680" cy="514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320840" y="5716440"/>
                <a:ext cx="14731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3790800" y="3076560"/>
            <a:ext cx="2914920" cy="14191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4648320" y="4667400"/>
            <a:ext cx="1066680" cy="51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533840" y="5437080"/>
                <a:ext cx="16509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eđusobna indu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tenzitet magnetskog polja je proporcionalan struji koja ga izaz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luks magnetskog polja kroz bilo koju konturu u polju je proporcionalan intenzitetu magnetskog po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luks magnetskog polja kroz bilo koju konturu u polju je proporcionalan jačini struje koja stvara magnetsko po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spoljašnji fluks kroz neku konturu proporcionalan je jačini struje koja stvara taj flu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36520" y="3581280"/>
                <a:ext cx="13636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495680" y="3581280"/>
                <a:ext cx="4394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752480" y="3581280"/>
                <a:ext cx="25783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533520" y="53341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đusobna induktivnost dve konture zavisi 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lika kon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redine u kojoj se konture nal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đusobnog položaja kon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440000" y="4648320"/>
                <a:ext cx="32065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943520" y="4697280"/>
                <a:ext cx="2676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oeficijen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preg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rezanje kalem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đusobni fluks utiče na ukupan fluks, a time i na indukovanu ems u kal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oljašnji fluks može da se sabira (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) ili poništav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&lt;0)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 sopstvenim fluks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124080" y="2666880"/>
                <a:ext cx="16416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85" name=""/>
          <p:cNvGrpSpPr/>
          <p:nvPr/>
        </p:nvGrpSpPr>
        <p:grpSpPr>
          <a:xfrm>
            <a:off x="609480" y="2492280"/>
            <a:ext cx="2257560" cy="790560"/>
            <a:chOff x="609480" y="2492280"/>
            <a:chExt cx="2257560" cy="790560"/>
          </a:xfrm>
        </p:grpSpPr>
        <p:pic>
          <p:nvPicPr>
            <p:cNvPr id="386" name="" descr=""/>
            <p:cNvPicPr/>
            <p:nvPr/>
          </p:nvPicPr>
          <p:blipFill>
            <a:blip r:embed="rId1"/>
            <a:stretch/>
          </p:blipFill>
          <p:spPr>
            <a:xfrm>
              <a:off x="609480" y="2492280"/>
              <a:ext cx="22575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1671480" y="300528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143000" y="3178080"/>
            <a:ext cx="1143000" cy="405000"/>
            <a:chOff x="1143000" y="3178080"/>
            <a:chExt cx="1143000" cy="405000"/>
          </a:xfrm>
        </p:grpSpPr>
        <p:sp>
          <p:nvSpPr>
            <p:cNvPr id="389" name=""/>
            <p:cNvSpPr/>
            <p:nvPr/>
          </p:nvSpPr>
          <p:spPr>
            <a:xfrm>
              <a:off x="1531800" y="3214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143000" y="3178080"/>
              <a:ext cx="1143000" cy="380880"/>
              <a:chOff x="1143000" y="3178080"/>
              <a:chExt cx="1143000" cy="380880"/>
            </a:xfrm>
          </p:grpSpPr>
          <p:sp>
            <p:nvSpPr>
              <p:cNvPr id="391" name=""/>
              <p:cNvSpPr/>
              <p:nvPr/>
            </p:nvSpPr>
            <p:spPr>
              <a:xfrm>
                <a:off x="1143000" y="31780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86000" y="31780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143000" y="35589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4" name=""/>
          <p:cNvSpPr/>
          <p:nvPr/>
        </p:nvSpPr>
        <p:spPr>
          <a:xfrm>
            <a:off x="7621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2880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867280" y="2741760"/>
                <a:ext cx="7066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048120" y="4746600"/>
                <a:ext cx="1641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609480" y="4572000"/>
            <a:ext cx="2257560" cy="790560"/>
            <a:chOff x="609480" y="4572000"/>
            <a:chExt cx="2257560" cy="7905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609480" y="4572000"/>
              <a:ext cx="22575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671480" y="508500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1143000" y="5257800"/>
            <a:ext cx="1143000" cy="404640"/>
            <a:chOff x="1143000" y="5257800"/>
            <a:chExt cx="1143000" cy="404640"/>
          </a:xfrm>
        </p:grpSpPr>
        <p:sp>
          <p:nvSpPr>
            <p:cNvPr id="402" name=""/>
            <p:cNvSpPr/>
            <p:nvPr/>
          </p:nvSpPr>
          <p:spPr>
            <a:xfrm>
              <a:off x="1531800" y="5294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143000" y="5257800"/>
              <a:ext cx="1143000" cy="380880"/>
              <a:chOff x="1143000" y="5257800"/>
              <a:chExt cx="1143000" cy="380880"/>
            </a:xfrm>
          </p:grpSpPr>
          <p:sp>
            <p:nvSpPr>
              <p:cNvPr id="404" name=""/>
              <p:cNvSpPr/>
              <p:nvPr/>
            </p:nvSpPr>
            <p:spPr>
              <a:xfrm>
                <a:off x="1143000" y="52578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286000" y="52578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143000" y="56386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762120" y="4975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66880" y="4975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5867280" y="4821120"/>
                <a:ext cx="7066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3124080" y="3124080"/>
                <a:ext cx="33991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M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048120" y="3886200"/>
                <a:ext cx="34876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M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708600" y="3557520"/>
                <a:ext cx="1978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075120" y="5248440"/>
                <a:ext cx="35319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3084480" y="6010200"/>
                <a:ext cx="36212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751800" y="5692680"/>
                <a:ext cx="2044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685800" y="2057400"/>
            <a:ext cx="4648320" cy="2147760"/>
            <a:chOff x="685800" y="2057400"/>
            <a:chExt cx="4648320" cy="21477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685800" y="2057400"/>
              <a:ext cx="4648320" cy="21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2666880" y="28195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57600" y="3581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ezanje kalem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lemovi mogu da se nala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 u različitim granama 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lemovi mogu da se nalaze u različitim kolima (spregnuta ko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71600" y="259092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038480" y="2590920"/>
            <a:ext cx="76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486400" y="3048120"/>
                <a:ext cx="1641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7315200" y="3124080"/>
                <a:ext cx="7063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127160" y="4343400"/>
                <a:ext cx="23781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1066680" y="5029200"/>
                <a:ext cx="26672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8" name=""/>
          <p:cNvGrpSpPr/>
          <p:nvPr/>
        </p:nvGrpSpPr>
        <p:grpSpPr>
          <a:xfrm>
            <a:off x="3581280" y="4343400"/>
            <a:ext cx="2643480" cy="695160"/>
            <a:chOff x="3581280" y="4343400"/>
            <a:chExt cx="2643480" cy="695160"/>
          </a:xfrm>
        </p:grpSpPr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4046400" y="4343400"/>
                  <a:ext cx="2178360" cy="6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E</m:t>
                      </m:r>
                      <m:r>
                        <m:t xml:space="preserve">−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0" name=""/>
            <p:cNvSpPr/>
            <p:nvPr/>
          </p:nvSpPr>
          <p:spPr>
            <a:xfrm>
              <a:off x="3581280" y="47242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191120" y="5715000"/>
                <a:ext cx="33336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2" name=""/>
          <p:cNvGrpSpPr/>
          <p:nvPr/>
        </p:nvGrpSpPr>
        <p:grpSpPr>
          <a:xfrm>
            <a:off x="3962520" y="5105520"/>
            <a:ext cx="1371600" cy="609480"/>
            <a:chOff x="3962520" y="5105520"/>
            <a:chExt cx="1371600" cy="609480"/>
          </a:xfrm>
        </p:grpSpPr>
        <p:sp>
          <p:nvSpPr>
            <p:cNvPr id="433" name=""/>
            <p:cNvSpPr/>
            <p:nvPr/>
          </p:nvSpPr>
          <p:spPr>
            <a:xfrm>
              <a:off x="3962520" y="54100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34120" y="5105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-L k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lo sa izvorom, otpornikom i kalem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898800" y="5638680"/>
                <a:ext cx="1069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400720" y="5602320"/>
                <a:ext cx="7142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1295280" y="2517840"/>
                <a:ext cx="1203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219320" y="3733920"/>
                <a:ext cx="14256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1905120" y="4495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192320" y="5559480"/>
                <a:ext cx="1403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30481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09000" y="579132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remenska konstanta 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962520" y="1703520"/>
            <a:ext cx="4205160" cy="2868480"/>
            <a:chOff x="3962520" y="1703520"/>
            <a:chExt cx="4205160" cy="2868480"/>
          </a:xfrm>
        </p:grpSpPr>
        <p:pic>
          <p:nvPicPr>
            <p:cNvPr id="446" name="" descr=""/>
            <p:cNvPicPr/>
            <p:nvPr/>
          </p:nvPicPr>
          <p:blipFill>
            <a:blip r:embed="rId1"/>
            <a:stretch/>
          </p:blipFill>
          <p:spPr>
            <a:xfrm>
              <a:off x="3962520" y="2189160"/>
              <a:ext cx="335268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 flipV="1">
              <a:off x="4457880" y="20206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905520" y="20080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64240" y="26035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38760" y="210672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31400" y="1703520"/>
              <a:ext cx="403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84080" y="1779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32520" y="26179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34320" y="44067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6080" y="2587680"/>
              <a:ext cx="0" cy="18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72400" y="3290760"/>
              <a:ext cx="39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60880" y="26668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57880" y="2133720"/>
              <a:ext cx="244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692280" y="6361200"/>
            <a:ext cx="38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homogena linearna DJ prvog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457200" y="457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L kolo sa jednosmernim izvo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njenje” kalema magnetnim pol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0" y="1371600"/>
            <a:ext cx="4800600" cy="3657600"/>
            <a:chOff x="0" y="1371600"/>
            <a:chExt cx="4800600" cy="3657600"/>
          </a:xfrm>
        </p:grpSpPr>
        <p:pic>
          <p:nvPicPr>
            <p:cNvPr id="464" name="" descr=""/>
            <p:cNvPicPr/>
            <p:nvPr/>
          </p:nvPicPr>
          <p:blipFill>
            <a:blip r:embed="rId1"/>
            <a:stretch/>
          </p:blipFill>
          <p:spPr>
            <a:xfrm>
              <a:off x="0" y="1371600"/>
              <a:ext cx="4800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2003040" y="281952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truja ka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343400" y="2819520"/>
            <a:ext cx="4800600" cy="3657600"/>
            <a:chOff x="4343400" y="2819520"/>
            <a:chExt cx="4800600" cy="3657600"/>
          </a:xfrm>
        </p:grpSpPr>
        <p:pic>
          <p:nvPicPr>
            <p:cNvPr id="467" name="" descr=""/>
            <p:cNvPicPr/>
            <p:nvPr/>
          </p:nvPicPr>
          <p:blipFill>
            <a:blip r:embed="rId2"/>
            <a:stretch/>
          </p:blipFill>
          <p:spPr>
            <a:xfrm>
              <a:off x="4343400" y="2819520"/>
              <a:ext cx="4800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6328080" y="43434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napon ka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79320" y="4800600"/>
                <a:ext cx="3633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324480" y="6335640"/>
                <a:ext cx="136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aradejev za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ena magnetskog fluks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ro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ku provodnu konturu izaziva elektr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struj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toj kont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ktr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j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u provodnoj konturi pokreće elektromotorna sila koja nastaje u toj konturi usled promene magnetskog fluk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840120" y="5921280"/>
                <a:ext cx="1189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Φ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685800" y="5105520"/>
            <a:ext cx="723888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lektromagnetska indukcija je pojava nastajanja elektromotorne s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promenljivom magnetskom polj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3151" t="0" r="14521" b="0"/>
          <a:stretch/>
        </p:blipFill>
        <p:spPr>
          <a:xfrm>
            <a:off x="533520" y="1389240"/>
            <a:ext cx="2514600" cy="2192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13151" t="0" r="14496" b="0"/>
          <a:stretch/>
        </p:blipFill>
        <p:spPr>
          <a:xfrm>
            <a:off x="533520" y="1384200"/>
            <a:ext cx="2519280" cy="2197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114800" y="1447920"/>
            <a:ext cx="41911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lektromotorna sila elektromagnetske indu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ta je ta elektromotorna sil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o je </a:t>
            </a:r>
            <a:r>
              <a:rPr b="0" lang="hr-HR" sz="1600" spc="-1" strike="noStrike">
                <a:solidFill>
                  <a:srgbClr val="ff00ff"/>
                </a:solidFill>
                <a:latin typeface="Arial"/>
              </a:rPr>
              <a:t>vrtložno električno </a:t>
            </a:r>
            <a:r>
              <a:rPr b="0" lang="hr-HR" sz="1600" spc="-1" strike="noStrike">
                <a:solidFill>
                  <a:srgbClr val="00007d"/>
                </a:solidFill>
                <a:latin typeface="Arial"/>
              </a:rPr>
              <a:t>(ne elektrostatičko)</a:t>
            </a:r>
            <a:r>
              <a:rPr b="0" lang="hr-HR" sz="1600" spc="-1" strike="noStrike">
                <a:solidFill>
                  <a:srgbClr val="ff00ff"/>
                </a:solidFill>
                <a:latin typeface="Arial"/>
              </a:rPr>
              <a:t> polje koje nastaje u celom provodni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lje nije elektrostatičko jer ga ne stvaraju naelektrisanja, već elektromagnets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ema konzervacije, nema elektrostatičkog potencij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76720" y="2819520"/>
            <a:ext cx="2057400" cy="2057400"/>
            <a:chOff x="3276720" y="2819520"/>
            <a:chExt cx="2057400" cy="2057400"/>
          </a:xfrm>
        </p:grpSpPr>
        <p:sp>
          <p:nvSpPr>
            <p:cNvPr id="114" name=""/>
            <p:cNvSpPr/>
            <p:nvPr/>
          </p:nvSpPr>
          <p:spPr>
            <a:xfrm>
              <a:off x="3276720" y="2819520"/>
              <a:ext cx="2057400" cy="2057400"/>
            </a:xfrm>
            <a:prstGeom prst="ellipse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05320" y="3048120"/>
              <a:ext cx="1600200" cy="160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382920" y="2895480"/>
            <a:ext cx="182088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48120" y="3123720"/>
            <a:ext cx="334800" cy="762120"/>
            <a:chOff x="3048120" y="3123720"/>
            <a:chExt cx="334800" cy="762120"/>
          </a:xfrm>
        </p:grpSpPr>
        <p:sp>
          <p:nvSpPr>
            <p:cNvPr id="118" name=""/>
            <p:cNvSpPr/>
            <p:nvPr/>
          </p:nvSpPr>
          <p:spPr>
            <a:xfrm flipV="1">
              <a:off x="3382920" y="3123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3048120" y="3176640"/>
                  <a:ext cx="3031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" name=""/>
          <p:cNvGrpSpPr/>
          <p:nvPr/>
        </p:nvGrpSpPr>
        <p:grpSpPr>
          <a:xfrm>
            <a:off x="4267080" y="2514600"/>
            <a:ext cx="762120" cy="404640"/>
            <a:chOff x="4267080" y="2514600"/>
            <a:chExt cx="762120" cy="404640"/>
          </a:xfrm>
        </p:grpSpPr>
        <p:sp>
          <p:nvSpPr>
            <p:cNvPr id="121" name=""/>
            <p:cNvSpPr/>
            <p:nvPr/>
          </p:nvSpPr>
          <p:spPr>
            <a:xfrm>
              <a:off x="4267080" y="2895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4495680" y="2514600"/>
                  <a:ext cx="30348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3" name=""/>
          <p:cNvGrpSpPr/>
          <p:nvPr/>
        </p:nvGrpSpPr>
        <p:grpSpPr>
          <a:xfrm>
            <a:off x="5203800" y="3809880"/>
            <a:ext cx="358920" cy="609840"/>
            <a:chOff x="5203800" y="3809880"/>
            <a:chExt cx="358920" cy="609840"/>
          </a:xfrm>
        </p:grpSpPr>
        <p:sp>
          <p:nvSpPr>
            <p:cNvPr id="124" name=""/>
            <p:cNvSpPr/>
            <p:nvPr/>
          </p:nvSpPr>
          <p:spPr>
            <a:xfrm>
              <a:off x="5203800" y="3809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259240" y="3938760"/>
                  <a:ext cx="30348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"/>
          <p:cNvGrpSpPr/>
          <p:nvPr/>
        </p:nvGrpSpPr>
        <p:grpSpPr>
          <a:xfrm>
            <a:off x="3614760" y="4724280"/>
            <a:ext cx="762120" cy="405000"/>
            <a:chOff x="3614760" y="4724280"/>
            <a:chExt cx="762120" cy="405000"/>
          </a:xfrm>
        </p:grpSpPr>
        <p:sp>
          <p:nvSpPr>
            <p:cNvPr id="127" name=""/>
            <p:cNvSpPr/>
            <p:nvPr/>
          </p:nvSpPr>
          <p:spPr>
            <a:xfrm>
              <a:off x="3614760" y="47242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3733920" y="4724280"/>
                  <a:ext cx="3031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9" name=""/>
          <p:cNvSpPr/>
          <p:nvPr/>
        </p:nvSpPr>
        <p:spPr>
          <a:xfrm>
            <a:off x="457200" y="52578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ko prekinemo provodnik, onda će se naelektrisanja kretati dok se njihovim nakupljanjem na kraju ne stvori elektrostatičko polje suprotno usmereno od elektromagnetskog, koje će ga poništ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ces staje kada je u=-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encovo prav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ređuje smer indukovane elektromotorne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1752480"/>
            <a:ext cx="541008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dukovana elektromotorna sila teži da svojim dejstvom poništi uzrok svoga nasta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743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raz inercije prirode, odnosno zakona o održanju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809880"/>
            <a:ext cx="22096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3429000"/>
            <a:ext cx="5181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ntura reaguje na promenu magnetskog polja stvaranjem spostvenog magnetskog polja (indukovane stru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600200" y="4800240"/>
            <a:ext cx="0" cy="1066680"/>
          </a:xfrm>
          <a:prstGeom prst="line">
            <a:avLst/>
          </a:prstGeom>
          <a:ln w="38160">
            <a:solidFill>
              <a:srgbClr val="19cb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37720" y="3429000"/>
            <a:ext cx="2514960" cy="2438280"/>
            <a:chOff x="837720" y="3429000"/>
            <a:chExt cx="2514960" cy="2438280"/>
          </a:xfrm>
        </p:grpSpPr>
        <p:sp>
          <p:nvSpPr>
            <p:cNvPr id="138" name=""/>
            <p:cNvSpPr/>
            <p:nvPr/>
          </p:nvSpPr>
          <p:spPr>
            <a:xfrm flipV="1">
              <a:off x="2027160" y="34290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837720" y="4038120"/>
              <a:ext cx="2514960" cy="1829160"/>
              <a:chOff x="837720" y="4038120"/>
              <a:chExt cx="2514960" cy="182916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1905120" y="4800600"/>
                <a:ext cx="228600" cy="1066680"/>
                <a:chOff x="1905120" y="4800600"/>
                <a:chExt cx="228600" cy="10666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905120" y="4800600"/>
                  <a:ext cx="228600" cy="53352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905120" y="5334120"/>
                  <a:ext cx="228600" cy="53316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V="1">
                <a:off x="2027160" y="4114440"/>
                <a:ext cx="13255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>
                <a:off x="837720" y="4190760"/>
                <a:ext cx="11890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1447560" y="4038120"/>
                <a:ext cx="57924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2027160" y="4114440"/>
                <a:ext cx="6397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2027160" y="4114800"/>
            <a:ext cx="0" cy="380880"/>
          </a:xfrm>
          <a:prstGeom prst="line">
            <a:avLst/>
          </a:prstGeom>
          <a:ln w="38160">
            <a:solidFill>
              <a:srgbClr val="19cb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914400" y="3962160"/>
            <a:ext cx="0" cy="75960"/>
          </a:xfrm>
          <a:prstGeom prst="line">
            <a:avLst/>
          </a:prstGeom>
          <a:ln w="28440">
            <a:solidFill>
              <a:srgbClr val="19cb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4800600"/>
            <a:ext cx="0" cy="11430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962160"/>
            <a:ext cx="0" cy="759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27160" y="3733920"/>
            <a:ext cx="0" cy="38088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4343400"/>
            <a:ext cx="5181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ko se spoljašnji fluks uvećava, indukovani fluks teži da to povećanje anulira (odmaže spoljašnjem polj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5334120"/>
            <a:ext cx="5181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ko se spoljašnji fluks umanjuje, indukovani fluks teži da to umanjenje anulira (pomaže spoljašnjem polj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tička i dinamička induk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048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mena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mena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mena ugla B i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09480" y="1143000"/>
                <a:ext cx="57675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Φ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2438280" y="2209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40280" y="20178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atička indu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7560" y="251460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inamička indu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2666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19320" y="4064040"/>
            <a:ext cx="5257800" cy="1879560"/>
            <a:chOff x="1219320" y="4064040"/>
            <a:chExt cx="5257800" cy="1879560"/>
          </a:xfrm>
        </p:grpSpPr>
        <p:sp>
          <p:nvSpPr>
            <p:cNvPr id="162" name=""/>
            <p:cNvSpPr/>
            <p:nvPr/>
          </p:nvSpPr>
          <p:spPr>
            <a:xfrm>
              <a:off x="1600200" y="4076640"/>
              <a:ext cx="4495680" cy="381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19320" y="4064040"/>
              <a:ext cx="380880" cy="1879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00200" y="5562720"/>
              <a:ext cx="4495680" cy="380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5880" y="4064040"/>
              <a:ext cx="381240" cy="1879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952880" y="4076640"/>
            <a:ext cx="685800" cy="875880"/>
            <a:chOff x="4952880" y="4076640"/>
            <a:chExt cx="685800" cy="875880"/>
          </a:xfrm>
        </p:grpSpPr>
        <p:sp>
          <p:nvSpPr>
            <p:cNvPr id="167" name=""/>
            <p:cNvSpPr/>
            <p:nvPr/>
          </p:nvSpPr>
          <p:spPr>
            <a:xfrm flipV="1">
              <a:off x="4952880" y="4076640"/>
              <a:ext cx="0" cy="8380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5029200" y="4076640"/>
              <a:ext cx="76320" cy="380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105520" y="4076640"/>
              <a:ext cx="75960" cy="380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181480" y="4076640"/>
              <a:ext cx="76320" cy="380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257800" y="4076640"/>
              <a:ext cx="76320" cy="380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334120" y="4076640"/>
              <a:ext cx="75960" cy="380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410080" y="4076640"/>
              <a:ext cx="76320" cy="380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486400" y="4076640"/>
              <a:ext cx="76320" cy="380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562720" y="4076640"/>
              <a:ext cx="75960" cy="380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38680" y="4457520"/>
              <a:ext cx="0" cy="4568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52880" y="4914720"/>
              <a:ext cx="2286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5409720" y="4914720"/>
              <a:ext cx="2286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38640" y="4876560"/>
              <a:ext cx="76320" cy="7596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75160" y="4876560"/>
              <a:ext cx="76320" cy="7596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057400" y="4076280"/>
            <a:ext cx="814320" cy="838800"/>
            <a:chOff x="2057400" y="4076280"/>
            <a:chExt cx="814320" cy="838800"/>
          </a:xfrm>
        </p:grpSpPr>
        <p:sp>
          <p:nvSpPr>
            <p:cNvPr id="182" name=""/>
            <p:cNvSpPr/>
            <p:nvPr/>
          </p:nvSpPr>
          <p:spPr>
            <a:xfrm flipV="1">
              <a:off x="2057400" y="4076280"/>
              <a:ext cx="0" cy="838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133720" y="4076280"/>
              <a:ext cx="75960" cy="381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4076280"/>
              <a:ext cx="76320" cy="381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286000" y="4076280"/>
              <a:ext cx="76320" cy="381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362320" y="4076280"/>
              <a:ext cx="75960" cy="381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438280" y="4076280"/>
              <a:ext cx="76320" cy="381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514600" y="4076280"/>
              <a:ext cx="76320" cy="381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590920" y="4076280"/>
              <a:ext cx="75960" cy="381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666880" y="4076280"/>
              <a:ext cx="76320" cy="381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4915080"/>
              <a:ext cx="2286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286000" y="4762440"/>
              <a:ext cx="152280" cy="15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37920" y="4915080"/>
              <a:ext cx="3049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43120" y="4610160"/>
              <a:ext cx="2286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00360" y="4657680"/>
              <a:ext cx="1094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757600" y="4653000"/>
              <a:ext cx="0" cy="262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757600" y="4457520"/>
              <a:ext cx="0" cy="152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16320" y="3618000"/>
            <a:ext cx="67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 statičkoj indukciji se kontura u kojoj se indukuje ems ne kreć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42670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447560" y="57150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44792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tička i dinamička induk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namička ind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54864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provodniku koji se kreće u magnetskom polj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če linije magnetskih si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dukuje se elektromotorna s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01800" y="1676520"/>
            <a:ext cx="7708680" cy="294948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3200400" y="2743200"/>
            <a:ext cx="4419720" cy="380880"/>
            <a:chOff x="3200400" y="2743200"/>
            <a:chExt cx="4419720" cy="380880"/>
          </a:xfrm>
        </p:grpSpPr>
        <p:sp>
          <p:nvSpPr>
            <p:cNvPr id="208" name=""/>
            <p:cNvSpPr/>
            <p:nvPr/>
          </p:nvSpPr>
          <p:spPr>
            <a:xfrm>
              <a:off x="3200400" y="312408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06960" y="2743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158160" y="2362320"/>
            <a:ext cx="231120" cy="1701720"/>
            <a:chOff x="6158160" y="2362320"/>
            <a:chExt cx="231120" cy="1701720"/>
          </a:xfrm>
        </p:grpSpPr>
        <p:sp>
          <p:nvSpPr>
            <p:cNvPr id="211" name=""/>
            <p:cNvSpPr/>
            <p:nvPr/>
          </p:nvSpPr>
          <p:spPr>
            <a:xfrm>
              <a:off x="6172200" y="2362320"/>
              <a:ext cx="0" cy="170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58160" y="306216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371600" y="4648320"/>
                <a:ext cx="59436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Φ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l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l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eđusobna indukcija i samoinduk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etsko polje koje stvara fluks kroz neku konturu m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e poticati od drugih kontura, ali može poticati i od struje same kon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đusobna indu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moindu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3962520"/>
            <a:ext cx="1523880" cy="380880"/>
          </a:xfrm>
          <a:prstGeom prst="ellipse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3276720"/>
            <a:ext cx="1523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-75600" y="2590560"/>
            <a:ext cx="4951800" cy="3047760"/>
            <a:chOff x="-75600" y="2590560"/>
            <a:chExt cx="4951800" cy="3047760"/>
          </a:xfrm>
        </p:grpSpPr>
        <p:sp>
          <p:nvSpPr>
            <p:cNvPr id="219" name=""/>
            <p:cNvSpPr/>
            <p:nvPr/>
          </p:nvSpPr>
          <p:spPr>
            <a:xfrm flipV="1">
              <a:off x="2209680" y="2666520"/>
              <a:ext cx="0" cy="2971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-75600" y="2666520"/>
              <a:ext cx="1980000" cy="2895840"/>
              <a:chOff x="-75600" y="2666520"/>
              <a:chExt cx="1980000" cy="2895840"/>
            </a:xfrm>
          </p:grpSpPr>
          <p:sp>
            <p:nvSpPr>
              <p:cNvPr id="221" name=""/>
              <p:cNvSpPr/>
              <p:nvPr/>
            </p:nvSpPr>
            <p:spPr>
              <a:xfrm>
                <a:off x="-75600" y="2666880"/>
                <a:ext cx="1980000" cy="289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-75240" y="2666160"/>
                <a:ext cx="1980000" cy="289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2438280" y="2590560"/>
              <a:ext cx="2437920" cy="3047400"/>
              <a:chOff x="2438280" y="2590560"/>
              <a:chExt cx="2437920" cy="3047400"/>
            </a:xfrm>
          </p:grpSpPr>
          <p:sp>
            <p:nvSpPr>
              <p:cNvPr id="224" name=""/>
              <p:cNvSpPr/>
              <p:nvPr/>
            </p:nvSpPr>
            <p:spPr>
              <a:xfrm flipH="1">
                <a:off x="2438280" y="2666880"/>
                <a:ext cx="2133360" cy="289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2437920" y="2590200"/>
                <a:ext cx="2437920" cy="304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1892160" y="4343400"/>
            <a:ext cx="393840" cy="469800"/>
            <a:chOff x="1892160" y="4343400"/>
            <a:chExt cx="393840" cy="469800"/>
          </a:xfrm>
        </p:grpSpPr>
        <p:sp>
          <p:nvSpPr>
            <p:cNvPr id="227" name=""/>
            <p:cNvSpPr/>
            <p:nvPr/>
          </p:nvSpPr>
          <p:spPr>
            <a:xfrm>
              <a:off x="2209680" y="4343400"/>
              <a:ext cx="7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1892160" y="4383000"/>
                  <a:ext cx="32868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104840" y="5894280"/>
                <a:ext cx="2247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343400" y="3962520"/>
            <a:ext cx="1523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819880" y="2666880"/>
            <a:ext cx="4951440" cy="3047760"/>
            <a:chOff x="2819880" y="2666880"/>
            <a:chExt cx="4951440" cy="3047760"/>
          </a:xfrm>
        </p:grpSpPr>
        <p:sp>
          <p:nvSpPr>
            <p:cNvPr id="232" name=""/>
            <p:cNvSpPr/>
            <p:nvPr/>
          </p:nvSpPr>
          <p:spPr>
            <a:xfrm flipV="1">
              <a:off x="5105520" y="2742840"/>
              <a:ext cx="0" cy="297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819880" y="2742840"/>
              <a:ext cx="1980000" cy="2895120"/>
              <a:chOff x="2819880" y="2742840"/>
              <a:chExt cx="1980000" cy="2895120"/>
            </a:xfrm>
          </p:grpSpPr>
          <p:sp>
            <p:nvSpPr>
              <p:cNvPr id="234" name=""/>
              <p:cNvSpPr/>
              <p:nvPr/>
            </p:nvSpPr>
            <p:spPr>
              <a:xfrm>
                <a:off x="2819880" y="2743200"/>
                <a:ext cx="1980000" cy="289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819880" y="2742480"/>
                <a:ext cx="1980000" cy="289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334120" y="2666880"/>
              <a:ext cx="2437200" cy="3047400"/>
              <a:chOff x="5334120" y="2666880"/>
              <a:chExt cx="2437200" cy="304740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5334120" y="2743200"/>
                <a:ext cx="2132640" cy="289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flipV="1">
                <a:off x="5334120" y="2666520"/>
                <a:ext cx="2437200" cy="304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4800600" y="4330800"/>
            <a:ext cx="457200" cy="442800"/>
            <a:chOff x="4800600" y="4330800"/>
            <a:chExt cx="457200" cy="442800"/>
          </a:xfrm>
        </p:grpSpPr>
        <p:sp>
          <p:nvSpPr>
            <p:cNvPr id="240" name=""/>
            <p:cNvSpPr/>
            <p:nvPr/>
          </p:nvSpPr>
          <p:spPr>
            <a:xfrm>
              <a:off x="5181480" y="4330800"/>
              <a:ext cx="7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4800600" y="4343400"/>
                  <a:ext cx="27936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178160" y="5943600"/>
                <a:ext cx="21970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858000" y="3733920"/>
                <a:ext cx="1844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298880" y="62848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oljašnji flu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9960" y="62625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opstveni flu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70400" y="42670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kupni flu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eđusobna indukcija i samoinduk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moindukcija je električna iner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koliko se pokuša smanjenje jačine struje u nekoj konturi, kontura će sama indukovati ems koja će sprečavati umanj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koliko se pokuša povećanje jačine struje u nekoj konturi, kontura će sama indukovati ems koja će sprečavati poveć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encovo prav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7080" y="1295280"/>
                <a:ext cx="34369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0" name=""/>
          <p:cNvGrpSpPr/>
          <p:nvPr/>
        </p:nvGrpSpPr>
        <p:grpSpPr>
          <a:xfrm>
            <a:off x="3280680" y="2133720"/>
            <a:ext cx="2119320" cy="596880"/>
            <a:chOff x="3280680" y="2133720"/>
            <a:chExt cx="2119320" cy="596880"/>
          </a:xfrm>
        </p:grpSpPr>
        <p:sp>
          <p:nvSpPr>
            <p:cNvPr id="251" name=""/>
            <p:cNvSpPr/>
            <p:nvPr/>
          </p:nvSpPr>
          <p:spPr>
            <a:xfrm flipV="1">
              <a:off x="4343400" y="2133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80680" y="2362320"/>
              <a:ext cx="21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ms samoindukc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715000" y="1560600"/>
            <a:ext cx="3277800" cy="368280"/>
            <a:chOff x="5715000" y="1560600"/>
            <a:chExt cx="3277800" cy="368280"/>
          </a:xfrm>
        </p:grpSpPr>
        <p:sp>
          <p:nvSpPr>
            <p:cNvPr id="254" name=""/>
            <p:cNvSpPr/>
            <p:nvPr/>
          </p:nvSpPr>
          <p:spPr>
            <a:xfrm flipH="1">
              <a:off x="5715000" y="1752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77240" y="1560600"/>
              <a:ext cx="281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ms međusobne indukc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du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enzitet magnetskog polja je proporcionalan struji koja ga izaz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luks magnetskog polja kroz bilo koju konturu u polju je proporcionalan intenzitetu magnetskog p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luks magnetskog polja kroz bilo koju konturu u polju je proporcionalan jačini struje koja stvara magnetsko po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opstveni fluks kroz neku konturu proporcionalan je jačini struje koja protiče kroz tu kon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05400" y="3922560"/>
            <a:ext cx="743472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nduktivnos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ili koeficijent samoindukcije) je količnik sopstvenog fluk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e konture i jačine struje koja protiče kroz kont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33520" y="4930920"/>
                <a:ext cx="11365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876920" y="4952880"/>
                <a:ext cx="3838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678960" y="6081840"/>
            <a:ext cx="78998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duktivnost konture zavisi od njenog oblika i osobina sredine unutar kon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171880" y="4965840"/>
                <a:ext cx="24764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L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10:19:40Z</dcterms:created>
  <dc:creator>Zlatan Šoškić</dc:creator>
  <dc:description/>
  <dc:language>en-US</dc:language>
  <cp:lastModifiedBy>Zlatan Soskic</cp:lastModifiedBy>
  <dcterms:modified xsi:type="dcterms:W3CDTF">2004-12-16T15:05:59Z</dcterms:modified>
  <cp:revision>186</cp:revision>
  <dc:subject/>
  <dc:title>Elektromagnetska indukcija</dc:title>
</cp:coreProperties>
</file>