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0EB-3F16-4687-85B9-2EE0D1A2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690-4793-44E2-9BD1-122D6FBB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7CF-2FD3-4C4E-86B0-FBE11370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D48-EDFC-4C0A-9D51-2F4ABF52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A05-2834-4A0A-98BD-F0626961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D1E-D68E-4305-98D2-4085D83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4C7-EE29-4DA0-A16C-4245004E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F92-9157-4198-8A7D-F3F6E6C2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52C-6275-4303-A5FA-3547237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9DF-570A-4597-84FF-105F85C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55B-4F1A-4EAB-A04A-99FF9009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40E-77B9-47AA-B622-A4DD5812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9304-C6DB-4AB0-B1E3-1BAF0CDB4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izme</a:t>
            </a: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e struj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novni pojmo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i klasifikacija naizmeničnih str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282680"/>
            <a:ext cx="655344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izmenične struje su električne struje koje tokom vremena menjaju s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209680"/>
          <a:ext cx="83818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i klasifikacija naizmeničnih str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1216080"/>
            <a:ext cx="5715000" cy="4354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6680" y="590400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periodična naizmenična str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i klasifikacija naizmeničnih str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7040" y="590400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periodična naizmenična str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4864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i klasifikacija naizmeničnih str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37120" y="5904000"/>
            <a:ext cx="39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loženoperiodična naizmenična str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5867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periodične naizmen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282680"/>
            <a:ext cx="655308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operiod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izmenične struje su električne struje kod kojih jačina struje harmonijski oscil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2440" y="2362320"/>
                <a:ext cx="4803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81160" y="3035160"/>
                <a:ext cx="5489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3733920"/>
            <a:ext cx="3200400" cy="2681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75280" y="3846600"/>
            <a:ext cx="285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amplit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28148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– efektivna vr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648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užna frekvenca (kružna učesta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0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 – frekvenca (učesta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5424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čet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038480" y="3886200"/>
            <a:ext cx="152640" cy="762120"/>
            <a:chOff x="4038480" y="3886200"/>
            <a:chExt cx="152640" cy="762120"/>
          </a:xfrm>
        </p:grpSpPr>
        <p:sp>
          <p:nvSpPr>
            <p:cNvPr id="129" name=""/>
            <p:cNvSpPr/>
            <p:nvPr/>
          </p:nvSpPr>
          <p:spPr>
            <a:xfrm flipH="1">
              <a:off x="4038480" y="3886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38480" y="3886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38480" y="46483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038480" y="4724280"/>
            <a:ext cx="152640" cy="685800"/>
            <a:chOff x="4038480" y="4724280"/>
            <a:chExt cx="152640" cy="685800"/>
          </a:xfrm>
        </p:grpSpPr>
        <p:sp>
          <p:nvSpPr>
            <p:cNvPr id="133" name=""/>
            <p:cNvSpPr/>
            <p:nvPr/>
          </p:nvSpPr>
          <p:spPr>
            <a:xfrm flipH="1">
              <a:off x="4038480" y="4724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24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480" y="54100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periodične velič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mplituda i efektiv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ra ekstremnih vrednosti veli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119640" y="1371600"/>
                <a:ext cx="2719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39" name="Amplitude" descr=""/>
          <p:cNvPicPr/>
          <p:nvPr/>
        </p:nvPicPr>
        <p:blipFill>
          <a:blip r:embed="rId1"/>
          <a:stretch/>
        </p:blipFill>
        <p:spPr>
          <a:xfrm>
            <a:off x="609480" y="2593800"/>
            <a:ext cx="5214960" cy="418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34040" y="3584520"/>
                <a:ext cx="800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629400" y="5946840"/>
                <a:ext cx="800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 flipV="1">
            <a:off x="5047920" y="3736440"/>
            <a:ext cx="1073160" cy="70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451480" y="5519520"/>
            <a:ext cx="1177920" cy="655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periodične velič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čestanost i kružna učest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ra perioda ponavljanja pro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486400" y="1371600"/>
                <a:ext cx="3354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7" name="Frekvence" descr=""/>
          <p:cNvPicPr/>
          <p:nvPr/>
        </p:nvPicPr>
        <p:blipFill>
          <a:blip r:embed="rId1"/>
          <a:stretch/>
        </p:blipFill>
        <p:spPr>
          <a:xfrm>
            <a:off x="804960" y="2367000"/>
            <a:ext cx="4833720" cy="388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651720" y="26780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81680" y="5257800"/>
                <a:ext cx="1024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 flipH="1">
            <a:off x="4138200" y="2971800"/>
            <a:ext cx="249084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486040" y="4952880"/>
            <a:ext cx="11430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214440" y="4314960"/>
            <a:ext cx="4680" cy="15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28720" y="4319640"/>
            <a:ext cx="4680" cy="15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4864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9960" y="5195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14800" y="2552760"/>
            <a:ext cx="0" cy="175248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29320" y="2548080"/>
            <a:ext cx="0" cy="175248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2752560"/>
            <a:ext cx="2438280" cy="0"/>
          </a:xfrm>
          <a:prstGeom prst="line">
            <a:avLst/>
          </a:prstGeom>
          <a:ln w="936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73480" y="2452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7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periodične velič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kazuje položaj sinusoide duž vremenske 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Faze" descr=""/>
          <p:cNvPicPr/>
          <p:nvPr/>
        </p:nvPicPr>
        <p:blipFill>
          <a:blip r:embed="rId1"/>
          <a:stretch/>
        </p:blipFill>
        <p:spPr>
          <a:xfrm>
            <a:off x="785880" y="2309760"/>
            <a:ext cx="4835520" cy="386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877080" y="2516040"/>
                <a:ext cx="8240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932520" y="5283360"/>
                <a:ext cx="7225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H="1">
            <a:off x="3733560" y="2971800"/>
            <a:ext cx="2895480" cy="10666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257800" y="4876560"/>
            <a:ext cx="137160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4:58:47Z</dcterms:created>
  <dc:creator>Zlatan Šoškić</dc:creator>
  <dc:description/>
  <dc:language>en-US</dc:language>
  <cp:lastModifiedBy>Zlatan Šoškić</cp:lastModifiedBy>
  <dcterms:modified xsi:type="dcterms:W3CDTF">2004-11-14T18:57:49Z</dcterms:modified>
  <cp:revision>41</cp:revision>
  <dc:subject/>
  <dc:title>Naizmenične struje</dc:title>
</cp:coreProperties>
</file>