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EA6-722D-416E-8942-4C8C80A13C0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3114-9C73-4087-B073-C0A098A335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34B-2A03-4E83-95D3-DCCE91FE59F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53F-4411-45BC-B175-9FD61BA84E4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7D7-65F4-4D77-AC83-327CED3B31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1AEC-F99D-4785-B771-B0DDAFE7F2A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C87-A654-4472-9575-A8CC5CECCE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C966-276D-4E8A-A3F4-089B751BA0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4F49-BBBE-4C19-B556-739EB62C862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163-DBC3-4CA2-BF3E-2EA432CF75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34A4-D58E-431C-9786-4F4591958F0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6BD-6157-4143-BE53-E1C5CCB790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08CA-E48C-4652-9533-50258C94B11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F46-B327-40F8-A7EE-5D5E1892731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FBA6-3B97-43F9-9F20-92DD044451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FC9F-136A-4A54-B478-1D03847A34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A43D-F42B-4FD7-9BCA-77E74083B6C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1FC-8E9F-49DE-A22C-DF84A5ED84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68DD-6906-4278-A759-071E3ADCE9D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56A2-BB64-49D1-B563-4C2F5D922D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00B-ECC3-47C7-8CF0-B2AF173D89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437-05D6-4AC4-99AA-85514C2B08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5D5-85D1-43FD-BE06-713822234C4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1912-A7B8-48CA-BD08-6D3585ED55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19A-C8F4-473F-9D28-D4542A1D823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953-1C55-472A-A318-129251B061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32F0-FEB9-4937-BC08-896DCE88FE8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B184-342A-4793-B4E5-99A4DD07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6D96-5DD9-4CC0-91F0-3C93965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CA0A-EDEC-4CCC-8499-E1CB62BC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DF9A-2129-4642-B675-C1C16C7E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D41D-3684-49AD-84B9-5B5CE78D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E3C8-59C3-4EED-92ED-5786F91B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2F7-7B52-49B6-A20F-79FFD55B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1FC3-245B-4184-8D4C-BF66E52F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AC48-AA8E-4FA1-9019-80ACC32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6AF8-9699-40F2-A239-BE290FD8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96FF-9420-436D-B066-1650898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8049-5D46-4A81-9C0B-FF93B6F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38D1-CA23-47DD-A73C-89A26B3B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E395-B044-47CF-8FAC-E8EDBE37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D62D-CB73-4C4F-BBAA-AEA6FE84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5F20-0161-4E44-ACE5-F6C55BDD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B30B-738C-4DFE-8D52-EFB228EA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8DD3-6468-4678-BEE0-6E7CFA0C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D457-6F42-486C-8B9C-B83C844F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C7B5-94DA-406A-8B3D-AC526603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F664-B524-49B6-A69A-C718C46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F4CC-D4C1-48F3-841B-C4D0532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4120-8EDD-4EA3-97A0-DE5BDBF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6E3B-0D7B-4962-ADB4-7C0E46E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4608-636A-4BD1-BDC1-727DFA9B0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D4A5-40F4-4AA8-B5BB-67E08A0B9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ffffff"/>
                </a:solidFill>
                <a:latin typeface="Arial"/>
              </a:rPr>
              <a:t>Elektrostat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elektrisanja u mirovan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ačina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914400" y="1295280"/>
            <a:ext cx="8077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afičko predstavljanje linijama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rava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linija pokazuje pravac polja (s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Gustin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kazuje intenzitet polja (s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očinj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u pozitivnim naelektris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Završavaj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 u negativnim naelektris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ije sila električnog polja č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371600" y="4056120"/>
            <a:ext cx="4572000" cy="2344680"/>
            <a:chOff x="1371600" y="4056120"/>
            <a:chExt cx="4572000" cy="2344680"/>
          </a:xfrm>
        </p:grpSpPr>
        <p:pic>
          <p:nvPicPr>
            <p:cNvPr id="231" name="Picture 7" descr="TackNael"/>
            <p:cNvPicPr/>
            <p:nvPr/>
          </p:nvPicPr>
          <p:blipFill>
            <a:blip r:embed="rId1"/>
            <a:stretch/>
          </p:blipFill>
          <p:spPr>
            <a:xfrm>
              <a:off x="1371600" y="4056120"/>
              <a:ext cx="457200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9"/>
            <p:cNvSpPr/>
            <p:nvPr/>
          </p:nvSpPr>
          <p:spPr>
            <a:xfrm>
              <a:off x="2669040" y="5029200"/>
              <a:ext cx="5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+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5107680" y="49528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-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encijal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alar koji opisuje električn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ovori o energiji koju imaju čestice u p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977760" y="2692440"/>
                <a:ext cx="1543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3568680" y="2743200"/>
                <a:ext cx="1593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6"/>
          <p:cNvSpPr/>
          <p:nvPr/>
        </p:nvSpPr>
        <p:spPr>
          <a:xfrm>
            <a:off x="457200" y="39625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encijal električnog polja čestice naelektrisanj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079640" y="4525920"/>
                <a:ext cx="37684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encijal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afički se opisuje ekvipotencijalnim lini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ije koje spajaju tačke jednakog potencij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e na linije s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ustina govori o jačini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vipotecijalne linije naelektrisanih če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2165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pon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ovori o radu koji može da izvrši električn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1447920" y="1828800"/>
                <a:ext cx="5000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3006720" y="2514600"/>
                <a:ext cx="1728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3298680" y="3276720"/>
                <a:ext cx="1074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932120" y="4114800"/>
                <a:ext cx="43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49" name="AutoShape 13"/>
          <p:cNvCxnSpPr>
            <a:stCxn id="250" idx="6"/>
            <a:endCxn id="251" idx="2"/>
          </p:cNvCxnSpPr>
          <p:nvPr/>
        </p:nvCxnSpPr>
        <p:spPr>
          <a:xfrm>
            <a:off x="996480" y="5578200"/>
            <a:ext cx="175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2" name="Text Box 14"/>
          <p:cNvSpPr/>
          <p:nvPr/>
        </p:nvSpPr>
        <p:spPr>
          <a:xfrm>
            <a:off x="1590840" y="51195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4"/>
          <p:cNvGrpSpPr/>
          <p:nvPr/>
        </p:nvGrpSpPr>
        <p:grpSpPr>
          <a:xfrm>
            <a:off x="839880" y="5540400"/>
            <a:ext cx="307080" cy="480960"/>
            <a:chOff x="839880" y="5540400"/>
            <a:chExt cx="307080" cy="480960"/>
          </a:xfrm>
        </p:grpSpPr>
        <p:sp>
          <p:nvSpPr>
            <p:cNvPr id="250" name="Oval 9"/>
            <p:cNvSpPr/>
            <p:nvPr/>
          </p:nvSpPr>
          <p:spPr>
            <a:xfrm>
              <a:off x="920520" y="554040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839880" y="565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5"/>
          <p:cNvGrpSpPr/>
          <p:nvPr/>
        </p:nvGrpSpPr>
        <p:grpSpPr>
          <a:xfrm>
            <a:off x="2668680" y="5540400"/>
            <a:ext cx="307080" cy="444600"/>
            <a:chOff x="2668680" y="5540400"/>
            <a:chExt cx="307080" cy="444600"/>
          </a:xfrm>
        </p:grpSpPr>
        <p:sp>
          <p:nvSpPr>
            <p:cNvPr id="251" name="Oval 10"/>
            <p:cNvSpPr/>
            <p:nvPr/>
          </p:nvSpPr>
          <p:spPr>
            <a:xfrm>
              <a:off x="2749320" y="554040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2668680" y="5616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6"/>
          <p:cNvGrpSpPr/>
          <p:nvPr/>
        </p:nvGrpSpPr>
        <p:grpSpPr>
          <a:xfrm>
            <a:off x="3507120" y="5173560"/>
            <a:ext cx="2135880" cy="825480"/>
            <a:chOff x="3507120" y="5173560"/>
            <a:chExt cx="2135880" cy="825480"/>
          </a:xfrm>
        </p:grpSpPr>
        <p:cxnSp>
          <p:nvCxnSpPr>
            <p:cNvPr id="258" name="AutoShape 19"/>
            <p:cNvCxnSpPr>
              <a:stCxn id="259" idx="6"/>
              <a:endCxn id="260" idx="2"/>
            </p:cNvCxnSpPr>
            <p:nvPr/>
          </p:nvCxnSpPr>
          <p:spPr>
            <a:xfrm>
              <a:off x="3664080" y="555588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9" name="Oval 17"/>
            <p:cNvSpPr/>
            <p:nvPr/>
          </p:nvSpPr>
          <p:spPr>
            <a:xfrm>
              <a:off x="3587760" y="551808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5416560" y="551808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0"/>
            <p:cNvSpPr/>
            <p:nvPr/>
          </p:nvSpPr>
          <p:spPr>
            <a:xfrm>
              <a:off x="4257720" y="5173560"/>
              <a:ext cx="5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1"/>
            <p:cNvSpPr/>
            <p:nvPr/>
          </p:nvSpPr>
          <p:spPr>
            <a:xfrm>
              <a:off x="3507120" y="563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2"/>
            <p:cNvSpPr/>
            <p:nvPr/>
          </p:nvSpPr>
          <p:spPr>
            <a:xfrm>
              <a:off x="5335920" y="559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3"/>
          <p:cNvSpPr/>
          <p:nvPr/>
        </p:nvSpPr>
        <p:spPr>
          <a:xfrm>
            <a:off x="3725280" y="519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8"/>
          <p:cNvCxnSpPr>
            <a:stCxn id="266" idx="6"/>
            <a:endCxn id="267" idx="2"/>
          </p:cNvCxnSpPr>
          <p:nvPr/>
        </p:nvCxnSpPr>
        <p:spPr>
          <a:xfrm>
            <a:off x="6172200" y="5487480"/>
            <a:ext cx="1753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68" name="Group 34"/>
          <p:cNvGrpSpPr/>
          <p:nvPr/>
        </p:nvGrpSpPr>
        <p:grpSpPr>
          <a:xfrm>
            <a:off x="6015240" y="5105520"/>
            <a:ext cx="2135880" cy="825480"/>
            <a:chOff x="6015240" y="5105520"/>
            <a:chExt cx="2135880" cy="825480"/>
          </a:xfrm>
        </p:grpSpPr>
        <p:sp>
          <p:nvSpPr>
            <p:cNvPr id="266" name="Oval 26"/>
            <p:cNvSpPr/>
            <p:nvPr/>
          </p:nvSpPr>
          <p:spPr>
            <a:xfrm>
              <a:off x="6095880" y="5450040"/>
              <a:ext cx="7632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7"/>
            <p:cNvSpPr/>
            <p:nvPr/>
          </p:nvSpPr>
          <p:spPr>
            <a:xfrm>
              <a:off x="7924680" y="5450040"/>
              <a:ext cx="7632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9"/>
            <p:cNvSpPr/>
            <p:nvPr/>
          </p:nvSpPr>
          <p:spPr>
            <a:xfrm>
              <a:off x="6765840" y="510552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0"/>
            <p:cNvSpPr/>
            <p:nvPr/>
          </p:nvSpPr>
          <p:spPr>
            <a:xfrm>
              <a:off x="6015240" y="556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1"/>
            <p:cNvSpPr/>
            <p:nvPr/>
          </p:nvSpPr>
          <p:spPr>
            <a:xfrm>
              <a:off x="7844040" y="552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luks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luks = pro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afički: broj linija sila koje prolaze kroz neku površ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matič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42"/>
          <p:cNvGrpSpPr/>
          <p:nvPr/>
        </p:nvGrpSpPr>
        <p:grpSpPr>
          <a:xfrm>
            <a:off x="1143000" y="2514240"/>
            <a:ext cx="914400" cy="1448280"/>
            <a:chOff x="1143000" y="2514240"/>
            <a:chExt cx="914400" cy="1448280"/>
          </a:xfrm>
        </p:grpSpPr>
        <p:sp>
          <p:nvSpPr>
            <p:cNvPr id="275" name="Line 14"/>
            <p:cNvSpPr/>
            <p:nvPr/>
          </p:nvSpPr>
          <p:spPr>
            <a:xfrm flipV="1">
              <a:off x="1143000" y="251424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057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 flipV="1">
              <a:off x="1143000" y="335268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7"/>
            <p:cNvSpPr/>
            <p:nvPr/>
          </p:nvSpPr>
          <p:spPr>
            <a:xfrm>
              <a:off x="1143000" y="31240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3"/>
          <p:cNvGrpSpPr/>
          <p:nvPr/>
        </p:nvGrpSpPr>
        <p:grpSpPr>
          <a:xfrm>
            <a:off x="609480" y="3048120"/>
            <a:ext cx="2286000" cy="457200"/>
            <a:chOff x="609480" y="3048120"/>
            <a:chExt cx="2286000" cy="457200"/>
          </a:xfrm>
        </p:grpSpPr>
        <p:sp>
          <p:nvSpPr>
            <p:cNvPr id="280" name="Line 18"/>
            <p:cNvSpPr/>
            <p:nvPr/>
          </p:nvSpPr>
          <p:spPr>
            <a:xfrm>
              <a:off x="1066680" y="3048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762120" y="3276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609480" y="35053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3" name="Object 24"/>
              <p:cNvSpPr txBox="1"/>
              <p:nvPr/>
            </p:nvSpPr>
            <p:spPr>
              <a:xfrm>
                <a:off x="3048120" y="3100320"/>
                <a:ext cx="3338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usti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ovrs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5"/>
              <p:cNvSpPr txBox="1"/>
              <p:nvPr/>
            </p:nvSpPr>
            <p:spPr>
              <a:xfrm>
                <a:off x="6512040" y="2873520"/>
                <a:ext cx="232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Φ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Line 26"/>
          <p:cNvSpPr/>
          <p:nvPr/>
        </p:nvSpPr>
        <p:spPr>
          <a:xfrm>
            <a:off x="1143000" y="4114800"/>
            <a:ext cx="914400" cy="91440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4"/>
          <p:cNvGrpSpPr/>
          <p:nvPr/>
        </p:nvGrpSpPr>
        <p:grpSpPr>
          <a:xfrm>
            <a:off x="685800" y="4343400"/>
            <a:ext cx="2057400" cy="457200"/>
            <a:chOff x="685800" y="4343400"/>
            <a:chExt cx="2057400" cy="457200"/>
          </a:xfrm>
        </p:grpSpPr>
        <p:sp>
          <p:nvSpPr>
            <p:cNvPr id="287" name="Line 27"/>
            <p:cNvSpPr/>
            <p:nvPr/>
          </p:nvSpPr>
          <p:spPr>
            <a:xfrm>
              <a:off x="685800" y="43434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>
              <a:off x="685800" y="4572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>
              <a:off x="685800" y="48006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Line 31"/>
          <p:cNvSpPr/>
          <p:nvPr/>
        </p:nvSpPr>
        <p:spPr>
          <a:xfrm flipV="1">
            <a:off x="1600200" y="4114800"/>
            <a:ext cx="685800" cy="4572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2"/>
          <p:cNvSpPr/>
          <p:nvPr/>
        </p:nvSpPr>
        <p:spPr>
          <a:xfrm>
            <a:off x="1600200" y="4038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33"/>
              <p:cNvSpPr txBox="1"/>
              <p:nvPr/>
            </p:nvSpPr>
            <p:spPr>
              <a:xfrm>
                <a:off x="3049560" y="4281480"/>
                <a:ext cx="3363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93" name="Group 47"/>
          <p:cNvGrpSpPr/>
          <p:nvPr/>
        </p:nvGrpSpPr>
        <p:grpSpPr>
          <a:xfrm>
            <a:off x="1600200" y="5181480"/>
            <a:ext cx="304920" cy="990720"/>
            <a:chOff x="1600200" y="5181480"/>
            <a:chExt cx="304920" cy="990720"/>
          </a:xfrm>
        </p:grpSpPr>
        <p:sp>
          <p:nvSpPr>
            <p:cNvPr id="294" name="Line 35"/>
            <p:cNvSpPr/>
            <p:nvPr/>
          </p:nvSpPr>
          <p:spPr>
            <a:xfrm flipH="1">
              <a:off x="1676160" y="5486400"/>
              <a:ext cx="228600" cy="30492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4"/>
            <p:cNvSpPr/>
            <p:nvPr/>
          </p:nvSpPr>
          <p:spPr>
            <a:xfrm>
              <a:off x="1600200" y="5181480"/>
              <a:ext cx="304920" cy="30492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6"/>
            <p:cNvSpPr/>
            <p:nvPr/>
          </p:nvSpPr>
          <p:spPr>
            <a:xfrm>
              <a:off x="1676520" y="5791320"/>
              <a:ext cx="228600" cy="38088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6"/>
          <p:cNvGrpSpPr/>
          <p:nvPr/>
        </p:nvGrpSpPr>
        <p:grpSpPr>
          <a:xfrm>
            <a:off x="762120" y="5333760"/>
            <a:ext cx="2057400" cy="762120"/>
            <a:chOff x="762120" y="5333760"/>
            <a:chExt cx="2057400" cy="762120"/>
          </a:xfrm>
        </p:grpSpPr>
        <p:sp>
          <p:nvSpPr>
            <p:cNvPr id="298" name="Line 37"/>
            <p:cNvSpPr/>
            <p:nvPr/>
          </p:nvSpPr>
          <p:spPr>
            <a:xfrm flipV="1">
              <a:off x="762120" y="533376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8"/>
            <p:cNvSpPr/>
            <p:nvPr/>
          </p:nvSpPr>
          <p:spPr>
            <a:xfrm>
              <a:off x="762120" y="5715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9"/>
            <p:cNvSpPr/>
            <p:nvPr/>
          </p:nvSpPr>
          <p:spPr>
            <a:xfrm>
              <a:off x="762120" y="59436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1" name="Object 40"/>
              <p:cNvSpPr txBox="1"/>
              <p:nvPr/>
            </p:nvSpPr>
            <p:spPr>
              <a:xfrm>
                <a:off x="3003480" y="5151600"/>
                <a:ext cx="5567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1"/>
              <p:cNvSpPr txBox="1"/>
              <p:nvPr/>
            </p:nvSpPr>
            <p:spPr>
              <a:xfrm>
                <a:off x="4495680" y="5943600"/>
                <a:ext cx="1567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luks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aus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eđuje fluks električnog polja kroz zatvorenu površ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luks je pozitivan ako linije izlaze iz zatvorene površine, a negativan ako linije ulaze u 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7d"/>
                </a:solidFill>
                <a:latin typeface="Arial"/>
              </a:rPr>
              <a:t>Fluks električnog polja kroz neku zatvorenu površinu proporcionalan je količini naelektrisanja zatvorenoj u nj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luks kroz zatvorenu površinu ne zavisi od oblika površ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zatvorenoj površini nema naelektrisanja, fluks kroz nju je jednak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27"/>
          <p:cNvGraphicFramePr/>
          <p:nvPr/>
        </p:nvGraphicFramePr>
        <p:xfrm>
          <a:off x="663480" y="4457880"/>
          <a:ext cx="4927680" cy="103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4457880"/>
                    <a:ext cx="4927680" cy="10378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Object 29"/>
              <p:cNvSpPr txBox="1"/>
              <p:nvPr/>
            </p:nvSpPr>
            <p:spPr>
              <a:xfrm>
                <a:off x="1103400" y="5640480"/>
                <a:ext cx="3136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m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Freeform 30"/>
          <p:cNvSpPr/>
          <p:nvPr/>
        </p:nvSpPr>
        <p:spPr>
          <a:xfrm>
            <a:off x="6146640" y="4457880"/>
            <a:ext cx="1638360" cy="175248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032" h="1104">
                <a:moveTo>
                  <a:pt x="304" y="936"/>
                </a:moveTo>
                <a:cubicBezTo>
                  <a:pt x="232" y="864"/>
                  <a:pt x="32" y="792"/>
                  <a:pt x="16" y="648"/>
                </a:cubicBezTo>
                <a:cubicBezTo>
                  <a:pt x="0" y="504"/>
                  <a:pt x="64" y="144"/>
                  <a:pt x="208" y="72"/>
                </a:cubicBezTo>
                <a:cubicBezTo>
                  <a:pt x="352" y="0"/>
                  <a:pt x="752" y="112"/>
                  <a:pt x="880" y="216"/>
                </a:cubicBezTo>
                <a:cubicBezTo>
                  <a:pt x="1008" y="320"/>
                  <a:pt x="1032" y="600"/>
                  <a:pt x="976" y="696"/>
                </a:cubicBezTo>
                <a:cubicBezTo>
                  <a:pt x="920" y="792"/>
                  <a:pt x="632" y="728"/>
                  <a:pt x="544" y="792"/>
                </a:cubicBezTo>
                <a:cubicBezTo>
                  <a:pt x="456" y="856"/>
                  <a:pt x="488" y="1056"/>
                  <a:pt x="448" y="1080"/>
                </a:cubicBezTo>
                <a:cubicBezTo>
                  <a:pt x="408" y="1104"/>
                  <a:pt x="376" y="1008"/>
                  <a:pt x="304" y="936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4"/>
          <p:cNvGrpSpPr/>
          <p:nvPr/>
        </p:nvGrpSpPr>
        <p:grpSpPr>
          <a:xfrm>
            <a:off x="5943600" y="4190760"/>
            <a:ext cx="1905120" cy="2057760"/>
            <a:chOff x="5943600" y="4190760"/>
            <a:chExt cx="1905120" cy="2057760"/>
          </a:xfrm>
        </p:grpSpPr>
        <p:sp>
          <p:nvSpPr>
            <p:cNvPr id="310" name="Line 31"/>
            <p:cNvSpPr/>
            <p:nvPr/>
          </p:nvSpPr>
          <p:spPr>
            <a:xfrm flipV="1">
              <a:off x="5943600" y="4190760"/>
              <a:ext cx="9907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V="1">
              <a:off x="6248520" y="4343400"/>
              <a:ext cx="160020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6095880" y="4343400"/>
              <a:ext cx="12193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rkulacija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rkulacija = kruž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rafički: usaglašenost linija polja i izabra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matič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>
            <a:off x="1219320" y="29750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V="1">
            <a:off x="1828800" y="2670120"/>
            <a:ext cx="685800" cy="457200"/>
          </a:xfrm>
          <a:prstGeom prst="line">
            <a:avLst/>
          </a:prstGeom>
          <a:ln w="12600">
            <a:solidFill>
              <a:srgbClr val="19cb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9"/>
              <p:cNvSpPr txBox="1"/>
              <p:nvPr/>
            </p:nvSpPr>
            <p:spPr>
              <a:xfrm>
                <a:off x="4178160" y="2670120"/>
                <a:ext cx="3084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18" name="Group 39"/>
          <p:cNvGrpSpPr/>
          <p:nvPr/>
        </p:nvGrpSpPr>
        <p:grpSpPr>
          <a:xfrm>
            <a:off x="914400" y="3352680"/>
            <a:ext cx="2057400" cy="762120"/>
            <a:chOff x="914400" y="3352680"/>
            <a:chExt cx="2057400" cy="762120"/>
          </a:xfrm>
        </p:grpSpPr>
        <p:sp>
          <p:nvSpPr>
            <p:cNvPr id="319" name="Line 23"/>
            <p:cNvSpPr/>
            <p:nvPr/>
          </p:nvSpPr>
          <p:spPr>
            <a:xfrm flipV="1">
              <a:off x="914400" y="335268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>
              <a:off x="914400" y="3733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>
              <a:off x="914400" y="396252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718080" y="3200400"/>
                <a:ext cx="51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7"/>
              <p:cNvSpPr txBox="1"/>
              <p:nvPr/>
            </p:nvSpPr>
            <p:spPr>
              <a:xfrm>
                <a:off x="5505480" y="4114800"/>
                <a:ext cx="14414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24" name="Group 38"/>
          <p:cNvGrpSpPr/>
          <p:nvPr/>
        </p:nvGrpSpPr>
        <p:grpSpPr>
          <a:xfrm>
            <a:off x="1219320" y="3276360"/>
            <a:ext cx="1676160" cy="1143360"/>
            <a:chOff x="1219320" y="3276360"/>
            <a:chExt cx="1676160" cy="1143360"/>
          </a:xfrm>
        </p:grpSpPr>
        <p:sp>
          <p:nvSpPr>
            <p:cNvPr id="325" name="Line 30"/>
            <p:cNvSpPr/>
            <p:nvPr/>
          </p:nvSpPr>
          <p:spPr>
            <a:xfrm flipV="1">
              <a:off x="1219320" y="3886200"/>
              <a:ext cx="609480" cy="533520"/>
            </a:xfrm>
            <a:prstGeom prst="line">
              <a:avLst/>
            </a:prstGeom>
            <a:ln w="12600">
              <a:solidFill>
                <a:srgbClr val="19cb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1"/>
            <p:cNvSpPr/>
            <p:nvPr/>
          </p:nvSpPr>
          <p:spPr>
            <a:xfrm flipV="1">
              <a:off x="1828800" y="3276360"/>
              <a:ext cx="228600" cy="609480"/>
            </a:xfrm>
            <a:prstGeom prst="line">
              <a:avLst/>
            </a:prstGeom>
            <a:ln w="12600">
              <a:solidFill>
                <a:srgbClr val="19cb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2"/>
            <p:cNvSpPr/>
            <p:nvPr/>
          </p:nvSpPr>
          <p:spPr>
            <a:xfrm>
              <a:off x="2057400" y="3276720"/>
              <a:ext cx="838080" cy="1143000"/>
            </a:xfrm>
            <a:prstGeom prst="line">
              <a:avLst/>
            </a:prstGeom>
            <a:ln w="12600">
              <a:solidFill>
                <a:srgbClr val="19cb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rkulacija elektrostatičk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457200" y="13716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irkulacija po nekoj liniji proporcionalna je radu koji elektrostatičko polje izvrši pri kretanju naelektrisanja po toj puta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7"/>
              <p:cNvSpPr txBox="1"/>
              <p:nvPr/>
            </p:nvSpPr>
            <p:spPr>
              <a:xfrm>
                <a:off x="825480" y="2130480"/>
                <a:ext cx="7023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c</m:t>
                        </m:r>
                      </m:e>
                    </m:nary>
                    <m:r>
                      <m:t xml:space="preserve">∧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U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Rectangle 18"/>
          <p:cNvSpPr/>
          <p:nvPr/>
        </p:nvSpPr>
        <p:spPr>
          <a:xfrm>
            <a:off x="380880" y="28954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pon je cirkulacija električnog polja po nekoj putanji između dv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irkulacija elektrostatičkog polja po bilo kojoj liniji koja spaja dve tačke je jedn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konzervacije elektrostatičkog pol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743200" y="5153040"/>
            <a:ext cx="297180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99ff"/>
                </a:solidFill>
                <a:latin typeface="Arial"/>
              </a:rPr>
              <a:t>Cirkulacija električnog polja po bilo kojoj zatvorenoj putanji je jednaka n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elektrisanje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3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elektrisanje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ma naelektrisanja svih če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postoji višak naelektrisanja jedne vrste kažemo da je telo naelektris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elektris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i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luenc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4800600" y="4572000"/>
            <a:ext cx="304920" cy="30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1"/>
          <p:cNvGrpSpPr/>
          <p:nvPr/>
        </p:nvGrpSpPr>
        <p:grpSpPr>
          <a:xfrm>
            <a:off x="6019920" y="4495680"/>
            <a:ext cx="761400" cy="381240"/>
            <a:chOff x="6019920" y="4495680"/>
            <a:chExt cx="761400" cy="381240"/>
          </a:xfrm>
        </p:grpSpPr>
        <p:sp>
          <p:nvSpPr>
            <p:cNvPr id="337" name="Rectangle 5"/>
            <p:cNvSpPr/>
            <p:nvPr/>
          </p:nvSpPr>
          <p:spPr>
            <a:xfrm>
              <a:off x="6019920" y="4495680"/>
              <a:ext cx="38088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6400800" y="4495680"/>
              <a:ext cx="3805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2"/>
          <p:cNvGrpSpPr/>
          <p:nvPr/>
        </p:nvGrpSpPr>
        <p:grpSpPr>
          <a:xfrm>
            <a:off x="6019920" y="4495680"/>
            <a:ext cx="761400" cy="381240"/>
            <a:chOff x="6019920" y="4495680"/>
            <a:chExt cx="761400" cy="381240"/>
          </a:xfrm>
        </p:grpSpPr>
        <p:sp>
          <p:nvSpPr>
            <p:cNvPr id="340" name="Rectangle 7"/>
            <p:cNvSpPr/>
            <p:nvPr/>
          </p:nvSpPr>
          <p:spPr>
            <a:xfrm>
              <a:off x="6019920" y="4495680"/>
              <a:ext cx="380880" cy="3812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00800" y="4495680"/>
              <a:ext cx="380520" cy="381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3"/>
          <p:cNvGrpSpPr/>
          <p:nvPr/>
        </p:nvGrpSpPr>
        <p:grpSpPr>
          <a:xfrm>
            <a:off x="5943600" y="4495680"/>
            <a:ext cx="914400" cy="381240"/>
            <a:chOff x="5943600" y="4495680"/>
            <a:chExt cx="914400" cy="381240"/>
          </a:xfrm>
        </p:grpSpPr>
        <p:sp>
          <p:nvSpPr>
            <p:cNvPr id="343" name="Rectangle 9"/>
            <p:cNvSpPr/>
            <p:nvPr/>
          </p:nvSpPr>
          <p:spPr>
            <a:xfrm>
              <a:off x="5943600" y="4495680"/>
              <a:ext cx="380880" cy="3812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6476760" y="4495680"/>
              <a:ext cx="381240" cy="381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5" dur="1" fill="hold"/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vodnici i izol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vodnici: naelektrisanje se po njima kreće i raspoređuje po celoj površ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olatori: naelektrisanje ostaje na mestu gde je nast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ff"/>
                </a:solidFill>
                <a:latin typeface="Arial"/>
              </a:rPr>
              <a:t>Provodnici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su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materijali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koji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sadr</a:t>
            </a:r>
            <a:r>
              <a:rPr b="0" lang="sr-Latn-CS" sz="2400" spc="-1" strike="noStrike">
                <a:solidFill>
                  <a:srgbClr val="ff00ff"/>
                </a:solidFill>
                <a:latin typeface="Arial"/>
              </a:rPr>
              <a:t>že</a:t>
            </a: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ff00ff"/>
                </a:solidFill>
                <a:uFillTx/>
                <a:latin typeface="Arial"/>
              </a:rPr>
              <a:t>pokretna</a:t>
            </a: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ff"/>
                </a:solidFill>
                <a:latin typeface="Arial"/>
              </a:rPr>
              <a:t>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tali (elektr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lektroliti - tečni rastvor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itivni i negativni joni so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izovani gasov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elektroni i pozitivni j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olatori su materijali koji ne sadrže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okret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uprovodnici – izolatori u kojima pod određenim uslovima nastaju pokretna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elektris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a osobina materije (kao m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ojstvo elementarnih če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e vr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itiv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gativ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znaka Q, jedinica kulon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=1,60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, proton +e, elektron 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vo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elektrisanje na prov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elektrisanja istog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 se međusobno odbij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mogu da se kreću, raspoređuju se što dalje mo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783360" y="2898720"/>
            <a:ext cx="7340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elektrisanje se raspoređuju po površini prov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57200" y="3886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dealni provodnik se ne suprotstavlja kretanju naelektris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spoređivanje se vrši dok se ne postigne ravnote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ravnoteži je sila na svako naelektrisanje jednaka nuli, a energija svih naelektrisanja je jedn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019160" y="5562720"/>
            <a:ext cx="6696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encijal svih tačaka idealnog provodnika je 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vo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encijal svih tačaka idealnog provodnika je 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a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 pravil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napon između dve tačke idealnog provodnika je jednak n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1371600" y="40384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1"/>
          <p:cNvGrpSpPr/>
          <p:nvPr/>
        </p:nvGrpSpPr>
        <p:grpSpPr>
          <a:xfrm>
            <a:off x="3581280" y="3048120"/>
            <a:ext cx="1371600" cy="1066680"/>
            <a:chOff x="3581280" y="3048120"/>
            <a:chExt cx="1371600" cy="1066680"/>
          </a:xfrm>
        </p:grpSpPr>
        <p:sp>
          <p:nvSpPr>
            <p:cNvPr id="356" name="Rectangle 19"/>
            <p:cNvSpPr/>
            <p:nvPr/>
          </p:nvSpPr>
          <p:spPr>
            <a:xfrm>
              <a:off x="3581280" y="3505320"/>
              <a:ext cx="1371600" cy="759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9"/>
            <p:cNvGrpSpPr/>
            <p:nvPr/>
          </p:nvGrpSpPr>
          <p:grpSpPr>
            <a:xfrm>
              <a:off x="3885840" y="3733920"/>
              <a:ext cx="304920" cy="380880"/>
              <a:chOff x="3885840" y="3733920"/>
              <a:chExt cx="304920" cy="380880"/>
            </a:xfrm>
          </p:grpSpPr>
          <p:sp>
            <p:nvSpPr>
              <p:cNvPr id="358" name="Line 5"/>
              <p:cNvSpPr/>
              <p:nvPr/>
            </p:nvSpPr>
            <p:spPr>
              <a:xfrm flipV="1">
                <a:off x="3885840" y="3962160"/>
                <a:ext cx="1526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6"/>
              <p:cNvSpPr/>
              <p:nvPr/>
            </p:nvSpPr>
            <p:spPr>
              <a:xfrm>
                <a:off x="4038480" y="3962520"/>
                <a:ext cx="1522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7"/>
              <p:cNvSpPr/>
              <p:nvPr/>
            </p:nvSpPr>
            <p:spPr>
              <a:xfrm>
                <a:off x="4038480" y="396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8"/>
              <p:cNvSpPr/>
              <p:nvPr/>
            </p:nvSpPr>
            <p:spPr>
              <a:xfrm>
                <a:off x="4038480" y="3733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0"/>
            <p:cNvGrpSpPr/>
            <p:nvPr/>
          </p:nvGrpSpPr>
          <p:grpSpPr>
            <a:xfrm>
              <a:off x="4267080" y="3733920"/>
              <a:ext cx="304200" cy="380880"/>
              <a:chOff x="4267080" y="3733920"/>
              <a:chExt cx="304200" cy="380880"/>
            </a:xfrm>
          </p:grpSpPr>
          <p:sp>
            <p:nvSpPr>
              <p:cNvPr id="363" name="Line 11"/>
              <p:cNvSpPr/>
              <p:nvPr/>
            </p:nvSpPr>
            <p:spPr>
              <a:xfrm flipV="1">
                <a:off x="4267080" y="3962160"/>
                <a:ext cx="1522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2"/>
              <p:cNvSpPr/>
              <p:nvPr/>
            </p:nvSpPr>
            <p:spPr>
              <a:xfrm>
                <a:off x="4419360" y="3962520"/>
                <a:ext cx="151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3"/>
              <p:cNvSpPr/>
              <p:nvPr/>
            </p:nvSpPr>
            <p:spPr>
              <a:xfrm>
                <a:off x="4419360" y="396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4"/>
              <p:cNvSpPr/>
              <p:nvPr/>
            </p:nvSpPr>
            <p:spPr>
              <a:xfrm>
                <a:off x="4419360" y="3733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Oval 15"/>
            <p:cNvSpPr/>
            <p:nvPr/>
          </p:nvSpPr>
          <p:spPr>
            <a:xfrm>
              <a:off x="3885840" y="3352680"/>
              <a:ext cx="685800" cy="533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6"/>
            <p:cNvSpPr/>
            <p:nvPr/>
          </p:nvSpPr>
          <p:spPr>
            <a:xfrm>
              <a:off x="4038480" y="3048120"/>
              <a:ext cx="380880" cy="304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7"/>
            <p:cNvSpPr/>
            <p:nvPr/>
          </p:nvSpPr>
          <p:spPr>
            <a:xfrm>
              <a:off x="4114440" y="3124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8"/>
            <p:cNvSpPr/>
            <p:nvPr/>
          </p:nvSpPr>
          <p:spPr>
            <a:xfrm>
              <a:off x="4267080" y="3124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22"/>
          <p:cNvSpPr/>
          <p:nvPr/>
        </p:nvSpPr>
        <p:spPr>
          <a:xfrm>
            <a:off x="457200" y="4343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ve tačke spojene provodnikom imaju jednak potencij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atki spoj” “kurz schlu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emlj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>
            <a:off x="1600200" y="6553080"/>
            <a:ext cx="5029200" cy="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1"/>
          <p:cNvSpPr/>
          <p:nvPr/>
        </p:nvSpPr>
        <p:spPr>
          <a:xfrm flipV="1">
            <a:off x="5181480" y="5866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2"/>
          <p:cNvSpPr/>
          <p:nvPr/>
        </p:nvSpPr>
        <p:spPr>
          <a:xfrm>
            <a:off x="4952880" y="5410080"/>
            <a:ext cx="45720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852480" y="63388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5564160" y="54864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0"/>
          <p:cNvGrpSpPr/>
          <p:nvPr/>
        </p:nvGrpSpPr>
        <p:grpSpPr>
          <a:xfrm>
            <a:off x="7643880" y="5257800"/>
            <a:ext cx="647640" cy="1405080"/>
            <a:chOff x="7643880" y="5257800"/>
            <a:chExt cx="647640" cy="1405080"/>
          </a:xfrm>
        </p:grpSpPr>
        <p:pic>
          <p:nvPicPr>
            <p:cNvPr id="378" name="Picture 39" descr=""/>
            <p:cNvPicPr/>
            <p:nvPr/>
          </p:nvPicPr>
          <p:blipFill>
            <a:blip r:embed="rId1"/>
            <a:stretch/>
          </p:blipFill>
          <p:spPr>
            <a:xfrm>
              <a:off x="7643880" y="6100920"/>
              <a:ext cx="647640" cy="56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42"/>
            <p:cNvGrpSpPr/>
            <p:nvPr/>
          </p:nvGrpSpPr>
          <p:grpSpPr>
            <a:xfrm>
              <a:off x="7810560" y="5257800"/>
              <a:ext cx="380880" cy="990720"/>
              <a:chOff x="7810560" y="5257800"/>
              <a:chExt cx="380880" cy="990720"/>
            </a:xfrm>
          </p:grpSpPr>
          <p:sp>
            <p:nvSpPr>
              <p:cNvPr id="380" name="Oval 40"/>
              <p:cNvSpPr/>
              <p:nvPr/>
            </p:nvSpPr>
            <p:spPr>
              <a:xfrm>
                <a:off x="7810560" y="5257800"/>
                <a:ext cx="380880" cy="3808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1"/>
              <p:cNvSpPr/>
              <p:nvPr/>
            </p:nvSpPr>
            <p:spPr>
              <a:xfrm flipV="1">
                <a:off x="8001000" y="56386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vo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pacitivnost prov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liki je potencijal provod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više naelektrisanja na provodniku, veće je odbi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veće odbijanje, veća je energija koju naelektrisanja im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je veća energija, veći je potencijal provo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024"/>
              <p:cNvSpPr txBox="1"/>
              <p:nvPr/>
            </p:nvSpPr>
            <p:spPr>
              <a:xfrm>
                <a:off x="3930480" y="3708360"/>
                <a:ext cx="8575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025"/>
              <p:cNvSpPr txBox="1"/>
              <p:nvPr/>
            </p:nvSpPr>
            <p:spPr>
              <a:xfrm>
                <a:off x="2849400" y="4249800"/>
                <a:ext cx="88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026"/>
              <p:cNvSpPr txBox="1"/>
              <p:nvPr/>
            </p:nvSpPr>
            <p:spPr>
              <a:xfrm>
                <a:off x="4265640" y="4284720"/>
                <a:ext cx="1587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Rectangle 1031"/>
          <p:cNvSpPr/>
          <p:nvPr/>
        </p:nvSpPr>
        <p:spPr>
          <a:xfrm>
            <a:off x="4572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pacitivnost pokazuje u kojoj meri provodnik “podnosi” naelektris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5"/>
          <p:cNvSpPr/>
          <p:nvPr/>
        </p:nvSpPr>
        <p:spPr>
          <a:xfrm>
            <a:off x="3581280" y="4952880"/>
            <a:ext cx="243864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19cb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vo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spored naelektrisanja na prov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elektrisanja se lakše razdvajaju na ispupčenjima nego na ravnim delovima jer su tada pri istim gustinama međusobno da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ebno se nakupljaju na šiljcima “efekat šiljk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namerno, kontrolisano izazivanje varničenja radi ukljanjanja naelektris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romob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ešljevi” za naelektris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036"/>
          <p:cNvGrpSpPr/>
          <p:nvPr/>
        </p:nvGrpSpPr>
        <p:grpSpPr>
          <a:xfrm>
            <a:off x="3886200" y="5638680"/>
            <a:ext cx="1676520" cy="914400"/>
            <a:chOff x="3886200" y="5638680"/>
            <a:chExt cx="1676520" cy="914400"/>
          </a:xfrm>
        </p:grpSpPr>
        <p:sp>
          <p:nvSpPr>
            <p:cNvPr id="392" name="AutoShape 1028"/>
            <p:cNvSpPr/>
            <p:nvPr/>
          </p:nvSpPr>
          <p:spPr>
            <a:xfrm>
              <a:off x="3886200" y="5638680"/>
              <a:ext cx="152640" cy="9144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029"/>
            <p:cNvSpPr/>
            <p:nvPr/>
          </p:nvSpPr>
          <p:spPr>
            <a:xfrm>
              <a:off x="4191120" y="5638680"/>
              <a:ext cx="152280" cy="9144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30"/>
            <p:cNvSpPr/>
            <p:nvPr/>
          </p:nvSpPr>
          <p:spPr>
            <a:xfrm>
              <a:off x="4496040" y="5638680"/>
              <a:ext cx="152280" cy="9144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31"/>
            <p:cNvSpPr/>
            <p:nvPr/>
          </p:nvSpPr>
          <p:spPr>
            <a:xfrm>
              <a:off x="4800600" y="5638680"/>
              <a:ext cx="152640" cy="9144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032"/>
            <p:cNvSpPr/>
            <p:nvPr/>
          </p:nvSpPr>
          <p:spPr>
            <a:xfrm>
              <a:off x="5105520" y="5638680"/>
              <a:ext cx="152280" cy="9144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033"/>
            <p:cNvSpPr/>
            <p:nvPr/>
          </p:nvSpPr>
          <p:spPr>
            <a:xfrm>
              <a:off x="5410440" y="5638680"/>
              <a:ext cx="152280" cy="9144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Line 1034"/>
          <p:cNvSpPr/>
          <p:nvPr/>
        </p:nvSpPr>
        <p:spPr>
          <a:xfrm>
            <a:off x="3124080" y="55627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vod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vodnik u spoljašnjem električnom po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ranizacija spol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je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osta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lje ne prodire u unutrašnjost provod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8088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nutrašnje polje u provodniku poništava spoljašnje po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adejev ka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na konstrukcija koja 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štiti od spoljašnjeg električn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2"/>
          <p:cNvGrpSpPr/>
          <p:nvPr/>
        </p:nvGrpSpPr>
        <p:grpSpPr>
          <a:xfrm>
            <a:off x="4419720" y="3505320"/>
            <a:ext cx="1752480" cy="457200"/>
            <a:chOff x="4419720" y="3505320"/>
            <a:chExt cx="1752480" cy="457200"/>
          </a:xfrm>
        </p:grpSpPr>
        <p:sp>
          <p:nvSpPr>
            <p:cNvPr id="403" name="Line 5"/>
            <p:cNvSpPr/>
            <p:nvPr/>
          </p:nvSpPr>
          <p:spPr>
            <a:xfrm>
              <a:off x="4419720" y="3505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9"/>
            <p:cNvSpPr/>
            <p:nvPr/>
          </p:nvSpPr>
          <p:spPr>
            <a:xfrm>
              <a:off x="4419720" y="36579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>
              <a:off x="4419720" y="3810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4419720" y="3962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41"/>
          <p:cNvGrpSpPr/>
          <p:nvPr/>
        </p:nvGrpSpPr>
        <p:grpSpPr>
          <a:xfrm>
            <a:off x="1981080" y="3352680"/>
            <a:ext cx="1067040" cy="762120"/>
            <a:chOff x="1981080" y="3352680"/>
            <a:chExt cx="1067040" cy="762120"/>
          </a:xfrm>
        </p:grpSpPr>
        <p:sp>
          <p:nvSpPr>
            <p:cNvPr id="408" name="Rectangle 13"/>
            <p:cNvSpPr/>
            <p:nvPr/>
          </p:nvSpPr>
          <p:spPr>
            <a:xfrm>
              <a:off x="1981080" y="3352680"/>
              <a:ext cx="1067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4"/>
            <p:cNvSpPr/>
            <p:nvPr/>
          </p:nvSpPr>
          <p:spPr>
            <a:xfrm>
              <a:off x="2057400" y="38098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6"/>
            <p:cNvSpPr/>
            <p:nvPr/>
          </p:nvSpPr>
          <p:spPr>
            <a:xfrm>
              <a:off x="2362320" y="36576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7"/>
            <p:cNvSpPr/>
            <p:nvPr/>
          </p:nvSpPr>
          <p:spPr>
            <a:xfrm>
              <a:off x="2666880" y="3809880"/>
              <a:ext cx="15264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8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9"/>
            <p:cNvSpPr/>
            <p:nvPr/>
          </p:nvSpPr>
          <p:spPr>
            <a:xfrm>
              <a:off x="2057400" y="34290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0"/>
            <p:cNvSpPr/>
            <p:nvPr/>
          </p:nvSpPr>
          <p:spPr>
            <a:xfrm>
              <a:off x="2514600" y="34290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1"/>
            <p:cNvSpPr/>
            <p:nvPr/>
          </p:nvSpPr>
          <p:spPr>
            <a:xfrm>
              <a:off x="2438280" y="38098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2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3"/>
            <p:cNvSpPr/>
            <p:nvPr/>
          </p:nvSpPr>
          <p:spPr>
            <a:xfrm>
              <a:off x="2133720" y="358128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2"/>
          <p:cNvGrpSpPr/>
          <p:nvPr/>
        </p:nvGrpSpPr>
        <p:grpSpPr>
          <a:xfrm>
            <a:off x="4648320" y="3352680"/>
            <a:ext cx="1066680" cy="762120"/>
            <a:chOff x="4648320" y="3352680"/>
            <a:chExt cx="1066680" cy="762120"/>
          </a:xfrm>
        </p:grpSpPr>
        <p:sp>
          <p:nvSpPr>
            <p:cNvPr id="420" name="Rectangle 24"/>
            <p:cNvSpPr/>
            <p:nvPr/>
          </p:nvSpPr>
          <p:spPr>
            <a:xfrm>
              <a:off x="4648320" y="3352680"/>
              <a:ext cx="106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5"/>
            <p:cNvSpPr/>
            <p:nvPr/>
          </p:nvSpPr>
          <p:spPr>
            <a:xfrm>
              <a:off x="5486400" y="38862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4724280" y="34290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7"/>
            <p:cNvSpPr/>
            <p:nvPr/>
          </p:nvSpPr>
          <p:spPr>
            <a:xfrm>
              <a:off x="5486400" y="36576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8"/>
            <p:cNvSpPr/>
            <p:nvPr/>
          </p:nvSpPr>
          <p:spPr>
            <a:xfrm>
              <a:off x="5029200" y="38862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9"/>
            <p:cNvSpPr/>
            <p:nvPr/>
          </p:nvSpPr>
          <p:spPr>
            <a:xfrm>
              <a:off x="5486400" y="3429000"/>
              <a:ext cx="152280" cy="152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0"/>
            <p:cNvSpPr/>
            <p:nvPr/>
          </p:nvSpPr>
          <p:spPr>
            <a:xfrm>
              <a:off x="5029200" y="3581280"/>
              <a:ext cx="152280" cy="152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31"/>
            <p:cNvSpPr/>
            <p:nvPr/>
          </p:nvSpPr>
          <p:spPr>
            <a:xfrm>
              <a:off x="5257800" y="358128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2"/>
            <p:cNvSpPr/>
            <p:nvPr/>
          </p:nvSpPr>
          <p:spPr>
            <a:xfrm>
              <a:off x="4724280" y="38862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3"/>
            <p:cNvSpPr/>
            <p:nvPr/>
          </p:nvSpPr>
          <p:spPr>
            <a:xfrm>
              <a:off x="5257800" y="38862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34"/>
            <p:cNvSpPr/>
            <p:nvPr/>
          </p:nvSpPr>
          <p:spPr>
            <a:xfrm>
              <a:off x="4724280" y="3657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4800600" y="2892600"/>
            <a:ext cx="1349280" cy="536400"/>
            <a:chOff x="4800600" y="2892600"/>
            <a:chExt cx="1349280" cy="536400"/>
          </a:xfrm>
        </p:grpSpPr>
        <p:sp>
          <p:nvSpPr>
            <p:cNvPr id="432" name="Line 35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37"/>
                <p:cNvSpPr txBox="1"/>
                <p:nvPr/>
              </p:nvSpPr>
              <p:spPr>
                <a:xfrm>
                  <a:off x="5638680" y="2892600"/>
                  <a:ext cx="51120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4" name="Group 44"/>
          <p:cNvGrpSpPr/>
          <p:nvPr/>
        </p:nvGrpSpPr>
        <p:grpSpPr>
          <a:xfrm>
            <a:off x="4800240" y="4200480"/>
            <a:ext cx="1362600" cy="511200"/>
            <a:chOff x="4800240" y="4200480"/>
            <a:chExt cx="1362600" cy="511200"/>
          </a:xfrm>
        </p:grpSpPr>
        <p:sp>
          <p:nvSpPr>
            <p:cNvPr id="435" name="Line 36"/>
            <p:cNvSpPr/>
            <p:nvPr/>
          </p:nvSpPr>
          <p:spPr>
            <a:xfrm flipH="1">
              <a:off x="4800240" y="4419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38"/>
                <p:cNvSpPr txBox="1"/>
                <p:nvPr/>
              </p:nvSpPr>
              <p:spPr>
                <a:xfrm>
                  <a:off x="5626080" y="4200480"/>
                  <a:ext cx="5367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7" name="Object 39"/>
              <p:cNvSpPr txBox="1"/>
              <p:nvPr/>
            </p:nvSpPr>
            <p:spPr>
              <a:xfrm>
                <a:off x="6799320" y="3197160"/>
                <a:ext cx="1278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0"/>
              <p:cNvSpPr txBox="1"/>
              <p:nvPr/>
            </p:nvSpPr>
            <p:spPr>
              <a:xfrm>
                <a:off x="6826320" y="3666960"/>
                <a:ext cx="1022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ol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olator u spoljašnjem električnom pol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abljenje električnog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4572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oj izol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lektr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čvrstoća materij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duh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k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ko 3MV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990720" y="3003480"/>
            <a:ext cx="2879640" cy="133992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6"/>
          <p:cNvGrpSpPr/>
          <p:nvPr/>
        </p:nvGrpSpPr>
        <p:grpSpPr>
          <a:xfrm>
            <a:off x="5280120" y="2362320"/>
            <a:ext cx="1349280" cy="536400"/>
            <a:chOff x="5280120" y="2362320"/>
            <a:chExt cx="1349280" cy="536400"/>
          </a:xfrm>
        </p:grpSpPr>
        <p:sp>
          <p:nvSpPr>
            <p:cNvPr id="444" name="Line 7"/>
            <p:cNvSpPr/>
            <p:nvPr/>
          </p:nvSpPr>
          <p:spPr>
            <a:xfrm>
              <a:off x="5280120" y="2670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Object 4"/>
                <p:cNvSpPr txBox="1"/>
                <p:nvPr/>
              </p:nvSpPr>
              <p:spPr>
                <a:xfrm>
                  <a:off x="6118200" y="2362320"/>
                  <a:ext cx="511200" cy="5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6" name="Picture 9" descr=""/>
          <p:cNvPicPr/>
          <p:nvPr/>
        </p:nvPicPr>
        <p:blipFill>
          <a:blip r:embed="rId2"/>
          <a:stretch/>
        </p:blipFill>
        <p:spPr>
          <a:xfrm>
            <a:off x="4359240" y="2987640"/>
            <a:ext cx="287964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16"/>
          <p:cNvGrpSpPr/>
          <p:nvPr/>
        </p:nvGrpSpPr>
        <p:grpSpPr>
          <a:xfrm>
            <a:off x="5790960" y="4419720"/>
            <a:ext cx="914760" cy="511200"/>
            <a:chOff x="5790960" y="4419720"/>
            <a:chExt cx="914760" cy="511200"/>
          </a:xfrm>
        </p:grpSpPr>
        <p:sp>
          <p:nvSpPr>
            <p:cNvPr id="448" name="Line 11"/>
            <p:cNvSpPr/>
            <p:nvPr/>
          </p:nvSpPr>
          <p:spPr>
            <a:xfrm flipH="1">
              <a:off x="5790960" y="4638600"/>
              <a:ext cx="3142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6168960" y="4419720"/>
                  <a:ext cx="5367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0" name="Object 0"/>
              <p:cNvSpPr txBox="1"/>
              <p:nvPr/>
            </p:nvSpPr>
            <p:spPr>
              <a:xfrm>
                <a:off x="7467480" y="2743200"/>
                <a:ext cx="11750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"/>
              <p:cNvSpPr txBox="1"/>
              <p:nvPr/>
            </p:nvSpPr>
            <p:spPr>
              <a:xfrm>
                <a:off x="7537320" y="3352680"/>
                <a:ext cx="971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7486560" y="3986280"/>
                <a:ext cx="11257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dukcija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ausov zakon ne može da se primeni u materijalnoj sredini jer posto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dukovana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jam indukcije električnog p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finicija indukcije električnog p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0"/>
              <p:cNvSpPr txBox="1"/>
              <p:nvPr/>
            </p:nvSpPr>
            <p:spPr>
              <a:xfrm>
                <a:off x="2666880" y="5538960"/>
                <a:ext cx="3286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tvoren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Q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Rectangle 3"/>
          <p:cNvSpPr/>
          <p:nvPr/>
        </p:nvSpPr>
        <p:spPr>
          <a:xfrm>
            <a:off x="609480" y="3581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sku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e sila jačine elekt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g polja u materij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ije sila indukcije električnog polja u materijal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ralisani Gausov za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0"/>
          <p:cNvGraphicFramePr/>
          <p:nvPr/>
        </p:nvGraphicFramePr>
        <p:xfrm>
          <a:off x="3360600" y="3249720"/>
          <a:ext cx="1289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0600" y="3249720"/>
                    <a:ext cx="1289160" cy="457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st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ka sila među čest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lačna među česticama naelektrisanim različitim vrstama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bojna među česticama naelektrisanim istom vrstom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a i suština cele elektrotehnike, tera naelektrisanja da se kreću, što mi koris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st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ka sila među čest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915080" y="2133720"/>
            <a:ext cx="392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ac duži koja spaja materijal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5398920" y="4245120"/>
                <a:ext cx="2351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5334120" y="5111640"/>
                <a:ext cx="29574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8"/>
          <p:cNvSpPr/>
          <p:nvPr/>
        </p:nvSpPr>
        <p:spPr>
          <a:xfrm>
            <a:off x="4915080" y="2971800"/>
            <a:ext cx="4152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: vrsta naelektr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915080" y="3429000"/>
            <a:ext cx="392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nzitet: Kulonov za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3176640" y="5972040"/>
                <a:ext cx="566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zduh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rafin</m:t>
                        </m:r>
                      </m:e>
                    </m:d>
                    <m:r>
                      <m:t xml:space="preserve">≈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etal</m:t>
                        </m:r>
                      </m:e>
                    </m:d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Oval 11"/>
          <p:cNvSpPr/>
          <p:nvPr/>
        </p:nvSpPr>
        <p:spPr>
          <a:xfrm>
            <a:off x="1523880" y="417204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3429000" y="417204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1424160" y="4219560"/>
                <a:ext cx="303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3354480" y="4172040"/>
                <a:ext cx="353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30" name="AutoShape 15"/>
          <p:cNvCxnSpPr/>
          <p:nvPr/>
        </p:nvCxnSpPr>
        <p:spPr>
          <a:xfrm>
            <a:off x="1600200" y="421920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1" name="Line 16"/>
          <p:cNvSpPr/>
          <p:nvPr/>
        </p:nvSpPr>
        <p:spPr>
          <a:xfrm>
            <a:off x="1600200" y="4219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2819520" y="4219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8"/>
              <p:cNvSpPr txBox="1"/>
              <p:nvPr/>
            </p:nvSpPr>
            <p:spPr>
              <a:xfrm>
                <a:off x="1677960" y="3689280"/>
                <a:ext cx="4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9"/>
              <p:cNvSpPr txBox="1"/>
              <p:nvPr/>
            </p:nvSpPr>
            <p:spPr>
              <a:xfrm>
                <a:off x="2971800" y="3664080"/>
                <a:ext cx="404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5" name="Group 20"/>
          <p:cNvGrpSpPr/>
          <p:nvPr/>
        </p:nvGrpSpPr>
        <p:grpSpPr>
          <a:xfrm>
            <a:off x="1558800" y="3200400"/>
            <a:ext cx="1911240" cy="965160"/>
            <a:chOff x="1558800" y="3200400"/>
            <a:chExt cx="1911240" cy="965160"/>
          </a:xfrm>
        </p:grpSpPr>
        <mc:AlternateContent>
          <mc:Choice xmlns:a14="http://schemas.microsoft.com/office/drawing/2010/main" Requires="a14">
            <p:sp>
              <p:nvSpPr>
                <p:cNvPr id="136" name="Object 21"/>
                <p:cNvSpPr txBox="1"/>
                <p:nvPr/>
              </p:nvSpPr>
              <p:spPr>
                <a:xfrm>
                  <a:off x="2374920" y="3200400"/>
                  <a:ext cx="2268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Line 22"/>
            <p:cNvSpPr/>
            <p:nvPr/>
          </p:nvSpPr>
          <p:spPr>
            <a:xfrm flipV="1">
              <a:off x="1558800" y="3327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 flipV="1">
              <a:off x="3470040" y="3327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>
              <a:off x="1558800" y="3429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5"/>
          <p:cNvSpPr/>
          <p:nvPr/>
        </p:nvSpPr>
        <p:spPr>
          <a:xfrm>
            <a:off x="682920" y="59436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električna kon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1905120" y="3225960"/>
            <a:ext cx="4497120" cy="1726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ostatička energija interakcije među česti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encijalna energija elektrostatičke interakcije (s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namo da postoji jer elektrostatička sila ubrzava čestice, povećava im kinetičku ener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638280" y="4871880"/>
                <a:ext cx="7732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7"/>
          <p:cNvGraphicFramePr/>
          <p:nvPr/>
        </p:nvGraphicFramePr>
        <p:xfrm>
          <a:off x="1193760" y="5845320"/>
          <a:ext cx="3595680" cy="78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3760" y="5845320"/>
                    <a:ext cx="35956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"/>
          <p:cNvGraphicFramePr/>
          <p:nvPr/>
        </p:nvGraphicFramePr>
        <p:xfrm>
          <a:off x="5530680" y="5869080"/>
          <a:ext cx="187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30680" y="5869080"/>
                    <a:ext cx="1873440" cy="73476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Line 9"/>
          <p:cNvSpPr/>
          <p:nvPr/>
        </p:nvSpPr>
        <p:spPr>
          <a:xfrm>
            <a:off x="4008600" y="3733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4160880" y="3780000"/>
                <a:ext cx="639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sila elekt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tičk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a svih praktičnih pri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3200400" y="3124080"/>
            <a:ext cx="593640" cy="228600"/>
            <a:chOff x="3200400" y="3124080"/>
            <a:chExt cx="593640" cy="228600"/>
          </a:xfrm>
        </p:grpSpPr>
        <p:sp>
          <p:nvSpPr>
            <p:cNvPr id="154" name="Oval 9"/>
            <p:cNvSpPr/>
            <p:nvPr/>
          </p:nvSpPr>
          <p:spPr>
            <a:xfrm>
              <a:off x="3565440" y="3124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200400" y="322884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1143000" y="1981080"/>
            <a:ext cx="487440" cy="228600"/>
            <a:chOff x="1143000" y="1981080"/>
            <a:chExt cx="487440" cy="228600"/>
          </a:xfrm>
        </p:grpSpPr>
        <p:sp>
          <p:nvSpPr>
            <p:cNvPr id="157" name="Oval 12"/>
            <p:cNvSpPr/>
            <p:nvPr/>
          </p:nvSpPr>
          <p:spPr>
            <a:xfrm>
              <a:off x="140184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1143000" y="20858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Freeform 49"/>
          <p:cNvSpPr/>
          <p:nvPr/>
        </p:nvSpPr>
        <p:spPr>
          <a:xfrm>
            <a:off x="990720" y="2057400"/>
            <a:ext cx="2895480" cy="13716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824" h="864">
                <a:moveTo>
                  <a:pt x="0" y="0"/>
                </a:moveTo>
                <a:cubicBezTo>
                  <a:pt x="176" y="56"/>
                  <a:pt x="352" y="112"/>
                  <a:pt x="480" y="240"/>
                </a:cubicBezTo>
                <a:cubicBezTo>
                  <a:pt x="608" y="368"/>
                  <a:pt x="544" y="672"/>
                  <a:pt x="768" y="768"/>
                </a:cubicBezTo>
                <a:cubicBezTo>
                  <a:pt x="992" y="864"/>
                  <a:pt x="1632" y="800"/>
                  <a:pt x="182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4"/>
          <p:cNvGrpSpPr/>
          <p:nvPr/>
        </p:nvGrpSpPr>
        <p:grpSpPr>
          <a:xfrm>
            <a:off x="914400" y="2362320"/>
            <a:ext cx="2819520" cy="685800"/>
            <a:chOff x="914400" y="2362320"/>
            <a:chExt cx="2819520" cy="685800"/>
          </a:xfrm>
        </p:grpSpPr>
        <p:sp>
          <p:nvSpPr>
            <p:cNvPr id="161" name="Line 51"/>
            <p:cNvSpPr/>
            <p:nvPr/>
          </p:nvSpPr>
          <p:spPr>
            <a:xfrm flipH="1">
              <a:off x="914400" y="2362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 flipH="1">
              <a:off x="914400" y="25909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4"/>
            <p:cNvSpPr/>
            <p:nvPr/>
          </p:nvSpPr>
          <p:spPr>
            <a:xfrm flipH="1">
              <a:off x="914400" y="28195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5"/>
            <p:cNvSpPr/>
            <p:nvPr/>
          </p:nvSpPr>
          <p:spPr>
            <a:xfrm flipH="1">
              <a:off x="914400" y="30481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Object 56"/>
              <p:cNvSpPr txBox="1"/>
              <p:nvPr/>
            </p:nvSpPr>
            <p:spPr>
              <a:xfrm>
                <a:off x="4191120" y="2590920"/>
                <a:ext cx="4532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Rectangle 57"/>
          <p:cNvSpPr/>
          <p:nvPr/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moguće napraviti elektrostatički motor koji radi u ciklu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8"/>
          <p:cNvSpPr/>
          <p:nvPr/>
        </p:nvSpPr>
        <p:spPr>
          <a:xfrm>
            <a:off x="647640" y="4422600"/>
            <a:ext cx="37720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 sila elektrostatičkog polja po bilo kojoj zatvorenoj putanji je jednak n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9"/>
              <p:cNvSpPr txBox="1"/>
              <p:nvPr/>
            </p:nvSpPr>
            <p:spPr>
              <a:xfrm>
                <a:off x="990720" y="5599080"/>
                <a:ext cx="2197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t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Group 65"/>
          <p:cNvGrpSpPr/>
          <p:nvPr/>
        </p:nvGrpSpPr>
        <p:grpSpPr>
          <a:xfrm>
            <a:off x="5335920" y="4191120"/>
            <a:ext cx="2652480" cy="1828800"/>
            <a:chOff x="5335920" y="4191120"/>
            <a:chExt cx="2652480" cy="1828800"/>
          </a:xfrm>
        </p:grpSpPr>
        <p:sp>
          <p:nvSpPr>
            <p:cNvPr id="170" name="Freeform 60"/>
            <p:cNvSpPr/>
            <p:nvPr/>
          </p:nvSpPr>
          <p:spPr>
            <a:xfrm>
              <a:off x="5486400" y="4191120"/>
              <a:ext cx="2502000" cy="1828800"/>
            </a:xfrm>
            <a:custGeom>
              <a:avLst/>
              <a:gdLst>
                <a:gd name="textAreaLeft" fmla="*/ 0 w 2502000"/>
                <a:gd name="textAreaRight" fmla="*/ 2502360 w 25020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1576" h="1152">
                  <a:moveTo>
                    <a:pt x="240" y="912"/>
                  </a:moveTo>
                  <a:cubicBezTo>
                    <a:pt x="200" y="832"/>
                    <a:pt x="0" y="664"/>
                    <a:pt x="48" y="576"/>
                  </a:cubicBezTo>
                  <a:cubicBezTo>
                    <a:pt x="96" y="488"/>
                    <a:pt x="440" y="480"/>
                    <a:pt x="528" y="384"/>
                  </a:cubicBezTo>
                  <a:cubicBezTo>
                    <a:pt x="616" y="288"/>
                    <a:pt x="424" y="0"/>
                    <a:pt x="576" y="0"/>
                  </a:cubicBezTo>
                  <a:cubicBezTo>
                    <a:pt x="728" y="0"/>
                    <a:pt x="1304" y="232"/>
                    <a:pt x="1440" y="384"/>
                  </a:cubicBezTo>
                  <a:cubicBezTo>
                    <a:pt x="1576" y="536"/>
                    <a:pt x="1480" y="848"/>
                    <a:pt x="1392" y="912"/>
                  </a:cubicBezTo>
                  <a:cubicBezTo>
                    <a:pt x="1304" y="976"/>
                    <a:pt x="1016" y="736"/>
                    <a:pt x="912" y="768"/>
                  </a:cubicBezTo>
                  <a:cubicBezTo>
                    <a:pt x="808" y="800"/>
                    <a:pt x="872" y="1056"/>
                    <a:pt x="768" y="1104"/>
                  </a:cubicBezTo>
                  <a:cubicBezTo>
                    <a:pt x="664" y="1152"/>
                    <a:pt x="376" y="1088"/>
                    <a:pt x="288" y="1056"/>
                  </a:cubicBezTo>
                  <a:cubicBezTo>
                    <a:pt x="200" y="1024"/>
                    <a:pt x="280" y="992"/>
                    <a:pt x="240" y="912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1"/>
            <p:cNvSpPr/>
            <p:nvPr/>
          </p:nvSpPr>
          <p:spPr>
            <a:xfrm>
              <a:off x="5562720" y="5235480"/>
              <a:ext cx="7596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2"/>
            <p:cNvSpPr/>
            <p:nvPr/>
          </p:nvSpPr>
          <p:spPr>
            <a:xfrm>
              <a:off x="5335920" y="5119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3"/>
          <p:cNvSpPr/>
          <p:nvPr/>
        </p:nvSpPr>
        <p:spPr>
          <a:xfrm>
            <a:off x="457200" y="3581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d elektrostatičkog polja zavisi samo od krajnih tačaka putanje, a ne od njenog obl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ostatičko polje če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zičko polje koje postoji oko naelektrisane č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ukova mreža” č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749760" y="4419720"/>
            <a:ext cx="22860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4740120" y="4419720"/>
            <a:ext cx="685800" cy="228600"/>
            <a:chOff x="4740120" y="4419720"/>
            <a:chExt cx="685800" cy="228600"/>
          </a:xfrm>
        </p:grpSpPr>
        <p:sp>
          <p:nvSpPr>
            <p:cNvPr id="178" name="Oval 6"/>
            <p:cNvSpPr/>
            <p:nvPr/>
          </p:nvSpPr>
          <p:spPr>
            <a:xfrm>
              <a:off x="51973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4740120" y="4524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5975280" y="4419720"/>
            <a:ext cx="593640" cy="228600"/>
            <a:chOff x="5975280" y="4419720"/>
            <a:chExt cx="593640" cy="228600"/>
          </a:xfrm>
        </p:grpSpPr>
        <p:sp>
          <p:nvSpPr>
            <p:cNvPr id="181" name="Oval 9"/>
            <p:cNvSpPr/>
            <p:nvPr/>
          </p:nvSpPr>
          <p:spPr>
            <a:xfrm>
              <a:off x="63403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5975280" y="452448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7209000" y="4419720"/>
            <a:ext cx="486720" cy="228600"/>
            <a:chOff x="7209000" y="4419720"/>
            <a:chExt cx="486720" cy="228600"/>
          </a:xfrm>
        </p:grpSpPr>
        <p:sp>
          <p:nvSpPr>
            <p:cNvPr id="184" name="Oval 12"/>
            <p:cNvSpPr/>
            <p:nvPr/>
          </p:nvSpPr>
          <p:spPr>
            <a:xfrm>
              <a:off x="7467480" y="4419720"/>
              <a:ext cx="2282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7209000" y="4524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3749760" y="2514240"/>
            <a:ext cx="228600" cy="1523880"/>
            <a:chOff x="3749760" y="2514240"/>
            <a:chExt cx="228600" cy="1523880"/>
          </a:xfrm>
        </p:grpSpPr>
        <p:grpSp>
          <p:nvGrpSpPr>
            <p:cNvPr id="187" name="Group 15"/>
            <p:cNvGrpSpPr/>
            <p:nvPr/>
          </p:nvGrpSpPr>
          <p:grpSpPr>
            <a:xfrm>
              <a:off x="3749760" y="3352320"/>
              <a:ext cx="228600" cy="685800"/>
              <a:chOff x="3749760" y="3352320"/>
              <a:chExt cx="228600" cy="685800"/>
            </a:xfrm>
          </p:grpSpPr>
          <p:sp>
            <p:nvSpPr>
              <p:cNvPr id="188" name="Oval 16"/>
              <p:cNvSpPr/>
              <p:nvPr/>
            </p:nvSpPr>
            <p:spPr>
              <a:xfrm rot="16200000">
                <a:off x="3749760" y="33523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 flipV="1">
                <a:off x="3854520" y="3580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8"/>
            <p:cNvGrpSpPr/>
            <p:nvPr/>
          </p:nvGrpSpPr>
          <p:grpSpPr>
            <a:xfrm>
              <a:off x="3749760" y="2514240"/>
              <a:ext cx="228600" cy="593640"/>
              <a:chOff x="3749760" y="2514240"/>
              <a:chExt cx="228600" cy="593640"/>
            </a:xfrm>
          </p:grpSpPr>
          <p:sp>
            <p:nvSpPr>
              <p:cNvPr id="191" name="Oval 19"/>
              <p:cNvSpPr/>
              <p:nvPr/>
            </p:nvSpPr>
            <p:spPr>
              <a:xfrm rot="16200000">
                <a:off x="3749760" y="251424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V="1">
                <a:off x="3854520" y="274284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21"/>
          <p:cNvGrpSpPr/>
          <p:nvPr/>
        </p:nvGrpSpPr>
        <p:grpSpPr>
          <a:xfrm>
            <a:off x="3749400" y="5105520"/>
            <a:ext cx="228600" cy="1599840"/>
            <a:chOff x="3749400" y="5105520"/>
            <a:chExt cx="228600" cy="1599840"/>
          </a:xfrm>
        </p:grpSpPr>
        <p:grpSp>
          <p:nvGrpSpPr>
            <p:cNvPr id="194" name="Group 22"/>
            <p:cNvGrpSpPr/>
            <p:nvPr/>
          </p:nvGrpSpPr>
          <p:grpSpPr>
            <a:xfrm>
              <a:off x="3749400" y="5105520"/>
              <a:ext cx="228600" cy="685800"/>
              <a:chOff x="3749400" y="5105520"/>
              <a:chExt cx="228600" cy="685800"/>
            </a:xfrm>
          </p:grpSpPr>
          <p:sp>
            <p:nvSpPr>
              <p:cNvPr id="195" name="Oval 23"/>
              <p:cNvSpPr/>
              <p:nvPr/>
            </p:nvSpPr>
            <p:spPr>
              <a:xfrm rot="5400000">
                <a:off x="3749400" y="55627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>
                <a:off x="3873240" y="51055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5"/>
            <p:cNvGrpSpPr/>
            <p:nvPr/>
          </p:nvGrpSpPr>
          <p:grpSpPr>
            <a:xfrm>
              <a:off x="3749400" y="6111720"/>
              <a:ext cx="228600" cy="593640"/>
              <a:chOff x="3749400" y="6111720"/>
              <a:chExt cx="228600" cy="593640"/>
            </a:xfrm>
          </p:grpSpPr>
          <p:sp>
            <p:nvSpPr>
              <p:cNvPr id="198" name="Oval 26"/>
              <p:cNvSpPr/>
              <p:nvPr/>
            </p:nvSpPr>
            <p:spPr>
              <a:xfrm rot="5400000">
                <a:off x="3749400" y="647676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7"/>
              <p:cNvSpPr/>
              <p:nvPr/>
            </p:nvSpPr>
            <p:spPr>
              <a:xfrm>
                <a:off x="3873240" y="611172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28"/>
          <p:cNvGrpSpPr/>
          <p:nvPr/>
        </p:nvGrpSpPr>
        <p:grpSpPr>
          <a:xfrm>
            <a:off x="914040" y="4419360"/>
            <a:ext cx="2057400" cy="228600"/>
            <a:chOff x="914040" y="4419360"/>
            <a:chExt cx="2057400" cy="228600"/>
          </a:xfrm>
        </p:grpSpPr>
        <p:grpSp>
          <p:nvGrpSpPr>
            <p:cNvPr id="201" name="Group 29"/>
            <p:cNvGrpSpPr/>
            <p:nvPr/>
          </p:nvGrpSpPr>
          <p:grpSpPr>
            <a:xfrm>
              <a:off x="2285640" y="4419360"/>
              <a:ext cx="685800" cy="228600"/>
              <a:chOff x="2285640" y="4419360"/>
              <a:chExt cx="685800" cy="228600"/>
            </a:xfrm>
          </p:grpSpPr>
          <p:sp>
            <p:nvSpPr>
              <p:cNvPr id="202" name="Oval 30"/>
              <p:cNvSpPr/>
              <p:nvPr/>
            </p:nvSpPr>
            <p:spPr>
              <a:xfrm rot="10800000">
                <a:off x="2285640" y="441936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 flipH="1">
                <a:off x="2514240" y="4543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"/>
            <p:cNvGrpSpPr/>
            <p:nvPr/>
          </p:nvGrpSpPr>
          <p:grpSpPr>
            <a:xfrm>
              <a:off x="914040" y="4419360"/>
              <a:ext cx="593640" cy="228600"/>
              <a:chOff x="914040" y="4419360"/>
              <a:chExt cx="593640" cy="228600"/>
            </a:xfrm>
          </p:grpSpPr>
          <p:sp>
            <p:nvSpPr>
              <p:cNvPr id="205" name="Oval 33"/>
              <p:cNvSpPr/>
              <p:nvPr/>
            </p:nvSpPr>
            <p:spPr>
              <a:xfrm rot="10800000">
                <a:off x="914040" y="441936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1142640" y="4543200"/>
                <a:ext cx="36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2762280" y="3600360"/>
            <a:ext cx="2171160" cy="1942920"/>
            <a:chOff x="2762280" y="3600360"/>
            <a:chExt cx="2171160" cy="1942920"/>
          </a:xfrm>
        </p:grpSpPr>
        <p:grpSp>
          <p:nvGrpSpPr>
            <p:cNvPr id="208" name="Group 36"/>
            <p:cNvGrpSpPr/>
            <p:nvPr/>
          </p:nvGrpSpPr>
          <p:grpSpPr>
            <a:xfrm>
              <a:off x="4360680" y="3600720"/>
              <a:ext cx="572760" cy="559080"/>
              <a:chOff x="4360680" y="3600720"/>
              <a:chExt cx="572760" cy="559080"/>
            </a:xfrm>
          </p:grpSpPr>
          <p:sp>
            <p:nvSpPr>
              <p:cNvPr id="209" name="Oval 37"/>
              <p:cNvSpPr/>
              <p:nvPr/>
            </p:nvSpPr>
            <p:spPr>
              <a:xfrm rot="18900000">
                <a:off x="4657320" y="364788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4360680" y="383652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39"/>
            <p:cNvGrpSpPr/>
            <p:nvPr/>
          </p:nvGrpSpPr>
          <p:grpSpPr>
            <a:xfrm>
              <a:off x="2762640" y="3600360"/>
              <a:ext cx="559080" cy="572760"/>
              <a:chOff x="2762640" y="3600360"/>
              <a:chExt cx="559080" cy="572760"/>
            </a:xfrm>
          </p:grpSpPr>
          <p:sp>
            <p:nvSpPr>
              <p:cNvPr id="212" name="Oval 40"/>
              <p:cNvSpPr/>
              <p:nvPr/>
            </p:nvSpPr>
            <p:spPr>
              <a:xfrm rot="13500000">
                <a:off x="2809800" y="36475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H="1" flipV="1">
                <a:off x="2998440" y="384984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42"/>
            <p:cNvGrpSpPr/>
            <p:nvPr/>
          </p:nvGrpSpPr>
          <p:grpSpPr>
            <a:xfrm>
              <a:off x="2762280" y="4983840"/>
              <a:ext cx="572760" cy="559080"/>
              <a:chOff x="2762280" y="4983840"/>
              <a:chExt cx="572760" cy="559080"/>
            </a:xfrm>
          </p:grpSpPr>
          <p:sp>
            <p:nvSpPr>
              <p:cNvPr id="215" name="Oval 43"/>
              <p:cNvSpPr/>
              <p:nvPr/>
            </p:nvSpPr>
            <p:spPr>
              <a:xfrm rot="8100000">
                <a:off x="2809440" y="526680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H="1">
                <a:off x="3011760" y="498384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45"/>
            <p:cNvGrpSpPr/>
            <p:nvPr/>
          </p:nvGrpSpPr>
          <p:grpSpPr>
            <a:xfrm>
              <a:off x="4374000" y="4970520"/>
              <a:ext cx="559080" cy="572760"/>
              <a:chOff x="4374000" y="4970520"/>
              <a:chExt cx="559080" cy="572760"/>
            </a:xfrm>
          </p:grpSpPr>
          <p:sp>
            <p:nvSpPr>
              <p:cNvPr id="218" name="Oval 46"/>
              <p:cNvSpPr/>
              <p:nvPr/>
            </p:nvSpPr>
            <p:spPr>
              <a:xfrm rot="2700000">
                <a:off x="4656960" y="526716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>
                <a:off x="4374000" y="497052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lektrostatičko po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isuje se dvema lokalnim i dvema integralnim velič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kalne: govore o osobinama polja u tač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veličina: jačina p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alarna veličina: potencij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gralne: govore o osobinama polja u nekoj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luks (kroz neku površi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i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cija (po nekoj lini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ačina električnog p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koji opisuje električno po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ovori o sili koju polje može da stv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990720" y="2666880"/>
                <a:ext cx="1517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3505320" y="2743200"/>
                <a:ext cx="172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Rectangle 8"/>
          <p:cNvSpPr/>
          <p:nvPr/>
        </p:nvSpPr>
        <p:spPr>
          <a:xfrm>
            <a:off x="457200" y="39625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čina električnog polja čestice naelektrisanj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9"/>
              <p:cNvSpPr txBox="1"/>
              <p:nvPr/>
            </p:nvSpPr>
            <p:spPr>
              <a:xfrm>
                <a:off x="1066680" y="4525920"/>
                <a:ext cx="379440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bno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51:38Z</dcterms:created>
  <dc:creator>Šole</dc:creator>
  <dc:description/>
  <dc:language>en-US</dc:language>
  <cp:lastModifiedBy>Soskic Zlatan</cp:lastModifiedBy>
  <dcterms:modified xsi:type="dcterms:W3CDTF">2012-02-29T14:39:21Z</dcterms:modified>
  <cp:revision>224</cp:revision>
  <dc:subject/>
  <dc:title>Osnovni pojmovi</dc:title>
</cp:coreProperties>
</file>