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10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4.gif" ContentType="image/gif"/>
  <Override PartName="/ppt/media/image17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91C-4715-404B-B83E-AB3FA48A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8E4-D389-4C3A-8A69-3D173DD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B23-EAEA-4F03-B55E-C7699B3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007-EDB1-427A-A6FB-D5D0AEF3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1AF-075F-4FAA-B39C-E7E650C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03F-9CA1-4956-A09F-934831A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0E3-4CEF-461E-8E87-B69E1540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EAE-9A66-420B-B81F-8D5B4A8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13E-BA32-4C9B-8211-9ACC2ED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376-5767-45E7-80BC-218152F3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13E-825A-4CF4-83E0-724EB2A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A0B-9F4C-4869-896E-693204B5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0C12-86C7-48C8-8708-8FE22BCC0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hip-technology.com/contractors/propulsion/ldw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i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 ma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š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šine za trofaznu naizmeničnu stru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962520" y="312372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90920" y="3962520"/>
            <a:ext cx="1371600" cy="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962520"/>
            <a:ext cx="609480" cy="761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419720" y="3235320"/>
                <a:ext cx="35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454560" y="3962520"/>
                <a:ext cx="3553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444920" y="4138560"/>
                <a:ext cx="35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00400" y="3429000"/>
                <a:ext cx="399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 flipH="1">
            <a:off x="2590920" y="3962520"/>
            <a:ext cx="1371600" cy="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62520" y="3123720"/>
            <a:ext cx="5331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48120" y="3962520"/>
            <a:ext cx="914400" cy="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3962520"/>
            <a:ext cx="914400" cy="1143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419720" y="3235320"/>
                <a:ext cx="35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54560" y="3962520"/>
                <a:ext cx="3553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444920" y="4138560"/>
                <a:ext cx="35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495680" y="4038480"/>
                <a:ext cx="4003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962520" y="3962520"/>
            <a:ext cx="685800" cy="83808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962160" cy="3962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590920" y="20574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9880" y="3200400"/>
            <a:ext cx="304920" cy="1523880"/>
            <a:chOff x="3809880" y="3200400"/>
            <a:chExt cx="304920" cy="1523880"/>
          </a:xfrm>
        </p:grpSpPr>
        <p:sp>
          <p:nvSpPr>
            <p:cNvPr id="246" name=""/>
            <p:cNvSpPr/>
            <p:nvPr/>
          </p:nvSpPr>
          <p:spPr>
            <a:xfrm>
              <a:off x="3809880" y="3200400"/>
              <a:ext cx="304920" cy="762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3962520"/>
              <a:ext cx="304920" cy="761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873920" y="396252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48720" y="5410080"/>
                <a:ext cx="990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176160" y="4876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– broj pari polova po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32600" y="640080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 – ukupan broj pari po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magnet napajan jednosmernom strujom na rotoru (Tesla), danas elektronski bez konta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or mora da se okreće potpuno istom brzinom kao i magnetn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tvari, alternator koji radi kao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oženo puštanje u rad, i obrtanje isključivo potuno konstantnom brzi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9480" y="3743280"/>
            <a:ext cx="2509920" cy="250524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3257640" y="4191120"/>
            <a:ext cx="2762280" cy="1928520"/>
            <a:chOff x="3257640" y="4191120"/>
            <a:chExt cx="2762280" cy="1928520"/>
          </a:xfrm>
        </p:grpSpPr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3257640" y="4191120"/>
              <a:ext cx="2762280" cy="16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3527280" y="4202280"/>
              <a:ext cx="2184840" cy="1917360"/>
              <a:chOff x="3527280" y="4202280"/>
              <a:chExt cx="2184840" cy="191736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3657600" y="453528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3746520" y="4976640"/>
                    <a:ext cx="222120" cy="24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4394160" y="45338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4410000" y="4202280"/>
                    <a:ext cx="155520" cy="28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3" name=""/>
              <p:cNvSpPr/>
              <p:nvPr/>
            </p:nvSpPr>
            <p:spPr>
              <a:xfrm>
                <a:off x="3527280" y="5751360"/>
                <a:ext cx="21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kolo indukta (stato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238800" y="4648320"/>
                <a:ext cx="2067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r>
                      <m:t xml:space="preserve">r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+</m:t>
                    </m:r>
                    <m:r>
                      <m:t xml:space="preserve">jωL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477120" y="5181480"/>
                <a:ext cx="1577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≈</m:t>
                    </m:r>
                    <m:r>
                      <m:t xml:space="preserve">jωL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napajanja motora U je konsta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terećenje motora konstantno, moment sprega konstantan, snaga konstatna, ljubičasta duž konstan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menjamo jačinu jednosmerne struje u induktoru (rotoru), menja s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j E mora da se kreće po paraleli napona nap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ja se jačina struje motora i fazni ugao motora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ni ugao motora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može da bude pozitivan (motor se ponaša kao ka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ni ugao motora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može da bude negativan (motor se ponaša kao veliki kondenz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676160"/>
            <a:ext cx="1981080" cy="1981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12193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33720" y="3126240"/>
            <a:ext cx="761400" cy="760680"/>
            <a:chOff x="2133720" y="3126240"/>
            <a:chExt cx="761400" cy="760680"/>
          </a:xfrm>
        </p:grpSpPr>
        <p:sp>
          <p:nvSpPr>
            <p:cNvPr id="272" name=""/>
            <p:cNvSpPr/>
            <p:nvPr/>
          </p:nvSpPr>
          <p:spPr>
            <a:xfrm>
              <a:off x="2133720" y="3126240"/>
              <a:ext cx="76140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137" y="2875"/>
                  </a:moveTo>
                  <a:arcTo wR="10800" hR="10800" stAng="-2832548" swAng="283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137" y="2875"/>
                  </a:moveTo>
                  <a:arcTo wR="10800" hR="10800" stAng="-2832548" swAng="28325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394000" y="3200400"/>
                  <a:ext cx="244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4114440" y="1220400"/>
            <a:ext cx="762840" cy="762120"/>
            <a:chOff x="4114440" y="1220400"/>
            <a:chExt cx="762840" cy="76212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4479840" y="1676520"/>
                  <a:ext cx="24444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4114440" y="1220400"/>
              <a:ext cx="7628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83" y="17484"/>
                  </a:moveTo>
                  <a:arcTo wR="10800" hR="10800" stAng="2293981" swAng="3323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83" y="17484"/>
                  </a:moveTo>
                  <a:arcTo wR="10800" hR="10800" stAng="2293981" swAng="332330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724280" y="1447920"/>
                <a:ext cx="3956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ω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∝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495680" y="1523880"/>
            <a:ext cx="457200" cy="457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962520" y="1600200"/>
            <a:ext cx="555480" cy="838080"/>
            <a:chOff x="3962520" y="1600200"/>
            <a:chExt cx="555480" cy="838080"/>
          </a:xfrm>
        </p:grpSpPr>
        <p:sp>
          <p:nvSpPr>
            <p:cNvPr id="280" name=""/>
            <p:cNvSpPr/>
            <p:nvPr/>
          </p:nvSpPr>
          <p:spPr>
            <a:xfrm flipV="1">
              <a:off x="4495680" y="160020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962520" y="2062080"/>
                  <a:ext cx="55548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ω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2514600" y="3200400"/>
            <a:ext cx="3429000" cy="304920"/>
            <a:chOff x="2514600" y="3200400"/>
            <a:chExt cx="3429000" cy="304920"/>
          </a:xfrm>
        </p:grpSpPr>
        <p:sp>
          <p:nvSpPr>
            <p:cNvPr id="283" name=""/>
            <p:cNvSpPr/>
            <p:nvPr/>
          </p:nvSpPr>
          <p:spPr>
            <a:xfrm>
              <a:off x="2514600" y="3505320"/>
              <a:ext cx="34290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405400" y="320040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2514600" y="2438280"/>
            <a:ext cx="1981080" cy="1067040"/>
            <a:chOff x="2514600" y="2438280"/>
            <a:chExt cx="1981080" cy="1067040"/>
          </a:xfrm>
        </p:grpSpPr>
        <p:sp>
          <p:nvSpPr>
            <p:cNvPr id="286" name=""/>
            <p:cNvSpPr/>
            <p:nvPr/>
          </p:nvSpPr>
          <p:spPr>
            <a:xfrm flipV="1">
              <a:off x="2514600" y="2438280"/>
              <a:ext cx="1981080" cy="106704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35280" y="2514600"/>
                  <a:ext cx="26676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8" name=""/>
          <p:cNvGrpSpPr/>
          <p:nvPr/>
        </p:nvGrpSpPr>
        <p:grpSpPr>
          <a:xfrm>
            <a:off x="2514600" y="1523880"/>
            <a:ext cx="1981080" cy="1981440"/>
            <a:chOff x="2514600" y="1523880"/>
            <a:chExt cx="1981080" cy="1981440"/>
          </a:xfrm>
        </p:grpSpPr>
        <p:sp>
          <p:nvSpPr>
            <p:cNvPr id="289" name=""/>
            <p:cNvSpPr/>
            <p:nvPr/>
          </p:nvSpPr>
          <p:spPr>
            <a:xfrm flipV="1">
              <a:off x="2514600" y="1523880"/>
              <a:ext cx="198108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3417840" y="2050920"/>
                  <a:ext cx="28908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isok stepen korisnog dej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oženo puštanje u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stantna brzina obr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ljiv karakter impeda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nhroni kompenzator (džinovski kondenz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ebne svr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šine velike snage sa konstantnim brojem obrta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um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mpres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kačke maš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LDW - Marine Electric Propulsion Motors and Generators for Thrusters, Cranes and Wi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3200" y="3162240"/>
            <a:ext cx="3333600" cy="3543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105520" y="457200"/>
            <a:ext cx="38383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trofazn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oš jedan Teslin izum koji dovodi do ogromnih ušt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tri struje ili napona jednakih amplituda, fazno pomerenih za trećinu perioda‚ predstavlj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uravnoteženi trofaz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09720" y="2362320"/>
                <a:ext cx="2378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20880" y="2816280"/>
                <a:ext cx="2933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14400" y="3425760"/>
                <a:ext cx="51339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6477120" y="2209680"/>
            <a:ext cx="2057400" cy="2057400"/>
            <a:chOff x="6477120" y="2209680"/>
            <a:chExt cx="2057400" cy="2057400"/>
          </a:xfrm>
        </p:grpSpPr>
        <p:sp>
          <p:nvSpPr>
            <p:cNvPr id="111" name=""/>
            <p:cNvSpPr/>
            <p:nvPr/>
          </p:nvSpPr>
          <p:spPr>
            <a:xfrm>
              <a:off x="7391520" y="33526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477120" y="2438280"/>
              <a:ext cx="914400" cy="914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477120" y="3352680"/>
              <a:ext cx="914400" cy="914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34480" y="2971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4880" y="2209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4520" y="3672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13600" y="6400800"/>
            <a:ext cx="67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bir tri struje uravnoteženog trofaznog sistema uvek je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9120" y="4343400"/>
            <a:ext cx="6110280" cy="210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051680" y="4964040"/>
                <a:ext cx="1533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rtno magnetsko polje, uprkos konstantnom intenzitetu, je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romenljivo magnetsko pol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po pravcu) (naravno, Tes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o promenljivo magnetsko polje, ono indukuje struju u provodnicima koji se nalaze u p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potrebno napajanje provodnika rotora (isto kao kod repulzionog motora, samo što je asinhroni motor stari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LEKTORSKI SKLOP NEPOTREBAN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tor isti kao kod sinhronog motora, sa zadatkom da stvara obrtno magnetsk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motaj kao kod sinhronog motora, sa spojenim krajevima (motori velike sn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vez (uobičaje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440240" y="5029200"/>
            <a:ext cx="2798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5952960" cy="3714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990720" y="2057400"/>
            <a:ext cx="6800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rtno polje mora da se okreće u odnosu na rotor da bi se u rotoru indukovala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or asinhronog motor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 s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da se okreće istom brzinom kao obrtno polje da bi obrtno polje “vuklo” r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lativna razlika ugaonih brzina naziva s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lizan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sinhronog motora, i uobičajeno iznosi 3 do 5 proc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352680" y="3200400"/>
                <a:ext cx="1422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457200" y="41148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sprega zavisi od kli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7576" t="12750" r="7576" b="6870"/>
          <a:stretch/>
        </p:blipFill>
        <p:spPr>
          <a:xfrm>
            <a:off x="685800" y="4459320"/>
            <a:ext cx="3276720" cy="2398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114800" y="45720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oji nulti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ksimalni moment proporcionalan kvadratu naponu napajanja U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ksimalni moment značajno ve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obrtanja može da se menja uvođenjem redno vezanog promenljivog otpor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inhro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724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ostavna konstrukcija (jef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bustan (malo kvar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ko puštanje u rad (mada je početna struja vel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lavnom radi sa konstantnom brzinom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že da se upravlja promenom frekvencije (elektron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uda gde je dostupna trofazna st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nage od nekoliko stotina vati do nekoliko kilo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ar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tor razvijen duž pravca stvara magnetno polje koje nije obrtno nego se kreće duž prav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66680" y="2286000"/>
            <a:ext cx="5410440" cy="609480"/>
            <a:chOff x="1066680" y="2286000"/>
            <a:chExt cx="5410440" cy="609480"/>
          </a:xfrm>
        </p:grpSpPr>
        <p:sp>
          <p:nvSpPr>
            <p:cNvPr id="315" name=""/>
            <p:cNvSpPr/>
            <p:nvPr/>
          </p:nvSpPr>
          <p:spPr>
            <a:xfrm>
              <a:off x="1066680" y="2743200"/>
              <a:ext cx="60984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76520" y="274320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0" y="274320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5480" y="274320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9000" y="274320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38480" y="274320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8320" y="274320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57800" y="274320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67280" y="274320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371600" y="2286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066680" y="3047760"/>
            <a:ext cx="5410440" cy="609840"/>
            <a:chOff x="1066680" y="3047760"/>
            <a:chExt cx="5410440" cy="609840"/>
          </a:xfrm>
        </p:grpSpPr>
        <p:sp>
          <p:nvSpPr>
            <p:cNvPr id="326" name=""/>
            <p:cNvSpPr/>
            <p:nvPr/>
          </p:nvSpPr>
          <p:spPr>
            <a:xfrm>
              <a:off x="1066680" y="350532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6520" y="3505320"/>
              <a:ext cx="60948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350532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95480" y="350532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29000" y="350532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38480" y="350532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8320" y="350532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57800" y="350532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3505320"/>
              <a:ext cx="6098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981080" y="30477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66680" y="3809880"/>
            <a:ext cx="5410440" cy="609840"/>
            <a:chOff x="1066680" y="3809880"/>
            <a:chExt cx="5410440" cy="609840"/>
          </a:xfrm>
        </p:grpSpPr>
        <p:sp>
          <p:nvSpPr>
            <p:cNvPr id="337" name=""/>
            <p:cNvSpPr/>
            <p:nvPr/>
          </p:nvSpPr>
          <p:spPr>
            <a:xfrm>
              <a:off x="1066680" y="4267080"/>
              <a:ext cx="609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4267080"/>
              <a:ext cx="6094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86000" y="4267080"/>
              <a:ext cx="609480" cy="152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95480" y="4267080"/>
              <a:ext cx="609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267080"/>
              <a:ext cx="6094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38480" y="4267080"/>
              <a:ext cx="609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8320" y="4267080"/>
              <a:ext cx="6094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7800" y="4267080"/>
              <a:ext cx="6094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4267080"/>
              <a:ext cx="609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590920" y="3809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57200" y="4648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i se za pokretanje električnih vozova koji lebde nad šinama (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arni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085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803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ofazni sistem u prenosu električn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većanje prenesene snage zahteva povećanje broja “kanala” za prenos energije, odnosno broja provodnika, što značajno uvećava cenu elektrodistributivnih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i se smanjenju jačine struje po provodniku, smanjenju broja provodnika, a povećanju ukupne prenesene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1400" y="2895480"/>
            <a:ext cx="3562200" cy="303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61680" y="5522760"/>
            <a:ext cx="59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vodnici druge i treće faze su povratni vodovi prve f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15200" cy="205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05240" y="5954760"/>
                <a:ext cx="1511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09920" y="6381720"/>
                <a:ext cx="1467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ofazni sistem u prenosu električn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ofazni sistem u prenosu električn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realnosti, impedanse otpornosti nisu uravnotežene, pa zbir struja nije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voljan je samo jedan povratni vod za sve tri faze, koji se naziv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ul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ovodnik (n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 trostruko veće energije omogućen je sa ukupno četiri 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58960" y="3238560"/>
            <a:ext cx="7424640" cy="2019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7320" y="392256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4160" y="312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40280" y="45864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46400" y="4967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a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rator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a alternator monofazne naizmenič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or sa 3 grupe po 2p namotaja indukta pod međusobnim uglom od 120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 grupe namotaja indukta se vezuju svaka za sebe (Tes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9080" y="2906640"/>
            <a:ext cx="3119400" cy="311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200480" y="3448080"/>
            <a:ext cx="4105440" cy="150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754760" y="109440"/>
            <a:ext cx="1160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ivanja trofazn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ivanje u zvez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1606680"/>
            <a:ext cx="25909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921040" y="1904760"/>
            <a:ext cx="1346040" cy="1708560"/>
            <a:chOff x="2921040" y="1904760"/>
            <a:chExt cx="1346040" cy="1708560"/>
          </a:xfrm>
        </p:grpSpPr>
        <p:grpSp>
          <p:nvGrpSpPr>
            <p:cNvPr id="146" name=""/>
            <p:cNvGrpSpPr/>
            <p:nvPr/>
          </p:nvGrpSpPr>
          <p:grpSpPr>
            <a:xfrm>
              <a:off x="2921040" y="1904760"/>
              <a:ext cx="1143000" cy="1708560"/>
              <a:chOff x="2921040" y="1904760"/>
              <a:chExt cx="1143000" cy="1708560"/>
            </a:xfrm>
          </p:grpSpPr>
          <p:sp>
            <p:nvSpPr>
              <p:cNvPr id="147" name=""/>
              <p:cNvSpPr/>
              <p:nvPr/>
            </p:nvSpPr>
            <p:spPr>
              <a:xfrm>
                <a:off x="2921040" y="3613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886200" y="1904760"/>
                <a:ext cx="0" cy="170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933720" y="2362320"/>
                  <a:ext cx="333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"/>
          <p:cNvSpPr/>
          <p:nvPr/>
        </p:nvSpPr>
        <p:spPr>
          <a:xfrm>
            <a:off x="4572000" y="1752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zni n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ski n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33960" y="2921040"/>
                <a:ext cx="1266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1905120" y="1898640"/>
            <a:ext cx="2209680" cy="1130400"/>
            <a:chOff x="1905120" y="1898640"/>
            <a:chExt cx="2209680" cy="1130400"/>
          </a:xfrm>
        </p:grpSpPr>
        <p:sp>
          <p:nvSpPr>
            <p:cNvPr id="154" name=""/>
            <p:cNvSpPr/>
            <p:nvPr/>
          </p:nvSpPr>
          <p:spPr>
            <a:xfrm>
              <a:off x="1905120" y="1898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11240" y="3029040"/>
              <a:ext cx="21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225960" y="2351160"/>
                  <a:ext cx="3776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 flipV="1">
              <a:off x="3581280" y="1905120"/>
              <a:ext cx="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72000" y="4648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zna str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257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ska str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27000" y="4419720"/>
            <a:ext cx="3035520" cy="238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27040" y="4211640"/>
                <a:ext cx="266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36960" y="4546440"/>
                <a:ext cx="333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38862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ivanje u trou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05720" y="2921040"/>
                <a:ext cx="2244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72120" y="5715000"/>
                <a:ext cx="11332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676920" y="5715000"/>
                <a:ext cx="2244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752480" y="1752480"/>
            <a:ext cx="4648320" cy="4496040"/>
            <a:chOff x="1752480" y="1752480"/>
            <a:chExt cx="4648320" cy="4496040"/>
          </a:xfrm>
        </p:grpSpPr>
        <p:sp>
          <p:nvSpPr>
            <p:cNvPr id="171" name=""/>
            <p:cNvSpPr/>
            <p:nvPr/>
          </p:nvSpPr>
          <p:spPr>
            <a:xfrm>
              <a:off x="1752480" y="39625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17524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62520" y="2590920"/>
            <a:ext cx="838080" cy="1371600"/>
            <a:chOff x="3962520" y="2590920"/>
            <a:chExt cx="838080" cy="1371600"/>
          </a:xfrm>
        </p:grpSpPr>
        <p:sp>
          <p:nvSpPr>
            <p:cNvPr id="174" name=""/>
            <p:cNvSpPr/>
            <p:nvPr/>
          </p:nvSpPr>
          <p:spPr>
            <a:xfrm flipV="1">
              <a:off x="3962520" y="2590920"/>
              <a:ext cx="8380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419720" y="3235320"/>
                  <a:ext cx="3553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"/>
          <p:cNvGrpSpPr/>
          <p:nvPr/>
        </p:nvGrpSpPr>
        <p:grpSpPr>
          <a:xfrm>
            <a:off x="3048120" y="3962520"/>
            <a:ext cx="914400" cy="444240"/>
            <a:chOff x="3048120" y="3962520"/>
            <a:chExt cx="914400" cy="444240"/>
          </a:xfrm>
        </p:grpSpPr>
        <p:sp>
          <p:nvSpPr>
            <p:cNvPr id="177" name=""/>
            <p:cNvSpPr/>
            <p:nvPr/>
          </p:nvSpPr>
          <p:spPr>
            <a:xfrm flipH="1">
              <a:off x="3048120" y="3962520"/>
              <a:ext cx="91440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454560" y="3962520"/>
                  <a:ext cx="35532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"/>
          <p:cNvGrpSpPr/>
          <p:nvPr/>
        </p:nvGrpSpPr>
        <p:grpSpPr>
          <a:xfrm>
            <a:off x="3962520" y="3962520"/>
            <a:ext cx="838080" cy="761760"/>
            <a:chOff x="3962520" y="3962520"/>
            <a:chExt cx="838080" cy="761760"/>
          </a:xfrm>
        </p:grpSpPr>
        <p:sp>
          <p:nvSpPr>
            <p:cNvPr id="180" name=""/>
            <p:cNvSpPr/>
            <p:nvPr/>
          </p:nvSpPr>
          <p:spPr>
            <a:xfrm>
              <a:off x="3962520" y="3962520"/>
              <a:ext cx="609480" cy="7617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444920" y="4138560"/>
                  <a:ext cx="3556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ori trofaz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: obrtno magnetno polje (ponovo T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14400" y="1841400"/>
            <a:ext cx="4281480" cy="4254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52480" y="3962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62520" y="2971800"/>
            <a:ext cx="609480" cy="99072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397400" y="3224160"/>
                <a:ext cx="399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450200" y="109440"/>
            <a:ext cx="11602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22:15:18Z</dcterms:created>
  <dc:creator>Zlatan Šoškić</dc:creator>
  <dc:description/>
  <dc:language>en-US</dc:language>
  <cp:lastModifiedBy>Zlatan Soskic</cp:lastModifiedBy>
  <dcterms:modified xsi:type="dcterms:W3CDTF">2007-04-25T18:17:56Z</dcterms:modified>
  <cp:revision>118</cp:revision>
  <dc:subject/>
  <dc:title>Električne mašine</dc:title>
</cp:coreProperties>
</file>