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9.png" ContentType="image/png"/>
  <Override PartName="/ppt/media/image42.jpeg" ContentType="image/jpeg"/>
  <Override PartName="/ppt/media/image40.wmf" ContentType="image/x-wmf"/>
  <Override PartName="/ppt/media/image6.png" ContentType="image/png"/>
  <Override PartName="/ppt/media/image20.wmf" ContentType="image/x-wmf"/>
  <Override PartName="/ppt/media/image57.wmf" ContentType="image/x-wmf"/>
  <Override PartName="/ppt/media/image17.png" ContentType="image/png"/>
  <Override PartName="/ppt/media/image5.png" ContentType="image/png"/>
  <Override PartName="/ppt/media/image13.wmf" ContentType="image/x-wmf"/>
  <Override PartName="/ppt/media/image54.wmf" ContentType="image/x-wmf"/>
  <Override PartName="/ppt/media/image18.wmf" ContentType="image/x-wmf"/>
  <Override PartName="/ppt/media/image22.wmf" ContentType="image/x-wmf"/>
  <Override PartName="/ppt/media/image59.wmf" ContentType="image/x-wmf"/>
  <Override PartName="/ppt/media/image56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72.wmf" ContentType="image/x-wmf"/>
  <Override PartName="/ppt/media/image14.png" ContentType="image/png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6.wmf" ContentType="image/x-wmf"/>
  <Override PartName="/ppt/media/image26.png" ContentType="image/png"/>
  <Override PartName="/ppt/media/image10.png" ContentType="image/png"/>
  <Override PartName="/ppt/media/image1.jpeg" ContentType="image/jpeg"/>
  <Override PartName="/ppt/media/image50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3.png" ContentType="image/png"/>
  <Override PartName="/ppt/media/explode.wav" ContentType="audio/x-wav"/>
  <Override PartName="/ppt/media/image48.wmf" ContentType="image/x-wmf"/>
  <Override PartName="/ppt/media/image11.png" ContentType="image/png"/>
  <Override PartName="/ppt/media/image51.wmf" ContentType="image/x-wmf"/>
  <Override PartName="/ppt/media/image15.wmf" ContentType="image/x-wmf"/>
  <Override PartName="/ppt/media/image8.wmf" ContentType="image/x-wmf"/>
  <Override PartName="/ppt/media/image38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19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284-1FC6-44CA-8073-DB52CC0AAF37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557B-3F12-45E2-A0F7-B845D23F6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E83-C961-4392-8B0B-53C7630D4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D9A-CDC8-4CF4-809F-4203A77B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961D-344A-4A9F-AE02-A16B51F48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4BF3-5D79-4562-B957-C87B772A6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31D-A06C-44CB-8D4D-070312C8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FCF-0D12-4E4B-885C-A00BA7CF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FD8-3C24-4FEF-BBED-BD764F65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B08-3143-4A08-82F5-A8667E87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213B-510C-4595-91FD-DE6DDE0C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692-CFF1-479F-A53C-AFCA685F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A906-383F-4EC1-B4CF-A9C05185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EFC7-621E-481B-B658-D1DADED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7351-72DB-47BF-BE81-EBF66DA0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7D32-5259-47FA-86E4-F3C2F76D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B62-7792-4128-9F4E-8A22E1E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212-A53E-46B6-A0A2-EDF9DDA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59FF-79E2-43B6-90E4-35FA156C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DCC7-F16F-40D4-8872-A33EE9F4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E40-1CFE-4BF2-8055-A914359E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592-98E2-41FD-B411-EBF9F9A1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E47-8FA4-476A-A3D3-140F7C14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05AD-5C8F-46DE-86C5-D9E845F3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2B69-97BE-43DD-9C67-3AD392C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DC5C8-7023-47FC-B054-C7B5A3F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5A10-B53D-4289-93E2-8643790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A4B3-11C1-4D0E-B438-06A52FA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9B7-CA0C-4C38-9919-50BDF7E7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C016-AF56-4582-8017-58CABAD0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782E-E440-43D7-BCE6-7B89F994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9897-F048-4FB4-B6BD-2EF271D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B2E9-EBD6-43D8-8D95-E8F7C37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FC12-96FC-4AD8-B03E-20FF4FF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1248-48E7-411B-A203-8D69725D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856C4-38FA-4F51-8BBC-3A1A02E1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30C1-77AD-41D6-AB02-79D9BB79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398D-0F0A-4BD0-BC15-CC6C2A6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5035-C8C2-4EA2-A700-288A78C4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4E4-36F2-4333-8A00-0B1981CA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9937-D4BE-48FB-9860-237CDF85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1DD7-F45A-420E-A2E8-C8F72DEA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5724A-38F2-4727-8AA6-A10FE454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0A43C-BBE3-4EA6-94B6-32EA7255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C71D-5D69-462C-BB67-20E2822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F5A3-4667-4105-8490-E83DC1F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2D803-92FA-48E1-B5EC-DD3B7B64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3AA1-065F-4929-A328-0E03358C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A330-90F5-4270-B821-46C1D64E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01A89-B840-448F-9BB8-41434FA5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3A6-0E0C-4BB2-8901-F3E82424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AABDD-D09D-4F32-8E31-6CE7096B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25E2-D34E-4BF4-BAD8-A61B33C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9D3D-69A2-4AF8-8676-22A6AF5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BFA71-D540-43F3-8513-8FE4483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0F22-E565-4323-8678-17DB6BF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9B924-8A6B-474F-8A53-7D23871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4038-54AF-476C-A6DA-A8C62C73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EF2A-E4C0-4C47-A1E9-334D813F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7227-AC95-40F5-9C50-5E84AD2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3F709-BDA6-46B3-9E70-C13BB3E3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673-D118-4013-9EAC-B03683EC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DC656-E232-4628-AACB-7901D69F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EBC0-CF62-4882-8487-3AC447A5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5CC1-D510-4030-B39C-FE356CE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3B09-6D7A-4798-9A69-5B310757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9373-FDBB-4D46-AE2C-3FABD9F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2600D-9942-4E45-B6FF-48EDDFE9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931CD-FAF3-42A9-8E27-A09B5FE0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A6F7-F4C2-40C2-A25E-B66FF05C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0E1F-A556-49C4-97C2-D6A9BC5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EC18-882B-4B56-977E-B8785BDE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C6C-CA9D-47BB-B66E-9F91E041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6D27-247F-4F2C-91A2-576C5EC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7C86-CA70-4E9C-BDE7-2BCFE98B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F5CCB-1F21-48E3-9DBE-56760490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3F930-5D45-4C8B-99C9-2F62542F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6FD39-E16C-412F-9B17-7B6FB48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6BD05-B1B9-4C53-88D6-FE88768F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F3E0-A930-480E-A558-CD237E4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5C0C-8900-4F9C-8351-7FEE061A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E740F-20AF-4017-AE4C-B2FA419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DD3A-6643-47D9-BDC6-DD333A01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FCF-6011-47F9-92C5-0ECB9182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F7D8-51A1-4EFA-8726-F025570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7B1E0-E059-4157-857F-6362506D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1EF3-D8A1-40EC-A1F5-3C39D682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0455-017F-41AC-978D-A7A0D3A6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ACC8-B450-4D65-BA36-B275D77C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8A0-C396-4F6A-9117-7318FC95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FA9-A91B-4D93-9A48-800E6D53B5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695-16CC-4FD3-BA08-32F0378333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83EE-416B-4C03-A4BA-2FDDFF046E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393-935D-4CA9-96ED-A77DDC2FF7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2B9F-59C0-408A-B377-FFCF89172B0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2B2-590E-4752-8385-1DB3CACD59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7DA-E278-46E1-BD5C-492D596D049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26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image" Target="../media/image16.png"/><Relationship Id="rId11" Type="http://schemas.openxmlformats.org/officeDocument/2006/relationships/image" Target="../media/image27.png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41.wmf"/><Relationship Id="rId13" Type="http://schemas.openxmlformats.org/officeDocument/2006/relationships/image" Target="../media/image42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43.wmf"/><Relationship Id="rId16" Type="http://schemas.openxmlformats.org/officeDocument/2006/relationships/image" Target="../media/image44.jpe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5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8.wm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i jedini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izi</a:t>
            </a: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ke </a:t>
            </a: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velič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455" name="Object 7"/>
          <p:cNvGraphicFramePr/>
          <p:nvPr/>
        </p:nvGraphicFramePr>
        <p:xfrm>
          <a:off x="2584440" y="3193920"/>
          <a:ext cx="22208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193920"/>
                    <a:ext cx="2220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 Box 12"/>
          <p:cNvSpPr/>
          <p:nvPr/>
        </p:nvSpPr>
        <p:spPr>
          <a:xfrm>
            <a:off x="2386800" y="5119560"/>
            <a:ext cx="21909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rednja vrednost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6449760" y="3673440"/>
            <a:ext cx="2224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psolut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 flipH="1" flipV="1">
            <a:off x="3455640" y="3596760"/>
            <a:ext cx="3240" cy="15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Object 1"/>
          <p:cNvGraphicFramePr/>
          <p:nvPr/>
        </p:nvGraphicFramePr>
        <p:xfrm>
          <a:off x="2641680" y="2509920"/>
          <a:ext cx="1876320" cy="40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2509920"/>
                    <a:ext cx="187632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62" name="Elbow Connector 4"/>
          <p:cNvCxnSpPr>
            <a:endCxn id="458" idx="1"/>
          </p:cNvCxnSpPr>
          <p:nvPr/>
        </p:nvCxnSpPr>
        <p:spPr>
          <a:xfrm>
            <a:off x="4114800" y="3600360"/>
            <a:ext cx="2326320" cy="4896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63" name="Object 7"/>
          <p:cNvGraphicFramePr/>
          <p:nvPr/>
        </p:nvGraphicFramePr>
        <p:xfrm>
          <a:off x="4718160" y="5362560"/>
          <a:ext cx="1301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8160" y="5362560"/>
                    <a:ext cx="1301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7"/>
          <p:cNvGraphicFramePr/>
          <p:nvPr/>
        </p:nvGraphicFramePr>
        <p:xfrm>
          <a:off x="6730920" y="4572000"/>
          <a:ext cx="1494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30920" y="4572000"/>
                    <a:ext cx="1494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040" y="2287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nije merenje (NE PRECIZNIJ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69" name="Object 3"/>
          <p:cNvGraphicFramePr/>
          <p:nvPr/>
        </p:nvGraphicFramePr>
        <p:xfrm>
          <a:off x="2413080" y="5662440"/>
          <a:ext cx="13968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5662440"/>
                    <a:ext cx="1396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Object 11"/>
          <p:cNvGraphicFramePr/>
          <p:nvPr/>
        </p:nvGraphicFramePr>
        <p:xfrm>
          <a:off x="6178680" y="5624640"/>
          <a:ext cx="18288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8680" y="5624640"/>
                    <a:ext cx="18288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Group 2"/>
          <p:cNvGrpSpPr/>
          <p:nvPr/>
        </p:nvGrpSpPr>
        <p:grpSpPr>
          <a:xfrm>
            <a:off x="1219320" y="3608280"/>
            <a:ext cx="3429000" cy="1981440"/>
            <a:chOff x="1219320" y="3608280"/>
            <a:chExt cx="3429000" cy="1981440"/>
          </a:xfrm>
        </p:grpSpPr>
        <p:sp>
          <p:nvSpPr>
            <p:cNvPr id="474" name="Rectangle 4"/>
            <p:cNvSpPr/>
            <p:nvPr/>
          </p:nvSpPr>
          <p:spPr>
            <a:xfrm>
              <a:off x="3772080" y="4189320"/>
              <a:ext cx="29196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5"/>
            <p:cNvSpPr/>
            <p:nvPr/>
          </p:nvSpPr>
          <p:spPr>
            <a:xfrm>
              <a:off x="3772080" y="3898800"/>
              <a:ext cx="29196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Rectangle 6"/>
            <p:cNvGrpSpPr/>
            <p:nvPr/>
          </p:nvGrpSpPr>
          <p:grpSpPr>
            <a:xfrm>
              <a:off x="1219320" y="4578840"/>
              <a:ext cx="1454400" cy="354240"/>
              <a:chOff x="1219320" y="4578840"/>
              <a:chExt cx="1454400" cy="354240"/>
            </a:xfrm>
          </p:grpSpPr>
          <p:pic>
            <p:nvPicPr>
              <p:cNvPr id="477" name="Rectangl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1219320" y="4578840"/>
                <a:ext cx="145440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289160" y="4624920"/>
                <a:ext cx="131436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Rectangle 7"/>
            <p:cNvGrpSpPr/>
            <p:nvPr/>
          </p:nvGrpSpPr>
          <p:grpSpPr>
            <a:xfrm>
              <a:off x="3193920" y="4433760"/>
              <a:ext cx="1454400" cy="354240"/>
              <a:chOff x="3193920" y="4433760"/>
              <a:chExt cx="1454400" cy="354240"/>
            </a:xfrm>
          </p:grpSpPr>
          <p:pic>
            <p:nvPicPr>
              <p:cNvPr id="480" name="Rectangl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3193920" y="4433760"/>
                <a:ext cx="145440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3260880" y="4479840"/>
                <a:ext cx="1314360" cy="2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2" name="Elbow Connector 8" descr=""/>
            <p:cNvPicPr/>
            <p:nvPr/>
          </p:nvPicPr>
          <p:blipFill>
            <a:blip r:embed="rId7"/>
            <a:stretch/>
          </p:blipFill>
          <p:spPr>
            <a:xfrm>
              <a:off x="1879200" y="4654440"/>
              <a:ext cx="2108880" cy="49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Oval 9"/>
            <p:cNvGrpSpPr/>
            <p:nvPr/>
          </p:nvGrpSpPr>
          <p:grpSpPr>
            <a:xfrm>
              <a:off x="2679840" y="5014800"/>
              <a:ext cx="578160" cy="574920"/>
              <a:chOff x="2679840" y="5014800"/>
              <a:chExt cx="578160" cy="574920"/>
            </a:xfrm>
          </p:grpSpPr>
          <p:pic>
            <p:nvPicPr>
              <p:cNvPr id="484" name="Oval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9840" y="5014800"/>
                <a:ext cx="57816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2814120" y="5124600"/>
                <a:ext cx="309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Oval 10"/>
            <p:cNvSpPr/>
            <p:nvPr/>
          </p:nvSpPr>
          <p:spPr>
            <a:xfrm>
              <a:off x="1508400" y="3753360"/>
              <a:ext cx="864000" cy="87156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20"/>
            <p:cNvSpPr/>
            <p:nvPr/>
          </p:nvSpPr>
          <p:spPr>
            <a:xfrm>
              <a:off x="3772080" y="375336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3918240" y="375336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3772080" y="3608280"/>
              <a:ext cx="145800" cy="145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"/>
          <p:cNvGrpSpPr/>
          <p:nvPr/>
        </p:nvGrpSpPr>
        <p:grpSpPr>
          <a:xfrm>
            <a:off x="5334120" y="3382920"/>
            <a:ext cx="3429000" cy="2133720"/>
            <a:chOff x="5334120" y="3382920"/>
            <a:chExt cx="3429000" cy="2133720"/>
          </a:xfrm>
        </p:grpSpPr>
        <p:sp>
          <p:nvSpPr>
            <p:cNvPr id="491" name="Rectangle 12"/>
            <p:cNvSpPr/>
            <p:nvPr/>
          </p:nvSpPr>
          <p:spPr>
            <a:xfrm>
              <a:off x="7886880" y="42573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7886880" y="39657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7886880" y="3674160"/>
              <a:ext cx="291960" cy="29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Rectangle 15"/>
            <p:cNvGrpSpPr/>
            <p:nvPr/>
          </p:nvGrpSpPr>
          <p:grpSpPr>
            <a:xfrm>
              <a:off x="5334120" y="4426560"/>
              <a:ext cx="1454400" cy="361440"/>
              <a:chOff x="5334120" y="4426560"/>
              <a:chExt cx="1454400" cy="361440"/>
            </a:xfrm>
          </p:grpSpPr>
          <p:pic>
            <p:nvPicPr>
              <p:cNvPr id="495" name="Rectangl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426560"/>
                <a:ext cx="1454400" cy="36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5403960" y="4475520"/>
                <a:ext cx="131436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Rectangle 16"/>
            <p:cNvGrpSpPr/>
            <p:nvPr/>
          </p:nvGrpSpPr>
          <p:grpSpPr>
            <a:xfrm>
              <a:off x="7308720" y="4502520"/>
              <a:ext cx="1454400" cy="355320"/>
              <a:chOff x="7308720" y="4502520"/>
              <a:chExt cx="1454400" cy="355320"/>
            </a:xfrm>
          </p:grpSpPr>
          <p:pic>
            <p:nvPicPr>
              <p:cNvPr id="498" name="Rectangl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8720" y="4502520"/>
                <a:ext cx="14544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7375680" y="4548600"/>
                <a:ext cx="1314360" cy="2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0" name="Elbow Connector 17" descr=""/>
            <p:cNvPicPr/>
            <p:nvPr/>
          </p:nvPicPr>
          <p:blipFill>
            <a:blip r:embed="rId11"/>
            <a:stretch/>
          </p:blipFill>
          <p:spPr>
            <a:xfrm>
              <a:off x="5994000" y="4654080"/>
              <a:ext cx="2108880" cy="42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Oval 18"/>
            <p:cNvGrpSpPr/>
            <p:nvPr/>
          </p:nvGrpSpPr>
          <p:grpSpPr>
            <a:xfrm>
              <a:off x="6794640" y="4939560"/>
              <a:ext cx="578160" cy="577080"/>
              <a:chOff x="6794640" y="4939560"/>
              <a:chExt cx="578160" cy="577080"/>
            </a:xfrm>
          </p:grpSpPr>
          <p:pic>
            <p:nvPicPr>
              <p:cNvPr id="502" name="Oval 18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94640" y="4939560"/>
                <a:ext cx="57816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6928920" y="5049720"/>
                <a:ext cx="30960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Oval 19"/>
            <p:cNvSpPr/>
            <p:nvPr/>
          </p:nvSpPr>
          <p:spPr>
            <a:xfrm>
              <a:off x="5623200" y="3601440"/>
              <a:ext cx="864000" cy="87444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3"/>
            <p:cNvSpPr/>
            <p:nvPr/>
          </p:nvSpPr>
          <p:spPr>
            <a:xfrm>
              <a:off x="7886880" y="352836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4"/>
            <p:cNvSpPr/>
            <p:nvPr/>
          </p:nvSpPr>
          <p:spPr>
            <a:xfrm>
              <a:off x="8033040" y="352836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5"/>
            <p:cNvSpPr/>
            <p:nvPr/>
          </p:nvSpPr>
          <p:spPr>
            <a:xfrm>
              <a:off x="7886880" y="338292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6"/>
            <p:cNvSpPr/>
            <p:nvPr/>
          </p:nvSpPr>
          <p:spPr>
            <a:xfrm>
              <a:off x="8033040" y="3382920"/>
              <a:ext cx="145800" cy="145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9" name="Object 7"/>
          <p:cNvGraphicFramePr/>
          <p:nvPr/>
        </p:nvGraphicFramePr>
        <p:xfrm>
          <a:off x="3963960" y="6375240"/>
          <a:ext cx="219384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3960" y="6375240"/>
                    <a:ext cx="219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3886200" y="5923080"/>
          <a:ext cx="2386080" cy="40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5923080"/>
                    <a:ext cx="238608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8240" y="2286000"/>
            <a:ext cx="82994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Tačnije merenje (NE PRECIZNIJ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I tego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Manja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1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200 g = 0,2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spcAft>
                <a:spcPts val="2401"/>
              </a:spcAft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ajmanji teg 100 g = 0,1 k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Apsolutna greška merenja mase je polovina mase najmanjeg teg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Broj decimala u rezultatu merenja određuje apsolutna greš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15" name="Object 7"/>
          <p:cNvGraphicFramePr/>
          <p:nvPr/>
        </p:nvGraphicFramePr>
        <p:xfrm>
          <a:off x="7093080" y="3954600"/>
          <a:ext cx="180000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954600"/>
                    <a:ext cx="18000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28"/>
          <p:cNvGraphicFramePr/>
          <p:nvPr/>
        </p:nvGraphicFramePr>
        <p:xfrm>
          <a:off x="4873680" y="3954600"/>
          <a:ext cx="19778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3680" y="3954600"/>
                    <a:ext cx="1977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7"/>
          <p:cNvGraphicFramePr/>
          <p:nvPr/>
        </p:nvGraphicFramePr>
        <p:xfrm>
          <a:off x="7093080" y="3573360"/>
          <a:ext cx="182232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3573360"/>
                    <a:ext cx="18223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32"/>
          <p:cNvGraphicFramePr/>
          <p:nvPr/>
        </p:nvGraphicFramePr>
        <p:xfrm>
          <a:off x="5084640" y="3573360"/>
          <a:ext cx="155592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84640" y="3573360"/>
                    <a:ext cx="15559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7"/>
          <p:cNvGraphicFramePr/>
          <p:nvPr/>
        </p:nvGraphicFramePr>
        <p:xfrm>
          <a:off x="7091280" y="4307040"/>
          <a:ext cx="208908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91280" y="4307040"/>
                    <a:ext cx="20890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34"/>
          <p:cNvGraphicFramePr/>
          <p:nvPr/>
        </p:nvGraphicFramePr>
        <p:xfrm>
          <a:off x="4902120" y="4307040"/>
          <a:ext cx="19782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2120" y="4307040"/>
                    <a:ext cx="1978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"/>
          <p:cNvPicPr/>
          <p:nvPr/>
        </p:nvPicPr>
        <p:blipFill>
          <a:blip r:embed="rId1"/>
          <a:srcRect l="0" t="38096" r="0" b="0"/>
          <a:stretch/>
        </p:blipFill>
        <p:spPr>
          <a:xfrm>
            <a:off x="1476360" y="3409920"/>
            <a:ext cx="3600360" cy="743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 Mernih instrumen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2"/>
          <a:srcRect l="0" t="25434" r="0" b="0"/>
          <a:stretch/>
        </p:blipFill>
        <p:spPr>
          <a:xfrm>
            <a:off x="1476360" y="2114640"/>
            <a:ext cx="3600360" cy="89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7"/>
          <p:cNvGraphicFramePr/>
          <p:nvPr/>
        </p:nvGraphicFramePr>
        <p:xfrm>
          <a:off x="2523960" y="2851200"/>
          <a:ext cx="12002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2851200"/>
                    <a:ext cx="1200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Object 7"/>
          <p:cNvGraphicFramePr/>
          <p:nvPr/>
        </p:nvGraphicFramePr>
        <p:xfrm>
          <a:off x="2158920" y="3943440"/>
          <a:ext cx="22892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8920" y="3943440"/>
                    <a:ext cx="2289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4" name="Picture 5" descr=""/>
          <p:cNvPicPr/>
          <p:nvPr/>
        </p:nvPicPr>
        <p:blipFill>
          <a:blip r:embed="rId7"/>
          <a:stretch/>
        </p:blipFill>
        <p:spPr>
          <a:xfrm>
            <a:off x="5667480" y="1886040"/>
            <a:ext cx="1042920" cy="2508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"/>
          <p:cNvPicPr/>
          <p:nvPr/>
        </p:nvPicPr>
        <p:blipFill>
          <a:blip r:embed="rId8"/>
          <a:stretch/>
        </p:blipFill>
        <p:spPr>
          <a:xfrm>
            <a:off x="7234200" y="1886040"/>
            <a:ext cx="1042920" cy="25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7"/>
          <p:cNvGraphicFramePr/>
          <p:nvPr/>
        </p:nvGraphicFramePr>
        <p:xfrm>
          <a:off x="5905440" y="4422600"/>
          <a:ext cx="10224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05440" y="4422600"/>
                    <a:ext cx="1022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7"/>
          <p:cNvGraphicFramePr/>
          <p:nvPr/>
        </p:nvGraphicFramePr>
        <p:xfrm>
          <a:off x="7419960" y="4400640"/>
          <a:ext cx="1000080" cy="37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19960" y="4400640"/>
                    <a:ext cx="100008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0" name="Picture 13" descr="Image result for pressure gauge"/>
          <p:cNvPicPr/>
          <p:nvPr/>
        </p:nvPicPr>
        <p:blipFill>
          <a:blip r:embed="rId13"/>
          <a:stretch/>
        </p:blipFill>
        <p:spPr>
          <a:xfrm>
            <a:off x="2473200" y="4422600"/>
            <a:ext cx="1670040" cy="21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7"/>
          <p:cNvGraphicFramePr/>
          <p:nvPr/>
        </p:nvGraphicFramePr>
        <p:xfrm>
          <a:off x="2658960" y="6624720"/>
          <a:ext cx="1289160" cy="333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42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658960" y="6624720"/>
                    <a:ext cx="12891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17" descr="Image result for digital thermometer"/>
          <p:cNvPicPr/>
          <p:nvPr/>
        </p:nvPicPr>
        <p:blipFill>
          <a:blip r:embed="rId16"/>
          <a:stretch/>
        </p:blipFill>
        <p:spPr>
          <a:xfrm>
            <a:off x="6026040" y="4933800"/>
            <a:ext cx="2968560" cy="166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7"/>
          <p:cNvGraphicFramePr/>
          <p:nvPr/>
        </p:nvGraphicFramePr>
        <p:xfrm>
          <a:off x="6908760" y="6502320"/>
          <a:ext cx="1355760" cy="37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08760" y="6502320"/>
                    <a:ext cx="135576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Apsolutna greška 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800" y="2484000"/>
            <a:ext cx="8299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Apsolutna greš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Ima istu jedinicu kao i merena veliči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Je jednaka polovini najmanjeg mernog podeljka mernog instrumen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avisi od instrumen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3600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Manja greška merenja se dobija boljim instrument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RELATIVNA GREŠ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49" name="Object 4"/>
          <p:cNvGraphicFramePr/>
          <p:nvPr/>
        </p:nvGraphicFramePr>
        <p:xfrm>
          <a:off x="1647720" y="3168720"/>
          <a:ext cx="19051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3168720"/>
                    <a:ext cx="1905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Rectangle 3"/>
          <p:cNvSpPr/>
          <p:nvPr/>
        </p:nvSpPr>
        <p:spPr>
          <a:xfrm>
            <a:off x="900000" y="2421000"/>
            <a:ext cx="8001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983600" y="4365720"/>
            <a:ext cx="2124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lativna greš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Object 14"/>
          <p:cNvGraphicFramePr/>
          <p:nvPr/>
        </p:nvGraphicFramePr>
        <p:xfrm>
          <a:off x="1801800" y="5483160"/>
          <a:ext cx="17780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1800" y="5483160"/>
                    <a:ext cx="1778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7"/>
          <p:cNvGraphicFramePr/>
          <p:nvPr/>
        </p:nvGraphicFramePr>
        <p:xfrm>
          <a:off x="1803240" y="3581280"/>
          <a:ext cx="127008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324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4"/>
          <p:cNvGraphicFramePr/>
          <p:nvPr/>
        </p:nvGraphicFramePr>
        <p:xfrm>
          <a:off x="4915080" y="3147840"/>
          <a:ext cx="246348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15080" y="3147840"/>
                    <a:ext cx="24634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7"/>
          <p:cNvGraphicFramePr/>
          <p:nvPr/>
        </p:nvGraphicFramePr>
        <p:xfrm>
          <a:off x="5464080" y="3581280"/>
          <a:ext cx="1270080" cy="38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64080" y="3581280"/>
                    <a:ext cx="12700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4613400" y="5483160"/>
          <a:ext cx="297180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13400" y="5483160"/>
                    <a:ext cx="29718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14"/>
          <p:cNvGraphicFramePr/>
          <p:nvPr/>
        </p:nvGraphicFramePr>
        <p:xfrm>
          <a:off x="4775040" y="4213080"/>
          <a:ext cx="939960" cy="73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75040" y="4213080"/>
                    <a:ext cx="939960" cy="736920"/>
                  </a:xfrm>
                  <a:prstGeom prst="rect">
                    <a:avLst/>
                  </a:prstGeom>
                  <a:ln w="28440">
                    <a:solidFill>
                      <a:srgbClr val="00206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83757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RELATIVNA GREŠKA 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143000" y="2276280"/>
            <a:ext cx="67816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Relativna greš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Nikad nema jedinicu!!! (Bezdimenziona veličin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5720" indent="-45720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avisi od mernog meto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3600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Manja greška merenja se dobija boljim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tod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Gill Sans MT"/>
              </a:rPr>
              <a:t>Bolje merenje = skuplje mere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69" name="Object 12"/>
          <p:cNvGraphicFramePr/>
          <p:nvPr/>
        </p:nvGraphicFramePr>
        <p:xfrm>
          <a:off x="3174840" y="2332080"/>
          <a:ext cx="238788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2332080"/>
                    <a:ext cx="23878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12"/>
          <p:cNvGraphicFramePr/>
          <p:nvPr/>
        </p:nvGraphicFramePr>
        <p:xfrm>
          <a:off x="5562720" y="3029040"/>
          <a:ext cx="26924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029040"/>
                    <a:ext cx="2692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12"/>
          <p:cNvGraphicFramePr/>
          <p:nvPr/>
        </p:nvGraphicFramePr>
        <p:xfrm>
          <a:off x="1155600" y="3029040"/>
          <a:ext cx="28195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5600" y="3029040"/>
                    <a:ext cx="28195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12"/>
          <p:cNvGraphicFramePr/>
          <p:nvPr/>
        </p:nvGraphicFramePr>
        <p:xfrm>
          <a:off x="2921040" y="3573360"/>
          <a:ext cx="347976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1040" y="3573360"/>
                    <a:ext cx="34797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12"/>
          <p:cNvGraphicFramePr/>
          <p:nvPr/>
        </p:nvGraphicFramePr>
        <p:xfrm>
          <a:off x="2914560" y="4246560"/>
          <a:ext cx="345456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4560" y="4246560"/>
                    <a:ext cx="34545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12"/>
          <p:cNvGraphicFramePr/>
          <p:nvPr/>
        </p:nvGraphicFramePr>
        <p:xfrm>
          <a:off x="3530520" y="5013360"/>
          <a:ext cx="22860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0520" y="5013360"/>
                    <a:ext cx="2286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12"/>
          <p:cNvGraphicFramePr/>
          <p:nvPr/>
        </p:nvGraphicFramePr>
        <p:xfrm>
          <a:off x="1282680" y="6137280"/>
          <a:ext cx="3276720" cy="482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82680" y="6137280"/>
                    <a:ext cx="32767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2"/>
          <p:cNvGraphicFramePr/>
          <p:nvPr/>
        </p:nvGraphicFramePr>
        <p:xfrm>
          <a:off x="3619440" y="5516640"/>
          <a:ext cx="2057400" cy="50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19440" y="5516640"/>
                    <a:ext cx="2057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12"/>
          <p:cNvGraphicFramePr/>
          <p:nvPr/>
        </p:nvGraphicFramePr>
        <p:xfrm>
          <a:off x="5029200" y="6172200"/>
          <a:ext cx="365760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6172200"/>
                    <a:ext cx="36576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10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zbir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47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razlike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89" name="Object 12"/>
          <p:cNvGraphicFramePr/>
          <p:nvPr/>
        </p:nvGraphicFramePr>
        <p:xfrm>
          <a:off x="2793960" y="2819520"/>
          <a:ext cx="314964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960" y="281952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2"/>
          <p:cNvGraphicFramePr/>
          <p:nvPr/>
        </p:nvGraphicFramePr>
        <p:xfrm>
          <a:off x="2793960" y="3429000"/>
          <a:ext cx="33019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960" y="3429000"/>
                    <a:ext cx="33019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2"/>
          <p:cNvGraphicFramePr/>
          <p:nvPr/>
        </p:nvGraphicFramePr>
        <p:xfrm>
          <a:off x="2882880" y="4952880"/>
          <a:ext cx="31240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2880" y="4952880"/>
                    <a:ext cx="3124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Greška Indirektnih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101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proizvod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47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Greška izračunavanja količnika dve merene velič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97" name="Object 12"/>
          <p:cNvGraphicFramePr/>
          <p:nvPr/>
        </p:nvGraphicFramePr>
        <p:xfrm>
          <a:off x="2844720" y="2895480"/>
          <a:ext cx="30481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720" y="2895480"/>
                    <a:ext cx="30481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12"/>
          <p:cNvGraphicFramePr/>
          <p:nvPr/>
        </p:nvGraphicFramePr>
        <p:xfrm>
          <a:off x="2870280" y="3429000"/>
          <a:ext cx="31496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34290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12"/>
          <p:cNvGraphicFramePr/>
          <p:nvPr/>
        </p:nvGraphicFramePr>
        <p:xfrm>
          <a:off x="3048120" y="5470560"/>
          <a:ext cx="279396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5470560"/>
                    <a:ext cx="2793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kazivanje svojstava materije bro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a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aelektrisan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Jačina pol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Potencij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124080" y="2590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izičke velič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4"/>
          <p:cNvSpPr/>
          <p:nvPr/>
        </p:nvSpPr>
        <p:spPr>
          <a:xfrm>
            <a:off x="3198960" y="2440080"/>
            <a:ext cx="2363760" cy="836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 flipH="1">
            <a:off x="2666520" y="3276720"/>
            <a:ext cx="1676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990720" y="3962520"/>
            <a:ext cx="3657600" cy="1291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ka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jednim bro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5105520" y="3897360"/>
            <a:ext cx="3657600" cy="141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Ve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pisuju se sa više broje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343400" y="3276720"/>
            <a:ext cx="25909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91404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irod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nzitet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pozitiva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a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990680" y="2514600"/>
            <a:ext cx="3924360" cy="3733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Koordinat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avougaone (Dekartov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6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lar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na pravc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2462040" y="242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9"/>
          <p:cNvSpPr/>
          <p:nvPr/>
        </p:nvSpPr>
        <p:spPr>
          <a:xfrm flipH="1">
            <a:off x="5586480" y="3720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0"/>
          <p:cNvSpPr/>
          <p:nvPr/>
        </p:nvSpPr>
        <p:spPr>
          <a:xfrm>
            <a:off x="2386080" y="3187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1"/>
          <p:cNvSpPr/>
          <p:nvPr/>
        </p:nvSpPr>
        <p:spPr>
          <a:xfrm>
            <a:off x="246204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2"/>
          <p:cNvSpPr/>
          <p:nvPr/>
        </p:nvSpPr>
        <p:spPr>
          <a:xfrm>
            <a:off x="3757680" y="3111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23"/>
              <p:cNvSpPr txBox="1"/>
              <p:nvPr/>
            </p:nvSpPr>
            <p:spPr>
              <a:xfrm>
                <a:off x="3224160" y="234936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0" name="Line 24"/>
          <p:cNvSpPr/>
          <p:nvPr/>
        </p:nvSpPr>
        <p:spPr>
          <a:xfrm>
            <a:off x="4367160" y="242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5"/>
          <p:cNvSpPr/>
          <p:nvPr/>
        </p:nvSpPr>
        <p:spPr>
          <a:xfrm flipV="1">
            <a:off x="55864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6"/>
          <p:cNvSpPr/>
          <p:nvPr/>
        </p:nvSpPr>
        <p:spPr>
          <a:xfrm flipV="1">
            <a:off x="6500880" y="3187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27"/>
              <p:cNvSpPr txBox="1"/>
              <p:nvPr/>
            </p:nvSpPr>
            <p:spPr>
              <a:xfrm>
                <a:off x="5865840" y="3720960"/>
                <a:ext cx="4824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624" name="Object 28"/>
          <p:cNvGraphicFramePr/>
          <p:nvPr/>
        </p:nvGraphicFramePr>
        <p:xfrm>
          <a:off x="1257480" y="4365720"/>
          <a:ext cx="374148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4365720"/>
                    <a:ext cx="374148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26" name="Object 29"/>
              <p:cNvSpPr txBox="1"/>
              <p:nvPr/>
            </p:nvSpPr>
            <p:spPr>
              <a:xfrm>
                <a:off x="7491240" y="2946240"/>
                <a:ext cx="433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7" name="Object 1"/>
          <p:cNvGraphicFramePr/>
          <p:nvPr/>
        </p:nvGraphicFramePr>
        <p:xfrm>
          <a:off x="5418000" y="4486320"/>
          <a:ext cx="3202200" cy="17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8000" y="4486320"/>
                    <a:ext cx="3202200" cy="17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2"/>
          <p:cNvGraphicFramePr/>
          <p:nvPr/>
        </p:nvGraphicFramePr>
        <p:xfrm>
          <a:off x="6227640" y="6237360"/>
          <a:ext cx="91944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6237360"/>
                    <a:ext cx="919440" cy="444600"/>
                  </a:xfrm>
                  <a:prstGeom prst="rect">
                    <a:avLst/>
                  </a:prstGeom>
                  <a:ln w="2844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u ravn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Line 23"/>
          <p:cNvSpPr/>
          <p:nvPr/>
        </p:nvSpPr>
        <p:spPr>
          <a:xfrm flipV="1">
            <a:off x="5105520" y="3962520"/>
            <a:ext cx="1828800" cy="15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5"/>
          <p:cNvSpPr/>
          <p:nvPr/>
        </p:nvSpPr>
        <p:spPr>
          <a:xfrm>
            <a:off x="4876920" y="55278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26"/>
              <p:cNvSpPr txBox="1"/>
              <p:nvPr/>
            </p:nvSpPr>
            <p:spPr>
              <a:xfrm>
                <a:off x="5791320" y="419112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35" name="Line 28"/>
          <p:cNvSpPr/>
          <p:nvPr/>
        </p:nvSpPr>
        <p:spPr>
          <a:xfrm flipV="1">
            <a:off x="5105520" y="3012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9"/>
              <p:cNvSpPr txBox="1"/>
              <p:nvPr/>
            </p:nvSpPr>
            <p:spPr>
              <a:xfrm>
                <a:off x="8585280" y="5562720"/>
                <a:ext cx="253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0"/>
              <p:cNvSpPr txBox="1"/>
              <p:nvPr/>
            </p:nvSpPr>
            <p:spPr>
              <a:xfrm>
                <a:off x="4800600" y="3022560"/>
                <a:ext cx="27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Line 31"/>
          <p:cNvSpPr/>
          <p:nvPr/>
        </p:nvSpPr>
        <p:spPr>
          <a:xfrm>
            <a:off x="6934320" y="3962520"/>
            <a:ext cx="0" cy="156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3"/>
          <p:cNvSpPr/>
          <p:nvPr/>
        </p:nvSpPr>
        <p:spPr>
          <a:xfrm flipH="1">
            <a:off x="510552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Object 36"/>
          <p:cNvGraphicFramePr/>
          <p:nvPr/>
        </p:nvGraphicFramePr>
        <p:xfrm>
          <a:off x="5532480" y="5070600"/>
          <a:ext cx="38736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2480" y="5070600"/>
                    <a:ext cx="387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7"/>
          <p:cNvGraphicFramePr/>
          <p:nvPr/>
        </p:nvGraphicFramePr>
        <p:xfrm>
          <a:off x="1158840" y="3147840"/>
          <a:ext cx="241632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8840" y="3147840"/>
                    <a:ext cx="2416320" cy="2606760"/>
                  </a:xfrm>
                  <a:prstGeom prst="rect">
                    <a:avLst/>
                  </a:prstGeom>
                  <a:ln w="25560">
                    <a:solidFill>
                      <a:srgbClr val="8dc765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4" name="Object 38"/>
              <p:cNvSpPr txBox="1"/>
              <p:nvPr/>
            </p:nvSpPr>
            <p:spPr>
              <a:xfrm>
                <a:off x="6732720" y="556272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9"/>
              <p:cNvSpPr txBox="1"/>
              <p:nvPr/>
            </p:nvSpPr>
            <p:spPr>
              <a:xfrm>
                <a:off x="4792680" y="3716280"/>
                <a:ext cx="355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6" name="Arc 1"/>
          <p:cNvSpPr/>
          <p:nvPr/>
        </p:nvSpPr>
        <p:spPr>
          <a:xfrm>
            <a:off x="4017960" y="4602240"/>
            <a:ext cx="2166840" cy="1873080"/>
          </a:xfrm>
          <a:custGeom>
            <a:avLst/>
            <a:gdLst/>
            <a:ahLst/>
            <a:rect l="l" t="t" r="r" b="b"/>
            <a:pathLst>
              <a:path stroke="0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  <a:lnTo>
                  <a:pt x="1083469" y="936625"/>
                </a:lnTo>
                <a:cubicBezTo>
                  <a:pt x="1083469" y="624417"/>
                  <a:pt x="1083468" y="312208"/>
                  <a:pt x="1083468" y="0"/>
                </a:cubicBezTo>
                <a:close/>
              </a:path>
              <a:path fill="none" w="2166937" h="1873250">
                <a:moveTo>
                  <a:pt x="1083468" y="0"/>
                </a:moveTo>
                <a:cubicBezTo>
                  <a:pt x="1681851" y="0"/>
                  <a:pt x="2166937" y="419341"/>
                  <a:pt x="2166937" y="9366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7" name="Object 2"/>
          <p:cNvGraphicFramePr/>
          <p:nvPr/>
        </p:nvGraphicFramePr>
        <p:xfrm>
          <a:off x="5192640" y="4711680"/>
          <a:ext cx="3873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92640" y="4711680"/>
                    <a:ext cx="3873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 u ravn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0" name="Line 16"/>
          <p:cNvSpPr/>
          <p:nvPr/>
        </p:nvSpPr>
        <p:spPr>
          <a:xfrm flipV="1">
            <a:off x="5257800" y="441936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7"/>
          <p:cNvSpPr/>
          <p:nvPr/>
        </p:nvSpPr>
        <p:spPr>
          <a:xfrm flipH="1">
            <a:off x="7086600" y="32004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8"/>
          <p:cNvSpPr/>
          <p:nvPr/>
        </p:nvSpPr>
        <p:spPr>
          <a:xfrm>
            <a:off x="5029200" y="5029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6119640" y="4495680"/>
                <a:ext cx="433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0"/>
              <p:cNvSpPr txBox="1"/>
              <p:nvPr/>
            </p:nvSpPr>
            <p:spPr>
              <a:xfrm>
                <a:off x="7086600" y="3505320"/>
                <a:ext cx="4827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55" name="Line 21"/>
          <p:cNvSpPr/>
          <p:nvPr/>
        </p:nvSpPr>
        <p:spPr>
          <a:xfrm flipV="1">
            <a:off x="5257800" y="25142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2"/>
              <p:cNvSpPr txBox="1"/>
              <p:nvPr/>
            </p:nvSpPr>
            <p:spPr>
              <a:xfrm>
                <a:off x="8686800" y="5105520"/>
                <a:ext cx="433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3"/>
              <p:cNvSpPr txBox="1"/>
              <p:nvPr/>
            </p:nvSpPr>
            <p:spPr>
              <a:xfrm>
                <a:off x="4700520" y="2514600"/>
                <a:ext cx="482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Line 24"/>
          <p:cNvSpPr/>
          <p:nvPr/>
        </p:nvSpPr>
        <p:spPr>
          <a:xfrm>
            <a:off x="708660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5"/>
          <p:cNvSpPr/>
          <p:nvPr/>
        </p:nvSpPr>
        <p:spPr>
          <a:xfrm>
            <a:off x="754380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6"/>
          <p:cNvSpPr/>
          <p:nvPr/>
        </p:nvSpPr>
        <p:spPr>
          <a:xfrm flipH="1">
            <a:off x="525780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7"/>
          <p:cNvSpPr/>
          <p:nvPr/>
        </p:nvSpPr>
        <p:spPr>
          <a:xfrm flipH="1">
            <a:off x="525780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30"/>
              <p:cNvSpPr txBox="1"/>
              <p:nvPr/>
            </p:nvSpPr>
            <p:spPr>
              <a:xfrm>
                <a:off x="1084320" y="4402080"/>
                <a:ext cx="50115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,1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,2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↔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,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3" name="Line 31"/>
          <p:cNvSpPr/>
          <p:nvPr/>
        </p:nvSpPr>
        <p:spPr>
          <a:xfrm flipV="1">
            <a:off x="5257800" y="3200400"/>
            <a:ext cx="22860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32"/>
              <p:cNvSpPr txBox="1"/>
              <p:nvPr/>
            </p:nvSpPr>
            <p:spPr>
              <a:xfrm>
                <a:off x="5492880" y="3375000"/>
                <a:ext cx="12128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ktori</a:t>
            </a: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 u prostor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Line 7"/>
          <p:cNvSpPr/>
          <p:nvPr/>
        </p:nvSpPr>
        <p:spPr>
          <a:xfrm flipV="1">
            <a:off x="3200400" y="3328560"/>
            <a:ext cx="6094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1523880" y="4471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9"/>
              <p:cNvSpPr txBox="1"/>
              <p:nvPr/>
            </p:nvSpPr>
            <p:spPr>
              <a:xfrm>
                <a:off x="3429000" y="3633840"/>
                <a:ext cx="433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9" name="Line 10"/>
          <p:cNvSpPr/>
          <p:nvPr/>
        </p:nvSpPr>
        <p:spPr>
          <a:xfrm flipV="1">
            <a:off x="3200400" y="21096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11"/>
              <p:cNvSpPr txBox="1"/>
              <p:nvPr/>
            </p:nvSpPr>
            <p:spPr>
              <a:xfrm>
                <a:off x="5105520" y="4440240"/>
                <a:ext cx="482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Line 12"/>
          <p:cNvSpPr/>
          <p:nvPr/>
        </p:nvSpPr>
        <p:spPr>
          <a:xfrm flipH="1">
            <a:off x="1219320" y="4319640"/>
            <a:ext cx="22096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3"/>
          <p:cNvSpPr/>
          <p:nvPr/>
        </p:nvSpPr>
        <p:spPr>
          <a:xfrm>
            <a:off x="3809880" y="3328920"/>
            <a:ext cx="0" cy="2133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 flipV="1">
            <a:off x="3809880" y="4471920"/>
            <a:ext cx="990720" cy="990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5"/>
          <p:cNvSpPr/>
          <p:nvPr/>
        </p:nvSpPr>
        <p:spPr>
          <a:xfrm flipH="1">
            <a:off x="1904760" y="5462640"/>
            <a:ext cx="1904760" cy="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6"/>
          <p:cNvSpPr/>
          <p:nvPr/>
        </p:nvSpPr>
        <p:spPr>
          <a:xfrm>
            <a:off x="3200400" y="4471920"/>
            <a:ext cx="609480" cy="99072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7"/>
          <p:cNvSpPr/>
          <p:nvPr/>
        </p:nvSpPr>
        <p:spPr>
          <a:xfrm flipH="1" flipV="1">
            <a:off x="3200040" y="2490840"/>
            <a:ext cx="609480" cy="914400"/>
          </a:xfrm>
          <a:prstGeom prst="line">
            <a:avLst/>
          </a:prstGeom>
          <a:ln w="9360">
            <a:solidFill>
              <a:srgbClr val="8dc76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8"/>
          <p:cNvSpPr/>
          <p:nvPr/>
        </p:nvSpPr>
        <p:spPr>
          <a:xfrm flipV="1">
            <a:off x="3200400" y="2490480"/>
            <a:ext cx="0" cy="198108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9"/>
          <p:cNvSpPr/>
          <p:nvPr/>
        </p:nvSpPr>
        <p:spPr>
          <a:xfrm flipH="1">
            <a:off x="1905120" y="4471920"/>
            <a:ext cx="1295280" cy="99072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0"/>
          <p:cNvSpPr/>
          <p:nvPr/>
        </p:nvSpPr>
        <p:spPr>
          <a:xfrm>
            <a:off x="3200400" y="4471920"/>
            <a:ext cx="1600200" cy="0"/>
          </a:xfrm>
          <a:prstGeom prst="line">
            <a:avLst/>
          </a:prstGeom>
          <a:ln w="2844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1"/>
              <p:cNvSpPr txBox="1"/>
              <p:nvPr/>
            </p:nvSpPr>
            <p:spPr>
              <a:xfrm>
                <a:off x="2362320" y="4595760"/>
                <a:ext cx="6094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2"/>
              <p:cNvSpPr txBox="1"/>
              <p:nvPr/>
            </p:nvSpPr>
            <p:spPr>
              <a:xfrm>
                <a:off x="3733920" y="4043520"/>
                <a:ext cx="6094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3"/>
              <p:cNvSpPr txBox="1"/>
              <p:nvPr/>
            </p:nvSpPr>
            <p:spPr>
              <a:xfrm>
                <a:off x="2992320" y="3068640"/>
                <a:ext cx="567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4"/>
              <p:cNvSpPr txBox="1"/>
              <p:nvPr/>
            </p:nvSpPr>
            <p:spPr>
              <a:xfrm>
                <a:off x="3276720" y="205740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5"/>
              <p:cNvSpPr txBox="1"/>
              <p:nvPr/>
            </p:nvSpPr>
            <p:spPr>
              <a:xfrm>
                <a:off x="5445000" y="2414520"/>
                <a:ext cx="32418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6"/>
              <p:cNvSpPr txBox="1"/>
              <p:nvPr/>
            </p:nvSpPr>
            <p:spPr>
              <a:xfrm>
                <a:off x="1371600" y="5767560"/>
                <a:ext cx="433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ože da iskaže brojem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Možemo da pojmimo manje i veće </a:t>
            </a:r>
            <a:r>
              <a:rPr b="0" lang="hr-H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može da se mer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Prikaz fizičke veličine: </a:t>
            </a: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BROJ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 i </a:t>
            </a:r>
            <a:r>
              <a:rPr b="1" lang="hr-HR" sz="2200" spc="-1" strike="noStrike">
                <a:solidFill>
                  <a:srgbClr val="000000"/>
                </a:solidFill>
                <a:latin typeface="Gill Sans MT"/>
              </a:rPr>
              <a:t>JEDIN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209680" y="403848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 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 m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"/>
          <p:cNvSpPr/>
          <p:nvPr/>
        </p:nvSpPr>
        <p:spPr>
          <a:xfrm>
            <a:off x="2057400" y="3962520"/>
            <a:ext cx="2438280" cy="1218960"/>
          </a:xfrm>
          <a:prstGeom prst="ellipse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6172200" y="4876920"/>
            <a:ext cx="2057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v =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6019920" y="4800600"/>
            <a:ext cx="2438280" cy="121932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6019920" y="4724280"/>
            <a:ext cx="251460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 flipV="1">
            <a:off x="6095880" y="4571640"/>
            <a:ext cx="221004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828800" y="5791320"/>
            <a:ext cx="3581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izička veličin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i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b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>
            <a:off x="3429000" y="35053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"/>
          <p:cNvSpPr/>
          <p:nvPr/>
        </p:nvSpPr>
        <p:spPr>
          <a:xfrm flipH="1">
            <a:off x="4114800" y="3581280"/>
            <a:ext cx="1905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23619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 slučaj da niste do sada ukapirali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BROJEVE proučava MATEMATIKA (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edojev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ć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FIZIKA proučava FIZIČKE VELIČINE (Šoškić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676520" y="4114800"/>
            <a:ext cx="6019560" cy="109944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0000"/>
                </a:solidFill>
                <a:latin typeface="Times New Roman"/>
              </a:rPr>
              <a:t>broj I jedini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j se naziva MER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uje se meren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619280" y="3645000"/>
            <a:ext cx="6019920" cy="291096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renje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oređivanja neke fizičke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 njenom jedin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Fizičke velič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14040" y="2361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oj se naziva MERA 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fizičk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eli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ređuje se merenj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619280" y="3645000"/>
            <a:ext cx="6019920" cy="2910960"/>
          </a:xfrm>
          <a:prstGeom prst="rect">
            <a:avLst/>
          </a:prstGeom>
          <a:noFill/>
          <a:ln w="824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erenje 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poređivanja neke fizičke ve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a njenom jedin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0d0d0d"/>
                </a:solidFill>
                <a:latin typeface="Gill Sans MT"/>
              </a:rPr>
              <a:t>MERENJ</a:t>
            </a: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537160" y="3794040"/>
            <a:ext cx="507960" cy="52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5537160" y="3273480"/>
            <a:ext cx="5079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5537160" y="2752560"/>
            <a:ext cx="507960" cy="52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1219320" y="4314960"/>
            <a:ext cx="5715000" cy="1561680"/>
            <a:chOff x="1219320" y="4314960"/>
            <a:chExt cx="5715000" cy="1561680"/>
          </a:xfrm>
        </p:grpSpPr>
        <p:grpSp>
          <p:nvGrpSpPr>
            <p:cNvPr id="354" name="Rectangle 18"/>
            <p:cNvGrpSpPr/>
            <p:nvPr/>
          </p:nvGrpSpPr>
          <p:grpSpPr>
            <a:xfrm>
              <a:off x="1219320" y="4314960"/>
              <a:ext cx="2370240" cy="490680"/>
              <a:chOff x="1219320" y="4314960"/>
              <a:chExt cx="2370240" cy="490680"/>
            </a:xfrm>
          </p:grpSpPr>
          <p:pic>
            <p:nvPicPr>
              <p:cNvPr id="355" name="Rectangle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14960"/>
                <a:ext cx="23702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1290600" y="4358520"/>
                <a:ext cx="222768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Rectangle 19"/>
            <p:cNvGrpSpPr/>
            <p:nvPr/>
          </p:nvGrpSpPr>
          <p:grpSpPr>
            <a:xfrm>
              <a:off x="4564080" y="4314960"/>
              <a:ext cx="2370240" cy="490680"/>
              <a:chOff x="4564080" y="4314960"/>
              <a:chExt cx="2370240" cy="490680"/>
            </a:xfrm>
          </p:grpSpPr>
          <p:pic>
            <p:nvPicPr>
              <p:cNvPr id="358" name="Rectangl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4564080" y="4314960"/>
                <a:ext cx="237024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4632120" y="4358520"/>
                <a:ext cx="222768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" name="Elbow Connector 20" descr=""/>
            <p:cNvPicPr/>
            <p:nvPr/>
          </p:nvPicPr>
          <p:blipFill>
            <a:blip r:embed="rId3"/>
            <a:stretch/>
          </p:blipFill>
          <p:spPr>
            <a:xfrm>
              <a:off x="2342160" y="4666320"/>
              <a:ext cx="3481200" cy="8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Oval 21"/>
            <p:cNvGrpSpPr/>
            <p:nvPr/>
          </p:nvGrpSpPr>
          <p:grpSpPr>
            <a:xfrm>
              <a:off x="3696480" y="5028840"/>
              <a:ext cx="884880" cy="847800"/>
              <a:chOff x="3696480" y="5028840"/>
              <a:chExt cx="884880" cy="847800"/>
            </a:xfrm>
          </p:grpSpPr>
          <p:pic>
            <p:nvPicPr>
              <p:cNvPr id="362" name="Oval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6480" y="5028840"/>
                <a:ext cx="884880" cy="8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3874320" y="5177520"/>
                <a:ext cx="524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Oval 22"/>
          <p:cNvSpPr/>
          <p:nvPr/>
        </p:nvSpPr>
        <p:spPr>
          <a:xfrm>
            <a:off x="1600200" y="2752560"/>
            <a:ext cx="1503360" cy="156240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Object 23"/>
          <p:cNvGraphicFramePr/>
          <p:nvPr/>
        </p:nvGraphicFramePr>
        <p:xfrm>
          <a:off x="7924680" y="3706920"/>
          <a:ext cx="954360" cy="69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3706920"/>
                    <a:ext cx="9543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67" name="Straight Arrow Connector 5"/>
          <p:cNvCxnSpPr>
            <a:stCxn id="350" idx="3"/>
          </p:cNvCxnSpPr>
          <p:nvPr/>
        </p:nvCxnSpPr>
        <p:spPr>
          <a:xfrm>
            <a:off x="6045120" y="4053960"/>
            <a:ext cx="161208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Merenj</a:t>
            </a:r>
            <a:r>
              <a:rPr b="0" lang="en-US" sz="4300" spc="-1" strike="noStrike">
                <a:solidFill>
                  <a:srgbClr val="0d0d0d"/>
                </a:solidFill>
                <a:latin typeface="Gill Sans MT"/>
              </a:rPr>
              <a:t>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2362320"/>
            <a:ext cx="8001000" cy="142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ere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irekt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direktn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332000" y="4419720"/>
            <a:ext cx="3429000" cy="1828800"/>
            <a:chOff x="1332000" y="4419720"/>
            <a:chExt cx="3429000" cy="1828800"/>
          </a:xfrm>
        </p:grpSpPr>
        <p:sp>
          <p:nvSpPr>
            <p:cNvPr id="371" name="Rectangle 14"/>
            <p:cNvSpPr/>
            <p:nvPr/>
          </p:nvSpPr>
          <p:spPr>
            <a:xfrm>
              <a:off x="3887640" y="4998240"/>
              <a:ext cx="29196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Rectangle 17"/>
            <p:cNvGrpSpPr/>
            <p:nvPr/>
          </p:nvGrpSpPr>
          <p:grpSpPr>
            <a:xfrm>
              <a:off x="1332000" y="5241600"/>
              <a:ext cx="1454400" cy="358560"/>
              <a:chOff x="1332000" y="5241600"/>
              <a:chExt cx="1454400" cy="358560"/>
            </a:xfrm>
          </p:grpSpPr>
          <p:pic>
            <p:nvPicPr>
              <p:cNvPr id="373" name="Rectangle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5241600"/>
                <a:ext cx="145440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1404720" y="5287680"/>
                <a:ext cx="13143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Rectangle 18"/>
            <p:cNvGrpSpPr/>
            <p:nvPr/>
          </p:nvGrpSpPr>
          <p:grpSpPr>
            <a:xfrm>
              <a:off x="3306600" y="5241600"/>
              <a:ext cx="1454400" cy="358560"/>
              <a:chOff x="3306600" y="5241600"/>
              <a:chExt cx="1454400" cy="358560"/>
            </a:xfrm>
          </p:grpSpPr>
          <p:pic>
            <p:nvPicPr>
              <p:cNvPr id="376" name="Rectangl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06600" y="5241600"/>
                <a:ext cx="145440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3376440" y="5287680"/>
                <a:ext cx="131436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8" name="Elbow Connector 19" descr=""/>
            <p:cNvPicPr/>
            <p:nvPr/>
          </p:nvPicPr>
          <p:blipFill>
            <a:blip r:embed="rId3"/>
            <a:stretch/>
          </p:blipFill>
          <p:spPr>
            <a:xfrm>
              <a:off x="1998000" y="5455800"/>
              <a:ext cx="2108880" cy="3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Oval 20"/>
            <p:cNvGrpSpPr/>
            <p:nvPr/>
          </p:nvGrpSpPr>
          <p:grpSpPr>
            <a:xfrm>
              <a:off x="2792520" y="5675760"/>
              <a:ext cx="578160" cy="572760"/>
              <a:chOff x="2792520" y="5675760"/>
              <a:chExt cx="578160" cy="572760"/>
            </a:xfrm>
          </p:grpSpPr>
          <p:pic>
            <p:nvPicPr>
              <p:cNvPr id="380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92520" y="5675760"/>
                <a:ext cx="57816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2929680" y="5785560"/>
                <a:ext cx="3096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Rectangle 21"/>
            <p:cNvSpPr/>
            <p:nvPr/>
          </p:nvSpPr>
          <p:spPr>
            <a:xfrm>
              <a:off x="1404720" y="4419720"/>
              <a:ext cx="1314360" cy="86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3" name="Object 12"/>
          <p:cNvGraphicFramePr/>
          <p:nvPr/>
        </p:nvGraphicFramePr>
        <p:xfrm>
          <a:off x="2762280" y="6375240"/>
          <a:ext cx="457200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2280" y="6375240"/>
                    <a:ext cx="4572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6"/>
          <p:cNvGraphicFramePr/>
          <p:nvPr/>
        </p:nvGraphicFramePr>
        <p:xfrm>
          <a:off x="6389640" y="3898800"/>
          <a:ext cx="1498680" cy="4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89640" y="3898800"/>
                    <a:ext cx="1498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7" name="Group 3"/>
          <p:cNvGrpSpPr/>
          <p:nvPr/>
        </p:nvGrpSpPr>
        <p:grpSpPr>
          <a:xfrm>
            <a:off x="5522760" y="4114800"/>
            <a:ext cx="3429000" cy="2130480"/>
            <a:chOff x="5522760" y="4114800"/>
            <a:chExt cx="3429000" cy="2130480"/>
          </a:xfrm>
        </p:grpSpPr>
        <p:sp>
          <p:nvSpPr>
            <p:cNvPr id="388" name="Rectangle 4"/>
            <p:cNvSpPr/>
            <p:nvPr/>
          </p:nvSpPr>
          <p:spPr>
            <a:xfrm>
              <a:off x="8079840" y="498744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>
              <a:off x="8079840" y="469548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6"/>
            <p:cNvSpPr/>
            <p:nvPr/>
          </p:nvSpPr>
          <p:spPr>
            <a:xfrm>
              <a:off x="8079840" y="440352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Rectangle 7"/>
            <p:cNvGrpSpPr/>
            <p:nvPr/>
          </p:nvGrpSpPr>
          <p:grpSpPr>
            <a:xfrm>
              <a:off x="5522760" y="5229720"/>
              <a:ext cx="1456920" cy="361800"/>
              <a:chOff x="5522760" y="5229720"/>
              <a:chExt cx="1456920" cy="361800"/>
            </a:xfrm>
          </p:grpSpPr>
          <p:pic>
            <p:nvPicPr>
              <p:cNvPr id="392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5522760" y="5229720"/>
                <a:ext cx="145692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5592600" y="5279040"/>
                <a:ext cx="13165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Rectangle 8"/>
            <p:cNvGrpSpPr/>
            <p:nvPr/>
          </p:nvGrpSpPr>
          <p:grpSpPr>
            <a:xfrm>
              <a:off x="7494840" y="5229720"/>
              <a:ext cx="1456920" cy="361800"/>
              <a:chOff x="7494840" y="5229720"/>
              <a:chExt cx="1456920" cy="361800"/>
            </a:xfrm>
          </p:grpSpPr>
          <p:pic>
            <p:nvPicPr>
              <p:cNvPr id="395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94840" y="5229720"/>
                <a:ext cx="145692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7567920" y="5279040"/>
                <a:ext cx="13165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7" name="Elbow Connector 9" descr=""/>
            <p:cNvPicPr/>
            <p:nvPr/>
          </p:nvPicPr>
          <p:blipFill>
            <a:blip r:embed="rId11"/>
            <a:stretch/>
          </p:blipFill>
          <p:spPr>
            <a:xfrm>
              <a:off x="6189840" y="5451480"/>
              <a:ext cx="2112480" cy="3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Oval 10"/>
            <p:cNvGrpSpPr/>
            <p:nvPr/>
          </p:nvGrpSpPr>
          <p:grpSpPr>
            <a:xfrm>
              <a:off x="6985440" y="5667480"/>
              <a:ext cx="579240" cy="577800"/>
              <a:chOff x="6985440" y="5667480"/>
              <a:chExt cx="579240" cy="577800"/>
            </a:xfrm>
          </p:grpSpPr>
          <p:pic>
            <p:nvPicPr>
              <p:cNvPr id="399" name="Oval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985440" y="5667480"/>
                <a:ext cx="579240" cy="5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7119720" y="5780880"/>
                <a:ext cx="31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Rectangle 1"/>
            <p:cNvSpPr/>
            <p:nvPr/>
          </p:nvSpPr>
          <p:spPr>
            <a:xfrm>
              <a:off x="5592600" y="4403520"/>
              <a:ext cx="1316520" cy="875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"/>
            <p:cNvSpPr/>
            <p:nvPr/>
          </p:nvSpPr>
          <p:spPr>
            <a:xfrm>
              <a:off x="5592600" y="4622400"/>
              <a:ext cx="1316520" cy="656640"/>
            </a:xfrm>
            <a:prstGeom prst="rect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37"/>
            <p:cNvSpPr/>
            <p:nvPr/>
          </p:nvSpPr>
          <p:spPr>
            <a:xfrm>
              <a:off x="8079840" y="4114800"/>
              <a:ext cx="292320" cy="29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26"/>
          <p:cNvGrpSpPr/>
          <p:nvPr/>
        </p:nvGrpSpPr>
        <p:grpSpPr>
          <a:xfrm>
            <a:off x="5246640" y="1989000"/>
            <a:ext cx="3429000" cy="1828800"/>
            <a:chOff x="5246640" y="1989000"/>
            <a:chExt cx="3429000" cy="1828800"/>
          </a:xfrm>
        </p:grpSpPr>
        <p:sp>
          <p:nvSpPr>
            <p:cNvPr id="405" name="Rectangle 29"/>
            <p:cNvSpPr/>
            <p:nvPr/>
          </p:nvSpPr>
          <p:spPr>
            <a:xfrm>
              <a:off x="7801920" y="256824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0"/>
            <p:cNvSpPr/>
            <p:nvPr/>
          </p:nvSpPr>
          <p:spPr>
            <a:xfrm>
              <a:off x="7801920" y="227844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1"/>
            <p:cNvSpPr/>
            <p:nvPr/>
          </p:nvSpPr>
          <p:spPr>
            <a:xfrm>
              <a:off x="7801920" y="1989000"/>
              <a:ext cx="292320" cy="28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Rectangle 32"/>
            <p:cNvGrpSpPr/>
            <p:nvPr/>
          </p:nvGrpSpPr>
          <p:grpSpPr>
            <a:xfrm>
              <a:off x="5246640" y="2809800"/>
              <a:ext cx="1456920" cy="358920"/>
              <a:chOff x="5246640" y="2809800"/>
              <a:chExt cx="1456920" cy="358920"/>
            </a:xfrm>
          </p:grpSpPr>
          <p:pic>
            <p:nvPicPr>
              <p:cNvPr id="409" name="Rectangle 32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46640" y="2809800"/>
                <a:ext cx="145692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5314680" y="2857680"/>
                <a:ext cx="13165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Rectangle 33"/>
            <p:cNvGrpSpPr/>
            <p:nvPr/>
          </p:nvGrpSpPr>
          <p:grpSpPr>
            <a:xfrm>
              <a:off x="7218720" y="2809800"/>
              <a:ext cx="1456920" cy="358920"/>
              <a:chOff x="7218720" y="2809800"/>
              <a:chExt cx="1456920" cy="358920"/>
            </a:xfrm>
          </p:grpSpPr>
          <p:pic>
            <p:nvPicPr>
              <p:cNvPr id="412" name="Rectangle 33" descr=""/>
              <p:cNvPicPr/>
              <p:nvPr/>
            </p:nvPicPr>
            <p:blipFill>
              <a:blip r:embed="rId14"/>
              <a:stretch/>
            </p:blipFill>
            <p:spPr>
              <a:xfrm>
                <a:off x="7218720" y="2809800"/>
                <a:ext cx="1456920" cy="3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7289640" y="2857680"/>
                <a:ext cx="131652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4" name="Elbow Connector 34" descr=""/>
            <p:cNvPicPr/>
            <p:nvPr/>
          </p:nvPicPr>
          <p:blipFill>
            <a:blip r:embed="rId15"/>
            <a:stretch/>
          </p:blipFill>
          <p:spPr>
            <a:xfrm>
              <a:off x="5907600" y="3030120"/>
              <a:ext cx="2112480" cy="57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Oval 35"/>
            <p:cNvGrpSpPr/>
            <p:nvPr/>
          </p:nvGrpSpPr>
          <p:grpSpPr>
            <a:xfrm>
              <a:off x="6709320" y="3244320"/>
              <a:ext cx="579240" cy="573480"/>
              <a:chOff x="6709320" y="3244320"/>
              <a:chExt cx="579240" cy="573480"/>
            </a:xfrm>
          </p:grpSpPr>
          <p:pic>
            <p:nvPicPr>
              <p:cNvPr id="416" name="Oval 35" descr=""/>
              <p:cNvPicPr/>
              <p:nvPr/>
            </p:nvPicPr>
            <p:blipFill>
              <a:blip r:embed="rId16"/>
              <a:stretch/>
            </p:blipFill>
            <p:spPr>
              <a:xfrm>
                <a:off x="6709320" y="3244320"/>
                <a:ext cx="579240" cy="5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6841800" y="3355920"/>
                <a:ext cx="31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Oval 25"/>
            <p:cNvSpPr/>
            <p:nvPr/>
          </p:nvSpPr>
          <p:spPr>
            <a:xfrm>
              <a:off x="5534280" y="1989000"/>
              <a:ext cx="865440" cy="86904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0d0d0d"/>
                </a:solidFill>
                <a:latin typeface="Gill Sans MT"/>
              </a:rPr>
              <a:t>Greška meren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900000" y="249408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Nema tačnih mer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eška merenja je element merenj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Grešku ne znamo, ali možemo da je proce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14"/>
          <p:cNvGraphicFramePr/>
          <p:nvPr/>
        </p:nvGraphicFramePr>
        <p:xfrm>
          <a:off x="2349360" y="6100920"/>
          <a:ext cx="152424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9360" y="6100920"/>
                    <a:ext cx="15242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Group 1"/>
          <p:cNvGrpSpPr/>
          <p:nvPr/>
        </p:nvGrpSpPr>
        <p:grpSpPr>
          <a:xfrm>
            <a:off x="1219320" y="4191120"/>
            <a:ext cx="3429000" cy="1828800"/>
            <a:chOff x="1219320" y="4191120"/>
            <a:chExt cx="3429000" cy="1828800"/>
          </a:xfrm>
        </p:grpSpPr>
        <p:sp>
          <p:nvSpPr>
            <p:cNvPr id="424" name="Rectangle 16"/>
            <p:cNvSpPr/>
            <p:nvPr/>
          </p:nvSpPr>
          <p:spPr>
            <a:xfrm>
              <a:off x="3772080" y="4479840"/>
              <a:ext cx="29196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7"/>
            <p:cNvSpPr/>
            <p:nvPr/>
          </p:nvSpPr>
          <p:spPr>
            <a:xfrm>
              <a:off x="3772080" y="4191120"/>
              <a:ext cx="29196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Rectangle 19"/>
            <p:cNvGrpSpPr/>
            <p:nvPr/>
          </p:nvGrpSpPr>
          <p:grpSpPr>
            <a:xfrm>
              <a:off x="1219320" y="5014440"/>
              <a:ext cx="1454400" cy="352440"/>
              <a:chOff x="1219320" y="5014440"/>
              <a:chExt cx="1454400" cy="352440"/>
            </a:xfrm>
          </p:grpSpPr>
          <p:pic>
            <p:nvPicPr>
              <p:cNvPr id="427" name="Rectangl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9320" y="5014440"/>
                <a:ext cx="145440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1289160" y="5057640"/>
                <a:ext cx="1314360" cy="2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Rectangle 20"/>
            <p:cNvGrpSpPr/>
            <p:nvPr/>
          </p:nvGrpSpPr>
          <p:grpSpPr>
            <a:xfrm>
              <a:off x="3193920" y="4725360"/>
              <a:ext cx="1454400" cy="352440"/>
              <a:chOff x="3193920" y="4725360"/>
              <a:chExt cx="1454400" cy="352440"/>
            </a:xfrm>
          </p:grpSpPr>
          <p:pic>
            <p:nvPicPr>
              <p:cNvPr id="430" name="Rectangl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3193920" y="4725360"/>
                <a:ext cx="145440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3260880" y="4768560"/>
                <a:ext cx="1314360" cy="21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2" name="Elbow Connector 21" descr=""/>
            <p:cNvPicPr/>
            <p:nvPr/>
          </p:nvPicPr>
          <p:blipFill>
            <a:blip r:embed="rId5"/>
            <a:stretch/>
          </p:blipFill>
          <p:spPr>
            <a:xfrm>
              <a:off x="1879200" y="4945320"/>
              <a:ext cx="2108880" cy="64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Oval 22"/>
            <p:cNvGrpSpPr/>
            <p:nvPr/>
          </p:nvGrpSpPr>
          <p:grpSpPr>
            <a:xfrm>
              <a:off x="2679840" y="5447880"/>
              <a:ext cx="578160" cy="572040"/>
              <a:chOff x="2679840" y="5447880"/>
              <a:chExt cx="578160" cy="572040"/>
            </a:xfrm>
          </p:grpSpPr>
          <p:pic>
            <p:nvPicPr>
              <p:cNvPr id="434" name="Oval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2679840" y="5447880"/>
                <a:ext cx="578160" cy="57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2814120" y="5554440"/>
                <a:ext cx="30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Oval 23"/>
            <p:cNvSpPr/>
            <p:nvPr/>
          </p:nvSpPr>
          <p:spPr>
            <a:xfrm>
              <a:off x="1508400" y="4191120"/>
              <a:ext cx="864000" cy="86688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Object 24"/>
          <p:cNvGraphicFramePr/>
          <p:nvPr/>
        </p:nvGraphicFramePr>
        <p:xfrm>
          <a:off x="6343560" y="6100920"/>
          <a:ext cx="149868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8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43560" y="6100920"/>
                    <a:ext cx="14986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9" name="Group 2"/>
          <p:cNvGrpSpPr/>
          <p:nvPr/>
        </p:nvGrpSpPr>
        <p:grpSpPr>
          <a:xfrm>
            <a:off x="5334120" y="4038480"/>
            <a:ext cx="3429000" cy="1981440"/>
            <a:chOff x="5334120" y="4038480"/>
            <a:chExt cx="3429000" cy="1981440"/>
          </a:xfrm>
        </p:grpSpPr>
        <p:sp>
          <p:nvSpPr>
            <p:cNvPr id="440" name="Rectangle 26"/>
            <p:cNvSpPr/>
            <p:nvPr/>
          </p:nvSpPr>
          <p:spPr>
            <a:xfrm>
              <a:off x="7886880" y="476388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7"/>
            <p:cNvSpPr/>
            <p:nvPr/>
          </p:nvSpPr>
          <p:spPr>
            <a:xfrm>
              <a:off x="7886880" y="447372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8"/>
            <p:cNvSpPr/>
            <p:nvPr/>
          </p:nvSpPr>
          <p:spPr>
            <a:xfrm>
              <a:off x="7886880" y="4183560"/>
              <a:ext cx="291960" cy="290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Rectangle 29"/>
            <p:cNvGrpSpPr/>
            <p:nvPr/>
          </p:nvGrpSpPr>
          <p:grpSpPr>
            <a:xfrm>
              <a:off x="5334120" y="4865400"/>
              <a:ext cx="1454400" cy="353880"/>
              <a:chOff x="5334120" y="4865400"/>
              <a:chExt cx="1454400" cy="353880"/>
            </a:xfrm>
          </p:grpSpPr>
          <p:pic>
            <p:nvPicPr>
              <p:cNvPr id="444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5334120" y="4865400"/>
                <a:ext cx="14544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5403960" y="4908600"/>
                <a:ext cx="13143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Rectangle 30"/>
            <p:cNvGrpSpPr/>
            <p:nvPr/>
          </p:nvGrpSpPr>
          <p:grpSpPr>
            <a:xfrm>
              <a:off x="7308720" y="5010480"/>
              <a:ext cx="1454400" cy="353880"/>
              <a:chOff x="7308720" y="5010480"/>
              <a:chExt cx="1454400" cy="353880"/>
            </a:xfrm>
          </p:grpSpPr>
          <p:pic>
            <p:nvPicPr>
              <p:cNvPr id="447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08720" y="5010480"/>
                <a:ext cx="14544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7375680" y="5053680"/>
                <a:ext cx="13143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9" name="Elbow Connector 31" descr=""/>
            <p:cNvPicPr/>
            <p:nvPr/>
          </p:nvPicPr>
          <p:blipFill>
            <a:blip r:embed="rId11"/>
            <a:stretch/>
          </p:blipFill>
          <p:spPr>
            <a:xfrm>
              <a:off x="5994000" y="5085720"/>
              <a:ext cx="2108880" cy="49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Oval 32"/>
            <p:cNvGrpSpPr/>
            <p:nvPr/>
          </p:nvGrpSpPr>
          <p:grpSpPr>
            <a:xfrm>
              <a:off x="6794640" y="5445720"/>
              <a:ext cx="578160" cy="574200"/>
              <a:chOff x="6794640" y="5445720"/>
              <a:chExt cx="578160" cy="574200"/>
            </a:xfrm>
          </p:grpSpPr>
          <p:pic>
            <p:nvPicPr>
              <p:cNvPr id="451" name="Oval 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94640" y="5445720"/>
                <a:ext cx="57816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6928920" y="5552640"/>
                <a:ext cx="30960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Oval 33"/>
            <p:cNvSpPr/>
            <p:nvPr/>
          </p:nvSpPr>
          <p:spPr>
            <a:xfrm>
              <a:off x="5623200" y="4038480"/>
              <a:ext cx="864000" cy="870480"/>
            </a:xfrm>
            <a:prstGeom prst="ellipse">
              <a:avLst/>
            </a:prstGeom>
            <a:solidFill>
              <a:srgbClr val="b9d77a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Zlatan Soskic</cp:lastModifiedBy>
  <dcterms:modified xsi:type="dcterms:W3CDTF">2019-10-10T10:38:34Z</dcterms:modified>
  <cp:revision>74</cp:revision>
  <dc:subject/>
  <dc:title>Fizika</dc:title>
</cp:coreProperties>
</file>