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8EF2-FF35-4D81-8D79-97C7F5276B1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0D49-AA88-452B-9731-40F82F0CBB5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24DC-E6C1-4C15-A5B3-604FAB2AF61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027-0EF8-451D-B1F0-808E7FBC53E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D750-C67F-4C63-9BE8-20792096D41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2E4E-7E10-4FF4-811F-A96081A71A73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8E36-8232-4ED9-B6D4-58618D3976CB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240-1A6E-49E0-BAEF-436001A96F7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56F-7C68-4909-B578-5DFA4DBFC74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618F-B41E-4D03-B80B-E0A262BB468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7046-4079-404F-94C8-5759066574D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F593-165B-404E-B35F-B9C0F34AC7A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EFC-1C8E-4CAC-9D8E-483AF3AC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31D-5538-4C77-9EFD-C1BEDF30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6F5-C7F6-4DA0-87D3-B22448D0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333-9E95-4902-9E93-473E3B92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FA74-864E-4C3C-B10B-495FA8F8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DC3C-46FF-45EC-B244-C58D4F9D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342-4839-488A-8B81-3AA80EDA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B97B-144A-41E0-A2E4-40B58BFF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1EDB-BCDC-47AE-A8D3-5F1D15F3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E685-8F81-4A55-9913-CB3EFCE9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C956-814A-4B76-9F07-18DEBAD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32D-7AE8-4E1D-85A5-A64AC13C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4D80-05FB-4458-A414-9BA8A924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2440-DAA7-4318-B21B-7A9E6ECD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889B-E958-4D67-AFF6-AF4B4182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46D9-2F57-4D82-B59A-DCF06AAB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CE57-F302-4455-A421-2AE5C027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F79F-2253-4597-8129-2C4346AD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36E3-4490-4FAC-868E-0A7EB2FE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6956-97D1-4356-B1FC-244F3A49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8329-0F1A-4D0B-9B2B-B537BB4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140A-1F52-4D87-BE9F-4776A722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220-AE8B-49F5-8455-F28D658A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B3E5-0864-40FD-A7BB-F0A8DE23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4FA2-3878-43C9-AEDC-848D1B4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8794-1B5C-4414-8BA3-61CF7A1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0370-C27D-4AC4-B04C-AE25B1A7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5B5E-EEB9-421C-8873-7C264A11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8889B-E63E-4C8D-841F-B0D7C94C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E1DC5-8FDE-4083-A32F-51084DDA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0A2C-765A-4CB9-A362-22BDF470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76BE-6DA0-43D3-B1CE-24D482C3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C48A-4582-485B-8F3F-097B51EC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5A1-E155-41F0-85CB-166B8DE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34BA-A7F5-4DF4-8094-471B9965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2988-C405-4ED5-A078-7FC2D9C8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A06F-72EF-4163-8872-FA2E0CE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6C05-05E9-4109-82AA-E6BE50F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0B5B-9FC4-4061-9259-9958B37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0473-9570-41FF-817E-08CEA7A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FB3E-AB95-4C31-B1B2-030C79C5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8D10-2806-43AE-B0CB-97E3C742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1B4E-F662-4F02-B5E3-4551BEC3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1E7A-3FED-43A8-8E1F-F160D0A6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572-CEB7-44BF-943E-7DC236C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207B0-5642-442F-8A57-1633195D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4B727-B5E2-4F93-AA18-A676B336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45431-D97E-44A9-BE55-7BB2C21E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378E7-ADF6-4FF6-AEB3-B019A20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CAFE-96BC-4869-95BA-7020B476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1D104-4C10-4A6E-9EF9-47FFD33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926D6-F471-4696-BA51-CA73B83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75499-0E29-4DA1-9B75-6B2AE42A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BDC8-C5E9-4391-BBF8-A089C40E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D36A-41A2-4FE4-B8E7-4C927B7C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90D-9B85-481E-9A08-310F528A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E15A-2BDA-41BB-928E-53FC3404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94EA9-C91C-48EB-9B79-7F84F044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F05AE-F49C-4C66-B273-9A02BC21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EBC6F-B0A6-41BC-B30C-EAB96B9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1B82-EB09-4452-91CC-7AB2850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20583-1B10-452B-8230-C298F65C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A0F66-5CB4-45F2-BD59-E024FB6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D14E9-D347-4D57-A4D0-8439853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2EBFD-8181-465B-BBF0-DFF1EA66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2D75-ACF9-4E0D-A6E0-9E7D2A74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9E7-488A-456E-A978-FD9A07FC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E7C3-0481-4BF7-84C5-51AAC78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27BC9-7791-4118-B820-D5439D9D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12E35-3450-4729-851D-8C24BB9D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B385F-F250-4939-B3DB-D2D328E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70E7-5415-43B6-8289-67017471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62544-3A9D-4646-AC28-43A20810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A840-D62F-4136-BF62-A766068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7B380-60D5-465E-9EDF-CA005C8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B31BB-DCDB-4CF1-9383-B687DD7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BC0D4-F86D-45A8-B056-7AC9551E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A4D-275C-4C6A-8585-13C3A5E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AED4D-685C-4598-AE4F-7E807C7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BB89-97CA-4FF5-A309-6509905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7F70B-0F40-4E22-B506-B466F82D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F6A0-E47C-403F-B97C-CF6988EA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E535C-1018-43C7-B231-A07FD367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8E4-F873-4CF8-BCCB-74C7D5C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5E5-880D-45E6-8317-8167A91F04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DFA2-58E8-4422-843E-612C6C69BE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3395-D349-4F78-81C3-3492929C2FE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4A32-64EA-455F-AD78-43A4CA97B39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869-9510-44B5-8AC8-E67AA621C6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07B-C636-4CEE-AF9E-D824DBED19E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B412-CBD5-4FA5-B981-86239302CFD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Tehnička f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Uvod u </a:t>
            </a:r>
            <a:r>
              <a:rPr b="0" lang="sr-Latn-RS" sz="2600" spc="-1" strike="noStrike">
                <a:solidFill>
                  <a:srgbClr val="320e04"/>
                </a:solidFill>
                <a:latin typeface="Gill Sans MT"/>
              </a:rPr>
              <a:t>Tehničku 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fizik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Cilj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bjasniti prošl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aa8a14"/>
                </a:solidFill>
                <a:latin typeface="Gill Sans MT"/>
              </a:rPr>
              <a:t>Predvideti budućn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Tehnička f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hnika </a:t>
            </a:r>
            <a:r>
              <a:rPr b="0" lang="hr-HR" sz="3200" spc="-1" strike="noStrike" u="sng">
                <a:solidFill>
                  <a:srgbClr val="000000"/>
                </a:solidFill>
                <a:uFillTx/>
                <a:latin typeface="Gill Sans MT"/>
              </a:rPr>
              <a:t>je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primenjena fiz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retanje-Mehan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oplota-Termodinam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Svetlost-Op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vuk-Akus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Zadatak predmeta Tehnička fizik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fizika posmatra prirod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Šta je do sada fizika otkrila o prirod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tehnički sistem posmatrati kao objekat koji se podvrgava prirodnim zakon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stavno osoblj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800240" y="2361960"/>
            <a:ext cx="3924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  <a:ea typeface="Arial"/>
              </a:rPr>
              <a:t>Prof. dr Zlatan Šoški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4800600" y="3352680"/>
            <a:ext cx="4343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sis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Dr Jelena Tom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4876920" y="5105520"/>
            <a:ext cx="3924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Labo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Milorad Stambol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0" descr="Miki-mala"/>
          <p:cNvPicPr/>
          <p:nvPr/>
        </p:nvPicPr>
        <p:blipFill>
          <a:blip r:embed="rId1"/>
          <a:srcRect l="16668" t="0" r="8334" b="0"/>
          <a:stretch/>
        </p:blipFill>
        <p:spPr>
          <a:xfrm>
            <a:off x="1523880" y="21430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Jelena_Jankovic"/>
          <p:cNvPicPr/>
          <p:nvPr/>
        </p:nvPicPr>
        <p:blipFill>
          <a:blip r:embed="rId2"/>
          <a:stretch/>
        </p:blipFill>
        <p:spPr>
          <a:xfrm>
            <a:off x="1828800" y="2133720"/>
            <a:ext cx="2971800" cy="371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dr Zlatan Soskic"/>
          <p:cNvPicPr/>
          <p:nvPr/>
        </p:nvPicPr>
        <p:blipFill>
          <a:blip r:embed="rId3"/>
          <a:stretch/>
        </p:blipFill>
        <p:spPr>
          <a:xfrm>
            <a:off x="1905120" y="1981080"/>
            <a:ext cx="2647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300" spc="-1" strike="noStrike">
                <a:solidFill>
                  <a:srgbClr val="572314"/>
                </a:solidFill>
                <a:latin typeface="Gill Sans MT"/>
              </a:rPr>
              <a:t>Nastavni pros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71600" y="1981080"/>
            <a:ext cx="7499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Kabinet za fiziku i elektrotehni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0 /nastavnik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1 /asistenti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I sprat, kancelarija 212 /laborant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Gill Sans MT"/>
              </a:rPr>
              <a:t>Laboratorija za fiziku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Gill Sans MT"/>
              </a:rPr>
              <a:t>rizemlje, preko puta studentske služb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ttps://encrypted-tbn3.gstatic.com/images?q=tbn:ANd9GcQq7OHOuBoSxmuWFNJf5aohvoVOHpgbaM2WuvfCX71HhzpUw3DLhA"/>
          <p:cNvPicPr/>
          <p:nvPr/>
        </p:nvPicPr>
        <p:blipFill>
          <a:blip r:embed="rId1"/>
          <a:stretch/>
        </p:blipFill>
        <p:spPr>
          <a:xfrm>
            <a:off x="6477120" y="7632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Nastavni pla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2 časa predavanja sedmič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2 časa račun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1 čas laboratorij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spi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sustvo predavanjima i auditornim vežba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1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dbrana laboratorijskih vežb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1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ismeni isp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80 poe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56 poena zadaci+24 poena teorijska pitan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arcijalno polaganje na kolokvijum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Oce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51-60 poena: 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61-70 poena: 7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71-80 poena: 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81-90 poena: 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91-100 poena: 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olokvijum se polaže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svajanjem preko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10 poen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Literatur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Udžbenik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Miloš Vujović: "Fizika" – skrip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čunske vežb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Zbirka zadataka iz Tehničke fizik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Praktikum za računske vežbe iz fizike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Laboratori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ke vežbe</a:t>
            </a: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Z.Šoškić: “Praktikum za </a:t>
            </a:r>
            <a:r>
              <a:rPr b="0" lang="sr-Latn-RS" sz="2000" spc="-1" strike="noStrike">
                <a:solidFill>
                  <a:srgbClr val="000000"/>
                </a:solidFill>
                <a:latin typeface="Gill Sans MT"/>
              </a:rPr>
              <a:t>laboratorijsk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vežbe iz fizike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Vlastimir Vučić: "Laboratorijske vežbe iz Fizike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ektronska for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ww.m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v.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Gill Sans MT"/>
              </a:rPr>
              <a:t>ac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rpska verzija, studentski serv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edmet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040" y="2438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oučavanje prirodnih proces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Priroda: prostor i vreme ispunjeni </a:t>
            </a:r>
            <a:r>
              <a:rPr b="1" lang="hr-HR" sz="3000" spc="-1" strike="noStrike">
                <a:solidFill>
                  <a:srgbClr val="000000"/>
                </a:solidFill>
                <a:latin typeface="Gill Sans MT"/>
              </a:rPr>
              <a:t>materij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ill Sans MT"/>
              </a:rPr>
              <a:t>Materija je jedino što postoji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Supstancija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zauzima prostor [tela]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Gill Sans MT"/>
              </a:rPr>
              <a:t>Fizičko polje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: prostor izmenjen postojanjem te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Metod fizik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Egzaktno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Izražavanje brojevi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ena matematik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0:39:41Z</dcterms:created>
  <dc:creator>Zlatan Soskic</dc:creator>
  <dc:description/>
  <dc:language>en-US</dc:language>
  <cp:lastModifiedBy>soskic.z</cp:lastModifiedBy>
  <dcterms:modified xsi:type="dcterms:W3CDTF">2018-10-18T06:31:09Z</dcterms:modified>
  <cp:revision>71</cp:revision>
  <dc:subject/>
  <dc:title>Fizika</dc:title>
</cp:coreProperties>
</file>