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explode.wav" ContentType="audio/x-wav"/>
  <Override PartName="/ppt/media/image6.png" ContentType="image/png"/>
  <Override PartName="/ppt/media/image7.wmf" ContentType="image/x-wmf"/>
  <Override PartName="/ppt/media/gunshot.wav" ContentType="audio/x-wav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257-5D2F-48CF-980F-88100990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495-DB54-49B9-B51C-8EEA6366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936-1091-4404-A03C-D244156C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970-CDCD-4F97-A0D8-67F1EBB9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54ED-50CE-499B-9A76-D1F310B9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CBB4-DD18-4D24-8861-52C04C4E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0CF6-51D8-4E43-A383-0E3C730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ADBA-031C-4115-8E4E-FC214BE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F433-7638-43E6-9019-C7E1A9F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B432-3881-420B-B6A9-FF4EEECE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354-8A6D-4EF9-9DC9-0CACF1B5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849-1AE5-49AC-A267-E2F1E31F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0FCB-48C6-458F-8471-30C00091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6D72-EE17-4B45-9C21-B4C2909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DCCF-AEF1-4EAD-A99E-8153A77B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8311-CD88-4044-A58A-629814DD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66C0-F181-443C-9882-A1CC098E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B5A6-01B1-404B-B70B-24286FB4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0572-5B6D-4327-AE45-D13C0BA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F931-957E-4C81-B100-A83300B5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05EF0-F8D0-4430-B7D6-30FD6019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3BB6-B2DD-458B-B484-0DE14D7C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CAC-4474-4190-927B-F21AB6E9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FF70-82E1-4F28-9D7D-A3E438C3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E1F1-B042-4065-B360-E4262D54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5AF5-9BCB-410E-AB10-8352EFE4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344F-7995-4BD5-8946-64EEB7D3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80291-8C77-45E7-B698-392033C0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7926-556F-4568-A3DB-AA186E48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4E15-C39F-4167-AA80-9DA870B7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0DA8-47D2-4B15-BF1E-56456E79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FE33-4C92-4EEA-9198-F3BB2AC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2BE0-4C70-4B0D-8AA4-A743F604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BB5-68DB-4228-903F-BEA5B36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DEA3-BB46-4C51-8D1E-C4A94319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BD90-CFEB-4B1E-862C-B28601CF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C29C9-54A7-4A33-BACF-01305967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8E9F9-C5E0-4C8C-8C73-A9EA2A5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BCB9-ACDD-4616-901A-9A182B2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334EA-E612-4259-AE65-2C41CDC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388A-E7A9-43ED-9210-060A56ED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FD11-826C-4AA8-9FE0-41704068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030D-4587-4046-A76B-B510FF07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0ABB-8434-4D61-AC8E-8113AD59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A5C-D3A1-4D70-8195-A1FEA45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C06B-72DA-49FB-8E32-BA7C3C1D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8B15-3E4D-4F83-84FF-B01456A6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404A-9E3E-495D-9AB0-B325795F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58362-8724-4129-81C3-CF92B81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11C3-E938-48D9-871C-1E39A965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1D7E-F19E-4B66-8346-D83310D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2881-7AF9-4643-ABC1-3EFEF44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DD0C-172B-437D-9288-88182AF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110A-D378-4981-B710-1CC8C927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56A29-1168-49A2-B74E-14C390EE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C5B-EF3F-4CE2-A41B-9A1DCCE1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6F9FC-F08D-496D-BCB2-3AA50A8E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3659-E4CD-4F8E-8DA5-FF6C6370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E275-EA02-4A37-81A5-BDAD2B3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0C13-4FAD-4E61-A26B-B3D0649D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95AF4-6B92-43C7-927D-AEA42813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593F7-CDD4-4FE3-96BC-BFFC186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B029-324D-4DA2-BF90-A91A5AAA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FC12-FF84-4B6B-B9D2-5A792448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8CF8-2A01-4F82-95A5-1DDDE31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00E14-286E-454D-8369-72975D6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2CE-D69B-4BAA-BF68-9AAD5418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DD23-0D35-4D31-838D-734AE1D1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909E-96BB-4856-AA13-7002A037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A1C9-EB30-4CD9-A6C4-4A613573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3CE0-E8B6-4EDD-BD2C-BE48BE66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EB22-2A49-4602-854D-C35C2967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C59DF-E413-4B80-9875-BD587033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4284C-7E7B-4062-A0D6-C317F26F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9CF58-A6A8-4B49-9D95-500F953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1E99B-13BF-4370-8EA2-16E0202B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F88B8-D84E-4195-B293-73F5ED7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AC2-8AFC-4B22-AFE9-4198FE2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C526-6B37-4C4A-B770-66DA7DCF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17D0-B1E8-492D-8B4E-FA9EA38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F227-5998-4C58-9427-A2A7A32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B9063-CCB8-46BB-9E94-C6DB0B85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7A220-599F-4EF7-9319-E9F0B883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EF6-9319-44E8-B660-FDC0539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D7F7-6B06-4A46-AE8A-90CC2C72F2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FA2F-A502-4BC2-A73C-3235D6EA26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41D7-B501-449C-8F6F-CD2A70F5471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D61-87B6-4686-9D08-AF5F7B5B5B2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F49F-3888-4E8A-8AA7-C8FAE044633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245-3672-48CE-AB23-38E901426E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E8A6-C08C-49ED-B84B-56844C4251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 i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3861000" cy="1822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Fizičke jedini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Dimenziona analiz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38080" y="25146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Pojam dimen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143000" y="3672000"/>
                <a:ext cx="732312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5"/>
          <p:cNvSpPr/>
          <p:nvPr/>
        </p:nvSpPr>
        <p:spPr>
          <a:xfrm>
            <a:off x="2743200" y="4648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jutn ima dimenziju kg m s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nicipi dimenzione analiz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imenzije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lev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desn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strane jednačina i nejednačina su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is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tematičke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vez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među dimenzijama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su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ist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kao i matematičke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vez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Gill Sans MT"/>
              </a:rPr>
              <a:t>među veličin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Dimenzija svakog broja je 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avila dimenzione analiz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5"/>
              <p:cNvSpPr txBox="1"/>
              <p:nvPr/>
            </p:nvSpPr>
            <p:spPr>
              <a:xfrm>
                <a:off x="2535120" y="3048120"/>
                <a:ext cx="422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2362320" y="2514600"/>
                <a:ext cx="4576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±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2840040" y="3505320"/>
                <a:ext cx="3378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787480" y="4572000"/>
                <a:ext cx="3441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2665440" y="5265720"/>
                <a:ext cx="3726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0"/>
              <p:cNvSpPr txBox="1"/>
              <p:nvPr/>
            </p:nvSpPr>
            <p:spPr>
              <a:xfrm>
                <a:off x="1158840" y="5951520"/>
                <a:ext cx="7070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ne dimenzione analiz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ređivanje izvedenih jedinic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overa ispravnosti matematičkih izraz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Jednač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ejednač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unkci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azvoj sistema jedinic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sistems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Lakat, stopa, milja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č, bar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istems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CGS: cm, g, s, dyn, er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MKS: m, kg, s, N, J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Tehničke: inč, t, h, kp, kWh, KS, at, m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, c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ill Sans M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SI: MKS dopunjen i </a:t>
            </a:r>
            <a:r>
              <a:rPr b="1" lang="hr-HR" sz="2800" spc="-1" strike="noStrike" u="sng">
                <a:solidFill>
                  <a:srgbClr val="000000"/>
                </a:solidFill>
                <a:uFillTx/>
                <a:latin typeface="Gill Sans MT"/>
              </a:rPr>
              <a:t>ozakonjen</a:t>
            </a:r>
            <a:r>
              <a:rPr b="1" lang="hr-HR" sz="2800" spc="-1" strike="noStrike">
                <a:solidFill>
                  <a:srgbClr val="000000"/>
                </a:solidFill>
                <a:latin typeface="Gill Sans MT"/>
              </a:rPr>
              <a:t> 1980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otac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dinica za silu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je njut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[F] = 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 (=) 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343400" y="4419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F 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4419720" y="4419720"/>
            <a:ext cx="9903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6"/>
          <p:cNvSpPr/>
          <p:nvPr/>
        </p:nvSpPr>
        <p:spPr>
          <a:xfrm flipV="1">
            <a:off x="4419720" y="4343040"/>
            <a:ext cx="9903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– osnovne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1074600" y="2438280"/>
          <a:ext cx="7604280" cy="39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438280"/>
                    <a:ext cx="76042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– izvedene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846000" y="2903400"/>
          <a:ext cx="806940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03400"/>
                    <a:ext cx="806940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- multip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914400" y="2522520"/>
          <a:ext cx="7856640" cy="38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22520"/>
                    <a:ext cx="785664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I sistem - multip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895480" y="2286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90720" y="2895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SAMO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dan prefiks je dozvol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5181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0 N = 2 d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5181480" y="342900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V="1">
            <a:off x="5257800" y="3352320"/>
            <a:ext cx="21337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312408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g nema prefi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990720" y="4876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fiks samo uz jedinice koje imaju svoje 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9810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 N = 2 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2133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m, kN, k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4952880" y="5486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00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= k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5"/>
          <p:cNvSpPr/>
          <p:nvPr/>
        </p:nvSpPr>
        <p:spPr>
          <a:xfrm>
            <a:off x="5181480" y="5410080"/>
            <a:ext cx="22100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6"/>
          <p:cNvSpPr/>
          <p:nvPr/>
        </p:nvSpPr>
        <p:spPr>
          <a:xfrm flipV="1">
            <a:off x="5257800" y="533412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572314"/>
                </a:solidFill>
                <a:latin typeface="Gill Sans MT"/>
              </a:rPr>
              <a:t>Dopuštene jedinice u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građevinarstvu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0" name="Object 497"/>
          <p:cNvGraphicFramePr/>
          <p:nvPr/>
        </p:nvGraphicFramePr>
        <p:xfrm>
          <a:off x="457200" y="2938320"/>
          <a:ext cx="8458200" cy="25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4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38320"/>
                    <a:ext cx="84582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edopuštene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814320" y="2666880"/>
            <a:ext cx="81774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Zlatan Soskic</cp:lastModifiedBy>
  <dcterms:modified xsi:type="dcterms:W3CDTF">2019-10-10T06:53:34Z</dcterms:modified>
  <cp:revision>74</cp:revision>
  <dc:subject/>
  <dc:title>Fizika</dc:title>
</cp:coreProperties>
</file>