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6737-8EF4-4046-8EAF-8802E75CBDB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D62F-9F43-4A8F-87E9-0E72BF9FDD8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E4DE-9EBE-402F-9B2D-484FEDCBD02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2D4D-9ACF-49EE-B371-560572022F8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4895-567A-49B3-AA33-07E9738B6DD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454D-D653-4763-8066-D6CFF1B2DAA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E0CE-35C5-4CC5-9CB8-EE1AEBCC33B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0701-AEBF-4543-8E43-47B2CF379D6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59B6-3A57-4687-B5D8-2662BF6660A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1D0B-0CDB-41BC-866B-BE1145CF77C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F696-0A82-4F62-80D8-5ADC447D28E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A362-42AF-4437-B1DD-29AB2B9C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B458-2AA4-44F0-BB5B-7483F4C4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831-7E9A-4A0B-92D5-36C077B8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0C0C-AB70-4746-8A8C-4FE75694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AB24-597B-4BAF-BA8C-00614733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3BF2-BC52-408E-B302-AF8A6D74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9CA8-5615-4295-B227-CBC14594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0454-ABBB-4F26-B7B6-884878FF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A001-A01C-47E7-87D9-B6DB80E1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BB22-0795-4DA4-8A75-450032C8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E06D-70B8-46CA-8001-13D735D7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2ED-6A38-4EA7-8651-786967F5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F9C1-A297-4A1C-BA3A-A741AE44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1734-23F4-4D71-9D4E-BD083289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F94A-9C37-433B-83FE-1041F960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AB89-F7BD-4FA6-A4C8-A59B91F7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8955-BD1E-4AA5-85DB-6127B5FC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31013-06C5-406A-B0A5-E6CC5CB2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0E50F-A283-48B0-9F33-B32C0765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5AE65-773F-4A73-8600-EEA6F32B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3E1E6-D08D-4057-8AFD-315E7AF9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6FBEC-C146-453C-AF97-EA1E8FA4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17BA-ECC8-4451-A64C-638B0232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3C8F1-47F3-445F-9EBB-E087A20E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ED4A4-6FE2-48EC-BBE4-60DEF3D6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27072-02C5-48F5-99C3-719895FF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2B348-A33E-4E3D-8B88-2C049C0B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B0C1C-FA85-4F26-B05B-27B3E7AB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A992C-E713-4920-87D6-06614D94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56627-BF87-4848-870A-C4FAA96A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7B540-0238-49C3-95E2-71AFA3CD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CB54C-7704-4FD6-92C2-3A0FA02C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CDCAC-C7CC-4AB1-9B2B-CA0173A6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27E-2879-4C84-9BA5-405CB09A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FCCA0-985B-4D37-8929-5DC0847F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0AD23-3F43-4C0C-842E-8058B603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52685-9E56-42D6-9801-6C347817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32A93-22FA-41AE-AF6A-3886725F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58C88-A739-4F46-90F6-F73629E1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3BA70-6FA2-49F4-8EAC-851757C2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842E6-E655-4236-A479-D0181074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8F8F5-B6DA-458C-BC82-C3E95754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7F748-96C0-46B5-B64C-7DE5270C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BF6E8-4CE1-49DE-8A75-347BFD35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69F1-137F-4C33-95F2-DB5D7B30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6F764-BF19-4095-9830-54598D70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1FD44-3C56-427B-9CCB-776524C6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31683-C1C9-4236-8A89-DFCB6813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B3F87-818C-4B02-AA94-F63CC3A4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1E292-1946-4F69-8AB4-FD256925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50D2F-3A95-47A1-9267-49FAFC5B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F944C-A148-4C84-8F21-065D930C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06E07-C904-4CC5-89CF-BA5ECD4D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69F15-B7CB-43CA-B928-2EB05FE2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296A2-4FA2-4400-8CA7-8300740D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A740-294D-41E4-B2F4-81F461DD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AC7F3-6F27-4C79-8D09-7232241D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DF291-C919-4A5A-A444-FE055CC4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A4415-33C7-41BD-B563-A9064548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9E6DE-6490-4F34-86FD-AB88B6C9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497AA-A0EF-409D-A6A7-231A2ED3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8AB94-3AC8-4DA6-AC06-2961B944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8BC16-CDF0-455B-A2CD-9F13C0E1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19C53-BD4E-4D66-9D7C-A7B29D92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5A565-55B0-40AA-8051-DA1A15AD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14F2C-FE9F-44E4-BDA1-437C53DE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824A-7156-4F2B-B285-5FBA1BCE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44A8E-8092-42C0-81E0-81A0D99A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2BE25-8208-4957-A238-D0C3ED83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E76DF-23A7-4558-824B-DE9712DA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C486D-98E4-410F-A288-62DBC8FB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B17F9-7AE3-49EA-B1F9-496C2773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13A3D-C004-4925-A844-901EB023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80D35-D94B-4268-9D46-EF00FF72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D2B6A-011C-4735-BF29-6B20CF3C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06481-16FF-4FD9-9988-3ABCD1B6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1884A-CBD7-4C6E-B224-1B3B5574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3C12-2AF1-4FC2-B8CB-1308904D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FEB0F-4AE7-4F4D-B8A3-CF35E955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B2AE1-90CB-4D7D-B952-590845BA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2F874-A9AC-47A8-B853-555FAACA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4C690-B279-44BC-9D73-D3065B7B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16C3E-72E7-4EE8-AE72-22F0D945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96E6C-F785-4007-92CA-9F4C7892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DBBFE-F66D-4CFD-A579-D886246C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C742A-04C9-46C3-8211-B794DF49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753A9-C2DC-426D-84D0-B98545D7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71DB8-5C5D-4F50-AD33-71381CD2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E3D6-DFBC-4A83-BE70-72274E48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E160A-669D-4065-B2DB-20FAE7EC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422E9-BB86-4753-97C0-70FAD167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56E8A-5938-4422-ABB0-2BD34C81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62159-E5D6-491C-9BD6-B8A2D823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8E423-7F6D-437E-8854-E2C4C162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64619-9128-4BAC-B2CB-3F866E1C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07017-4791-4CA7-A5B3-7CB58091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D943-7E3B-4062-A4D3-7E49531A5D6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ECD2-9416-4910-8809-51E1147590E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051A-5D19-40BF-9E6C-ECF2D76B9A1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E350-0CDE-4C9C-8EDE-3B467375B1B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32F6-0413-4477-9F2B-6FB756ABBB6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04FD-2F76-44EC-9D67-4078BCE0E2A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1862-DB73-497D-9200-99EC0B8941C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63C8-9AB7-43B3-9CF3-1414B77C596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i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č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i koncept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Koncept si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5" name="Picture 4" descr="C:\Info\Physics\AnimPhys\FORCES &amp; NEWTON'S LAWS_files\newton.gif"/>
          <p:cNvPicPr/>
          <p:nvPr/>
        </p:nvPicPr>
        <p:blipFill>
          <a:blip r:embed="rId1"/>
          <a:stretch/>
        </p:blipFill>
        <p:spPr>
          <a:xfrm>
            <a:off x="1623960" y="3200400"/>
            <a:ext cx="27320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III Njutnov zakon – akcija i reakcij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1079640" y="24210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ile se javljaju u parov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val 11"/>
          <p:cNvSpPr/>
          <p:nvPr/>
        </p:nvSpPr>
        <p:spPr>
          <a:xfrm>
            <a:off x="1630440" y="4176720"/>
            <a:ext cx="75960" cy="763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Oval 12"/>
          <p:cNvSpPr/>
          <p:nvPr/>
        </p:nvSpPr>
        <p:spPr>
          <a:xfrm>
            <a:off x="2838600" y="3208320"/>
            <a:ext cx="75960" cy="763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3"/>
          <p:cNvSpPr/>
          <p:nvPr/>
        </p:nvSpPr>
        <p:spPr>
          <a:xfrm flipV="1">
            <a:off x="1695600" y="3885840"/>
            <a:ext cx="3808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0"/>
              <p:cNvSpPr txBox="1"/>
              <p:nvPr/>
            </p:nvSpPr>
            <p:spPr>
              <a:xfrm>
                <a:off x="1465200" y="3581280"/>
                <a:ext cx="451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6" name="Text Box 15"/>
          <p:cNvSpPr/>
          <p:nvPr/>
        </p:nvSpPr>
        <p:spPr>
          <a:xfrm>
            <a:off x="1695600" y="41911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6"/>
          <p:cNvSpPr/>
          <p:nvPr/>
        </p:nvSpPr>
        <p:spPr>
          <a:xfrm>
            <a:off x="2990880" y="31543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7"/>
          <p:cNvSpPr/>
          <p:nvPr/>
        </p:nvSpPr>
        <p:spPr>
          <a:xfrm flipV="1">
            <a:off x="2457360" y="3276720"/>
            <a:ext cx="381240" cy="3045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1"/>
              <p:cNvSpPr txBox="1"/>
              <p:nvPr/>
            </p:nvSpPr>
            <p:spPr>
              <a:xfrm>
                <a:off x="2305080" y="2895480"/>
                <a:ext cx="449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2"/>
              <p:cNvSpPr txBox="1"/>
              <p:nvPr/>
            </p:nvSpPr>
            <p:spPr>
              <a:xfrm>
                <a:off x="2762280" y="4114800"/>
                <a:ext cx="2063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41" name="Picture 20" descr="C:\Program Files\Common Files\Microsoft Shared\Clipart\cagcat50\pe01832_.wmf"/>
          <p:cNvPicPr/>
          <p:nvPr/>
        </p:nvPicPr>
        <p:blipFill>
          <a:blip r:embed="rId1"/>
          <a:stretch/>
        </p:blipFill>
        <p:spPr>
          <a:xfrm>
            <a:off x="4896000" y="3054240"/>
            <a:ext cx="2744640" cy="25084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22"/>
          <p:cNvSpPr/>
          <p:nvPr/>
        </p:nvSpPr>
        <p:spPr>
          <a:xfrm>
            <a:off x="5429160" y="5486400"/>
            <a:ext cx="129564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23"/>
          <p:cNvSpPr/>
          <p:nvPr/>
        </p:nvSpPr>
        <p:spPr>
          <a:xfrm>
            <a:off x="7715160" y="3809880"/>
            <a:ext cx="0" cy="762120"/>
          </a:xfrm>
          <a:prstGeom prst="line">
            <a:avLst/>
          </a:prstGeom>
          <a:ln w="28440">
            <a:solidFill>
              <a:srgbClr val="aa8a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4"/>
          <p:cNvSpPr/>
          <p:nvPr/>
        </p:nvSpPr>
        <p:spPr>
          <a:xfrm>
            <a:off x="7715160" y="45720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25"/>
          <p:cNvSpPr/>
          <p:nvPr/>
        </p:nvSpPr>
        <p:spPr>
          <a:xfrm>
            <a:off x="7715160" y="5638680"/>
            <a:ext cx="0" cy="762120"/>
          </a:xfrm>
          <a:prstGeom prst="line">
            <a:avLst/>
          </a:prstGeom>
          <a:ln w="28440">
            <a:solidFill>
              <a:srgbClr val="aa8a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3"/>
              <p:cNvSpPr txBox="1"/>
              <p:nvPr/>
            </p:nvSpPr>
            <p:spPr>
              <a:xfrm>
                <a:off x="7805880" y="4648320"/>
                <a:ext cx="3664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4"/>
              <p:cNvSpPr txBox="1"/>
              <p:nvPr/>
            </p:nvSpPr>
            <p:spPr>
              <a:xfrm>
                <a:off x="7777080" y="3941640"/>
                <a:ext cx="3952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5"/>
              <p:cNvSpPr txBox="1"/>
              <p:nvPr/>
            </p:nvSpPr>
            <p:spPr>
              <a:xfrm>
                <a:off x="7805880" y="5653080"/>
                <a:ext cx="3664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9" name="Line 29"/>
          <p:cNvSpPr/>
          <p:nvPr/>
        </p:nvSpPr>
        <p:spPr>
          <a:xfrm>
            <a:off x="8248680" y="42670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30"/>
          <p:cNvSpPr/>
          <p:nvPr/>
        </p:nvSpPr>
        <p:spPr>
          <a:xfrm>
            <a:off x="8782200" y="42670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31"/>
          <p:cNvSpPr/>
          <p:nvPr/>
        </p:nvSpPr>
        <p:spPr>
          <a:xfrm flipH="1">
            <a:off x="8248680" y="6019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1079640" y="6356520"/>
            <a:ext cx="81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ar sila iz III Njutnovog zakona deluje na različita te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storijski osvrt na pojam si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Aristotel (IV vek p.n.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stoje kretanje i mirovanj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da bi se telo kretalo, na njega mora da deluje neka sila, inače telo miruje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Sila je uzročnik kretanj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jutn (XVIII vek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Kretanje je relativno, i mirovanje takođ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Sila je uzrok </a:t>
            </a:r>
            <a:r>
              <a:rPr b="1" lang="hr-HR" sz="2800" spc="-1" strike="noStrike" u="sng">
                <a:solidFill>
                  <a:srgbClr val="000000"/>
                </a:solidFill>
                <a:uFillTx/>
                <a:latin typeface="Gill Sans MT"/>
              </a:rPr>
              <a:t>promene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 kretanja (ili mirovanja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Sile deluju među teli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1066680" y="6019920"/>
            <a:ext cx="7620120" cy="520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ila je mera za interakciju t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Veličine - m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040" y="2361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eka se tela lakše pokreću, a neka tež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aa8a14"/>
                </a:solidFill>
                <a:latin typeface="Gill Sans MT"/>
              </a:rPr>
              <a:t>INERTNOST</a:t>
            </a:r>
            <a:r>
              <a:rPr b="1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– svojstvo supstanci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Text Box 1031"/>
          <p:cNvSpPr/>
          <p:nvPr/>
        </p:nvSpPr>
        <p:spPr>
          <a:xfrm>
            <a:off x="2362320" y="3581280"/>
            <a:ext cx="396216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asa je mera za inertnost t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032"/>
          <p:cNvSpPr/>
          <p:nvPr/>
        </p:nvSpPr>
        <p:spPr>
          <a:xfrm>
            <a:off x="3809880" y="4495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m] =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Veličine - količina kret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040" y="23619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Fizička veličina koja meri kretan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914400" y="29718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eća masa, ista brzina </a:t>
            </a:r>
            <a:r>
              <a:rPr b="0" lang="hr-H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više kre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sta masa, veća brzina </a:t>
            </a:r>
            <a:r>
              <a:rPr b="0" lang="hr-H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više kre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3048120" y="4133880"/>
            <a:ext cx="2361960" cy="51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1024"/>
              <p:cNvSpPr txBox="1"/>
              <p:nvPr/>
            </p:nvSpPr>
            <p:spPr>
              <a:xfrm>
                <a:off x="3606840" y="4122720"/>
                <a:ext cx="14223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≡</m:t>
                    </m:r>
                    <m:r>
                      <m:t xml:space="preserve">m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88" name="Text Box 9"/>
          <p:cNvSpPr/>
          <p:nvPr/>
        </p:nvSpPr>
        <p:spPr>
          <a:xfrm>
            <a:off x="2971800" y="4876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K]=[m][v] = kg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Veličine - sil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040" y="23619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</a:rPr>
              <a:t>Sila je mera za interakciju tela, za uticaj tela na telo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Rectangle 1029"/>
          <p:cNvSpPr/>
          <p:nvPr/>
        </p:nvSpPr>
        <p:spPr>
          <a:xfrm>
            <a:off x="914400" y="2895480"/>
            <a:ext cx="8001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Jača sila, veća promena kre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Jača sila, brža promena kre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030"/>
          <p:cNvSpPr/>
          <p:nvPr/>
        </p:nvSpPr>
        <p:spPr>
          <a:xfrm>
            <a:off x="3048120" y="4133880"/>
            <a:ext cx="2361960" cy="1015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032"/>
          <p:cNvSpPr/>
          <p:nvPr/>
        </p:nvSpPr>
        <p:spPr>
          <a:xfrm>
            <a:off x="2666880" y="5334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F]=[K]/[t] = kgm/s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1024"/>
              <p:cNvSpPr txBox="1"/>
              <p:nvPr/>
            </p:nvSpPr>
            <p:spPr>
              <a:xfrm>
                <a:off x="3581280" y="4191120"/>
                <a:ext cx="11430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 Njutnov zakon – zakon inerc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040" y="50288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06360" indent="-2372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amo druga tela mogu da utiču na promenu kretanja nekog tela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ema “samokretanja” ni “samozaustavljanja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1143000" y="2666880"/>
            <a:ext cx="746748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na neko telo ne deluju spoljašnje sile, ono se kreće konstantnom brzinom (ili miruj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1024"/>
              <p:cNvSpPr txBox="1"/>
              <p:nvPr/>
            </p:nvSpPr>
            <p:spPr>
              <a:xfrm>
                <a:off x="1219320" y="3581280"/>
                <a:ext cx="71676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Text Box 6"/>
          <p:cNvSpPr/>
          <p:nvPr/>
        </p:nvSpPr>
        <p:spPr>
          <a:xfrm>
            <a:off x="2209680" y="41752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Ne menja smer, ne menja pravac, ne menja intenzi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2362320" y="4419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Ide po pravoj liniji konstatnom brzinom ili miru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I Njutnov zakon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Oval 6"/>
          <p:cNvSpPr/>
          <p:nvPr/>
        </p:nvSpPr>
        <p:spPr>
          <a:xfrm>
            <a:off x="1806480" y="3657600"/>
            <a:ext cx="76320" cy="763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7"/>
          <p:cNvSpPr/>
          <p:nvPr/>
        </p:nvSpPr>
        <p:spPr>
          <a:xfrm>
            <a:off x="3102120" y="2743200"/>
            <a:ext cx="75960" cy="763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8"/>
          <p:cNvSpPr/>
          <p:nvPr/>
        </p:nvSpPr>
        <p:spPr>
          <a:xfrm>
            <a:off x="3254400" y="3733920"/>
            <a:ext cx="76320" cy="7596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9"/>
          <p:cNvSpPr/>
          <p:nvPr/>
        </p:nvSpPr>
        <p:spPr>
          <a:xfrm>
            <a:off x="2492280" y="4419720"/>
            <a:ext cx="76320" cy="7596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"/>
          <p:cNvSpPr/>
          <p:nvPr/>
        </p:nvSpPr>
        <p:spPr>
          <a:xfrm flipV="1">
            <a:off x="1882800" y="335232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2"/>
          <p:cNvSpPr/>
          <p:nvPr/>
        </p:nvSpPr>
        <p:spPr>
          <a:xfrm flipH="1">
            <a:off x="1257120" y="369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3"/>
          <p:cNvSpPr/>
          <p:nvPr/>
        </p:nvSpPr>
        <p:spPr>
          <a:xfrm>
            <a:off x="1882800" y="37339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1024"/>
              <p:cNvSpPr txBox="1"/>
              <p:nvPr/>
            </p:nvSpPr>
            <p:spPr>
              <a:xfrm>
                <a:off x="1681200" y="2895480"/>
                <a:ext cx="393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1025"/>
              <p:cNvSpPr txBox="1"/>
              <p:nvPr/>
            </p:nvSpPr>
            <p:spPr>
              <a:xfrm>
                <a:off x="1071720" y="3720960"/>
                <a:ext cx="3934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026"/>
              <p:cNvSpPr txBox="1"/>
              <p:nvPr/>
            </p:nvSpPr>
            <p:spPr>
              <a:xfrm>
                <a:off x="1909800" y="4343400"/>
                <a:ext cx="393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2" name="Text Box 17"/>
          <p:cNvSpPr/>
          <p:nvPr/>
        </p:nvSpPr>
        <p:spPr>
          <a:xfrm>
            <a:off x="1730520" y="37339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2568600" y="43434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9"/>
          <p:cNvSpPr/>
          <p:nvPr/>
        </p:nvSpPr>
        <p:spPr>
          <a:xfrm>
            <a:off x="3330720" y="36576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20"/>
          <p:cNvSpPr/>
          <p:nvPr/>
        </p:nvSpPr>
        <p:spPr>
          <a:xfrm>
            <a:off x="3178080" y="2620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1027"/>
              <p:cNvSpPr txBox="1"/>
              <p:nvPr/>
            </p:nvSpPr>
            <p:spPr>
              <a:xfrm>
                <a:off x="5105520" y="2514600"/>
                <a:ext cx="14475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1028"/>
              <p:cNvSpPr txBox="1"/>
              <p:nvPr/>
            </p:nvSpPr>
            <p:spPr>
              <a:xfrm>
                <a:off x="3962520" y="4267080"/>
                <a:ext cx="44244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1029"/>
              <p:cNvSpPr txBox="1"/>
              <p:nvPr/>
            </p:nvSpPr>
            <p:spPr>
              <a:xfrm>
                <a:off x="5248440" y="5349960"/>
                <a:ext cx="12286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9" name="Text Box 25"/>
          <p:cNvSpPr/>
          <p:nvPr/>
        </p:nvSpPr>
        <p:spPr>
          <a:xfrm>
            <a:off x="4572000" y="3809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Times New Roman"/>
              </a:rPr>
              <a:t>Ako je masa konstant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načaj II Njutnovog zakon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034640" y="34290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znamo sile, znamo budućnost kre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4"/>
              <p:cNvSpPr txBox="1"/>
              <p:nvPr/>
            </p:nvSpPr>
            <p:spPr>
              <a:xfrm>
                <a:off x="3092400" y="3886200"/>
                <a:ext cx="23623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23" name="Text Box 5"/>
          <p:cNvSpPr/>
          <p:nvPr/>
        </p:nvSpPr>
        <p:spPr>
          <a:xfrm>
            <a:off x="2635200" y="43434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irektni problem dina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958680" y="50292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znamo kretanje u prošlosti, znamo sile koje su ga izazv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7"/>
              <p:cNvSpPr txBox="1"/>
              <p:nvPr/>
            </p:nvSpPr>
            <p:spPr>
              <a:xfrm>
                <a:off x="3092400" y="5486400"/>
                <a:ext cx="23623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26" name="Text Box 8"/>
          <p:cNvSpPr/>
          <p:nvPr/>
        </p:nvSpPr>
        <p:spPr>
          <a:xfrm>
            <a:off x="2635200" y="59436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nverzni problem dina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9"/>
          <p:cNvSpPr/>
          <p:nvPr/>
        </p:nvSpPr>
        <p:spPr>
          <a:xfrm>
            <a:off x="1035000" y="2438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dređuje ubrz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načaj II Njutnovog zakon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1035000" y="24382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snova fizike kao nau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etod fizike – primena koncepta s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Gledaj prošlost – otkrićeš s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piši sadašnj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ada znaš s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šnjost i sile, znaćeš buduć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aznanje sila je spona prošlosti buduć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ako opisati te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je sile deluju među nji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13:29:59Z</dcterms:created>
  <dc:creator>Zlatan Soskic</dc:creator>
  <dc:description/>
  <dc:language>en-US</dc:language>
  <cp:lastModifiedBy>Korisnik</cp:lastModifiedBy>
  <dcterms:modified xsi:type="dcterms:W3CDTF">2012-10-02T21:22:08Z</dcterms:modified>
  <cp:revision>102</cp:revision>
  <dc:subject/>
  <dc:title>Koncept sile</dc:title>
</cp:coreProperties>
</file>