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791-C796-468B-B625-C7F49E37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ED3-6063-43F5-B99B-E3D8903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244-53DE-4DEB-AE00-D2246A4C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3A8-776B-4789-A2BA-42F48A8F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3B70-1009-422C-B807-2FB46AE5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7266-345A-4E80-9BDE-1E56FCE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B530-FF68-41C0-84C1-52E467C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8EC5-2286-4B78-8160-8B340D75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CCC4-EFA4-4F3A-86D4-2F53FB64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2236-3B16-4EBD-9F54-2BE169B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E85-934B-49A2-B074-4057F7D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8BF-65A9-48DA-A820-70B11E4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89B1-D204-4697-87ED-A700775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788B-5CA1-403B-B68D-ACC5FFE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40B2-E5A8-490D-B2B5-A257AA7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B53-2057-4DAD-83A3-6671E060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6856-4ABB-43B0-B56D-E384A48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2136-159F-4E0F-BB30-5222423B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0F96-57B6-4945-B323-DC890527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14F1-1BB4-429D-8A82-A6E20D7B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7BF2-6BA3-4616-A3A4-3F64AAE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176F-7C9F-4733-8315-A29FB61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3FE-B92B-4C88-A7E3-885188C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20F6-C544-4473-A9BF-5B981B8C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4689-87FF-4EAF-AB2C-D2144514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B41F-1C8A-4093-91B6-6C5932E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88EE-3365-46C6-8BE8-3143EF23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EAEC-1DA6-4B22-A76A-3AD4D4D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47D3-494E-40B5-97AA-966577E5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8C02-0BF3-4E83-8F74-FF7EC061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C45B-54FA-4CE1-B22A-08910D85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1C8E-563E-40C0-BC70-5E6769D9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3B46-B028-4FC7-84C1-032A35D0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830-A62A-40B0-971D-CB2671DA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F2DC5-B121-4510-B6B0-DCB6F894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DEB5-16BD-43DA-B2A8-612838B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A881-53A1-4209-AA2B-766E621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0BDC-7DF3-43C4-84C5-2C1C845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E4D6-04AC-45DB-B818-CB09637A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6446-76B6-44C4-A275-48D57F6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7C4A-8678-4233-8E9E-B7376E8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300D-CCCE-4D62-B4F8-B8B669F5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C4F6-4F21-4985-9DE2-470C4CE9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78BA9-DEB2-4AD3-94D0-9ABEB82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611-0969-4FC3-8885-FE27FE8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74AF-0CD9-474E-8756-342A765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DB2F-475E-4C52-B983-B7DA39A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16B3-D6D8-4486-80D2-32BFD72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84A99-24AB-45B7-B1E1-64FB61E9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8442-F5EC-43EB-91AE-69EF70AB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5B06-AB32-43D9-8EDB-8FF9DC8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24A4-4567-403F-80BD-983098C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1D70-95E4-4B98-95E9-9FAE367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150D-F392-4210-AE99-A39625F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12A35-2013-4481-8CB4-0FABE034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D25-4713-4F47-BE83-676D02F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5629-0E4A-4D66-BE06-15C8880A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7456-80B8-4FD5-B80C-0BC39F27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CA97-6CB9-4130-B2B1-3A343655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B522-3D4F-4117-8245-A6D1CFE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36FE-05AE-4009-8A4A-83C9BDF1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CAE1-22A7-4628-BA2F-534ABE9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6A72-839B-41EB-8A7C-BE6CFD25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E203-DF80-4DE9-9DED-D8E7ED20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F345F-128F-40D3-AB41-A44E871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C9DF-7885-4BAB-9D0C-8C4B62B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EE3-32D6-44FD-9C38-0ACB2C4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70F9-7B37-451C-90B7-7AFAA71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FABB8-02D8-485F-A102-1E4E7B8C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3345B-9A7E-4F8D-A6B0-A20D4F19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8B54-548C-4548-8CAF-D2CF9AD3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204C-6576-4797-9E59-B5BFF53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87A30-6536-4B40-9F8A-58C31CF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AB229-4F42-459E-A716-9986CB2D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40F38-6C86-40FC-8BBC-E7239232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29FC-D54B-41AA-AC8B-3CFED0D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95E6C-2E24-4C0D-A815-4E1EC40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593-99B4-4A0C-A7EA-90EFE645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9AF8-95E2-4768-B245-7DEB413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023B-5648-4692-A84B-3AE1075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1D3F-8551-47F2-9546-2EB596AE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C129-0619-417B-84C4-CF9FDE23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77A0-3484-4B7B-A705-A38B9CD3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686-65BC-480A-BF4B-35F35B0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0447-CE93-4725-BED7-1C9A0CB275A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1A8-A8F3-4864-95F5-CF8607FAC3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D97-CA2B-43EC-BF8A-C88120C7B84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3CF9-FFB8-4DAB-A55E-9EBD0E969D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0CD-F8EC-4708-8600-9B8A0D1C174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829-6538-4F11-8034-18D925DC56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FCF6-CA8A-41B1-8C38-1EFEF2E58E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sist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TRANSLATOR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 svakom trenutku sve komponente imaju međusobno jednake brz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ROTACIO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Brzine svih tačaka leže u ravnima normalnim na osu rotacije, a intenziteti brzina su proporcionalni rastojanju od ose rotaci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KOMBINOV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144792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4320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19112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2819520" y="5486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37160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80060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609588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10"/>
          <p:cNvSpPr/>
          <p:nvPr/>
        </p:nvSpPr>
        <p:spPr>
          <a:xfrm rot="5400000">
            <a:off x="7543440" y="41911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11"/>
          <p:cNvSpPr/>
          <p:nvPr/>
        </p:nvSpPr>
        <p:spPr>
          <a:xfrm rot="10800000">
            <a:off x="6171840" y="54860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12"/>
          <p:cNvSpPr/>
          <p:nvPr/>
        </p:nvSpPr>
        <p:spPr>
          <a:xfrm rot="16200000">
            <a:off x="4724280" y="419076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21337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la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55627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otaci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024"/>
              <p:cNvSpPr txBox="1"/>
              <p:nvPr/>
            </p:nvSpPr>
            <p:spPr>
              <a:xfrm>
                <a:off x="762120" y="2286000"/>
                <a:ext cx="8381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25"/>
              <p:cNvSpPr txBox="1"/>
              <p:nvPr/>
            </p:nvSpPr>
            <p:spPr>
              <a:xfrm>
                <a:off x="851040" y="4648320"/>
                <a:ext cx="79754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026"/>
              <p:cNvSpPr txBox="1"/>
              <p:nvPr/>
            </p:nvSpPr>
            <p:spPr>
              <a:xfrm>
                <a:off x="838080" y="3559320"/>
                <a:ext cx="450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027"/>
              <p:cNvSpPr txBox="1"/>
              <p:nvPr/>
            </p:nvSpPr>
            <p:spPr>
              <a:xfrm>
                <a:off x="1989000" y="5410080"/>
                <a:ext cx="597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024"/>
              <p:cNvSpPr txBox="1"/>
              <p:nvPr/>
            </p:nvSpPr>
            <p:spPr>
              <a:xfrm>
                <a:off x="1498680" y="3249720"/>
                <a:ext cx="18748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025"/>
              <p:cNvSpPr txBox="1"/>
              <p:nvPr/>
            </p:nvSpPr>
            <p:spPr>
              <a:xfrm>
                <a:off x="3687840" y="3252960"/>
                <a:ext cx="18493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026"/>
              <p:cNvSpPr txBox="1"/>
              <p:nvPr/>
            </p:nvSpPr>
            <p:spPr>
              <a:xfrm>
                <a:off x="5946840" y="3252960"/>
                <a:ext cx="987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027"/>
              <p:cNvSpPr txBox="1"/>
              <p:nvPr/>
            </p:nvSpPr>
            <p:spPr>
              <a:xfrm>
                <a:off x="3851280" y="40147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024"/>
              <p:cNvSpPr txBox="1"/>
              <p:nvPr/>
            </p:nvSpPr>
            <p:spPr>
              <a:xfrm>
                <a:off x="958680" y="2286000"/>
                <a:ext cx="781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025"/>
              <p:cNvSpPr txBox="1"/>
              <p:nvPr/>
            </p:nvSpPr>
            <p:spPr>
              <a:xfrm>
                <a:off x="1271520" y="3251160"/>
                <a:ext cx="5129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026"/>
              <p:cNvSpPr txBox="1"/>
              <p:nvPr/>
            </p:nvSpPr>
            <p:spPr>
              <a:xfrm>
                <a:off x="1273320" y="4089240"/>
                <a:ext cx="5103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27"/>
              <p:cNvSpPr txBox="1"/>
              <p:nvPr/>
            </p:nvSpPr>
            <p:spPr>
              <a:xfrm>
                <a:off x="1500120" y="5003640"/>
                <a:ext cx="297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24"/>
              <p:cNvSpPr txBox="1"/>
              <p:nvPr/>
            </p:nvSpPr>
            <p:spPr>
              <a:xfrm>
                <a:off x="3335400" y="2438280"/>
                <a:ext cx="2074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025"/>
              <p:cNvSpPr txBox="1"/>
              <p:nvPr/>
            </p:nvSpPr>
            <p:spPr>
              <a:xfrm>
                <a:off x="1790640" y="3403440"/>
                <a:ext cx="18781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026"/>
              <p:cNvSpPr txBox="1"/>
              <p:nvPr/>
            </p:nvSpPr>
            <p:spPr>
              <a:xfrm>
                <a:off x="6019920" y="3352680"/>
                <a:ext cx="1930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2" name="Line 6"/>
          <p:cNvSpPr/>
          <p:nvPr/>
        </p:nvSpPr>
        <p:spPr>
          <a:xfrm flipH="1">
            <a:off x="297144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7"/>
          <p:cNvSpPr/>
          <p:nvPr/>
        </p:nvSpPr>
        <p:spPr>
          <a:xfrm>
            <a:off x="5181480" y="30481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1371600" y="419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144792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kretanja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5715000" y="426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unutrašnjeg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0"/>
              <p:cNvSpPr txBox="1"/>
              <p:nvPr/>
            </p:nvSpPr>
            <p:spPr>
              <a:xfrm>
                <a:off x="3238560" y="3489480"/>
                <a:ext cx="2268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Line 6"/>
          <p:cNvSpPr/>
          <p:nvPr/>
        </p:nvSpPr>
        <p:spPr>
          <a:xfrm flipH="1">
            <a:off x="2971440" y="3962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7"/>
          <p:cNvSpPr/>
          <p:nvPr/>
        </p:nvSpPr>
        <p:spPr>
          <a:xfrm>
            <a:off x="502920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1447920" y="4495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interakcije sa okoli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56272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međuso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terak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"/>
              <p:cNvSpPr txBox="1"/>
              <p:nvPr/>
            </p:nvSpPr>
            <p:spPr>
              <a:xfrm>
                <a:off x="1743120" y="2438280"/>
                <a:ext cx="51148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kup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743200" y="3489480"/>
                <a:ext cx="297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Freeform 5"/>
          <p:cNvSpPr/>
          <p:nvPr/>
        </p:nvSpPr>
        <p:spPr>
          <a:xfrm>
            <a:off x="556272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609588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1752480" y="2362320"/>
                <a:ext cx="52372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up tela koja zadovoljavaju neki kriterij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tojanje nekih interak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stojanje me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u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li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la koja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e sistem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kolina sistema – tela koja ne pripadaju sistem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4638600"/>
            <a:ext cx="5410080" cy="1622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 koji ne interaguje sa okolinom naziva se </a:t>
            </a:r>
            <a:r>
              <a:rPr b="1" lang="hr-HR" sz="2400" spc="-1" strike="noStrike">
                <a:solidFill>
                  <a:srgbClr val="aa8a14"/>
                </a:solidFill>
                <a:latin typeface="Times New Roman"/>
              </a:rPr>
              <a:t>IZOLOVAN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040" y="2362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, energij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ncentracija, gustin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ditivne veličine: zbir veličina koje opisuju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adatak: odrediti svojstva sistema kada se poznaju svojstva komponenti i obrnu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ivanje položaj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2378160" y="311148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5"/>
          <p:cNvSpPr/>
          <p:nvPr/>
        </p:nvSpPr>
        <p:spPr>
          <a:xfrm>
            <a:off x="3413160" y="3095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6"/>
          <p:cNvSpPr/>
          <p:nvPr/>
        </p:nvSpPr>
        <p:spPr>
          <a:xfrm>
            <a:off x="4435560" y="4330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7"/>
          <p:cNvSpPr/>
          <p:nvPr/>
        </p:nvSpPr>
        <p:spPr>
          <a:xfrm>
            <a:off x="2362320" y="433080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8"/>
          <p:cNvSpPr/>
          <p:nvPr/>
        </p:nvSpPr>
        <p:spPr>
          <a:xfrm>
            <a:off x="3413160" y="385776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0"/>
              <p:cNvSpPr txBox="1"/>
              <p:nvPr/>
            </p:nvSpPr>
            <p:spPr>
              <a:xfrm>
                <a:off x="3032280" y="288288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"/>
              <p:cNvSpPr txBox="1"/>
              <p:nvPr/>
            </p:nvSpPr>
            <p:spPr>
              <a:xfrm>
                <a:off x="4619520" y="415908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876320" y="41148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3"/>
          <p:cNvSpPr/>
          <p:nvPr/>
        </p:nvSpPr>
        <p:spPr>
          <a:xfrm>
            <a:off x="2378160" y="490536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3352680" y="487692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4511520" y="61246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2362320" y="61246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7"/>
          <p:cNvSpPr/>
          <p:nvPr/>
        </p:nvSpPr>
        <p:spPr>
          <a:xfrm>
            <a:off x="3413160" y="5181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3565440" y="4724280"/>
                <a:ext cx="563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619520" y="595296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1828800" y="59562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3" name="Line 21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987480" y="4719600"/>
            <a:ext cx="3736800" cy="648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AutoShape 23"/>
          <p:cNvCxnSpPr>
            <a:stCxn id="344" idx="0"/>
            <a:endCxn id="330" idx="3"/>
          </p:cNvCxnSpPr>
          <p:nvPr/>
        </p:nvCxnSpPr>
        <p:spPr>
          <a:xfrm flipV="1">
            <a:off x="987480" y="4409640"/>
            <a:ext cx="1388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AutoShape 24"/>
          <p:cNvCxnSpPr>
            <a:stCxn id="344" idx="0"/>
            <a:endCxn id="327" idx="4"/>
          </p:cNvCxnSpPr>
          <p:nvPr/>
        </p:nvCxnSpPr>
        <p:spPr>
          <a:xfrm flipV="1">
            <a:off x="987120" y="4406040"/>
            <a:ext cx="35247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AutoShape 25"/>
          <p:cNvCxnSpPr>
            <a:stCxn id="344" idx="0"/>
            <a:endCxn id="327" idx="0"/>
          </p:cNvCxnSpPr>
          <p:nvPr/>
        </p:nvCxnSpPr>
        <p:spPr>
          <a:xfrm flipV="1">
            <a:off x="987480" y="3110760"/>
            <a:ext cx="2458080" cy="16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AutoShape 26"/>
          <p:cNvCxnSpPr>
            <a:stCxn id="344" idx="0"/>
            <a:endCxn id="331" idx="0"/>
          </p:cNvCxnSpPr>
          <p:nvPr/>
        </p:nvCxnSpPr>
        <p:spPr>
          <a:xfrm flipV="1">
            <a:off x="987480" y="3857400"/>
            <a:ext cx="24724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352680" y="3962520"/>
                <a:ext cx="586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3276720" y="53593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5562720" y="3232080"/>
                <a:ext cx="2028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9"/>
              <p:cNvSpPr txBox="1"/>
              <p:nvPr/>
            </p:nvSpPr>
            <p:spPr>
              <a:xfrm>
                <a:off x="5106960" y="5105520"/>
                <a:ext cx="294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057400" y="414036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2435400" y="3219480"/>
                <a:ext cx="384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2108160" y="4038480"/>
                <a:ext cx="406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AutoShape 17"/>
          <p:cNvCxnSpPr>
            <a:stCxn id="362" idx="0"/>
            <a:endCxn id="355" idx="3"/>
          </p:cNvCxnSpPr>
          <p:nvPr/>
        </p:nvCxnSpPr>
        <p:spPr>
          <a:xfrm flipV="1">
            <a:off x="987120" y="4218840"/>
            <a:ext cx="1083240" cy="14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AutoShape 19"/>
          <p:cNvCxnSpPr>
            <a:stCxn id="362" idx="0"/>
            <a:endCxn id="356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AutoShape 20"/>
          <p:cNvCxnSpPr>
            <a:stCxn id="362" idx="0"/>
            <a:endCxn id="357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66" name="Object 24"/>
              <p:cNvSpPr txBox="1"/>
              <p:nvPr/>
            </p:nvSpPr>
            <p:spPr>
              <a:xfrm>
                <a:off x="4803840" y="2438280"/>
                <a:ext cx="3549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5"/>
              <p:cNvSpPr txBox="1"/>
              <p:nvPr/>
            </p:nvSpPr>
            <p:spPr>
              <a:xfrm>
                <a:off x="5715000" y="3451320"/>
                <a:ext cx="170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Text Box 26"/>
          <p:cNvSpPr/>
          <p:nvPr/>
        </p:nvSpPr>
        <p:spPr>
          <a:xfrm>
            <a:off x="5105520" y="4898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ar mase ne 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7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8"/>
          <p:cNvSpPr/>
          <p:nvPr/>
        </p:nvSpPr>
        <p:spPr>
          <a:xfrm flipV="1">
            <a:off x="990720" y="4228920"/>
            <a:ext cx="1879560" cy="14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2" name="Picture 3" descr="D:\My Documents\NASTAVA\Fizika\Predavanja\CentarMase.gif"/>
          <p:cNvPicPr/>
          <p:nvPr/>
        </p:nvPicPr>
        <p:blipFill>
          <a:blip r:embed="rId1"/>
          <a:stretch/>
        </p:blipFill>
        <p:spPr>
          <a:xfrm>
            <a:off x="990720" y="2362320"/>
            <a:ext cx="6629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l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žaj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2209680" y="28414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9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2666880" y="4038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AutoShape 16"/>
          <p:cNvCxnSpPr>
            <a:stCxn id="380" idx="0"/>
            <a:endCxn id="375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83" name="AutoShape 17"/>
          <p:cNvCxnSpPr>
            <a:stCxn id="380" idx="0"/>
            <a:endCxn id="376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84" name="AutoShape 18"/>
          <p:cNvCxnSpPr>
            <a:stCxn id="380" idx="0"/>
            <a:endCxn id="381" idx="3"/>
          </p:cNvCxnSpPr>
          <p:nvPr/>
        </p:nvCxnSpPr>
        <p:spPr>
          <a:xfrm flipV="1">
            <a:off x="987120" y="4117320"/>
            <a:ext cx="169308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21"/>
          <p:cNvCxnSpPr>
            <a:stCxn id="381" idx="0"/>
            <a:endCxn id="375" idx="5"/>
          </p:cNvCxnSpPr>
          <p:nvPr/>
        </p:nvCxnSpPr>
        <p:spPr>
          <a:xfrm flipH="1" flipV="1">
            <a:off x="2441160" y="3330360"/>
            <a:ext cx="27216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6" name="Object 22"/>
              <p:cNvSpPr txBox="1"/>
              <p:nvPr/>
            </p:nvSpPr>
            <p:spPr>
              <a:xfrm>
                <a:off x="2590920" y="3413160"/>
                <a:ext cx="347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87" name="AutoShape 26"/>
          <p:cNvCxnSpPr>
            <a:stCxn id="381" idx="5"/>
            <a:endCxn id="376" idx="1"/>
          </p:cNvCxnSpPr>
          <p:nvPr/>
        </p:nvCxnSpPr>
        <p:spPr>
          <a:xfrm>
            <a:off x="2746440" y="4117680"/>
            <a:ext cx="6037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8" name="Object 27"/>
              <p:cNvSpPr txBox="1"/>
              <p:nvPr/>
            </p:nvSpPr>
            <p:spPr>
              <a:xfrm>
                <a:off x="2954160" y="3949560"/>
                <a:ext cx="424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28"/>
              <p:cNvSpPr txBox="1"/>
              <p:nvPr/>
            </p:nvSpPr>
            <p:spPr>
              <a:xfrm>
                <a:off x="5326200" y="3244680"/>
                <a:ext cx="189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29"/>
              <p:cNvSpPr txBox="1"/>
              <p:nvPr/>
            </p:nvSpPr>
            <p:spPr>
              <a:xfrm>
                <a:off x="1930320" y="4343400"/>
                <a:ext cx="48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0"/>
              <p:cNvSpPr txBox="1"/>
              <p:nvPr/>
            </p:nvSpPr>
            <p:spPr>
              <a:xfrm>
                <a:off x="1981080" y="365760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1"/>
              <p:cNvSpPr txBox="1"/>
              <p:nvPr/>
            </p:nvSpPr>
            <p:spPr>
              <a:xfrm>
                <a:off x="2895480" y="464832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2"/>
              <p:cNvSpPr txBox="1"/>
              <p:nvPr/>
            </p:nvSpPr>
            <p:spPr>
              <a:xfrm>
                <a:off x="2438280" y="4267080"/>
                <a:ext cx="586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Freeform 3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6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2538360" y="3886200"/>
                <a:ext cx="281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9"/>
              <p:cNvSpPr txBox="1"/>
              <p:nvPr/>
            </p:nvSpPr>
            <p:spPr>
              <a:xfrm>
                <a:off x="2895480" y="49068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2743200" y="44449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Line 12"/>
          <p:cNvSpPr/>
          <p:nvPr/>
        </p:nvSpPr>
        <p:spPr>
          <a:xfrm>
            <a:off x="2438280" y="3809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3"/>
          <p:cNvSpPr/>
          <p:nvPr/>
        </p:nvSpPr>
        <p:spPr>
          <a:xfrm flipH="1" flipV="1">
            <a:off x="1523520" y="4343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1574640" y="4518000"/>
                <a:ext cx="331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5" name="Line 15"/>
          <p:cNvSpPr/>
          <p:nvPr/>
        </p:nvSpPr>
        <p:spPr>
          <a:xfrm flipH="1">
            <a:off x="3048120" y="5181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6"/>
              <p:cNvSpPr txBox="1"/>
              <p:nvPr/>
            </p:nvSpPr>
            <p:spPr>
              <a:xfrm>
                <a:off x="2819520" y="2314440"/>
                <a:ext cx="59594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Text Box 17"/>
          <p:cNvSpPr/>
          <p:nvPr/>
        </p:nvSpPr>
        <p:spPr>
          <a:xfrm>
            <a:off x="4038480" y="4191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4191120" y="48769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boratorijski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&gt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stem CM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21"/>
              <p:cNvSpPr txBox="1"/>
              <p:nvPr/>
            </p:nvSpPr>
            <p:spPr>
              <a:xfrm>
                <a:off x="2209680" y="48769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Line 20"/>
          <p:cNvSpPr/>
          <p:nvPr/>
        </p:nvSpPr>
        <p:spPr>
          <a:xfrm flipH="1">
            <a:off x="243792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2"/>
          <p:cNvSpPr/>
          <p:nvPr/>
        </p:nvSpPr>
        <p:spPr>
          <a:xfrm>
            <a:off x="2743200" y="440388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3651120" y="3276720"/>
                <a:ext cx="1928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Line 5"/>
          <p:cNvSpPr/>
          <p:nvPr/>
        </p:nvSpPr>
        <p:spPr>
          <a:xfrm flipH="1">
            <a:off x="380952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5562720" y="3581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167840" y="4441680"/>
            <a:ext cx="3481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CM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962240" y="4114800"/>
            <a:ext cx="3332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e kretan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u odnosu na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43:05Z</dcterms:created>
  <dc:creator>Zlatan Soskic</dc:creator>
  <dc:description/>
  <dc:language>en-US</dc:language>
  <cp:lastModifiedBy>Zlatan Soskic</cp:lastModifiedBy>
  <dcterms:modified xsi:type="dcterms:W3CDTF">2019-11-24T15:35:55Z</dcterms:modified>
  <cp:revision>210</cp:revision>
  <dc:subject/>
  <dc:title>Fizički koncepti</dc:title>
</cp:coreProperties>
</file>