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6E-1D52-4630-8975-3EC351E5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222-BEB5-46C5-9A8F-CA49BE3B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697-98A1-4A10-94AB-69E53D16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568-B6A9-4113-9F41-B723581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2DE-D4E0-4CC5-B43B-128385A3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CE03-93D4-4988-86DA-0F33B1B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0DF-DB6A-4A5C-91B7-B42043AF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3E3-015E-450B-8D87-E4EFF51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6B15-3170-4CAF-9D6B-C0BA7CAC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AC9C-9FB9-4459-A43F-3759E91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F93-A45A-4D2E-89BD-933A0428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8AD-F007-4BF9-9424-E0B84C3A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414A-B2BF-4B81-81F1-24BECB4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565-D84B-4BD3-A3A7-9FEEDCE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A956-109F-486C-B960-76D24FD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843B-7771-4B56-B3F5-2621771A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B6E2-399D-47D0-BEA9-B065CB9D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3CCD-F0F2-47BA-A990-17889195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D9DC-BB39-4C6C-83C8-61E2E290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E53F-7C38-470D-BE7A-0668E57D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E6D9-F0D1-44C4-A517-A8AEE59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18C1-D0ED-4C23-A846-9CF8589C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D2A-D54B-454E-870C-27BF11E7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F0D1-2DEA-4D7A-A215-90FAAC17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B777-0180-4757-AF39-92D6A9F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4607-CAF2-471D-8BEE-4D6B9D6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2899-00DA-4516-9BA5-7FF92A2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F3CC-319A-4E58-A9A1-AD0C82D0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7CC5-F0D0-4DB9-9464-AF5EEA5E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6866-E15E-4039-87E4-B098EF95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EB2A-EB75-479A-AA07-05E5EFC6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D1D1-A38B-43BE-8BC1-5DE4DEF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45A8-2D52-44D8-9461-69DF929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E4B-CF4D-4BB7-B872-01297D7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1A22-C4DF-4065-8B64-24E7BA7A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1678-0B6E-4A90-9CB1-2F55640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5FF8-B6BA-4BDC-913E-2E3CBD2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E4EF-90B9-454A-AC30-2B84DB4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359C-9BC6-4B74-9233-AA98699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71B7-DAB2-4A13-9313-DED3E10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F7EB-DE96-4DAE-8443-ABA9A95B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D0FB-263D-4EB0-93C7-0AD9866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8309-3EF7-4F2B-AE9D-CBE87424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4F9A-B9F5-4EDA-A289-E8E34B6F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94D-BCC1-41B2-B8F8-801B2C9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8165-59A3-45A0-891E-143A5D4E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4779-4CB3-4C8F-9DD8-83CC7886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3EAE-AF41-4C4C-A2A9-8777D747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4732-6F22-478A-8547-F7E94470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60EC-F0F9-45CC-AE94-D6605152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442E-F9A4-426F-B5F4-ACE8EE2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98EC-78B7-49D6-9E41-B8EF565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E599-01FC-41EE-974B-E21758C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1003-35E2-4C3C-BC56-1B643AD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91C9-789B-471E-BA2E-13E9CA56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190-0056-4EB4-85F0-A93D09CE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1841-A8B5-4649-A2B1-13A30015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BE893-1DE8-4234-9AA3-BBFAEB13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420C-D679-4F14-8CC1-5D6AEF6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E0FA-A9AB-4C28-9E26-C37EEBCA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29586-6D94-4EE8-BBCA-44FE847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2692-B8AC-4FE1-857A-32F785E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AF24-5F30-4875-A16A-6D41BFD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CC03-6A93-473D-A5DB-08C4829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85B5-1565-433D-AFE5-3C15B7D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700F-9352-4940-B4FC-71DCF23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B32-F749-4A32-99CC-80CF5E5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4615-7DC6-4C49-8367-842953E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8707-7D29-4703-A5AC-10C84875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F413-262D-404B-BD7C-52C894A6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8916-A975-4A7F-96ED-8FE728CF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4087-C5DF-4371-8557-D2D51DCE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6248-7677-46EA-B709-1132D0F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A2196-1307-481C-83D1-9C2F2C63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229B-5EE1-4BE3-ADA0-9999B69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F603-3890-4C1F-9595-C9358584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739D-A9EA-4A3C-989F-A1727DE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D8D-E938-4EE1-8F63-8907630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BC814-2F3B-497A-B5CE-70D2B20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8F9E-961C-4FDB-957F-4490594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CFCF-A113-4C0D-AE36-42FC8CB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A4B2-77BD-411E-BB02-1FBD3DC9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B284-ABD7-4DC0-8283-1D2E190A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9F4-A1A9-4AB8-8862-ED1CF0A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BD6-17FD-4A01-AAA8-8845314736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E67-666C-4FDA-8790-141838D5D4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FDF-D6C9-4B74-A6FD-C3E0DC3FC5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980-5777-4B53-B877-80D9BE4CA4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D6B-8751-4BCC-91E5-97BF109E83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E1A3-B948-4F4B-BD85-D3748D3DEC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B81-4B72-40EE-B563-23D3DF9F3F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Zakoni održ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l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e 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za sa Njutnovim zakon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1511280" y="4213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1206360" y="426708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AutoShape 8"/>
          <p:cNvSpPr/>
          <p:nvPr/>
        </p:nvSpPr>
        <p:spPr>
          <a:xfrm>
            <a:off x="2730600" y="3375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2854440" y="296856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AutoShape 10"/>
          <p:cNvSpPr/>
          <p:nvPr/>
        </p:nvSpPr>
        <p:spPr>
          <a:xfrm>
            <a:off x="2730600" y="4191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1"/>
              <p:cNvSpPr txBox="1"/>
              <p:nvPr/>
            </p:nvSpPr>
            <p:spPr>
              <a:xfrm>
                <a:off x="2867040" y="4267080"/>
                <a:ext cx="409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2" name="Line 12"/>
          <p:cNvSpPr/>
          <p:nvPr/>
        </p:nvSpPr>
        <p:spPr>
          <a:xfrm flipV="1">
            <a:off x="1587600" y="4038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50200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15876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22734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6"/>
              <p:cNvSpPr txBox="1"/>
              <p:nvPr/>
            </p:nvSpPr>
            <p:spPr>
              <a:xfrm>
                <a:off x="1359000" y="360036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7"/>
              <p:cNvSpPr txBox="1"/>
              <p:nvPr/>
            </p:nvSpPr>
            <p:spPr>
              <a:xfrm>
                <a:off x="1739880" y="4280040"/>
                <a:ext cx="4381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8"/>
              <p:cNvSpPr txBox="1"/>
              <p:nvPr/>
            </p:nvSpPr>
            <p:spPr>
              <a:xfrm>
                <a:off x="2368440" y="4267080"/>
                <a:ext cx="4381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9"/>
              <p:cNvSpPr txBox="1"/>
              <p:nvPr/>
            </p:nvSpPr>
            <p:spPr>
              <a:xfrm>
                <a:off x="2216160" y="312408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Line 20"/>
          <p:cNvSpPr/>
          <p:nvPr/>
        </p:nvSpPr>
        <p:spPr>
          <a:xfrm flipV="1">
            <a:off x="28065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280656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2"/>
              <p:cNvSpPr txBox="1"/>
              <p:nvPr/>
            </p:nvSpPr>
            <p:spPr>
              <a:xfrm>
                <a:off x="2889360" y="3767040"/>
                <a:ext cx="463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3"/>
              <p:cNvSpPr txBox="1"/>
              <p:nvPr/>
            </p:nvSpPr>
            <p:spPr>
              <a:xfrm>
                <a:off x="2876400" y="3352680"/>
                <a:ext cx="4636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25"/>
              <p:cNvSpPr txBox="1"/>
              <p:nvPr/>
            </p:nvSpPr>
            <p:spPr>
              <a:xfrm>
                <a:off x="3886200" y="304812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26"/>
              <p:cNvSpPr txBox="1"/>
              <p:nvPr/>
            </p:nvSpPr>
            <p:spPr>
              <a:xfrm>
                <a:off x="5334120" y="2895480"/>
                <a:ext cx="24606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7"/>
              <p:cNvSpPr txBox="1"/>
              <p:nvPr/>
            </p:nvSpPr>
            <p:spPr>
              <a:xfrm>
                <a:off x="5334120" y="3733920"/>
                <a:ext cx="2562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8"/>
              <p:cNvSpPr txBox="1"/>
              <p:nvPr/>
            </p:nvSpPr>
            <p:spPr>
              <a:xfrm>
                <a:off x="5388120" y="449568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Line 29"/>
          <p:cNvSpPr/>
          <p:nvPr/>
        </p:nvSpPr>
        <p:spPr>
          <a:xfrm>
            <a:off x="365760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0"/>
              <p:cNvSpPr txBox="1"/>
              <p:nvPr/>
            </p:nvSpPr>
            <p:spPr>
              <a:xfrm>
                <a:off x="990720" y="556416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1"/>
              <p:cNvSpPr txBox="1"/>
              <p:nvPr/>
            </p:nvSpPr>
            <p:spPr>
              <a:xfrm>
                <a:off x="2319480" y="5411880"/>
                <a:ext cx="6595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Group 39"/>
          <p:cNvGrpSpPr/>
          <p:nvPr/>
        </p:nvGrpSpPr>
        <p:grpSpPr>
          <a:xfrm>
            <a:off x="4952880" y="6095880"/>
            <a:ext cx="1295640" cy="457200"/>
            <a:chOff x="4952880" y="6095880"/>
            <a:chExt cx="1295640" cy="457200"/>
          </a:xfrm>
        </p:grpSpPr>
        <p:sp>
          <p:nvSpPr>
            <p:cNvPr id="392" name="Line 33"/>
            <p:cNvSpPr/>
            <p:nvPr/>
          </p:nvSpPr>
          <p:spPr>
            <a:xfrm>
              <a:off x="495288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34"/>
            <p:cNvSpPr/>
            <p:nvPr/>
          </p:nvSpPr>
          <p:spPr>
            <a:xfrm>
              <a:off x="624852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4952880" y="6553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energi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2530440" y="4222800"/>
                <a:ext cx="4033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873520" y="5257800"/>
                <a:ext cx="3701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3995640" y="2743200"/>
                <a:ext cx="1370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920960" y="3581280"/>
                <a:ext cx="57592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2" name="Text Box 6"/>
          <p:cNvSpPr/>
          <p:nvPr/>
        </p:nvSpPr>
        <p:spPr>
          <a:xfrm>
            <a:off x="23623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mena energije među te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36232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oblik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600200" y="342900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1600200" y="510552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zakona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040" y="2362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okazuju da se neka veličina ne menja u </a:t>
            </a:r>
            <a:r>
              <a:rPr b="0" lang="hr-HR" sz="3000" spc="-1" strike="noStrike">
                <a:solidFill>
                  <a:srgbClr val="aa8a14"/>
                </a:solidFill>
                <a:latin typeface="Gill Sans MT"/>
              </a:rPr>
              <a:t>IZOLOVANOM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sistem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vemir je izolovani sistem, znači ta veličina se ne menja u prirod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U osnovi zakona održanja leži simetrija prirod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676520" y="5197320"/>
            <a:ext cx="63244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koni održanja se odnose isključivo 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i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19320" y="3124080"/>
            <a:ext cx="632448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se odnose isključivo na</a:t>
            </a:r>
            <a:br>
              <a:rPr sz="4800"/>
            </a:b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67652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2971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1240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0384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410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šti oblik zakona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295280" y="2590920"/>
            <a:ext cx="63248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X 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2514600" y="3816360"/>
                <a:ext cx="406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naelektris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295280" y="259092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naelektris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2577960" y="4349880"/>
                <a:ext cx="3938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AutoShape 5"/>
          <p:cNvSpPr/>
          <p:nvPr/>
        </p:nvSpPr>
        <p:spPr>
          <a:xfrm>
            <a:off x="2133720" y="5943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3124080" y="5715000"/>
            <a:ext cx="533520" cy="533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1676520" y="5410080"/>
            <a:ext cx="2361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4495680" y="59436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1981080" y="5638680"/>
                <a:ext cx="5400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1"/>
              <p:cNvSpPr txBox="1"/>
              <p:nvPr/>
            </p:nvSpPr>
            <p:spPr>
              <a:xfrm>
                <a:off x="2813040" y="5486400"/>
                <a:ext cx="5396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AutoShape 12"/>
          <p:cNvSpPr/>
          <p:nvPr/>
        </p:nvSpPr>
        <p:spPr>
          <a:xfrm>
            <a:off x="6324480" y="5943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7315200" y="5715000"/>
            <a:ext cx="533520" cy="533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4"/>
          <p:cNvSpPr/>
          <p:nvPr/>
        </p:nvSpPr>
        <p:spPr>
          <a:xfrm>
            <a:off x="5867280" y="5410080"/>
            <a:ext cx="2362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6172200" y="5638680"/>
                <a:ext cx="5396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6"/>
              <p:cNvSpPr txBox="1"/>
              <p:nvPr/>
            </p:nvSpPr>
            <p:spPr>
              <a:xfrm>
                <a:off x="7023240" y="5486400"/>
                <a:ext cx="5014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kret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2530440" y="4191120"/>
                <a:ext cx="4033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990720" y="4579920"/>
                <a:ext cx="7467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4027320" y="2743200"/>
                <a:ext cx="1306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5"/>
              <p:cNvSpPr txBox="1"/>
              <p:nvPr/>
            </p:nvSpPr>
            <p:spPr>
              <a:xfrm>
                <a:off x="2220840" y="3635280"/>
                <a:ext cx="515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ktorska priroda zako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edstavlja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Gill Sans MT"/>
              </a:rPr>
              <a:t>tr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jedna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3260880" y="3613320"/>
                <a:ext cx="25714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219480" y="4165560"/>
                <a:ext cx="2571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200400" y="4730760"/>
                <a:ext cx="2571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9" name="Text Box 7"/>
          <p:cNvSpPr/>
          <p:nvPr/>
        </p:nvSpPr>
        <p:spPr>
          <a:xfrm>
            <a:off x="151056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644760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812880" y="1573200"/>
          <a:ext cx="7365960" cy="59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573200"/>
                    <a:ext cx="73659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58:41Z</dcterms:created>
  <dc:creator>Zlatan Soskic</dc:creator>
  <dc:description/>
  <dc:language>en-US</dc:language>
  <cp:lastModifiedBy>Zlatan Soskic</cp:lastModifiedBy>
  <dcterms:modified xsi:type="dcterms:W3CDTF">2012-11-01T12:01:09Z</dcterms:modified>
  <cp:revision>141</cp:revision>
  <dc:subject/>
  <dc:title>Fizički koncepti</dc:title>
</cp:coreProperties>
</file>