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png" ContentType="image/png"/>
  <Override PartName="/ppt/media/image9.wmf" ContentType="image/x-wmf"/>
  <Override PartName="/ppt/media/image14.jpeg" ContentType="image/jpeg"/>
  <Override PartName="/ppt/media/image1.jpeg" ContentType="image/jpeg"/>
  <Override PartName="/ppt/media/image5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5A46-73A4-4680-B851-3ED04CF9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12F-0906-4B08-B6EF-D3D3ECB26B9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69E-C10B-42F3-AC84-6CDB9A08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CB7-649C-4243-A0B4-7D47995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508-4737-4F38-955D-FC0BAFFE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AEE-7D85-4142-92F1-AA0F29B5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C9E4-8B32-4672-BD9A-E266EBA7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1FA-13EA-44C4-ADF7-307CD8D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E38-239A-4364-95B0-DD0055D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56C-4D2A-42C5-B0BE-CA81E42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DB4-7F89-4AF2-8CC4-A5FF1AA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4BAF-51B7-4121-AE35-A2E0A807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5140-3A29-4E58-A62F-3BBFC08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819-805E-461F-84BF-06F2F71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4E4D-020C-4D46-A89F-3BA7AF3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61C4-A076-4491-BCA3-991635A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CA68-2FC0-48A6-B323-1DB40F2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C05-24BE-4DA1-B4D0-C1C59A6E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D15F-F7EE-481B-B105-3C5D61F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6481-1C17-487F-86EE-D973BD70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6EEE-BEA2-4C8E-A8FF-293CD86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B91D-844E-4456-B7E3-69ACCB4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35BA-0ECC-4138-B516-4A60E47A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1EB0-98FB-489B-8B64-CC165E1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BC9-1E92-4558-AB12-DFB32CE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E0A5-F676-4181-B64D-EF4EB082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3849-2D92-4393-AA08-5202446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51B8-DC66-420D-995F-EC21B0D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BC0B-9370-4F7F-8308-630E63D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C783-9450-454C-BE1A-93D9B1F5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5CA7-1A82-4C39-A78C-B44FF573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E4E1-963A-4FD2-90F0-E35BF10F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8EE5-E7E2-4E93-8CD5-A54C1605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CA5A-5EBA-42F6-80CA-EE6A0238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90D2-3A48-4198-97FC-905430A8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4BF-87BF-4E66-B3FE-6DCCF19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86D9-943A-49DC-801B-D4E888A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FD1F-6E10-4424-AD61-B3C0814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3DA9-EE37-40F5-BD09-12F1070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71D0-009B-47D4-B371-3F69D4A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E5A8-5186-4CFD-BD99-3B85599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6132-1E4D-48AE-96CD-32C0422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DC00-B767-4D4B-B100-9BC2CE4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DA12-09DC-448A-901A-0DEC6E0B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EF85-2657-472D-9729-2CF1F4C8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6C61-288E-4F0F-86CD-E5E24733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CDA-70A3-4727-B0DB-CCA0090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CA0A-70B1-44DF-9B8B-71DEFA4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D101-6515-4997-873F-BEDEADE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BA88-1D69-4716-B251-B8510277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8523-4124-45CA-96F4-A568DE2D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20E6-47D1-4426-9A32-ED655DB5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31A9-4F0F-4A4B-8D2B-845E4F5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5C4F-B743-4959-AE14-73D9D9A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B7D72-CCF7-47A4-B08E-C6A3DC1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846D-9A7D-42DE-8563-80B5FCC1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1E6C-0740-4B8A-A4DB-37642966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CC2-12BF-4509-A175-B332760A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4FE8-B8AA-4189-9ED0-84527A37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DD4D-7E05-42C1-8C11-08615E5C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25B7-4669-46C6-A4C4-C7CFEBAA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9DB3F-C604-4830-ADAB-2CA175B9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3F8B-E1DB-4631-AC0D-3C24959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4655-6552-493E-8196-B003731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D6AB-4A38-4E03-9183-F60DBCAA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4E2F-72DE-4D68-9489-8F8A727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4336-29A4-47B2-B361-3C19423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36C1-8E29-4798-909D-CD8DFC0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39E-77D0-4EC5-99A0-11BACEF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54B9-672B-446E-A1B0-0B17D8A3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C5A6-6A24-4672-84F9-082BE79B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0991-1669-4B85-9F90-53B1A2D4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B816-6907-4F49-AF26-E0BA49D2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7CFC-7440-4EED-8FBF-B66C5A7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784E-2959-4602-9F2E-B65DEFE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AF9F-1546-4670-97C3-A49C77D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0FE3-E95A-4D0C-BBD6-66C48B3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4592-02C9-4A85-A77A-2266089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03D4-FA43-4BB0-90D0-78BCCD3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28-9DC8-4DD8-98EC-6371BB19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76944-A8E8-4E41-9822-BF96E87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FC4E-F1F9-4E6F-972E-3E076A21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CC58-94CA-4C28-85F6-70F7B19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F147-735C-4884-9E09-31244B1E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ABEB-C7DB-434B-B47C-9C3BA764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529-48C2-4219-8C1A-FC170A6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994-73BE-4D6C-99A7-6A80B74496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3BAF-AF3C-4494-8385-2F4231C910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75D-5ECA-4BAA-A89E-D7AA0D935E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5AF-DC71-432D-968D-1CDCEA2F55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DF6-1957-4874-9A3C-4E3A4DB644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5CCE-897A-473B-B25C-D18658BDCC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BC6-CDD5-43A6-87A1-1EDFA7E6482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stor i vre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dmet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oučavanje prirodnih proces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iroda: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prostor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vreme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ispunjen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materij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Materija je jedino što postoj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zauzima prostor [tela]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prostor izmenjen postojanjem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14400" y="236232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ju defini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vezujemo i sa promenama mater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 znamo da kažemo št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ćina ljudi prestane da misli o prostoru i vremenu još u detinjstvu. Ja sam malo zaostao u razvoju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3306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140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renutak kao element vrem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Skalarna priroda – jedna dimenz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18.10.2018 10:25:1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18.10.2018 10:25:2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560" indent="-457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Interval između dva trenutka kao mera vremena među n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 =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–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5 sekund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2018=1440=5779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(Ako je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0, onda je t =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3"/>
          <p:cNvSpPr/>
          <p:nvPr/>
        </p:nvSpPr>
        <p:spPr>
          <a:xfrm>
            <a:off x="7635960" y="446256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ka kao element prosto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ri dimenzije A(x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,y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,z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Rastojanje između dve tačke kao mera prostora među n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Pros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1879560" y="4343400"/>
          <a:ext cx="33782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343400"/>
                    <a:ext cx="33782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Line 17"/>
          <p:cNvSpPr/>
          <p:nvPr/>
        </p:nvSpPr>
        <p:spPr>
          <a:xfrm flipH="1">
            <a:off x="7201080" y="449568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4876920" y="6324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Object 19"/>
          <p:cNvGraphicFramePr/>
          <p:nvPr/>
        </p:nvGraphicFramePr>
        <p:xfrm>
          <a:off x="6907320" y="5694480"/>
          <a:ext cx="3045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07320" y="5694480"/>
                    <a:ext cx="304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20"/>
          <p:cNvGraphicFramePr/>
          <p:nvPr/>
        </p:nvGraphicFramePr>
        <p:xfrm>
          <a:off x="7682040" y="4229280"/>
          <a:ext cx="30456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2040" y="4229280"/>
                    <a:ext cx="304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21"/>
          <p:cNvSpPr/>
          <p:nvPr/>
        </p:nvSpPr>
        <p:spPr>
          <a:xfrm flipV="1">
            <a:off x="5372280" y="3809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3"/>
              <p:cNvSpPr txBox="1"/>
              <p:nvPr/>
            </p:nvSpPr>
            <p:spPr>
              <a:xfrm>
                <a:off x="5397480" y="3809880"/>
                <a:ext cx="279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Line 24"/>
          <p:cNvSpPr/>
          <p:nvPr/>
        </p:nvSpPr>
        <p:spPr>
          <a:xfrm>
            <a:off x="7201080" y="5715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765828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537228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7"/>
          <p:cNvSpPr/>
          <p:nvPr/>
        </p:nvSpPr>
        <p:spPr>
          <a:xfrm flipH="1">
            <a:off x="53722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3"/>
          <p:cNvSpPr/>
          <p:nvPr/>
        </p:nvSpPr>
        <p:spPr>
          <a:xfrm>
            <a:off x="7169040" y="56707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8889840" y="6010200"/>
          <a:ext cx="2541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89840" y="6010200"/>
                    <a:ext cx="254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5"/>
          <p:cNvGraphicFramePr/>
          <p:nvPr/>
        </p:nvGraphicFramePr>
        <p:xfrm>
          <a:off x="1768320" y="4876920"/>
          <a:ext cx="3489480" cy="46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8320" y="4876920"/>
                    <a:ext cx="348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990720" y="5446800"/>
          <a:ext cx="426708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5446800"/>
                    <a:ext cx="4267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Događaji i proce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ogađaj podrazumeva da se posmatrano telo (ili tela) nalaz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 određenoj tački (ili tačkama) pros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 jednom vremenskom trenutk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Proces je niz događ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lasični 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alileo Galilei i Isak Njut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Apsolut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Isti za svakog posmatrač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Istovremen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niform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Jednaki u svim pravcima / smerov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Nezavisni jedno od drugo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7391520" y="4775040"/>
            <a:ext cx="1600200" cy="195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7388280" y="2743200"/>
            <a:ext cx="1528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Moderni 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040" y="2362320"/>
            <a:ext cx="6629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Albert Ajnštaj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Relativ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Svako ima svoju meru rastojanja i vremene između dva događ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Nema istovreme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Neunifo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la deformišu prostor i vre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9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vetlost ne ide pravolinijsk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9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Vreme se uspor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Prostor i vreme su poveza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7912080" y="2387520"/>
            <a:ext cx="1003320" cy="1279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6159600" y="3886200"/>
            <a:ext cx="27558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36:58Z</dcterms:created>
  <dc:creator>Zlatan Soskic</dc:creator>
  <dc:description/>
  <dc:language>en-US</dc:language>
  <cp:lastModifiedBy>soskic.z</cp:lastModifiedBy>
  <dcterms:modified xsi:type="dcterms:W3CDTF">2018-10-19T13:04:52Z</dcterms:modified>
  <cp:revision>130</cp:revision>
  <dc:subject/>
  <dc:title>Fizički koncepti</dc:title>
</cp:coreProperties>
</file>