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B88-3429-45E7-8A61-FC4D4BC0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8D4-64FC-43DC-A38B-49D01B7D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FA4-6104-4ED3-A20E-885A6D8E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0DC-8674-4437-8A9C-4C5292FD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B385-BE4E-4EB3-8A5D-B60D071A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236C-9221-4D53-A34E-18C2ED1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717B-5700-4B3F-9CAF-7F0E4F9D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3CD8-CBB6-4ABC-B877-E1C3F642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73A-1F71-4319-B568-EF0347A2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823D-7365-4660-8F2D-994FA884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CE77-D413-47DE-A7C2-93E0CF5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FF1-E713-422D-9076-6E0FC50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A9C1-BA33-491A-A003-F02CADB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B386-773F-4833-A5B8-1B7A535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956-3B34-4AC6-98AA-6211F4B0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8213-D336-4435-BDD9-CF3D40D1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0268-172A-416A-B88B-5698D160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4B40-0F20-4A9B-8BAC-BB2D6541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E219-9142-4091-9146-3B426FB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BC2F-9A63-4E0C-B1BF-4AE728B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89AB-138A-4701-96C4-ABE4BBE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DCEB-4273-456B-9C2D-2827531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90E-BC4C-452A-85FF-1755971F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6C25-D9B5-4556-AD86-4B47D78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114C-4F86-41A7-95B1-54DBC32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9FD2-C98E-4F31-BA10-991AC63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B5D9-60A2-4B1C-B9F3-C16B40B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0D59-7C09-4029-8DF5-62E3A5D0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4221-7F2D-41E2-8762-F2018780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B07C-3591-4CDB-BC9D-2B1E04FF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FC15-12BA-486A-A601-C6BB11B4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63F6-57A0-4AEF-82A0-7D7AE682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EDD6-6738-4A39-89CC-940B92DB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6A1-C7AF-49A7-9D1F-0915893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D62E-BEC7-4F59-BB9C-F0444F27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2700-43BE-4CFA-ACF4-31212FA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40AA-E111-4716-B0AE-01910B59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57ED-5ADA-427E-95D1-F642263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0DFA-E2AB-47AA-8E7A-9347930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2F286-22A6-4C93-8455-87903F0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7786-E9F1-46FF-8CC1-2E3F5B0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641A-0D04-42E7-A57F-9F10ABDD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60E1-FFD3-4C09-9685-58C605C6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CCA1-CB9B-407E-B6E7-0F698BBE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159-99B8-4B9E-8E09-33DC86C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5B76-34B6-46F1-90F6-0F805713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3046-B452-40A6-9F2D-A5FB2769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744C-814B-4F18-80CB-31206F01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BBFF-7880-4152-8FD1-19B502B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A336-40E5-4B07-9396-653BB383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23EA-BE87-432A-A7CC-8D5C076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3320-5E8A-4922-BB2D-D85A207E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C104-874F-4578-B1B2-A5BD9F1E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75A4C-90AE-4663-94DD-1CA870FB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4E804-2B8B-42ED-821A-30914B5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83E-5DF7-446F-A02A-E12DE650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5BFC-0F73-4687-B0DB-C00C8AAD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C42D-55F4-4250-8D46-4D00B09F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C009-8F0E-4C54-A31B-94CAB93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3B5A-8EB0-4EE2-BE98-D4A53FBB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8DF1-6AF5-490F-8296-7A398FF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CC8E-561C-4B72-9319-35C8C9FD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2006-8CCE-4D4D-ACD3-A7E891D4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3475-DD21-48BD-B9A1-6A55DFE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F5FE7-3257-4907-B67D-8CF60FA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4F823-D681-4F48-986D-4719030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286-5E19-4CDF-A328-C1D1291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5FFA-1530-4828-A0B6-661CBCF9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AE00-4484-45AD-BA91-F1A06104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B8C47-53CB-4E79-A764-AC805C53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2D542-96E4-4F2E-876A-A02DB865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878E8-F7E6-4494-8A98-8F906F9D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DC3CD-4621-40BE-A539-874DACC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308D7-866C-41E9-82C8-86C71D7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5C54-EAC2-4550-86D7-DE3A61F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13183-8677-43F1-A714-15A1B4BD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6E27-7DB6-42B9-A309-584F618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054-E133-4536-8EE0-092A775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80E4-99B5-4A0B-A14D-6A92B01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381B-E1BA-4C94-9F9D-436AB85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640B-3B48-4C8A-B087-64799DE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A03C-A512-4ABF-996F-848C3A8B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6AE5-54CA-4C31-AFCF-71751F0C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98B0-240A-4706-9D16-16DAA633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C9D18-276F-4A27-AF9D-FA20EE4E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345CA-0EA5-4EF1-85D5-DC51C1E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E078-3DA5-4037-98B8-9273F85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23259-94EA-4479-9E97-A3238183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A3F-8206-4BF9-977D-B39E155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9940-2D3F-4C96-9FAB-5D5CF9C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9B7C-D58A-4A09-8EBE-0EDB5DE6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54657-65A1-4BEE-A730-7526D1E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3FFDB-C504-4A3E-9019-EA9CFD8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6279-7ED0-4FD8-9097-84FC4E3E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5B54F-A3B6-4A8E-9614-8E04252E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8F77-A464-4685-9D7A-612BC5BF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98A-B7F1-4595-B757-9F8AFF7F88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8A64-9248-4B7B-AC66-09C713C91D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5FD-986E-478C-A2BB-4B8F5A19D1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CBCF-9EED-4694-A492-D5A28F6F9A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73B-95E6-4C74-9E2B-52C1929E96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B04-51A3-4013-BCFA-40D5CB8365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E9D-C533-4157-B0F0-E6AAA1A5C1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AFEC-B1A7-4073-A7A2-8286F4FC95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kre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rodno opisivanje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4114800" y="30448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"/>
          <p:cNvSpPr/>
          <p:nvPr/>
        </p:nvSpPr>
        <p:spPr>
          <a:xfrm>
            <a:off x="2743200" y="498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5"/>
          <p:cNvSpPr/>
          <p:nvPr/>
        </p:nvSpPr>
        <p:spPr>
          <a:xfrm flipV="1">
            <a:off x="3048120" y="2854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2971800" y="49118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5691240" y="53276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4038480" y="300672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828760" y="51404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251240" y="2819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AutoShape 15"/>
          <p:cNvCxnSpPr>
            <a:stCxn id="465" idx="6"/>
            <a:endCxn id="462" idx="1"/>
          </p:cNvCxnSpPr>
          <p:nvPr/>
        </p:nvCxnSpPr>
        <p:spPr>
          <a:xfrm flipV="1">
            <a:off x="3124080" y="4758480"/>
            <a:ext cx="29916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AutoShape 16"/>
          <p:cNvCxnSpPr>
            <a:stCxn id="465" idx="6"/>
            <a:endCxn id="462" idx="2"/>
          </p:cNvCxnSpPr>
          <p:nvPr/>
        </p:nvCxnSpPr>
        <p:spPr>
          <a:xfrm flipV="1">
            <a:off x="3124080" y="4149360"/>
            <a:ext cx="25344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Line 19"/>
          <p:cNvSpPr/>
          <p:nvPr/>
        </p:nvSpPr>
        <p:spPr>
          <a:xfrm flipH="1" flipV="1">
            <a:off x="5638680" y="419076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20"/>
          <p:cNvSpPr/>
          <p:nvPr/>
        </p:nvSpPr>
        <p:spPr>
          <a:xfrm flipH="1" flipV="1">
            <a:off x="4038120" y="2438280"/>
            <a:ext cx="251460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1"/>
          <p:cNvSpPr/>
          <p:nvPr/>
        </p:nvSpPr>
        <p:spPr>
          <a:xfrm flipH="1" flipV="1">
            <a:off x="4876920" y="3352680"/>
            <a:ext cx="12189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514600" y="5029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27"/>
              <p:cNvSpPr txBox="1"/>
              <p:nvPr/>
            </p:nvSpPr>
            <p:spPr>
              <a:xfrm>
                <a:off x="4368960" y="492768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8"/>
              <p:cNvSpPr txBox="1"/>
              <p:nvPr/>
            </p:nvSpPr>
            <p:spPr>
              <a:xfrm>
                <a:off x="3360600" y="4029120"/>
                <a:ext cx="1492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9"/>
              <p:cNvSpPr txBox="1"/>
              <p:nvPr/>
            </p:nvSpPr>
            <p:spPr>
              <a:xfrm>
                <a:off x="5977080" y="4054320"/>
                <a:ext cx="57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0"/>
              <p:cNvSpPr txBox="1"/>
              <p:nvPr/>
            </p:nvSpPr>
            <p:spPr>
              <a:xfrm>
                <a:off x="5562720" y="2986200"/>
                <a:ext cx="15588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rodno opisivanje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Freeform 3"/>
          <p:cNvSpPr/>
          <p:nvPr/>
        </p:nvSpPr>
        <p:spPr>
          <a:xfrm>
            <a:off x="2514600" y="32734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1143000" y="5216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1447920" y="308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6"/>
          <p:cNvSpPr/>
          <p:nvPr/>
        </p:nvSpPr>
        <p:spPr>
          <a:xfrm>
            <a:off x="1371600" y="51404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091040" y="55562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8"/>
          <p:cNvSpPr/>
          <p:nvPr/>
        </p:nvSpPr>
        <p:spPr>
          <a:xfrm>
            <a:off x="2438280" y="323532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4228560" y="53690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651040" y="3048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AutoShape 11"/>
          <p:cNvCxnSpPr>
            <a:stCxn id="484" idx="6"/>
            <a:endCxn id="481" idx="1"/>
          </p:cNvCxnSpPr>
          <p:nvPr/>
        </p:nvCxnSpPr>
        <p:spPr>
          <a:xfrm flipV="1">
            <a:off x="1523880" y="4987080"/>
            <a:ext cx="29916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Text Box 16"/>
          <p:cNvSpPr/>
          <p:nvPr/>
        </p:nvSpPr>
        <p:spPr>
          <a:xfrm>
            <a:off x="914400" y="5257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7"/>
          <p:cNvSpPr/>
          <p:nvPr/>
        </p:nvSpPr>
        <p:spPr>
          <a:xfrm flipV="1">
            <a:off x="1447920" y="4800600"/>
            <a:ext cx="2971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8"/>
          <p:cNvSpPr/>
          <p:nvPr/>
        </p:nvSpPr>
        <p:spPr>
          <a:xfrm flipH="1" flipV="1">
            <a:off x="4191120" y="3124080"/>
            <a:ext cx="38088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9"/>
          <p:cNvSpPr/>
          <p:nvPr/>
        </p:nvSpPr>
        <p:spPr>
          <a:xfrm flipH="1" flipV="1">
            <a:off x="4266720" y="3657600"/>
            <a:ext cx="228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0"/>
              <p:cNvSpPr txBox="1"/>
              <p:nvPr/>
            </p:nvSpPr>
            <p:spPr>
              <a:xfrm>
                <a:off x="2768760" y="515628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1776240" y="4486320"/>
                <a:ext cx="1459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2"/>
              <p:cNvSpPr txBox="1"/>
              <p:nvPr/>
            </p:nvSpPr>
            <p:spPr>
              <a:xfrm>
                <a:off x="4495680" y="4638600"/>
                <a:ext cx="149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3"/>
              <p:cNvSpPr txBox="1"/>
              <p:nvPr/>
            </p:nvSpPr>
            <p:spPr>
              <a:xfrm>
                <a:off x="4343400" y="3657600"/>
                <a:ext cx="338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8" name="Text Box 24"/>
          <p:cNvSpPr/>
          <p:nvPr/>
        </p:nvSpPr>
        <p:spPr>
          <a:xfrm>
            <a:off x="5791320" y="3124080"/>
            <a:ext cx="3504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ac: tan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r: 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zit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5"/>
              <p:cNvSpPr txBox="1"/>
              <p:nvPr/>
            </p:nvSpPr>
            <p:spPr>
              <a:xfrm>
                <a:off x="7207200" y="3962520"/>
                <a:ext cx="1892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ordinatno opisivanje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143000" y="2590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kartove k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1066680" y="3054240"/>
                <a:ext cx="7772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5"/>
              <p:cNvSpPr txBox="1"/>
              <p:nvPr/>
            </p:nvSpPr>
            <p:spPr>
              <a:xfrm>
                <a:off x="3048120" y="4343400"/>
                <a:ext cx="3409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isao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0666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poznajem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dašnji položaj tela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dnosti brzine, m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emo odrediti položaj tela u bilo kom trenut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5"/>
              <p:cNvSpPr txBox="1"/>
              <p:nvPr/>
            </p:nvSpPr>
            <p:spPr>
              <a:xfrm>
                <a:off x="966960" y="3232080"/>
                <a:ext cx="77454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6"/>
          <p:cNvSpPr/>
          <p:nvPr/>
        </p:nvSpPr>
        <p:spPr>
          <a:xfrm>
            <a:off x="5181480" y="3352680"/>
            <a:ext cx="35816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652560" y="548640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istalna kugla za gledanje u buduć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432864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uduć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7467840" y="42670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dašnj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"/>
          <p:cNvSpPr/>
          <p:nvPr/>
        </p:nvSpPr>
        <p:spPr>
          <a:xfrm flipV="1">
            <a:off x="5257800" y="3886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1"/>
          <p:cNvSpPr/>
          <p:nvPr/>
        </p:nvSpPr>
        <p:spPr>
          <a:xfrm flipH="1" flipV="1">
            <a:off x="731484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2"/>
          <p:cNvSpPr/>
          <p:nvPr/>
        </p:nvSpPr>
        <p:spPr>
          <a:xfrm flipV="1">
            <a:off x="6095880" y="40384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isao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4"/>
              <p:cNvSpPr txBox="1"/>
              <p:nvPr/>
            </p:nvSpPr>
            <p:spPr>
              <a:xfrm>
                <a:off x="1219320" y="2362320"/>
                <a:ext cx="721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2"/>
              <p:cNvSpPr txBox="1"/>
              <p:nvPr/>
            </p:nvSpPr>
            <p:spPr>
              <a:xfrm>
                <a:off x="1168560" y="2909880"/>
                <a:ext cx="709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13"/>
              <p:cNvSpPr txBox="1"/>
              <p:nvPr/>
            </p:nvSpPr>
            <p:spPr>
              <a:xfrm>
                <a:off x="1158840" y="3444840"/>
                <a:ext cx="7299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4"/>
              <p:cNvSpPr txBox="1"/>
              <p:nvPr/>
            </p:nvSpPr>
            <p:spPr>
              <a:xfrm>
                <a:off x="1359000" y="4343400"/>
                <a:ext cx="6441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Text Box 15"/>
          <p:cNvSpPr/>
          <p:nvPr/>
        </p:nvSpPr>
        <p:spPr>
          <a:xfrm>
            <a:off x="281952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i, kako se brzina menj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brzanje – promena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914400" y="2666880"/>
            <a:ext cx="7848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brzanje je prvi izvod brzine kret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 vre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352680" y="5181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a] = [v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t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3263760" y="3657600"/>
                <a:ext cx="2374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4f271c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3"/>
          <p:cNvSpPr/>
          <p:nvPr/>
        </p:nvSpPr>
        <p:spPr>
          <a:xfrm>
            <a:off x="1676520" y="25876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914400" y="4530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5"/>
          <p:cNvSpPr/>
          <p:nvPr/>
        </p:nvSpPr>
        <p:spPr>
          <a:xfrm flipV="1">
            <a:off x="1219320" y="23968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"/>
          <p:cNvSpPr/>
          <p:nvPr/>
        </p:nvSpPr>
        <p:spPr>
          <a:xfrm>
            <a:off x="1143000" y="44546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3252960" y="48704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8"/>
          <p:cNvSpPr/>
          <p:nvPr/>
        </p:nvSpPr>
        <p:spPr>
          <a:xfrm>
            <a:off x="1600200" y="25495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3390480" y="4683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812960" y="23623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685800" y="457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024"/>
              <p:cNvSpPr txBox="1"/>
              <p:nvPr/>
            </p:nvSpPr>
            <p:spPr>
              <a:xfrm>
                <a:off x="3809880" y="3809880"/>
                <a:ext cx="746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025"/>
              <p:cNvSpPr txBox="1"/>
              <p:nvPr/>
            </p:nvSpPr>
            <p:spPr>
              <a:xfrm>
                <a:off x="2819520" y="2962440"/>
                <a:ext cx="149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Line 21"/>
          <p:cNvSpPr/>
          <p:nvPr/>
        </p:nvSpPr>
        <p:spPr>
          <a:xfrm flipV="1">
            <a:off x="3657600" y="350532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22"/>
          <p:cNvSpPr/>
          <p:nvPr/>
        </p:nvSpPr>
        <p:spPr>
          <a:xfrm flipH="1" flipV="1">
            <a:off x="2514600" y="30481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026"/>
              <p:cNvSpPr txBox="1"/>
              <p:nvPr/>
            </p:nvSpPr>
            <p:spPr>
              <a:xfrm>
                <a:off x="7256520" y="5019840"/>
                <a:ext cx="5763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1027"/>
              <p:cNvSpPr txBox="1"/>
              <p:nvPr/>
            </p:nvSpPr>
            <p:spPr>
              <a:xfrm>
                <a:off x="4081320" y="5129280"/>
                <a:ext cx="15940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Line 31"/>
          <p:cNvSpPr/>
          <p:nvPr/>
        </p:nvSpPr>
        <p:spPr>
          <a:xfrm flipV="1">
            <a:off x="7940520" y="548640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028"/>
              <p:cNvSpPr txBox="1"/>
              <p:nvPr/>
            </p:nvSpPr>
            <p:spPr>
              <a:xfrm>
                <a:off x="8001000" y="5800680"/>
                <a:ext cx="746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33"/>
          <p:cNvSpPr/>
          <p:nvPr/>
        </p:nvSpPr>
        <p:spPr>
          <a:xfrm flipH="1" flipV="1">
            <a:off x="7026120" y="55627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029"/>
              <p:cNvSpPr txBox="1"/>
              <p:nvPr/>
            </p:nvSpPr>
            <p:spPr>
              <a:xfrm>
                <a:off x="6095880" y="5943600"/>
                <a:ext cx="149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Line 35"/>
          <p:cNvSpPr/>
          <p:nvPr/>
        </p:nvSpPr>
        <p:spPr>
          <a:xfrm flipH="1">
            <a:off x="7086600" y="549576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6"/>
          <p:cNvSpPr/>
          <p:nvPr/>
        </p:nvSpPr>
        <p:spPr>
          <a:xfrm flipH="1">
            <a:off x="5699160" y="5495760"/>
            <a:ext cx="236232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4f271c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3"/>
          <p:cNvSpPr/>
          <p:nvPr/>
        </p:nvSpPr>
        <p:spPr>
          <a:xfrm>
            <a:off x="2987640" y="323856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222552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2530440" y="293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"/>
          <p:cNvSpPr/>
          <p:nvPr/>
        </p:nvSpPr>
        <p:spPr>
          <a:xfrm>
            <a:off x="2454120" y="50292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7"/>
          <p:cNvSpPr/>
          <p:nvPr/>
        </p:nvSpPr>
        <p:spPr>
          <a:xfrm>
            <a:off x="4564080" y="5486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8"/>
          <p:cNvSpPr/>
          <p:nvPr/>
        </p:nvSpPr>
        <p:spPr>
          <a:xfrm>
            <a:off x="2911320" y="316548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701600" y="5216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124080" y="2895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9810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24"/>
              <p:cNvSpPr txBox="1"/>
              <p:nvPr/>
            </p:nvSpPr>
            <p:spPr>
              <a:xfrm>
                <a:off x="5121360" y="438480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025"/>
              <p:cNvSpPr txBox="1"/>
              <p:nvPr/>
            </p:nvSpPr>
            <p:spPr>
              <a:xfrm>
                <a:off x="3994200" y="3460680"/>
                <a:ext cx="1458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Line 14"/>
          <p:cNvSpPr/>
          <p:nvPr/>
        </p:nvSpPr>
        <p:spPr>
          <a:xfrm flipV="1">
            <a:off x="4968720" y="412128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1026"/>
              <p:cNvSpPr txBox="1"/>
              <p:nvPr/>
            </p:nvSpPr>
            <p:spPr>
              <a:xfrm>
                <a:off x="2556000" y="4114800"/>
                <a:ext cx="12538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25"/>
          <p:cNvSpPr/>
          <p:nvPr/>
        </p:nvSpPr>
        <p:spPr>
          <a:xfrm flipH="1" flipV="1">
            <a:off x="4556160" y="3886200"/>
            <a:ext cx="380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6"/>
          <p:cNvSpPr/>
          <p:nvPr/>
        </p:nvSpPr>
        <p:spPr>
          <a:xfrm flipH="1" flipV="1">
            <a:off x="3749760" y="4273200"/>
            <a:ext cx="1218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reeform 3"/>
          <p:cNvSpPr/>
          <p:nvPr/>
        </p:nvSpPr>
        <p:spPr>
          <a:xfrm>
            <a:off x="2971800" y="3197160"/>
            <a:ext cx="2006640" cy="24004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"/>
          <p:cNvSpPr/>
          <p:nvPr/>
        </p:nvSpPr>
        <p:spPr>
          <a:xfrm>
            <a:off x="2209680" y="514044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5"/>
          <p:cNvSpPr/>
          <p:nvPr/>
        </p:nvSpPr>
        <p:spPr>
          <a:xfrm flipV="1">
            <a:off x="2514600" y="3006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6"/>
          <p:cNvSpPr/>
          <p:nvPr/>
        </p:nvSpPr>
        <p:spPr>
          <a:xfrm>
            <a:off x="2438280" y="506412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4548240" y="547992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2895480" y="3159000"/>
            <a:ext cx="15264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685760" y="5292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108240" y="2895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9810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0"/>
              <p:cNvSpPr txBox="1"/>
              <p:nvPr/>
            </p:nvSpPr>
            <p:spPr>
              <a:xfrm>
                <a:off x="3395520" y="4038480"/>
                <a:ext cx="338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2" name="Line 17"/>
          <p:cNvSpPr/>
          <p:nvPr/>
        </p:nvSpPr>
        <p:spPr>
          <a:xfrm flipH="1" flipV="1">
            <a:off x="3733920" y="4266720"/>
            <a:ext cx="1218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9"/>
          <p:cNvSpPr/>
          <p:nvPr/>
        </p:nvSpPr>
        <p:spPr>
          <a:xfrm flipH="1">
            <a:off x="4800240" y="3200400"/>
            <a:ext cx="30492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3352680" y="4800600"/>
            <a:ext cx="3657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3733920" y="4267080"/>
            <a:ext cx="1295280" cy="152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3"/>
          <p:cNvSpPr/>
          <p:nvPr/>
        </p:nvSpPr>
        <p:spPr>
          <a:xfrm flipV="1">
            <a:off x="4952880" y="4419360"/>
            <a:ext cx="4608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4"/>
          <p:cNvSpPr/>
          <p:nvPr/>
        </p:nvSpPr>
        <p:spPr>
          <a:xfrm flipH="1">
            <a:off x="3657600" y="4267080"/>
            <a:ext cx="76320" cy="55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5"/>
          <p:cNvSpPr/>
          <p:nvPr/>
        </p:nvSpPr>
        <p:spPr>
          <a:xfrm flipH="1" flipV="1">
            <a:off x="3657600" y="4822560"/>
            <a:ext cx="1295280" cy="14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"/>
              <p:cNvSpPr txBox="1"/>
              <p:nvPr/>
            </p:nvSpPr>
            <p:spPr>
              <a:xfrm>
                <a:off x="4962600" y="4335480"/>
                <a:ext cx="406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2"/>
              <p:cNvSpPr txBox="1"/>
              <p:nvPr/>
            </p:nvSpPr>
            <p:spPr>
              <a:xfrm>
                <a:off x="3979800" y="4800600"/>
                <a:ext cx="474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1" name="Rectangle 29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4f271c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rodno opisivanje 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brz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914040" y="2361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ngencijalno ubrz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zrok: promena intenziteta brz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"/>
              <p:cNvSpPr txBox="1"/>
              <p:nvPr/>
            </p:nvSpPr>
            <p:spPr>
              <a:xfrm>
                <a:off x="2819520" y="3352680"/>
                <a:ext cx="2743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Rectangle 5"/>
          <p:cNvSpPr/>
          <p:nvPr/>
        </p:nvSpPr>
        <p:spPr>
          <a:xfrm>
            <a:off x="914400" y="4267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no ubrz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rok: promena pravca br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3683160" y="5257800"/>
                <a:ext cx="1015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- defini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19320" y="3635280"/>
            <a:ext cx="6933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haničko kretanje 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ena položaja jednog tela u odnosu na dru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isao ubrz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3"/>
              <p:cNvSpPr txBox="1"/>
              <p:nvPr/>
            </p:nvSpPr>
            <p:spPr>
              <a:xfrm>
                <a:off x="1204920" y="2362320"/>
                <a:ext cx="7243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6"/>
              <p:cNvSpPr txBox="1"/>
              <p:nvPr/>
            </p:nvSpPr>
            <p:spPr>
              <a:xfrm>
                <a:off x="1344600" y="4343400"/>
                <a:ext cx="647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0" name="Text Box 7"/>
          <p:cNvSpPr/>
          <p:nvPr/>
        </p:nvSpPr>
        <p:spPr>
          <a:xfrm>
            <a:off x="2743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i, kako 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rz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8"/>
              <p:cNvSpPr txBox="1"/>
              <p:nvPr/>
            </p:nvSpPr>
            <p:spPr>
              <a:xfrm>
                <a:off x="1233360" y="2833560"/>
                <a:ext cx="7213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9"/>
              <p:cNvSpPr txBox="1"/>
              <p:nvPr/>
            </p:nvSpPr>
            <p:spPr>
              <a:xfrm>
                <a:off x="1174680" y="3352680"/>
                <a:ext cx="7332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- relativno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3720" y="327636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"U odnosu" = RELATIVN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aa8a14"/>
                </a:solidFill>
                <a:latin typeface="Gill Sans MT"/>
              </a:rPr>
              <a:t>REFERENTNO TE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oloža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39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ktor položa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2438280" y="525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 flipV="1">
            <a:off x="27432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14"/>
          <p:cNvCxnSpPr>
            <a:stCxn id="377" idx="6"/>
            <a:endCxn id="378" idx="3"/>
          </p:cNvCxnSpPr>
          <p:nvPr/>
        </p:nvCxnSpPr>
        <p:spPr>
          <a:xfrm>
            <a:off x="2819520" y="5257440"/>
            <a:ext cx="2589840" cy="470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9" name="AutoShape 15"/>
          <p:cNvCxnSpPr>
            <a:stCxn id="377" idx="7"/>
            <a:endCxn id="380" idx="3"/>
          </p:cNvCxnSpPr>
          <p:nvPr/>
        </p:nvCxnSpPr>
        <p:spPr>
          <a:xfrm flipV="1">
            <a:off x="2796840" y="3406320"/>
            <a:ext cx="959400" cy="179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381" name="Group 22"/>
          <p:cNvGrpSpPr/>
          <p:nvPr/>
        </p:nvGrpSpPr>
        <p:grpSpPr>
          <a:xfrm>
            <a:off x="1523880" y="5181480"/>
            <a:ext cx="1295640" cy="459720"/>
            <a:chOff x="1523880" y="5181480"/>
            <a:chExt cx="1295640" cy="459720"/>
          </a:xfrm>
        </p:grpSpPr>
        <p:sp>
          <p:nvSpPr>
            <p:cNvPr id="377" name="Oval 10"/>
            <p:cNvSpPr/>
            <p:nvPr/>
          </p:nvSpPr>
          <p:spPr>
            <a:xfrm>
              <a:off x="2666880" y="5181480"/>
              <a:ext cx="152640" cy="152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6"/>
            <p:cNvSpPr/>
            <p:nvPr/>
          </p:nvSpPr>
          <p:spPr>
            <a:xfrm>
              <a:off x="1523880" y="5181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alje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3"/>
          <p:cNvGrpSpPr/>
          <p:nvPr/>
        </p:nvGrpSpPr>
        <p:grpSpPr>
          <a:xfrm>
            <a:off x="5386320" y="5410080"/>
            <a:ext cx="1470240" cy="459720"/>
            <a:chOff x="5386320" y="5410080"/>
            <a:chExt cx="1470240" cy="459720"/>
          </a:xfrm>
        </p:grpSpPr>
        <p:sp>
          <p:nvSpPr>
            <p:cNvPr id="378" name="Oval 11"/>
            <p:cNvSpPr/>
            <p:nvPr/>
          </p:nvSpPr>
          <p:spPr>
            <a:xfrm>
              <a:off x="5386320" y="559764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7"/>
            <p:cNvSpPr/>
            <p:nvPr/>
          </p:nvSpPr>
          <p:spPr>
            <a:xfrm>
              <a:off x="5523840" y="54100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ušev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4"/>
          <p:cNvGrpSpPr/>
          <p:nvPr/>
        </p:nvGrpSpPr>
        <p:grpSpPr>
          <a:xfrm>
            <a:off x="3733920" y="3089160"/>
            <a:ext cx="1800000" cy="459720"/>
            <a:chOff x="3733920" y="3089160"/>
            <a:chExt cx="1800000" cy="459720"/>
          </a:xfrm>
        </p:grpSpPr>
        <p:sp>
          <p:nvSpPr>
            <p:cNvPr id="380" name="Oval 12"/>
            <p:cNvSpPr/>
            <p:nvPr/>
          </p:nvSpPr>
          <p:spPr>
            <a:xfrm>
              <a:off x="3733920" y="327672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3946680" y="308916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agujev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Object 19"/>
              <p:cNvSpPr txBox="1"/>
              <p:nvPr/>
            </p:nvSpPr>
            <p:spPr>
              <a:xfrm>
                <a:off x="3352680" y="39625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21"/>
              <p:cNvSpPr txBox="1"/>
              <p:nvPr/>
            </p:nvSpPr>
            <p:spPr>
              <a:xfrm>
                <a:off x="3919680" y="5410080"/>
                <a:ext cx="57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3"/>
          <p:cNvSpPr/>
          <p:nvPr/>
        </p:nvSpPr>
        <p:spPr>
          <a:xfrm>
            <a:off x="4876920" y="3886200"/>
            <a:ext cx="3581280" cy="76212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ktor p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ra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2438280" y="525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"/>
          <p:cNvSpPr/>
          <p:nvPr/>
        </p:nvSpPr>
        <p:spPr>
          <a:xfrm flipV="1">
            <a:off x="27432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2666880" y="5181480"/>
            <a:ext cx="15264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2"/>
          <p:cNvSpPr/>
          <p:nvPr/>
        </p:nvSpPr>
        <p:spPr>
          <a:xfrm>
            <a:off x="5386320" y="559764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3733920" y="32767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AutoShape 14"/>
          <p:cNvCxnSpPr>
            <a:stCxn id="394" idx="5"/>
            <a:endCxn id="395" idx="3"/>
          </p:cNvCxnSpPr>
          <p:nvPr/>
        </p:nvCxnSpPr>
        <p:spPr>
          <a:xfrm>
            <a:off x="2797200" y="5311440"/>
            <a:ext cx="261216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15"/>
          <p:cNvCxnSpPr>
            <a:stCxn id="394" idx="7"/>
            <a:endCxn id="396" idx="3"/>
          </p:cNvCxnSpPr>
          <p:nvPr/>
        </p:nvCxnSpPr>
        <p:spPr>
          <a:xfrm flipV="1">
            <a:off x="2796840" y="3406320"/>
            <a:ext cx="9594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Text Box 16"/>
          <p:cNvSpPr/>
          <p:nvPr/>
        </p:nvSpPr>
        <p:spPr>
          <a:xfrm>
            <a:off x="15238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552384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3946680" y="30891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9"/>
              <p:cNvSpPr txBox="1"/>
              <p:nvPr/>
            </p:nvSpPr>
            <p:spPr>
              <a:xfrm>
                <a:off x="3352680" y="4005360"/>
                <a:ext cx="94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0"/>
              <p:cNvSpPr txBox="1"/>
              <p:nvPr/>
            </p:nvSpPr>
            <p:spPr>
              <a:xfrm>
                <a:off x="3886200" y="5392800"/>
                <a:ext cx="644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04" name="AutoShape 21"/>
          <p:cNvCxnSpPr>
            <a:stCxn id="395" idx="1"/>
            <a:endCxn id="396" idx="4"/>
          </p:cNvCxnSpPr>
          <p:nvPr/>
        </p:nvCxnSpPr>
        <p:spPr>
          <a:xfrm flipH="1" flipV="1">
            <a:off x="3809160" y="3428280"/>
            <a:ext cx="1599480" cy="219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5" name="Object 22"/>
              <p:cNvSpPr txBox="1"/>
              <p:nvPr/>
            </p:nvSpPr>
            <p:spPr>
              <a:xfrm>
                <a:off x="4952880" y="3892680"/>
                <a:ext cx="35053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19"/>
          <p:cNvSpPr/>
          <p:nvPr/>
        </p:nvSpPr>
        <p:spPr>
          <a:xfrm>
            <a:off x="3809880" y="30448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rajektorija (putanj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2438280" y="498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 flipV="1">
            <a:off x="2743200" y="2854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2666880" y="491184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8"/>
          <p:cNvSpPr/>
          <p:nvPr/>
        </p:nvSpPr>
        <p:spPr>
          <a:xfrm>
            <a:off x="5386320" y="532764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3733920" y="30067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AutoShape 10"/>
          <p:cNvCxnSpPr>
            <a:stCxn id="411" idx="7"/>
            <a:endCxn id="412" idx="3"/>
          </p:cNvCxnSpPr>
          <p:nvPr/>
        </p:nvCxnSpPr>
        <p:spPr>
          <a:xfrm>
            <a:off x="2797200" y="4933800"/>
            <a:ext cx="261216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11"/>
          <p:cNvCxnSpPr>
            <a:stCxn id="411" idx="7"/>
            <a:endCxn id="413" idx="3"/>
          </p:cNvCxnSpPr>
          <p:nvPr/>
        </p:nvCxnSpPr>
        <p:spPr>
          <a:xfrm flipV="1">
            <a:off x="2796840" y="3136320"/>
            <a:ext cx="959400" cy="17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Text Box 12"/>
          <p:cNvSpPr/>
          <p:nvPr/>
        </p:nvSpPr>
        <p:spPr>
          <a:xfrm>
            <a:off x="1523880" y="49118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5523840" y="51404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3946680" y="2819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5"/>
              <p:cNvSpPr txBox="1"/>
              <p:nvPr/>
            </p:nvSpPr>
            <p:spPr>
              <a:xfrm>
                <a:off x="3241800" y="3887640"/>
                <a:ext cx="94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6"/>
              <p:cNvSpPr txBox="1"/>
              <p:nvPr/>
            </p:nvSpPr>
            <p:spPr>
              <a:xfrm>
                <a:off x="3886200" y="5122800"/>
                <a:ext cx="644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21" name="AutoShape 20"/>
          <p:cNvCxnSpPr>
            <a:stCxn id="411" idx="6"/>
            <a:endCxn id="406" idx="1"/>
          </p:cNvCxnSpPr>
          <p:nvPr/>
        </p:nvCxnSpPr>
        <p:spPr>
          <a:xfrm flipV="1">
            <a:off x="2819520" y="4758480"/>
            <a:ext cx="2991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21"/>
          <p:cNvCxnSpPr>
            <a:stCxn id="411" idx="6"/>
            <a:endCxn id="406" idx="2"/>
          </p:cNvCxnSpPr>
          <p:nvPr/>
        </p:nvCxnSpPr>
        <p:spPr>
          <a:xfrm flipV="1">
            <a:off x="2819520" y="4149360"/>
            <a:ext cx="2534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Line 23"/>
          <p:cNvSpPr/>
          <p:nvPr/>
        </p:nvSpPr>
        <p:spPr>
          <a:xfrm flipV="1">
            <a:off x="2819520" y="39207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4"/>
          <p:cNvSpPr/>
          <p:nvPr/>
        </p:nvSpPr>
        <p:spPr>
          <a:xfrm flipV="1">
            <a:off x="2743200" y="3539880"/>
            <a:ext cx="1371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1143000" y="2743200"/>
            <a:ext cx="6934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jektorija (putanja) je geometrijsko mesto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jeva vektora položaja tokom 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143000" y="4473720"/>
            <a:ext cx="6934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ut je dužina pu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3733920" y="54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r] = [s]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Gill Sans MT"/>
              </a:rPr>
              <a:t>Pomeraj i pu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cxnSp>
        <p:nvCxnSpPr>
          <p:cNvPr id="430" name="Straight Arrow Connector 3"/>
          <p:cNvCxnSpPr/>
          <p:nvPr/>
        </p:nvCxnSpPr>
        <p:spPr>
          <a:xfrm>
            <a:off x="2255760" y="2533320"/>
            <a:ext cx="5029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4"/>
          <p:cNvCxnSpPr/>
          <p:nvPr/>
        </p:nvCxnSpPr>
        <p:spPr>
          <a:xfrm flipH="1">
            <a:off x="2255400" y="2685600"/>
            <a:ext cx="5029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432" name="Object 5"/>
          <p:cNvGraphicFramePr/>
          <p:nvPr/>
        </p:nvGraphicFramePr>
        <p:xfrm>
          <a:off x="4605480" y="2762280"/>
          <a:ext cx="2412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5480" y="2762280"/>
                    <a:ext cx="241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Oval 6"/>
          <p:cNvSpPr/>
          <p:nvPr/>
        </p:nvSpPr>
        <p:spPr>
          <a:xfrm>
            <a:off x="1951200" y="249696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7361280" y="249228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1870200" y="2779560"/>
          <a:ext cx="37944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0200" y="277956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9"/>
          <p:cNvGraphicFramePr/>
          <p:nvPr/>
        </p:nvGraphicFramePr>
        <p:xfrm>
          <a:off x="7316640" y="2725560"/>
          <a:ext cx="3794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6640" y="272556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0"/>
          <p:cNvGraphicFramePr/>
          <p:nvPr/>
        </p:nvGraphicFramePr>
        <p:xfrm>
          <a:off x="3494160" y="3295800"/>
          <a:ext cx="234324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4160" y="3295800"/>
                    <a:ext cx="2343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Text Box 3"/>
          <p:cNvSpPr/>
          <p:nvPr/>
        </p:nvSpPr>
        <p:spPr>
          <a:xfrm>
            <a:off x="1143000" y="5581800"/>
            <a:ext cx="74674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Put i dužina pomeraja su jednaki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SAMO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kod pravolinijskog kretanja bez promene s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rc 12"/>
          <p:cNvSpPr/>
          <p:nvPr/>
        </p:nvSpPr>
        <p:spPr>
          <a:xfrm>
            <a:off x="2743200" y="3981600"/>
            <a:ext cx="3763800" cy="1523880"/>
          </a:xfrm>
          <a:custGeom>
            <a:avLst/>
            <a:gdLst/>
            <a:ahLst/>
            <a:rect l="l" t="t" r="r" b="b"/>
            <a:pathLst>
              <a:path stroke="0" w="3763963" h="1524000">
                <a:moveTo>
                  <a:pt x="2203" y="798858"/>
                </a:moveTo>
                <a:cubicBezTo>
                  <a:pt x="-41513" y="433357"/>
                  <a:pt x="562625" y="106880"/>
                  <a:pt x="1441265" y="21188"/>
                </a:cubicBezTo>
                <a:cubicBezTo>
                  <a:pt x="1724710" y="-6456"/>
                  <a:pt x="2020141" y="-7058"/>
                  <a:pt x="2304259" y="19429"/>
                </a:cubicBezTo>
                <a:cubicBezTo>
                  <a:pt x="3158608" y="99077"/>
                  <a:pt x="3763964" y="407029"/>
                  <a:pt x="3763964" y="761999"/>
                </a:cubicBezTo>
                <a:lnTo>
                  <a:pt x="1881982" y="762000"/>
                </a:lnTo>
                <a:lnTo>
                  <a:pt x="2203" y="798858"/>
                </a:lnTo>
                <a:close/>
              </a:path>
              <a:path fill="none" w="3763963" h="1524000">
                <a:moveTo>
                  <a:pt x="2203" y="798858"/>
                </a:moveTo>
                <a:cubicBezTo>
                  <a:pt x="-41513" y="433357"/>
                  <a:pt x="562625" y="106880"/>
                  <a:pt x="1441265" y="21188"/>
                </a:cubicBezTo>
                <a:cubicBezTo>
                  <a:pt x="1724710" y="-6456"/>
                  <a:pt x="2020141" y="-7058"/>
                  <a:pt x="2304259" y="19429"/>
                </a:cubicBezTo>
                <a:cubicBezTo>
                  <a:pt x="3158608" y="99077"/>
                  <a:pt x="3763964" y="407029"/>
                  <a:pt x="3763964" y="76199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3"/>
          <p:cNvSpPr/>
          <p:nvPr/>
        </p:nvSpPr>
        <p:spPr>
          <a:xfrm>
            <a:off x="2631960" y="466740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Object 14"/>
          <p:cNvGraphicFramePr/>
          <p:nvPr/>
        </p:nvGraphicFramePr>
        <p:xfrm>
          <a:off x="2550960" y="4948200"/>
          <a:ext cx="3794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0960" y="494820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Oval 15"/>
          <p:cNvSpPr/>
          <p:nvPr/>
        </p:nvSpPr>
        <p:spPr>
          <a:xfrm>
            <a:off x="6407280" y="466740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16"/>
          <p:cNvGraphicFramePr/>
          <p:nvPr/>
        </p:nvGraphicFramePr>
        <p:xfrm>
          <a:off x="6326280" y="5024520"/>
          <a:ext cx="37944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6280" y="5024520"/>
                    <a:ext cx="379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7"/>
          <p:cNvGraphicFramePr/>
          <p:nvPr/>
        </p:nvGraphicFramePr>
        <p:xfrm>
          <a:off x="4419720" y="4017960"/>
          <a:ext cx="31104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017960"/>
                    <a:ext cx="311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8"/>
          <p:cNvGraphicFramePr/>
          <p:nvPr/>
        </p:nvGraphicFramePr>
        <p:xfrm>
          <a:off x="4343400" y="486396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486396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54" name="Straight Arrow Connector 19"/>
          <p:cNvCxnSpPr>
            <a:stCxn id="444" idx="6"/>
            <a:endCxn id="447" idx="2"/>
          </p:cNvCxnSpPr>
          <p:nvPr/>
        </p:nvCxnSpPr>
        <p:spPr>
          <a:xfrm>
            <a:off x="2860560" y="4781160"/>
            <a:ext cx="354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455" name="Object 20"/>
          <p:cNvGraphicFramePr/>
          <p:nvPr/>
        </p:nvGraphicFramePr>
        <p:xfrm>
          <a:off x="7047000" y="4379760"/>
          <a:ext cx="1239840" cy="61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7000" y="4379760"/>
                    <a:ext cx="1239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19320" y="2666880"/>
            <a:ext cx="7467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rzina kretanja je prvi izvod vektora položa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 vre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42900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t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3962520" y="3429000"/>
                <a:ext cx="12398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23:35:50Z</dcterms:created>
  <dc:creator>Zlatan Soskic</dc:creator>
  <dc:description/>
  <dc:language>en-US</dc:language>
  <cp:lastModifiedBy>Zlatan Soskic</cp:lastModifiedBy>
  <dcterms:modified xsi:type="dcterms:W3CDTF">2019-10-14T20:09:11Z</dcterms:modified>
  <cp:revision>155</cp:revision>
  <dc:subject/>
  <dc:title>Fizički koncepti</dc:title>
</cp:coreProperties>
</file>