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1.wmf" ContentType="image/x-wmf"/>
  <Override PartName="/ppt/media/image3.png" ContentType="image/png"/>
  <Override PartName="/ppt/media/image9.png" ContentType="image/png"/>
  <Override PartName="/ppt/media/image17.wmf" ContentType="image/x-wmf"/>
  <Override PartName="/ppt/media/image8.wmf" ContentType="image/x-wmf"/>
  <Override PartName="/ppt/media/image7.wmf" ContentType="image/x-wmf"/>
  <Override PartName="/ppt/media/image10.wmf" ContentType="image/x-wmf"/>
  <Override PartName="/ppt/media/image2.png" ContentType="image/png"/>
  <Override PartName="/ppt/media/image6.png" ContentType="image/png"/>
  <Override PartName="/ppt/media/explode.wav" ContentType="audio/x-wav"/>
  <Override PartName="/ppt/media/image22.wmf" ContentType="image/x-wmf"/>
  <Override PartName="/ppt/media/image4.png" ContentType="image/png"/>
  <Override PartName="/ppt/media/image12.wmf" ContentType="image/x-wmf"/>
  <Override PartName="/ppt/media/glass.wav" ContentType="audio/x-wav"/>
  <Override PartName="/ppt/media/image25.wmf" ContentType="image/x-wmf"/>
  <Override PartName="/ppt/media/image14.png" ContentType="image/png"/>
  <Override PartName="/ppt/media/image24.wmf" ContentType="image/x-wmf"/>
  <Override PartName="/ppt/media/image23.wmf" ContentType="image/x-wmf"/>
  <Override PartName="/ppt/media/image5.png" ContentType="image/png"/>
  <Override PartName="/ppt/media/image21.wmf" ContentType="image/x-wmf"/>
  <Override PartName="/ppt/media/image19.wmf" ContentType="image/x-wmf"/>
  <Override PartName="/ppt/media/image13.jpeg" ContentType="image/jpeg"/>
  <Override PartName="/ppt/media/image20.wmf" ContentType="image/x-wmf"/>
  <Override PartName="/ppt/media/image18.wmf" ContentType="image/x-wmf"/>
  <Override PartName="/ppt/media/image16.wmf" ContentType="image/x-wmf"/>
  <Override PartName="/ppt/media/image1.jpeg" ContentType="image/jpeg"/>
  <Override PartName="/ppt/media/image15.wmf" ContentType="image/x-wmf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embeddings/oleObject12.bin" ContentType="application/vnd.openxmlformats-officedocument.oleObject"/>
  <Override PartName="/ppt/embeddings/oleObject13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7B1F2-F23A-4A6D-BFC6-20B7FBC4D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3A11C-6195-41C4-BBF8-E6FEF259D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14087-8754-4A1D-97E1-03809E6ED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8EB46-3753-48CA-AA40-48AA7AB0E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DAD27-CBF3-49BC-95B4-19880C072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93B01-3EA1-4006-AB21-42FE19D9F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1475B-26F4-49A1-9915-64A8DEBE7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1FB3D-2DAD-41FE-AA30-9C8F40122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B6C3B-1915-4C05-859D-E2A01E378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28428-2C7F-4D8E-8F7E-145B5CF99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15887-2756-4D23-92E3-758242482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0578B-4184-4653-B6AC-DBA354E9D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14C92-E115-4493-914F-1FB2D706F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FFB6A-4405-48C2-8CEE-D09EA32B8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5EEF3-9225-4A4B-91E8-B05B663A2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86411-A127-447A-8CD5-7F8948087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6F59F-56F2-41AA-AB13-1443CA1F5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64BAA3-05C2-4204-A2DA-627159E9A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F197EC-41E0-4C08-883E-81F7A998F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A4F383-9F42-4B0E-B4C7-F529CC950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B9C75C-86E4-48D3-A947-D18A99B7A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DF6D99-D3D4-45CC-A300-7166EF780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601FF-0332-43C6-A8A1-F08750DF6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76D57A-B480-48AD-8D32-DFCD34392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E1FA71-EC92-4674-B065-79CEFDA30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7E17B1-5AA5-46BC-A2A0-09CB4FDF0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309A16-F343-4DBE-B04D-A24673495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875FEA-D0EA-4D96-B29B-A2FB0289A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880A90-AEB0-4C5D-8121-EC2D03A17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EE1169-5A3D-47FC-ADE7-38B2F76CE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F0E82B-6909-4C21-8CAC-62A896B8A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FE9EC4-76BD-43D3-B099-7B1EA1127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6B5E83-2714-4632-A288-7A6F0849C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A38DD-906A-40C7-B849-3AAB08769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DCC0C8-1FD9-410F-87B6-3F9A0AA16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64A23E-E22A-49C2-8599-5E5F3E404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E14821-F921-4403-B34E-DB69B82F7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416AF5-5770-4168-8EC8-AC5C104FD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50969F-6E02-4A94-B718-2CFD266D6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75A921-1DD1-4674-9607-3F77D3D3A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FE17FE-D243-4B85-8AC3-69A63CF92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FFCCD5-DA82-4736-8521-AC4ECC827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83D3BE-1599-4B8A-814A-9F74BD9EB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5092C5-5AB6-4CC8-809B-6499AB66E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29315-1DF1-434E-90C7-9DFE05CC8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2EA25C-B14D-4FB2-A771-F74C798FB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919BBB-7133-406E-8345-38D9FF918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39EF7A-A714-4B95-9CC7-324DF1881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4C7371-7FB6-4DD9-9A56-2C8B695DD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B55A20-B8CA-46DB-9003-E4FA29B9A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D2D63B-6069-4E76-A35B-97A29206C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158F5A-BA91-418F-A3E5-7FF29CA2F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E5C7C3-0483-42FF-A41D-233DBC3F9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537B13-A8FF-4A57-8D9D-53C6DD3DB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C01AA8-8BCD-4EAE-BD00-A2280B7C6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D7E5C-A70D-4DEB-9BE3-7DD8C0E81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2CE40D-C010-454B-A2B9-D132C5771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4C5AD9-97D1-4FBE-B788-AFE5FDA9A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9FB988-CD82-4DE4-9462-2EDAA5BEB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024A69-D768-404F-BCE6-11CF275E7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E9E4EC-CD9D-4AAA-A4CB-A4E138B49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E61607-8195-4F9F-9F75-B0A3A58EB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1CAA1C-F875-4C9F-87BE-F79DDA5E7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5CC297-7AD9-47DF-8496-712F2BA60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9D3FB2-F8A7-4C09-BE6F-31513993E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34CCBF-B08E-44B7-A134-16BAD61F8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7D3EA-D2BE-4943-A113-BE89AB6E4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4AFA43-7348-4F4F-925F-E04A7C5D8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43E4CC-7406-48EA-ADB3-CE16AD1C8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56D750-61C0-4577-8885-9B26D1512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CCD165-F563-456A-B4CC-64BBBEEB7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C9984E-1EC3-4E90-A995-A19995661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FBB995-D118-43C6-A24C-C094AA430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8A2872-CD75-4532-85DE-D443ADC5A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C6FE68-CBE9-495A-B03F-28E7B36A0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C1DED0-4F19-469D-A363-008BA033B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9EDA35-40A1-499D-9CC0-0C5250529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BE6BC-BBE9-49CF-95FB-8A31DAA8E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690C4B-91CC-4C74-B0C3-6A3A65013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2C34A0-769F-476B-8229-581CFB858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86D918-5B7A-4E2D-8DBF-06AE16B53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62B06F-69F6-4570-8446-280304F10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EB8FBC-DB84-4648-8A4E-76AD063F7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5ED9C-E7F4-41A6-8550-5AC317A74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D9529-01BC-4704-83E7-AF0619E3E416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" name="Donut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Donut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Oval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Oval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Ov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2CC7A-41A4-4B53-9D4D-11B01BE7E793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Oval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Oval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" name="Oval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68D9E-3F28-44C4-87CE-998ABB1B40C2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0C7BC-6E2C-4468-ACC0-0785F6845913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BA074-F498-439A-B85A-01919316720F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B4124-8397-489A-B5B9-0719420F3F9B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Rectangle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Rectangle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5" name="Flowchart: Proces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Flowchart: Proces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1541D-5629-4E8A-BA0C-F6594F9A557A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image" Target="../media/image13.jpeg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8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7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9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0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1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22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23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24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25.wmf"/><Relationship Id="rId2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glass.wav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Fizi</a:t>
            </a: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čki koncepti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431720" y="1848960"/>
            <a:ext cx="7407000" cy="17528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320e04"/>
                </a:solidFill>
                <a:latin typeface="Gill Sans MT"/>
              </a:rPr>
              <a:t>Koncept promen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I</a:t>
            </a: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zvod</a:t>
            </a: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 - definicij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914040" y="2361960"/>
            <a:ext cx="80010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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d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 /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 /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 = 0,4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/m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6" name="Text Box 4"/>
          <p:cNvSpPr/>
          <p:nvPr/>
        </p:nvSpPr>
        <p:spPr>
          <a:xfrm>
            <a:off x="1295280" y="4495680"/>
            <a:ext cx="5639040" cy="15721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Izvod je infinitezimalni količn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Izvod je diferencijalni količn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7" name="Object 5"/>
              <p:cNvSpPr txBox="1"/>
              <p:nvPr/>
            </p:nvSpPr>
            <p:spPr>
              <a:xfrm>
                <a:off x="2438280" y="4834080"/>
                <a:ext cx="1219320" cy="80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sSub>
                      <m:e>
                        <m:r>
                          <m:t xml:space="preserve">'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8" name="Object 6"/>
              <p:cNvSpPr txBox="1"/>
              <p:nvPr/>
            </p:nvSpPr>
            <p:spPr>
              <a:xfrm>
                <a:off x="4127400" y="4834080"/>
                <a:ext cx="1192320" cy="80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sSub>
                      <m:e>
                        <m:r>
                          <m:t xml:space="preserve">'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T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59" name="Text Box 7"/>
          <p:cNvSpPr/>
          <p:nvPr/>
        </p:nvSpPr>
        <p:spPr>
          <a:xfrm>
            <a:off x="7010280" y="5029200"/>
            <a:ext cx="1905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[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'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[T]/[R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500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500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" dur="500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500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I</a:t>
            </a: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zvod</a:t>
            </a: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 - značenj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1" name="Object 7"/>
              <p:cNvSpPr txBox="1"/>
              <p:nvPr/>
            </p:nvSpPr>
            <p:spPr>
              <a:xfrm>
                <a:off x="1530360" y="2286000"/>
                <a:ext cx="5784840" cy="80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sSub>
                      <m:e>
                        <m:r>
                          <m:t xml:space="preserve">'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&gt;</m:t>
                    </m:r>
                    <m:r>
                      <m:t xml:space="preserve"> </m:t>
                    </m:r>
                    <m:r>
                      <m:t xml:space="preserve">0</m:t>
                    </m:r>
                    <m:r>
                      <m:t xml:space="preserve">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R</m:t>
                        </m:r>
                      </m:den>
                    </m:f>
                    <m:r>
                      <m:t xml:space="preserve">&gt;</m:t>
                    </m:r>
                    <m:r>
                      <m:t xml:space="preserve">0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kr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oc</m:t>
                        </m:r>
                      </m:sub>
                    </m:sSub>
                    <m:r>
                      <m:t xml:space="preserve">&gt;</m:t>
                    </m:r>
                    <m:r>
                      <m:t xml:space="preserve">0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kr</m:t>
                        </m:r>
                      </m:sub>
                    </m:sSub>
                    <m:r>
                      <m:t xml:space="preserve">&gt;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o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62" name="Text Box 8"/>
          <p:cNvSpPr/>
          <p:nvPr/>
        </p:nvSpPr>
        <p:spPr>
          <a:xfrm>
            <a:off x="1143000" y="3124080"/>
            <a:ext cx="67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Ako je izvod pozitivan, veličina T raste kada R ras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3" name="Object 9"/>
              <p:cNvSpPr txBox="1"/>
              <p:nvPr/>
            </p:nvSpPr>
            <p:spPr>
              <a:xfrm>
                <a:off x="1542960" y="3657600"/>
                <a:ext cx="5757840" cy="80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sSub>
                      <m:e>
                        <m:r>
                          <m:t xml:space="preserve">'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&lt;</m:t>
                    </m:r>
                    <m:r>
                      <m:t xml:space="preserve"> </m:t>
                    </m:r>
                    <m:r>
                      <m:t xml:space="preserve">0</m:t>
                    </m:r>
                    <m:r>
                      <m:t xml:space="preserve">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R</m:t>
                        </m:r>
                      </m:den>
                    </m:f>
                    <m:r>
                      <m:t xml:space="preserve">&lt;</m:t>
                    </m:r>
                    <m:r>
                      <m:t xml:space="preserve">0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kr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oc</m:t>
                        </m:r>
                      </m:sub>
                    </m:sSub>
                    <m:r>
                      <m:t xml:space="preserve">&lt;</m:t>
                    </m:r>
                    <m:r>
                      <m:t xml:space="preserve">0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kr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o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64" name="Text Box 10"/>
          <p:cNvSpPr/>
          <p:nvPr/>
        </p:nvSpPr>
        <p:spPr>
          <a:xfrm>
            <a:off x="1143000" y="449568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Ako je izvod negativan, veličina T opada kada R ras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5" name="Object 11"/>
              <p:cNvSpPr txBox="1"/>
              <p:nvPr/>
            </p:nvSpPr>
            <p:spPr>
              <a:xfrm>
                <a:off x="1544760" y="5029200"/>
                <a:ext cx="5784840" cy="80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sSub>
                      <m:e>
                        <m:r>
                          <m:t xml:space="preserve">'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0</m:t>
                    </m:r>
                    <m:r>
                      <m:t xml:space="preserve">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R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kr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o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kr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o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66" name="Text Box 12"/>
          <p:cNvSpPr/>
          <p:nvPr/>
        </p:nvSpPr>
        <p:spPr>
          <a:xfrm>
            <a:off x="1066680" y="586728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Ako je izvod nula, veličina T ne zavisi od 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I</a:t>
            </a: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zvod</a:t>
            </a: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 - smisao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8" name="Rectangle 3"/>
          <p:cNvSpPr/>
          <p:nvPr/>
        </p:nvSpPr>
        <p:spPr>
          <a:xfrm>
            <a:off x="914400" y="1981080"/>
            <a:ext cx="800100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600" spc="-1" strike="noStrike">
                <a:solidFill>
                  <a:srgbClr val="000000"/>
                </a:solidFill>
                <a:latin typeface="Times New Roman"/>
              </a:rPr>
              <a:t>Predviđanje promena, odnosno razvoja proces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600" spc="-1" strike="noStrike">
                <a:solidFill>
                  <a:srgbClr val="000000"/>
                </a:solidFill>
                <a:latin typeface="Times New Roman"/>
              </a:rPr>
              <a:t>Njutn-Lajbnicova formula – početak moderne nauk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600" spc="-1" strike="noStrike">
                <a:solidFill>
                  <a:srgbClr val="000000"/>
                </a:solidFill>
                <a:latin typeface="Times New Roman"/>
              </a:rPr>
              <a:t>Na osnovu kratkotrajnih (diferencijalnih) posmatranja predvideti dugotrajne (integralne) promen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9" name="Object 5"/>
          <p:cNvGraphicFramePr/>
          <p:nvPr/>
        </p:nvGraphicFramePr>
        <p:xfrm>
          <a:off x="2033640" y="2511360"/>
          <a:ext cx="4978440" cy="68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33640" y="2511360"/>
                    <a:ext cx="4978440" cy="68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1" name="Object 6"/>
          <p:cNvGraphicFramePr/>
          <p:nvPr/>
        </p:nvGraphicFramePr>
        <p:xfrm>
          <a:off x="3238560" y="3200400"/>
          <a:ext cx="2971800" cy="507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72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38560" y="3200400"/>
                    <a:ext cx="2971800" cy="507960"/>
                  </a:xfrm>
                  <a:prstGeom prst="rect">
                    <a:avLst/>
                  </a:prstGeom>
                  <a:ln w="9360">
                    <a:solidFill>
                      <a:srgbClr val="4f271c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373" name="Object 7"/>
          <p:cNvGraphicFramePr/>
          <p:nvPr/>
        </p:nvGraphicFramePr>
        <p:xfrm>
          <a:off x="2273400" y="3906720"/>
          <a:ext cx="5054400" cy="939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74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73400" y="3906720"/>
                    <a:ext cx="5054400" cy="939960"/>
                  </a:xfrm>
                  <a:prstGeom prst="rect">
                    <a:avLst/>
                  </a:prstGeom>
                  <a:ln w="9360">
                    <a:solidFill>
                      <a:srgbClr val="4f271c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375" name="Picture 8" descr="Image result for leibniz"/>
          <p:cNvPicPr/>
          <p:nvPr/>
        </p:nvPicPr>
        <p:blipFill>
          <a:blip r:embed="rId7"/>
          <a:stretch/>
        </p:blipFill>
        <p:spPr>
          <a:xfrm>
            <a:off x="7620120" y="3903840"/>
            <a:ext cx="761760" cy="94284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2" descr=""/>
          <p:cNvPicPr/>
          <p:nvPr/>
        </p:nvPicPr>
        <p:blipFill>
          <a:blip r:embed="rId8"/>
          <a:stretch/>
        </p:blipFill>
        <p:spPr>
          <a:xfrm>
            <a:off x="1216080" y="3886200"/>
            <a:ext cx="765000" cy="93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" dur="500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500"/>
                                        <p:tgtEl>
                                          <p:spTgt spid="3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3" dur="500"/>
                                        <p:tgtEl>
                                          <p:spTgt spid="3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Straight Connector 58"/>
          <p:cNvSpPr/>
          <p:nvPr/>
        </p:nvSpPr>
        <p:spPr>
          <a:xfrm>
            <a:off x="5257800" y="48052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I</a:t>
            </a: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zvod</a:t>
            </a: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 - grafički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9" name="Text Box 11"/>
          <p:cNvSpPr/>
          <p:nvPr/>
        </p:nvSpPr>
        <p:spPr>
          <a:xfrm>
            <a:off x="1295280" y="2743200"/>
            <a:ext cx="662940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GIB NA GRAFI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ČKOM PRIKAZ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0" name="Straight Arrow Connector 4"/>
          <p:cNvCxnSpPr/>
          <p:nvPr/>
        </p:nvCxnSpPr>
        <p:spPr>
          <a:xfrm flipV="1">
            <a:off x="1828440" y="3428640"/>
            <a:ext cx="1080" cy="3124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81" name="Straight Arrow Connector 6"/>
          <p:cNvCxnSpPr/>
          <p:nvPr/>
        </p:nvCxnSpPr>
        <p:spPr>
          <a:xfrm>
            <a:off x="1550520" y="6171840"/>
            <a:ext cx="50792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82" name="Oval 7"/>
          <p:cNvSpPr/>
          <p:nvPr/>
        </p:nvSpPr>
        <p:spPr>
          <a:xfrm>
            <a:off x="2438280" y="5410080"/>
            <a:ext cx="71640" cy="71640"/>
          </a:xfrm>
          <a:prstGeom prst="ellipse">
            <a:avLst/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Oval 11"/>
          <p:cNvSpPr/>
          <p:nvPr/>
        </p:nvSpPr>
        <p:spPr>
          <a:xfrm>
            <a:off x="3048120" y="4805280"/>
            <a:ext cx="71280" cy="71640"/>
          </a:xfrm>
          <a:prstGeom prst="ellipse">
            <a:avLst/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Oval 12"/>
          <p:cNvSpPr/>
          <p:nvPr/>
        </p:nvSpPr>
        <p:spPr>
          <a:xfrm>
            <a:off x="3809880" y="4343400"/>
            <a:ext cx="71640" cy="71280"/>
          </a:xfrm>
          <a:prstGeom prst="ellipse">
            <a:avLst/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Oval 13"/>
          <p:cNvSpPr/>
          <p:nvPr/>
        </p:nvSpPr>
        <p:spPr>
          <a:xfrm>
            <a:off x="5222880" y="4770360"/>
            <a:ext cx="71280" cy="71640"/>
          </a:xfrm>
          <a:prstGeom prst="ellipse">
            <a:avLst/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Oval 14"/>
          <p:cNvSpPr/>
          <p:nvPr/>
        </p:nvSpPr>
        <p:spPr>
          <a:xfrm>
            <a:off x="4495680" y="4348080"/>
            <a:ext cx="71640" cy="71640"/>
          </a:xfrm>
          <a:prstGeom prst="ellipse">
            <a:avLst/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7" name="Object 15"/>
          <p:cNvGraphicFramePr/>
          <p:nvPr/>
        </p:nvGraphicFramePr>
        <p:xfrm>
          <a:off x="6738840" y="6039000"/>
          <a:ext cx="155520" cy="26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8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38840" y="6039000"/>
                    <a:ext cx="155520" cy="26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9" name="Object 16"/>
          <p:cNvGraphicFramePr/>
          <p:nvPr/>
        </p:nvGraphicFramePr>
        <p:xfrm>
          <a:off x="1550880" y="3519360"/>
          <a:ext cx="244440" cy="289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90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50880" y="3519360"/>
                    <a:ext cx="244440" cy="28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1" name="Straight Connector 17"/>
          <p:cNvSpPr/>
          <p:nvPr/>
        </p:nvSpPr>
        <p:spPr>
          <a:xfrm>
            <a:off x="2509920" y="5446800"/>
            <a:ext cx="91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Straight Connector 22"/>
          <p:cNvSpPr/>
          <p:nvPr/>
        </p:nvSpPr>
        <p:spPr>
          <a:xfrm>
            <a:off x="3119400" y="4840200"/>
            <a:ext cx="309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3" name="Straight Arrow Connector 24"/>
          <p:cNvCxnSpPr/>
          <p:nvPr/>
        </p:nvCxnSpPr>
        <p:spPr>
          <a:xfrm>
            <a:off x="3200400" y="4839840"/>
            <a:ext cx="2160" cy="60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394" name="Straight Connector 26"/>
          <p:cNvSpPr/>
          <p:nvPr/>
        </p:nvSpPr>
        <p:spPr>
          <a:xfrm>
            <a:off x="2475000" y="5481720"/>
            <a:ext cx="0" cy="690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Straight Connector 28"/>
          <p:cNvSpPr/>
          <p:nvPr/>
        </p:nvSpPr>
        <p:spPr>
          <a:xfrm>
            <a:off x="3084480" y="487692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Straight Connector 30"/>
          <p:cNvSpPr/>
          <p:nvPr/>
        </p:nvSpPr>
        <p:spPr>
          <a:xfrm flipV="1">
            <a:off x="2500200" y="4865400"/>
            <a:ext cx="559080" cy="55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Straight Connector 14336"/>
          <p:cNvSpPr/>
          <p:nvPr/>
        </p:nvSpPr>
        <p:spPr>
          <a:xfrm flipV="1">
            <a:off x="3110040" y="4379400"/>
            <a:ext cx="699840" cy="435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Straight Connector 14340"/>
          <p:cNvSpPr/>
          <p:nvPr/>
        </p:nvSpPr>
        <p:spPr>
          <a:xfrm>
            <a:off x="3881520" y="43797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Straight Connector 14344"/>
          <p:cNvSpPr/>
          <p:nvPr/>
        </p:nvSpPr>
        <p:spPr>
          <a:xfrm>
            <a:off x="3881520" y="4379760"/>
            <a:ext cx="61416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Straight Connector 14346"/>
          <p:cNvSpPr/>
          <p:nvPr/>
        </p:nvSpPr>
        <p:spPr>
          <a:xfrm>
            <a:off x="4557600" y="4408560"/>
            <a:ext cx="665280" cy="39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1" name="Straight Arrow Connector 14348"/>
          <p:cNvCxnSpPr/>
          <p:nvPr/>
        </p:nvCxnSpPr>
        <p:spPr>
          <a:xfrm>
            <a:off x="2474640" y="5562360"/>
            <a:ext cx="610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02" name="Arc 14349"/>
          <p:cNvSpPr/>
          <p:nvPr/>
        </p:nvSpPr>
        <p:spPr>
          <a:xfrm>
            <a:off x="2095560" y="5067360"/>
            <a:ext cx="757080" cy="762120"/>
          </a:xfrm>
          <a:custGeom>
            <a:avLst/>
            <a:gdLst/>
            <a:ahLst/>
            <a:rect l="l" t="t" r="r" b="b"/>
            <a:pathLst>
              <a:path stroke="0" w="757238" h="762000">
                <a:moveTo>
                  <a:pt x="647181" y="112438"/>
                </a:moveTo>
                <a:cubicBezTo>
                  <a:pt x="717673" y="183820"/>
                  <a:pt x="757238" y="280366"/>
                  <a:pt x="757238" y="381000"/>
                </a:cubicBezTo>
                <a:lnTo>
                  <a:pt x="378619" y="381000"/>
                </a:lnTo>
                <a:lnTo>
                  <a:pt x="647181" y="112438"/>
                </a:lnTo>
                <a:close/>
              </a:path>
              <a:path fill="none" w="757238" h="762000">
                <a:moveTo>
                  <a:pt x="647181" y="112438"/>
                </a:moveTo>
                <a:cubicBezTo>
                  <a:pt x="717673" y="183820"/>
                  <a:pt x="757238" y="280366"/>
                  <a:pt x="757238" y="3810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Straight Connector 47"/>
          <p:cNvSpPr/>
          <p:nvPr/>
        </p:nvSpPr>
        <p:spPr>
          <a:xfrm>
            <a:off x="4572000" y="43815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4" name="Straight Arrow Connector 48"/>
          <p:cNvCxnSpPr/>
          <p:nvPr/>
        </p:nvCxnSpPr>
        <p:spPr>
          <a:xfrm>
            <a:off x="5417640" y="4379760"/>
            <a:ext cx="1080" cy="41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05" name="Straight Connector 49"/>
          <p:cNvSpPr/>
          <p:nvPr/>
        </p:nvSpPr>
        <p:spPr>
          <a:xfrm>
            <a:off x="4532400" y="4419720"/>
            <a:ext cx="0" cy="1752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6" name="Straight Arrow Connector 50"/>
          <p:cNvCxnSpPr/>
          <p:nvPr/>
        </p:nvCxnSpPr>
        <p:spPr>
          <a:xfrm>
            <a:off x="4532040" y="5028840"/>
            <a:ext cx="726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07" name="Arc 51"/>
          <p:cNvSpPr/>
          <p:nvPr/>
        </p:nvSpPr>
        <p:spPr>
          <a:xfrm>
            <a:off x="4152960" y="3976560"/>
            <a:ext cx="757080" cy="762120"/>
          </a:xfrm>
          <a:custGeom>
            <a:avLst/>
            <a:gdLst/>
            <a:ahLst/>
            <a:rect l="l" t="t" r="r" b="b"/>
            <a:pathLst>
              <a:path stroke="0" w="757238" h="762000">
                <a:moveTo>
                  <a:pt x="756584" y="403384"/>
                </a:moveTo>
                <a:cubicBezTo>
                  <a:pt x="752460" y="473891"/>
                  <a:pt x="728942" y="541857"/>
                  <a:pt x="688654" y="599693"/>
                </a:cubicBezTo>
                <a:lnTo>
                  <a:pt x="378619" y="381000"/>
                </a:lnTo>
                <a:lnTo>
                  <a:pt x="756584" y="403384"/>
                </a:lnTo>
                <a:close/>
              </a:path>
              <a:path fill="none" w="757238" h="762000">
                <a:moveTo>
                  <a:pt x="756584" y="403384"/>
                </a:moveTo>
                <a:cubicBezTo>
                  <a:pt x="752460" y="473891"/>
                  <a:pt x="728942" y="541857"/>
                  <a:pt x="688654" y="599693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Straight Connector 53"/>
          <p:cNvSpPr/>
          <p:nvPr/>
        </p:nvSpPr>
        <p:spPr>
          <a:xfrm>
            <a:off x="5257800" y="4842000"/>
            <a:ext cx="0" cy="1330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09" name="Object 62"/>
          <p:cNvGraphicFramePr/>
          <p:nvPr/>
        </p:nvGraphicFramePr>
        <p:xfrm>
          <a:off x="3200400" y="5002200"/>
          <a:ext cx="399960" cy="311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10" name="Object 6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200400" y="5002200"/>
                    <a:ext cx="399960" cy="31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1" name="Object 63"/>
          <p:cNvGraphicFramePr/>
          <p:nvPr/>
        </p:nvGraphicFramePr>
        <p:xfrm>
          <a:off x="2624040" y="5570640"/>
          <a:ext cx="311400" cy="311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12" name="Object 63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624040" y="5570640"/>
                    <a:ext cx="311400" cy="31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3" name="Object 64"/>
          <p:cNvGraphicFramePr/>
          <p:nvPr/>
        </p:nvGraphicFramePr>
        <p:xfrm>
          <a:off x="4738680" y="5056200"/>
          <a:ext cx="311040" cy="3110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14" name="Object 64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738680" y="5056200"/>
                    <a:ext cx="311040" cy="31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5" name="Object 65"/>
          <p:cNvGraphicFramePr/>
          <p:nvPr/>
        </p:nvGraphicFramePr>
        <p:xfrm>
          <a:off x="5462640" y="4438800"/>
          <a:ext cx="399960" cy="3110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16" name="Object 65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462640" y="4438800"/>
                    <a:ext cx="399960" cy="31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7" name="Object 67"/>
          <p:cNvGraphicFramePr/>
          <p:nvPr/>
        </p:nvGraphicFramePr>
        <p:xfrm>
          <a:off x="2577960" y="4735440"/>
          <a:ext cx="289080" cy="4222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418" name="Object 67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577960" y="4735440"/>
                    <a:ext cx="289080" cy="42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9" name="Object 69"/>
          <p:cNvGraphicFramePr/>
          <p:nvPr/>
        </p:nvGraphicFramePr>
        <p:xfrm>
          <a:off x="3254400" y="4178160"/>
          <a:ext cx="289080" cy="4222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420" name="Object 69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254400" y="4178160"/>
                    <a:ext cx="289080" cy="42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1" name="Object 70"/>
          <p:cNvGraphicFramePr/>
          <p:nvPr/>
        </p:nvGraphicFramePr>
        <p:xfrm>
          <a:off x="4044960" y="3938760"/>
          <a:ext cx="289080" cy="42228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422" name="Object 70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4044960" y="3938760"/>
                    <a:ext cx="289080" cy="42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3" name="Object 71"/>
          <p:cNvGraphicFramePr/>
          <p:nvPr/>
        </p:nvGraphicFramePr>
        <p:xfrm>
          <a:off x="4946760" y="4191120"/>
          <a:ext cx="288720" cy="4222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424" name="Object 71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4946760" y="4191120"/>
                    <a:ext cx="288720" cy="42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5" name="Object 72"/>
          <p:cNvGraphicFramePr/>
          <p:nvPr/>
        </p:nvGraphicFramePr>
        <p:xfrm>
          <a:off x="6707160" y="3914640"/>
          <a:ext cx="1200240" cy="42228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426" name="Object 72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6707160" y="3914640"/>
                    <a:ext cx="1200240" cy="42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7" name="Object 73"/>
          <p:cNvGraphicFramePr/>
          <p:nvPr/>
        </p:nvGraphicFramePr>
        <p:xfrm>
          <a:off x="6967440" y="4378320"/>
          <a:ext cx="711360" cy="42228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428" name="Object 73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6967440" y="4378320"/>
                    <a:ext cx="711360" cy="42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9" name="Object 74"/>
          <p:cNvGraphicFramePr/>
          <p:nvPr/>
        </p:nvGraphicFramePr>
        <p:xfrm>
          <a:off x="7007400" y="4835520"/>
          <a:ext cx="688680" cy="42228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430" name="Object 74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7007400" y="4835520"/>
                    <a:ext cx="688680" cy="42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4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7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Brzina i gradijen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32" name="Rectangle 3"/>
          <p:cNvSpPr/>
          <p:nvPr/>
        </p:nvSpPr>
        <p:spPr>
          <a:xfrm>
            <a:off x="914400" y="2362320"/>
            <a:ext cx="8001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Vremenski izvod naziva se </a:t>
            </a:r>
            <a:r>
              <a:rPr b="0" lang="hr-HR" sz="2800" spc="-1" strike="noStrike">
                <a:solidFill>
                  <a:srgbClr val="aa8a14"/>
                </a:solidFill>
                <a:latin typeface="Times New Roman"/>
              </a:rPr>
              <a:t>brzina promene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 velič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Rectangle 5"/>
          <p:cNvSpPr/>
          <p:nvPr/>
        </p:nvSpPr>
        <p:spPr>
          <a:xfrm>
            <a:off x="914400" y="4419720"/>
            <a:ext cx="8001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Prostorni izvod naziva se </a:t>
            </a:r>
            <a:r>
              <a:rPr b="0" lang="hr-HR" sz="2800" spc="-1" strike="noStrike">
                <a:solidFill>
                  <a:srgbClr val="aa8a14"/>
                </a:solidFill>
                <a:latin typeface="Times New Roman"/>
              </a:rPr>
              <a:t>gradijent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 velič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3" dur="500"/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8" dur="500"/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Opisivanje prirod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1" name="Text Box 3"/>
          <p:cNvSpPr/>
          <p:nvPr/>
        </p:nvSpPr>
        <p:spPr>
          <a:xfrm>
            <a:off x="3886200" y="2514600"/>
            <a:ext cx="137160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Materi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Text Box 4"/>
          <p:cNvSpPr/>
          <p:nvPr/>
        </p:nvSpPr>
        <p:spPr>
          <a:xfrm>
            <a:off x="1752480" y="3886200"/>
            <a:ext cx="175284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Supstanci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Text Box 5"/>
          <p:cNvSpPr/>
          <p:nvPr/>
        </p:nvSpPr>
        <p:spPr>
          <a:xfrm>
            <a:off x="5715000" y="3886200"/>
            <a:ext cx="190512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Fizičko pol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4" name="AutoShape 7"/>
          <p:cNvCxnSpPr>
            <a:stCxn id="321" idx="2"/>
            <a:endCxn id="322" idx="0"/>
          </p:cNvCxnSpPr>
          <p:nvPr/>
        </p:nvCxnSpPr>
        <p:spPr>
          <a:xfrm flipH="1">
            <a:off x="2628360" y="3029040"/>
            <a:ext cx="194364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5" name="AutoShape 8"/>
          <p:cNvCxnSpPr>
            <a:stCxn id="321" idx="2"/>
            <a:endCxn id="323" idx="0"/>
          </p:cNvCxnSpPr>
          <p:nvPr/>
        </p:nvCxnSpPr>
        <p:spPr>
          <a:xfrm>
            <a:off x="4571640" y="3029040"/>
            <a:ext cx="20962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26" name="Rectangle 9"/>
          <p:cNvSpPr/>
          <p:nvPr/>
        </p:nvSpPr>
        <p:spPr>
          <a:xfrm>
            <a:off x="2057400" y="4876920"/>
            <a:ext cx="5257800" cy="609480"/>
          </a:xfrm>
          <a:prstGeom prst="rect">
            <a:avLst/>
          </a:prstGeom>
          <a:solidFill>
            <a:srgbClr val="3891a7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Opis: Fizičke veličine </a:t>
            </a:r>
            <a:r>
              <a:rPr b="0" lang="hr-H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 Broj + jedin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Procesi u prirodi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914040" y="2362320"/>
            <a:ext cx="8001000" cy="12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309960" indent="-2401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Proces = promen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09960" indent="-2401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Promena </a:t>
            </a:r>
            <a:r>
              <a:rPr b="0" lang="hr-HR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 promena </a:t>
            </a:r>
            <a:r>
              <a:rPr b="0" lang="hr-HR" sz="3200" spc="-1" strike="noStrike">
                <a:solidFill>
                  <a:srgbClr val="aa8a14"/>
                </a:solidFill>
                <a:latin typeface="Gill Sans MT"/>
              </a:rPr>
              <a:t>broja</a:t>
            </a: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 fizičke veličin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9" name="Rectangle 4"/>
          <p:cNvSpPr/>
          <p:nvPr/>
        </p:nvSpPr>
        <p:spPr>
          <a:xfrm>
            <a:off x="3048120" y="3581280"/>
            <a:ext cx="4190760" cy="1295640"/>
          </a:xfrm>
          <a:prstGeom prst="rect">
            <a:avLst/>
          </a:prstGeom>
          <a:solidFill>
            <a:srgbClr val="3891a7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hr-HR" sz="36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1" lang="hr-HR" sz="36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1" lang="hr-HR" sz="3600" spc="-1" strike="noStrike">
                <a:solidFill>
                  <a:srgbClr val="000000"/>
                </a:solidFill>
                <a:latin typeface="Times New Roman"/>
              </a:rPr>
              <a:t> X</a:t>
            </a:r>
            <a:r>
              <a:rPr b="1" lang="hr-HR" sz="3600" spc="-1" strike="noStrike" baseline="-25000">
                <a:solidFill>
                  <a:srgbClr val="000000"/>
                </a:solidFill>
                <a:latin typeface="Times New Roman"/>
              </a:rPr>
              <a:t>krajnje</a:t>
            </a:r>
            <a:r>
              <a:rPr b="1" lang="hr-HR" sz="3600" spc="-1" strike="noStrike">
                <a:solidFill>
                  <a:srgbClr val="000000"/>
                </a:solidFill>
                <a:latin typeface="Times New Roman"/>
              </a:rPr>
              <a:t> - X</a:t>
            </a:r>
            <a:r>
              <a:rPr b="1" lang="hr-HR" sz="3600" spc="-1" strike="noStrike" baseline="-25000">
                <a:solidFill>
                  <a:srgbClr val="000000"/>
                </a:solidFill>
                <a:latin typeface="Times New Roman"/>
              </a:rPr>
              <a:t>početn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Text Box 5"/>
          <p:cNvSpPr/>
          <p:nvPr/>
        </p:nvSpPr>
        <p:spPr>
          <a:xfrm>
            <a:off x="1371600" y="5486400"/>
            <a:ext cx="3048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hr-HR" sz="2400" spc="-1" strike="noStrike">
                <a:solidFill>
                  <a:srgbClr val="000000"/>
                </a:solidFill>
                <a:latin typeface="Times New Roman"/>
              </a:rPr>
              <a:t>X = X</a:t>
            </a:r>
            <a:r>
              <a:rPr b="1" lang="hr-HR" sz="2400" spc="-1" strike="noStrike" baseline="-25000">
                <a:solidFill>
                  <a:srgbClr val="000000"/>
                </a:solidFill>
                <a:latin typeface="Times New Roman"/>
              </a:rPr>
              <a:t>početno</a:t>
            </a:r>
            <a:r>
              <a:rPr b="1" lang="hr-HR" sz="2400" spc="-1" strike="noStrike">
                <a:solidFill>
                  <a:srgbClr val="000000"/>
                </a:solidFill>
                <a:latin typeface="Times New Roman"/>
              </a:rPr>
              <a:t> - X</a:t>
            </a:r>
            <a:r>
              <a:rPr b="1" lang="hr-HR" sz="2400" spc="-1" strike="noStrike" baseline="-25000">
                <a:solidFill>
                  <a:srgbClr val="000000"/>
                </a:solidFill>
                <a:latin typeface="Times New Roman"/>
              </a:rPr>
              <a:t>krajn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Oval 6"/>
          <p:cNvSpPr/>
          <p:nvPr/>
        </p:nvSpPr>
        <p:spPr>
          <a:xfrm>
            <a:off x="1143000" y="5410080"/>
            <a:ext cx="3429000" cy="7621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Line 7"/>
          <p:cNvSpPr/>
          <p:nvPr/>
        </p:nvSpPr>
        <p:spPr>
          <a:xfrm>
            <a:off x="1143000" y="5257800"/>
            <a:ext cx="3429000" cy="12193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Line 8"/>
          <p:cNvSpPr/>
          <p:nvPr/>
        </p:nvSpPr>
        <p:spPr>
          <a:xfrm flipH="1">
            <a:off x="1142640" y="5105520"/>
            <a:ext cx="3429000" cy="1371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Text Box 9"/>
          <p:cNvSpPr/>
          <p:nvPr/>
        </p:nvSpPr>
        <p:spPr>
          <a:xfrm>
            <a:off x="6400800" y="5486400"/>
            <a:ext cx="1676520" cy="459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hr-HR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hr-HR" sz="2400" spc="-1" strike="noStrike">
                <a:solidFill>
                  <a:srgbClr val="000000"/>
                </a:solidFill>
                <a:latin typeface="Times New Roman"/>
              </a:rPr>
              <a:t>X] = [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Promen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Prostorn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Vremensk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U zavisnosti od drugih veličina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900" spc="-1" strike="noStrike">
                <a:solidFill>
                  <a:srgbClr val="572314"/>
                </a:solidFill>
                <a:latin typeface="Gill Sans MT"/>
              </a:rPr>
              <a:t>Opisivanje promena - tabelarno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38" name="Picture 4" descr=""/>
          <p:cNvPicPr/>
          <p:nvPr/>
        </p:nvPicPr>
        <p:blipFill>
          <a:blip r:embed="rId1"/>
          <a:stretch/>
        </p:blipFill>
        <p:spPr>
          <a:xfrm>
            <a:off x="1066680" y="2533680"/>
            <a:ext cx="3554640" cy="363852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5" descr=""/>
          <p:cNvPicPr/>
          <p:nvPr/>
        </p:nvPicPr>
        <p:blipFill>
          <a:blip r:embed="rId2"/>
          <a:stretch/>
        </p:blipFill>
        <p:spPr>
          <a:xfrm>
            <a:off x="4968720" y="2552760"/>
            <a:ext cx="356580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Opisivanje promena - grafički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graphicFrame>
        <p:nvGraphicFramePr>
          <p:cNvPr id="341" name="Object 4"/>
          <p:cNvGraphicFramePr/>
          <p:nvPr/>
        </p:nvGraphicFramePr>
        <p:xfrm>
          <a:off x="1295280" y="2409840"/>
          <a:ext cx="6096240" cy="406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2409840"/>
                    <a:ext cx="609624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Opisivanje promena - grafički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graphicFrame>
        <p:nvGraphicFramePr>
          <p:cNvPr id="344" name="Object 3"/>
          <p:cNvGraphicFramePr/>
          <p:nvPr/>
        </p:nvGraphicFramePr>
        <p:xfrm>
          <a:off x="1295280" y="2409840"/>
          <a:ext cx="6096240" cy="406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2409840"/>
                    <a:ext cx="609624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900" spc="-1" strike="noStrike">
                <a:solidFill>
                  <a:srgbClr val="572314"/>
                </a:solidFill>
                <a:latin typeface="Gill Sans MT"/>
              </a:rPr>
              <a:t>Opisivanje promena - analitički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7" name="Rectangle 3"/>
          <p:cNvSpPr/>
          <p:nvPr/>
        </p:nvSpPr>
        <p:spPr>
          <a:xfrm>
            <a:off x="914400" y="2362320"/>
            <a:ext cx="80010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t –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1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/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12 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ulaz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ulaz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-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0,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/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Text Box 4"/>
          <p:cNvSpPr/>
          <p:nvPr/>
        </p:nvSpPr>
        <p:spPr>
          <a:xfrm>
            <a:off x="3124080" y="4952880"/>
            <a:ext cx="2667240" cy="579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-4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 0,4 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Line 5"/>
          <p:cNvSpPr/>
          <p:nvPr/>
        </p:nvSpPr>
        <p:spPr>
          <a:xfrm>
            <a:off x="3200400" y="4572000"/>
            <a:ext cx="2590920" cy="1295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Line 6"/>
          <p:cNvSpPr/>
          <p:nvPr/>
        </p:nvSpPr>
        <p:spPr>
          <a:xfrm flipH="1">
            <a:off x="3276360" y="4419720"/>
            <a:ext cx="2361960" cy="15238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8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Infinitezimalne promen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52" name="Picture 6" descr=""/>
          <p:cNvPicPr/>
          <p:nvPr/>
        </p:nvPicPr>
        <p:blipFill>
          <a:blip r:embed="rId1"/>
          <a:stretch/>
        </p:blipFill>
        <p:spPr>
          <a:xfrm>
            <a:off x="857160" y="2286000"/>
            <a:ext cx="7829640" cy="2490840"/>
          </a:xfrm>
          <a:prstGeom prst="rect">
            <a:avLst/>
          </a:prstGeom>
          <a:ln w="0">
            <a:noFill/>
          </a:ln>
        </p:spPr>
      </p:pic>
      <p:sp>
        <p:nvSpPr>
          <p:cNvPr id="353" name="Text Box 7"/>
          <p:cNvSpPr/>
          <p:nvPr/>
        </p:nvSpPr>
        <p:spPr>
          <a:xfrm>
            <a:off x="914400" y="4876920"/>
            <a:ext cx="7696080" cy="183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pišem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R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 i zovemo </a:t>
            </a:r>
            <a:r>
              <a:rPr b="0" lang="hr-HR" sz="2400" spc="-1" strike="noStrike">
                <a:solidFill>
                  <a:srgbClr val="aa8a14"/>
                </a:solidFill>
                <a:latin typeface="Times New Roman"/>
              </a:rPr>
              <a:t>DIFERENCIJ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 INFINITEZIMALNO (beskona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mal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 </a:t>
            </a:r>
            <a:r>
              <a:rPr b="0" lang="en-US" sz="2400" spc="-1" strike="noStrike">
                <a:solidFill>
                  <a:srgbClr val="aa8a14"/>
                </a:solidFill>
                <a:latin typeface="Times New Roman"/>
              </a:rPr>
              <a:t>LOKAL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 </a:t>
            </a:r>
            <a:r>
              <a:rPr b="0" lang="en-US" sz="2400" spc="-1" strike="noStrike">
                <a:solidFill>
                  <a:srgbClr val="aa8a14"/>
                </a:solidFill>
                <a:latin typeface="Times New Roman"/>
              </a:rPr>
              <a:t>TRENUT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5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9T17:36:58Z</dcterms:created>
  <dc:creator>Zlatan Soskic</dc:creator>
  <dc:description/>
  <dc:language>en-US</dc:language>
  <cp:lastModifiedBy>soskic.z</cp:lastModifiedBy>
  <dcterms:modified xsi:type="dcterms:W3CDTF">2018-10-19T13:33:02Z</dcterms:modified>
  <cp:revision>109</cp:revision>
  <dc:subject/>
  <dc:title>Fizički koncepti</dc:title>
</cp:coreProperties>
</file>