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0A8-8ECA-4CE8-914D-8CD962EE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09F-85B4-4702-A04A-9E126F85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E68-3B9D-4481-BE8B-F7DB304D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8CF-9014-4E3D-9A82-2AD44FCD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4BC-0348-4CBA-B93F-37807758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73BB-19F6-4603-AC25-0693B9FC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958-E3D5-4EB5-ABD7-8D4773A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E547-DF8B-45EB-B952-00430C4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81E7-B4CF-434F-A612-147483F8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3F95-C8FD-4B1C-BF6D-76A44EF9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0476-CA6A-4414-9C57-F5A65CF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659-7201-4B50-AFEB-609FFA5B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A314-977E-4F97-A9B2-E3E966B3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31FD-1AB3-4EE9-8949-BB2ADE9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D871-F538-4F6D-BE7E-346A887C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225B-9266-47B4-969E-8A8ED5FD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883-FF3D-4A0F-989D-9575BFCD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B762-FF98-47F1-A78C-35099723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147A-138E-4D91-A7AF-FC87853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0A10-ED16-460E-8EDB-770629B4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CC0A-5D3A-4D98-B448-31264828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88E0-74D2-426D-A16A-D3D46A97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98C-8536-42C5-9A6E-754516D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17D0-139B-4FCA-8599-C6F8509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72AE-9717-480D-BF4D-4C14297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B4CF-CC34-4B76-972B-C039994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7BA7-F9E6-4D17-BEB6-E6976C8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2964-D01F-4F2F-A35C-61F57E5F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8391-7EAA-485F-8D6E-5744C632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1553-0402-488F-9C13-332A3140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A85D-71DD-4B4D-811D-D49A9C6D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773E-0E14-41DC-B091-0D3DB1E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DCE9-A2EC-415F-A23E-E9992805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07D-3353-401D-9CB0-CF9A6E8E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E334-169F-4FC8-91C9-11EFA40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8316-09B3-41DD-A022-C368491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2FC93-840F-4BFC-A4DB-281A777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1081-A8BF-45B1-A939-1561CA2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07FB-BD1F-409E-9044-E21ECB8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00BA-76CA-43CE-AE3F-0A96DFD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70C0-ADBE-4EAB-9D16-E4AFEE74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FEC9-306E-4674-B726-E0152311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9CBF-2FAB-4034-895B-513D835D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7B83-955A-43C4-B7CA-F355394C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DF6-A5C1-4E42-957F-44630518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01AA-0916-4F0A-82F2-76781A2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9D6EF-1912-421E-89E7-19A3CB5E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A74F-CEBD-400A-A06E-5555C68D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1DFA-84EC-4F7A-B47E-B7603F4D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1063-475B-4011-9F45-8EF89AEE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88C9-7FB7-45F0-8DB9-7AE2B97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9FED2-A6B5-40F9-BD54-90D0E60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285A-C6D0-4B7C-816E-B1303A30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ABDE-061C-4A49-845B-302AF0D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8A2CD-509C-4AF1-97B6-27D0300B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15E-1589-479C-8EC0-5C1652EA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0E1F-FE39-4725-B796-51B4870A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F9DC-A774-4DF7-A5C7-42A90613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5162F-7562-4E37-B13B-6440718C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AB561-400C-4E86-B711-C41A334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9D04-AB04-442D-89AE-3E7C5DDD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2E3F-69AA-4FCA-8D8D-55E85F0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EF29-72F6-491F-BCAC-6E7D295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2C57-A4FF-4711-926C-9EB27CC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689D-3DDB-493B-880C-F56B969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256FC-BB86-4B8A-B3E8-448545F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F4D-B5AF-43B7-96A4-AB4D159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9D46-F7FD-47B2-BA88-93616391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5258-0060-427E-A016-2698E13E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DE46A-9D24-4973-B2A1-EDD3CF6D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019-E6EF-4507-B707-276D2C9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7DE-E0EF-4D45-A0C7-FBF4840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73732-7C7C-41D7-89B3-66F07635A99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B0845-689D-4111-83B7-A69B6F8CE4F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687DA-03B8-4768-8748-7AC59587E0B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E0623-5226-4F34-BCE2-B6004A13145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05B16-BB95-4E83-9544-6CF58A7A45A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07005-5804-4299-9181-D3154F93905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NTERAKCIJE I STRUKTURA MATER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w Cen MT"/>
              </a:rPr>
              <a:t>Fundamentalne interakci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NTERAKCIJE - KLASIFIKA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58" name="Object 5"/>
          <p:cNvGraphicFramePr/>
          <p:nvPr/>
        </p:nvGraphicFramePr>
        <p:xfrm>
          <a:off x="1084320" y="2438280"/>
          <a:ext cx="66704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438280"/>
                    <a:ext cx="66704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UNDAMENTALNE INTERAK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995400" y="2548080"/>
          <a:ext cx="30718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548080"/>
                    <a:ext cx="30718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4"/>
          <p:cNvSpPr/>
          <p:nvPr/>
        </p:nvSpPr>
        <p:spPr>
          <a:xfrm>
            <a:off x="4343400" y="2438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ndamentalne interakcije se ne mogu objasniti pomo</a:t>
            </a: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ću drugih interakc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LASIFIKACIJA FUNDAMENTALNIH INTERAKCIJA PREMA DOMET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nterakcije kratkog dome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Nuklearna slab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Nuklearna ja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nterakcije dugog dome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Gravitacion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Elektromagnets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TENZITET FUNDAMENTALNIH INTERAK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uklearna ja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lektromagnets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uklearna slab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Gravitacio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990720" y="4800600"/>
                <a:ext cx="3327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ektromagnetsk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ravitacion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ktrona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4495680" y="4800600"/>
                <a:ext cx="3276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ektromagnetsk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ravitacion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tona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59:36Z</dcterms:created>
  <dc:creator>Zlatan Soskic</dc:creator>
  <dc:description/>
  <dc:language>en-US</dc:language>
  <cp:lastModifiedBy>Zlatan Soskic</cp:lastModifiedBy>
  <dcterms:modified xsi:type="dcterms:W3CDTF">2019-11-24T10:07:26Z</dcterms:modified>
  <cp:revision>26</cp:revision>
  <dc:subject/>
  <dc:title>Interakcije i struktura materije</dc:title>
</cp:coreProperties>
</file>