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22500-C2F8-47B7-88A9-FB7C5E71FE2A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94AAA4-A626-4CF6-AE09-05A3EADE439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8A9DCD-955A-45EE-9FE6-3962291D28E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04497A-15D4-4075-8BD6-312D89258A7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EE1A5-FDF2-4409-8B57-A9D4218704C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E8D7C-B9CD-4736-AFB8-784D94666C2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6BA71-672F-4943-B14F-661A5A095FD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31E137-75A3-44EB-97CA-3331E94A384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1A03-83EA-4EE4-AEB7-324CC950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F2F4-7F8A-4E95-BCB8-1CC1639C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CF4-ED66-456E-AB38-A863372B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5AF3-D248-4613-BF7F-173A6EC1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36FA-9D0D-4CD3-87F0-7C4DF36F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C8A9-AAE8-466F-9C90-FE9B13CD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7B7F-5BAA-41EC-BC2B-9BD8F55F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D1CC-40B6-4C7A-86F3-808EFD04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DA0B-712A-4791-8944-BAA3F741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63C9-99A7-4907-9C0B-0A603940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73F7-29F7-4668-83B3-E726C625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6EAC-D441-48FD-B769-D6B304AD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A72F-E28E-4F33-A18E-AD018BFE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E57C-D232-4CE7-9F5A-DD490681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6EED-F508-47CF-BA1B-9C5C6A0A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6D89-213D-4BC8-8BAD-9AA02B77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A00C-B196-4478-A395-3F8BD2D4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B512F-11BC-4705-9266-D95CF2CD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641DE-3662-42A1-A1C6-7480703A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C0DB0-0721-4B5F-9D97-D07E82A7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79CA1-A353-4EA0-A3C8-C950D27D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849C8-31A7-4B09-9999-7C821707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EA29-719B-4B60-9CD5-B8F924AB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2BCB4-AF4D-4465-91B2-FEE9C8C3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760FB-33D2-410C-882E-F788EC17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145EB-780F-4ADF-B2BC-3EA94A9C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FEE5B-EA9D-4865-B1F4-B23919B7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FC911-B55F-41C9-AB80-E81F4458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BEBCC-09D8-4404-A306-249EEDB5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B1405-512B-4CC5-981A-532DD513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E0B1A-54C4-4A7B-8755-46709C9B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3CE9E-9E0A-4A0D-B173-B31CAA1F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15F81-0157-48A8-AD58-E8726DC9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ACC2-1503-404A-92A9-EDD8F3AE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4CBD5-AF03-4A1E-9EA7-B0F76D1F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AA311-15AA-45B2-8758-65815B6B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2FFE1-D053-4BB8-8D9A-C51BC738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9ABBD-3F5E-4127-86FE-BB16A84E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F5782-C716-44B8-BA28-28E94F8C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78CF7-82FD-41A7-9174-6A121D87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1D7BC-505F-4599-9F1F-0107D59B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70ED9-D1D7-4A1F-B6D0-6C907188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47FBA-BAD2-440E-93B9-0E954F88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8177D-8011-4C5E-90FA-251D61BD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80A8-9329-4195-A959-87A02A8D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D8473-7455-4BA5-9AE0-CD59FCE9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39AE5-C8EE-4A44-AE80-BF23EBD5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84D5F-078F-497F-AFA6-40044D54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5F5A0-2E07-4104-98C8-9DAC4651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54248-3973-428C-87E4-A40DC290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23F7C-FB5B-429A-9A84-731AEC32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66D22-ED2D-4E94-A2BF-0DCCD0D3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50273-9354-4755-AEE1-1064D78C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61066-DCCC-466D-A85F-71F3BDCE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5E508-42CE-42F3-B304-E9A1F642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D6D-BFB6-4AF8-9FB4-F2E50A75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9F943-17DB-4ADC-B4C1-BCEE7A95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63D0D-4B58-433F-8283-2D575550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EA3A2-E9FF-4374-AAF1-597412DF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EC730-2FD0-4B51-AC02-F2258726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5C39E-5AAE-467C-A8ED-D8DB64D7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502F8-4864-40EB-9DBE-DE1A0751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3CBF6-7F57-4467-859F-3F0831DF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472C5-4D67-43ED-8BC1-482F378C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3E15A-4272-41FD-B12F-E75CDAD8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2E2BE-B918-47A1-8D8F-F23F5030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2D7A-3BBE-488F-B32E-0FCCA03C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7E595-7B7F-4B13-8D92-FC90FA98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57755-8003-46B4-BBA4-566EE654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67C23-8E09-4F5F-A2EA-2DBF344B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7511-360F-4822-AA53-C48D07AE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D60A-287D-4A03-A0A2-4AD11CEF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F387B-DB0E-452E-B19D-D6B5DA7463C0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8B431-4044-41DB-949D-030DA69A391A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8F6DA-ED67-4D49-8680-B58DC20ECCF0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EF05E-F2C8-488C-A6F3-DF2678126674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290E9-E8C1-4E9C-A53F-5D3A9E91D538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D2670-CB27-4F16-8E0A-7062ABCE1BFC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GRAVITACIONA INTERAKCI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516720" y="4868640"/>
            <a:ext cx="2208240" cy="14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d0d0d"/>
                </a:solidFill>
                <a:latin typeface="Tw Cen MT"/>
              </a:rPr>
              <a:t>Interakcija i struktura materij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GRAVITACIONA SIL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MATERIJALNE TAČK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990680" y="2362320"/>
            <a:ext cx="392436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ravac duži koja spaja materijalne tačk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5"/>
              <p:cNvSpPr txBox="1"/>
              <p:nvPr/>
            </p:nvSpPr>
            <p:spPr>
              <a:xfrm>
                <a:off x="5411880" y="4267080"/>
                <a:ext cx="24778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6"/>
              <p:cNvSpPr txBox="1"/>
              <p:nvPr/>
            </p:nvSpPr>
            <p:spPr>
              <a:xfrm>
                <a:off x="5486400" y="5221440"/>
                <a:ext cx="247644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Oval 7"/>
          <p:cNvSpPr/>
          <p:nvPr/>
        </p:nvSpPr>
        <p:spPr>
          <a:xfrm>
            <a:off x="1600200" y="4400640"/>
            <a:ext cx="76320" cy="7596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Oval 8"/>
          <p:cNvSpPr/>
          <p:nvPr/>
        </p:nvSpPr>
        <p:spPr>
          <a:xfrm>
            <a:off x="3505320" y="4400640"/>
            <a:ext cx="75960" cy="7596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9"/>
              <p:cNvSpPr txBox="1"/>
              <p:nvPr/>
            </p:nvSpPr>
            <p:spPr>
              <a:xfrm>
                <a:off x="1474920" y="4448160"/>
                <a:ext cx="3538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10"/>
              <p:cNvSpPr txBox="1"/>
              <p:nvPr/>
            </p:nvSpPr>
            <p:spPr>
              <a:xfrm>
                <a:off x="3405240" y="4400640"/>
                <a:ext cx="4046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272" name="AutoShape 12"/>
          <p:cNvCxnSpPr/>
          <p:nvPr/>
        </p:nvCxnSpPr>
        <p:spPr>
          <a:xfrm>
            <a:off x="1676520" y="444780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73" name="Line 13"/>
          <p:cNvSpPr/>
          <p:nvPr/>
        </p:nvSpPr>
        <p:spPr>
          <a:xfrm>
            <a:off x="1676520" y="44481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Line 15"/>
          <p:cNvSpPr/>
          <p:nvPr/>
        </p:nvSpPr>
        <p:spPr>
          <a:xfrm>
            <a:off x="2895480" y="444816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16"/>
              <p:cNvSpPr txBox="1"/>
              <p:nvPr/>
            </p:nvSpPr>
            <p:spPr>
              <a:xfrm>
                <a:off x="1754280" y="3917880"/>
                <a:ext cx="404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17"/>
              <p:cNvSpPr txBox="1"/>
              <p:nvPr/>
            </p:nvSpPr>
            <p:spPr>
              <a:xfrm>
                <a:off x="3048120" y="3892680"/>
                <a:ext cx="4046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7" name="Rectangle 18"/>
          <p:cNvSpPr/>
          <p:nvPr/>
        </p:nvSpPr>
        <p:spPr>
          <a:xfrm>
            <a:off x="4991040" y="3200400"/>
            <a:ext cx="392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mer: privlačna si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4991040" y="3657600"/>
            <a:ext cx="392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tenzite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279" name="Group 26"/>
          <p:cNvGrpSpPr/>
          <p:nvPr/>
        </p:nvGrpSpPr>
        <p:grpSpPr>
          <a:xfrm>
            <a:off x="1635120" y="3429000"/>
            <a:ext cx="1911240" cy="965160"/>
            <a:chOff x="1635120" y="3429000"/>
            <a:chExt cx="1911240" cy="965160"/>
          </a:xfrm>
        </p:grpSpPr>
        <mc:AlternateContent>
          <mc:Choice xmlns:a14="http://schemas.microsoft.com/office/drawing/2010/main" Requires="a14">
            <p:sp>
              <p:nvSpPr>
                <p:cNvPr id="280" name="Object 21"/>
                <p:cNvSpPr txBox="1"/>
                <p:nvPr/>
              </p:nvSpPr>
              <p:spPr>
                <a:xfrm>
                  <a:off x="2451240" y="3429000"/>
                  <a:ext cx="22680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1" name="Line 22"/>
            <p:cNvSpPr/>
            <p:nvPr/>
          </p:nvSpPr>
          <p:spPr>
            <a:xfrm flipV="1">
              <a:off x="1635120" y="35560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2" name="Line 24"/>
            <p:cNvSpPr/>
            <p:nvPr/>
          </p:nvSpPr>
          <p:spPr>
            <a:xfrm flipV="1">
              <a:off x="3546360" y="35560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3" name="Line 25"/>
            <p:cNvSpPr/>
            <p:nvPr/>
          </p:nvSpPr>
          <p:spPr>
            <a:xfrm>
              <a:off x="1635120" y="36576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GRAVITACIONA SIL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TEL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990680" y="2362320"/>
            <a:ext cx="392436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Vektorski zbir sila koje deluju na sve tačke te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Oval 7"/>
          <p:cNvSpPr/>
          <p:nvPr/>
        </p:nvSpPr>
        <p:spPr>
          <a:xfrm>
            <a:off x="3505320" y="4400640"/>
            <a:ext cx="75960" cy="7596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4991040" y="3200400"/>
            <a:ext cx="392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mer: privlačna si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Rectangle 22"/>
          <p:cNvSpPr/>
          <p:nvPr/>
        </p:nvSpPr>
        <p:spPr>
          <a:xfrm>
            <a:off x="4991040" y="3733920"/>
            <a:ext cx="39243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avac i intenzitet zavise od oblika tela, rasporeda mase na telima i međusobnog položaja te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1523880" y="2895480"/>
            <a:ext cx="76320" cy="289584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290" name="Group 64"/>
          <p:cNvGrpSpPr/>
          <p:nvPr/>
        </p:nvGrpSpPr>
        <p:grpSpPr>
          <a:xfrm>
            <a:off x="1523880" y="2971800"/>
            <a:ext cx="76320" cy="2743200"/>
            <a:chOff x="1523880" y="2971800"/>
            <a:chExt cx="76320" cy="2743200"/>
          </a:xfrm>
        </p:grpSpPr>
        <p:sp>
          <p:nvSpPr>
            <p:cNvPr id="291" name="Line 25"/>
            <p:cNvSpPr/>
            <p:nvPr/>
          </p:nvSpPr>
          <p:spPr>
            <a:xfrm>
              <a:off x="1523880" y="29718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2" name="Line 26"/>
            <p:cNvSpPr/>
            <p:nvPr/>
          </p:nvSpPr>
          <p:spPr>
            <a:xfrm>
              <a:off x="1523880" y="30481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>
              <a:off x="1523880" y="31240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4" name="Line 28"/>
            <p:cNvSpPr/>
            <p:nvPr/>
          </p:nvSpPr>
          <p:spPr>
            <a:xfrm>
              <a:off x="1523880" y="32004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5" name="Line 29"/>
            <p:cNvSpPr/>
            <p:nvPr/>
          </p:nvSpPr>
          <p:spPr>
            <a:xfrm>
              <a:off x="1523880" y="32767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6" name="Line 30"/>
            <p:cNvSpPr/>
            <p:nvPr/>
          </p:nvSpPr>
          <p:spPr>
            <a:xfrm>
              <a:off x="1523880" y="33526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7" name="Line 31"/>
            <p:cNvSpPr/>
            <p:nvPr/>
          </p:nvSpPr>
          <p:spPr>
            <a:xfrm>
              <a:off x="1523880" y="34290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8" name="Line 32"/>
            <p:cNvSpPr/>
            <p:nvPr/>
          </p:nvSpPr>
          <p:spPr>
            <a:xfrm>
              <a:off x="1523880" y="35053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9" name="Line 33"/>
            <p:cNvSpPr/>
            <p:nvPr/>
          </p:nvSpPr>
          <p:spPr>
            <a:xfrm>
              <a:off x="1523880" y="35812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00" name="Line 34"/>
            <p:cNvSpPr/>
            <p:nvPr/>
          </p:nvSpPr>
          <p:spPr>
            <a:xfrm>
              <a:off x="1523880" y="36576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01" name="Line 35"/>
            <p:cNvSpPr/>
            <p:nvPr/>
          </p:nvSpPr>
          <p:spPr>
            <a:xfrm>
              <a:off x="1523880" y="37339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02" name="Line 36"/>
            <p:cNvSpPr/>
            <p:nvPr/>
          </p:nvSpPr>
          <p:spPr>
            <a:xfrm>
              <a:off x="1523880" y="38098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03" name="Line 37"/>
            <p:cNvSpPr/>
            <p:nvPr/>
          </p:nvSpPr>
          <p:spPr>
            <a:xfrm>
              <a:off x="1523880" y="38862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04" name="Line 38"/>
            <p:cNvSpPr/>
            <p:nvPr/>
          </p:nvSpPr>
          <p:spPr>
            <a:xfrm>
              <a:off x="1523880" y="39625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05" name="Line 39"/>
            <p:cNvSpPr/>
            <p:nvPr/>
          </p:nvSpPr>
          <p:spPr>
            <a:xfrm>
              <a:off x="1523880" y="40384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06" name="Line 40"/>
            <p:cNvSpPr/>
            <p:nvPr/>
          </p:nvSpPr>
          <p:spPr>
            <a:xfrm>
              <a:off x="1523880" y="41148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07" name="Line 41"/>
            <p:cNvSpPr/>
            <p:nvPr/>
          </p:nvSpPr>
          <p:spPr>
            <a:xfrm>
              <a:off x="1523880" y="41911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08" name="Line 42"/>
            <p:cNvSpPr/>
            <p:nvPr/>
          </p:nvSpPr>
          <p:spPr>
            <a:xfrm>
              <a:off x="1523880" y="42670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09" name="Line 43"/>
            <p:cNvSpPr/>
            <p:nvPr/>
          </p:nvSpPr>
          <p:spPr>
            <a:xfrm>
              <a:off x="1523880" y="43434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10" name="Line 44"/>
            <p:cNvSpPr/>
            <p:nvPr/>
          </p:nvSpPr>
          <p:spPr>
            <a:xfrm>
              <a:off x="1523880" y="44197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11" name="Line 45"/>
            <p:cNvSpPr/>
            <p:nvPr/>
          </p:nvSpPr>
          <p:spPr>
            <a:xfrm>
              <a:off x="1523880" y="44956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12" name="Line 46"/>
            <p:cNvSpPr/>
            <p:nvPr/>
          </p:nvSpPr>
          <p:spPr>
            <a:xfrm>
              <a:off x="1523880" y="45720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13" name="Line 47"/>
            <p:cNvSpPr/>
            <p:nvPr/>
          </p:nvSpPr>
          <p:spPr>
            <a:xfrm>
              <a:off x="1523880" y="46483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14" name="Line 48"/>
            <p:cNvSpPr/>
            <p:nvPr/>
          </p:nvSpPr>
          <p:spPr>
            <a:xfrm>
              <a:off x="1523880" y="47242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15" name="Line 49"/>
            <p:cNvSpPr/>
            <p:nvPr/>
          </p:nvSpPr>
          <p:spPr>
            <a:xfrm>
              <a:off x="1523880" y="48006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16" name="Line 50"/>
            <p:cNvSpPr/>
            <p:nvPr/>
          </p:nvSpPr>
          <p:spPr>
            <a:xfrm>
              <a:off x="1523880" y="48769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17" name="Line 51"/>
            <p:cNvSpPr/>
            <p:nvPr/>
          </p:nvSpPr>
          <p:spPr>
            <a:xfrm>
              <a:off x="1523880" y="49528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18" name="Line 52"/>
            <p:cNvSpPr/>
            <p:nvPr/>
          </p:nvSpPr>
          <p:spPr>
            <a:xfrm>
              <a:off x="1523880" y="50292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19" name="Line 53"/>
            <p:cNvSpPr/>
            <p:nvPr/>
          </p:nvSpPr>
          <p:spPr>
            <a:xfrm>
              <a:off x="1523880" y="51055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20" name="Line 54"/>
            <p:cNvSpPr/>
            <p:nvPr/>
          </p:nvSpPr>
          <p:spPr>
            <a:xfrm>
              <a:off x="1523880" y="51814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21" name="Line 55"/>
            <p:cNvSpPr/>
            <p:nvPr/>
          </p:nvSpPr>
          <p:spPr>
            <a:xfrm>
              <a:off x="1523880" y="52578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22" name="Line 56"/>
            <p:cNvSpPr/>
            <p:nvPr/>
          </p:nvSpPr>
          <p:spPr>
            <a:xfrm>
              <a:off x="1523880" y="53341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23" name="Line 57"/>
            <p:cNvSpPr/>
            <p:nvPr/>
          </p:nvSpPr>
          <p:spPr>
            <a:xfrm>
              <a:off x="1523880" y="54100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24" name="Line 58"/>
            <p:cNvSpPr/>
            <p:nvPr/>
          </p:nvSpPr>
          <p:spPr>
            <a:xfrm>
              <a:off x="1523880" y="54864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25" name="Line 59"/>
            <p:cNvSpPr/>
            <p:nvPr/>
          </p:nvSpPr>
          <p:spPr>
            <a:xfrm>
              <a:off x="1523880" y="55627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26" name="Line 60"/>
            <p:cNvSpPr/>
            <p:nvPr/>
          </p:nvSpPr>
          <p:spPr>
            <a:xfrm>
              <a:off x="1523880" y="56386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27" name="Line 61"/>
            <p:cNvSpPr/>
            <p:nvPr/>
          </p:nvSpPr>
          <p:spPr>
            <a:xfrm>
              <a:off x="1523880" y="57150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8" name="Object 65"/>
              <p:cNvSpPr txBox="1"/>
              <p:nvPr/>
            </p:nvSpPr>
            <p:spPr>
              <a:xfrm>
                <a:off x="3405240" y="4524480"/>
                <a:ext cx="32868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66"/>
              <p:cNvSpPr txBox="1"/>
              <p:nvPr/>
            </p:nvSpPr>
            <p:spPr>
              <a:xfrm>
                <a:off x="1371600" y="5921280"/>
                <a:ext cx="40464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67"/>
              <p:cNvSpPr txBox="1"/>
              <p:nvPr/>
            </p:nvSpPr>
            <p:spPr>
              <a:xfrm>
                <a:off x="941400" y="2733840"/>
                <a:ext cx="5824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1" name="Line 69"/>
          <p:cNvSpPr/>
          <p:nvPr/>
        </p:nvSpPr>
        <p:spPr>
          <a:xfrm>
            <a:off x="1600200" y="2971800"/>
            <a:ext cx="190512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Line 70"/>
          <p:cNvSpPr/>
          <p:nvPr/>
        </p:nvSpPr>
        <p:spPr>
          <a:xfrm>
            <a:off x="1600200" y="2971800"/>
            <a:ext cx="6094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71"/>
              <p:cNvSpPr txBox="1"/>
              <p:nvPr/>
            </p:nvSpPr>
            <p:spPr>
              <a:xfrm>
                <a:off x="1841400" y="2797200"/>
                <a:ext cx="4572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72"/>
              <p:cNvSpPr txBox="1"/>
              <p:nvPr/>
            </p:nvSpPr>
            <p:spPr>
              <a:xfrm>
                <a:off x="2438280" y="3657600"/>
                <a:ext cx="2541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5" name="Line 73"/>
          <p:cNvSpPr/>
          <p:nvPr/>
        </p:nvSpPr>
        <p:spPr>
          <a:xfrm>
            <a:off x="1600200" y="4419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74"/>
              <p:cNvSpPr txBox="1"/>
              <p:nvPr/>
            </p:nvSpPr>
            <p:spPr>
              <a:xfrm>
                <a:off x="917640" y="4178160"/>
                <a:ext cx="6318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7" name="Line 75"/>
          <p:cNvSpPr/>
          <p:nvPr/>
        </p:nvSpPr>
        <p:spPr>
          <a:xfrm>
            <a:off x="1600200" y="44197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76"/>
              <p:cNvSpPr txBox="1"/>
              <p:nvPr/>
            </p:nvSpPr>
            <p:spPr>
              <a:xfrm>
                <a:off x="2324160" y="4343400"/>
                <a:ext cx="2793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77"/>
              <p:cNvSpPr txBox="1"/>
              <p:nvPr/>
            </p:nvSpPr>
            <p:spPr>
              <a:xfrm>
                <a:off x="1803240" y="3949560"/>
                <a:ext cx="5083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GRAVITACIONA SILA</a:t>
            </a:r>
            <a:br>
              <a:rPr sz="4400"/>
            </a:b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HOMOGENE KUGL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990680" y="2362320"/>
            <a:ext cx="392436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ravac duži koja spaja centre kugl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4"/>
              <p:cNvSpPr txBox="1"/>
              <p:nvPr/>
            </p:nvSpPr>
            <p:spPr>
              <a:xfrm>
                <a:off x="5337000" y="4267080"/>
                <a:ext cx="26290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5"/>
              <p:cNvSpPr txBox="1"/>
              <p:nvPr/>
            </p:nvSpPr>
            <p:spPr>
              <a:xfrm>
                <a:off x="5486400" y="5221440"/>
                <a:ext cx="247644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4" name="Oval 6"/>
          <p:cNvSpPr/>
          <p:nvPr/>
        </p:nvSpPr>
        <p:spPr>
          <a:xfrm>
            <a:off x="1398600" y="4400640"/>
            <a:ext cx="457200" cy="45720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Oval 7"/>
          <p:cNvSpPr/>
          <p:nvPr/>
        </p:nvSpPr>
        <p:spPr>
          <a:xfrm>
            <a:off x="3317760" y="4395960"/>
            <a:ext cx="457200" cy="45720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8"/>
              <p:cNvSpPr txBox="1"/>
              <p:nvPr/>
            </p:nvSpPr>
            <p:spPr>
              <a:xfrm>
                <a:off x="1424160" y="5000760"/>
                <a:ext cx="4554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9"/>
              <p:cNvSpPr txBox="1"/>
              <p:nvPr/>
            </p:nvSpPr>
            <p:spPr>
              <a:xfrm>
                <a:off x="3367080" y="4952880"/>
                <a:ext cx="4809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348" name="AutoShape 10"/>
          <p:cNvCxnSpPr/>
          <p:nvPr/>
        </p:nvCxnSpPr>
        <p:spPr>
          <a:xfrm>
            <a:off x="1676520" y="462420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49" name="Line 11"/>
          <p:cNvSpPr/>
          <p:nvPr/>
        </p:nvSpPr>
        <p:spPr>
          <a:xfrm>
            <a:off x="1644480" y="462456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Line 12"/>
          <p:cNvSpPr/>
          <p:nvPr/>
        </p:nvSpPr>
        <p:spPr>
          <a:xfrm>
            <a:off x="2943360" y="4624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13"/>
              <p:cNvSpPr txBox="1"/>
              <p:nvPr/>
            </p:nvSpPr>
            <p:spPr>
              <a:xfrm>
                <a:off x="1754280" y="4070520"/>
                <a:ext cx="4046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14"/>
              <p:cNvSpPr txBox="1"/>
              <p:nvPr/>
            </p:nvSpPr>
            <p:spPr>
              <a:xfrm>
                <a:off x="2971800" y="4092480"/>
                <a:ext cx="404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3" name="Rectangle 15"/>
          <p:cNvSpPr/>
          <p:nvPr/>
        </p:nvSpPr>
        <p:spPr>
          <a:xfrm>
            <a:off x="4991040" y="3200400"/>
            <a:ext cx="392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mer: privlačna si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4991040" y="3657600"/>
            <a:ext cx="392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tenzite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55" name="Group 17"/>
          <p:cNvGrpSpPr/>
          <p:nvPr/>
        </p:nvGrpSpPr>
        <p:grpSpPr>
          <a:xfrm>
            <a:off x="1635120" y="3429000"/>
            <a:ext cx="1911240" cy="965160"/>
            <a:chOff x="1635120" y="3429000"/>
            <a:chExt cx="1911240" cy="965160"/>
          </a:xfrm>
        </p:grpSpPr>
        <mc:AlternateContent>
          <mc:Choice xmlns:a14="http://schemas.microsoft.com/office/drawing/2010/main" Requires="a14">
            <p:sp>
              <p:nvSpPr>
                <p:cNvPr id="356" name="Object 18"/>
                <p:cNvSpPr txBox="1"/>
                <p:nvPr/>
              </p:nvSpPr>
              <p:spPr>
                <a:xfrm>
                  <a:off x="2451240" y="3429000"/>
                  <a:ext cx="22680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Line 19"/>
            <p:cNvSpPr/>
            <p:nvPr/>
          </p:nvSpPr>
          <p:spPr>
            <a:xfrm flipV="1">
              <a:off x="1635120" y="35560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 flipV="1">
              <a:off x="3546360" y="35560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9" name="Line 21"/>
            <p:cNvSpPr/>
            <p:nvPr/>
          </p:nvSpPr>
          <p:spPr>
            <a:xfrm>
              <a:off x="1635120" y="36576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GRAVITACIONA SILA</a:t>
            </a:r>
            <a:br>
              <a:rPr sz="4400"/>
            </a:b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RED VELI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ČINE INTENZITET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95252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Čovek i najveći tank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Masa reda 1000000 t = 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w Cen MT"/>
              </a:rPr>
              <a:t>9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k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Masa čoveka 100 kg = 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k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Širina tankera 50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rivlačna sila reda 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w Cen MT"/>
              </a:rPr>
              <a:t>-2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Kao težina zrna šećer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838080" y="2362320"/>
            <a:ext cx="3924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Dva čovek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Mase reda 100 kg = 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k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Rastojanje reda 5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rivlačna sila reda 10-7 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Trun prašine mase 0,1mg koja padne na čoveka deluje na njega deset puta većom silo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219320" y="5334120"/>
            <a:ext cx="723888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a bi gravitaciona sila bila od uticaja, bar jedno telo mora da bude astronomskih razmera, a druge sile moraju biti zanemarljiv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GRAVITACIONA SIL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TELA NA POVRŠINI ZEML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7720" y="236196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Zemlja –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kugla mase M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w Cen MT"/>
              </a:rPr>
              <a:t>Z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6·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w Cen MT"/>
              </a:rPr>
              <a:t>22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kg poluprečnika R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w Cen MT"/>
              </a:rPr>
              <a:t>Z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6370 km na nivou mor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Biosfera, gde ljudi borave, do 10 km visine i 10 km dubin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66" name="Object 4"/>
          <p:cNvGraphicFramePr/>
          <p:nvPr/>
        </p:nvGraphicFramePr>
        <p:xfrm>
          <a:off x="2212920" y="3835440"/>
          <a:ext cx="4700520" cy="96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2920" y="3835440"/>
                    <a:ext cx="47005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8" name="Object 22"/>
              <p:cNvSpPr txBox="1"/>
              <p:nvPr/>
            </p:nvSpPr>
            <p:spPr>
              <a:xfrm>
                <a:off x="1219320" y="4829040"/>
                <a:ext cx="26049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G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69" name="Object 23"/>
          <p:cNvGraphicFramePr/>
          <p:nvPr/>
        </p:nvGraphicFramePr>
        <p:xfrm>
          <a:off x="1055520" y="5732640"/>
          <a:ext cx="5585040" cy="93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5520" y="5732640"/>
                    <a:ext cx="55850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1" name="Group 30"/>
          <p:cNvGrpSpPr/>
          <p:nvPr/>
        </p:nvGrpSpPr>
        <p:grpSpPr>
          <a:xfrm>
            <a:off x="6324480" y="4572000"/>
            <a:ext cx="1752840" cy="1600200"/>
            <a:chOff x="6324480" y="4572000"/>
            <a:chExt cx="1752840" cy="1600200"/>
          </a:xfrm>
        </p:grpSpPr>
        <p:sp>
          <p:nvSpPr>
            <p:cNvPr id="372" name="Line 24"/>
            <p:cNvSpPr/>
            <p:nvPr/>
          </p:nvSpPr>
          <p:spPr>
            <a:xfrm>
              <a:off x="6324480" y="52578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3" name="Line 25"/>
            <p:cNvSpPr/>
            <p:nvPr/>
          </p:nvSpPr>
          <p:spPr>
            <a:xfrm>
              <a:off x="6477120" y="6172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4" name="Line 26"/>
            <p:cNvSpPr/>
            <p:nvPr/>
          </p:nvSpPr>
          <p:spPr>
            <a:xfrm flipV="1">
              <a:off x="6934320" y="52578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8077320" y="45720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aphicFrame>
        <p:nvGraphicFramePr>
          <p:cNvPr id="376" name="Object 28"/>
          <p:cNvGraphicFramePr/>
          <p:nvPr/>
        </p:nvGraphicFramePr>
        <p:xfrm>
          <a:off x="7297560" y="5830920"/>
          <a:ext cx="1643400" cy="40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7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97560" y="5830920"/>
                    <a:ext cx="1643400" cy="40464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8" name="Object 29"/>
              <p:cNvSpPr txBox="1"/>
              <p:nvPr/>
            </p:nvSpPr>
            <p:spPr>
              <a:xfrm>
                <a:off x="4403880" y="5030640"/>
                <a:ext cx="1693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48"/>
          <p:cNvGrpSpPr/>
          <p:nvPr/>
        </p:nvGrpSpPr>
        <p:grpSpPr>
          <a:xfrm>
            <a:off x="2556000" y="2534760"/>
            <a:ext cx="3321720" cy="1830960"/>
            <a:chOff x="2556000" y="2534760"/>
            <a:chExt cx="3321720" cy="1830960"/>
          </a:xfrm>
        </p:grpSpPr>
        <p:cxnSp>
          <p:nvCxnSpPr>
            <p:cNvPr id="380" name="Connector: Elbow 27"/>
            <p:cNvCxnSpPr>
              <a:stCxn id="381" idx="0"/>
            </p:cNvCxnSpPr>
            <p:nvPr/>
          </p:nvCxnSpPr>
          <p:spPr>
            <a:xfrm flipH="1" flipV="1" rot="5400000">
              <a:off x="2825640" y="3771360"/>
              <a:ext cx="324720" cy="864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82" name="Connector: Elbow 39"/>
            <p:cNvCxnSpPr>
              <a:endCxn id="383" idx="2"/>
            </p:cNvCxnSpPr>
            <p:nvPr/>
          </p:nvCxnSpPr>
          <p:spPr>
            <a:xfrm flipH="1" flipV="1" rot="5400000">
              <a:off x="5411520" y="2630520"/>
              <a:ext cx="562320" cy="370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84" name="Connector: Elbow 43"/>
            <p:cNvCxnSpPr/>
            <p:nvPr/>
          </p:nvCxnSpPr>
          <p:spPr>
            <a:xfrm flipV="1">
              <a:off x="3385800" y="3566520"/>
              <a:ext cx="1618920" cy="4748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85" name="Connector: Elbow 45"/>
            <p:cNvCxnSpPr/>
            <p:nvPr/>
          </p:nvCxnSpPr>
          <p:spPr>
            <a:xfrm flipV="1">
              <a:off x="5004360" y="3090960"/>
              <a:ext cx="504360" cy="4762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GRAVITACIONA ENERGIJA</a:t>
            </a:r>
            <a:br>
              <a:rPr sz="4400"/>
            </a:b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TELA NA POVRŠINI ZEML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graphicFrame>
        <p:nvGraphicFramePr>
          <p:cNvPr id="387" name="Object 7"/>
          <p:cNvGraphicFramePr/>
          <p:nvPr/>
        </p:nvGraphicFramePr>
        <p:xfrm>
          <a:off x="1454040" y="5589720"/>
          <a:ext cx="654372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5589720"/>
                    <a:ext cx="65437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14"/>
          <p:cNvGraphicFramePr/>
          <p:nvPr/>
        </p:nvGraphicFramePr>
        <p:xfrm>
          <a:off x="3838680" y="6362640"/>
          <a:ext cx="14652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0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38680" y="6362640"/>
                    <a:ext cx="1465200" cy="37944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1" name="Oval 3"/>
          <p:cNvSpPr/>
          <p:nvPr/>
        </p:nvSpPr>
        <p:spPr>
          <a:xfrm>
            <a:off x="2411280" y="4365720"/>
            <a:ext cx="289080" cy="287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Oval 13"/>
          <p:cNvSpPr/>
          <p:nvPr/>
        </p:nvSpPr>
        <p:spPr>
          <a:xfrm>
            <a:off x="4427640" y="3429000"/>
            <a:ext cx="288720" cy="287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Oval 14"/>
          <p:cNvSpPr/>
          <p:nvPr/>
        </p:nvSpPr>
        <p:spPr>
          <a:xfrm>
            <a:off x="5878440" y="2390760"/>
            <a:ext cx="287280" cy="2890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Straight Connector 5"/>
          <p:cNvSpPr/>
          <p:nvPr/>
        </p:nvSpPr>
        <p:spPr>
          <a:xfrm flipV="1">
            <a:off x="2700360" y="4503600"/>
            <a:ext cx="489600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Straight Connector 7"/>
          <p:cNvSpPr/>
          <p:nvPr/>
        </p:nvSpPr>
        <p:spPr>
          <a:xfrm>
            <a:off x="6165720" y="2535120"/>
            <a:ext cx="143064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394" name="Straight Arrow Connector 9"/>
          <p:cNvCxnSpPr/>
          <p:nvPr/>
        </p:nvCxnSpPr>
        <p:spPr>
          <a:xfrm>
            <a:off x="7451280" y="2533680"/>
            <a:ext cx="1080" cy="1970640"/>
          </a:xfrm>
          <a:prstGeom prst="straightConnector1">
            <a:avLst/>
          </a:prstGeom>
          <a:ln w="9360">
            <a:solidFill>
              <a:srgbClr val="42ba97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95" name="Straight Arrow Connector 11"/>
          <p:cNvCxnSpPr>
            <a:stCxn id="391" idx="4"/>
          </p:cNvCxnSpPr>
          <p:nvPr/>
        </p:nvCxnSpPr>
        <p:spPr>
          <a:xfrm>
            <a:off x="4571640" y="3716280"/>
            <a:ext cx="1080" cy="650160"/>
          </a:xfrm>
          <a:prstGeom prst="straightConnector1">
            <a:avLst/>
          </a:prstGeom>
          <a:ln w="19080">
            <a:solidFill>
              <a:srgbClr val="42ba97"/>
            </a:solidFill>
            <a:miter/>
            <a:tailEnd len="med" type="arrow" w="med"/>
          </a:ln>
        </p:spPr>
      </p:cxnSp>
      <p:graphicFrame>
        <p:nvGraphicFramePr>
          <p:cNvPr id="396" name="Object 7"/>
          <p:cNvGraphicFramePr/>
          <p:nvPr/>
        </p:nvGraphicFramePr>
        <p:xfrm>
          <a:off x="4572000" y="3765600"/>
          <a:ext cx="303120" cy="45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3765600"/>
                    <a:ext cx="30312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7"/>
          <p:cNvGraphicFramePr/>
          <p:nvPr/>
        </p:nvGraphicFramePr>
        <p:xfrm>
          <a:off x="7534440" y="3276720"/>
          <a:ext cx="404640" cy="32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34440" y="3276720"/>
                    <a:ext cx="404640" cy="32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00" name="Straight Arrow Connector 15"/>
          <p:cNvCxnSpPr/>
          <p:nvPr/>
        </p:nvCxnSpPr>
        <p:spPr>
          <a:xfrm>
            <a:off x="6732360" y="2533680"/>
            <a:ext cx="1080" cy="268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01" name="Straight Arrow Connector 28"/>
          <p:cNvCxnSpPr/>
          <p:nvPr/>
        </p:nvCxnSpPr>
        <p:spPr>
          <a:xfrm>
            <a:off x="6300360" y="4503600"/>
            <a:ext cx="108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graphicFrame>
        <p:nvGraphicFramePr>
          <p:cNvPr id="402" name="Object 7"/>
          <p:cNvGraphicFramePr/>
          <p:nvPr/>
        </p:nvGraphicFramePr>
        <p:xfrm>
          <a:off x="6300720" y="4680000"/>
          <a:ext cx="277920" cy="40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3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00720" y="4680000"/>
                    <a:ext cx="27792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Object 7"/>
          <p:cNvGraphicFramePr/>
          <p:nvPr/>
        </p:nvGraphicFramePr>
        <p:xfrm>
          <a:off x="6732720" y="4680000"/>
          <a:ext cx="301320" cy="404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32720" y="4680000"/>
                    <a:ext cx="30132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7"/>
          <p:cNvGraphicFramePr/>
          <p:nvPr/>
        </p:nvGraphicFramePr>
        <p:xfrm>
          <a:off x="3386160" y="3602160"/>
          <a:ext cx="227160" cy="252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7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86160" y="3602160"/>
                    <a:ext cx="2271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50"/>
          <p:cNvSpPr/>
          <p:nvPr/>
        </p:nvSpPr>
        <p:spPr>
          <a:xfrm>
            <a:off x="2411280" y="5222880"/>
            <a:ext cx="5185080" cy="28260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13:40:02Z</dcterms:created>
  <dc:creator>Zlatan Soskic</dc:creator>
  <dc:description/>
  <dc:language>en-US</dc:language>
  <cp:lastModifiedBy>Zlatan Soskic</cp:lastModifiedBy>
  <dcterms:modified xsi:type="dcterms:W3CDTF">2019-11-25T09:43:58Z</dcterms:modified>
  <cp:revision>329</cp:revision>
  <dc:subject/>
  <dc:title>Interakcije i struktura materije</dc:title>
</cp:coreProperties>
</file>