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B63-2A0C-4438-B9D4-46F6214CD8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6F82-2342-4E82-B6B4-80EB973B3EC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8E3-DAC5-47D9-8157-86A03387A31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778-EB05-4CE6-853D-603A6259FB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63C2-42E2-456D-9CCF-CDDCF50AEEC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254-8512-4358-A02D-5BD2D47A74D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3A40-A568-4BA8-86BD-22F732E8763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0EA1-E564-4041-8F36-FBAD916CF7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1EE-950B-46C3-A217-B376EA0407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5256-0E58-4BE9-8D13-2DE62036E88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AABA-F409-47BF-80C2-E437788EF68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EC8-5808-4787-A421-F4081E3DF2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46C2-E5A9-4760-9108-CCE76895C35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271-3A2E-47BC-A5C1-24717579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09A-5060-403D-AA0A-E0CC26E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128-A582-4F07-87E7-11384723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5EA-F278-456D-BA26-1463A0A8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76E-D589-47F4-91F3-2076B549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039-5B9C-4FC8-A8DE-D188174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157-4AF7-4EAF-AD9F-8A8E9249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276-9BB1-44E8-A445-9776585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8C6D-2A2E-4C24-8B9A-52F4F467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CA1-A674-436C-A230-FB9A56B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BF8-9D6B-4383-8118-85C9570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DC3-F1C9-4DEF-B1DA-4C4B693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8BA-E140-4DF4-8B56-09494EA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B3CE-B13A-4AC2-8DAE-B6831E0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A9D4-D3E5-4CBA-ABCA-5CD65750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849-CF75-488E-8B62-6F0F07DC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FA22-30BB-4B89-A571-369470F6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A528-E362-4ADB-94C8-CC3A33A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DD70-E3EE-42C5-8882-CCA6608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AE9D-1EA9-417B-B9E8-40E26332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C727-4FF0-4342-AB47-C800E1F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181C-CCE2-4732-8FA8-D2E74EB3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FCA-9E9C-480E-A837-877946B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6734-5952-46B5-87C1-2CCF167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78B8-DFF4-49CB-90F4-D41415C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8516-903F-40A8-B650-CE2CE4A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AC2B-AB69-4B6A-8569-4E3F36F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22D0-BD6D-45D0-86F9-375C504C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5841-D38F-4018-80AF-20BB2273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0490-5676-4D02-B6AB-4DE1FD7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251A-E190-4E32-9A79-4AA6F236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5046-3825-47C5-ADFE-E878909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A935-8264-4B35-A437-07F56E95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125-CD9A-4C95-813C-C581D5F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15C7-6BD6-4EBA-8286-18D5F6E7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BE2B-5C97-45A3-92FF-EE6E9529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6E464-143B-4242-814F-E26381A7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B181-A9BF-444A-AAC3-8E9A990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54D5-815E-4C0C-B2D5-6119D45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9738-D586-4AF0-AA6E-C778B56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D711-2EB4-4DEC-BC28-571CF39D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4119-8DD0-43B0-B761-5FA161AF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9264-A5FC-4B71-987C-A4CDFE89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5853-7117-45DC-8EDC-DFD96C16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8CF-10D4-4B86-9C68-692C7686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CACC-9C82-4676-870F-C9B549A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6BD8-8101-4B41-9A04-2E37D4D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5D69-62A9-4495-A605-F6067BA2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F76F-7F47-4685-BB51-B2F42129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1CDC-9FB3-4E68-8EDB-A35C4C8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17C1-45A0-46CD-9A9F-065A702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C761-F801-4D88-814D-1A01C86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54A7-40EB-4FEC-B732-2BADB52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335A-3F16-40A4-846C-C7B90154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FBC8-3502-4A9B-946D-F20916CC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33B-BCB7-4296-85AD-24EDD99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9A9D-F15D-4382-9C45-AA24D12F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C252-D698-4F69-9AEA-99550B22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0164-DD1D-469C-A9F0-A41741D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5F22-357E-4E7C-9BBC-E97C0CF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F4AB-C4C9-47AD-ABAC-2224941D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4A80-1F86-4100-AC80-73F49084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6380-A839-4161-8529-34D4367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70B8-B4F9-4E1C-87E3-2A2A8A8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FCCD-CC3B-47C2-8DF7-CE04ABA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D0EA-55EE-4EA1-AA69-3B13BFF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C0B-4BC4-41B7-9F87-FEAC0C1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8114-E7F8-4805-99B5-4F6545A4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63C6-EE20-48E0-9C44-142E640E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5FED-16C4-4048-A2CC-808074D8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441-443F-4A16-B203-0AEBAAE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680-CEC7-43EF-9179-31EB126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432B-C631-4C55-AE50-CB500EEE64E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39D-D9F2-43A1-8DB6-D8E88D041EE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CE97-6790-4C84-A9C0-71E48ECCDCA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1B9-175E-4611-B269-27800366A68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433C-D26B-425D-9BD9-862C817E606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D96-A98D-4CDB-B554-BD529FFC609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43640" y="5427720"/>
            <a:ext cx="24494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Prostiranje poremeća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BRZINA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visi samo o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vrste talas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Sredine kroz koju se talas prostir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zavisi o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Energije koju talas prenos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BRZINA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Brzina mehaničkih talasa (zvuka) u čvrstim tel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693800" y="3087720"/>
                <a:ext cx="1177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4284720" y="3054240"/>
                <a:ext cx="12031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2" name="Text Box 6"/>
          <p:cNvSpPr/>
          <p:nvPr/>
        </p:nvSpPr>
        <p:spPr>
          <a:xfrm>
            <a:off x="1403280" y="4195800"/>
            <a:ext cx="235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ongitudin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070520" y="4154400"/>
            <a:ext cx="221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ransverz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900000" y="4809960"/>
            <a:ext cx="8001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Brzina mehaničkih talasa (zvuka) u vazd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1476360" y="5373720"/>
                <a:ext cx="248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6" name="Text Box 10"/>
          <p:cNvSpPr/>
          <p:nvPr/>
        </p:nvSpPr>
        <p:spPr>
          <a:xfrm>
            <a:off x="4284720" y="5445000"/>
            <a:ext cx="5157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 5/3 za jednoatomske gas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 7/5 za dvoatomske gas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1"/>
              <p:cNvSpPr txBox="1"/>
              <p:nvPr/>
            </p:nvSpPr>
            <p:spPr>
              <a:xfrm>
                <a:off x="6746760" y="343044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2"/>
              <p:cNvSpPr txBox="1"/>
              <p:nvPr/>
            </p:nvSpPr>
            <p:spPr>
              <a:xfrm>
                <a:off x="6746760" y="378936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13"/>
          <p:cNvSpPr/>
          <p:nvPr/>
        </p:nvSpPr>
        <p:spPr>
          <a:xfrm>
            <a:off x="6948360" y="3068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4"/>
              <p:cNvSpPr txBox="1"/>
              <p:nvPr/>
            </p:nvSpPr>
            <p:spPr>
              <a:xfrm>
                <a:off x="6777000" y="6237360"/>
                <a:ext cx="1827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95d7e"/>
                </a:solidFill>
                <a:latin typeface="Tw Cen MT Condensed"/>
              </a:rPr>
              <a:t>BRZINA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65040" indent="-282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Brzina elektromagnetskih talasa (svetlost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2411280" y="3930480"/>
                <a:ext cx="844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3778200" y="3832200"/>
                <a:ext cx="3855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Text Box 14"/>
          <p:cNvSpPr/>
          <p:nvPr/>
        </p:nvSpPr>
        <p:spPr>
          <a:xfrm>
            <a:off x="3805920" y="4313160"/>
            <a:ext cx="41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deks prelamanj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d0d0d"/>
                </a:solidFill>
                <a:latin typeface="Tw Cen MT Condensed"/>
              </a:rPr>
              <a:t>NAVIJAČKI TALA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65" name="Picture 1028" descr="peoplewave"/>
          <p:cNvPicPr/>
          <p:nvPr/>
        </p:nvPicPr>
        <p:blipFill>
          <a:blip r:embed="rId1"/>
          <a:stretch/>
        </p:blipFill>
        <p:spPr>
          <a:xfrm>
            <a:off x="965160" y="3733920"/>
            <a:ext cx="7211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JAM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236196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8000"/>
          </a:bodyPr>
          <a:p>
            <a:pPr marL="79200" indent="-7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ja kroz materij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9200" indent="-7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utra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je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retanje sist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9200" indent="-7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ćaja je moguć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 kroz tela i kroz fizi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a pol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8" name="Picture 4" descr="ProfilTalasa"/>
          <p:cNvPicPr/>
          <p:nvPr/>
        </p:nvPicPr>
        <p:blipFill>
          <a:blip r:embed="rId1"/>
          <a:stretch/>
        </p:blipFill>
        <p:spPr>
          <a:xfrm>
            <a:off x="5105520" y="4191120"/>
            <a:ext cx="3500280" cy="22082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900000" y="4221000"/>
            <a:ext cx="8001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jam profila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jam brzine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brzina faze tal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Fazna brzina tal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Nije isto što i grupna brz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RST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ehanički tal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nutrašnje kretanje deformabilnog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oremećaj je kretanje delova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navijački tala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morski tala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rostiranje udara kroz telo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zvu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d mehaničkih talasa se sredina kroz koju se prostire talas zaista kreće i deformiš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RSTE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040" y="2361960"/>
            <a:ext cx="8001000" cy="178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lektromagnetski ta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oremećaj polja, a ne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romene jačine električnog i magnetskog pol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svetlos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1476360" y="5086440"/>
            <a:ext cx="431640" cy="431640"/>
          </a:xfrm>
          <a:prstGeom prst="irregularSeal1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 flipV="1">
            <a:off x="212400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 flipV="1">
            <a:off x="241308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8"/>
          <p:cNvSpPr/>
          <p:nvPr/>
        </p:nvSpPr>
        <p:spPr>
          <a:xfrm flipV="1">
            <a:off x="226836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1"/>
              <p:cNvSpPr txBox="1"/>
              <p:nvPr/>
            </p:nvSpPr>
            <p:spPr>
              <a:xfrm>
                <a:off x="2124000" y="4221000"/>
                <a:ext cx="308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79" name="Group 15"/>
          <p:cNvGrpSpPr/>
          <p:nvPr/>
        </p:nvGrpSpPr>
        <p:grpSpPr>
          <a:xfrm>
            <a:off x="2916360" y="4726080"/>
            <a:ext cx="288720" cy="576000"/>
            <a:chOff x="2916360" y="4726080"/>
            <a:chExt cx="288720" cy="576000"/>
          </a:xfrm>
        </p:grpSpPr>
        <p:sp>
          <p:nvSpPr>
            <p:cNvPr id="280" name="Line 12"/>
            <p:cNvSpPr/>
            <p:nvPr/>
          </p:nvSpPr>
          <p:spPr>
            <a:xfrm flipV="1"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 flipV="1"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 flipV="1"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6"/>
          <p:cNvGrpSpPr/>
          <p:nvPr/>
        </p:nvGrpSpPr>
        <p:grpSpPr>
          <a:xfrm>
            <a:off x="3780000" y="4726080"/>
            <a:ext cx="288720" cy="576000"/>
            <a:chOff x="3780000" y="4726080"/>
            <a:chExt cx="288720" cy="576000"/>
          </a:xfrm>
        </p:grpSpPr>
        <p:sp>
          <p:nvSpPr>
            <p:cNvPr id="284" name="Line 17"/>
            <p:cNvSpPr/>
            <p:nvPr/>
          </p:nvSpPr>
          <p:spPr>
            <a:xfrm flipV="1">
              <a:off x="3780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 flipV="1">
              <a:off x="4068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9"/>
            <p:cNvSpPr/>
            <p:nvPr/>
          </p:nvSpPr>
          <p:spPr>
            <a:xfrm flipV="1">
              <a:off x="3924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4572000" y="4726080"/>
            <a:ext cx="288720" cy="576000"/>
            <a:chOff x="4572000" y="4726080"/>
            <a:chExt cx="288720" cy="576000"/>
          </a:xfrm>
        </p:grpSpPr>
        <p:sp>
          <p:nvSpPr>
            <p:cNvPr id="288" name="Line 25"/>
            <p:cNvSpPr/>
            <p:nvPr/>
          </p:nvSpPr>
          <p:spPr>
            <a:xfrm flipV="1">
              <a:off x="4572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V="1">
              <a:off x="48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7"/>
            <p:cNvSpPr/>
            <p:nvPr/>
          </p:nvSpPr>
          <p:spPr>
            <a:xfrm flipV="1">
              <a:off x="47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Line 28"/>
          <p:cNvSpPr/>
          <p:nvPr/>
        </p:nvSpPr>
        <p:spPr>
          <a:xfrm>
            <a:off x="2050920" y="530208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9"/>
              <p:cNvSpPr txBox="1"/>
              <p:nvPr/>
            </p:nvSpPr>
            <p:spPr>
              <a:xfrm>
                <a:off x="6122880" y="5148360"/>
                <a:ext cx="230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30"/>
          <p:cNvSpPr/>
          <p:nvPr/>
        </p:nvSpPr>
        <p:spPr>
          <a:xfrm>
            <a:off x="971640" y="566100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redina kroz koju se kreće elektromagnetski talas se ne po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IPOVI TAL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ansverzal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Longit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nal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ešovi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IPOV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ANSVERZAL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ansverzalni talasi su oni kod kojih je poremećaj normalan na pravac prostiranja tal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w Cen MT"/>
              </a:rPr>
              <a:t>Navijački tala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w Cen MT"/>
              </a:rPr>
              <a:t>Talasi na struni (bič, tepih koji se trese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w Cen MT"/>
              </a:rPr>
              <a:t>Svetlost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8" name="Picture 6" descr="peoplewave"/>
          <p:cNvPicPr/>
          <p:nvPr/>
        </p:nvPicPr>
        <p:blipFill>
          <a:blip r:embed="rId1"/>
          <a:stretch/>
        </p:blipFill>
        <p:spPr>
          <a:xfrm>
            <a:off x="965160" y="3809880"/>
            <a:ext cx="7211880" cy="1611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tringpulse"/>
          <p:cNvPicPr/>
          <p:nvPr/>
        </p:nvPicPr>
        <p:blipFill>
          <a:blip r:embed="rId2"/>
          <a:stretch/>
        </p:blipFill>
        <p:spPr>
          <a:xfrm>
            <a:off x="2325600" y="5516640"/>
            <a:ext cx="44928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IPOV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ANSVERZAL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lektromagnetski talas predstavlja i talas električnog i magnetskog polja, i oba su transverzal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2" name="Picture 6" descr="EMTalas"/>
          <p:cNvPicPr/>
          <p:nvPr/>
        </p:nvPicPr>
        <p:blipFill>
          <a:blip r:embed="rId1"/>
          <a:stretch/>
        </p:blipFill>
        <p:spPr>
          <a:xfrm>
            <a:off x="611280" y="3213000"/>
            <a:ext cx="76197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IPOVI TALAS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LONG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U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D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A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LNI TALAS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ongitudinalni talasi su oni kod kojih je poremećaj paralelan pravcu prostiranja tal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lazak vag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5" name="Picture 6" descr="wavepulse"/>
          <p:cNvPicPr/>
          <p:nvPr/>
        </p:nvPicPr>
        <p:blipFill>
          <a:blip r:embed="rId1"/>
          <a:stretch/>
        </p:blipFill>
        <p:spPr>
          <a:xfrm>
            <a:off x="1846440" y="4378320"/>
            <a:ext cx="5451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9-12-15T15:33:56Z</dcterms:modified>
  <cp:revision>508</cp:revision>
  <dc:subject/>
  <dc:title>Talasi</dc:title>
</cp:coreProperties>
</file>