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wmf" ContentType="image/x-wmf"/>
  <Override PartName="/ppt/media/image8.wmf" ContentType="image/x-wmf"/>
  <Override PartName="/ppt/media/explode.wav" ContentType="audio/x-wav"/>
  <Override PartName="/ppt/media/image1.png" ContentType="image/png"/>
  <Override PartName="/ppt/media/image10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gunshot.wav" ContentType="audio/x-wav"/>
  <Override PartName="/ppt/media/image11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268-1586-4B0D-9682-1FBD21D1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448-2810-46E1-9057-00EB1565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DCA-2AE5-4290-B553-734CBC05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461-DC29-495F-8EDB-437D1F21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CCA4-8BE5-4B75-B247-3355036F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DFF0-32AF-46F0-8D13-A59D0F12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CD74-8356-4766-BD90-9D3D3D3F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1426-692A-461B-851A-02D0A953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4410-231C-42C2-AF25-43A07D48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34EB-AE25-4CDC-9446-EF69C109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88EF-AF32-498B-AE2E-9859193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22B-95C6-4E3D-A900-A416D318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5A38-0749-4212-B77F-8E9504F2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DDEE-2A26-4CD2-96BD-EC65AC5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D9C9-072A-4548-A481-DB21F03B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6A56-18D5-4E7C-AEEF-F2AF2297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D099-0212-49CD-A671-6B8399DD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51E9-61B1-4640-A739-CDB201E0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CDD8-E905-4103-8A41-DFD0D475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2411E-7C08-4AD4-BF31-B18C2B99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A68F-E15C-47E8-82A6-D81E6C9D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D7C9-396D-4590-9087-8B4CFDDF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E00-7FCE-4B05-ADFA-5F04E13B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1872-479C-4E3D-A156-D268F878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C2C7-E714-4AD9-975E-4F7F265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36B0-A85C-4E1D-A754-BF501616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6CD8-EFE3-47D8-82E0-D49C3135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D9E4-E1F0-47E8-948D-C2A3FE50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C45AD-2FA0-4FB3-AAE1-692218A7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C92A0-5AED-4841-B969-34C57CBB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422CB-7501-4D11-9909-F54B30C9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0F74-03FD-4F0C-BE10-E954276C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793FB-1199-45B5-8177-703CFA85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46B-C600-4B4C-AE14-E5A218AD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4A00D-2BB9-4D44-AC81-9E2B4676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07E8-F17E-42EF-AD68-5D6D69F9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46DF3-6AB9-43F4-B610-747220D4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1638-C738-49FD-A44C-98CBDCC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97CB8-5E1C-4C67-A525-97623100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FBF8F-2DCD-4665-8072-26B3DB81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44754-4595-4A64-B348-5688BADB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75049-8435-426D-BFE4-26D18495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5BA5D-B544-49FD-830B-9CD4C52D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9EBD4-8FA7-4794-823D-03EA31BD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EA7-11B3-4DEA-9DF1-333D1575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74560-6B64-4965-9532-3A8D4190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8F45E-C523-449E-82B7-AD86F4F6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047DD-7410-4F1E-9735-D8983155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BE699-6340-4BA6-B7C5-1881A5F7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599AF-EAF4-4B3D-BB35-F0486C93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795BC-66C0-4F6D-8BA0-BB788315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1B120-46BB-4381-A53D-687F0194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2E506-F5FA-4DEE-A852-6ABD0DD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990B1-26BC-497F-82C0-D6290335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7B484-C005-4F40-9BDE-663C4BA3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AD3-7326-4886-BB0A-19387F47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4E2CE-4BB3-495B-A182-B9B53BD3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13D5E-F309-43AB-AE0B-D52A9C36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A1C3B-2A2E-40B0-937E-317F7C43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84366-D3A8-4925-A3D7-057BC68C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A2666-FD12-48B4-AF7C-AF2741C1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62C7D-6E46-4049-A7DF-773A117E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CCF1E-D2BE-4244-992C-B94335C0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C1C81-D1DA-488A-B57C-93413A28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3A575-EA1F-437D-9829-93E0C2F7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ABD0D-D635-44FC-BD79-98BF8DB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1FC-0086-4DEE-9620-5233F050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9C369-1E28-4F45-BA9E-B09EEBEB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6F952-D046-46F5-B39E-403A7B8F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9EF56-0E05-4E7A-950C-2FD45741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6D6-8C4D-4B39-854F-0743CFC6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826-F12B-4168-BC73-A97807AF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41E5-D415-4A04-B8D1-3CBDF67B119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8C3D-5740-4D98-A2B1-CEDB838A69F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21A3-DE5E-45D4-8915-504027E6EAE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A65A-B00B-42C0-8705-099F1E241CC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75B6-0132-4890-9F45-E05D7852B7D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2CB0-2E54-4215-807B-7DC7740092F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ČKE VELIČINE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 I JEDINIC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w Cen MT"/>
              </a:rPr>
              <a:t>Fizi</a:t>
            </a:r>
            <a:r>
              <a:rPr b="0" lang="hr-HR" sz="1600" spc="-1" strike="noStrike">
                <a:solidFill>
                  <a:srgbClr val="0d0d0d"/>
                </a:solidFill>
                <a:latin typeface="Tw Cen MT"/>
              </a:rPr>
              <a:t>č</a:t>
            </a:r>
            <a:r>
              <a:rPr b="0" lang="en-US" sz="1600" spc="-1" strike="noStrike">
                <a:solidFill>
                  <a:srgbClr val="0d0d0d"/>
                </a:solidFill>
                <a:latin typeface="Tw Cen MT"/>
              </a:rPr>
              <a:t>ke </a:t>
            </a:r>
            <a:r>
              <a:rPr b="0" lang="hr-HR" sz="1600" spc="-1" strike="noStrike">
                <a:solidFill>
                  <a:srgbClr val="0d0d0d"/>
                </a:solidFill>
                <a:latin typeface="Tw Cen MT"/>
              </a:rPr>
              <a:t>veličin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 SISTEM - MULTIPL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2895480" y="2286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av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990720" y="2895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SAMO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dan prefiks je dozvol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51814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0000 N = 2 d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5181480" y="342900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9"/>
          <p:cNvSpPr/>
          <p:nvPr/>
        </p:nvSpPr>
        <p:spPr>
          <a:xfrm flipV="1">
            <a:off x="5257800" y="3352320"/>
            <a:ext cx="213372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12408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g nema prefi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990720" y="4876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fiks samo uz jedinice koje imaju svoje 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19810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000 N = 2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213372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m, kN, k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4952880" y="5486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000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k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5181480" y="54100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6"/>
          <p:cNvSpPr/>
          <p:nvPr/>
        </p:nvSpPr>
        <p:spPr>
          <a:xfrm flipV="1">
            <a:off x="5257800" y="533412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DOPUŠTENE TEHNIČKE JEDINIC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303" name="Object 497"/>
          <p:cNvGraphicFramePr/>
          <p:nvPr/>
        </p:nvGraphicFramePr>
        <p:xfrm>
          <a:off x="457200" y="2938320"/>
          <a:ext cx="845820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38320"/>
                    <a:ext cx="845820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NEDOPUŠTENE JEDINIC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814320" y="2666880"/>
            <a:ext cx="81774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DIMENZIONA ANALIZ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Veze među jedinicama fizičkih velič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09" name="Object 3"/>
          <p:cNvGraphicFramePr/>
          <p:nvPr/>
        </p:nvGraphicFramePr>
        <p:xfrm>
          <a:off x="4140360" y="2708280"/>
          <a:ext cx="93960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708280"/>
                    <a:ext cx="9396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4"/>
          <p:cNvGraphicFramePr/>
          <p:nvPr/>
        </p:nvGraphicFramePr>
        <p:xfrm>
          <a:off x="3059280" y="3141720"/>
          <a:ext cx="3429000" cy="93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141720"/>
                    <a:ext cx="3429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5"/>
          <p:cNvGraphicFramePr/>
          <p:nvPr/>
        </p:nvGraphicFramePr>
        <p:xfrm>
          <a:off x="4127400" y="4724280"/>
          <a:ext cx="965160" cy="3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7400" y="4724280"/>
                    <a:ext cx="965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6"/>
          <p:cNvGraphicFramePr/>
          <p:nvPr/>
        </p:nvGraphicFramePr>
        <p:xfrm>
          <a:off x="2397240" y="5159520"/>
          <a:ext cx="4622760" cy="15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7240" y="5159520"/>
                    <a:ext cx="462276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DIMENZIONA ANALIZ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8380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Pojam dimenz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1143000" y="3672000"/>
                <a:ext cx="73231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Text Box 5"/>
          <p:cNvSpPr/>
          <p:nvPr/>
        </p:nvSpPr>
        <p:spPr>
          <a:xfrm>
            <a:off x="274320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jutn ima dimenziju kg m 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INICIPI DIMENZIONE ANALIZ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imenzije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lev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desn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strane jednačina i nejednačina su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atematičke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vez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među dimenzijama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su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ist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kao i matematičke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vez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među veličina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imenzija svakog broja je 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DIMENZIONA ANALIZ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Primer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799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Sil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799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Rad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799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Snag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Pritisa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1685880" y="2708280"/>
          <a:ext cx="5283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2708280"/>
                    <a:ext cx="5283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7"/>
          <p:cNvGraphicFramePr/>
          <p:nvPr/>
        </p:nvGraphicFramePr>
        <p:xfrm>
          <a:off x="1685880" y="3573360"/>
          <a:ext cx="617220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5880" y="3573360"/>
                    <a:ext cx="61722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8"/>
          <p:cNvGraphicFramePr/>
          <p:nvPr/>
        </p:nvGraphicFramePr>
        <p:xfrm>
          <a:off x="1685880" y="4438800"/>
          <a:ext cx="525780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5880" y="4438800"/>
                    <a:ext cx="52578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9"/>
          <p:cNvGraphicFramePr/>
          <p:nvPr/>
        </p:nvGraphicFramePr>
        <p:xfrm>
          <a:off x="1685880" y="5300640"/>
          <a:ext cx="5638680" cy="93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5880" y="5300640"/>
                    <a:ext cx="56386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AVILA DIMENZIONE ANALIZ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5"/>
              <p:cNvSpPr txBox="1"/>
              <p:nvPr/>
            </p:nvSpPr>
            <p:spPr>
              <a:xfrm>
                <a:off x="2535120" y="3048120"/>
                <a:ext cx="4229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2362320" y="2514600"/>
                <a:ext cx="457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±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2840040" y="3505320"/>
                <a:ext cx="33782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y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2787480" y="4572000"/>
                <a:ext cx="3441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2665440" y="5265720"/>
                <a:ext cx="3726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0"/>
              <p:cNvSpPr txBox="1"/>
              <p:nvPr/>
            </p:nvSpPr>
            <p:spPr>
              <a:xfrm>
                <a:off x="1158840" y="5951520"/>
                <a:ext cx="70707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IMENE DIMENZIONE ANALIZ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dređivanje izvedenih jedinic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overa ispravnosti matematičkih izraz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9144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Jednačin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9144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Nejednačin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9144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Tw Cen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Funkcij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ČKE VELIČ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kazivanje svojstava materije brojem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Supstancij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Mas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Naelektrisanj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Fizičko polj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Jačina pol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Potencij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ČKE VELIČ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w Cen MT"/>
              </a:rPr>
              <a:t>Može da iskaže brojem 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Možemo da pojmimo manje i veće 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 može da se mer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Prikaz fizičke veličine: </a:t>
            </a:r>
            <a:r>
              <a:rPr b="1" lang="hr-HR" sz="2200" spc="-1" strike="noStrike">
                <a:solidFill>
                  <a:srgbClr val="000000"/>
                </a:solidFill>
                <a:latin typeface="Tw Cen MT"/>
              </a:rPr>
              <a:t>BROJ</a:t>
            </a:r>
            <a:r>
              <a:rPr b="0" lang="hr-HR" sz="22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1" lang="hr-HR" sz="2200" spc="-1" strike="noStrike">
                <a:solidFill>
                  <a:srgbClr val="000000"/>
                </a:solidFill>
                <a:latin typeface="Tw Cen MT"/>
              </a:rPr>
              <a:t>JEDINIC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2209680" y="4038480"/>
            <a:ext cx="2057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 = 5 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v =10 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2057400" y="3962520"/>
            <a:ext cx="2438280" cy="1218960"/>
          </a:xfrm>
          <a:prstGeom prst="ellipse">
            <a:avLst/>
          </a:prstGeom>
          <a:noFill/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172200" y="4876920"/>
            <a:ext cx="2057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v 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6019920" y="4800600"/>
            <a:ext cx="2438280" cy="1219320"/>
          </a:xfrm>
          <a:prstGeom prst="ellipse">
            <a:avLst/>
          </a:prstGeom>
          <a:noFill/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6019920" y="4724280"/>
            <a:ext cx="251460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9"/>
          <p:cNvSpPr/>
          <p:nvPr/>
        </p:nvSpPr>
        <p:spPr>
          <a:xfrm flipV="1">
            <a:off x="6095880" y="4571640"/>
            <a:ext cx="221004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828800" y="5791320"/>
            <a:ext cx="3581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izička veličin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ni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b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3429000" y="35053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4114800" y="3581280"/>
            <a:ext cx="1905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ČKE VELIČ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w Cen MT"/>
              </a:rPr>
              <a:t>Za slučaj da niste do sada ukapirali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BROJEVE proučava MATEMATIKA (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redojev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ć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FIZIKA proučava FIZIČKE VELIČINE (Šoškić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676520" y="4114800"/>
            <a:ext cx="6019560" cy="1099440"/>
          </a:xfrm>
          <a:prstGeom prst="rect">
            <a:avLst/>
          </a:prstGeom>
          <a:noFill/>
          <a:ln w="82440">
            <a:solidFill>
              <a:srgbClr val="335b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Times New Roman"/>
              </a:rPr>
              <a:t>broj I jedinic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RAZVOJ SISTEMA JEDINIC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esistems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Lakat, stopa, milja,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n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č, barel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istems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CGS: cm, g, s, dyn, er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MKS: m, kg, s, N, J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Tehničke: inč, t, h, kp, kWh, KS, at, mm</a:t>
            </a:r>
            <a:r>
              <a:rPr b="0" lang="hr-HR" sz="16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, cm</a:t>
            </a:r>
            <a:r>
              <a:rPr b="0" lang="hr-HR" sz="16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w Cen MT"/>
              </a:rPr>
              <a:t>SI: MKS dopunjen i </a:t>
            </a:r>
            <a:r>
              <a:rPr b="1" lang="hr-HR" sz="1600" spc="-1" strike="noStrike" u="sng">
                <a:solidFill>
                  <a:srgbClr val="000000"/>
                </a:solidFill>
                <a:uFillTx/>
                <a:latin typeface="Tw Cen MT"/>
              </a:rPr>
              <a:t>ozakonjen</a:t>
            </a:r>
            <a:r>
              <a:rPr b="1" lang="hr-HR" sz="1600" spc="-1" strike="noStrike">
                <a:solidFill>
                  <a:srgbClr val="000000"/>
                </a:solidFill>
                <a:latin typeface="Tw Cen MT"/>
              </a:rPr>
              <a:t> 1980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NOTACIJ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edinica za silu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je njut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[F] = 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F (=) 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4343400" y="441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F =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4419720" y="4419720"/>
            <a:ext cx="99036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4419720" y="4343040"/>
            <a:ext cx="9903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 SISTEM – OSNOVNE JEDINIC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1074600" y="2438280"/>
          <a:ext cx="7604280" cy="39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2438280"/>
                    <a:ext cx="760428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 SISTEM – IZVEDENE JEDINIC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284" name="Object 3"/>
          <p:cNvGraphicFramePr/>
          <p:nvPr/>
        </p:nvGraphicFramePr>
        <p:xfrm>
          <a:off x="846000" y="2903400"/>
          <a:ext cx="806940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03400"/>
                    <a:ext cx="806940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SI SISTEM - MULTIPLI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aphicFrame>
        <p:nvGraphicFramePr>
          <p:cNvPr id="287" name="Object 3"/>
          <p:cNvGraphicFramePr/>
          <p:nvPr/>
        </p:nvGraphicFramePr>
        <p:xfrm>
          <a:off x="914400" y="2522520"/>
          <a:ext cx="7856640" cy="38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22520"/>
                    <a:ext cx="785664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1:29:03Z</dcterms:created>
  <dc:creator>Zlatan Soskic</dc:creator>
  <dc:description/>
  <dc:language>en-US</dc:language>
  <cp:lastModifiedBy>Zlatan Soskic</cp:lastModifiedBy>
  <dcterms:modified xsi:type="dcterms:W3CDTF">2019-10-06T23:31:33Z</dcterms:modified>
  <cp:revision>122</cp:revision>
  <dc:subject/>
  <dc:title>Fizičke veličine</dc:title>
</cp:coreProperties>
</file>