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4.wmf" ContentType="image/x-wmf"/>
  <Override PartName="/ppt/media/image3.gif" ContentType="image/gif"/>
  <Override PartName="/ppt/media/image29.wmf" ContentType="image/x-wmf"/>
  <Override PartName="/ppt/media/image35.wmf" ContentType="image/x-wmf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4.png" ContentType="image/png"/>
  <Override PartName="/ppt/media/image1.gif" ContentType="image/gif"/>
  <Override PartName="/ppt/media/image13.wmf" ContentType="image/x-wmf"/>
  <Override PartName="/ppt/media/image2.gif" ContentType="image/gif"/>
  <Override PartName="/ppt/media/image5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Zlatan Soskic" initials="Z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9-12-15T16:50:59.503000000" idx="1">
    <p:pos x="5076" y="144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6166-4481-4454-B98F-E6C29571A31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80B7-EAE2-49E5-90D9-63E9934D959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3F3A-B7D5-465F-BFF5-0F090FC6FD6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FBCC-60F6-4B46-8778-E6903CE6493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8DC9-BEE3-47B3-B873-E1AFE680653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C72B-47C0-4C39-9720-15CDC54310A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BFBB-278D-482C-BD04-E1948135EB6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3718-6085-423A-B5FA-C08577ADC3E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3D68-A87C-4125-8657-8C310E0E468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01AB-0A06-4056-BBB1-E4277D64316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7985-2101-475C-A693-41B29B708BB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F300-55FD-4CB3-872D-14E881D3BB6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6634-53A7-4258-B583-DE35833E2E4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A4F3-917E-434C-B53F-C7DFA60F3F9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777D-EC7E-4F01-B646-19345740ED0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4223-1CB9-4360-8E9E-1BCE1B7A4C4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61D5-CDB7-4A0A-AE7B-46AE29BA0B9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80FC-B0FA-47D7-9688-57811BC4C72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5000-1D41-4E09-B980-E697F609D75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8F37-457A-4C70-9D06-931E3ECDA11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840A-4A7D-4F21-8789-5EB79C9FFC1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520-5FD1-4E87-84FE-4F77A4EF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8C8-6DCD-42BA-BC55-FF42A336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E62-3B44-4EE3-B4B6-083435D2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E28-318A-49D0-88FC-A901A6D5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956E-0B2D-4168-BFF9-57381523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7BC4-273C-474F-BA89-68C4A0D6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94F6-3864-4F85-BFF8-59CBBFDE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3EB0-DE4F-4321-BA71-40FB4D1C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25F1-0734-4B3C-9B21-40FFC030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53BC-DE17-46B8-AA0D-8781B17A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5D1E-1D89-4C9C-BB32-8EECD0EB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60D-9FFD-4305-ACF2-23744B69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8966-58C1-40A3-9FFA-EE80595F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5C48-4BB9-43D4-987C-35C42D1B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C74F-6EB4-4842-87FF-402AD67D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1471-1B1C-4D7A-BC95-4D56DAF2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98F1-98DE-4B24-9953-4EF25F19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C662F-CD7D-43C5-ADB1-E2AAEB76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3B943-CC00-4334-9B74-74AC6FFD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5EF5-59E9-4726-A198-5EEFD10F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83337-8EA7-4A83-8873-9AF28C7B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06EFB-F2DC-43B5-BB4B-077E29AB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571-3BEC-451B-915A-325283B7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80FA-F5EE-4711-9803-8E392F5C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BD54-E566-45CB-8D8A-4BC2F64A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D717B-FF87-4D30-BDDF-C1157719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FDC3-69E0-4E39-9382-3553080B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D5D46-6181-4E06-AEB7-A89F7E03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9CB10-07F6-4A31-B257-E4962908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1CDE8-069A-45D7-A169-2E97C49D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B4E6-4588-4338-9F75-DD4FAD9A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EBFE5-A54B-4993-8268-411F1CEB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61D66-7A3F-480D-9D12-C4F23A43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05D-C94D-42F0-A32B-2D7B8B26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1CD3D-A192-44CE-AEF0-6E83BE70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9EA00-210C-47DC-A89F-5700218B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E3DAA-CF9B-45BA-953E-29FE4F5A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43DD0-1857-4D85-A112-44617F30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FA54F-B33E-4AFA-A2CF-69E3B3E4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E8D87-FD1E-4E86-9C0D-B28855E7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63768-023D-4DB9-AF31-0DB49E78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AF91B-FA67-4965-9CBE-46052ECC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A351D-2B35-4C49-BDD0-A0A5A170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22B89-ED70-4176-86FA-91D4F976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4C2-107E-4774-91F1-2B3CAF5F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D4A25-A73A-4F6C-AAD0-049D0A5A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EAE41-5BEC-4C1F-8AE8-0E24116D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55D35-C7F4-4FF4-8620-AD74FD05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94BE2-9D18-4062-BE25-91FD1D8F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85B77-BF08-40C4-A055-25A3F650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B5E48-D974-4605-A8A8-3ED8E2E4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DB153-C548-413B-B455-6ECE84F6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B288B-256F-446F-9929-980E7431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EFCD9-559B-47BC-A2A2-1DA37291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E8D59-0627-4A75-8950-63A01F1D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CDC-461F-439C-ABF8-ECE0558A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21C8B-C91B-4F11-97EC-585AA00C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DD302-99C4-4710-874C-E23F20AB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48D0F-9FF8-4CA9-BEF1-4FAC79DC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5D01E-33AB-4249-929A-AB71C541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4714E-158D-4C6C-B68B-CBE10F86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AD9E3-8E6B-4248-81FB-D06A42BB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C25EC-D0AC-4514-B622-46212F1B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DD495-E6A2-4416-85C5-5516DDCE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EF39B-5358-47D2-9303-133EE2E9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28EC3-19AE-46FB-AEF0-634430F9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2CAD-31C9-4E93-832F-19DCC6B0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C943A-37DA-453A-B2C3-1C2621B0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34AD8-87B7-4572-9258-D381F76E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630B3-4A45-4E6E-B04A-BF0D4B95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966-0738-4688-9CB4-9C470241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02B-ED81-4915-9019-DA084D7E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9F59-6C3A-4DE0-B0A3-61D6D1797C9E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5AA0-30A7-45DA-B67D-D62EA283A2EC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011E-1012-4DCE-990B-344CC3F845F5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3834-EDE8-413C-B821-A84DDCA8570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767E-C064-46F6-83B9-539D8C4B3693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F8D1-51B9-4D9F-AA78-A9F97E79B0EA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ALAS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w Cen MT"/>
              </a:rPr>
              <a:t>Efekti talas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RINUDNE VIBRAC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040" y="236232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inudno vibriran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Vibriranje koje nastaje kao posledica spoljašnje pobude koja se periodično ponavlj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Ljuljanje ljuljaške, vibracije konstrukcije sa uključenim motorom, poskakivanje vagona pri prelasku sa šine na šinu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Posledica: okolina predaje energiju sistemu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RINUDNE VIBRAC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71280" y="478296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Rezonanci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Ako je prinudna učestanost jednaka nekoj od sopstvenih, deformacija se akumilir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Deformacija izazvane svakim novim udarom se </a:t>
            </a:r>
            <a:r>
              <a:rPr b="1" i="1" lang="hr-HR" sz="2000" spc="-1" strike="noStrike">
                <a:solidFill>
                  <a:srgbClr val="000000"/>
                </a:solidFill>
                <a:latin typeface="Tw Cen MT"/>
              </a:rPr>
              <a:t>sabiraj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1905120" y="2174760"/>
            <a:ext cx="5105160" cy="192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zonancija je pojava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glog uvećanja amplitude vibracija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da se frekvenca prinudne sile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klopi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a nekom od sopstvenih učesta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MEHANIČKI TALASI U ČVRSTIM TELIMA</a:t>
            </a:r>
            <a:br>
              <a:rPr sz="4400"/>
            </a:b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VIBRACIJE – PRINUDNE VIBRAC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14040" y="23623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Rezonanci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914400" y="5105520"/>
            <a:ext cx="800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Pobuda male amplitude može izazvati velike deforma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Pri konstruisanju se mora voditi računa da sopstvene (rezonantne) frekvence sistema budu iznad frekvenci mogućih pob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5" descr="force2"/>
          <p:cNvPicPr/>
          <p:nvPr/>
        </p:nvPicPr>
        <p:blipFill>
          <a:blip r:embed="rId1"/>
          <a:stretch/>
        </p:blipFill>
        <p:spPr>
          <a:xfrm>
            <a:off x="1550880" y="2895480"/>
            <a:ext cx="56120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MEHANIČKI TALASI U ČVRSTIM TELIMA</a:t>
            </a:r>
            <a:br>
              <a:rPr sz="4400"/>
            </a:b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VIBRACIJE – PRINUDNE VIBRAC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325" name="TacomaNarrowsBridge.mpeg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2" dur="1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ENERGIJA ZVUK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vuk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prenos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nergij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u izvora u prostor oko njeg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Energija je raspoređena po prostoru i ta raspodela se opisuje gustinom energi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3581280" y="3505320"/>
                <a:ext cx="11271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NTENZITET ZVUK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04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Fizička veličina koja meri brzinu kojom zvuk prenosi energiju u neki deo prostor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31" name="Object 11"/>
          <p:cNvGraphicFramePr/>
          <p:nvPr/>
        </p:nvGraphicFramePr>
        <p:xfrm>
          <a:off x="5548320" y="3284640"/>
          <a:ext cx="123048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8320" y="3284640"/>
                    <a:ext cx="1230480" cy="7398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33" name="Group 15"/>
          <p:cNvGrpSpPr/>
          <p:nvPr/>
        </p:nvGrpSpPr>
        <p:grpSpPr>
          <a:xfrm>
            <a:off x="2127240" y="3962520"/>
            <a:ext cx="1172880" cy="358560"/>
            <a:chOff x="2127240" y="3962520"/>
            <a:chExt cx="1172880" cy="358560"/>
          </a:xfrm>
        </p:grpSpPr>
        <p:sp>
          <p:nvSpPr>
            <p:cNvPr id="334" name="Line 5"/>
            <p:cNvSpPr/>
            <p:nvPr/>
          </p:nvSpPr>
          <p:spPr>
            <a:xfrm>
              <a:off x="2127240" y="4168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Object 13"/>
                <p:cNvSpPr txBox="1"/>
                <p:nvPr/>
              </p:nvSpPr>
              <p:spPr>
                <a:xfrm>
                  <a:off x="2736720" y="3962520"/>
                  <a:ext cx="56340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6" name="Object 14"/>
              <p:cNvSpPr txBox="1"/>
              <p:nvPr/>
            </p:nvSpPr>
            <p:spPr>
              <a:xfrm>
                <a:off x="5195880" y="4284720"/>
                <a:ext cx="2049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37" name="Group 22"/>
          <p:cNvGrpSpPr/>
          <p:nvPr/>
        </p:nvGrpSpPr>
        <p:grpSpPr>
          <a:xfrm>
            <a:off x="2050920" y="3711240"/>
            <a:ext cx="162000" cy="914760"/>
            <a:chOff x="2050920" y="3711240"/>
            <a:chExt cx="162000" cy="914760"/>
          </a:xfrm>
        </p:grpSpPr>
        <p:sp>
          <p:nvSpPr>
            <p:cNvPr id="338" name="Line 18"/>
            <p:cNvSpPr/>
            <p:nvPr/>
          </p:nvSpPr>
          <p:spPr>
            <a:xfrm flipV="1">
              <a:off x="2212920" y="3711240"/>
              <a:ext cx="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9"/>
            <p:cNvSpPr/>
            <p:nvPr/>
          </p:nvSpPr>
          <p:spPr>
            <a:xfrm>
              <a:off x="2050920" y="3862440"/>
              <a:ext cx="0" cy="76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0"/>
            <p:cNvSpPr/>
            <p:nvPr/>
          </p:nvSpPr>
          <p:spPr>
            <a:xfrm flipV="1">
              <a:off x="2050920" y="3711240"/>
              <a:ext cx="1620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1"/>
            <p:cNvSpPr/>
            <p:nvPr/>
          </p:nvSpPr>
          <p:spPr>
            <a:xfrm flipV="1">
              <a:off x="2050920" y="4473360"/>
              <a:ext cx="162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2" name="Object 26"/>
              <p:cNvSpPr txBox="1"/>
              <p:nvPr/>
            </p:nvSpPr>
            <p:spPr>
              <a:xfrm>
                <a:off x="2355840" y="3500280"/>
                <a:ext cx="436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NTENZITET ZVUK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bljenje </a:t>
            </a: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zvuk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91440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manjenje intenziteta zvu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91440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r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je u prostor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295280" indent="-380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Tw Cen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Smanjenje intenziteta usled povećanja prostora koji talas zahvat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1440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psorpcija </a:t>
            </a: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zvu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295280" indent="-380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Tw Cen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Smanjenje intenziteta zvuka usled prelaska energije zvuka u druge oblik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NTENZITET ZVUK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1404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Širenje zvuk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Oval 4"/>
          <p:cNvSpPr/>
          <p:nvPr/>
        </p:nvSpPr>
        <p:spPr>
          <a:xfrm>
            <a:off x="2470320" y="4503600"/>
            <a:ext cx="75960" cy="7632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5"/>
          <p:cNvSpPr/>
          <p:nvPr/>
        </p:nvSpPr>
        <p:spPr>
          <a:xfrm>
            <a:off x="1600200" y="3657600"/>
            <a:ext cx="18288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6"/>
          <p:cNvSpPr/>
          <p:nvPr/>
        </p:nvSpPr>
        <p:spPr>
          <a:xfrm>
            <a:off x="1143000" y="3200400"/>
            <a:ext cx="2741760" cy="274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Group 22"/>
          <p:cNvGrpSpPr/>
          <p:nvPr/>
        </p:nvGrpSpPr>
        <p:grpSpPr>
          <a:xfrm>
            <a:off x="2503440" y="3809520"/>
            <a:ext cx="468360" cy="731880"/>
            <a:chOff x="2503440" y="3809520"/>
            <a:chExt cx="468360" cy="731880"/>
          </a:xfrm>
        </p:grpSpPr>
        <p:sp>
          <p:nvSpPr>
            <p:cNvPr id="351" name="Line 7"/>
            <p:cNvSpPr/>
            <p:nvPr/>
          </p:nvSpPr>
          <p:spPr>
            <a:xfrm flipV="1">
              <a:off x="2503440" y="3809520"/>
              <a:ext cx="46836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Object 9"/>
                <p:cNvSpPr txBox="1"/>
                <p:nvPr/>
              </p:nvSpPr>
              <p:spPr>
                <a:xfrm>
                  <a:off x="2562120" y="3906720"/>
                  <a:ext cx="25740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Group 23"/>
          <p:cNvGrpSpPr/>
          <p:nvPr/>
        </p:nvGrpSpPr>
        <p:grpSpPr>
          <a:xfrm>
            <a:off x="2503440" y="4038480"/>
            <a:ext cx="1265400" cy="502920"/>
            <a:chOff x="2503440" y="4038480"/>
            <a:chExt cx="1265400" cy="502920"/>
          </a:xfrm>
        </p:grpSpPr>
        <p:sp>
          <p:nvSpPr>
            <p:cNvPr id="354" name="Line 8"/>
            <p:cNvSpPr/>
            <p:nvPr/>
          </p:nvSpPr>
          <p:spPr>
            <a:xfrm flipV="1">
              <a:off x="2503440" y="4065120"/>
              <a:ext cx="126540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5" name="Object 10"/>
                <p:cNvSpPr txBox="1"/>
                <p:nvPr/>
              </p:nvSpPr>
              <p:spPr>
                <a:xfrm>
                  <a:off x="3070080" y="4038480"/>
                  <a:ext cx="3081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6" name="Object 11"/>
              <p:cNvSpPr txBox="1"/>
              <p:nvPr/>
            </p:nvSpPr>
            <p:spPr>
              <a:xfrm>
                <a:off x="4164120" y="3174840"/>
                <a:ext cx="20001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2"/>
              <p:cNvSpPr txBox="1"/>
              <p:nvPr/>
            </p:nvSpPr>
            <p:spPr>
              <a:xfrm>
                <a:off x="4114800" y="4226040"/>
                <a:ext cx="208908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3"/>
              <p:cNvSpPr txBox="1"/>
              <p:nvPr/>
            </p:nvSpPr>
            <p:spPr>
              <a:xfrm>
                <a:off x="4773600" y="5232240"/>
                <a:ext cx="8222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9" name="Text Box 17"/>
          <p:cNvSpPr/>
          <p:nvPr/>
        </p:nvSpPr>
        <p:spPr>
          <a:xfrm>
            <a:off x="4494600" y="263196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ferni ta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6854760" y="259092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ilindrični ta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19"/>
              <p:cNvSpPr txBox="1"/>
              <p:nvPr/>
            </p:nvSpPr>
            <p:spPr>
              <a:xfrm>
                <a:off x="6853320" y="3211560"/>
                <a:ext cx="2044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20"/>
              <p:cNvSpPr txBox="1"/>
              <p:nvPr/>
            </p:nvSpPr>
            <p:spPr>
              <a:xfrm>
                <a:off x="6794640" y="4262400"/>
                <a:ext cx="21556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1"/>
              <p:cNvSpPr txBox="1"/>
              <p:nvPr/>
            </p:nvSpPr>
            <p:spPr>
              <a:xfrm>
                <a:off x="7562880" y="5268960"/>
                <a:ext cx="6667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NTENZITET ZVUK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14040" y="2362320"/>
            <a:ext cx="800100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533520" indent="-533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Apsorpcija zvu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914400" indent="-4572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smanjenje energije usled transformacije energije zvuka u druge vidove energij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14400" indent="-4572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najčešće u toplotu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19"/>
              <p:cNvSpPr txBox="1"/>
              <p:nvPr/>
            </p:nvSpPr>
            <p:spPr>
              <a:xfrm>
                <a:off x="2419200" y="3973680"/>
                <a:ext cx="34131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z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psorpcij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0"/>
              <p:cNvSpPr txBox="1"/>
              <p:nvPr/>
            </p:nvSpPr>
            <p:spPr>
              <a:xfrm>
                <a:off x="2438280" y="4595760"/>
                <a:ext cx="282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Text Box 21"/>
          <p:cNvSpPr/>
          <p:nvPr/>
        </p:nvSpPr>
        <p:spPr>
          <a:xfrm>
            <a:off x="2724480" y="4545000"/>
            <a:ext cx="29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koeficijent apsorp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2"/>
              <p:cNvSpPr txBox="1"/>
              <p:nvPr/>
            </p:nvSpPr>
            <p:spPr>
              <a:xfrm>
                <a:off x="3414600" y="5103720"/>
                <a:ext cx="11574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040" y="90792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d0d0d"/>
                </a:solidFill>
                <a:latin typeface="Tw Cen MT Condensed"/>
              </a:rPr>
              <a:t>NIVO ZVUKA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040" y="23623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Da ne bi čuli “previše”, ne čujemo zvuke inteziteta manjeg od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10</a:t>
            </a:r>
            <a:r>
              <a:rPr b="0" lang="sr-CS" sz="20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W/m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Tw Cen MT"/>
              </a:rPr>
              <a:t>(prag čujnosti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Da bi dobro čuli i slabije i jače zvuke. naš sluh prigušuje jače zvu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Naš osećaj zvuk izražava se </a:t>
            </a:r>
            <a:r>
              <a:rPr b="1" i="1" lang="sr-Latn-CS" sz="2000" spc="-1" strike="noStrike">
                <a:solidFill>
                  <a:srgbClr val="000000"/>
                </a:solidFill>
                <a:latin typeface="Tw Cen MT"/>
              </a:rPr>
              <a:t>nivoom zvu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0"/>
              <p:cNvSpPr txBox="1"/>
              <p:nvPr/>
            </p:nvSpPr>
            <p:spPr>
              <a:xfrm>
                <a:off x="1919160" y="4581360"/>
                <a:ext cx="162252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5904000" y="4759200"/>
                <a:ext cx="1116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L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3948120" y="4606920"/>
                <a:ext cx="167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f>
                      <m:num>
                        <m:r>
                          <m:t xml:space="preserve">W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EFEKTI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Mehanički talas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Vibracij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Zvuk i buk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Elektromagnetski talas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Osvetljenj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Radioaktivno zračenj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933480" y="2362320"/>
            <a:ext cx="7601040" cy="41274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914400" y="907920"/>
            <a:ext cx="800100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d0d0d"/>
                </a:solidFill>
                <a:latin typeface="Tw Cen MT Condensed"/>
              </a:rPr>
              <a:t>NIVO ZV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d0d0d"/>
                </a:solidFill>
                <a:latin typeface="Tw Cen MT Condensed"/>
              </a:rPr>
              <a:t>ZVUČNI PRITISAK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62120" y="23623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w Cen MT"/>
              </a:rPr>
              <a:t>Natpritisak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w Cen MT"/>
              </a:rPr>
              <a:t>Povećanje ili smanjenje vazdušnog pritiska usled prostiranja zvuka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w Cen MT"/>
              </a:rPr>
              <a:t>može se meriti instrumentima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ruge veli</a:t>
            </a:r>
            <a:r>
              <a:rPr b="0" lang="sr-Latn-CS" sz="1900" spc="-1" strike="noStrike">
                <a:solidFill>
                  <a:srgbClr val="000000"/>
                </a:solidFill>
                <a:latin typeface="Tw Cen MT"/>
              </a:rPr>
              <a:t>č</a:t>
            </a: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ine </a:t>
            </a:r>
            <a:r>
              <a:rPr b="0" lang="sr-Latn-CS" sz="1900" spc="-1" strike="noStrike">
                <a:solidFill>
                  <a:srgbClr val="000000"/>
                </a:solidFill>
                <a:latin typeface="Tw Cen MT"/>
              </a:rPr>
              <a:t>treba izraziti preko natpritiska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5"/>
              <p:cNvSpPr txBox="1"/>
              <p:nvPr/>
            </p:nvSpPr>
            <p:spPr>
              <a:xfrm>
                <a:off x="3780000" y="5229360"/>
                <a:ext cx="13428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p</m:t>
                        </m:r>
                        <m:sSup>
                          <m:e>
                            <m:r>
                              <m:t xml:space="preserve">∗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ρ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6"/>
              <p:cNvSpPr txBox="1"/>
              <p:nvPr/>
            </p:nvSpPr>
            <p:spPr>
              <a:xfrm>
                <a:off x="3718080" y="4487760"/>
                <a:ext cx="14684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rrow: Right 17"/>
          <p:cNvSpPr/>
          <p:nvPr/>
        </p:nvSpPr>
        <p:spPr>
          <a:xfrm rot="8100000">
            <a:off x="4219200" y="4714560"/>
            <a:ext cx="2519280" cy="906480"/>
          </a:xfrm>
          <a:prstGeom prst="rightArrow">
            <a:avLst>
              <a:gd name="adj1" fmla="val 50000"/>
              <a:gd name="adj2" fmla="val 50000"/>
            </a:avLst>
          </a:prstGeom>
          <a:noFill/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rrow: Right 18"/>
          <p:cNvSpPr/>
          <p:nvPr/>
        </p:nvSpPr>
        <p:spPr>
          <a:xfrm rot="13500000">
            <a:off x="4218480" y="2942280"/>
            <a:ext cx="2519280" cy="905040"/>
          </a:xfrm>
          <a:prstGeom prst="rightArrow">
            <a:avLst>
              <a:gd name="adj1" fmla="val 50000"/>
              <a:gd name="adj2" fmla="val 49989"/>
            </a:avLst>
          </a:prstGeom>
          <a:noFill/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rrow: Right 19"/>
          <p:cNvSpPr/>
          <p:nvPr/>
        </p:nvSpPr>
        <p:spPr>
          <a:xfrm rot="18900000">
            <a:off x="6009840" y="2941200"/>
            <a:ext cx="2521080" cy="906480"/>
          </a:xfrm>
          <a:prstGeom prst="rightArrow">
            <a:avLst>
              <a:gd name="adj1" fmla="val 50000"/>
              <a:gd name="adj2" fmla="val 49997"/>
            </a:avLst>
          </a:prstGeom>
          <a:noFill/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rrow: Right 15"/>
          <p:cNvSpPr/>
          <p:nvPr/>
        </p:nvSpPr>
        <p:spPr>
          <a:xfrm rot="2700000">
            <a:off x="5994000" y="4717800"/>
            <a:ext cx="2521080" cy="904680"/>
          </a:xfrm>
          <a:prstGeom prst="rightArrow">
            <a:avLst>
              <a:gd name="adj1" fmla="val 50000"/>
              <a:gd name="adj2" fmla="val 50019"/>
            </a:avLst>
          </a:prstGeom>
          <a:noFill/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5"/>
          <p:cNvSpPr/>
          <p:nvPr/>
        </p:nvSpPr>
        <p:spPr>
          <a:xfrm>
            <a:off x="4906800" y="2822400"/>
            <a:ext cx="2881440" cy="2881440"/>
          </a:xfrm>
          <a:prstGeom prst="ellipse">
            <a:avLst/>
          </a:prstGeom>
          <a:solidFill>
            <a:srgbClr val="1cade4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4"/>
          <p:cNvSpPr/>
          <p:nvPr/>
        </p:nvSpPr>
        <p:spPr>
          <a:xfrm>
            <a:off x="5627520" y="3543480"/>
            <a:ext cx="1440000" cy="1439640"/>
          </a:xfrm>
          <a:prstGeom prst="ellipse">
            <a:avLst/>
          </a:prstGeom>
          <a:solidFill>
            <a:srgbClr val="1cade4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ELEKTROMAGNETSKI TALASI</a:t>
            </a:r>
            <a:br>
              <a:rPr sz="4000"/>
            </a:br>
            <a:r>
              <a:rPr b="0" lang="sr-Latn-RS" sz="4000" spc="-1" strike="noStrike">
                <a:solidFill>
                  <a:srgbClr val="0d0d0d"/>
                </a:solidFill>
                <a:latin typeface="Tw Cen MT Condensed"/>
              </a:rPr>
              <a:t>NASTAJANJE ELEKTROMAGNETSKIH TALASA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68240" y="3833280"/>
            <a:ext cx="7290000" cy="45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III Borov postul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Oval 3"/>
          <p:cNvSpPr/>
          <p:nvPr/>
        </p:nvSpPr>
        <p:spPr>
          <a:xfrm>
            <a:off x="6176880" y="4102200"/>
            <a:ext cx="360360" cy="358560"/>
          </a:xfrm>
          <a:prstGeom prst="ellipse">
            <a:avLst/>
          </a:prstGeom>
          <a:solidFill>
            <a:srgbClr val="134263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Object 6"/>
          <p:cNvGraphicFramePr/>
          <p:nvPr/>
        </p:nvGraphicFramePr>
        <p:xfrm>
          <a:off x="6635880" y="2786040"/>
          <a:ext cx="228600" cy="2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5880" y="2786040"/>
                    <a:ext cx="22860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7"/>
          <p:cNvGraphicFramePr/>
          <p:nvPr/>
        </p:nvGraphicFramePr>
        <p:xfrm>
          <a:off x="6491160" y="3543480"/>
          <a:ext cx="303480" cy="2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91160" y="3543480"/>
                    <a:ext cx="30348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8"/>
          <p:cNvGraphicFramePr/>
          <p:nvPr/>
        </p:nvGraphicFramePr>
        <p:xfrm>
          <a:off x="7932600" y="4075200"/>
          <a:ext cx="960480" cy="4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32600" y="4075200"/>
                    <a:ext cx="9604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9"/>
          <p:cNvGraphicFramePr/>
          <p:nvPr/>
        </p:nvGraphicFramePr>
        <p:xfrm>
          <a:off x="971640" y="4221000"/>
          <a:ext cx="960480" cy="40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4221000"/>
                    <a:ext cx="96048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20"/>
          <p:cNvGraphicFramePr/>
          <p:nvPr/>
        </p:nvGraphicFramePr>
        <p:xfrm>
          <a:off x="971640" y="4653000"/>
          <a:ext cx="1770120" cy="40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9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71640" y="4653000"/>
                    <a:ext cx="17701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21"/>
          <p:cNvGraphicFramePr/>
          <p:nvPr/>
        </p:nvGraphicFramePr>
        <p:xfrm>
          <a:off x="992160" y="5157720"/>
          <a:ext cx="1492200" cy="40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1" name="Object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92160" y="5157720"/>
                    <a:ext cx="14922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22"/>
          <p:cNvGraphicFramePr/>
          <p:nvPr/>
        </p:nvGraphicFramePr>
        <p:xfrm>
          <a:off x="971640" y="2408400"/>
          <a:ext cx="1390680" cy="404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3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2408400"/>
                    <a:ext cx="13906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Content Placeholder 2"/>
          <p:cNvSpPr/>
          <p:nvPr/>
        </p:nvSpPr>
        <p:spPr>
          <a:xfrm>
            <a:off x="768240" y="1989000"/>
            <a:ext cx="729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Plankov zak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Object 24"/>
          <p:cNvGraphicFramePr/>
          <p:nvPr/>
        </p:nvGraphicFramePr>
        <p:xfrm>
          <a:off x="971640" y="3241800"/>
          <a:ext cx="2074680" cy="40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6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71640" y="3241800"/>
                    <a:ext cx="20746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25"/>
          <p:cNvGraphicFramePr/>
          <p:nvPr/>
        </p:nvGraphicFramePr>
        <p:xfrm>
          <a:off x="971640" y="2825640"/>
          <a:ext cx="1214280" cy="405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8" name="Object 2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71640" y="2825640"/>
                    <a:ext cx="121428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26"/>
          <p:cNvGraphicFramePr/>
          <p:nvPr/>
        </p:nvGraphicFramePr>
        <p:xfrm>
          <a:off x="1030320" y="5788080"/>
          <a:ext cx="1441440" cy="809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0" name="Object 2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30320" y="5788080"/>
                    <a:ext cx="1441440" cy="8096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11" name="Object 27"/>
          <p:cNvGraphicFramePr/>
          <p:nvPr/>
        </p:nvGraphicFramePr>
        <p:xfrm>
          <a:off x="2700360" y="4994280"/>
          <a:ext cx="784080" cy="733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2" name="Object 2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00360" y="4994280"/>
                    <a:ext cx="784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295d7e"/>
                </a:solidFill>
                <a:latin typeface="Tw Cen MT Condensed"/>
              </a:rPr>
              <a:t>OSVETLJE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414" name="Picture 5" descr="D:\My Documents\NASTAVA\Fizika\Stof\4\PhotoEffic.gif"/>
          <p:cNvPicPr/>
          <p:nvPr/>
        </p:nvPicPr>
        <p:blipFill>
          <a:blip r:embed="rId1"/>
          <a:stretch/>
        </p:blipFill>
        <p:spPr>
          <a:xfrm>
            <a:off x="1619280" y="2849400"/>
            <a:ext cx="4897440" cy="39261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34640" y="155736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Svetlost = Elektromagnetski talasi vidljivi ljudskom ok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Talasne dužine 780 nm &gt; </a:t>
            </a:r>
            <a:r>
              <a:rPr b="0" lang="sr-Latn-R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 &gt; 330 n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Osetljivost oka K (0&lt;K&lt;1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Zavisi od talasne dužine svetlosti K=K(</a:t>
            </a:r>
            <a:r>
              <a:rPr b="0" lang="sr-Latn-R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5d7e"/>
                </a:solidFill>
                <a:latin typeface="Tw Cen MT Condensed"/>
              </a:rPr>
              <a:t>SVETLOST</a:t>
            </a:r>
            <a:br>
              <a:rPr sz="4400"/>
            </a:br>
            <a:r>
              <a:rPr b="0" lang="en-US" sz="4400" spc="-1" strike="noStrike">
                <a:solidFill>
                  <a:srgbClr val="295d7e"/>
                </a:solidFill>
                <a:latin typeface="Tw Cen MT Condensed"/>
              </a:rPr>
              <a:t>OSVETLJE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73040" y="19890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zvor svetlost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svetljeni objek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vetlosni sno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4344840" y="5570640"/>
            <a:ext cx="1067040" cy="7596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49"/>
          <p:cNvGrpSpPr/>
          <p:nvPr/>
        </p:nvGrpSpPr>
        <p:grpSpPr>
          <a:xfrm>
            <a:off x="4420800" y="1988640"/>
            <a:ext cx="3616560" cy="3581640"/>
            <a:chOff x="4420800" y="1988640"/>
            <a:chExt cx="3616560" cy="3581640"/>
          </a:xfrm>
        </p:grpSpPr>
        <p:cxnSp>
          <p:nvCxnSpPr>
            <p:cNvPr id="420" name="AutoShape 9"/>
            <p:cNvCxnSpPr>
              <a:endCxn id="418" idx="3"/>
            </p:cNvCxnSpPr>
            <p:nvPr/>
          </p:nvCxnSpPr>
          <p:spPr>
            <a:xfrm flipH="1">
              <a:off x="5865840" y="2839680"/>
              <a:ext cx="2171880" cy="240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1" name="AutoShape 10"/>
            <p:cNvCxnSpPr>
              <a:endCxn id="418" idx="0"/>
            </p:cNvCxnSpPr>
            <p:nvPr/>
          </p:nvCxnSpPr>
          <p:spPr>
            <a:xfrm flipH="1">
              <a:off x="5331600" y="2806560"/>
              <a:ext cx="2624760" cy="2396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2" name="AutoShape 11"/>
            <p:cNvCxnSpPr>
              <a:endCxn id="418" idx="1"/>
            </p:cNvCxnSpPr>
            <p:nvPr/>
          </p:nvCxnSpPr>
          <p:spPr>
            <a:xfrm flipH="1">
              <a:off x="4798440" y="2610720"/>
              <a:ext cx="3239280" cy="262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3" name="Line 13"/>
            <p:cNvSpPr/>
            <p:nvPr/>
          </p:nvSpPr>
          <p:spPr>
            <a:xfrm flipH="1">
              <a:off x="6021000" y="3360600"/>
              <a:ext cx="16002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14"/>
            <p:cNvSpPr/>
            <p:nvPr/>
          </p:nvSpPr>
          <p:spPr>
            <a:xfrm flipH="1">
              <a:off x="6706800" y="3436560"/>
              <a:ext cx="106668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5"/>
            <p:cNvSpPr/>
            <p:nvPr/>
          </p:nvSpPr>
          <p:spPr>
            <a:xfrm flipH="1">
              <a:off x="4497120" y="290340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6"/>
            <p:cNvSpPr/>
            <p:nvPr/>
          </p:nvSpPr>
          <p:spPr>
            <a:xfrm flipH="1">
              <a:off x="4420800" y="2979360"/>
              <a:ext cx="2971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 flipH="1">
              <a:off x="4801680" y="3055680"/>
              <a:ext cx="25909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8"/>
            <p:cNvSpPr/>
            <p:nvPr/>
          </p:nvSpPr>
          <p:spPr>
            <a:xfrm flipH="1" flipV="1">
              <a:off x="6173640" y="198864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9"/>
            <p:cNvSpPr/>
            <p:nvPr/>
          </p:nvSpPr>
          <p:spPr>
            <a:xfrm flipH="1" flipV="1">
              <a:off x="7239960" y="19890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21"/>
            <p:cNvSpPr/>
            <p:nvPr/>
          </p:nvSpPr>
          <p:spPr>
            <a:xfrm flipH="1" flipV="1">
              <a:off x="7773840" y="198864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22"/>
            <p:cNvSpPr/>
            <p:nvPr/>
          </p:nvSpPr>
          <p:spPr>
            <a:xfrm flipH="1" flipV="1">
              <a:off x="5945040" y="2446200"/>
              <a:ext cx="1447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50"/>
          <p:cNvGrpSpPr/>
          <p:nvPr/>
        </p:nvGrpSpPr>
        <p:grpSpPr>
          <a:xfrm>
            <a:off x="4878000" y="3550680"/>
            <a:ext cx="2426400" cy="1447560"/>
            <a:chOff x="4878000" y="3550680"/>
            <a:chExt cx="2426400" cy="1447560"/>
          </a:xfrm>
        </p:grpSpPr>
        <p:cxnSp>
          <p:nvCxnSpPr>
            <p:cNvPr id="433" name="AutoShape 28"/>
            <p:cNvCxnSpPr>
              <a:stCxn id="434" idx="2"/>
              <a:endCxn id="435" idx="2"/>
            </p:cNvCxnSpPr>
            <p:nvPr/>
          </p:nvCxnSpPr>
          <p:spPr>
            <a:xfrm flipV="1">
              <a:off x="4878000" y="4464720"/>
              <a:ext cx="68652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436" name="AutoShape 29"/>
            <p:cNvCxnSpPr>
              <a:stCxn id="435" idx="2"/>
              <a:endCxn id="437" idx="1"/>
            </p:cNvCxnSpPr>
            <p:nvPr/>
          </p:nvCxnSpPr>
          <p:spPr>
            <a:xfrm flipV="1">
              <a:off x="5563800" y="3861360"/>
              <a:ext cx="797400" cy="60372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438" name="AutoShape 30"/>
            <p:cNvCxnSpPr>
              <a:stCxn id="437" idx="1"/>
              <a:endCxn id="439" idx="2"/>
            </p:cNvCxnSpPr>
            <p:nvPr/>
          </p:nvCxnSpPr>
          <p:spPr>
            <a:xfrm flipV="1">
              <a:off x="6360480" y="3550680"/>
              <a:ext cx="423000" cy="3114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440" name="AutoShape 31"/>
            <p:cNvCxnSpPr>
              <a:stCxn id="434" idx="6"/>
              <a:endCxn id="435" idx="6"/>
            </p:cNvCxnSpPr>
            <p:nvPr/>
          </p:nvCxnSpPr>
          <p:spPr>
            <a:xfrm flipV="1">
              <a:off x="6173640" y="4464720"/>
              <a:ext cx="45792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441" name="AutoShape 32"/>
            <p:cNvCxnSpPr>
              <a:stCxn id="435" idx="6"/>
              <a:endCxn id="437" idx="6"/>
            </p:cNvCxnSpPr>
            <p:nvPr/>
          </p:nvCxnSpPr>
          <p:spPr>
            <a:xfrm flipV="1">
              <a:off x="6630840" y="3969360"/>
              <a:ext cx="381600" cy="49572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442" name="AutoShape 33"/>
            <p:cNvCxnSpPr>
              <a:stCxn id="437" idx="6"/>
              <a:endCxn id="439" idx="5"/>
            </p:cNvCxnSpPr>
            <p:nvPr/>
          </p:nvCxnSpPr>
          <p:spPr>
            <a:xfrm flipV="1">
              <a:off x="7011720" y="3631680"/>
              <a:ext cx="293040" cy="3384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443" name="Text Box 36"/>
          <p:cNvSpPr/>
          <p:nvPr/>
        </p:nvSpPr>
        <p:spPr>
          <a:xfrm>
            <a:off x="1443600" y="336060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etski fluk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J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37"/>
          <p:cNvSpPr/>
          <p:nvPr/>
        </p:nvSpPr>
        <p:spPr>
          <a:xfrm>
            <a:off x="1442520" y="4199040"/>
            <a:ext cx="27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etlosni fluks F [lume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38"/>
              <p:cNvSpPr txBox="1"/>
              <p:nvPr/>
            </p:nvSpPr>
            <p:spPr>
              <a:xfrm>
                <a:off x="1484280" y="3817800"/>
                <a:ext cx="270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dΦ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39"/>
              <p:cNvSpPr txBox="1"/>
              <p:nvPr/>
            </p:nvSpPr>
            <p:spPr>
              <a:xfrm>
                <a:off x="1525680" y="4395960"/>
                <a:ext cx="23349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7" name="Text Box 40"/>
          <p:cNvSpPr/>
          <p:nvPr/>
        </p:nvSpPr>
        <p:spPr>
          <a:xfrm>
            <a:off x="1445400" y="524988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 svetlost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41"/>
              <p:cNvSpPr txBox="1"/>
              <p:nvPr/>
            </p:nvSpPr>
            <p:spPr>
              <a:xfrm>
                <a:off x="1525680" y="5559480"/>
                <a:ext cx="10191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9" name="Group 54"/>
          <p:cNvGrpSpPr/>
          <p:nvPr/>
        </p:nvGrpSpPr>
        <p:grpSpPr>
          <a:xfrm>
            <a:off x="4878360" y="4808520"/>
            <a:ext cx="1295280" cy="380880"/>
            <a:chOff x="4878360" y="4808520"/>
            <a:chExt cx="1295280" cy="380880"/>
          </a:xfrm>
        </p:grpSpPr>
        <p:sp>
          <p:nvSpPr>
            <p:cNvPr id="434" name="Oval 24"/>
            <p:cNvSpPr/>
            <p:nvPr/>
          </p:nvSpPr>
          <p:spPr>
            <a:xfrm>
              <a:off x="4878360" y="4808520"/>
              <a:ext cx="1295280" cy="38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0" name="Object 42"/>
                <p:cNvSpPr txBox="1"/>
                <p:nvPr/>
              </p:nvSpPr>
              <p:spPr>
                <a:xfrm>
                  <a:off x="5259240" y="4840200"/>
                  <a:ext cx="473040" cy="34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1" name="Group 53"/>
          <p:cNvGrpSpPr/>
          <p:nvPr/>
        </p:nvGrpSpPr>
        <p:grpSpPr>
          <a:xfrm>
            <a:off x="5564160" y="4275000"/>
            <a:ext cx="1066680" cy="380880"/>
            <a:chOff x="5564160" y="4275000"/>
            <a:chExt cx="1066680" cy="380880"/>
          </a:xfrm>
        </p:grpSpPr>
        <p:sp>
          <p:nvSpPr>
            <p:cNvPr id="435" name="Oval 23"/>
            <p:cNvSpPr/>
            <p:nvPr/>
          </p:nvSpPr>
          <p:spPr>
            <a:xfrm>
              <a:off x="5564160" y="4275000"/>
              <a:ext cx="1066680" cy="38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Object 43"/>
                <p:cNvSpPr txBox="1"/>
                <p:nvPr/>
              </p:nvSpPr>
              <p:spPr>
                <a:xfrm>
                  <a:off x="5852880" y="4306680"/>
                  <a:ext cx="473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3" name="Group 52"/>
          <p:cNvGrpSpPr/>
          <p:nvPr/>
        </p:nvGrpSpPr>
        <p:grpSpPr>
          <a:xfrm>
            <a:off x="6249960" y="3773520"/>
            <a:ext cx="761760" cy="349200"/>
            <a:chOff x="6249960" y="3773520"/>
            <a:chExt cx="761760" cy="349200"/>
          </a:xfrm>
        </p:grpSpPr>
        <p:sp>
          <p:nvSpPr>
            <p:cNvPr id="437" name="Oval 26"/>
            <p:cNvSpPr/>
            <p:nvPr/>
          </p:nvSpPr>
          <p:spPr>
            <a:xfrm>
              <a:off x="6249960" y="3818160"/>
              <a:ext cx="761760" cy="304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Object 44"/>
                <p:cNvSpPr txBox="1"/>
                <p:nvPr/>
              </p:nvSpPr>
              <p:spPr>
                <a:xfrm>
                  <a:off x="6386400" y="3773520"/>
                  <a:ext cx="473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5" name="Group 51"/>
          <p:cNvGrpSpPr/>
          <p:nvPr/>
        </p:nvGrpSpPr>
        <p:grpSpPr>
          <a:xfrm>
            <a:off x="6783480" y="3360600"/>
            <a:ext cx="609480" cy="349200"/>
            <a:chOff x="6783480" y="3360600"/>
            <a:chExt cx="609480" cy="349200"/>
          </a:xfrm>
        </p:grpSpPr>
        <p:sp>
          <p:nvSpPr>
            <p:cNvPr id="439" name="Oval 27"/>
            <p:cNvSpPr/>
            <p:nvPr/>
          </p:nvSpPr>
          <p:spPr>
            <a:xfrm>
              <a:off x="6783480" y="3436560"/>
              <a:ext cx="60948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6" name="Object 45"/>
                <p:cNvSpPr txBox="1"/>
                <p:nvPr/>
              </p:nvSpPr>
              <p:spPr>
                <a:xfrm>
                  <a:off x="6783480" y="3360600"/>
                  <a:ext cx="4726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7" name="Text Box 46"/>
          <p:cNvSpPr/>
          <p:nvPr/>
        </p:nvSpPr>
        <p:spPr>
          <a:xfrm>
            <a:off x="5455800" y="5342040"/>
            <a:ext cx="1409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osvetlj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47"/>
          <p:cNvSpPr/>
          <p:nvPr/>
        </p:nvSpPr>
        <p:spPr>
          <a:xfrm>
            <a:off x="7848360" y="2598840"/>
            <a:ext cx="107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iz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48"/>
              <p:cNvSpPr txBox="1"/>
              <p:nvPr/>
            </p:nvSpPr>
            <p:spPr>
              <a:xfrm>
                <a:off x="2668680" y="5722920"/>
                <a:ext cx="21366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ume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ra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AutoShape 12"/>
          <p:cNvSpPr/>
          <p:nvPr/>
        </p:nvSpPr>
        <p:spPr>
          <a:xfrm rot="16200000">
            <a:off x="7392600" y="2217240"/>
            <a:ext cx="1295640" cy="12952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295280"/>
              <a:gd name="textAreaBottom" fmla="*/ 462600 h 12952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5d7e"/>
                </a:solidFill>
                <a:latin typeface="Tw Cen MT Condensed"/>
              </a:rPr>
              <a:t>SVETLOST</a:t>
            </a:r>
            <a:br>
              <a:rPr sz="4400"/>
            </a:br>
            <a:r>
              <a:rPr b="0" lang="en-US" sz="4400" spc="-1" strike="noStrike">
                <a:solidFill>
                  <a:srgbClr val="295d7e"/>
                </a:solidFill>
                <a:latin typeface="Tw Cen MT Condensed"/>
              </a:rPr>
              <a:t>OSVETLJE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79200" y="2009520"/>
            <a:ext cx="3352680" cy="417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zvor svetlost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Rectangle 40"/>
          <p:cNvSpPr/>
          <p:nvPr/>
        </p:nvSpPr>
        <p:spPr>
          <a:xfrm>
            <a:off x="979560" y="321624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svetljeni objek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4" name="Object 41"/>
          <p:cNvGraphicFramePr/>
          <p:nvPr/>
        </p:nvGraphicFramePr>
        <p:xfrm>
          <a:off x="3524400" y="2201760"/>
          <a:ext cx="141732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0" y="2201760"/>
                    <a:ext cx="141732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42"/>
          <p:cNvGraphicFramePr/>
          <p:nvPr/>
        </p:nvGraphicFramePr>
        <p:xfrm>
          <a:off x="6389640" y="2251080"/>
          <a:ext cx="19987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9640" y="2251080"/>
                    <a:ext cx="19987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43"/>
          <p:cNvGraphicFramePr/>
          <p:nvPr/>
        </p:nvGraphicFramePr>
        <p:xfrm>
          <a:off x="3708360" y="3693960"/>
          <a:ext cx="1695600" cy="88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9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3693960"/>
                    <a:ext cx="169560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44"/>
          <p:cNvGraphicFramePr/>
          <p:nvPr/>
        </p:nvGraphicFramePr>
        <p:xfrm>
          <a:off x="6299280" y="3673440"/>
          <a:ext cx="2455920" cy="88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1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99280" y="3673440"/>
                    <a:ext cx="24559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Rectangle 45"/>
          <p:cNvSpPr/>
          <p:nvPr/>
        </p:nvSpPr>
        <p:spPr>
          <a:xfrm>
            <a:off x="903240" y="4956120"/>
            <a:ext cx="77724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nop sijalice od 100 W F~1400 lumena, J ~ 100 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unce u zenitu L ~1,5 Gnit, električni luk L ~0,7 G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Dnevno svetlo do E ~ 105 lux, mesečina E ~ 0,2 l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a čitanje je potrebno oko E ~ 50 l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54"/>
          <p:cNvGrpSpPr/>
          <p:nvPr/>
        </p:nvGrpSpPr>
        <p:grpSpPr>
          <a:xfrm>
            <a:off x="1131840" y="3673440"/>
            <a:ext cx="1447920" cy="1218960"/>
            <a:chOff x="1131840" y="3673440"/>
            <a:chExt cx="1447920" cy="1218960"/>
          </a:xfrm>
        </p:grpSpPr>
        <p:grpSp>
          <p:nvGrpSpPr>
            <p:cNvPr id="474" name="Group 53"/>
            <p:cNvGrpSpPr/>
            <p:nvPr/>
          </p:nvGrpSpPr>
          <p:grpSpPr>
            <a:xfrm>
              <a:off x="1131840" y="3673440"/>
              <a:ext cx="1447920" cy="761760"/>
              <a:chOff x="1131840" y="3673440"/>
              <a:chExt cx="1447920" cy="761760"/>
            </a:xfrm>
          </p:grpSpPr>
          <p:sp>
            <p:nvSpPr>
              <p:cNvPr id="475" name="Line 46"/>
              <p:cNvSpPr/>
              <p:nvPr/>
            </p:nvSpPr>
            <p:spPr>
              <a:xfrm flipH="1">
                <a:off x="1741320" y="3673440"/>
                <a:ext cx="5331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47"/>
              <p:cNvSpPr/>
              <p:nvPr/>
            </p:nvSpPr>
            <p:spPr>
              <a:xfrm>
                <a:off x="1131840" y="4359240"/>
                <a:ext cx="1447920" cy="75960"/>
              </a:xfrm>
              <a:prstGeom prst="rect">
                <a:avLst/>
              </a:prstGeom>
              <a:solidFill>
                <a:srgbClr val="1cad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Arc 50"/>
              <p:cNvSpPr/>
              <p:nvPr/>
            </p:nvSpPr>
            <p:spPr>
              <a:xfrm>
                <a:off x="1741680" y="3674880"/>
                <a:ext cx="412560" cy="693720"/>
              </a:xfrm>
              <a:custGeom>
                <a:avLst/>
                <a:gdLst/>
                <a:ahLst/>
                <a:rect l="l" t="t" r="r" b="b"/>
                <a:pathLst>
                  <a:path fill="none" w="12269" h="21597">
                    <a:moveTo>
                      <a:pt x="342" y="-1"/>
                    </a:moveTo>
                    <a:cubicBezTo>
                      <a:pt x="4607" y="67"/>
                      <a:pt x="8757" y="1396"/>
                      <a:pt x="12269" y="3819"/>
                    </a:cubicBezTo>
                  </a:path>
                  <a:path stroke="0" w="12269" h="21597">
                    <a:moveTo>
                      <a:pt x="342" y="-1"/>
                    </a:moveTo>
                    <a:cubicBezTo>
                      <a:pt x="4607" y="67"/>
                      <a:pt x="8757" y="1396"/>
                      <a:pt x="12269" y="3819"/>
                    </a:cubicBezTo>
                    <a:lnTo>
                      <a:pt x="0" y="21597"/>
                    </a:lnTo>
                    <a:lnTo>
                      <a:pt x="342" y="-1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78" name="Object 51"/>
                  <p:cNvSpPr txBox="1"/>
                  <p:nvPr/>
                </p:nvSpPr>
                <p:spPr>
                  <a:xfrm>
                    <a:off x="1766880" y="3774960"/>
                    <a:ext cx="27936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79" name="Line 52"/>
            <p:cNvSpPr/>
            <p:nvPr/>
          </p:nvSpPr>
          <p:spPr>
            <a:xfrm>
              <a:off x="1741680" y="367344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ZAKON OBRNUTIH KVADRAT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826920" y="1557360"/>
            <a:ext cx="7705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Osvetljenost objekta je inverzno proporcionalna kvadratu njegovog rastojanju od tačkastog iz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Dalje-tamnij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Važi za tačkaste iz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Object 8"/>
          <p:cNvGraphicFramePr/>
          <p:nvPr/>
        </p:nvGraphicFramePr>
        <p:xfrm>
          <a:off x="4067280" y="4095720"/>
          <a:ext cx="478764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4095720"/>
                    <a:ext cx="47876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4"/>
          <p:cNvGraphicFramePr/>
          <p:nvPr/>
        </p:nvGraphicFramePr>
        <p:xfrm>
          <a:off x="2062080" y="5665680"/>
          <a:ext cx="1573200" cy="7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62080" y="5665680"/>
                    <a:ext cx="15732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KOSINUSNI ZAK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1311120" y="1719360"/>
            <a:ext cx="78328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w Cen MT"/>
              </a:rPr>
              <a:t>Omogućava proračun osvetlje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U više polož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Složenih izv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Više izv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Sa refleksij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8" name="Object 5"/>
          <p:cNvGraphicFramePr/>
          <p:nvPr/>
        </p:nvGraphicFramePr>
        <p:xfrm>
          <a:off x="2411280" y="3722760"/>
          <a:ext cx="403884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722760"/>
                    <a:ext cx="403884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6"/>
          <p:cNvGraphicFramePr/>
          <p:nvPr/>
        </p:nvGraphicFramePr>
        <p:xfrm>
          <a:off x="3757680" y="5594400"/>
          <a:ext cx="182880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57680" y="5594400"/>
                    <a:ext cx="18288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KOSINUSNI ZAK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611280" y="1268280"/>
            <a:ext cx="428472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Rastojanja se ne mere, već se računaju na osnovu visina i Pitagorine teo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Ugao očitavamo kod iz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Object 5"/>
          <p:cNvGraphicFramePr/>
          <p:nvPr/>
        </p:nvGraphicFramePr>
        <p:xfrm>
          <a:off x="5076720" y="1268280"/>
          <a:ext cx="4038840" cy="35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268280"/>
                    <a:ext cx="403884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6" name="Object 4"/>
              <p:cNvSpPr txBox="1"/>
              <p:nvPr/>
            </p:nvSpPr>
            <p:spPr>
              <a:xfrm>
                <a:off x="1671480" y="3898800"/>
                <a:ext cx="12448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97" name="Object 5"/>
          <p:cNvGraphicFramePr/>
          <p:nvPr/>
        </p:nvGraphicFramePr>
        <p:xfrm>
          <a:off x="3327480" y="3865680"/>
          <a:ext cx="12445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27480" y="3865680"/>
                    <a:ext cx="1244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6"/>
          <p:cNvGraphicFramePr/>
          <p:nvPr/>
        </p:nvGraphicFramePr>
        <p:xfrm>
          <a:off x="1843200" y="5229360"/>
          <a:ext cx="2512800" cy="11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3200" y="5229360"/>
                    <a:ext cx="251280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7"/>
          <p:cNvGraphicFramePr/>
          <p:nvPr/>
        </p:nvGraphicFramePr>
        <p:xfrm>
          <a:off x="6127920" y="5614920"/>
          <a:ext cx="175248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27920" y="5614920"/>
                    <a:ext cx="1752480" cy="7365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INTERAKCIJA EM TALASA SA MATERIJOM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768240" y="2285640"/>
            <a:ext cx="7290000" cy="42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Fotoelektrični efek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849240" y="2852640"/>
            <a:ext cx="7970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IBRACIJE - POJAM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eriodično kreta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Oscilovanje deformisanj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Telo se deformiše tokom kreta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retanje deformabilnog tela ima dve komponen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retanje CM</a:t>
            </a: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 –</a:t>
            </a: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nema deformaci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Unutrašnje kretanje – </a:t>
            </a: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vibraci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INTERAKCIJA EM TALASA SA MATERIJOM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68240" y="2285640"/>
            <a:ext cx="7290000" cy="42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Fotoelektrični efek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855720" y="2852640"/>
            <a:ext cx="7964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INTERAKCIJA EM TALASA SA MATERIJOM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768240" y="2285640"/>
            <a:ext cx="7290000" cy="42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Fotoelektrični efek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809640" y="2852640"/>
            <a:ext cx="7723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INTERAKCIJA EM TALASA SA MATERIJOM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68240" y="2285640"/>
            <a:ext cx="7290000" cy="438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Fotoelektrični efek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Efekat EM zračenja dominantno zavisi od talasne dužin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EM zračenje većih talasnih dužina izaziva manje efekte nego EM zračenje malih talasnih dužin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4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EM zračenje energiju predaje u kvantima!!!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Iako je EM zračenje talas, energiju predaje kao da je snop čestica!!!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50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Kvantni efekti su izraženi kada su talasne dužine male!!!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14" name="Object 3"/>
          <p:cNvGraphicFramePr/>
          <p:nvPr/>
        </p:nvGraphicFramePr>
        <p:xfrm>
          <a:off x="3008160" y="4221000"/>
          <a:ext cx="218448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8160" y="4221000"/>
                    <a:ext cx="21844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Object 5"/>
          <p:cNvGraphicFramePr/>
          <p:nvPr/>
        </p:nvGraphicFramePr>
        <p:xfrm>
          <a:off x="2303640" y="5084640"/>
          <a:ext cx="370836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3640" y="5084640"/>
                    <a:ext cx="37083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INTERAKCIJA EM TALASA SA MATERIJOM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68240" y="2285640"/>
            <a:ext cx="8051760" cy="431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Uticaj elektromagnetskih talasa na čove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Kao da nas pogađa snop malih metak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Radio talasi – svetlost – X i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γ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 zračenj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Pamučni meci – gumeni meci – čelični meci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4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Efekti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Velike talasne dužine – EM talasi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Male talasne dužine – EM zračenj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INTERAKCIJA EM TALASA SA MATERIJOM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768240" y="1915920"/>
            <a:ext cx="8051760" cy="494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Elektromagnetski talas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Ultraljubičasti (UV) talasi /100nm -250nm/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Svetlost /250nm – 780nm/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Infracrveni /toplotni/ talasi /0,8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 μ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m </a:t>
            </a: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-1000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μ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m/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Mikrotalasi /1mm – 1m/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Radio talasi /preko 1m/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Intenzitet zračenja veoma bita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4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Opasnost po čovek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Zagrevanje tkiv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UV zraci izazivaju opekotine /sunčanje/, oštećenja ok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Jaka svetlost može da izazove oštećenje oka i slepilo /laserski snop, zavarivanje/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Blizina toplotnih izvora može da izazove opekotine bez dodira /zavarivanje i električne peći/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NEMA DOKAZA DA MIKROTALASI I RADIO TALASI UTIČU NA ČOVEK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Opasnosti po okolinu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Radio talasi mogu da izazovu varnice između metalnih delova!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Toplotno zračenje može da izazove paljenj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3" descr=""/>
          <p:cNvPicPr/>
          <p:nvPr/>
        </p:nvPicPr>
        <p:blipFill>
          <a:blip r:embed="rId1"/>
          <a:stretch/>
        </p:blipFill>
        <p:spPr>
          <a:xfrm>
            <a:off x="6227640" y="1913040"/>
            <a:ext cx="2156040" cy="189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INTERAKCIJA EM TALASA SA MATERIJOM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11280" y="1915920"/>
            <a:ext cx="8051760" cy="494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Elektromagnetski zrac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Ultraljubičasti (UV) zraci/10nm -100nm/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Rendgenski (X) zraci /10pm-10nm/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Gama (</a:t>
            </a:r>
            <a:r>
              <a:rPr b="0" lang="sr-Latn-RS" sz="1600" spc="-1" strike="noStrike">
                <a:solidFill>
                  <a:srgbClr val="000000"/>
                </a:solidFill>
                <a:latin typeface="Tw Cen MT"/>
                <a:ea typeface="Calibri"/>
              </a:rPr>
              <a:t>γ</a:t>
            </a: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) zraci /ispod 10 pm/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Kvantni efekti su dominantni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Jonizacija – elektroni se odvajaju od atom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Na jone deluju jake sile – spajaju se na nove način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Nastaju novi molekuli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Hemijski sastav materijala se menj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4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Opasnosti po čovek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Promena sastava DNK – genetske mutacij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Rak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Nasledne bolesti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Oštećenja i trovanja tkiv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Radijaciona bolest /ARS – akutni radijacioni sindrom, radijaciono trovanje/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4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3" descr=""/>
          <p:cNvPicPr/>
          <p:nvPr/>
        </p:nvPicPr>
        <p:blipFill>
          <a:blip r:embed="rId1"/>
          <a:stretch/>
        </p:blipFill>
        <p:spPr>
          <a:xfrm>
            <a:off x="6227640" y="1913040"/>
            <a:ext cx="2156040" cy="189396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RADIOAKTIVNO ZRAČE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11280" y="1915920"/>
            <a:ext cx="8051760" cy="494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Jonizujuća zračen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Elektromagnetska zračenj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Čestična zračenj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α</a:t>
            </a:r>
            <a:r>
              <a:rPr b="0" lang="sr-Latn-RS" sz="1200" spc="-1" strike="noStrike">
                <a:solidFill>
                  <a:srgbClr val="000000"/>
                </a:solidFill>
                <a:latin typeface="Tw Cen MT"/>
                <a:ea typeface="Calibri"/>
              </a:rPr>
              <a:t>-zračenj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β</a:t>
            </a:r>
            <a:r>
              <a:rPr b="0" lang="sr-Latn-RS" sz="1200" spc="-1" strike="noStrike">
                <a:solidFill>
                  <a:srgbClr val="000000"/>
                </a:solidFill>
                <a:latin typeface="Tw Cen MT"/>
                <a:ea typeface="Calibri"/>
              </a:rPr>
              <a:t>-zračenj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Neutronsko zračenj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4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Identične posledic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Identični mehanizmi – jonizacij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Različita porekl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w Cen MT"/>
              </a:rPr>
              <a:t>Čestična zračenja nastaju raspadom jezgra – radioaktivni raspad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RADIOAKTIVNI </a:t>
            </a:r>
            <a:r>
              <a:rPr b="0" lang="en-GB" sz="4400" spc="-1" strike="noStrike">
                <a:solidFill>
                  <a:srgbClr val="0d0d0d"/>
                </a:solidFill>
                <a:latin typeface="Tw Cen MT Condensed"/>
              </a:rPr>
              <a:t>(NUKLEARNI) </a:t>
            </a: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RASPAD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67880" y="1854360"/>
            <a:ext cx="8124840" cy="286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Atomska jezgra se raspadaju kada elektrostatičko odbijanje među protonima nadvlada privlačno dejstvo nuklearnih sil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59560" indent="-133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Dugi domet elektromagnetskih sila – svi se protoni odbijaju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59560" indent="-133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Kratki domet nuklearnih sila – samo se susedi privlač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Raspad jezgra je slučajan proces – ne može se predvideti koje će se jezgro i kada raspasti ali se može predvideti koliko će ih se raspast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Broj raspada je proporcionalan broju</a:t>
            </a:r>
            <a:br>
              <a:rPr sz="2000"/>
            </a:b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postojećih aktivnih jezgar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30" name="Object 3"/>
          <p:cNvGraphicFramePr/>
          <p:nvPr/>
        </p:nvGraphicFramePr>
        <p:xfrm>
          <a:off x="2050920" y="4869000"/>
          <a:ext cx="180360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4869000"/>
                    <a:ext cx="18036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4"/>
          <p:cNvGraphicFramePr/>
          <p:nvPr/>
        </p:nvGraphicFramePr>
        <p:xfrm>
          <a:off x="1619280" y="5378400"/>
          <a:ext cx="287028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5378400"/>
                    <a:ext cx="28702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4" name="Picture 5" descr=""/>
          <p:cNvPicPr/>
          <p:nvPr/>
        </p:nvPicPr>
        <p:blipFill>
          <a:blip r:embed="rId5"/>
          <a:stretch/>
        </p:blipFill>
        <p:spPr>
          <a:xfrm>
            <a:off x="5651640" y="3854520"/>
            <a:ext cx="3340080" cy="28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5" name="Object 6"/>
          <p:cNvGraphicFramePr/>
          <p:nvPr/>
        </p:nvGraphicFramePr>
        <p:xfrm>
          <a:off x="3406680" y="6237360"/>
          <a:ext cx="1886040" cy="66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6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06680" y="6237360"/>
                    <a:ext cx="1886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AKTIVNOS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767880" y="1823760"/>
            <a:ext cx="8124840" cy="503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Jonizujući zraci nastaju pri svakom raspadu, bitan je broj raspada u nekom trenutku – AKTIVNOS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9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SI jedinica Bq – beker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CGS jedinica Cu – kiri 1Cu = 37 GBq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Kraće vreme poluraspada, već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Arial"/>
              </a:rPr>
              <a:t>, veća aktivnost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258920" y="2781360"/>
          <a:ext cx="568944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781360"/>
                    <a:ext cx="568944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Object 6"/>
          <p:cNvGraphicFramePr/>
          <p:nvPr/>
        </p:nvGraphicFramePr>
        <p:xfrm>
          <a:off x="3368520" y="4005360"/>
          <a:ext cx="2337120" cy="7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8520" y="4005360"/>
                    <a:ext cx="23371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3746520" y="2421000"/>
            <a:ext cx="3705120" cy="29718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83757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VRSTE RADIOAKTIVNOG</a:t>
            </a:r>
            <a:r>
              <a:rPr b="0" lang="en-GB" sz="4400" spc="-1" strike="noStrike">
                <a:solidFill>
                  <a:srgbClr val="0d0d0d"/>
                </a:solidFill>
                <a:latin typeface="Tw Cen MT Condensed"/>
              </a:rPr>
              <a:t> (NUKLEARNOG)</a:t>
            </a: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 ZRAČE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03640" y="1871640"/>
            <a:ext cx="2376360" cy="494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X i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γ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– zrac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elektromagnetski zraci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velika energij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velika probojnost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neutron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nenaelektrisane čestic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velika energij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velika probojnost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Content Placeholder 2"/>
          <p:cNvSpPr/>
          <p:nvPr/>
        </p:nvSpPr>
        <p:spPr>
          <a:xfrm>
            <a:off x="552600" y="2060640"/>
            <a:ext cx="365904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α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– zr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jezgra heliju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dva protona i dva neutr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masivne i pozitivno naelektrisane čes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ogromna energ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mali dom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β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– zr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elektroni ili pozitr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laki i naelektris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velika energ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  <a:ea typeface="Calibri"/>
              </a:rPr>
              <a:t>mali dom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IBRACIJE - POJAM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14040" y="1989000"/>
            <a:ext cx="8001000" cy="189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Kretanje tela kroz koje se prostire tal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Ubrzavanje štapa mase m, dužine d, i poprečnog preseka 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sila F deluje vreme </a:t>
            </a:r>
            <a:r>
              <a:rPr b="0" lang="sr-Latn-R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Kruto tel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4"/>
              <p:cNvSpPr txBox="1"/>
              <p:nvPr/>
            </p:nvSpPr>
            <p:spPr>
              <a:xfrm>
                <a:off x="1600200" y="3716280"/>
                <a:ext cx="7318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2717640" y="3716280"/>
                <a:ext cx="13971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a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τ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Rectangle 6"/>
          <p:cNvSpPr/>
          <p:nvPr/>
        </p:nvSpPr>
        <p:spPr>
          <a:xfrm>
            <a:off x="914400" y="4648320"/>
            <a:ext cx="8001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Deformabilno t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kroz telo se prostire talasni impuls dužine </a:t>
            </a:r>
            <a:r>
              <a:rPr b="0" i="1" lang="sr-Latn-CS" sz="2000" spc="-1" strike="noStrike">
                <a:solidFill>
                  <a:srgbClr val="000000"/>
                </a:solidFill>
                <a:latin typeface="Tw Cen MT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i="1" lang="sr-Latn-CS" sz="20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i="1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752480" y="5791320"/>
            <a:ext cx="2362320" cy="30456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5105520" y="5791320"/>
            <a:ext cx="2361960" cy="30456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9"/>
          <p:cNvGrpSpPr/>
          <p:nvPr/>
        </p:nvGrpSpPr>
        <p:grpSpPr>
          <a:xfrm>
            <a:off x="2133720" y="5638680"/>
            <a:ext cx="1395000" cy="1008720"/>
            <a:chOff x="2133720" y="5638680"/>
            <a:chExt cx="1395000" cy="1008720"/>
          </a:xfrm>
        </p:grpSpPr>
        <p:sp>
          <p:nvSpPr>
            <p:cNvPr id="276" name="Line 10"/>
            <p:cNvSpPr/>
            <p:nvPr/>
          </p:nvSpPr>
          <p:spPr>
            <a:xfrm>
              <a:off x="2133720" y="56386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Group 11"/>
            <p:cNvGrpSpPr/>
            <p:nvPr/>
          </p:nvGrpSpPr>
          <p:grpSpPr>
            <a:xfrm>
              <a:off x="2133720" y="5791320"/>
              <a:ext cx="1395000" cy="856080"/>
              <a:chOff x="2133720" y="5791320"/>
              <a:chExt cx="1395000" cy="856080"/>
            </a:xfrm>
          </p:grpSpPr>
          <p:sp>
            <p:nvSpPr>
              <p:cNvPr id="278" name="Text Box 12"/>
              <p:cNvSpPr/>
              <p:nvPr/>
            </p:nvSpPr>
            <p:spPr>
              <a:xfrm>
                <a:off x="2508120" y="6137280"/>
                <a:ext cx="102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sr-Latn-C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 d/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Rectangle 13"/>
              <p:cNvSpPr/>
              <p:nvPr/>
            </p:nvSpPr>
            <p:spPr>
              <a:xfrm>
                <a:off x="2133720" y="5791320"/>
                <a:ext cx="609480" cy="304560"/>
              </a:xfrm>
              <a:prstGeom prst="rect">
                <a:avLst/>
              </a:prstGeom>
              <a:solidFill>
                <a:srgbClr val="335b7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Group 14"/>
          <p:cNvGrpSpPr/>
          <p:nvPr/>
        </p:nvGrpSpPr>
        <p:grpSpPr>
          <a:xfrm>
            <a:off x="5976720" y="5562720"/>
            <a:ext cx="1052640" cy="1043280"/>
            <a:chOff x="5976720" y="5562720"/>
            <a:chExt cx="1052640" cy="1043280"/>
          </a:xfrm>
        </p:grpSpPr>
        <p:sp>
          <p:nvSpPr>
            <p:cNvPr id="281" name="Line 15"/>
            <p:cNvSpPr/>
            <p:nvPr/>
          </p:nvSpPr>
          <p:spPr>
            <a:xfrm flipH="1">
              <a:off x="6019920" y="55627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16"/>
            <p:cNvSpPr/>
            <p:nvPr/>
          </p:nvSpPr>
          <p:spPr>
            <a:xfrm>
              <a:off x="5976720" y="6095880"/>
              <a:ext cx="1052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gt; d/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7"/>
            <p:cNvSpPr/>
            <p:nvPr/>
          </p:nvSpPr>
          <p:spPr>
            <a:xfrm>
              <a:off x="6095880" y="5791320"/>
              <a:ext cx="685800" cy="30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ZAŠTITA OD RADIOAKTIVNOG ZRAČE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2124000" y="1824120"/>
            <a:ext cx="4680000" cy="327636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767880" y="5229360"/>
            <a:ext cx="8124840" cy="95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Broj „zarobljenih“ čestica proporcionalan je broju onih koje upadaj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50" name="Object 7"/>
          <p:cNvGraphicFramePr/>
          <p:nvPr/>
        </p:nvGraphicFramePr>
        <p:xfrm>
          <a:off x="2751120" y="5756400"/>
          <a:ext cx="2768760" cy="85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51120" y="5756400"/>
                    <a:ext cx="276876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MERENJE EFEKATA JONIZUJUĆEG ZRAČE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768240" y="1988640"/>
            <a:ext cx="7290000" cy="431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w Cen MT"/>
              </a:rPr>
              <a:t>Opisivanje zračenj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Flu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Kroz neku površinu (u neko telo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zraka/m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Energetski flu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Kroz neku površinu ( u neko telo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J/m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Energija zrak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MERENJE EFEKATA JONIZUJUĆEG ZRAČE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68240" y="2025720"/>
            <a:ext cx="72900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marL="86400" indent="-86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Opisivanje prenesene energije - dozimetri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54160" indent="-130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Linearni gubitak energij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29840" indent="-131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w Cen MT"/>
              </a:rPr>
              <a:t>J/m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254160" indent="-130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Primljena doza zračenj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29840" indent="-131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w Cen MT"/>
              </a:rPr>
              <a:t>/Gray/ Gy = J/k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254160" indent="-130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Brzina doze zračenj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29840" indent="-131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w Cen MT"/>
              </a:rPr>
              <a:t>Gy/s = 3,6 kGy/h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254160" indent="-130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Ekvivalentna doza zračenj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29840" indent="-131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w Cen MT"/>
              </a:rPr>
              <a:t>/Sievert/ Sv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429840" indent="-131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w Cen MT"/>
              </a:rPr>
              <a:t>Meri zdravstvene efekte primljene doze zračenja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254160" indent="-130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Efektivna doza zračenj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29840" indent="-131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w Cen MT"/>
              </a:rPr>
              <a:t>/Sievert/ Sv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429840" indent="-131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w Cen MT"/>
              </a:rPr>
              <a:t>Ozračivanje izvršeno spolja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254160" indent="-130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Preuzeta doza zračenj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29840" indent="-131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w Cen MT"/>
              </a:rPr>
              <a:t>/Sievert/ Sv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429840" indent="-131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w Cen MT"/>
              </a:rPr>
              <a:t>Ozračivanje izvršeno iznutra (gutanjem, udisanjem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429840" indent="-131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254160" indent="-130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IBRACIJE - POJAM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040" y="23623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formabilno telo se kre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će kao gusenica !!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a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nje modela krutog tela kada 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talasni impuls zahvata celo telo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(c veliko,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veliko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)  za sile koje traju mnogo du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 od L/c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ritično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za veliko L (veliki objekti) ili malo c (fluidi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IBRACIJE – </a:t>
            </a: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SOPSTVENE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 VIBRAC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040" y="23619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Reakcija sistema na udar (kratkotrajni kompresioni deformacioni tala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Vibriranje tela prepuštenog samom seb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SOPSTVENE VIBRACIJE ŠTAP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23623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Štap slobodan na oba kra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1476360" y="3141720"/>
            <a:ext cx="2286000" cy="22860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9"/>
          <p:cNvSpPr/>
          <p:nvPr/>
        </p:nvSpPr>
        <p:spPr>
          <a:xfrm>
            <a:off x="5307120" y="23623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Štap fiksiran na oba kr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23"/>
          <p:cNvGrpSpPr/>
          <p:nvPr/>
        </p:nvGrpSpPr>
        <p:grpSpPr>
          <a:xfrm>
            <a:off x="5791320" y="2895480"/>
            <a:ext cx="2590560" cy="609840"/>
            <a:chOff x="5791320" y="2895480"/>
            <a:chExt cx="2590560" cy="609840"/>
          </a:xfrm>
        </p:grpSpPr>
        <p:sp>
          <p:nvSpPr>
            <p:cNvPr id="293" name="Rectangle 24"/>
            <p:cNvSpPr/>
            <p:nvPr/>
          </p:nvSpPr>
          <p:spPr>
            <a:xfrm>
              <a:off x="5943600" y="3124080"/>
              <a:ext cx="2286000" cy="2286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25"/>
            <p:cNvSpPr/>
            <p:nvPr/>
          </p:nvSpPr>
          <p:spPr>
            <a:xfrm>
              <a:off x="5791320" y="2895480"/>
              <a:ext cx="152280" cy="609840"/>
            </a:xfrm>
            <a:prstGeom prst="rect">
              <a:avLst/>
            </a:prstGeom>
            <a:solidFill>
              <a:srgbClr val="2683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26"/>
            <p:cNvSpPr/>
            <p:nvPr/>
          </p:nvSpPr>
          <p:spPr>
            <a:xfrm>
              <a:off x="8229600" y="2895480"/>
              <a:ext cx="152280" cy="609840"/>
            </a:xfrm>
            <a:prstGeom prst="rect">
              <a:avLst/>
            </a:prstGeom>
            <a:solidFill>
              <a:srgbClr val="2683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6" name="Object 36"/>
              <p:cNvSpPr txBox="1"/>
              <p:nvPr/>
            </p:nvSpPr>
            <p:spPr>
              <a:xfrm>
                <a:off x="4211640" y="3573360"/>
                <a:ext cx="9320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Rectangle 46"/>
          <p:cNvSpPr/>
          <p:nvPr/>
        </p:nvSpPr>
        <p:spPr>
          <a:xfrm>
            <a:off x="971640" y="450864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Štap slobodan jednom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a fiksiran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 na drugom kra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7"/>
              <p:cNvSpPr txBox="1"/>
              <p:nvPr/>
            </p:nvSpPr>
            <p:spPr>
              <a:xfrm>
                <a:off x="4211640" y="5877000"/>
                <a:ext cx="9320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9" name="Group 48"/>
          <p:cNvGrpSpPr/>
          <p:nvPr/>
        </p:nvGrpSpPr>
        <p:grpSpPr>
          <a:xfrm>
            <a:off x="3718080" y="4979880"/>
            <a:ext cx="2437920" cy="609840"/>
            <a:chOff x="3718080" y="4979880"/>
            <a:chExt cx="2437920" cy="609840"/>
          </a:xfrm>
        </p:grpSpPr>
        <p:sp>
          <p:nvSpPr>
            <p:cNvPr id="300" name="Rectangle 49"/>
            <p:cNvSpPr/>
            <p:nvPr/>
          </p:nvSpPr>
          <p:spPr>
            <a:xfrm>
              <a:off x="3718080" y="5208480"/>
              <a:ext cx="2285640" cy="2286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50"/>
            <p:cNvSpPr/>
            <p:nvPr/>
          </p:nvSpPr>
          <p:spPr>
            <a:xfrm>
              <a:off x="6003720" y="4979880"/>
              <a:ext cx="152280" cy="609840"/>
            </a:xfrm>
            <a:prstGeom prst="rect">
              <a:avLst/>
            </a:prstGeom>
            <a:solidFill>
              <a:srgbClr val="2683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SOPSTVENE VIBRAC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040" y="23623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Udareni štap vibrira na tačno određenoj učestanosti: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f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–</a:t>
            </a:r>
            <a:r>
              <a:rPr b="1" lang="hr-HR" sz="2400" spc="-1" strike="noStrike">
                <a:solidFill>
                  <a:srgbClr val="000000"/>
                </a:solidFill>
                <a:latin typeface="Tw Cen MT"/>
              </a:rPr>
              <a:t>osnovna učestanos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opstvene učestanost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učestanosti na kojima vibrira telo prepušteno samo seb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avise od oblika i dimenzija tel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ko telo mo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že na više načina da vibrira na istoj frekvenci, onda se ti načini nazivaju </a:t>
            </a:r>
            <a:r>
              <a:rPr b="1" i="1" lang="sr-Latn-CS" sz="2000" spc="-1" strike="noStrike">
                <a:solidFill>
                  <a:srgbClr val="000000"/>
                </a:solidFill>
                <a:latin typeface="Tw Cen MT"/>
              </a:rPr>
              <a:t>modovi vibriran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4" name="Picture 4" descr="MODE12"/>
          <p:cNvPicPr/>
          <p:nvPr/>
        </p:nvPicPr>
        <p:blipFill>
          <a:blip r:embed="rId1"/>
          <a:stretch/>
        </p:blipFill>
        <p:spPr>
          <a:xfrm>
            <a:off x="2286000" y="5060880"/>
            <a:ext cx="1644480" cy="16448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ODE21"/>
          <p:cNvPicPr/>
          <p:nvPr/>
        </p:nvPicPr>
        <p:blipFill>
          <a:blip r:embed="rId2"/>
          <a:stretch/>
        </p:blipFill>
        <p:spPr>
          <a:xfrm>
            <a:off x="5137200" y="5060880"/>
            <a:ext cx="164448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MODES"/>
          <p:cNvPicPr/>
          <p:nvPr/>
        </p:nvPicPr>
        <p:blipFill>
          <a:blip r:embed="rId1"/>
          <a:stretch/>
        </p:blipFill>
        <p:spPr>
          <a:xfrm>
            <a:off x="3124080" y="3809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SOPSTVENE VIBRAC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14040" y="1447560"/>
            <a:ext cx="8001000" cy="24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Viši harmonic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ako neko kretanje ima period T, onda ima i period 2T i 3T i tako dal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period T imaju kretanja sa periodima T/2, T/3,…,T/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slično, ako znamo da se neko kretanje ponavlja posle vremena T, frekvence tog kretanja mogu bit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1803240" y="3935520"/>
                <a:ext cx="7765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6"/>
              <p:cNvSpPr txBox="1"/>
              <p:nvPr/>
            </p:nvSpPr>
            <p:spPr>
              <a:xfrm>
                <a:off x="2782800" y="3935520"/>
                <a:ext cx="7984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7"/>
              <p:cNvSpPr txBox="1"/>
              <p:nvPr/>
            </p:nvSpPr>
            <p:spPr>
              <a:xfrm>
                <a:off x="4437000" y="3935520"/>
                <a:ext cx="8208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8"/>
              <p:cNvSpPr txBox="1"/>
              <p:nvPr/>
            </p:nvSpPr>
            <p:spPr>
              <a:xfrm>
                <a:off x="3897360" y="4213080"/>
                <a:ext cx="244440" cy="1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9"/>
              <p:cNvSpPr txBox="1"/>
              <p:nvPr/>
            </p:nvSpPr>
            <p:spPr>
              <a:xfrm>
                <a:off x="6095880" y="3933720"/>
                <a:ext cx="20862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Rectangle 10"/>
          <p:cNvSpPr/>
          <p:nvPr/>
        </p:nvSpPr>
        <p:spPr>
          <a:xfrm>
            <a:off x="914400" y="46483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w Cen MT"/>
              </a:rPr>
              <a:t>Harmonici žice fiksirane na dva kr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3:28:25Z</dcterms:created>
  <dc:creator>Zlatan Soskic</dc:creator>
  <dc:description/>
  <dc:language>en-US</dc:language>
  <cp:lastModifiedBy>Zlatan Soskic</cp:lastModifiedBy>
  <dcterms:modified xsi:type="dcterms:W3CDTF">2019-12-23T11:00:49Z</dcterms:modified>
  <cp:revision>718</cp:revision>
  <dc:subject/>
  <dc:title>Talasi</dc:title>
</cp:coreProperties>
</file>