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1BE4C4-354B-45FA-9C64-7CC7E832CA5C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B666A-B704-4A83-9154-206ECBC5E75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22210-432F-45F2-8FB4-45EF9CE8396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4FA0D7-CD8C-4F4E-BD97-AE5568E3AE1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E0F8C3-7156-415A-88F1-E0A900F46C6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5EADEF-A5C6-4761-8B8B-B7E630FE5B6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564E58-B7A8-4922-A47C-9EBDE56283A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E58CF0-96F5-403C-B02B-3E156CFDA1F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4F6C4-E7C9-4C7A-ACFD-F528F93899A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5D0EA-C586-4B50-AC34-18828C1D428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F7DB0-E428-40AA-8730-F0BA3097E07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C3A1F-0F41-4F55-890A-61685068C0E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32CE8D-5CA4-4777-A840-7E972DF419C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B8F74-CE11-46BA-AB10-2867217A3BE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7D5D6F-2E61-4421-80B4-441C8A4C448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D827B-3B0A-41E4-B9EC-A385F56379A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F0E38-B55D-4F73-B733-596396B09B6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D6120-C61E-4AC2-9FE8-D66F75D42BC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AA18-3765-4F2E-92E4-25DCEA8D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66B2-F53F-4879-A71A-A54C1AF3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B5CC-38D5-4C30-9B8E-7EC440B4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FC51-77C4-4CAC-A899-AEA2189F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5E42-F60D-400B-977A-F2F0A480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1CA0-42F3-493F-A584-0DE0FD7C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9F60-34A6-46FE-B1F5-026977B3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4202-65A5-485F-8B77-B07E6F04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881A-4E06-4AC6-9A7B-6DA343BB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32F1-F785-4331-9DD0-E0BF4C5E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0EFB-907A-4484-B3C9-7FDD7113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2540-02D7-47B8-BFE7-C756C620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BDDB-14EF-48F9-AB43-4F08491E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C834-7205-4714-983F-41C06ACF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D1E5-7C5F-43D8-BE28-613DD004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858F-9C48-4953-9F6B-E2FABF6B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FE18-8816-4360-848F-B2CACAF97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E5CDE-B6C8-4EC6-B6C5-A56655A2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9A03F-F310-4951-A2D8-AD9C0D94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59F87-A2C8-4215-9A41-6D684D1B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3C3F3-6E2E-4FB1-A7CC-7B00DAD3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69203-92DA-48D3-BDAE-15FA47A0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9CB3-B5D9-433E-B0B8-9243A730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3EFE8-A4C1-41B8-9D07-E5522A6B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D8DB5-AF2A-46C5-AAD6-DBBD5BD8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ECE25-DE40-43EB-9A3E-2C4EDAD1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FB709-9BD1-4E4F-94BE-78ACDB02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DFD5F-8902-4FDE-AEB3-1964F51C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47A0A-126E-48E2-8F8D-130FDA84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167CB-7812-4232-9187-E7D5340E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F106A-5C89-4AB1-BEA7-D02569FB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3BEE3-B19F-417D-974E-3AE2D9FB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B52DC-E5AD-4E84-852C-912880F9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D57C-0480-4BA1-A86B-9A727E4E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F1CEB-D198-4E79-8878-30BAA6B9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D0CFE-168F-49F0-B02B-16C3F4F0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B8828-9AF6-4057-9A1B-1C594F28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C3890-9DA2-4C80-9456-27E70D90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7C05F-C065-4F65-AB46-FF8483E5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0A04E-1D85-498C-B061-937F1996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DD61C-F6F8-4CF0-A176-1B8B2A45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59CA9-0889-4C37-B7BF-7514C2EE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0B3E9-900D-4E0E-A33A-24FA299E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7A3BB-4104-4CD0-8FCD-F4DE54EF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641A-6B9F-410E-97C4-BDAB6A1E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09566-BE0A-40B8-81EF-C92BA750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3A294-3529-4672-AFAB-601F9A79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B31EF-91C3-4AC2-B145-A5AF5D3F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7BCBB-FE55-42AB-9ABF-948D59C7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62AD7-D592-4C38-869A-540C5312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2C7D3-A480-445F-8715-CDB9E970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9CF3C-A3AA-4CB5-AB28-F3E4ADA1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86895-3E06-4C89-A9E0-CCFB69C1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8D0BD-DC1E-4C91-BEB4-E7E325CA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3BDA1-0144-4CA5-B123-405C2568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A7F2-3DB1-450A-BFED-F188AC51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9AB5C-4D53-4001-B7FA-339D64E2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17C92-102F-4BCD-8622-3A59A97A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4A780-C77D-404E-9705-B43E066E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32862-FBF1-4635-84CC-F541DB53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F8130-A0B4-459C-A4D9-5FDB9C12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3C09B-3BAC-4409-A9C6-E0C464CD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853B9-B738-4A70-B101-1080CE58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37C54-B87C-429F-9A0D-4FEF7242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7CBDE-8974-489C-A93F-22EDD87C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945C6-512E-4DB4-B796-41070E5B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8936-64A1-46BD-81BD-31D77F4F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065ED-08BA-4ECB-8284-BDA66967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ED06B-417A-4D5A-B6CC-9AF6C5EE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5E4E6-2E6F-4606-AB47-BE1F0796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D3C7-2C7F-42E9-A90A-C3751E3C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B5D0-5752-4294-A232-B88C6C8B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C5A7D8-4702-4BF9-B7EC-7C7D796F5FEE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B1D4F9-E205-4A5C-A579-E0F83D14A68F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5FE26-58B0-4CA8-8BB2-20870DBFBE50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506EE6-A057-4548-BCDF-8F641C587DB7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5EBC43-4B43-48D1-8180-97556E6E09B9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C12BD7-0687-406D-B08F-67DFE13A25A4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4959360"/>
            <a:ext cx="617220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d0d0d"/>
                </a:solidFill>
                <a:latin typeface="Tw Cen MT Condensed"/>
              </a:rPr>
              <a:t>ELEKTROMAGNETSKE INTERAKCIJE</a:t>
            </a:r>
            <a:br>
              <a:rPr sz="4000"/>
            </a:br>
            <a:r>
              <a:rPr b="0" lang="sr-Latn-RS" sz="4000" spc="-1" strike="noStrike">
                <a:solidFill>
                  <a:srgbClr val="0d0d0d"/>
                </a:solidFill>
                <a:latin typeface="Tw Cen MT Condensed"/>
              </a:rPr>
              <a:t>STRUKTURA ATOMA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LANETARNI MODEL ATOM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NAELEKTRISANJE ATOM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14400" y="23623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4000"/>
          </a:bodyPr>
          <a:p>
            <a:pPr marL="84600" indent="-8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Naelektrisanje protona q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=+e=+1,6·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w Cen MT"/>
              </a:rPr>
              <a:t>-19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4600" indent="-8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Naelektrisanje neutrona q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w Cen MT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4600" indent="-8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Naelektrisanje jezgra +Z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4600" indent="-8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4600" indent="-8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Naelektrisanje elektrona q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=-e=-1,6·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w Cen MT"/>
              </a:rPr>
              <a:t>-19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4600" indent="-8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Naelektrisanje omotača –Z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4600" indent="-8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4600" indent="-8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Atom kao celina je elektroneutrala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LANETARNI MODEL ATOM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MASA ATOM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37720" y="23623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3000"/>
          </a:bodyPr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Masa protona m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=1,67·10</a:t>
            </a:r>
            <a:r>
              <a:rPr b="0" lang="hr-HR" sz="2200" spc="-1" strike="noStrike" baseline="30000">
                <a:solidFill>
                  <a:srgbClr val="000000"/>
                </a:solidFill>
                <a:latin typeface="Tw Cen MT"/>
              </a:rPr>
              <a:t>-27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kg =1ajm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asa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 neutrona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w Cen MT"/>
              </a:rPr>
              <a:t>n</a:t>
            </a: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 m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w Cen MT"/>
              </a:rPr>
              <a:t>p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= 1ajm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asa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 jezgra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w Cen MT"/>
              </a:rPr>
              <a:t>j</a:t>
            </a: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+N) ajm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asa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 elektrona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9,1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·10</a:t>
            </a:r>
            <a:r>
              <a:rPr b="0" lang="hr-HR" sz="22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w Cen MT"/>
              </a:rPr>
              <a:t>31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kg </a:t>
            </a: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 1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/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1839 ajm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asa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 omotača Z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w Cen MT"/>
              </a:rPr>
              <a:t>e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&lt;&lt;1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ajm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ela masa atoma je koncentrisana u jezgru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w Cen MT"/>
              </a:rPr>
              <a:t>at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+N) ajm=A ajm    A-maseni broj atom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Tw Cen MT"/>
              </a:rPr>
              <a:t>Izotopi = isto Z različito A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4"/>
              <p:cNvSpPr txBox="1"/>
              <p:nvPr/>
            </p:nvSpPr>
            <p:spPr>
              <a:xfrm>
                <a:off x="7772400" y="5562720"/>
                <a:ext cx="75888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I BOROV POSTUL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2143080" y="4267080"/>
                <a:ext cx="4943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ezgr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l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e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e</m:t>
                        </m:r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f>
                      <m:num>
                        <m:r>
                          <m:t xml:space="preserve">Z</m:t>
                        </m:r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5"/>
              <p:cNvSpPr txBox="1"/>
              <p:nvPr/>
            </p:nvSpPr>
            <p:spPr>
              <a:xfrm>
                <a:off x="2143080" y="5105520"/>
                <a:ext cx="1362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2133720" y="5867280"/>
                <a:ext cx="51735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f>
                      <m:num>
                        <m:r>
                          <m:t xml:space="preserve">Z</m:t>
                        </m:r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⇒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Z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4" name="Rectangle 9"/>
          <p:cNvSpPr/>
          <p:nvPr/>
        </p:nvSpPr>
        <p:spPr>
          <a:xfrm>
            <a:off x="914400" y="23623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Unutaratomsko kretanj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1295280" y="2895480"/>
            <a:ext cx="6248520" cy="141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lektroni u atomu se kre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ću oko nepokretnog jezgra po kružnim putanjama pod uticajem privlačne elektrostatičke sil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42480" y="79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II BOROV POSTUL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914040" y="2362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Ako se elektroni kreću kružno (ubrzano), zašto ne gube energiju zračenjem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914400" y="3276720"/>
            <a:ext cx="7696080" cy="838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w Cen MT"/>
              </a:rPr>
              <a:t>Elektroni u atomu se trajno kreću samo po stacionarnim orbitama, na kojima ne gube energij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914400" y="426708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w Cen MT"/>
              </a:rPr>
              <a:t>Postoje stacionarne i nestacionarne orbit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w Cen MT"/>
              </a:rPr>
              <a:t>Na nestacionarnim elektron ne može opstati trajn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w Cen MT"/>
              </a:rPr>
              <a:t>Stacionarne orbite su "naročite"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II BOROV POSTUL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4"/>
              <p:cNvSpPr txBox="1"/>
              <p:nvPr/>
            </p:nvSpPr>
            <p:spPr>
              <a:xfrm>
                <a:off x="2438280" y="2590920"/>
                <a:ext cx="3556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cionarn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ℏ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6"/>
              <p:cNvSpPr txBox="1"/>
              <p:nvPr/>
            </p:nvSpPr>
            <p:spPr>
              <a:xfrm>
                <a:off x="974880" y="3124080"/>
                <a:ext cx="1158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8"/>
              <p:cNvSpPr txBox="1"/>
              <p:nvPr/>
            </p:nvSpPr>
            <p:spPr>
              <a:xfrm>
                <a:off x="912960" y="3505320"/>
                <a:ext cx="28969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J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10"/>
              <p:cNvSpPr txBox="1"/>
              <p:nvPr/>
            </p:nvSpPr>
            <p:spPr>
              <a:xfrm>
                <a:off x="3962520" y="3657600"/>
                <a:ext cx="2243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≈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J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Text Box 11"/>
          <p:cNvSpPr/>
          <p:nvPr/>
        </p:nvSpPr>
        <p:spPr>
          <a:xfrm>
            <a:off x="6110280" y="3657600"/>
            <a:ext cx="29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Plankova konstant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Rectangle 13"/>
          <p:cNvSpPr/>
          <p:nvPr/>
        </p:nvSpPr>
        <p:spPr>
          <a:xfrm>
            <a:off x="914400" y="426708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L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w Cen MT"/>
              </a:rPr>
              <a:t>stac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,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 L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w Cen MT"/>
              </a:rPr>
              <a:t>stac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= 2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,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 L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w Cen MT"/>
              </a:rPr>
              <a:t>stac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= 3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L može imati samo neke vrednosti, a ne sv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KVANTOVANJE, KVANT (skok) je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ћ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KVANTNA MEHANIKA 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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KLASIČNA MEHANIK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14"/>
              <p:cNvSpPr txBox="1"/>
              <p:nvPr/>
            </p:nvSpPr>
            <p:spPr>
              <a:xfrm>
                <a:off x="1441440" y="6350040"/>
                <a:ext cx="71848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000000000000000000000000000000105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J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15"/>
              <p:cNvSpPr txBox="1"/>
              <p:nvPr/>
            </p:nvSpPr>
            <p:spPr>
              <a:xfrm>
                <a:off x="3962520" y="6019920"/>
                <a:ext cx="17618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↔</m:t>
                    </m:r>
                    <m:r>
                      <m:t xml:space="preserve">ℏ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OSLEDICE BOROVIH POSTULAT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grpSp>
        <p:nvGrpSpPr>
          <p:cNvPr id="360" name="Group 20"/>
          <p:cNvGrpSpPr/>
          <p:nvPr/>
        </p:nvGrpSpPr>
        <p:grpSpPr>
          <a:xfrm>
            <a:off x="1026720" y="2421000"/>
            <a:ext cx="7556760" cy="1143000"/>
            <a:chOff x="1026720" y="2421000"/>
            <a:chExt cx="7556760" cy="1143000"/>
          </a:xfrm>
        </p:grpSpPr>
        <mc:AlternateContent>
          <mc:Choice xmlns:a14="http://schemas.microsoft.com/office/drawing/2010/main" Requires="a14">
            <p:sp>
              <p:nvSpPr>
                <p:cNvPr id="361" name="Object 14"/>
                <p:cNvSpPr txBox="1"/>
                <p:nvPr/>
              </p:nvSpPr>
              <p:spPr>
                <a:xfrm>
                  <a:off x="3859200" y="2573640"/>
                  <a:ext cx="451476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Z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H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ℏ</m:t>
                          </m:r>
                        </m:den>
                      </m:f>
                      <m:r>
                        <m:t xml:space="preserve">≈</m:t>
                      </m:r>
                      <m:r>
                        <m:t xml:space="preserve">2,2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6</m:t>
                          </m:r>
                        </m:sup>
                      </m:sSup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62" name="Text Box 15"/>
            <p:cNvSpPr/>
            <p:nvPr/>
          </p:nvSpPr>
          <p:spPr>
            <a:xfrm>
              <a:off x="1026720" y="2767320"/>
              <a:ext cx="30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w Cen MT"/>
                </a:rPr>
                <a:t>Kvantovanje brzine:</a:t>
              </a:r>
              <a:endParaRPr b="0" lang="en-US" sz="2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3" name="Rectangle 16"/>
            <p:cNvSpPr/>
            <p:nvPr/>
          </p:nvSpPr>
          <p:spPr>
            <a:xfrm>
              <a:off x="1116000" y="2421000"/>
              <a:ext cx="7467480" cy="11430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364" name="Group 21"/>
          <p:cNvGrpSpPr/>
          <p:nvPr/>
        </p:nvGrpSpPr>
        <p:grpSpPr>
          <a:xfrm>
            <a:off x="710280" y="3716280"/>
            <a:ext cx="8205120" cy="1143000"/>
            <a:chOff x="710280" y="3716280"/>
            <a:chExt cx="8205120" cy="1143000"/>
          </a:xfrm>
        </p:grpSpPr>
        <mc:AlternateContent>
          <mc:Choice xmlns:a14="http://schemas.microsoft.com/office/drawing/2010/main" Requires="a14">
            <p:sp>
              <p:nvSpPr>
                <p:cNvPr id="365" name="Object 17"/>
                <p:cNvSpPr txBox="1"/>
                <p:nvPr/>
              </p:nvSpPr>
              <p:spPr>
                <a:xfrm>
                  <a:off x="3733920" y="3792240"/>
                  <a:ext cx="50212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Z</m:t>
                          </m:r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H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ℏ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  <m:r>
                        <m:t xml:space="preserve">≈</m:t>
                      </m:r>
                      <m:r>
                        <m:t xml:space="preserve">5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p>
                      </m:sSup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6" name="Text Box 18"/>
            <p:cNvSpPr/>
            <p:nvPr/>
          </p:nvSpPr>
          <p:spPr>
            <a:xfrm>
              <a:off x="710280" y="40208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w Cen MT"/>
                </a:rPr>
                <a:t>Kvantovanje putanje:</a:t>
              </a:r>
              <a:endParaRPr b="0" lang="en-US" sz="2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7" name="Rectangle 19"/>
            <p:cNvSpPr/>
            <p:nvPr/>
          </p:nvSpPr>
          <p:spPr>
            <a:xfrm>
              <a:off x="914400" y="3716280"/>
              <a:ext cx="8001000" cy="11430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368" name="Group 15"/>
          <p:cNvGrpSpPr/>
          <p:nvPr/>
        </p:nvGrpSpPr>
        <p:grpSpPr>
          <a:xfrm>
            <a:off x="914400" y="5076720"/>
            <a:ext cx="8001000" cy="1447560"/>
            <a:chOff x="914400" y="5076720"/>
            <a:chExt cx="8001000" cy="1447560"/>
          </a:xfrm>
        </p:grpSpPr>
        <p:sp>
          <p:nvSpPr>
            <p:cNvPr id="369" name="Text Box 10"/>
            <p:cNvSpPr/>
            <p:nvPr/>
          </p:nvSpPr>
          <p:spPr>
            <a:xfrm>
              <a:off x="3013560" y="5152680"/>
              <a:ext cx="328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w Cen MT"/>
                </a:rPr>
                <a:t>Kvantovanje energije:</a:t>
              </a:r>
              <a:endParaRPr b="0" lang="en-US" sz="2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70" name="Rectangle 11"/>
            <p:cNvSpPr/>
            <p:nvPr/>
          </p:nvSpPr>
          <p:spPr>
            <a:xfrm>
              <a:off x="914400" y="5076720"/>
              <a:ext cx="8001000" cy="14475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1" name="Object 14"/>
                <p:cNvSpPr txBox="1"/>
                <p:nvPr/>
              </p:nvSpPr>
              <p:spPr>
                <a:xfrm>
                  <a:off x="1370160" y="5609880"/>
                  <a:ext cx="7164360" cy="83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H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ℏ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sup>
                      </m:sSup>
                      <m:r>
                        <m:t xml:space="preserve">J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  <m:r>
                        <m:t xml:space="preserve">,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eV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AULIJEV PRINCIP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040" y="2362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marL="89280" indent="-892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Dva elektrona u atomu ne mogu imati iste putanj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9280" indent="-892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Na orbiti n može biti najviše 2n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 elektron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9280" indent="-892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9280" indent="-892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Elektroni teže minimalnoj potencijalnoj energiji – osnovno stanje atom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9280" indent="-892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4"/>
              <p:cNvSpPr txBox="1"/>
              <p:nvPr/>
            </p:nvSpPr>
            <p:spPr>
              <a:xfrm>
                <a:off x="1376280" y="4724280"/>
                <a:ext cx="909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H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5"/>
              <p:cNvSpPr txBox="1"/>
              <p:nvPr/>
            </p:nvSpPr>
            <p:spPr>
              <a:xfrm>
                <a:off x="7238880" y="4724280"/>
                <a:ext cx="1084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6"/>
              <p:cNvSpPr txBox="1"/>
              <p:nvPr/>
            </p:nvSpPr>
            <p:spPr>
              <a:xfrm>
                <a:off x="1295280" y="5384880"/>
                <a:ext cx="11606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7"/>
              <p:cNvSpPr txBox="1"/>
              <p:nvPr/>
            </p:nvSpPr>
            <p:spPr>
              <a:xfrm>
                <a:off x="3057480" y="5410080"/>
                <a:ext cx="1285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Be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15"/>
              <p:cNvSpPr txBox="1"/>
              <p:nvPr/>
            </p:nvSpPr>
            <p:spPr>
              <a:xfrm>
                <a:off x="4708440" y="5384880"/>
                <a:ext cx="11588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B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16"/>
              <p:cNvSpPr txBox="1"/>
              <p:nvPr/>
            </p:nvSpPr>
            <p:spPr>
              <a:xfrm>
                <a:off x="1295280" y="6006960"/>
                <a:ext cx="15382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8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17"/>
              <p:cNvSpPr txBox="1"/>
              <p:nvPr/>
            </p:nvSpPr>
            <p:spPr>
              <a:xfrm>
                <a:off x="2971800" y="6019920"/>
                <a:ext cx="1663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8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18"/>
              <p:cNvSpPr txBox="1"/>
              <p:nvPr/>
            </p:nvSpPr>
            <p:spPr>
              <a:xfrm>
                <a:off x="4724280" y="5994360"/>
                <a:ext cx="1513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Al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8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19"/>
              <p:cNvSpPr txBox="1"/>
              <p:nvPr/>
            </p:nvSpPr>
            <p:spPr>
              <a:xfrm>
                <a:off x="7248600" y="5321160"/>
                <a:ext cx="13618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e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21"/>
              <p:cNvSpPr txBox="1"/>
              <p:nvPr/>
            </p:nvSpPr>
            <p:spPr>
              <a:xfrm>
                <a:off x="6629400" y="5562720"/>
                <a:ext cx="27792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22"/>
              <p:cNvSpPr txBox="1"/>
              <p:nvPr/>
            </p:nvSpPr>
            <p:spPr>
              <a:xfrm>
                <a:off x="6629400" y="6248520"/>
                <a:ext cx="27792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5" name="Group 24"/>
          <p:cNvGrpSpPr/>
          <p:nvPr/>
        </p:nvGrpSpPr>
        <p:grpSpPr>
          <a:xfrm>
            <a:off x="1219320" y="4648320"/>
            <a:ext cx="7467480" cy="1981080"/>
            <a:chOff x="1219320" y="4648320"/>
            <a:chExt cx="7467480" cy="1981080"/>
          </a:xfrm>
        </p:grpSpPr>
        <p:sp>
          <p:nvSpPr>
            <p:cNvPr id="386" name="Line 8"/>
            <p:cNvSpPr/>
            <p:nvPr/>
          </p:nvSpPr>
          <p:spPr>
            <a:xfrm>
              <a:off x="1219320" y="4648320"/>
              <a:ext cx="7467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87" name="Line 9"/>
            <p:cNvSpPr/>
            <p:nvPr/>
          </p:nvSpPr>
          <p:spPr>
            <a:xfrm>
              <a:off x="1219320" y="4648320"/>
              <a:ext cx="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88" name="Line 10"/>
            <p:cNvSpPr/>
            <p:nvPr/>
          </p:nvSpPr>
          <p:spPr>
            <a:xfrm>
              <a:off x="2971800" y="4648320"/>
              <a:ext cx="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89" name="Line 11"/>
            <p:cNvSpPr/>
            <p:nvPr/>
          </p:nvSpPr>
          <p:spPr>
            <a:xfrm>
              <a:off x="4648320" y="4648320"/>
              <a:ext cx="0" cy="19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0" name="Line 12"/>
            <p:cNvSpPr/>
            <p:nvPr/>
          </p:nvSpPr>
          <p:spPr>
            <a:xfrm>
              <a:off x="8686800" y="4648320"/>
              <a:ext cx="0" cy="19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1" name="Line 13"/>
            <p:cNvSpPr/>
            <p:nvPr/>
          </p:nvSpPr>
          <p:spPr>
            <a:xfrm>
              <a:off x="1219320" y="525780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2" name="Line 14"/>
            <p:cNvSpPr/>
            <p:nvPr/>
          </p:nvSpPr>
          <p:spPr>
            <a:xfrm>
              <a:off x="7162920" y="4648320"/>
              <a:ext cx="0" cy="19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3" name="Line 23"/>
            <p:cNvSpPr/>
            <p:nvPr/>
          </p:nvSpPr>
          <p:spPr>
            <a:xfrm>
              <a:off x="1219320" y="586728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BOROV MODEL I SLI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ČNOST ELEMENAT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14040" y="2361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w Cen MT"/>
              </a:rPr>
              <a:t>Atom je po dimenzijama izrazito nesklada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251640" indent="-1296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Prečnik jezgra oko 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w Cen MT"/>
              </a:rPr>
              <a:t>-15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51640" indent="-1296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Prečnik prve orbite oko 100-10000 puta već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51640" indent="-1296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Prečnik druge orbite 4 puta veći od prve orbit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51640" indent="-1296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Prečnik druge orbite 9 puta veći od prve orbit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w Cen MT"/>
              </a:rPr>
              <a:t>Spoljašnja okolina interaguje samo sa spoljašnjom - tzv. </a:t>
            </a:r>
            <a:r>
              <a:rPr b="1" i="1" lang="hr-HR" sz="3200" spc="-1" strike="noStrike">
                <a:solidFill>
                  <a:srgbClr val="000000"/>
                </a:solidFill>
                <a:latin typeface="Tw Cen MT"/>
              </a:rPr>
              <a:t>valentnom</a:t>
            </a:r>
            <a:r>
              <a:rPr b="0" lang="hr-HR" sz="3200" spc="-1" strike="noStrike">
                <a:solidFill>
                  <a:srgbClr val="000000"/>
                </a:solidFill>
                <a:latin typeface="Tw Cen MT"/>
              </a:rPr>
              <a:t> orbitom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w Cen MT"/>
              </a:rPr>
              <a:t>Slične valentne orbite – slično ponašanje atom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ELEKTROMAGNETSKE INTERAKCI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4040" y="2361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w Cen MT"/>
              </a:rPr>
              <a:t>Interakcije između tela koja imaju naelektrisanj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w Cen MT"/>
              </a:rPr>
              <a:t>Tri vida elektromagnetskih interakcij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Elektrostatičke, deluju među naelektrisanjima koja međusobno miruju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Magnetske, deluju među naelektrisanjima koja se međusobno ravnomerno kreću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Elektromagnetske, deluju među naelektrisanjima koja se međusobno kreću promenljivim brzinam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ELEKTROSTATIČKA SIL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ila koja vlada me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đu naelektrisanim telima koja miruj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Može se primenjivati u slučajevima kada se naelektrisana tela kreću malim brzinama (mnogo manjim od brzine svetlosti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Privlačna među telima naelektrisanim različitim vrstama naelektrisanja, odbojna među telima naelektrisanim istim vrstama nelektrisan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Struktura elektrostatičkog polja slična strukturi gravitacionog pol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ELEKTROSTATIČKA SIL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MATERIJALNE TAČK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990680" y="2362320"/>
            <a:ext cx="392436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Pravac duži koja spaja materijalne tačk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5475240" y="4473720"/>
                <a:ext cx="23511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5"/>
              <p:cNvSpPr txBox="1"/>
              <p:nvPr/>
            </p:nvSpPr>
            <p:spPr>
              <a:xfrm>
                <a:off x="5410080" y="5340240"/>
                <a:ext cx="295776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Rectangle 15"/>
          <p:cNvSpPr/>
          <p:nvPr/>
        </p:nvSpPr>
        <p:spPr>
          <a:xfrm>
            <a:off x="4991040" y="3200400"/>
            <a:ext cx="4152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Smer: vrsta naelektrisan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Rectangle 16"/>
          <p:cNvSpPr/>
          <p:nvPr/>
        </p:nvSpPr>
        <p:spPr>
          <a:xfrm>
            <a:off x="4991040" y="3657600"/>
            <a:ext cx="3924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Intenzitet: Kulonov zak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22"/>
              <p:cNvSpPr txBox="1"/>
              <p:nvPr/>
            </p:nvSpPr>
            <p:spPr>
              <a:xfrm>
                <a:off x="3252960" y="6200640"/>
                <a:ext cx="5662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vazduh</m:t>
                        </m:r>
                      </m:e>
                    </m:d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arafin</m:t>
                        </m:r>
                      </m:e>
                    </m:d>
                    <m:r>
                      <m:t xml:space="preserve">≈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etal</m:t>
                        </m:r>
                      </m:e>
                    </m:d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Oval 23"/>
          <p:cNvSpPr/>
          <p:nvPr/>
        </p:nvSpPr>
        <p:spPr>
          <a:xfrm>
            <a:off x="1600200" y="4400640"/>
            <a:ext cx="76320" cy="7596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Oval 24"/>
          <p:cNvSpPr/>
          <p:nvPr/>
        </p:nvSpPr>
        <p:spPr>
          <a:xfrm>
            <a:off x="3505320" y="4400640"/>
            <a:ext cx="75960" cy="7596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25"/>
              <p:cNvSpPr txBox="1"/>
              <p:nvPr/>
            </p:nvSpPr>
            <p:spPr>
              <a:xfrm>
                <a:off x="1500120" y="4448160"/>
                <a:ext cx="3031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6"/>
              <p:cNvSpPr txBox="1"/>
              <p:nvPr/>
            </p:nvSpPr>
            <p:spPr>
              <a:xfrm>
                <a:off x="3430440" y="4400640"/>
                <a:ext cx="3542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278" name="AutoShape 27"/>
          <p:cNvCxnSpPr/>
          <p:nvPr/>
        </p:nvCxnSpPr>
        <p:spPr>
          <a:xfrm>
            <a:off x="1676520" y="444780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79" name="Line 28"/>
          <p:cNvSpPr/>
          <p:nvPr/>
        </p:nvSpPr>
        <p:spPr>
          <a:xfrm>
            <a:off x="1676520" y="44481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Line 29"/>
          <p:cNvSpPr/>
          <p:nvPr/>
        </p:nvSpPr>
        <p:spPr>
          <a:xfrm>
            <a:off x="2895480" y="444816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30"/>
              <p:cNvSpPr txBox="1"/>
              <p:nvPr/>
            </p:nvSpPr>
            <p:spPr>
              <a:xfrm>
                <a:off x="1754280" y="3917880"/>
                <a:ext cx="404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31"/>
              <p:cNvSpPr txBox="1"/>
              <p:nvPr/>
            </p:nvSpPr>
            <p:spPr>
              <a:xfrm>
                <a:off x="3048120" y="3892680"/>
                <a:ext cx="4046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83" name="Group 32"/>
          <p:cNvGrpSpPr/>
          <p:nvPr/>
        </p:nvGrpSpPr>
        <p:grpSpPr>
          <a:xfrm>
            <a:off x="1635120" y="3429000"/>
            <a:ext cx="1911240" cy="965160"/>
            <a:chOff x="1635120" y="3429000"/>
            <a:chExt cx="1911240" cy="965160"/>
          </a:xfrm>
        </p:grpSpPr>
        <mc:AlternateContent>
          <mc:Choice xmlns:a14="http://schemas.microsoft.com/office/drawing/2010/main" Requires="a14">
            <p:sp>
              <p:nvSpPr>
                <p:cNvPr id="284" name="Object 33"/>
                <p:cNvSpPr txBox="1"/>
                <p:nvPr/>
              </p:nvSpPr>
              <p:spPr>
                <a:xfrm>
                  <a:off x="2451240" y="3429000"/>
                  <a:ext cx="22680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5" name="Line 34"/>
            <p:cNvSpPr/>
            <p:nvPr/>
          </p:nvSpPr>
          <p:spPr>
            <a:xfrm flipV="1">
              <a:off x="1635120" y="35560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6" name="Line 35"/>
            <p:cNvSpPr/>
            <p:nvPr/>
          </p:nvSpPr>
          <p:spPr>
            <a:xfrm flipV="1">
              <a:off x="3546360" y="35560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7" name="Line 36"/>
            <p:cNvSpPr/>
            <p:nvPr/>
          </p:nvSpPr>
          <p:spPr>
            <a:xfrm>
              <a:off x="1635120" y="36576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288" name="Text Box 37"/>
          <p:cNvSpPr/>
          <p:nvPr/>
        </p:nvSpPr>
        <p:spPr>
          <a:xfrm>
            <a:off x="759240" y="617220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ielektrična konst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ELEKTROSTATIČKA SIL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ELEKTRIČNI DIPOL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Model za tela koja sadrže naelektrisanja, ali su ukupno elektroneutraln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Oval 25"/>
          <p:cNvSpPr/>
          <p:nvPr/>
        </p:nvSpPr>
        <p:spPr>
          <a:xfrm>
            <a:off x="1066680" y="5638680"/>
            <a:ext cx="213372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Oval 26"/>
          <p:cNvSpPr/>
          <p:nvPr/>
        </p:nvSpPr>
        <p:spPr>
          <a:xfrm>
            <a:off x="1711440" y="5943600"/>
            <a:ext cx="75960" cy="7632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27"/>
              <p:cNvSpPr txBox="1"/>
              <p:nvPr/>
            </p:nvSpPr>
            <p:spPr>
              <a:xfrm>
                <a:off x="1523880" y="6048360"/>
                <a:ext cx="4795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Oval 28"/>
          <p:cNvSpPr/>
          <p:nvPr/>
        </p:nvSpPr>
        <p:spPr>
          <a:xfrm>
            <a:off x="2397240" y="5940360"/>
            <a:ext cx="75960" cy="7632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29"/>
              <p:cNvSpPr txBox="1"/>
              <p:nvPr/>
            </p:nvSpPr>
            <p:spPr>
              <a:xfrm>
                <a:off x="2184480" y="6049800"/>
                <a:ext cx="482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Text Box 30"/>
          <p:cNvSpPr/>
          <p:nvPr/>
        </p:nvSpPr>
        <p:spPr>
          <a:xfrm>
            <a:off x="3111480" y="5943600"/>
            <a:ext cx="35625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ipolni moment: p = q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Oval 31"/>
          <p:cNvSpPr/>
          <p:nvPr/>
        </p:nvSpPr>
        <p:spPr>
          <a:xfrm>
            <a:off x="1498680" y="4495680"/>
            <a:ext cx="75960" cy="7632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298" name="AutoShape 32"/>
          <p:cNvCxnSpPr>
            <a:stCxn id="292" idx="0"/>
            <a:endCxn id="297" idx="4"/>
          </p:cNvCxnSpPr>
          <p:nvPr/>
        </p:nvCxnSpPr>
        <p:spPr>
          <a:xfrm flipH="1" flipV="1">
            <a:off x="1536120" y="4571640"/>
            <a:ext cx="2134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" name="AutoShape 33"/>
          <p:cNvCxnSpPr>
            <a:stCxn id="294" idx="0"/>
            <a:endCxn id="297" idx="5"/>
          </p:cNvCxnSpPr>
          <p:nvPr/>
        </p:nvCxnSpPr>
        <p:spPr>
          <a:xfrm flipH="1" flipV="1">
            <a:off x="1563120" y="4560480"/>
            <a:ext cx="872280" cy="13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300" name="Object 34"/>
              <p:cNvSpPr txBox="1"/>
              <p:nvPr/>
            </p:nvSpPr>
            <p:spPr>
              <a:xfrm>
                <a:off x="736560" y="4470480"/>
                <a:ext cx="7873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obn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35"/>
              <p:cNvSpPr txBox="1"/>
              <p:nvPr/>
            </p:nvSpPr>
            <p:spPr>
              <a:xfrm>
                <a:off x="2209680" y="5181480"/>
                <a:ext cx="3049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36"/>
              <p:cNvSpPr txBox="1"/>
              <p:nvPr/>
            </p:nvSpPr>
            <p:spPr>
              <a:xfrm>
                <a:off x="1447920" y="5181480"/>
                <a:ext cx="3045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3" name="Line 37"/>
          <p:cNvSpPr/>
          <p:nvPr/>
        </p:nvSpPr>
        <p:spPr>
          <a:xfrm flipH="1" flipV="1">
            <a:off x="1294920" y="3428640"/>
            <a:ext cx="22860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Line 39"/>
          <p:cNvSpPr/>
          <p:nvPr/>
        </p:nvSpPr>
        <p:spPr>
          <a:xfrm>
            <a:off x="1571760" y="4560840"/>
            <a:ext cx="3841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Line 41"/>
          <p:cNvSpPr/>
          <p:nvPr/>
        </p:nvSpPr>
        <p:spPr>
          <a:xfrm>
            <a:off x="1295280" y="3429000"/>
            <a:ext cx="38412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306" name="AutoShape 43"/>
          <p:cNvCxnSpPr>
            <a:stCxn id="297" idx="7"/>
            <a:endCxn id="305" idx="0"/>
          </p:cNvCxnSpPr>
          <p:nvPr/>
        </p:nvCxnSpPr>
        <p:spPr>
          <a:xfrm flipV="1">
            <a:off x="1563480" y="4037760"/>
            <a:ext cx="116280" cy="46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7" name="AutoShape 44"/>
          <p:cNvCxnSpPr>
            <a:stCxn id="305" idx="1"/>
            <a:endCxn id="304" idx="0"/>
          </p:cNvCxnSpPr>
          <p:nvPr/>
        </p:nvCxnSpPr>
        <p:spPr>
          <a:xfrm>
            <a:off x="1679400" y="4038480"/>
            <a:ext cx="277200" cy="1146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mc:AlternateContent>
        <mc:Choice xmlns:a14="http://schemas.microsoft.com/office/drawing/2010/main" Requires="a14">
          <p:sp>
            <p:nvSpPr>
              <p:cNvPr id="308" name="Object 45"/>
              <p:cNvSpPr txBox="1"/>
              <p:nvPr/>
            </p:nvSpPr>
            <p:spPr>
              <a:xfrm>
                <a:off x="1676520" y="4394160"/>
                <a:ext cx="3808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46"/>
              <p:cNvSpPr txBox="1"/>
              <p:nvPr/>
            </p:nvSpPr>
            <p:spPr>
              <a:xfrm>
                <a:off x="1066680" y="3809880"/>
                <a:ext cx="3812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+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47"/>
              <p:cNvSpPr txBox="1"/>
              <p:nvPr/>
            </p:nvSpPr>
            <p:spPr>
              <a:xfrm>
                <a:off x="1701720" y="3720960"/>
                <a:ext cx="50796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1" name="Rectangle 48"/>
          <p:cNvSpPr/>
          <p:nvPr/>
        </p:nvSpPr>
        <p:spPr>
          <a:xfrm>
            <a:off x="3962520" y="3124080"/>
            <a:ext cx="49528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ila zavisi od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oložaja probnog naelektrisanj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Kol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ičine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obnog naelektrisanj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astojanja od dipol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Količine n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elektrisanja dipol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azmaka nael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ektrisanja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u dipolu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12" name="Object 49"/>
          <p:cNvGraphicFramePr/>
          <p:nvPr/>
        </p:nvGraphicFramePr>
        <p:xfrm>
          <a:off x="6691320" y="5803920"/>
          <a:ext cx="1920960" cy="7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1320" y="5803920"/>
                    <a:ext cx="1920960" cy="75888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MAGNETSKA SIL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14040" y="2362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Elektromagnetska interakcija među naelektrisanim telima koja se kreću konstantnom relativnom brzino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914400" y="5346720"/>
            <a:ext cx="80010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Linije magnetskog polja su zatvoren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Intenzitet magnetskog polja opada sa rastojanj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Line 17"/>
          <p:cNvSpPr/>
          <p:nvPr/>
        </p:nvSpPr>
        <p:spPr>
          <a:xfrm>
            <a:off x="3505320" y="42181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Oval 18"/>
          <p:cNvSpPr/>
          <p:nvPr/>
        </p:nvSpPr>
        <p:spPr>
          <a:xfrm>
            <a:off x="5105520" y="3760920"/>
            <a:ext cx="4572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Oval 19"/>
          <p:cNvSpPr/>
          <p:nvPr/>
        </p:nvSpPr>
        <p:spPr>
          <a:xfrm>
            <a:off x="4952880" y="3532320"/>
            <a:ext cx="762120" cy="1447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Oval 20"/>
          <p:cNvSpPr/>
          <p:nvPr/>
        </p:nvSpPr>
        <p:spPr>
          <a:xfrm>
            <a:off x="4724280" y="3227400"/>
            <a:ext cx="1219320" cy="2057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Oval 21"/>
          <p:cNvSpPr/>
          <p:nvPr/>
        </p:nvSpPr>
        <p:spPr>
          <a:xfrm>
            <a:off x="3657600" y="3760920"/>
            <a:ext cx="4572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Oval 22"/>
          <p:cNvSpPr/>
          <p:nvPr/>
        </p:nvSpPr>
        <p:spPr>
          <a:xfrm>
            <a:off x="3505320" y="3532320"/>
            <a:ext cx="761760" cy="1447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Oval 23"/>
          <p:cNvSpPr/>
          <p:nvPr/>
        </p:nvSpPr>
        <p:spPr>
          <a:xfrm>
            <a:off x="3276720" y="3227400"/>
            <a:ext cx="1218960" cy="2057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324" name="AutoShape 24"/>
          <p:cNvCxnSpPr>
            <a:stCxn id="323" idx="0"/>
            <a:endCxn id="320" idx="0"/>
          </p:cNvCxnSpPr>
          <p:nvPr/>
        </p:nvCxnSpPr>
        <p:spPr>
          <a:xfrm>
            <a:off x="3886200" y="3212640"/>
            <a:ext cx="1448640" cy="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325" name="AutoShape 25"/>
          <p:cNvCxnSpPr>
            <a:stCxn id="323" idx="4"/>
            <a:endCxn id="320" idx="4"/>
          </p:cNvCxnSpPr>
          <p:nvPr/>
        </p:nvCxnSpPr>
        <p:spPr>
          <a:xfrm>
            <a:off x="3886200" y="5298840"/>
            <a:ext cx="1448640" cy="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aphicFrame>
        <p:nvGraphicFramePr>
          <p:cNvPr id="326" name="Object 4"/>
          <p:cNvGraphicFramePr/>
          <p:nvPr/>
        </p:nvGraphicFramePr>
        <p:xfrm>
          <a:off x="6432480" y="4005360"/>
          <a:ext cx="227160" cy="3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32480" y="4005360"/>
                    <a:ext cx="2271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ELEKTROMAGNETSKE INTERAKCI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Naelektrisanja koja se promenljivo (ubrzano) kreću stvaraju promenljivo polj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To polje je elektromagnetsko polje kome su električno i magnetsko polje samo komponent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Promene polja se šire u prostoru kao emitovani elektromagnetski talas usled kojeg se energija čestice umanjuje a energija polja uvećav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TRUKTURA ATOM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14040" y="23623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Demokrit: "A tomos" – nedeljiv, bezsastava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Hemija: jedinjenja i element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51640" indent="-1296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Atomi iste vrste grade element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51640" indent="-1296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Atomi različitih vrsta formiraju molekule koji grade jedinjenj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Mendeljejev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51640" indent="-1296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Osam grupa elemenata sličnog ponašanj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51640" indent="-1296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Elementi iste grupe razlikuju se po masi atom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51640" indent="-1296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Periodni sistem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w Cen MT"/>
              </a:rPr>
              <a:t>Dana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251640" indent="-1296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92 elementa u prirod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51640" indent="-1296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Dvadesetak veštačkih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LANETARNI MODEL ATOM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14040" y="2286000"/>
            <a:ext cx="3962520" cy="403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2000"/>
          </a:bodyPr>
          <a:p>
            <a:pPr marL="82800" indent="-8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Nils Bor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43720" indent="-1252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Svi atomi imaju istu str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u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kturu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43720" indent="-1252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azlikuju se po atomskom broju Z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82800" indent="-8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82800" indent="-8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Pozitivno naelektrisano jezgr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43720" indent="-1252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Z proton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43720" indent="-1252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N neutron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82800" indent="-8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Negativno naelektrisani omotač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43720" indent="-1252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Z elektron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4" name="Picture 4" descr="D:\My Documents\NASTAVA\Fizika\Predavanja\Atom.jpg"/>
          <p:cNvPicPr/>
          <p:nvPr/>
        </p:nvPicPr>
        <p:blipFill>
          <a:blip r:embed="rId1"/>
          <a:stretch/>
        </p:blipFill>
        <p:spPr>
          <a:xfrm>
            <a:off x="4952880" y="2666880"/>
            <a:ext cx="3845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14:36:08Z</dcterms:created>
  <dc:creator>Zlatan Soskic</dc:creator>
  <dc:description/>
  <dc:language>en-US</dc:language>
  <cp:lastModifiedBy>Zlatan Soskic</cp:lastModifiedBy>
  <dcterms:modified xsi:type="dcterms:W3CDTF">2019-11-24T15:26:38Z</dcterms:modified>
  <cp:revision>320</cp:revision>
  <dc:subject/>
  <dc:title>Interakcije i struktura materije</dc:title>
</cp:coreProperties>
</file>