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9.wmf" ContentType="image/x-wmf"/>
  <Override PartName="/ppt/media/image56.wmf" ContentType="image/x-wmf"/>
  <Override PartName="/ppt/media/image54.wmf" ContentType="image/x-wmf"/>
  <Override PartName="/ppt/media/image14.wmf" ContentType="image/x-wmf"/>
  <Override PartName="/ppt/media/image10.png" ContentType="image/png"/>
  <Override PartName="/ppt/media/image50.wmf" ContentType="image/x-wmf"/>
  <Override PartName="/ppt/media/image28.wmf" ContentType="image/x-wmf"/>
  <Override PartName="/ppt/media/image5.png" ContentType="image/png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.png" ContentType="image/png"/>
  <Override PartName="/ppt/media/image15.png" ContentType="image/png"/>
  <Override PartName="/ppt/media/image55.wmf" ContentType="image/x-wmf"/>
  <Override PartName="/ppt/media/image2.png" ContentType="image/png"/>
  <Override PartName="/ppt/media/image29.wmf" ContentType="image/x-wmf"/>
  <Override PartName="/ppt/media/image17.wmf" ContentType="image/x-wmf"/>
  <Override PartName="/ppt/media/image26.wmf" ContentType="image/x-wmf"/>
  <Override PartName="/ppt/media/image62.wmf" ContentType="image/x-wmf"/>
  <Override PartName="/ppt/media/image22.png" ContentType="image/png"/>
  <Override PartName="/ppt/media/image25.wmf" ContentType="image/x-wmf"/>
  <Override PartName="/ppt/media/image61.wmf" ContentType="image/x-wmf"/>
  <Override PartName="/ppt/media/image19.wmf" ContentType="image/x-wmf"/>
  <Override PartName="/ppt/media/image24.wmf" ContentType="image/x-wmf"/>
  <Override PartName="/ppt/media/image23.png" ContentType="image/png"/>
  <Override PartName="/ppt/media/image60.wmf" ContentType="image/x-wmf"/>
  <Override PartName="/ppt/media/image18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6.png" ContentType="image/png"/>
  <Override PartName="/ppt/media/image11.png" ContentType="image/png"/>
  <Override PartName="/ppt/media/image51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30.wmf" ContentType="image/x-wmf"/>
  <Override PartName="/ppt/media/image31.wmf" ContentType="image/x-wmf"/>
  <Override PartName="/ppt/media/image38.jpeg" ContentType="image/jpeg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40.jpeg" ContentType="image/jpeg"/>
  <Override PartName="/ppt/media/image7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5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77CE-7339-435D-8A54-E1EB96EF1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AB7B-8A9B-4C83-9C31-EFCF49A0A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64A9-52A9-422D-9910-0550047E9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41E1-27B7-4E12-83F6-7FE18FEE8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0C44-3790-4A55-A433-E58D09A28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28AE-A7A7-4985-9783-F61A4AC89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C6FD-3BA3-4170-97BD-AE6315952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4AA-4C73-4A5F-9338-B5E828C3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F8D-0B6C-400D-9593-5663C054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50C-CA06-4614-82A5-9B83AD24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5B3-1384-4FC7-A099-C07C618D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7CA3-E600-4347-92AA-E94971BD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22A7-F473-41FE-AD3A-51B46882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CC91-C535-4EF7-BACD-CE44E415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2E82-94B1-48AE-8B2B-234DBBBD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05FE-297C-42B5-87DC-8B27C8E6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CDDA-F7D5-47A9-B28E-C730287D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8168-715A-43E3-BDE8-3CD539FC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7E4-81BA-4FEA-9042-041567B9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F0BF-9F4C-4C9C-8A2D-A04605E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B780-3838-4539-82D3-49B83080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0F31-6E06-418A-9A27-80EA1A3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ACE8-4B39-4396-A589-33B60713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E9C0-9881-4CF6-8422-F30F521E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4E75-F70E-4CAD-8DE7-DD40B0C2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611C-0C0A-4359-98E8-F044115F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D992-15BD-482F-938C-344BDA3F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4273-2435-4893-B868-2CAF84C4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F94E-8050-4A1F-943B-A3EE8DC8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495-4497-410D-BC48-7C560DC8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F3BB6-84DE-4412-84B7-1EC180D7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9D18-4DCF-431A-B930-6F9D87F0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0EF8-ED4F-4B1C-9F89-F04A40C8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0CE5-E286-40A0-B929-05E92AD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0C717-6056-4B61-BB0A-D49CC3AE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1337-CE58-4863-8333-CCCB95CA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4F70-AE30-4B97-9F58-87ED8B22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A90F-64C4-4752-8E11-EDECA657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01AAF-FF07-444E-B28C-F63D4750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CBFB-3DB5-4E2F-B975-8E8A713C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742-61C3-4FDF-A98B-27390DF0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0A87-ACD7-498E-89D9-1F44694C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D9608-7E9B-415A-898A-24124D8D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62894-1461-45CB-ADEC-EDFF9B26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88A81-04A2-4B57-86C6-C3376A9A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F3F3C-7635-4D50-B6AE-2ADEE9D3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55C0-6DDC-4190-94CD-1BE09B35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8B29-C5FA-4D9F-ABD0-46FC24C4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12044-BE4C-4263-B504-AFBB0B6D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55813-0B8D-4522-B5D3-D7424E3A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2280E-0B4B-477B-BE97-435F7EA5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DBA-85E7-4FA1-99FC-46EC5173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56910-A037-49BC-BD55-77BAA84D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178D-DDDE-4D08-A506-5E4FF1FC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0AE99-D5A4-4907-8D56-D8524BBF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F44F6-648E-4085-B44A-ADC3AC6F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35C32-7C38-4E0E-931E-8F18F4DA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9F12A-86C6-4402-A485-A7E0B909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1B00F-91AA-4F5B-A422-30471F5F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E9A3-DBC7-40C8-B404-9E1268A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26422-6BB4-4A48-8433-0C89BE10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D430-CB02-42A9-B49E-FD436A02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3E8-F8C7-4FCE-A0DB-F00256AF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60D72-17D5-41C5-B620-1D0D93C7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F41E-DD54-44D3-94E5-BE4FDA9F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561B6-F5C7-4FF7-A083-90930B7F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DEC37-8A0B-457A-9B89-50C123C5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1F8DB-1D82-426E-91B6-1F21EF98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4238-4564-4723-99A7-5CF9B150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1C0C6-AC7D-41C6-BD9D-E878E4E0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29B63-CF8D-4CD9-8810-C01D4482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E88D2-AFED-49C7-B4E8-8CE7281D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0862A-B8AD-4145-A5DF-8A9C927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856-A384-42AC-9D6F-76932888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F5E20-E545-4DD2-AB79-F28AD14F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8FDD6-E710-4F44-8485-E9F87F71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FC1F2-F992-4450-A27B-4F5D7478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07E-42E6-423A-AA3C-55FCB2AF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021-1655-4108-8995-A8002D7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08A3-BFA9-401C-AFEB-69D1B3E48AF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E6C1-C916-4646-96B7-79F7879EAB8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0A63-17F4-40A5-BE6B-FD7F12D61813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BC8A-B202-4257-9151-3ED6B40C1F2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D5BE-1670-4E93-9761-845EF678398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0086-68FC-4BE4-AC5F-0E335679D9A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7.wmf"/><Relationship Id="rId13" Type="http://schemas.openxmlformats.org/officeDocument/2006/relationships/image" Target="../media/image38.jpe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9.wmf"/><Relationship Id="rId16" Type="http://schemas.openxmlformats.org/officeDocument/2006/relationships/image" Target="../media/image40.jpe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1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11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4.wmf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2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10.png"/><Relationship Id="rId11" Type="http://schemas.openxmlformats.org/officeDocument/2006/relationships/image" Target="../media/image23.png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5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10.png"/><Relationship Id="rId7" Type="http://schemas.openxmlformats.org/officeDocument/2006/relationships/image" Target="../media/image22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10.png"/><Relationship Id="rId11" Type="http://schemas.openxmlformats.org/officeDocument/2006/relationships/image" Target="../media/image23.png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5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ČKE VELIČINE I JEDINIC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324480" y="54100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d0d0d"/>
                </a:solidFill>
                <a:latin typeface="Tw Cen MT"/>
              </a:rPr>
              <a:t>Merenja fizičkih veličin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APSOLUTNA GREŠ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68240" y="2286000"/>
            <a:ext cx="829944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Tačnije merenje (NE PRECIZNIJ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MANJI tegov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Manja apsolutna greš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Najmanji teg 1 k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Najmanji teg 200 g = 0,2 k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24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Najmanji teg 100 g = 0,1 k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Apsolutna greška merenja mase je polovina mase najmanjeg teg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Broj decimala u rezultatu merenja određuje apsolutna greš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85" name="Object 7"/>
          <p:cNvGraphicFramePr/>
          <p:nvPr/>
        </p:nvGraphicFramePr>
        <p:xfrm>
          <a:off x="6637320" y="3809880"/>
          <a:ext cx="180036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7320" y="3809880"/>
                    <a:ext cx="1800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28"/>
          <p:cNvGraphicFramePr/>
          <p:nvPr/>
        </p:nvGraphicFramePr>
        <p:xfrm>
          <a:off x="4267080" y="3809880"/>
          <a:ext cx="1978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809880"/>
                    <a:ext cx="1978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7"/>
          <p:cNvGraphicFramePr/>
          <p:nvPr/>
        </p:nvGraphicFramePr>
        <p:xfrm>
          <a:off x="6626160" y="3429000"/>
          <a:ext cx="182268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6160" y="3429000"/>
                    <a:ext cx="1822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32"/>
          <p:cNvGraphicFramePr/>
          <p:nvPr/>
        </p:nvGraphicFramePr>
        <p:xfrm>
          <a:off x="4478400" y="3429000"/>
          <a:ext cx="155556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2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8400" y="3429000"/>
                    <a:ext cx="15555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7"/>
          <p:cNvGraphicFramePr/>
          <p:nvPr/>
        </p:nvGraphicFramePr>
        <p:xfrm>
          <a:off x="6629400" y="4162320"/>
          <a:ext cx="208908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4162320"/>
                    <a:ext cx="20890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34"/>
          <p:cNvGraphicFramePr/>
          <p:nvPr/>
        </p:nvGraphicFramePr>
        <p:xfrm>
          <a:off x="4295880" y="4162320"/>
          <a:ext cx="1977840" cy="3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6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95880" y="4162320"/>
                    <a:ext cx="19778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"/>
          <p:cNvPicPr/>
          <p:nvPr/>
        </p:nvPicPr>
        <p:blipFill>
          <a:blip r:embed="rId1"/>
          <a:srcRect l="0" t="38096" r="0" b="0"/>
          <a:stretch/>
        </p:blipFill>
        <p:spPr>
          <a:xfrm>
            <a:off x="533520" y="3200400"/>
            <a:ext cx="3600360" cy="7430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APSOLUTNA GREŠKA MERNIH INSTRUMENAT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2"/>
          <a:srcRect l="0" t="25434" r="0" b="0"/>
          <a:stretch/>
        </p:blipFill>
        <p:spPr>
          <a:xfrm>
            <a:off x="533520" y="1905120"/>
            <a:ext cx="3600360" cy="89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0" name="Object 7"/>
          <p:cNvGraphicFramePr/>
          <p:nvPr/>
        </p:nvGraphicFramePr>
        <p:xfrm>
          <a:off x="1581120" y="2641680"/>
          <a:ext cx="120024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1120" y="2641680"/>
                    <a:ext cx="1200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7"/>
          <p:cNvGraphicFramePr/>
          <p:nvPr/>
        </p:nvGraphicFramePr>
        <p:xfrm>
          <a:off x="1216080" y="3733920"/>
          <a:ext cx="22892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6080" y="3733920"/>
                    <a:ext cx="2289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4" name="Picture 5" descr=""/>
          <p:cNvPicPr/>
          <p:nvPr/>
        </p:nvPicPr>
        <p:blipFill>
          <a:blip r:embed="rId7"/>
          <a:stretch/>
        </p:blipFill>
        <p:spPr>
          <a:xfrm>
            <a:off x="4724280" y="1676520"/>
            <a:ext cx="1043280" cy="2508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8"/>
          <a:stretch/>
        </p:blipFill>
        <p:spPr>
          <a:xfrm>
            <a:off x="6291360" y="1676520"/>
            <a:ext cx="1042920" cy="25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7"/>
          <p:cNvGraphicFramePr/>
          <p:nvPr/>
        </p:nvGraphicFramePr>
        <p:xfrm>
          <a:off x="4962600" y="4213080"/>
          <a:ext cx="102240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62600" y="4213080"/>
                    <a:ext cx="1022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Object 7"/>
          <p:cNvGraphicFramePr/>
          <p:nvPr/>
        </p:nvGraphicFramePr>
        <p:xfrm>
          <a:off x="6477120" y="4191120"/>
          <a:ext cx="1000080" cy="37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4191120"/>
                    <a:ext cx="10000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0" name="Picture 13" descr="Image result for pressure gauge"/>
          <p:cNvPicPr/>
          <p:nvPr/>
        </p:nvPicPr>
        <p:blipFill>
          <a:blip r:embed="rId13"/>
          <a:stretch/>
        </p:blipFill>
        <p:spPr>
          <a:xfrm>
            <a:off x="1530360" y="4213080"/>
            <a:ext cx="1670040" cy="21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7"/>
          <p:cNvGraphicFramePr/>
          <p:nvPr/>
        </p:nvGraphicFramePr>
        <p:xfrm>
          <a:off x="1716120" y="6415200"/>
          <a:ext cx="1289160" cy="333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12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16120" y="6415200"/>
                    <a:ext cx="12891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3" name="Picture 17" descr="Image result for digital thermometer"/>
          <p:cNvPicPr/>
          <p:nvPr/>
        </p:nvPicPr>
        <p:blipFill>
          <a:blip r:embed="rId16"/>
          <a:stretch/>
        </p:blipFill>
        <p:spPr>
          <a:xfrm>
            <a:off x="5083200" y="4724280"/>
            <a:ext cx="2968560" cy="16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5965920" y="6292800"/>
          <a:ext cx="1355760" cy="37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65920" y="6292800"/>
                    <a:ext cx="135576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APSOLUTNA GREŠKA DIREKTNIH MERE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2084040"/>
            <a:ext cx="8299440" cy="454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Apsolutna grešk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572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Ima istu jedinicu kao i merena velič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572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Je jednaka polovini najmanjeg mernog podeljka mernog instrumen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572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Zavisi od instrumen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3600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Manja greška merenja se dobija boljim instrumento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Bolje merenje = skuplje mere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ELATIVNA GREŠ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519" name="Object 4"/>
          <p:cNvGraphicFramePr/>
          <p:nvPr/>
        </p:nvGraphicFramePr>
        <p:xfrm>
          <a:off x="1647720" y="3168720"/>
          <a:ext cx="19051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3168720"/>
                    <a:ext cx="1905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Rectangle 3"/>
          <p:cNvSpPr/>
          <p:nvPr/>
        </p:nvSpPr>
        <p:spPr>
          <a:xfrm>
            <a:off x="900000" y="2421000"/>
            <a:ext cx="8001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Relativna gre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983600" y="4365720"/>
            <a:ext cx="2124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elativna gre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Object 14"/>
          <p:cNvGraphicFramePr/>
          <p:nvPr/>
        </p:nvGraphicFramePr>
        <p:xfrm>
          <a:off x="1801800" y="5483160"/>
          <a:ext cx="17780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1800" y="5483160"/>
                    <a:ext cx="1778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7"/>
          <p:cNvGraphicFramePr/>
          <p:nvPr/>
        </p:nvGraphicFramePr>
        <p:xfrm>
          <a:off x="1803240" y="3581280"/>
          <a:ext cx="127008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3240" y="3581280"/>
                    <a:ext cx="1270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4"/>
          <p:cNvGraphicFramePr/>
          <p:nvPr/>
        </p:nvGraphicFramePr>
        <p:xfrm>
          <a:off x="4915080" y="3147840"/>
          <a:ext cx="24634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15080" y="3147840"/>
                    <a:ext cx="2463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7"/>
          <p:cNvGraphicFramePr/>
          <p:nvPr/>
        </p:nvGraphicFramePr>
        <p:xfrm>
          <a:off x="5464080" y="3581280"/>
          <a:ext cx="127008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64080" y="3581280"/>
                    <a:ext cx="1270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14"/>
          <p:cNvGraphicFramePr/>
          <p:nvPr/>
        </p:nvGraphicFramePr>
        <p:xfrm>
          <a:off x="4613400" y="5483160"/>
          <a:ext cx="297180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3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13400" y="5483160"/>
                    <a:ext cx="29718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14"/>
          <p:cNvGraphicFramePr/>
          <p:nvPr/>
        </p:nvGraphicFramePr>
        <p:xfrm>
          <a:off x="4775040" y="4213080"/>
          <a:ext cx="939960" cy="736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5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75040" y="4213080"/>
                    <a:ext cx="939960" cy="736920"/>
                  </a:xfrm>
                  <a:prstGeom prst="rect">
                    <a:avLst/>
                  </a:prstGeom>
                  <a:ln w="28440">
                    <a:solidFill>
                      <a:srgbClr val="00206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RELATIVNA GREŠKA DIREKTNIH MERE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2084040"/>
            <a:ext cx="8299440" cy="454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Relativna grešk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572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Nikad nema jedinicu!!! (Bezdimenziona veličin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572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Zavisi od mernog metod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3600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Manja greška merenja se dobija boljim instrumento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</a:rPr>
              <a:t>Bolje merenje = skuplje meren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GREŠKA INDIREKTNIH MERE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539" name="Object 12"/>
          <p:cNvGraphicFramePr/>
          <p:nvPr/>
        </p:nvGraphicFramePr>
        <p:xfrm>
          <a:off x="2946240" y="1843200"/>
          <a:ext cx="238788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6240" y="1843200"/>
                    <a:ext cx="23878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12"/>
          <p:cNvGraphicFramePr/>
          <p:nvPr/>
        </p:nvGraphicFramePr>
        <p:xfrm>
          <a:off x="5334120" y="2540160"/>
          <a:ext cx="26924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540160"/>
                    <a:ext cx="2692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2"/>
          <p:cNvGraphicFramePr/>
          <p:nvPr/>
        </p:nvGraphicFramePr>
        <p:xfrm>
          <a:off x="927000" y="2540160"/>
          <a:ext cx="28195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7000" y="2540160"/>
                    <a:ext cx="2819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12"/>
          <p:cNvGraphicFramePr/>
          <p:nvPr/>
        </p:nvGraphicFramePr>
        <p:xfrm>
          <a:off x="2692440" y="3249720"/>
          <a:ext cx="347976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92440" y="3249720"/>
                    <a:ext cx="3479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Object 12"/>
          <p:cNvGraphicFramePr/>
          <p:nvPr/>
        </p:nvGraphicFramePr>
        <p:xfrm>
          <a:off x="2685960" y="3757680"/>
          <a:ext cx="345456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85960" y="3757680"/>
                    <a:ext cx="3454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12"/>
          <p:cNvGraphicFramePr/>
          <p:nvPr/>
        </p:nvGraphicFramePr>
        <p:xfrm>
          <a:off x="3301920" y="4826160"/>
          <a:ext cx="22860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01920" y="4826160"/>
                    <a:ext cx="228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12"/>
          <p:cNvGraphicFramePr/>
          <p:nvPr/>
        </p:nvGraphicFramePr>
        <p:xfrm>
          <a:off x="1054080" y="6137280"/>
          <a:ext cx="3276720" cy="482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2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54080" y="6137280"/>
                    <a:ext cx="3276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12"/>
          <p:cNvGraphicFramePr/>
          <p:nvPr/>
        </p:nvGraphicFramePr>
        <p:xfrm>
          <a:off x="3390840" y="5384880"/>
          <a:ext cx="2057400" cy="50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4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90840" y="5384880"/>
                    <a:ext cx="2057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Object 12"/>
          <p:cNvGraphicFramePr/>
          <p:nvPr/>
        </p:nvGraphicFramePr>
        <p:xfrm>
          <a:off x="4800600" y="6172200"/>
          <a:ext cx="3657600" cy="482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00600" y="6172200"/>
                    <a:ext cx="3657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GREŠKA INDIREKTNIH MERE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10199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Greška izračunavanja zbira dve merene veliči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4799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Greška izračunavanja razlike dve merene veliči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59" name="Object 12"/>
          <p:cNvGraphicFramePr/>
          <p:nvPr/>
        </p:nvGraphicFramePr>
        <p:xfrm>
          <a:off x="2793960" y="2793960"/>
          <a:ext cx="31496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960" y="279396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12"/>
          <p:cNvGraphicFramePr/>
          <p:nvPr/>
        </p:nvGraphicFramePr>
        <p:xfrm>
          <a:off x="2793960" y="3352680"/>
          <a:ext cx="330192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960" y="3352680"/>
                    <a:ext cx="33019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3" name="Object 12"/>
          <p:cNvGraphicFramePr/>
          <p:nvPr/>
        </p:nvGraphicFramePr>
        <p:xfrm>
          <a:off x="2882880" y="4495680"/>
          <a:ext cx="312408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82880" y="4495680"/>
                    <a:ext cx="3124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GREŠKA INDIREKTNIH MERE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10199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Greška izračunavanja proizvoda dve merene veliči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4799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Greška izračunavanja količnika dve merene veličin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7" name="Object 12"/>
          <p:cNvGraphicFramePr/>
          <p:nvPr/>
        </p:nvGraphicFramePr>
        <p:xfrm>
          <a:off x="2844720" y="2793960"/>
          <a:ext cx="30481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720" y="2793960"/>
                    <a:ext cx="3048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12"/>
          <p:cNvGraphicFramePr/>
          <p:nvPr/>
        </p:nvGraphicFramePr>
        <p:xfrm>
          <a:off x="2870280" y="3327480"/>
          <a:ext cx="31496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0280" y="332748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12"/>
          <p:cNvGraphicFramePr/>
          <p:nvPr/>
        </p:nvGraphicFramePr>
        <p:xfrm>
          <a:off x="3048120" y="4280040"/>
          <a:ext cx="279396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2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280040"/>
                    <a:ext cx="2793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ČKE VELIČ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Prikaz fizičke veličine: </a:t>
            </a:r>
            <a:r>
              <a:rPr b="1" lang="hr-HR" sz="2600" spc="-1" strike="noStrike">
                <a:solidFill>
                  <a:srgbClr val="000000"/>
                </a:solidFill>
                <a:latin typeface="Tw Cen MT"/>
              </a:rPr>
              <a:t>BROJ</a:t>
            </a:r>
            <a:r>
              <a:rPr b="0" lang="hr-HR" sz="26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1" lang="hr-HR" sz="2600" spc="-1" strike="noStrike">
                <a:solidFill>
                  <a:srgbClr val="000000"/>
                </a:solidFill>
                <a:latin typeface="Tw Cen MT"/>
              </a:rPr>
              <a:t>JEDIN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209680" y="4038480"/>
            <a:ext cx="2057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 = 5 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v =10 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2057400" y="3962520"/>
            <a:ext cx="2438280" cy="1218960"/>
          </a:xfrm>
          <a:prstGeom prst="ellipse">
            <a:avLst/>
          </a:prstGeom>
          <a:noFill/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3429000" y="274320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4114800" y="2743200"/>
            <a:ext cx="13716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ČKE VELIČ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roj se naziva MERA </a:t>
            </a: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fizičk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veli</a:t>
            </a: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Određuje se merenje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619280" y="3645000"/>
            <a:ext cx="6019920" cy="2910960"/>
          </a:xfrm>
          <a:prstGeom prst="rect">
            <a:avLst/>
          </a:prstGeom>
          <a:noFill/>
          <a:ln w="82440">
            <a:solidFill>
              <a:srgbClr val="335b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renje 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poređivanja neke fizičke ve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a njenom jedini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MEREN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5537160" y="3403440"/>
            <a:ext cx="507960" cy="520920"/>
          </a:xfrm>
          <a:prstGeom prst="rect">
            <a:avLst/>
          </a:prstGeom>
          <a:solidFill>
            <a:srgbClr val="ffffff"/>
          </a:solidFill>
          <a:ln w="1584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6"/>
          <p:cNvSpPr/>
          <p:nvPr/>
        </p:nvSpPr>
        <p:spPr>
          <a:xfrm>
            <a:off x="5537160" y="2882880"/>
            <a:ext cx="507960" cy="520560"/>
          </a:xfrm>
          <a:prstGeom prst="rect">
            <a:avLst/>
          </a:prstGeom>
          <a:solidFill>
            <a:srgbClr val="ffffff"/>
          </a:solidFill>
          <a:ln w="1584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5537160" y="2362320"/>
            <a:ext cx="507960" cy="520560"/>
          </a:xfrm>
          <a:prstGeom prst="rect">
            <a:avLst/>
          </a:prstGeom>
          <a:solidFill>
            <a:srgbClr val="ffffff"/>
          </a:solidFill>
          <a:ln w="1584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6"/>
          <p:cNvGrpSpPr/>
          <p:nvPr/>
        </p:nvGrpSpPr>
        <p:grpSpPr>
          <a:xfrm>
            <a:off x="1219320" y="3924360"/>
            <a:ext cx="5715000" cy="1562040"/>
            <a:chOff x="1219320" y="3924360"/>
            <a:chExt cx="5715000" cy="1562040"/>
          </a:xfrm>
        </p:grpSpPr>
        <p:grpSp>
          <p:nvGrpSpPr>
            <p:cNvPr id="278" name="Rectangle 18"/>
            <p:cNvGrpSpPr/>
            <p:nvPr/>
          </p:nvGrpSpPr>
          <p:grpSpPr>
            <a:xfrm>
              <a:off x="1219320" y="3924360"/>
              <a:ext cx="2292120" cy="399600"/>
              <a:chOff x="1219320" y="3924360"/>
              <a:chExt cx="2292120" cy="399600"/>
            </a:xfrm>
          </p:grpSpPr>
          <p:pic>
            <p:nvPicPr>
              <p:cNvPr id="279" name="Rectangle 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3924360"/>
                <a:ext cx="2292120" cy="39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1225080" y="3928680"/>
                <a:ext cx="2280240" cy="3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Rectangle 19"/>
            <p:cNvGrpSpPr/>
            <p:nvPr/>
          </p:nvGrpSpPr>
          <p:grpSpPr>
            <a:xfrm>
              <a:off x="4642200" y="3924360"/>
              <a:ext cx="2292120" cy="399600"/>
              <a:chOff x="4642200" y="3924360"/>
              <a:chExt cx="2292120" cy="399600"/>
            </a:xfrm>
          </p:grpSpPr>
          <p:pic>
            <p:nvPicPr>
              <p:cNvPr id="282" name="Rectangl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2200" y="3924360"/>
                <a:ext cx="2292120" cy="39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4645080" y="3928680"/>
                <a:ext cx="2280240" cy="3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4" name="Elbow Connector 20" descr=""/>
            <p:cNvPicPr/>
            <p:nvPr/>
          </p:nvPicPr>
          <p:blipFill>
            <a:blip r:embed="rId3"/>
            <a:stretch/>
          </p:blipFill>
          <p:spPr>
            <a:xfrm>
              <a:off x="2368440" y="4305600"/>
              <a:ext cx="3435120" cy="79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Oval 21"/>
            <p:cNvGrpSpPr/>
            <p:nvPr/>
          </p:nvGrpSpPr>
          <p:grpSpPr>
            <a:xfrm>
              <a:off x="3754440" y="4699440"/>
              <a:ext cx="771840" cy="786960"/>
              <a:chOff x="3754440" y="4699440"/>
              <a:chExt cx="771840" cy="786960"/>
            </a:xfrm>
          </p:grpSpPr>
          <p:pic>
            <p:nvPicPr>
              <p:cNvPr id="286" name="Oval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754440" y="4699440"/>
                <a:ext cx="771840" cy="78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3869640" y="4818240"/>
                <a:ext cx="537120" cy="5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Oval 22"/>
          <p:cNvSpPr/>
          <p:nvPr/>
        </p:nvSpPr>
        <p:spPr>
          <a:xfrm>
            <a:off x="1600200" y="2362320"/>
            <a:ext cx="1503360" cy="1562040"/>
          </a:xfrm>
          <a:prstGeom prst="ellipse">
            <a:avLst/>
          </a:prstGeom>
          <a:solidFill>
            <a:srgbClr val="8dd6c1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23"/>
          <p:cNvGraphicFramePr/>
          <p:nvPr/>
        </p:nvGraphicFramePr>
        <p:xfrm>
          <a:off x="7924680" y="3316320"/>
          <a:ext cx="954360" cy="69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3316320"/>
                    <a:ext cx="9543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91" name="Straight Arrow Connector 5"/>
          <p:cNvCxnSpPr>
            <a:stCxn id="274" idx="3"/>
          </p:cNvCxnSpPr>
          <p:nvPr/>
        </p:nvCxnSpPr>
        <p:spPr>
          <a:xfrm>
            <a:off x="6045120" y="3663720"/>
            <a:ext cx="1612080" cy="1080"/>
          </a:xfrm>
          <a:prstGeom prst="straightConnector1">
            <a:avLst/>
          </a:prstGeom>
          <a:ln w="9360">
            <a:solidFill>
              <a:srgbClr val="1cade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"/>
                            </p:stCondLst>
                            <p:childTnLst>
                              <p:par>
                                <p:cTn id="43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ERE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14040" y="2362320"/>
            <a:ext cx="8001000" cy="142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Merenj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irekt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ndirekt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94" name="Group 13"/>
          <p:cNvGrpSpPr/>
          <p:nvPr/>
        </p:nvGrpSpPr>
        <p:grpSpPr>
          <a:xfrm>
            <a:off x="609480" y="4419720"/>
            <a:ext cx="3429000" cy="1828800"/>
            <a:chOff x="609480" y="4419720"/>
            <a:chExt cx="3429000" cy="1828800"/>
          </a:xfrm>
        </p:grpSpPr>
        <p:sp>
          <p:nvSpPr>
            <p:cNvPr id="295" name="Rectangle 14"/>
            <p:cNvSpPr/>
            <p:nvPr/>
          </p:nvSpPr>
          <p:spPr>
            <a:xfrm>
              <a:off x="3195000" y="5027400"/>
              <a:ext cx="303480" cy="303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Rectangle 17"/>
            <p:cNvGrpSpPr/>
            <p:nvPr/>
          </p:nvGrpSpPr>
          <p:grpSpPr>
            <a:xfrm>
              <a:off x="609480" y="5325120"/>
              <a:ext cx="1377720" cy="243000"/>
              <a:chOff x="609480" y="5325120"/>
              <a:chExt cx="1377720" cy="243000"/>
            </a:xfrm>
          </p:grpSpPr>
          <p:pic>
            <p:nvPicPr>
              <p:cNvPr id="297" name="Rectangle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5325120"/>
                <a:ext cx="137772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615240" y="5330880"/>
                <a:ext cx="136584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Rectangle 18"/>
            <p:cNvGrpSpPr/>
            <p:nvPr/>
          </p:nvGrpSpPr>
          <p:grpSpPr>
            <a:xfrm>
              <a:off x="2660760" y="5325120"/>
              <a:ext cx="1377720" cy="243000"/>
              <a:chOff x="2660760" y="5325120"/>
              <a:chExt cx="1377720" cy="243000"/>
            </a:xfrm>
          </p:grpSpPr>
          <p:pic>
            <p:nvPicPr>
              <p:cNvPr id="300" name="Rectangl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0760" y="5325120"/>
                <a:ext cx="137772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2663640" y="5330880"/>
                <a:ext cx="136584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02" name="Elbow Connector 19" descr=""/>
            <p:cNvPicPr/>
            <p:nvPr/>
          </p:nvPicPr>
          <p:blipFill>
            <a:blip r:embed="rId3"/>
            <a:stretch/>
          </p:blipFill>
          <p:spPr>
            <a:xfrm>
              <a:off x="1301400" y="5549760"/>
              <a:ext cx="2063520" cy="23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Oval 20"/>
            <p:cNvGrpSpPr/>
            <p:nvPr/>
          </p:nvGrpSpPr>
          <p:grpSpPr>
            <a:xfrm>
              <a:off x="2126880" y="5780880"/>
              <a:ext cx="467280" cy="467640"/>
              <a:chOff x="2126880" y="5780880"/>
              <a:chExt cx="467280" cy="467640"/>
            </a:xfrm>
          </p:grpSpPr>
          <p:pic>
            <p:nvPicPr>
              <p:cNvPr id="304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26880" y="5780880"/>
                <a:ext cx="467280" cy="46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2199600" y="5853600"/>
                <a:ext cx="3218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Rectangle 21"/>
            <p:cNvSpPr/>
            <p:nvPr/>
          </p:nvSpPr>
          <p:spPr>
            <a:xfrm>
              <a:off x="615240" y="4419720"/>
              <a:ext cx="1365480" cy="91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7" name="Object 12"/>
          <p:cNvGraphicFramePr/>
          <p:nvPr/>
        </p:nvGraphicFramePr>
        <p:xfrm>
          <a:off x="2014560" y="6375240"/>
          <a:ext cx="4622760" cy="4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14560" y="6375240"/>
                    <a:ext cx="4622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6"/>
          <p:cNvGraphicFramePr/>
          <p:nvPr/>
        </p:nvGraphicFramePr>
        <p:xfrm>
          <a:off x="5791320" y="3433680"/>
          <a:ext cx="149832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433680"/>
                    <a:ext cx="1498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1" name="Group 3"/>
          <p:cNvGrpSpPr/>
          <p:nvPr/>
        </p:nvGrpSpPr>
        <p:grpSpPr>
          <a:xfrm>
            <a:off x="4800600" y="4114800"/>
            <a:ext cx="3429000" cy="2130480"/>
            <a:chOff x="4800600" y="4114800"/>
            <a:chExt cx="3429000" cy="2130480"/>
          </a:xfrm>
        </p:grpSpPr>
        <p:sp>
          <p:nvSpPr>
            <p:cNvPr id="312" name="Rectangle 4"/>
            <p:cNvSpPr/>
            <p:nvPr/>
          </p:nvSpPr>
          <p:spPr>
            <a:xfrm>
              <a:off x="7387560" y="5022000"/>
              <a:ext cx="30384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7387560" y="4718520"/>
              <a:ext cx="30384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7387560" y="4415040"/>
              <a:ext cx="30384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Rectangle 7"/>
            <p:cNvGrpSpPr/>
            <p:nvPr/>
          </p:nvGrpSpPr>
          <p:grpSpPr>
            <a:xfrm>
              <a:off x="4800600" y="5322600"/>
              <a:ext cx="1380240" cy="236520"/>
              <a:chOff x="4800600" y="5322600"/>
              <a:chExt cx="1380240" cy="236520"/>
            </a:xfrm>
          </p:grpSpPr>
          <p:pic>
            <p:nvPicPr>
              <p:cNvPr id="316" name="Rectangl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4800600" y="5322600"/>
                <a:ext cx="1380240" cy="2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4803480" y="5325480"/>
                <a:ext cx="136836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Rectangle 8"/>
            <p:cNvGrpSpPr/>
            <p:nvPr/>
          </p:nvGrpSpPr>
          <p:grpSpPr>
            <a:xfrm>
              <a:off x="6849360" y="5322600"/>
              <a:ext cx="1380240" cy="236520"/>
              <a:chOff x="6849360" y="5322600"/>
              <a:chExt cx="1380240" cy="236520"/>
            </a:xfrm>
          </p:grpSpPr>
          <p:pic>
            <p:nvPicPr>
              <p:cNvPr id="319" name="Rectangle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49360" y="5322600"/>
                <a:ext cx="1380240" cy="2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855120" y="5325480"/>
                <a:ext cx="136836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1" name="Elbow Connector 9" descr=""/>
            <p:cNvPicPr/>
            <p:nvPr/>
          </p:nvPicPr>
          <p:blipFill>
            <a:blip r:embed="rId11"/>
            <a:stretch/>
          </p:blipFill>
          <p:spPr>
            <a:xfrm>
              <a:off x="5487480" y="5547240"/>
              <a:ext cx="2067120" cy="23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Oval 10"/>
            <p:cNvGrpSpPr/>
            <p:nvPr/>
          </p:nvGrpSpPr>
          <p:grpSpPr>
            <a:xfrm>
              <a:off x="6320520" y="5778000"/>
              <a:ext cx="468000" cy="467280"/>
              <a:chOff x="6320520" y="5778000"/>
              <a:chExt cx="468000" cy="467280"/>
            </a:xfrm>
          </p:grpSpPr>
          <p:pic>
            <p:nvPicPr>
              <p:cNvPr id="323" name="Oval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6320520" y="5778000"/>
                <a:ext cx="468000" cy="46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6390360" y="5847480"/>
                <a:ext cx="32256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Rectangle 1"/>
            <p:cNvSpPr/>
            <p:nvPr/>
          </p:nvSpPr>
          <p:spPr>
            <a:xfrm>
              <a:off x="4803480" y="4415040"/>
              <a:ext cx="1368000" cy="910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2"/>
            <p:cNvSpPr/>
            <p:nvPr/>
          </p:nvSpPr>
          <p:spPr>
            <a:xfrm>
              <a:off x="4803480" y="4642560"/>
              <a:ext cx="1368000" cy="682920"/>
            </a:xfrm>
            <a:prstGeom prst="rect">
              <a:avLst/>
            </a:prstGeom>
            <a:solidFill>
              <a:srgbClr val="1cade4"/>
            </a:solidFill>
            <a:ln w="15840">
              <a:solidFill>
                <a:srgbClr val="117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37"/>
            <p:cNvSpPr/>
            <p:nvPr/>
          </p:nvSpPr>
          <p:spPr>
            <a:xfrm>
              <a:off x="7387560" y="4114800"/>
              <a:ext cx="30384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26"/>
          <p:cNvGrpSpPr/>
          <p:nvPr/>
        </p:nvGrpSpPr>
        <p:grpSpPr>
          <a:xfrm>
            <a:off x="4648320" y="1523880"/>
            <a:ext cx="3429000" cy="1828800"/>
            <a:chOff x="4648320" y="1523880"/>
            <a:chExt cx="3429000" cy="1828800"/>
          </a:xfrm>
        </p:grpSpPr>
        <p:sp>
          <p:nvSpPr>
            <p:cNvPr id="329" name="Rectangle 29"/>
            <p:cNvSpPr/>
            <p:nvPr/>
          </p:nvSpPr>
          <p:spPr>
            <a:xfrm>
              <a:off x="7235280" y="2131560"/>
              <a:ext cx="303840" cy="303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30"/>
            <p:cNvSpPr/>
            <p:nvPr/>
          </p:nvSpPr>
          <p:spPr>
            <a:xfrm>
              <a:off x="7235280" y="1827720"/>
              <a:ext cx="303840" cy="303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31"/>
            <p:cNvSpPr/>
            <p:nvPr/>
          </p:nvSpPr>
          <p:spPr>
            <a:xfrm>
              <a:off x="7235280" y="1523880"/>
              <a:ext cx="303840" cy="303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Rectangle 32"/>
            <p:cNvGrpSpPr/>
            <p:nvPr/>
          </p:nvGrpSpPr>
          <p:grpSpPr>
            <a:xfrm>
              <a:off x="4648320" y="2429280"/>
              <a:ext cx="1380240" cy="243000"/>
              <a:chOff x="4648320" y="2429280"/>
              <a:chExt cx="1380240" cy="243000"/>
            </a:xfrm>
          </p:grpSpPr>
          <p:pic>
            <p:nvPicPr>
              <p:cNvPr id="333" name="Rectangle 32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8320" y="2429280"/>
                <a:ext cx="138024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4651200" y="2435040"/>
                <a:ext cx="13683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Rectangle 33"/>
            <p:cNvGrpSpPr/>
            <p:nvPr/>
          </p:nvGrpSpPr>
          <p:grpSpPr>
            <a:xfrm>
              <a:off x="6697080" y="2429280"/>
              <a:ext cx="1380240" cy="243000"/>
              <a:chOff x="6697080" y="2429280"/>
              <a:chExt cx="1380240" cy="243000"/>
            </a:xfrm>
          </p:grpSpPr>
          <p:pic>
            <p:nvPicPr>
              <p:cNvPr id="336" name="Rectangle 33" descr=""/>
              <p:cNvPicPr/>
              <p:nvPr/>
            </p:nvPicPr>
            <p:blipFill>
              <a:blip r:embed="rId14"/>
              <a:stretch/>
            </p:blipFill>
            <p:spPr>
              <a:xfrm>
                <a:off x="6697080" y="2429280"/>
                <a:ext cx="138024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6702840" y="2435040"/>
                <a:ext cx="13683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8" name="Elbow Connector 34" descr=""/>
            <p:cNvPicPr/>
            <p:nvPr/>
          </p:nvPicPr>
          <p:blipFill>
            <a:blip r:embed="rId15"/>
            <a:stretch/>
          </p:blipFill>
          <p:spPr>
            <a:xfrm>
              <a:off x="5335200" y="2653920"/>
              <a:ext cx="2067120" cy="47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9" name="Oval 35"/>
            <p:cNvGrpSpPr/>
            <p:nvPr/>
          </p:nvGrpSpPr>
          <p:grpSpPr>
            <a:xfrm>
              <a:off x="6168240" y="2885040"/>
              <a:ext cx="468000" cy="467640"/>
              <a:chOff x="6168240" y="2885040"/>
              <a:chExt cx="468000" cy="467640"/>
            </a:xfrm>
          </p:grpSpPr>
          <p:pic>
            <p:nvPicPr>
              <p:cNvPr id="340" name="Oval 35" descr=""/>
              <p:cNvPicPr/>
              <p:nvPr/>
            </p:nvPicPr>
            <p:blipFill>
              <a:blip r:embed="rId16"/>
              <a:stretch/>
            </p:blipFill>
            <p:spPr>
              <a:xfrm>
                <a:off x="6168240" y="2885040"/>
                <a:ext cx="468000" cy="46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6238080" y="2957760"/>
                <a:ext cx="322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Oval 25"/>
            <p:cNvSpPr/>
            <p:nvPr/>
          </p:nvSpPr>
          <p:spPr>
            <a:xfrm>
              <a:off x="4879080" y="1523880"/>
              <a:ext cx="899280" cy="911520"/>
            </a:xfrm>
            <a:prstGeom prst="ellipse">
              <a:avLst/>
            </a:prstGeom>
            <a:solidFill>
              <a:srgbClr val="8dd6c1"/>
            </a:solidFill>
            <a:ln w="15840">
              <a:solidFill>
                <a:srgbClr val="117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GREŠKA MEREN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900000" y="220500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Nema tačnih mer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Greška merenja je element merenj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Grešku ne znamo, ali možemo da je proce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Object 14"/>
          <p:cNvGraphicFramePr/>
          <p:nvPr/>
        </p:nvGraphicFramePr>
        <p:xfrm>
          <a:off x="2349360" y="6100920"/>
          <a:ext cx="15242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9360" y="6100920"/>
                    <a:ext cx="15242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7" name="Group 1"/>
          <p:cNvGrpSpPr/>
          <p:nvPr/>
        </p:nvGrpSpPr>
        <p:grpSpPr>
          <a:xfrm>
            <a:off x="1219320" y="4191120"/>
            <a:ext cx="3429000" cy="1828800"/>
            <a:chOff x="1219320" y="4191120"/>
            <a:chExt cx="3429000" cy="1828800"/>
          </a:xfrm>
        </p:grpSpPr>
        <p:sp>
          <p:nvSpPr>
            <p:cNvPr id="348" name="Rectangle 16"/>
            <p:cNvSpPr/>
            <p:nvPr/>
          </p:nvSpPr>
          <p:spPr>
            <a:xfrm>
              <a:off x="3804840" y="4494240"/>
              <a:ext cx="303480" cy="303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7"/>
            <p:cNvSpPr/>
            <p:nvPr/>
          </p:nvSpPr>
          <p:spPr>
            <a:xfrm>
              <a:off x="3804840" y="4191120"/>
              <a:ext cx="303480" cy="303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Rectangle 19"/>
            <p:cNvGrpSpPr/>
            <p:nvPr/>
          </p:nvGrpSpPr>
          <p:grpSpPr>
            <a:xfrm>
              <a:off x="1219320" y="5097960"/>
              <a:ext cx="1377720" cy="236520"/>
              <a:chOff x="1219320" y="5097960"/>
              <a:chExt cx="1377720" cy="236520"/>
            </a:xfrm>
          </p:grpSpPr>
          <p:pic>
            <p:nvPicPr>
              <p:cNvPr id="351" name="Rectangle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9320" y="5097960"/>
                <a:ext cx="1377720" cy="2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1225080" y="5100840"/>
                <a:ext cx="136584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Rectangle 20"/>
            <p:cNvGrpSpPr/>
            <p:nvPr/>
          </p:nvGrpSpPr>
          <p:grpSpPr>
            <a:xfrm>
              <a:off x="3270600" y="4794480"/>
              <a:ext cx="1377720" cy="236520"/>
              <a:chOff x="3270600" y="4794480"/>
              <a:chExt cx="1377720" cy="236520"/>
            </a:xfrm>
          </p:grpSpPr>
          <p:pic>
            <p:nvPicPr>
              <p:cNvPr id="354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0600" y="4794480"/>
                <a:ext cx="1377720" cy="2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3273480" y="4797360"/>
                <a:ext cx="136584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6" name="Elbow Connector 21" descr=""/>
            <p:cNvPicPr/>
            <p:nvPr/>
          </p:nvPicPr>
          <p:blipFill>
            <a:blip r:embed="rId5"/>
            <a:stretch/>
          </p:blipFill>
          <p:spPr>
            <a:xfrm>
              <a:off x="1905120" y="5025240"/>
              <a:ext cx="2063520" cy="53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7" name="Oval 22"/>
            <p:cNvGrpSpPr/>
            <p:nvPr/>
          </p:nvGrpSpPr>
          <p:grpSpPr>
            <a:xfrm>
              <a:off x="2736720" y="5553000"/>
              <a:ext cx="467280" cy="466920"/>
              <a:chOff x="2736720" y="5553000"/>
              <a:chExt cx="467280" cy="466920"/>
            </a:xfrm>
          </p:grpSpPr>
          <p:pic>
            <p:nvPicPr>
              <p:cNvPr id="358" name="Oval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2736720" y="5553000"/>
                <a:ext cx="467280" cy="4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2809440" y="5622480"/>
                <a:ext cx="32184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Oval 23"/>
            <p:cNvSpPr/>
            <p:nvPr/>
          </p:nvSpPr>
          <p:spPr>
            <a:xfrm>
              <a:off x="1452960" y="4191120"/>
              <a:ext cx="897480" cy="909720"/>
            </a:xfrm>
            <a:prstGeom prst="ellipse">
              <a:avLst/>
            </a:prstGeom>
            <a:solidFill>
              <a:srgbClr val="8dd6c1"/>
            </a:solidFill>
            <a:ln w="15840">
              <a:solidFill>
                <a:srgbClr val="117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1" name="Object 24"/>
          <p:cNvGraphicFramePr/>
          <p:nvPr/>
        </p:nvGraphicFramePr>
        <p:xfrm>
          <a:off x="6343560" y="6100920"/>
          <a:ext cx="149868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43560" y="6100920"/>
                    <a:ext cx="14986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" name="Group 2"/>
          <p:cNvGrpSpPr/>
          <p:nvPr/>
        </p:nvGrpSpPr>
        <p:grpSpPr>
          <a:xfrm>
            <a:off x="5334120" y="4038480"/>
            <a:ext cx="3429000" cy="1981440"/>
            <a:chOff x="5334120" y="4038480"/>
            <a:chExt cx="3429000" cy="1981440"/>
          </a:xfrm>
        </p:grpSpPr>
        <p:sp>
          <p:nvSpPr>
            <p:cNvPr id="364" name="Rectangle 26"/>
            <p:cNvSpPr/>
            <p:nvPr/>
          </p:nvSpPr>
          <p:spPr>
            <a:xfrm>
              <a:off x="7919640" y="4797000"/>
              <a:ext cx="30348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27"/>
            <p:cNvSpPr/>
            <p:nvPr/>
          </p:nvSpPr>
          <p:spPr>
            <a:xfrm>
              <a:off x="7919640" y="4493520"/>
              <a:ext cx="30348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28"/>
            <p:cNvSpPr/>
            <p:nvPr/>
          </p:nvSpPr>
          <p:spPr>
            <a:xfrm>
              <a:off x="7919640" y="4190040"/>
              <a:ext cx="30348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Rectangle 29"/>
            <p:cNvGrpSpPr/>
            <p:nvPr/>
          </p:nvGrpSpPr>
          <p:grpSpPr>
            <a:xfrm>
              <a:off x="5334120" y="4945680"/>
              <a:ext cx="1377720" cy="236520"/>
              <a:chOff x="5334120" y="4945680"/>
              <a:chExt cx="1377720" cy="236520"/>
            </a:xfrm>
          </p:grpSpPr>
          <p:pic>
            <p:nvPicPr>
              <p:cNvPr id="368" name="Rectangl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5334120" y="4945680"/>
                <a:ext cx="1377720" cy="2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5339880" y="4948560"/>
                <a:ext cx="136584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Rectangle 30"/>
            <p:cNvGrpSpPr/>
            <p:nvPr/>
          </p:nvGrpSpPr>
          <p:grpSpPr>
            <a:xfrm>
              <a:off x="7385400" y="5097600"/>
              <a:ext cx="1377720" cy="236520"/>
              <a:chOff x="7385400" y="5097600"/>
              <a:chExt cx="1377720" cy="236520"/>
            </a:xfrm>
          </p:grpSpPr>
          <p:pic>
            <p:nvPicPr>
              <p:cNvPr id="371" name="Rectangle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85400" y="5097600"/>
                <a:ext cx="1377720" cy="2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7388280" y="5100480"/>
                <a:ext cx="136584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3" name="Elbow Connector 31" descr=""/>
            <p:cNvPicPr/>
            <p:nvPr/>
          </p:nvPicPr>
          <p:blipFill>
            <a:blip r:embed="rId11"/>
            <a:stretch/>
          </p:blipFill>
          <p:spPr>
            <a:xfrm>
              <a:off x="6019920" y="5176440"/>
              <a:ext cx="2063520" cy="38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4" name="Oval 32"/>
            <p:cNvGrpSpPr/>
            <p:nvPr/>
          </p:nvGrpSpPr>
          <p:grpSpPr>
            <a:xfrm>
              <a:off x="6851520" y="5552640"/>
              <a:ext cx="467280" cy="467280"/>
              <a:chOff x="6851520" y="5552640"/>
              <a:chExt cx="467280" cy="467280"/>
            </a:xfrm>
          </p:grpSpPr>
          <p:pic>
            <p:nvPicPr>
              <p:cNvPr id="375" name="Oval 3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51520" y="5552640"/>
                <a:ext cx="467280" cy="46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6924240" y="5622120"/>
                <a:ext cx="3218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Oval 33"/>
            <p:cNvSpPr/>
            <p:nvPr/>
          </p:nvSpPr>
          <p:spPr>
            <a:xfrm>
              <a:off x="5567760" y="4038480"/>
              <a:ext cx="897480" cy="910440"/>
            </a:xfrm>
            <a:prstGeom prst="ellipse">
              <a:avLst/>
            </a:prstGeom>
            <a:solidFill>
              <a:srgbClr val="8dd6c1"/>
            </a:solidFill>
            <a:ln w="15840">
              <a:solidFill>
                <a:srgbClr val="117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APSOLUTNA GREŠ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379" name="Object 7"/>
          <p:cNvGraphicFramePr/>
          <p:nvPr/>
        </p:nvGraphicFramePr>
        <p:xfrm>
          <a:off x="2584440" y="2786040"/>
          <a:ext cx="22208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4440" y="2786040"/>
                    <a:ext cx="2220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Text Box 12"/>
          <p:cNvSpPr/>
          <p:nvPr/>
        </p:nvSpPr>
        <p:spPr>
          <a:xfrm>
            <a:off x="2386800" y="4711680"/>
            <a:ext cx="21909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rednja vrednost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r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6449760" y="3265560"/>
            <a:ext cx="22244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psolutna gre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r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5"/>
          <p:cNvSpPr/>
          <p:nvPr/>
        </p:nvSpPr>
        <p:spPr>
          <a:xfrm flipH="1" flipV="1">
            <a:off x="3455640" y="3188880"/>
            <a:ext cx="3240" cy="15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1"/>
          <p:cNvGraphicFramePr/>
          <p:nvPr/>
        </p:nvGraphicFramePr>
        <p:xfrm>
          <a:off x="2641680" y="2101680"/>
          <a:ext cx="187632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1680" y="2101680"/>
                    <a:ext cx="18763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86" name="Elbow Connector 4"/>
          <p:cNvCxnSpPr>
            <a:endCxn id="382" idx="1"/>
          </p:cNvCxnSpPr>
          <p:nvPr/>
        </p:nvCxnSpPr>
        <p:spPr>
          <a:xfrm>
            <a:off x="4114800" y="3192480"/>
            <a:ext cx="2326320" cy="48960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87" name="Object 7"/>
          <p:cNvGraphicFramePr/>
          <p:nvPr/>
        </p:nvGraphicFramePr>
        <p:xfrm>
          <a:off x="4718160" y="4954680"/>
          <a:ext cx="13017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8160" y="4954680"/>
                    <a:ext cx="1301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7"/>
          <p:cNvGraphicFramePr/>
          <p:nvPr/>
        </p:nvGraphicFramePr>
        <p:xfrm>
          <a:off x="6730920" y="4164120"/>
          <a:ext cx="14940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0920" y="4164120"/>
                    <a:ext cx="1494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APSOLUTNA GREŠ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Tačnije merenje (NE PRECIZNIJ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MANJI tegov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Manja apsolutna greš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93" name="Object 3"/>
          <p:cNvGraphicFramePr/>
          <p:nvPr/>
        </p:nvGraphicFramePr>
        <p:xfrm>
          <a:off x="2413080" y="5376960"/>
          <a:ext cx="13968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3080" y="5376960"/>
                    <a:ext cx="1396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1"/>
          <p:cNvGraphicFramePr/>
          <p:nvPr/>
        </p:nvGraphicFramePr>
        <p:xfrm>
          <a:off x="6178680" y="5338800"/>
          <a:ext cx="182880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8680" y="5338800"/>
                    <a:ext cx="18288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7" name="Group 2"/>
          <p:cNvGrpSpPr/>
          <p:nvPr/>
        </p:nvGrpSpPr>
        <p:grpSpPr>
          <a:xfrm>
            <a:off x="1219320" y="3276720"/>
            <a:ext cx="3429000" cy="1981080"/>
            <a:chOff x="1219320" y="3276720"/>
            <a:chExt cx="3429000" cy="1981080"/>
          </a:xfrm>
        </p:grpSpPr>
        <p:sp>
          <p:nvSpPr>
            <p:cNvPr id="398" name="Rectangle 4"/>
            <p:cNvSpPr/>
            <p:nvPr/>
          </p:nvSpPr>
          <p:spPr>
            <a:xfrm>
              <a:off x="3804840" y="3883320"/>
              <a:ext cx="303480" cy="303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5"/>
            <p:cNvSpPr/>
            <p:nvPr/>
          </p:nvSpPr>
          <p:spPr>
            <a:xfrm>
              <a:off x="3804840" y="3579840"/>
              <a:ext cx="303480" cy="303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Rectangle 6"/>
            <p:cNvGrpSpPr/>
            <p:nvPr/>
          </p:nvGrpSpPr>
          <p:grpSpPr>
            <a:xfrm>
              <a:off x="1219320" y="4335480"/>
              <a:ext cx="1377720" cy="236520"/>
              <a:chOff x="1219320" y="4335480"/>
              <a:chExt cx="1377720" cy="236520"/>
            </a:xfrm>
          </p:grpSpPr>
          <p:pic>
            <p:nvPicPr>
              <p:cNvPr id="401" name="Rectangl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1219320" y="4335480"/>
                <a:ext cx="1377720" cy="2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1225080" y="4338360"/>
                <a:ext cx="136584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Rectangle 7"/>
            <p:cNvGrpSpPr/>
            <p:nvPr/>
          </p:nvGrpSpPr>
          <p:grpSpPr>
            <a:xfrm>
              <a:off x="3270600" y="4183920"/>
              <a:ext cx="1377720" cy="236520"/>
              <a:chOff x="3270600" y="4183920"/>
              <a:chExt cx="1377720" cy="236520"/>
            </a:xfrm>
          </p:grpSpPr>
          <p:pic>
            <p:nvPicPr>
              <p:cNvPr id="404" name="Rectangl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3270600" y="4183920"/>
                <a:ext cx="1377720" cy="2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>
                <a:off x="3273480" y="4186800"/>
                <a:ext cx="136584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6" name="Elbow Connector 8" descr=""/>
            <p:cNvPicPr/>
            <p:nvPr/>
          </p:nvPicPr>
          <p:blipFill>
            <a:blip r:embed="rId7"/>
            <a:stretch/>
          </p:blipFill>
          <p:spPr>
            <a:xfrm>
              <a:off x="1905120" y="4414320"/>
              <a:ext cx="2063520" cy="388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7" name="Oval 9"/>
            <p:cNvGrpSpPr/>
            <p:nvPr/>
          </p:nvGrpSpPr>
          <p:grpSpPr>
            <a:xfrm>
              <a:off x="2736720" y="4790520"/>
              <a:ext cx="467280" cy="467280"/>
              <a:chOff x="2736720" y="4790520"/>
              <a:chExt cx="467280" cy="467280"/>
            </a:xfrm>
          </p:grpSpPr>
          <p:pic>
            <p:nvPicPr>
              <p:cNvPr id="408" name="Oval 9" descr=""/>
              <p:cNvPicPr/>
              <p:nvPr/>
            </p:nvPicPr>
            <p:blipFill>
              <a:blip r:embed="rId8"/>
              <a:stretch/>
            </p:blipFill>
            <p:spPr>
              <a:xfrm>
                <a:off x="2736720" y="4790520"/>
                <a:ext cx="467280" cy="46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2809440" y="4860000"/>
                <a:ext cx="3218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Oval 10"/>
            <p:cNvSpPr/>
            <p:nvPr/>
          </p:nvSpPr>
          <p:spPr>
            <a:xfrm>
              <a:off x="1452960" y="3428280"/>
              <a:ext cx="897480" cy="910080"/>
            </a:xfrm>
            <a:prstGeom prst="ellipse">
              <a:avLst/>
            </a:prstGeom>
            <a:solidFill>
              <a:srgbClr val="8dd6c1"/>
            </a:solidFill>
            <a:ln w="15840">
              <a:solidFill>
                <a:srgbClr val="117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0"/>
            <p:cNvSpPr/>
            <p:nvPr/>
          </p:nvSpPr>
          <p:spPr>
            <a:xfrm>
              <a:off x="3804840" y="3428280"/>
              <a:ext cx="15156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1"/>
            <p:cNvSpPr/>
            <p:nvPr/>
          </p:nvSpPr>
          <p:spPr>
            <a:xfrm>
              <a:off x="3956400" y="3428280"/>
              <a:ext cx="15156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2"/>
            <p:cNvSpPr/>
            <p:nvPr/>
          </p:nvSpPr>
          <p:spPr>
            <a:xfrm>
              <a:off x="3804840" y="3276720"/>
              <a:ext cx="15156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3"/>
          <p:cNvGrpSpPr/>
          <p:nvPr/>
        </p:nvGrpSpPr>
        <p:grpSpPr>
          <a:xfrm>
            <a:off x="5334120" y="3124080"/>
            <a:ext cx="3429000" cy="2133720"/>
            <a:chOff x="5334120" y="3124080"/>
            <a:chExt cx="3429000" cy="2133720"/>
          </a:xfrm>
        </p:grpSpPr>
        <p:sp>
          <p:nvSpPr>
            <p:cNvPr id="415" name="Rectangle 12"/>
            <p:cNvSpPr/>
            <p:nvPr/>
          </p:nvSpPr>
          <p:spPr>
            <a:xfrm>
              <a:off x="7919640" y="4034520"/>
              <a:ext cx="30348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7919640" y="3731040"/>
              <a:ext cx="30348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4"/>
            <p:cNvSpPr/>
            <p:nvPr/>
          </p:nvSpPr>
          <p:spPr>
            <a:xfrm>
              <a:off x="7919640" y="3427560"/>
              <a:ext cx="30348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Rectangle 15"/>
            <p:cNvGrpSpPr/>
            <p:nvPr/>
          </p:nvGrpSpPr>
          <p:grpSpPr>
            <a:xfrm>
              <a:off x="5334120" y="4256280"/>
              <a:ext cx="1377720" cy="242640"/>
              <a:chOff x="5334120" y="4256280"/>
              <a:chExt cx="1377720" cy="242640"/>
            </a:xfrm>
          </p:grpSpPr>
          <p:pic>
            <p:nvPicPr>
              <p:cNvPr id="419" name="Rectangle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5334120" y="4256280"/>
                <a:ext cx="137772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5339880" y="4262040"/>
                <a:ext cx="136584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Rectangle 16"/>
            <p:cNvGrpSpPr/>
            <p:nvPr/>
          </p:nvGrpSpPr>
          <p:grpSpPr>
            <a:xfrm>
              <a:off x="7385400" y="4335120"/>
              <a:ext cx="1377720" cy="236520"/>
              <a:chOff x="7385400" y="4335120"/>
              <a:chExt cx="1377720" cy="236520"/>
            </a:xfrm>
          </p:grpSpPr>
          <p:pic>
            <p:nvPicPr>
              <p:cNvPr id="422" name="Rectangle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85400" y="4335120"/>
                <a:ext cx="1377720" cy="2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7388280" y="4338000"/>
                <a:ext cx="136584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24" name="Elbow Connector 17" descr=""/>
            <p:cNvPicPr/>
            <p:nvPr/>
          </p:nvPicPr>
          <p:blipFill>
            <a:blip r:embed="rId11"/>
            <a:stretch/>
          </p:blipFill>
          <p:spPr>
            <a:xfrm>
              <a:off x="6019920" y="4493160"/>
              <a:ext cx="2063520" cy="3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5" name="Oval 18"/>
            <p:cNvGrpSpPr/>
            <p:nvPr/>
          </p:nvGrpSpPr>
          <p:grpSpPr>
            <a:xfrm>
              <a:off x="6851520" y="4790520"/>
              <a:ext cx="467280" cy="467280"/>
              <a:chOff x="6851520" y="4790520"/>
              <a:chExt cx="467280" cy="467280"/>
            </a:xfrm>
          </p:grpSpPr>
          <p:pic>
            <p:nvPicPr>
              <p:cNvPr id="426" name="Oval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51520" y="4790520"/>
                <a:ext cx="467280" cy="46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6924240" y="4860000"/>
                <a:ext cx="3218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Oval 19"/>
            <p:cNvSpPr/>
            <p:nvPr/>
          </p:nvSpPr>
          <p:spPr>
            <a:xfrm>
              <a:off x="5567760" y="3351600"/>
              <a:ext cx="897480" cy="910440"/>
            </a:xfrm>
            <a:prstGeom prst="ellipse">
              <a:avLst/>
            </a:prstGeom>
            <a:solidFill>
              <a:srgbClr val="8dd6c1"/>
            </a:solidFill>
            <a:ln w="15840">
              <a:solidFill>
                <a:srgbClr val="117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7919640" y="3275640"/>
              <a:ext cx="15156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24"/>
            <p:cNvSpPr/>
            <p:nvPr/>
          </p:nvSpPr>
          <p:spPr>
            <a:xfrm>
              <a:off x="8071200" y="3275640"/>
              <a:ext cx="15156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25"/>
            <p:cNvSpPr/>
            <p:nvPr/>
          </p:nvSpPr>
          <p:spPr>
            <a:xfrm>
              <a:off x="7919640" y="3124080"/>
              <a:ext cx="15156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6"/>
            <p:cNvSpPr/>
            <p:nvPr/>
          </p:nvSpPr>
          <p:spPr>
            <a:xfrm>
              <a:off x="8071200" y="3124080"/>
              <a:ext cx="15156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3" name="Object 7"/>
          <p:cNvGraphicFramePr/>
          <p:nvPr/>
        </p:nvGraphicFramePr>
        <p:xfrm>
          <a:off x="3963960" y="6375240"/>
          <a:ext cx="219384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4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3960" y="6375240"/>
                    <a:ext cx="2193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28"/>
          <p:cNvGraphicFramePr/>
          <p:nvPr/>
        </p:nvGraphicFramePr>
        <p:xfrm>
          <a:off x="3886200" y="5923080"/>
          <a:ext cx="2386080" cy="401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6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6200" y="5923080"/>
                    <a:ext cx="2386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APSOLUTNA GREŠ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w Cen MT"/>
              </a:rPr>
              <a:t>Tačnije merenje (NE PRECIZNIJ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MANJI tegov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Manja apsolutna greš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39" name="Object 3"/>
          <p:cNvGraphicFramePr/>
          <p:nvPr/>
        </p:nvGraphicFramePr>
        <p:xfrm>
          <a:off x="2413080" y="5376960"/>
          <a:ext cx="13968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3080" y="5376960"/>
                    <a:ext cx="1396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1" name="Rectangle 7"/>
          <p:cNvGrpSpPr/>
          <p:nvPr/>
        </p:nvGrpSpPr>
        <p:grpSpPr>
          <a:xfrm>
            <a:off x="3273480" y="4187880"/>
            <a:ext cx="1384200" cy="237960"/>
            <a:chOff x="3273480" y="4187880"/>
            <a:chExt cx="1384200" cy="237960"/>
          </a:xfrm>
        </p:grpSpPr>
        <p:pic>
          <p:nvPicPr>
            <p:cNvPr id="442" name="Rectangle 7" descr=""/>
            <p:cNvPicPr/>
            <p:nvPr/>
          </p:nvPicPr>
          <p:blipFill>
            <a:blip r:embed="rId3"/>
            <a:stretch/>
          </p:blipFill>
          <p:spPr>
            <a:xfrm>
              <a:off x="3273480" y="4187880"/>
              <a:ext cx="138420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276720" y="4191120"/>
              <a:ext cx="137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4" name="Object 11"/>
          <p:cNvGraphicFramePr/>
          <p:nvPr/>
        </p:nvGraphicFramePr>
        <p:xfrm>
          <a:off x="6178680" y="5338800"/>
          <a:ext cx="182880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5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8680" y="5338800"/>
                    <a:ext cx="18288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6" name="Group 29"/>
          <p:cNvGrpSpPr/>
          <p:nvPr/>
        </p:nvGrpSpPr>
        <p:grpSpPr>
          <a:xfrm>
            <a:off x="1219320" y="3276720"/>
            <a:ext cx="2895480" cy="1981080"/>
            <a:chOff x="1219320" y="3276720"/>
            <a:chExt cx="2895480" cy="1981080"/>
          </a:xfrm>
        </p:grpSpPr>
        <p:sp>
          <p:nvSpPr>
            <p:cNvPr id="447" name="Rectangle 4"/>
            <p:cNvSpPr/>
            <p:nvPr/>
          </p:nvSpPr>
          <p:spPr>
            <a:xfrm>
              <a:off x="3810960" y="3883320"/>
              <a:ext cx="303840" cy="303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5"/>
            <p:cNvSpPr/>
            <p:nvPr/>
          </p:nvSpPr>
          <p:spPr>
            <a:xfrm>
              <a:off x="3810960" y="3579840"/>
              <a:ext cx="303840" cy="303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Rectangle 6"/>
            <p:cNvGrpSpPr/>
            <p:nvPr/>
          </p:nvGrpSpPr>
          <p:grpSpPr>
            <a:xfrm>
              <a:off x="1219320" y="4335480"/>
              <a:ext cx="1380960" cy="236520"/>
              <a:chOff x="1219320" y="4335480"/>
              <a:chExt cx="1380960" cy="236520"/>
            </a:xfrm>
          </p:grpSpPr>
          <p:pic>
            <p:nvPicPr>
              <p:cNvPr id="450" name="Rectangle 6" descr=""/>
              <p:cNvPicPr/>
              <p:nvPr/>
            </p:nvPicPr>
            <p:blipFill>
              <a:blip r:embed="rId6"/>
              <a:stretch/>
            </p:blipFill>
            <p:spPr>
              <a:xfrm>
                <a:off x="1219320" y="4335480"/>
                <a:ext cx="1380960" cy="2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1225080" y="4338360"/>
                <a:ext cx="136908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52" name="Elbow Connector 8" descr=""/>
            <p:cNvPicPr/>
            <p:nvPr/>
          </p:nvPicPr>
          <p:blipFill>
            <a:blip r:embed="rId7"/>
            <a:stretch/>
          </p:blipFill>
          <p:spPr>
            <a:xfrm>
              <a:off x="1906560" y="4414320"/>
              <a:ext cx="2068200" cy="388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3" name="Oval 9"/>
            <p:cNvGrpSpPr/>
            <p:nvPr/>
          </p:nvGrpSpPr>
          <p:grpSpPr>
            <a:xfrm>
              <a:off x="2739960" y="4790520"/>
              <a:ext cx="468360" cy="467280"/>
              <a:chOff x="2739960" y="4790520"/>
              <a:chExt cx="468360" cy="467280"/>
            </a:xfrm>
          </p:grpSpPr>
          <p:pic>
            <p:nvPicPr>
              <p:cNvPr id="454" name="Oval 9" descr=""/>
              <p:cNvPicPr/>
              <p:nvPr/>
            </p:nvPicPr>
            <p:blipFill>
              <a:blip r:embed="rId8"/>
              <a:stretch/>
            </p:blipFill>
            <p:spPr>
              <a:xfrm>
                <a:off x="2739960" y="4790520"/>
                <a:ext cx="468360" cy="46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2812680" y="4860000"/>
                <a:ext cx="32256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Oval 10"/>
            <p:cNvSpPr/>
            <p:nvPr/>
          </p:nvSpPr>
          <p:spPr>
            <a:xfrm>
              <a:off x="1453320" y="3428280"/>
              <a:ext cx="899640" cy="910080"/>
            </a:xfrm>
            <a:prstGeom prst="ellipse">
              <a:avLst/>
            </a:prstGeom>
            <a:solidFill>
              <a:srgbClr val="8dd6c1"/>
            </a:solidFill>
            <a:ln w="15840">
              <a:solidFill>
                <a:srgbClr val="117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20"/>
            <p:cNvSpPr/>
            <p:nvPr/>
          </p:nvSpPr>
          <p:spPr>
            <a:xfrm>
              <a:off x="3810960" y="3428280"/>
              <a:ext cx="15192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21"/>
            <p:cNvSpPr/>
            <p:nvPr/>
          </p:nvSpPr>
          <p:spPr>
            <a:xfrm>
              <a:off x="3962880" y="3428280"/>
              <a:ext cx="15192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22"/>
            <p:cNvSpPr/>
            <p:nvPr/>
          </p:nvSpPr>
          <p:spPr>
            <a:xfrm>
              <a:off x="3810960" y="3276720"/>
              <a:ext cx="15192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30"/>
          <p:cNvGrpSpPr/>
          <p:nvPr/>
        </p:nvGrpSpPr>
        <p:grpSpPr>
          <a:xfrm>
            <a:off x="5334120" y="3124080"/>
            <a:ext cx="3429000" cy="2133720"/>
            <a:chOff x="5334120" y="3124080"/>
            <a:chExt cx="3429000" cy="2133720"/>
          </a:xfrm>
        </p:grpSpPr>
        <p:sp>
          <p:nvSpPr>
            <p:cNvPr id="461" name="Rectangle 12"/>
            <p:cNvSpPr/>
            <p:nvPr/>
          </p:nvSpPr>
          <p:spPr>
            <a:xfrm>
              <a:off x="7919640" y="4034520"/>
              <a:ext cx="30348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7919640" y="3731040"/>
              <a:ext cx="30348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4"/>
            <p:cNvSpPr/>
            <p:nvPr/>
          </p:nvSpPr>
          <p:spPr>
            <a:xfrm>
              <a:off x="7919640" y="3427560"/>
              <a:ext cx="303480" cy="303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Rectangle 15"/>
            <p:cNvGrpSpPr/>
            <p:nvPr/>
          </p:nvGrpSpPr>
          <p:grpSpPr>
            <a:xfrm>
              <a:off x="5334120" y="4256280"/>
              <a:ext cx="1377720" cy="242640"/>
              <a:chOff x="5334120" y="4256280"/>
              <a:chExt cx="1377720" cy="242640"/>
            </a:xfrm>
          </p:grpSpPr>
          <p:pic>
            <p:nvPicPr>
              <p:cNvPr id="465" name="Rectangle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5334120" y="4256280"/>
                <a:ext cx="137772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>
                <a:off x="5339880" y="4262040"/>
                <a:ext cx="136584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Rectangle 16"/>
            <p:cNvGrpSpPr/>
            <p:nvPr/>
          </p:nvGrpSpPr>
          <p:grpSpPr>
            <a:xfrm>
              <a:off x="7385400" y="4335120"/>
              <a:ext cx="1377720" cy="236520"/>
              <a:chOff x="7385400" y="4335120"/>
              <a:chExt cx="1377720" cy="236520"/>
            </a:xfrm>
          </p:grpSpPr>
          <p:pic>
            <p:nvPicPr>
              <p:cNvPr id="468" name="Rectangle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85400" y="4335120"/>
                <a:ext cx="1377720" cy="2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7388280" y="4338000"/>
                <a:ext cx="136584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0" name="Elbow Connector 17" descr=""/>
            <p:cNvPicPr/>
            <p:nvPr/>
          </p:nvPicPr>
          <p:blipFill>
            <a:blip r:embed="rId11"/>
            <a:stretch/>
          </p:blipFill>
          <p:spPr>
            <a:xfrm>
              <a:off x="6019920" y="4493160"/>
              <a:ext cx="2063520" cy="3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1" name="Oval 18"/>
            <p:cNvGrpSpPr/>
            <p:nvPr/>
          </p:nvGrpSpPr>
          <p:grpSpPr>
            <a:xfrm>
              <a:off x="6851520" y="4790520"/>
              <a:ext cx="467280" cy="467280"/>
              <a:chOff x="6851520" y="4790520"/>
              <a:chExt cx="467280" cy="467280"/>
            </a:xfrm>
          </p:grpSpPr>
          <p:pic>
            <p:nvPicPr>
              <p:cNvPr id="472" name="Oval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51520" y="4790520"/>
                <a:ext cx="467280" cy="46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6924240" y="4860000"/>
                <a:ext cx="3218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Oval 19"/>
            <p:cNvSpPr/>
            <p:nvPr/>
          </p:nvSpPr>
          <p:spPr>
            <a:xfrm>
              <a:off x="5567760" y="3351600"/>
              <a:ext cx="897480" cy="910440"/>
            </a:xfrm>
            <a:prstGeom prst="ellipse">
              <a:avLst/>
            </a:prstGeom>
            <a:solidFill>
              <a:srgbClr val="8dd6c1"/>
            </a:solidFill>
            <a:ln w="15840">
              <a:solidFill>
                <a:srgbClr val="117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23"/>
            <p:cNvSpPr/>
            <p:nvPr/>
          </p:nvSpPr>
          <p:spPr>
            <a:xfrm>
              <a:off x="7919640" y="3275640"/>
              <a:ext cx="15156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24"/>
            <p:cNvSpPr/>
            <p:nvPr/>
          </p:nvSpPr>
          <p:spPr>
            <a:xfrm>
              <a:off x="8071200" y="3275640"/>
              <a:ext cx="15156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25"/>
            <p:cNvSpPr/>
            <p:nvPr/>
          </p:nvSpPr>
          <p:spPr>
            <a:xfrm>
              <a:off x="7919640" y="3124080"/>
              <a:ext cx="15156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26"/>
            <p:cNvSpPr/>
            <p:nvPr/>
          </p:nvSpPr>
          <p:spPr>
            <a:xfrm>
              <a:off x="8071200" y="3124080"/>
              <a:ext cx="151560" cy="15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9" name="Object 7"/>
          <p:cNvGraphicFramePr/>
          <p:nvPr/>
        </p:nvGraphicFramePr>
        <p:xfrm>
          <a:off x="3886200" y="6324480"/>
          <a:ext cx="219384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0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6324480"/>
                    <a:ext cx="2193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Object 28"/>
          <p:cNvGraphicFramePr/>
          <p:nvPr/>
        </p:nvGraphicFramePr>
        <p:xfrm>
          <a:off x="3754440" y="5923080"/>
          <a:ext cx="2386080" cy="401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2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54440" y="5923080"/>
                    <a:ext cx="2386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7:47:30Z</dcterms:created>
  <dc:creator>Zlatan Soskic</dc:creator>
  <dc:description/>
  <dc:language>en-US</dc:language>
  <cp:lastModifiedBy>Zlatan Soskic</cp:lastModifiedBy>
  <dcterms:modified xsi:type="dcterms:W3CDTF">2019-10-06T23:08:25Z</dcterms:modified>
  <cp:revision>186</cp:revision>
  <dc:subject/>
  <dc:title>Jedinice u Fizici</dc:title>
</cp:coreProperties>
</file>