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EF8-9FA1-4D70-80D0-A8CE64D5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B13-08FD-4040-B290-1B15254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1FB-ABD9-452D-9665-39594B9F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00-E5A5-49E5-8F30-F3FAEE90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22BF-AF68-4E1A-9625-E13266E2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FE5-ECC1-42E9-A202-0779CCE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00EA-D617-488D-A604-1E9A34B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CE57-477B-437F-A220-523C848B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4B06-40ED-44DD-943F-8C42C17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F737-410D-452B-AA00-AE31392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9CD7-1060-4E61-BCCE-0D4F049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D45-2C6E-4309-B9F5-F1D32794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00C7-1FFC-4968-9F98-C29578C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DEEF-8CF0-47B9-8848-7EDD2B4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BDA-EC3D-49A1-98D0-D37DA189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05B-21B8-4C34-AB33-DA455AE7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5F01-33E5-4D6E-BE31-B2BD9AFC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FB74-6DCB-4358-B5F8-0587FB8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71B4-F8C0-4355-A85F-2D3E732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57D0-B27F-439E-85EB-00691C0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2660-B7CB-40F3-92AB-F395F8D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D55F-030F-4B8F-A306-C39BF6D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4E2-A9F8-4B45-992E-50E4E81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F2A6-FCBB-4FF5-9BF1-98FEAF5D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4C2E-40D5-44C3-96CE-349DEE6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22C8-99E2-4C3B-853C-066AE1E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F1BB-F7BE-4D4A-8F7F-16BDF5F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A81D-2764-48DD-BB3A-F133A6B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EBF3-5217-4DEB-A0E7-1EF4CD3C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2332-7FAE-443F-96E0-15ED73DB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4A83-098A-44F2-B326-85EC31E1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3A07-A5F3-4A96-9F38-E3F9C7C5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2069-EF77-43DF-91AA-AA632E2D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63F-64AD-4BCF-8A41-81D29BA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2F69-456B-4111-844D-9D970F3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2C53-2986-4309-B1EE-4992E30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DB4F-595F-435C-82BA-651B329B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27D8-0DBD-47D4-BD56-F2198F1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A234-D550-4BAF-BC5F-02564FDE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C224-2BB8-4FD7-B20D-D443607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75CB-F6A4-484E-920C-112646D9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2FC0-9E2C-4C91-8200-30889FBE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276C-7BA2-4B13-AD73-114B8580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2859-4DDE-4FB7-8490-32C62795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D69-47D9-46B1-8DAC-D938026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2AAE-3BF6-4C20-B01A-9B91224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0386-B445-4217-A39E-1082C8D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84C13-A220-48F9-BDB1-0C23608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508D-F1BC-4A12-A41D-509B112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EAD4-0BBB-4E6A-82A6-4A60759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F1B5-3745-4876-B971-C8DD0C2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4E7A-C8C7-46CB-AA59-A66A9B1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F116-0CE8-4A38-BA20-4B79C30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1E03-AF10-4E45-B653-D413FF2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7816-C88B-4F86-8700-B618C13F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4D5-4EF9-41F9-886A-C2137496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8D6C-3CDF-4B0E-A6D8-3444C84D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FF7C-0646-4C0F-B1CB-E907828C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6DA1-DE92-4401-9E46-5AD0462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F3A8-84F8-474D-BE0B-A1D5EEE9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2210D-E202-432E-81EB-E082F6CC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02B3-DC7F-42EB-83ED-8C749B7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CFA8-35CA-4195-AE33-EB60B87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046E-1C36-4FB1-AADB-FA61BD2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17C0-5B7C-4EB6-97CD-478EA15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F454-898C-4E53-A2C8-D15B251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3DA-B331-49A2-AD20-6C750D0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6042-27DF-452A-AB56-7C33CD29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BA73-87A8-46DF-B2D1-60466E59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45BD-2F68-4FE4-94D1-447273F0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D2F-DCAB-4BEB-A224-D7D76F7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819-3CD0-4912-B672-18F8A8F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3FDAF-1647-48F6-9EAB-4EF06FB69B1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3C9AF-3049-46EB-925E-E7B8D26E913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D0385-6A2D-44AA-873A-6E569A4A1E6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23B83-3498-4E6D-9FA5-A0CF48F1408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0B0E0-68C4-4092-BE25-7892EA52670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17EB5-F7E1-4B07-AF51-71043F0BEA4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IZ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KI KO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Koncept sistem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b26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2538360" y="388620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895480" y="49068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1"/>
              <p:cNvSpPr txBox="1"/>
              <p:nvPr/>
            </p:nvSpPr>
            <p:spPr>
              <a:xfrm>
                <a:off x="2743200" y="44449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Line 12"/>
          <p:cNvSpPr/>
          <p:nvPr/>
        </p:nvSpPr>
        <p:spPr>
          <a:xfrm>
            <a:off x="2438280" y="3809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Line 13"/>
          <p:cNvSpPr/>
          <p:nvPr/>
        </p:nvSpPr>
        <p:spPr>
          <a:xfrm flipH="1" flipV="1">
            <a:off x="1523520" y="4343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4"/>
              <p:cNvSpPr txBox="1"/>
              <p:nvPr/>
            </p:nvSpPr>
            <p:spPr>
              <a:xfrm>
                <a:off x="1574640" y="451800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Line 15"/>
          <p:cNvSpPr/>
          <p:nvPr/>
        </p:nvSpPr>
        <p:spPr>
          <a:xfrm flipH="1">
            <a:off x="3048120" y="5181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6"/>
              <p:cNvSpPr txBox="1"/>
              <p:nvPr/>
            </p:nvSpPr>
            <p:spPr>
              <a:xfrm>
                <a:off x="2819520" y="2314440"/>
                <a:ext cx="5959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Text Box 17"/>
          <p:cNvSpPr/>
          <p:nvPr/>
        </p:nvSpPr>
        <p:spPr>
          <a:xfrm>
            <a:off x="4038480" y="4191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visi od izbora koord. sist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4191120" y="48769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boratorijski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stem CM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1"/>
              <p:cNvSpPr txBox="1"/>
              <p:nvPr/>
            </p:nvSpPr>
            <p:spPr>
              <a:xfrm>
                <a:off x="2209680" y="48769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Line 20"/>
          <p:cNvSpPr/>
          <p:nvPr/>
        </p:nvSpPr>
        <p:spPr>
          <a:xfrm flipH="1">
            <a:off x="243792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Oval 22"/>
          <p:cNvSpPr/>
          <p:nvPr/>
        </p:nvSpPr>
        <p:spPr>
          <a:xfrm>
            <a:off x="2743200" y="4403880"/>
            <a:ext cx="92160" cy="91800"/>
          </a:xfrm>
          <a:prstGeom prst="ellipse">
            <a:avLst/>
          </a:prstGeom>
          <a:solidFill>
            <a:srgbClr val="b26b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3651120" y="3276720"/>
                <a:ext cx="1928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Line 5"/>
          <p:cNvSpPr/>
          <p:nvPr/>
        </p:nvSpPr>
        <p:spPr>
          <a:xfrm flipH="1">
            <a:off x="380952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Line 6"/>
          <p:cNvSpPr/>
          <p:nvPr/>
        </p:nvSpPr>
        <p:spPr>
          <a:xfrm>
            <a:off x="5562720" y="3581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167840" y="4441680"/>
            <a:ext cx="3481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CM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sistema kao cel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962240" y="4114800"/>
            <a:ext cx="3332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e kretan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u odnosu na C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TRANSLATOR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 svakom trenutku sve komponente imaju međusobno jednake brz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ROTACIO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Brzine svih tačaka leže u ravnima normalnim na osu rotacije, a intenziteti brzina su proporcionalni rastojanju od ose rotac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KOMBINOVA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144792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274320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419112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2819520" y="5486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37160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480060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09588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10"/>
          <p:cNvSpPr/>
          <p:nvPr/>
        </p:nvSpPr>
        <p:spPr>
          <a:xfrm rot="5400000">
            <a:off x="7543440" y="41911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AutoShape 11"/>
          <p:cNvSpPr/>
          <p:nvPr/>
        </p:nvSpPr>
        <p:spPr>
          <a:xfrm rot="10800000">
            <a:off x="6171840" y="54860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AutoShape 12"/>
          <p:cNvSpPr/>
          <p:nvPr/>
        </p:nvSpPr>
        <p:spPr>
          <a:xfrm rot="16200000">
            <a:off x="4724280" y="41907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1337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lator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55627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otacio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LIČINA KRETAN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1498680" y="3249720"/>
                <a:ext cx="18748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3687840" y="3252960"/>
                <a:ext cx="18493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5946840" y="3252960"/>
                <a:ext cx="987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3851280" y="40147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OLIČINA KRETAN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762120" y="2286000"/>
                <a:ext cx="838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851040" y="4648320"/>
                <a:ext cx="79754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838080" y="3559320"/>
                <a:ext cx="450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1989000" y="54100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INETIČKA ENERGI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958680" y="2286000"/>
                <a:ext cx="781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1271520" y="3251160"/>
                <a:ext cx="512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5"/>
              <p:cNvSpPr txBox="1"/>
              <p:nvPr/>
            </p:nvSpPr>
            <p:spPr>
              <a:xfrm>
                <a:off x="1273320" y="408924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1500120" y="500364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INETIČKA ENERGI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335400" y="2438280"/>
                <a:ext cx="2074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790640" y="3403440"/>
                <a:ext cx="18781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5"/>
              <p:cNvSpPr txBox="1"/>
              <p:nvPr/>
            </p:nvSpPr>
            <p:spPr>
              <a:xfrm>
                <a:off x="6019920" y="3352680"/>
                <a:ext cx="193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3" name="Line 6"/>
          <p:cNvSpPr/>
          <p:nvPr/>
        </p:nvSpPr>
        <p:spPr>
          <a:xfrm flipH="1">
            <a:off x="297144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Freeform 7"/>
          <p:cNvSpPr/>
          <p:nvPr/>
        </p:nvSpPr>
        <p:spPr>
          <a:xfrm>
            <a:off x="5181480" y="3048120"/>
            <a:ext cx="1143000" cy="457200"/>
          </a:xfrm>
          <a:custGeom>
            <a:avLst/>
            <a:gdLst/>
            <a:ahLst/>
            <a:rect l="l" t="t" r="r" b="b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371600" y="419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44792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kretanja sistema kao cel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5715000" y="426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unutrašnje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TENCIJALNA ENERGI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3238560" y="3489480"/>
                <a:ext cx="2268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Line 6"/>
          <p:cNvSpPr/>
          <p:nvPr/>
        </p:nvSpPr>
        <p:spPr>
          <a:xfrm flipH="1">
            <a:off x="2971440" y="3962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Freeform 7"/>
          <p:cNvSpPr/>
          <p:nvPr/>
        </p:nvSpPr>
        <p:spPr>
          <a:xfrm>
            <a:off x="5029200" y="3962520"/>
            <a:ext cx="1143000" cy="457200"/>
          </a:xfrm>
          <a:custGeom>
            <a:avLst/>
            <a:gdLst/>
            <a:ahLst/>
            <a:rect l="l" t="t" r="r" b="b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4479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interakcije sa okolino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556272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međuso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erak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1"/>
              <p:cNvSpPr txBox="1"/>
              <p:nvPr/>
            </p:nvSpPr>
            <p:spPr>
              <a:xfrm>
                <a:off x="1743120" y="2438280"/>
                <a:ext cx="51148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UKUPNA ENERGIJ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743200" y="3489480"/>
                <a:ext cx="297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Freeform 5"/>
          <p:cNvSpPr/>
          <p:nvPr/>
        </p:nvSpPr>
        <p:spPr>
          <a:xfrm>
            <a:off x="5562720" y="3962520"/>
            <a:ext cx="1143000" cy="457200"/>
          </a:xfrm>
          <a:custGeom>
            <a:avLst/>
            <a:gdLst/>
            <a:ahLst/>
            <a:rect l="l" t="t" r="r" b="b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609588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0"/>
              <p:cNvSpPr txBox="1"/>
              <p:nvPr/>
            </p:nvSpPr>
            <p:spPr>
              <a:xfrm>
                <a:off x="1752480" y="2362320"/>
                <a:ext cx="52372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JAM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kup tela koja zadovoljavaju neki kriterij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ostojanje nekih interakci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stojanje m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đu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el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la koja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e sistem 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komponen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kolina sistema – tela koja ne pripadaju sistem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905120" y="4638600"/>
            <a:ext cx="5410080" cy="1622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 koji ne interaguje sa okolinom naziva se </a:t>
            </a:r>
            <a:r>
              <a:rPr b="1" lang="hr-HR" sz="2400" spc="-1" strike="noStrike">
                <a:solidFill>
                  <a:srgbClr val="b26b02"/>
                </a:solidFill>
                <a:latin typeface="Times New Roman"/>
              </a:rPr>
              <a:t>IZOLOVAN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i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040" y="2362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izičk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Masa, energija, 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Koncentracija, gustina, 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ditivne veličine: zbir veličina koje opisuju komponen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datak: odrediti svojstva sistema kada se poznaju svojstva komponenti i obrnut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PREMIN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eo prostora koji sistem obuhva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Text Box 1028"/>
          <p:cNvSpPr/>
          <p:nvPr/>
        </p:nvSpPr>
        <p:spPr>
          <a:xfrm>
            <a:off x="2666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ASA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Aditivna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2235240" y="37018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2119320" y="4768920"/>
                <a:ext cx="406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2881440" y="49068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1"/>
              <p:cNvSpPr txBox="1"/>
              <p:nvPr/>
            </p:nvSpPr>
            <p:spPr>
              <a:xfrm>
                <a:off x="3354480" y="2895480"/>
                <a:ext cx="3198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4952880" y="4191120"/>
                <a:ext cx="2486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CENTAR MAS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pisivanje položaja siste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378160" y="311148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3413160" y="3095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4435560" y="4330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2362320" y="4330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3413160" y="3857760"/>
            <a:ext cx="92160" cy="91800"/>
          </a:xfrm>
          <a:prstGeom prst="ellipse">
            <a:avLst/>
          </a:prstGeom>
          <a:solidFill>
            <a:srgbClr val="b26b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"/>
              <p:cNvSpPr txBox="1"/>
              <p:nvPr/>
            </p:nvSpPr>
            <p:spPr>
              <a:xfrm>
                <a:off x="3032280" y="288288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4619520" y="415908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2"/>
              <p:cNvSpPr txBox="1"/>
              <p:nvPr/>
            </p:nvSpPr>
            <p:spPr>
              <a:xfrm>
                <a:off x="1876320" y="41148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AutoShape 13"/>
          <p:cNvSpPr/>
          <p:nvPr/>
        </p:nvSpPr>
        <p:spPr>
          <a:xfrm>
            <a:off x="2378160" y="490536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Oval 14"/>
          <p:cNvSpPr/>
          <p:nvPr/>
        </p:nvSpPr>
        <p:spPr>
          <a:xfrm>
            <a:off x="3352680" y="487692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Oval 15"/>
          <p:cNvSpPr/>
          <p:nvPr/>
        </p:nvSpPr>
        <p:spPr>
          <a:xfrm>
            <a:off x="4511520" y="61246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Oval 16"/>
          <p:cNvSpPr/>
          <p:nvPr/>
        </p:nvSpPr>
        <p:spPr>
          <a:xfrm>
            <a:off x="2362320" y="61246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Oval 17"/>
          <p:cNvSpPr/>
          <p:nvPr/>
        </p:nvSpPr>
        <p:spPr>
          <a:xfrm>
            <a:off x="3413160" y="5181480"/>
            <a:ext cx="92160" cy="92160"/>
          </a:xfrm>
          <a:prstGeom prst="ellipse">
            <a:avLst/>
          </a:prstGeom>
          <a:solidFill>
            <a:srgbClr val="b26b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8"/>
              <p:cNvSpPr txBox="1"/>
              <p:nvPr/>
            </p:nvSpPr>
            <p:spPr>
              <a:xfrm>
                <a:off x="3565440" y="4724280"/>
                <a:ext cx="563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9"/>
              <p:cNvSpPr txBox="1"/>
              <p:nvPr/>
            </p:nvSpPr>
            <p:spPr>
              <a:xfrm>
                <a:off x="4619520" y="595296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0"/>
              <p:cNvSpPr txBox="1"/>
              <p:nvPr/>
            </p:nvSpPr>
            <p:spPr>
              <a:xfrm>
                <a:off x="1828800" y="59562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4" name="Line 21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Freeform 22"/>
          <p:cNvSpPr/>
          <p:nvPr/>
        </p:nvSpPr>
        <p:spPr>
          <a:xfrm>
            <a:off x="987480" y="4719600"/>
            <a:ext cx="3736800" cy="6480"/>
          </a:xfrm>
          <a:custGeom>
            <a:avLst/>
            <a:gdLst/>
            <a:ahLst/>
            <a:rect l="l" t="t" r="r" b="b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96" name="AutoShape 23"/>
          <p:cNvCxnSpPr>
            <a:stCxn id="295" idx="0"/>
            <a:endCxn id="281" idx="3"/>
          </p:cNvCxnSpPr>
          <p:nvPr/>
        </p:nvCxnSpPr>
        <p:spPr>
          <a:xfrm flipV="1">
            <a:off x="987480" y="4409640"/>
            <a:ext cx="1388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AutoShape 24"/>
          <p:cNvCxnSpPr>
            <a:stCxn id="295" idx="0"/>
            <a:endCxn id="278" idx="4"/>
          </p:cNvCxnSpPr>
          <p:nvPr/>
        </p:nvCxnSpPr>
        <p:spPr>
          <a:xfrm flipV="1">
            <a:off x="987120" y="4406040"/>
            <a:ext cx="35247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AutoShape 25"/>
          <p:cNvCxnSpPr>
            <a:stCxn id="295" idx="0"/>
            <a:endCxn id="278" idx="0"/>
          </p:cNvCxnSpPr>
          <p:nvPr/>
        </p:nvCxnSpPr>
        <p:spPr>
          <a:xfrm flipV="1">
            <a:off x="987480" y="3110760"/>
            <a:ext cx="2458080" cy="16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AutoShape 26"/>
          <p:cNvCxnSpPr>
            <a:stCxn id="295" idx="0"/>
            <a:endCxn id="282" idx="0"/>
          </p:cNvCxnSpPr>
          <p:nvPr/>
        </p:nvCxnSpPr>
        <p:spPr>
          <a:xfrm flipV="1">
            <a:off x="987480" y="3857400"/>
            <a:ext cx="24724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0" name="Object 27"/>
              <p:cNvSpPr txBox="1"/>
              <p:nvPr/>
            </p:nvSpPr>
            <p:spPr>
              <a:xfrm>
                <a:off x="3352680" y="3962520"/>
                <a:ext cx="586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8"/>
              <p:cNvSpPr txBox="1"/>
              <p:nvPr/>
            </p:nvSpPr>
            <p:spPr>
              <a:xfrm>
                <a:off x="3276720" y="53593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3"/>
              <p:cNvSpPr txBox="1"/>
              <p:nvPr/>
            </p:nvSpPr>
            <p:spPr>
              <a:xfrm>
                <a:off x="5562720" y="3232080"/>
                <a:ext cx="2028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4"/>
              <p:cNvSpPr txBox="1"/>
              <p:nvPr/>
            </p:nvSpPr>
            <p:spPr>
              <a:xfrm>
                <a:off x="5106960" y="5105520"/>
                <a:ext cx="294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CENTAR MAS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2057400" y="414036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2435400" y="3219480"/>
                <a:ext cx="384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8"/>
              <p:cNvSpPr txBox="1"/>
              <p:nvPr/>
            </p:nvSpPr>
            <p:spPr>
              <a:xfrm>
                <a:off x="2108160" y="403848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/>
            <a:ahLst/>
            <a:rect l="l" t="t" r="r" b="b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14" name="AutoShape 17"/>
          <p:cNvCxnSpPr>
            <a:stCxn id="313" idx="0"/>
            <a:endCxn id="306" idx="3"/>
          </p:cNvCxnSpPr>
          <p:nvPr/>
        </p:nvCxnSpPr>
        <p:spPr>
          <a:xfrm flipV="1">
            <a:off x="987120" y="4218840"/>
            <a:ext cx="108324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19"/>
          <p:cNvCxnSpPr>
            <a:stCxn id="313" idx="0"/>
            <a:endCxn id="307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AutoShape 20"/>
          <p:cNvCxnSpPr>
            <a:stCxn id="313" idx="0"/>
            <a:endCxn id="308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7" name="Object 24"/>
              <p:cNvSpPr txBox="1"/>
              <p:nvPr/>
            </p:nvSpPr>
            <p:spPr>
              <a:xfrm>
                <a:off x="4803840" y="2438280"/>
                <a:ext cx="3549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5"/>
              <p:cNvSpPr txBox="1"/>
              <p:nvPr/>
            </p:nvSpPr>
            <p:spPr>
              <a:xfrm>
                <a:off x="5715000" y="3451320"/>
                <a:ext cx="170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26"/>
          <p:cNvSpPr/>
          <p:nvPr/>
        </p:nvSpPr>
        <p:spPr>
          <a:xfrm>
            <a:off x="5105520" y="4898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ar mase ne zavisi od izbora koord. sist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Oval 27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b26b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Line 28"/>
          <p:cNvSpPr/>
          <p:nvPr/>
        </p:nvSpPr>
        <p:spPr>
          <a:xfrm flipV="1">
            <a:off x="990720" y="4228920"/>
            <a:ext cx="1879560" cy="14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CENTAR MASE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LO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ŽAJ SISTE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1cade4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2209680" y="28414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/>
            <a:ahLst/>
            <a:rect l="l" t="t" r="r" b="b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666880" y="4038480"/>
            <a:ext cx="92160" cy="92160"/>
          </a:xfrm>
          <a:prstGeom prst="ellipse">
            <a:avLst/>
          </a:prstGeom>
          <a:solidFill>
            <a:srgbClr val="b26b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33" name="AutoShape 16"/>
          <p:cNvCxnSpPr>
            <a:stCxn id="331" idx="0"/>
            <a:endCxn id="326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4" name="AutoShape 17"/>
          <p:cNvCxnSpPr>
            <a:stCxn id="331" idx="0"/>
            <a:endCxn id="327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35" name="AutoShape 18"/>
          <p:cNvCxnSpPr>
            <a:stCxn id="331" idx="0"/>
            <a:endCxn id="332" idx="3"/>
          </p:cNvCxnSpPr>
          <p:nvPr/>
        </p:nvCxnSpPr>
        <p:spPr>
          <a:xfrm flipV="1">
            <a:off x="987120" y="4117320"/>
            <a:ext cx="169308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AutoShape 21"/>
          <p:cNvCxnSpPr>
            <a:stCxn id="332" idx="0"/>
            <a:endCxn id="326" idx="5"/>
          </p:cNvCxnSpPr>
          <p:nvPr/>
        </p:nvCxnSpPr>
        <p:spPr>
          <a:xfrm flipH="1" flipV="1">
            <a:off x="2441160" y="3330360"/>
            <a:ext cx="27216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37" name="Object 22"/>
              <p:cNvSpPr txBox="1"/>
              <p:nvPr/>
            </p:nvSpPr>
            <p:spPr>
              <a:xfrm>
                <a:off x="2590920" y="3413160"/>
                <a:ext cx="347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38" name="AutoShape 26"/>
          <p:cNvCxnSpPr>
            <a:stCxn id="332" idx="5"/>
            <a:endCxn id="327" idx="1"/>
          </p:cNvCxnSpPr>
          <p:nvPr/>
        </p:nvCxnSpPr>
        <p:spPr>
          <a:xfrm>
            <a:off x="2746440" y="4117680"/>
            <a:ext cx="6037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39" name="Object 27"/>
              <p:cNvSpPr txBox="1"/>
              <p:nvPr/>
            </p:nvSpPr>
            <p:spPr>
              <a:xfrm>
                <a:off x="2954160" y="3949560"/>
                <a:ext cx="424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8"/>
              <p:cNvSpPr txBox="1"/>
              <p:nvPr/>
            </p:nvSpPr>
            <p:spPr>
              <a:xfrm>
                <a:off x="5326200" y="3244680"/>
                <a:ext cx="189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9"/>
              <p:cNvSpPr txBox="1"/>
              <p:nvPr/>
            </p:nvSpPr>
            <p:spPr>
              <a:xfrm>
                <a:off x="1930320" y="434340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0"/>
              <p:cNvSpPr txBox="1"/>
              <p:nvPr/>
            </p:nvSpPr>
            <p:spPr>
              <a:xfrm>
                <a:off x="1981080" y="365760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1"/>
              <p:cNvSpPr txBox="1"/>
              <p:nvPr/>
            </p:nvSpPr>
            <p:spPr>
              <a:xfrm>
                <a:off x="2895480" y="464832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2"/>
              <p:cNvSpPr txBox="1"/>
              <p:nvPr/>
            </p:nvSpPr>
            <p:spPr>
              <a:xfrm>
                <a:off x="2438280" y="4267080"/>
                <a:ext cx="586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43:05Z</dcterms:created>
  <dc:creator>Zlatan Soskic</dc:creator>
  <dc:description/>
  <dc:language>en-US</dc:language>
  <cp:lastModifiedBy>Zlatan Soskic</cp:lastModifiedBy>
  <dcterms:modified xsi:type="dcterms:W3CDTF">2019-10-21T13:08:15Z</dcterms:modified>
  <cp:revision>213</cp:revision>
  <dc:subject/>
  <dc:title>Fizički koncepti</dc:title>
</cp:coreProperties>
</file>