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1C207-CA52-42B4-9DE6-159B822F6695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40991-DA36-4B19-BC8B-9773563FEA4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0BA65-E91D-4C75-B72C-C455A4ACE79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E99B0-5A6E-4775-BCB0-B32855C0E0D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256-BAA1-4AC8-9041-89B89079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E11-493C-48B1-A0D0-6D375AAD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0F8-5873-4129-823F-92859750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F7F-2FBE-43A6-A7F8-96629450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550B-E48F-494C-B7DA-CAADDCCA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889E-B5D3-422C-AF9D-CC6D8034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49A6-546D-42AE-B972-5FB1CD7A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3A86-8A63-41F4-BD29-B174811F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A483-DBB6-4168-8486-4ACE0222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E689-F807-4A35-9BCA-FBFB0E88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791E-D00E-4267-B2DC-A7B3FC4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9D4-2614-4B7D-B3F1-FF048259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B75E-AB2D-41D7-A318-7D5FBDF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F024-9F79-4FF0-9BF1-1A974350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C0DB-9ACA-4A6D-8BFA-7913AFF0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A674-07B4-453E-BCF6-21D8C397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2E69-D4DC-4F07-8A46-33E059D3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C228-400A-4553-91D9-EDEE84F2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97EA-BD87-476A-8F0A-83EB2E5C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0F09-FCD5-4AB7-9A3C-C9F5AB31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4D08A-3C9E-4E3B-BCEF-CB1384B7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EC99-5031-4B69-9608-79C2AFEA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F46-6A25-4517-8E76-B9C5CF6C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CD7A-2C33-43F5-AB3B-BD1C4398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139A-D9DF-4FD6-AE67-5101051B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810F-5F86-49CB-B372-6AB6124C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1525-7C01-46C3-8CAB-C158F1B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79A1-1AE1-43BC-AAAE-98F0FACA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EB92-E0C1-4029-8ACB-045410B8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70D5-F53B-4CAF-B4B7-15F2D831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C091-67A7-4528-95B5-F3F93A93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A91D-CBDB-49BD-8AB6-00202353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2FBC-39A7-4C81-8194-A728C95C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20B-7C54-4991-9159-8EDB3E0F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1816-78D5-4B21-9B24-5E444579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4C9EA-6C89-4ADB-A0F5-110125D9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1375-BDE9-48D8-8CFB-78B0A034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2D2B-33E3-4A52-8843-91AB7AC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5C3C-C999-4D04-8BA8-1DEAC98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F9F9-CF90-4B4C-B4FA-E0B56EDB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F6FE-A403-4390-8E47-D776611A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F237-A45C-4840-9682-B0CBB3A0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5A78-4637-4BC9-8CF6-95694B7F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1142B-86C3-4D58-8E43-A85B3EC4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3AE-83CB-448C-A702-0BE63019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15BB-8888-4EB8-82AA-4895D27B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C707A-CBDB-4513-ABBB-E0142CF5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BE78-9EC3-496B-93B6-07631983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1E729-1A6B-4837-A630-520930F9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9912-14AA-485D-B673-3617440D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8A6B-A917-4F59-AF12-B42FD70C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6F16-C99F-456F-947C-117459A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A85DB-A1FB-40D9-BFC9-4E61C4A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38F5F-6801-46F6-9300-213BF622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F9C1-E5C9-403E-8011-DFD8DF3B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87B-9350-48BF-8A93-4CBEA280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159CC-89EA-4E06-88A1-5394B98A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9A3CA-D575-445A-8684-577E54FB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B1975-808A-483F-8BD9-1A4E23D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D7EEF-351E-404D-B2F9-30C4BE37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57ABC-DF1A-4A3E-AD50-BE7E0F79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DBEAD-0ABD-43A4-A682-7FE01288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D815-0CAC-41A7-95B3-B04906F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02FB-9CE5-4294-A94E-76852955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4738-ECD3-40C9-A629-B7D10699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885B4-8AF8-4C3B-8314-8DE1E26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750-6180-47FD-A40E-A914F7DB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093F-BCC8-494E-8D51-3F5AD605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1FBF-54CD-4652-A08A-9AD9FBBC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F1AE5-3C8C-4265-9E94-F054DF02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8E4-EB86-4BE1-9AB2-D85790B5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6F1-CE29-426F-980F-3A6FD13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FF466-9980-4379-A5D0-352FA87B0BF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E8539-71A5-4FAD-879F-D01C45CAFA3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4AEBA-5ED1-4A52-9E28-234CCA335F7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84832-A7F9-4DAD-8A1E-75E5CC80A44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580FA-32C0-4E8B-9505-E213A8009F1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7A555-1CB2-4A10-9A04-DB377C62106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I KONCEPT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Fizičke veličin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E VELIČ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12408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198960" y="2440080"/>
            <a:ext cx="2363760" cy="836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Line 5"/>
          <p:cNvSpPr/>
          <p:nvPr/>
        </p:nvSpPr>
        <p:spPr>
          <a:xfrm flipH="1">
            <a:off x="2666520" y="3276720"/>
            <a:ext cx="1676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90720" y="3962520"/>
            <a:ext cx="3657600" cy="1291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kalar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isuju se jednim broj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5105520" y="3897360"/>
            <a:ext cx="3657600" cy="1413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ektor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isuju se sa više brojev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Line 8"/>
          <p:cNvSpPr/>
          <p:nvPr/>
        </p:nvSpPr>
        <p:spPr>
          <a:xfrm>
            <a:off x="4343400" y="3276720"/>
            <a:ext cx="25909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EKTOR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392436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45720" rIns="45720" anchor="t">
            <a:normAutofit/>
          </a:bodyPr>
          <a:p>
            <a:pPr marL="9036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irod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tenzitet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pozitiva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ava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m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90680" y="2514600"/>
            <a:ext cx="392436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45720" rIns="45720" anchor="t">
            <a:normAutofit/>
          </a:bodyPr>
          <a:p>
            <a:pPr marL="9036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Koordinat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avougaone (Dekartov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6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6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6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lar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EKTORI NA PRAVCU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2462040" y="242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Line 19"/>
          <p:cNvSpPr/>
          <p:nvPr/>
        </p:nvSpPr>
        <p:spPr>
          <a:xfrm flipH="1">
            <a:off x="5586480" y="3720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Line 20"/>
          <p:cNvSpPr/>
          <p:nvPr/>
        </p:nvSpPr>
        <p:spPr>
          <a:xfrm>
            <a:off x="2386080" y="3187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Line 21"/>
          <p:cNvSpPr/>
          <p:nvPr/>
        </p:nvSpPr>
        <p:spPr>
          <a:xfrm>
            <a:off x="2462040" y="242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Line 22"/>
          <p:cNvSpPr/>
          <p:nvPr/>
        </p:nvSpPr>
        <p:spPr>
          <a:xfrm>
            <a:off x="3757680" y="3111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3"/>
              <p:cNvSpPr txBox="1"/>
              <p:nvPr/>
            </p:nvSpPr>
            <p:spPr>
              <a:xfrm>
                <a:off x="3224160" y="2349360"/>
                <a:ext cx="43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1" name="Line 24"/>
          <p:cNvSpPr/>
          <p:nvPr/>
        </p:nvSpPr>
        <p:spPr>
          <a:xfrm>
            <a:off x="4367160" y="242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Line 25"/>
          <p:cNvSpPr/>
          <p:nvPr/>
        </p:nvSpPr>
        <p:spPr>
          <a:xfrm flipV="1">
            <a:off x="5586480" y="3187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Line 26"/>
          <p:cNvSpPr/>
          <p:nvPr/>
        </p:nvSpPr>
        <p:spPr>
          <a:xfrm flipV="1">
            <a:off x="6500880" y="3187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27"/>
              <p:cNvSpPr txBox="1"/>
              <p:nvPr/>
            </p:nvSpPr>
            <p:spPr>
              <a:xfrm>
                <a:off x="5865840" y="3720960"/>
                <a:ext cx="4824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85" name="Object 28"/>
          <p:cNvGraphicFramePr/>
          <p:nvPr/>
        </p:nvGraphicFramePr>
        <p:xfrm>
          <a:off x="1257480" y="4365720"/>
          <a:ext cx="374148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4365720"/>
                    <a:ext cx="374148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7" name="Object 29"/>
              <p:cNvSpPr txBox="1"/>
              <p:nvPr/>
            </p:nvSpPr>
            <p:spPr>
              <a:xfrm>
                <a:off x="7491240" y="2946240"/>
                <a:ext cx="433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8" name="Object 1"/>
          <p:cNvGraphicFramePr/>
          <p:nvPr/>
        </p:nvGraphicFramePr>
        <p:xfrm>
          <a:off x="5418000" y="4486320"/>
          <a:ext cx="3202200" cy="17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8000" y="4486320"/>
                    <a:ext cx="320220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2"/>
          <p:cNvGraphicFramePr/>
          <p:nvPr/>
        </p:nvGraphicFramePr>
        <p:xfrm>
          <a:off x="6227640" y="6237360"/>
          <a:ext cx="9194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6237360"/>
                    <a:ext cx="919440" cy="444600"/>
                  </a:xfrm>
                  <a:prstGeom prst="rect">
                    <a:avLst/>
                  </a:prstGeom>
                  <a:ln w="28440">
                    <a:solidFill>
                      <a:srgbClr val="c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EKTORI U RAVN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3" name="Line 23"/>
          <p:cNvSpPr/>
          <p:nvPr/>
        </p:nvSpPr>
        <p:spPr>
          <a:xfrm flipV="1">
            <a:off x="5105520" y="3962520"/>
            <a:ext cx="1828800" cy="156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4876920" y="55278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6"/>
              <p:cNvSpPr txBox="1"/>
              <p:nvPr/>
            </p:nvSpPr>
            <p:spPr>
              <a:xfrm>
                <a:off x="5791320" y="4191120"/>
                <a:ext cx="433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6" name="Line 28"/>
          <p:cNvSpPr/>
          <p:nvPr/>
        </p:nvSpPr>
        <p:spPr>
          <a:xfrm flipV="1">
            <a:off x="5105520" y="30128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9"/>
              <p:cNvSpPr txBox="1"/>
              <p:nvPr/>
            </p:nvSpPr>
            <p:spPr>
              <a:xfrm>
                <a:off x="8585280" y="5562720"/>
                <a:ext cx="253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0"/>
              <p:cNvSpPr txBox="1"/>
              <p:nvPr/>
            </p:nvSpPr>
            <p:spPr>
              <a:xfrm>
                <a:off x="4800600" y="3022560"/>
                <a:ext cx="27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Line 31"/>
          <p:cNvSpPr/>
          <p:nvPr/>
        </p:nvSpPr>
        <p:spPr>
          <a:xfrm>
            <a:off x="6934320" y="3962520"/>
            <a:ext cx="0" cy="156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510552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01" name="Object 36"/>
          <p:cNvGraphicFramePr/>
          <p:nvPr/>
        </p:nvGraphicFramePr>
        <p:xfrm>
          <a:off x="5532480" y="5070600"/>
          <a:ext cx="38736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2480" y="5070600"/>
                    <a:ext cx="387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7"/>
          <p:cNvGraphicFramePr/>
          <p:nvPr/>
        </p:nvGraphicFramePr>
        <p:xfrm>
          <a:off x="1158840" y="3147840"/>
          <a:ext cx="2416320" cy="26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8840" y="3147840"/>
                    <a:ext cx="2416320" cy="2606760"/>
                  </a:xfrm>
                  <a:prstGeom prst="rect">
                    <a:avLst/>
                  </a:prstGeom>
                  <a:ln w="25560">
                    <a:solidFill>
                      <a:srgbClr val="6b9f25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5" name="Object 38"/>
              <p:cNvSpPr txBox="1"/>
              <p:nvPr/>
            </p:nvSpPr>
            <p:spPr>
              <a:xfrm>
                <a:off x="6732720" y="556272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9"/>
              <p:cNvSpPr txBox="1"/>
              <p:nvPr/>
            </p:nvSpPr>
            <p:spPr>
              <a:xfrm>
                <a:off x="4792680" y="3716280"/>
                <a:ext cx="355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7" name="Arc 1"/>
          <p:cNvSpPr/>
          <p:nvPr/>
        </p:nvSpPr>
        <p:spPr>
          <a:xfrm>
            <a:off x="4017960" y="4602240"/>
            <a:ext cx="2166840" cy="1873080"/>
          </a:xfrm>
          <a:custGeom>
            <a:avLst/>
            <a:gdLst/>
            <a:ahLst/>
            <a:rect l="l" t="t" r="r" b="b"/>
            <a:pathLst>
              <a:path stroke="0" w="2166937" h="1873250">
                <a:moveTo>
                  <a:pt x="1083468" y="0"/>
                </a:moveTo>
                <a:cubicBezTo>
                  <a:pt x="1681851" y="0"/>
                  <a:pt x="2166937" y="419341"/>
                  <a:pt x="2166937" y="936625"/>
                </a:cubicBezTo>
                <a:lnTo>
                  <a:pt x="1083469" y="936625"/>
                </a:lnTo>
                <a:cubicBezTo>
                  <a:pt x="1083469" y="624417"/>
                  <a:pt x="1083468" y="312208"/>
                  <a:pt x="1083468" y="0"/>
                </a:cubicBezTo>
                <a:close/>
              </a:path>
              <a:path fill="none" w="2166937" h="1873250">
                <a:moveTo>
                  <a:pt x="1083468" y="0"/>
                </a:moveTo>
                <a:cubicBezTo>
                  <a:pt x="1681851" y="0"/>
                  <a:pt x="2166937" y="419341"/>
                  <a:pt x="2166937" y="93662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08" name="Object 2"/>
          <p:cNvGraphicFramePr/>
          <p:nvPr/>
        </p:nvGraphicFramePr>
        <p:xfrm>
          <a:off x="5192640" y="4711680"/>
          <a:ext cx="38736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2640" y="4711680"/>
                    <a:ext cx="3873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EKTORI U RAVN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1" name="Line 16"/>
          <p:cNvSpPr/>
          <p:nvPr/>
        </p:nvSpPr>
        <p:spPr>
          <a:xfrm flipV="1">
            <a:off x="5105520" y="441936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Line 17"/>
          <p:cNvSpPr/>
          <p:nvPr/>
        </p:nvSpPr>
        <p:spPr>
          <a:xfrm flipH="1">
            <a:off x="6934320" y="32004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4876920" y="5029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9"/>
              <p:cNvSpPr txBox="1"/>
              <p:nvPr/>
            </p:nvSpPr>
            <p:spPr>
              <a:xfrm>
                <a:off x="5967360" y="4495680"/>
                <a:ext cx="43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0"/>
              <p:cNvSpPr txBox="1"/>
              <p:nvPr/>
            </p:nvSpPr>
            <p:spPr>
              <a:xfrm>
                <a:off x="6934320" y="3505320"/>
                <a:ext cx="4824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6" name="Line 21"/>
          <p:cNvSpPr/>
          <p:nvPr/>
        </p:nvSpPr>
        <p:spPr>
          <a:xfrm flipV="1">
            <a:off x="5105520" y="25142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2"/>
              <p:cNvSpPr txBox="1"/>
              <p:nvPr/>
            </p:nvSpPr>
            <p:spPr>
              <a:xfrm>
                <a:off x="8534520" y="5105520"/>
                <a:ext cx="433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3"/>
              <p:cNvSpPr txBox="1"/>
              <p:nvPr/>
            </p:nvSpPr>
            <p:spPr>
              <a:xfrm>
                <a:off x="4548240" y="2514600"/>
                <a:ext cx="482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Line 24"/>
          <p:cNvSpPr/>
          <p:nvPr/>
        </p:nvSpPr>
        <p:spPr>
          <a:xfrm>
            <a:off x="6934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Line 25"/>
          <p:cNvSpPr/>
          <p:nvPr/>
        </p:nvSpPr>
        <p:spPr>
          <a:xfrm>
            <a:off x="739152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Line 26"/>
          <p:cNvSpPr/>
          <p:nvPr/>
        </p:nvSpPr>
        <p:spPr>
          <a:xfrm flipH="1">
            <a:off x="510552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Line 27"/>
          <p:cNvSpPr/>
          <p:nvPr/>
        </p:nvSpPr>
        <p:spPr>
          <a:xfrm flipH="1">
            <a:off x="5105520" y="3200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0"/>
              <p:cNvSpPr txBox="1"/>
              <p:nvPr/>
            </p:nvSpPr>
            <p:spPr>
              <a:xfrm>
                <a:off x="932040" y="4402080"/>
                <a:ext cx="50115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,1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,2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,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Line 31"/>
          <p:cNvSpPr/>
          <p:nvPr/>
        </p:nvSpPr>
        <p:spPr>
          <a:xfrm flipV="1">
            <a:off x="5105520" y="3200400"/>
            <a:ext cx="2286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32"/>
              <p:cNvSpPr txBox="1"/>
              <p:nvPr/>
            </p:nvSpPr>
            <p:spPr>
              <a:xfrm>
                <a:off x="5340240" y="3375000"/>
                <a:ext cx="1212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EKTORI</a:t>
            </a: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 U PROSTORU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7" name="Line 7"/>
          <p:cNvSpPr/>
          <p:nvPr/>
        </p:nvSpPr>
        <p:spPr>
          <a:xfrm flipV="1">
            <a:off x="2819520" y="365724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1143000" y="4800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9"/>
              <p:cNvSpPr txBox="1"/>
              <p:nvPr/>
            </p:nvSpPr>
            <p:spPr>
              <a:xfrm>
                <a:off x="3048120" y="3962520"/>
                <a:ext cx="433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0" name="Line 10"/>
          <p:cNvSpPr/>
          <p:nvPr/>
        </p:nvSpPr>
        <p:spPr>
          <a:xfrm flipV="1">
            <a:off x="281952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1"/>
              <p:cNvSpPr txBox="1"/>
              <p:nvPr/>
            </p:nvSpPr>
            <p:spPr>
              <a:xfrm>
                <a:off x="4724280" y="4768920"/>
                <a:ext cx="482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Line 12"/>
          <p:cNvSpPr/>
          <p:nvPr/>
        </p:nvSpPr>
        <p:spPr>
          <a:xfrm flipH="1">
            <a:off x="837720" y="4648320"/>
            <a:ext cx="221004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3429000" y="3657600"/>
            <a:ext cx="0" cy="2133720"/>
          </a:xfrm>
          <a:prstGeom prst="line">
            <a:avLst/>
          </a:prstGeom>
          <a:ln w="9360">
            <a:solidFill>
              <a:srgbClr val="6b9f2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Line 14"/>
          <p:cNvSpPr/>
          <p:nvPr/>
        </p:nvSpPr>
        <p:spPr>
          <a:xfrm flipV="1">
            <a:off x="3429000" y="4800600"/>
            <a:ext cx="990720" cy="990720"/>
          </a:xfrm>
          <a:prstGeom prst="line">
            <a:avLst/>
          </a:prstGeom>
          <a:ln w="9360">
            <a:solidFill>
              <a:srgbClr val="6b9f2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Line 15"/>
          <p:cNvSpPr/>
          <p:nvPr/>
        </p:nvSpPr>
        <p:spPr>
          <a:xfrm flipH="1">
            <a:off x="1523880" y="5791320"/>
            <a:ext cx="1905120" cy="0"/>
          </a:xfrm>
          <a:prstGeom prst="line">
            <a:avLst/>
          </a:prstGeom>
          <a:ln w="9360">
            <a:solidFill>
              <a:srgbClr val="6b9f2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2819520" y="4800600"/>
            <a:ext cx="609480" cy="990720"/>
          </a:xfrm>
          <a:prstGeom prst="line">
            <a:avLst/>
          </a:prstGeom>
          <a:ln w="9360">
            <a:solidFill>
              <a:srgbClr val="6b9f2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Line 17"/>
          <p:cNvSpPr/>
          <p:nvPr/>
        </p:nvSpPr>
        <p:spPr>
          <a:xfrm flipH="1" flipV="1">
            <a:off x="2819160" y="2819520"/>
            <a:ext cx="609480" cy="914400"/>
          </a:xfrm>
          <a:prstGeom prst="line">
            <a:avLst/>
          </a:prstGeom>
          <a:ln w="9360">
            <a:solidFill>
              <a:srgbClr val="6b9f2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Line 18"/>
          <p:cNvSpPr/>
          <p:nvPr/>
        </p:nvSpPr>
        <p:spPr>
          <a:xfrm flipV="1">
            <a:off x="2819520" y="2819160"/>
            <a:ext cx="0" cy="1981080"/>
          </a:xfrm>
          <a:prstGeom prst="line">
            <a:avLst/>
          </a:prstGeom>
          <a:ln w="28440">
            <a:solidFill>
              <a:srgbClr val="2683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Line 19"/>
          <p:cNvSpPr/>
          <p:nvPr/>
        </p:nvSpPr>
        <p:spPr>
          <a:xfrm flipH="1">
            <a:off x="1523520" y="4800600"/>
            <a:ext cx="1295640" cy="990720"/>
          </a:xfrm>
          <a:prstGeom prst="line">
            <a:avLst/>
          </a:prstGeom>
          <a:ln w="28440">
            <a:solidFill>
              <a:srgbClr val="2683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Line 20"/>
          <p:cNvSpPr/>
          <p:nvPr/>
        </p:nvSpPr>
        <p:spPr>
          <a:xfrm>
            <a:off x="2819520" y="4800600"/>
            <a:ext cx="1600200" cy="0"/>
          </a:xfrm>
          <a:prstGeom prst="line">
            <a:avLst/>
          </a:prstGeom>
          <a:ln w="28440">
            <a:solidFill>
              <a:srgbClr val="2683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21"/>
              <p:cNvSpPr txBox="1"/>
              <p:nvPr/>
            </p:nvSpPr>
            <p:spPr>
              <a:xfrm>
                <a:off x="1981080" y="4924440"/>
                <a:ext cx="6098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2"/>
              <p:cNvSpPr txBox="1"/>
              <p:nvPr/>
            </p:nvSpPr>
            <p:spPr>
              <a:xfrm>
                <a:off x="3352680" y="4371840"/>
                <a:ext cx="609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3"/>
              <p:cNvSpPr txBox="1"/>
              <p:nvPr/>
            </p:nvSpPr>
            <p:spPr>
              <a:xfrm>
                <a:off x="2611440" y="3397320"/>
                <a:ext cx="566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4"/>
              <p:cNvSpPr txBox="1"/>
              <p:nvPr/>
            </p:nvSpPr>
            <p:spPr>
              <a:xfrm>
                <a:off x="2895480" y="238608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5"/>
              <p:cNvSpPr txBox="1"/>
              <p:nvPr/>
            </p:nvSpPr>
            <p:spPr>
              <a:xfrm>
                <a:off x="5064120" y="2743200"/>
                <a:ext cx="32418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6"/>
              <p:cNvSpPr txBox="1"/>
              <p:nvPr/>
            </p:nvSpPr>
            <p:spPr>
              <a:xfrm>
                <a:off x="990720" y="6095880"/>
                <a:ext cx="433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KALARNA POL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029200" cy="36799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3"/>
          <p:cNvSpPr/>
          <p:nvPr/>
        </p:nvSpPr>
        <p:spPr>
          <a:xfrm>
            <a:off x="83808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mperatura, pritisak…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299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Izo-linije (iozoterme, izobare, izohips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VEKTORSKA POL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351" name="Picture 4" descr="waterflow"/>
          <p:cNvPicPr/>
          <p:nvPr/>
        </p:nvPicPr>
        <p:blipFill>
          <a:blip r:embed="rId1"/>
          <a:stretch/>
        </p:blipFill>
        <p:spPr>
          <a:xfrm>
            <a:off x="2057400" y="2362320"/>
            <a:ext cx="4937040" cy="1920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waterflow2"/>
          <p:cNvPicPr/>
          <p:nvPr/>
        </p:nvPicPr>
        <p:blipFill>
          <a:blip r:embed="rId2"/>
          <a:stretch/>
        </p:blipFill>
        <p:spPr>
          <a:xfrm>
            <a:off x="2160720" y="4343400"/>
            <a:ext cx="5154480" cy="192096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3"/>
          <p:cNvSpPr/>
          <p:nvPr/>
        </p:nvSpPr>
        <p:spPr>
          <a:xfrm>
            <a:off x="838080" y="182880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rzina</a:t>
            </a: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, sila…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299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Linije pol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9:29:38Z</dcterms:created>
  <dc:creator>Zlatan Soskic</dc:creator>
  <dc:description/>
  <dc:language>en-US</dc:language>
  <cp:lastModifiedBy>Zlatan Soskic</cp:lastModifiedBy>
  <dcterms:modified xsi:type="dcterms:W3CDTF">2019-10-13T22:58:43Z</dcterms:modified>
  <cp:revision>131</cp:revision>
  <dc:subject/>
  <dc:title>Sila i polje</dc:title>
</cp:coreProperties>
</file>