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8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png" ContentType="image/png"/>
  <Override PartName="/ppt/media/glass.wav" ContentType="audio/x-wav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explod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3D1-FBB0-48A1-AE66-BAFCBBE9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DD-E9C3-4251-916F-DCD790E3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DBF-DB90-430B-9262-47DDC584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28-82D9-47AB-AAAE-4B865C5A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A36-7AC2-457E-9BF0-82A164B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5A16-3522-418D-9829-807ACF9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DF6-1848-4BAD-AEB9-BF7845F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DC62-1DF1-4F2C-86A0-B804F97F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9BA-738D-49AB-80CC-57BE221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C0CD-4C79-4708-974E-601EB21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B6C-67AD-4592-8EE7-39D93A5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25E-EC54-4F97-B4E5-18C8065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2C1-7CB3-4C30-8BAD-E3070D8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3715-1DB1-4132-8251-CD91E91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FF12-4ACA-44BF-B7B9-76B963B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7DA6-A8EE-4229-BCAB-62D88EEE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3D80-03D2-49B3-BF5C-510A446F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3EB2-219B-4DF1-87B4-E5251C82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CAFA-57E7-4118-B61C-914EDFD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3958-06A1-44C0-8870-C495118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F078-C5F3-44E0-B09B-9E9D05ED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5EB9-FA34-4BEB-9ACE-96632FF5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5B1-C922-4572-8AAB-A0303BAD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D84A-1FC2-4D4D-9109-B54CF77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9730-9506-4E5D-8124-EACCE682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02E4-9BB8-4802-810B-C6BB08F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5738-3CF0-4139-9581-90916328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0FDC-CC6F-4C7B-9A5D-4BA0D10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7FB8-D769-4E88-BDCD-F621995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3025-AC04-41E8-8683-1DB8903B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9448-031D-4FCC-AC79-0B233FCA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3555-7C48-41BC-8309-1767402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E7DC-9443-414A-BC1C-AEFBA1A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A1F-1FD0-4718-9BCA-87701FEB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A39B-2D0E-4BBD-9308-B737C48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897D-5854-4153-854E-DFDFD45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8B3-91DD-4DFE-A7C4-8B6B3C1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B913-597C-4994-9092-7200FB2C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249E-4029-40C4-B2CE-7A13C6C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4D94-6AF6-4006-AF27-7808166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D0D1-6AB0-42AA-B702-53593AC3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4F0D-F060-4C7F-AA30-2C3D517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1D72-2550-473A-8C94-3346939A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E033E-A55F-4152-A454-F43CB133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7D2-F382-449D-8FB5-CC071C7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2A63-BCF8-4040-A557-8BA82E36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5CC5-E764-4C03-A0A8-2E54046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D0DB-0C82-4A0E-9B90-7DA32A3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6ACD-6C0A-4F6F-B53D-322A515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7181-E34C-450C-8043-25640C1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2228-3233-48AE-87E0-69EC6E9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F219-B886-4503-BCF3-E3B7A2E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D207-F1CC-46D2-8357-4C437E64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9305-A746-4B43-83C9-D8715B7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100F-A451-44FC-AE7F-9A6907F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2D1-C3D0-4BDC-A423-70FB329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0A4A4-66DF-4B73-A565-2C909791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841D-B386-42EE-8B25-2F30C268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D31D-54D3-4965-98CB-6409B08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2673-208C-4D10-9579-1515FEF9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3CCA-4A96-43D6-A8D4-E91BF7F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334D-2AED-4812-8D3F-05512B8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C183-1229-4999-B952-6BE54F0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DB46-5235-4AA8-B2AF-34191CE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5310-35DA-4D0C-A73C-B58C5DB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A87B5-1256-480B-BEED-57F91B1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F73-A241-4F68-90D4-A9E9F58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8460-272A-406E-B80D-698A7DC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90B5-0DED-4A27-83BA-9D4FEB4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6F75-49DD-4BF0-9BD7-983EACB7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46A-5360-4079-80D2-9307500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765-7DF2-4F85-A0C9-85D038D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1B3F9-DE3F-45CB-992A-7E509C1D3AC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0BD29-7882-4E81-8AFD-110D7B79FF7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2011F-1325-496E-9772-6B8974F58A7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005D0-C9CE-400F-A5A9-48BED24D2F4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40B67-415E-4CE6-86A2-862DEC01B1F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9B0EF-F6E8-47B5-A525-B9C1E1A4706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IZI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Č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Koncept prome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ZVOD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- DEFINI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04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d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0,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295280" y="4495680"/>
            <a:ext cx="563904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infinitezimalni količ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diferencijalni količ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2438280" y="4834080"/>
                <a:ext cx="1219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4127400" y="4834080"/>
                <a:ext cx="1192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Text Box 7"/>
          <p:cNvSpPr/>
          <p:nvPr/>
        </p:nvSpPr>
        <p:spPr>
          <a:xfrm>
            <a:off x="7010280" y="5029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T]/[R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ZVOD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- ZNAČ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1530360" y="22860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9" name="Text Box 8"/>
          <p:cNvSpPr/>
          <p:nvPr/>
        </p:nvSpPr>
        <p:spPr>
          <a:xfrm>
            <a:off x="1143000" y="3124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pozitivan, veličina T raste kada R ras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1542960" y="3657600"/>
                <a:ext cx="5757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Text Box 10"/>
          <p:cNvSpPr/>
          <p:nvPr/>
        </p:nvSpPr>
        <p:spPr>
          <a:xfrm>
            <a:off x="1143000" y="4495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egativan, veličina T opada kada R ras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1544760" y="50292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12"/>
          <p:cNvSpPr/>
          <p:nvPr/>
        </p:nvSpPr>
        <p:spPr>
          <a:xfrm>
            <a:off x="10666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ula, veličina T ne zavisi od 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040" y="769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ZVOD - SMISAO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Predviđanje promena, odnosno razvoja proce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Njutn-Lajbnicova formula – početak moderne nau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7400" indent="-774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Na osnovu kratkotrajnih (diferencijalnih) posmatranja predvideti dugotrajne (integralne) prome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07" name="Object 2"/>
          <p:cNvGraphicFramePr/>
          <p:nvPr/>
        </p:nvGraphicFramePr>
        <p:xfrm>
          <a:off x="2033640" y="2892600"/>
          <a:ext cx="4978440" cy="68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2892600"/>
                    <a:ext cx="497844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9"/>
          <p:cNvGraphicFramePr/>
          <p:nvPr/>
        </p:nvGraphicFramePr>
        <p:xfrm>
          <a:off x="3238560" y="3581280"/>
          <a:ext cx="2971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8560" y="3581280"/>
                    <a:ext cx="2971800" cy="507960"/>
                  </a:xfrm>
                  <a:prstGeom prst="rect">
                    <a:avLst/>
                  </a:prstGeom>
                  <a:ln w="9360">
                    <a:solidFill>
                      <a:srgbClr val="335b74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1" name="Object 10"/>
          <p:cNvGraphicFramePr/>
          <p:nvPr/>
        </p:nvGraphicFramePr>
        <p:xfrm>
          <a:off x="2273400" y="4287960"/>
          <a:ext cx="50544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4287960"/>
                    <a:ext cx="5054400" cy="939600"/>
                  </a:xfrm>
                  <a:prstGeom prst="rect">
                    <a:avLst/>
                  </a:prstGeom>
                  <a:ln w="9360">
                    <a:solidFill>
                      <a:srgbClr val="335b74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3" name="Picture 8" descr="Image result for leibniz"/>
          <p:cNvPicPr/>
          <p:nvPr/>
        </p:nvPicPr>
        <p:blipFill>
          <a:blip r:embed="rId7"/>
          <a:stretch/>
        </p:blipFill>
        <p:spPr>
          <a:xfrm>
            <a:off x="7620120" y="4284720"/>
            <a:ext cx="761760" cy="942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8"/>
          <a:stretch/>
        </p:blipFill>
        <p:spPr>
          <a:xfrm>
            <a:off x="1216080" y="4267080"/>
            <a:ext cx="7650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traight Connector 58"/>
          <p:cNvSpPr/>
          <p:nvPr/>
        </p:nvSpPr>
        <p:spPr>
          <a:xfrm>
            <a:off x="5257800" y="480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ZVOD</a:t>
            </a: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 - GRAFIČK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295280" y="2743200"/>
            <a:ext cx="6629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IB NA GRAF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KOM PRIKAZ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18" name="Straight Arrow Connector 4"/>
          <p:cNvCxnSpPr/>
          <p:nvPr/>
        </p:nvCxnSpPr>
        <p:spPr>
          <a:xfrm flipV="1">
            <a:off x="1828440" y="3428640"/>
            <a:ext cx="108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Straight Arrow Connector 6"/>
          <p:cNvCxnSpPr/>
          <p:nvPr/>
        </p:nvCxnSpPr>
        <p:spPr>
          <a:xfrm>
            <a:off x="1550520" y="6171840"/>
            <a:ext cx="507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Oval 7"/>
          <p:cNvSpPr/>
          <p:nvPr/>
        </p:nvSpPr>
        <p:spPr>
          <a:xfrm>
            <a:off x="2438280" y="5410080"/>
            <a:ext cx="71640" cy="71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048120" y="4805280"/>
            <a:ext cx="71280" cy="71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Oval 12"/>
          <p:cNvSpPr/>
          <p:nvPr/>
        </p:nvSpPr>
        <p:spPr>
          <a:xfrm>
            <a:off x="3809880" y="4343400"/>
            <a:ext cx="71640" cy="7128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5222880" y="4770360"/>
            <a:ext cx="71280" cy="71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Oval 14"/>
          <p:cNvSpPr/>
          <p:nvPr/>
        </p:nvSpPr>
        <p:spPr>
          <a:xfrm>
            <a:off x="4495680" y="4348080"/>
            <a:ext cx="71640" cy="71640"/>
          </a:xfrm>
          <a:prstGeom prst="ellipse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25" name="Object 15"/>
          <p:cNvGraphicFramePr/>
          <p:nvPr/>
        </p:nvGraphicFramePr>
        <p:xfrm>
          <a:off x="6738840" y="6039000"/>
          <a:ext cx="155520" cy="26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8840" y="6039000"/>
                    <a:ext cx="1555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6"/>
          <p:cNvGraphicFramePr/>
          <p:nvPr/>
        </p:nvGraphicFramePr>
        <p:xfrm>
          <a:off x="1550880" y="3519360"/>
          <a:ext cx="244440" cy="2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3519360"/>
                    <a:ext cx="2444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Straight Connector 17"/>
          <p:cNvSpPr/>
          <p:nvPr/>
        </p:nvSpPr>
        <p:spPr>
          <a:xfrm>
            <a:off x="2509920" y="5446800"/>
            <a:ext cx="91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Straight Connector 22"/>
          <p:cNvSpPr/>
          <p:nvPr/>
        </p:nvSpPr>
        <p:spPr>
          <a:xfrm>
            <a:off x="3119400" y="484020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31" name="Straight Arrow Connector 24"/>
          <p:cNvCxnSpPr/>
          <p:nvPr/>
        </p:nvCxnSpPr>
        <p:spPr>
          <a:xfrm>
            <a:off x="3200400" y="4839840"/>
            <a:ext cx="21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2" name="Straight Connector 26"/>
          <p:cNvSpPr/>
          <p:nvPr/>
        </p:nvSpPr>
        <p:spPr>
          <a:xfrm>
            <a:off x="2475000" y="5481720"/>
            <a:ext cx="0" cy="69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Straight Connector 28"/>
          <p:cNvSpPr/>
          <p:nvPr/>
        </p:nvSpPr>
        <p:spPr>
          <a:xfrm>
            <a:off x="308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Straight Connector 30"/>
          <p:cNvSpPr/>
          <p:nvPr/>
        </p:nvSpPr>
        <p:spPr>
          <a:xfrm flipV="1">
            <a:off x="2500200" y="4865400"/>
            <a:ext cx="55908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Straight Connector 14336"/>
          <p:cNvSpPr/>
          <p:nvPr/>
        </p:nvSpPr>
        <p:spPr>
          <a:xfrm flipV="1">
            <a:off x="3110040" y="4379400"/>
            <a:ext cx="6998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Straight Connector 14340"/>
          <p:cNvSpPr/>
          <p:nvPr/>
        </p:nvSpPr>
        <p:spPr>
          <a:xfrm>
            <a:off x="3881520" y="4379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Straight Connector 14344"/>
          <p:cNvSpPr/>
          <p:nvPr/>
        </p:nvSpPr>
        <p:spPr>
          <a:xfrm>
            <a:off x="3881520" y="4379760"/>
            <a:ext cx="614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Straight Connector 14346"/>
          <p:cNvSpPr/>
          <p:nvPr/>
        </p:nvSpPr>
        <p:spPr>
          <a:xfrm>
            <a:off x="4557600" y="4408560"/>
            <a:ext cx="66528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39" name="Straight Arrow Connector 14348"/>
          <p:cNvCxnSpPr/>
          <p:nvPr/>
        </p:nvCxnSpPr>
        <p:spPr>
          <a:xfrm>
            <a:off x="2474640" y="55623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Arc 14349"/>
          <p:cNvSpPr/>
          <p:nvPr/>
        </p:nvSpPr>
        <p:spPr>
          <a:xfrm>
            <a:off x="2095560" y="50673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  <a:lnTo>
                  <a:pt x="378619" y="381000"/>
                </a:lnTo>
                <a:lnTo>
                  <a:pt x="647181" y="112438"/>
                </a:lnTo>
                <a:close/>
              </a:path>
              <a:path fill="none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Straight Connector 47"/>
          <p:cNvSpPr/>
          <p:nvPr/>
        </p:nvSpPr>
        <p:spPr>
          <a:xfrm>
            <a:off x="4572000" y="438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42" name="Straight Arrow Connector 48"/>
          <p:cNvCxnSpPr/>
          <p:nvPr/>
        </p:nvCxnSpPr>
        <p:spPr>
          <a:xfrm>
            <a:off x="5417640" y="437976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Straight Connector 49"/>
          <p:cNvSpPr/>
          <p:nvPr/>
        </p:nvSpPr>
        <p:spPr>
          <a:xfrm>
            <a:off x="45324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44" name="Straight Arrow Connector 50"/>
          <p:cNvCxnSpPr/>
          <p:nvPr/>
        </p:nvCxnSpPr>
        <p:spPr>
          <a:xfrm>
            <a:off x="4532040" y="502884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Arc 51"/>
          <p:cNvSpPr/>
          <p:nvPr/>
        </p:nvSpPr>
        <p:spPr>
          <a:xfrm>
            <a:off x="4152960" y="39765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  <a:lnTo>
                  <a:pt x="378619" y="381000"/>
                </a:lnTo>
                <a:lnTo>
                  <a:pt x="756584" y="403384"/>
                </a:lnTo>
                <a:close/>
              </a:path>
              <a:path fill="none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Straight Connector 53"/>
          <p:cNvSpPr/>
          <p:nvPr/>
        </p:nvSpPr>
        <p:spPr>
          <a:xfrm>
            <a:off x="5257800" y="4842000"/>
            <a:ext cx="0" cy="133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47" name="Object 62"/>
          <p:cNvGraphicFramePr/>
          <p:nvPr/>
        </p:nvGraphicFramePr>
        <p:xfrm>
          <a:off x="3200400" y="5002200"/>
          <a:ext cx="39996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0022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63"/>
          <p:cNvGraphicFramePr/>
          <p:nvPr/>
        </p:nvGraphicFramePr>
        <p:xfrm>
          <a:off x="2624040" y="5570640"/>
          <a:ext cx="311400" cy="31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4040" y="557064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4"/>
          <p:cNvGraphicFramePr/>
          <p:nvPr/>
        </p:nvGraphicFramePr>
        <p:xfrm>
          <a:off x="4738680" y="5056200"/>
          <a:ext cx="31104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8680" y="5056200"/>
                    <a:ext cx="3110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5"/>
          <p:cNvGraphicFramePr/>
          <p:nvPr/>
        </p:nvGraphicFramePr>
        <p:xfrm>
          <a:off x="5462640" y="4438800"/>
          <a:ext cx="399960" cy="31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4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2640" y="44388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7"/>
          <p:cNvGraphicFramePr/>
          <p:nvPr/>
        </p:nvGraphicFramePr>
        <p:xfrm>
          <a:off x="2577960" y="4735440"/>
          <a:ext cx="28908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6" name="Object 6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7960" y="473544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9"/>
          <p:cNvGraphicFramePr/>
          <p:nvPr/>
        </p:nvGraphicFramePr>
        <p:xfrm>
          <a:off x="3254400" y="4178160"/>
          <a:ext cx="28908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8" name="Object 6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54400" y="41781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70"/>
          <p:cNvGraphicFramePr/>
          <p:nvPr/>
        </p:nvGraphicFramePr>
        <p:xfrm>
          <a:off x="4044960" y="3938760"/>
          <a:ext cx="289080" cy="42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0" name="Object 7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4960" y="39387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71"/>
          <p:cNvGraphicFramePr/>
          <p:nvPr/>
        </p:nvGraphicFramePr>
        <p:xfrm>
          <a:off x="4946760" y="4191120"/>
          <a:ext cx="288720" cy="4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2" name="Object 7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46760" y="4191120"/>
                    <a:ext cx="288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72"/>
          <p:cNvGraphicFramePr/>
          <p:nvPr/>
        </p:nvGraphicFramePr>
        <p:xfrm>
          <a:off x="6707160" y="3914640"/>
          <a:ext cx="1200240" cy="4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4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7160" y="3914640"/>
                    <a:ext cx="1200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73"/>
          <p:cNvGraphicFramePr/>
          <p:nvPr/>
        </p:nvGraphicFramePr>
        <p:xfrm>
          <a:off x="6967440" y="4378320"/>
          <a:ext cx="71136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6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67440" y="4378320"/>
                    <a:ext cx="7113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74"/>
          <p:cNvGraphicFramePr/>
          <p:nvPr/>
        </p:nvGraphicFramePr>
        <p:xfrm>
          <a:off x="7007400" y="4835520"/>
          <a:ext cx="688680" cy="422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8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07400" y="4835520"/>
                    <a:ext cx="688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BRZINA I GRADIJEN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914400" y="32767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remenski izvod naziva se </a:t>
            </a:r>
            <a:r>
              <a:rPr b="0" lang="hr-HR" sz="2800" spc="-1" strike="noStrike">
                <a:solidFill>
                  <a:srgbClr val="b26b02"/>
                </a:solidFill>
                <a:latin typeface="Times New Roman"/>
              </a:rPr>
              <a:t>brzina promen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914400" y="44197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storni izvod naziva se </a:t>
            </a:r>
            <a:r>
              <a:rPr b="0" lang="hr-HR" sz="2800" spc="-1" strike="noStrike">
                <a:solidFill>
                  <a:srgbClr val="b26b02"/>
                </a:solidFill>
                <a:latin typeface="Times New Roman"/>
              </a:rPr>
              <a:t>gradijent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RIRO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6200" y="2514600"/>
            <a:ext cx="13716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752480" y="3886200"/>
            <a:ext cx="17528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715000" y="3886200"/>
            <a:ext cx="1905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o pol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61" name="AutoShape 7"/>
          <p:cNvCxnSpPr>
            <a:stCxn id="258" idx="2"/>
            <a:endCxn id="259" idx="0"/>
          </p:cNvCxnSpPr>
          <p:nvPr/>
        </p:nvCxnSpPr>
        <p:spPr>
          <a:xfrm flipH="1">
            <a:off x="2628360" y="3029040"/>
            <a:ext cx="1943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8"/>
          <p:cNvCxnSpPr>
            <a:stCxn id="258" idx="2"/>
            <a:endCxn id="260" idx="0"/>
          </p:cNvCxnSpPr>
          <p:nvPr/>
        </p:nvCxnSpPr>
        <p:spPr>
          <a:xfrm>
            <a:off x="4571640" y="3029040"/>
            <a:ext cx="20962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Rectangle 9"/>
          <p:cNvSpPr/>
          <p:nvPr/>
        </p:nvSpPr>
        <p:spPr>
          <a:xfrm>
            <a:off x="2057400" y="4876920"/>
            <a:ext cx="5257800" cy="609480"/>
          </a:xfrm>
          <a:prstGeom prst="rect">
            <a:avLst/>
          </a:prstGeom>
          <a:solidFill>
            <a:srgbClr val="1cad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s: Fizičke veličine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 + jedinic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OCESI U PRIROD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ces = prome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mena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promena </a:t>
            </a: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broj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fizičk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14600" y="3581280"/>
            <a:ext cx="4191120" cy="1295640"/>
          </a:xfrm>
          <a:prstGeom prst="rect">
            <a:avLst/>
          </a:prstGeom>
          <a:solidFill>
            <a:srgbClr val="1cade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371600" y="5486400"/>
            <a:ext cx="30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43000" y="5410080"/>
            <a:ext cx="3429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1143000" y="5257800"/>
            <a:ext cx="34290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Line 8"/>
          <p:cNvSpPr/>
          <p:nvPr/>
        </p:nvSpPr>
        <p:spPr>
          <a:xfrm flipH="1">
            <a:off x="1142640" y="5105520"/>
            <a:ext cx="342900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400800" y="5486400"/>
            <a:ext cx="16765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] = [X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OME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stor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Vremens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 zavisnosti od drugih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ROMENA - TABELARNO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2533680"/>
            <a:ext cx="3554640" cy="3638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4968720" y="2552760"/>
            <a:ext cx="356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ROMENA - GRAFIČK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ROMENA - GRAFIČK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PISIVANJE PROMENA - ANALITIČK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 –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 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124080" y="4952880"/>
            <a:ext cx="2667240" cy="579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-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0,4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200400" y="4572000"/>
            <a:ext cx="2590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3276360" y="4419720"/>
            <a:ext cx="236196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NFINITEZIMALNE PROME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829640" cy="24908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914400" y="4876920"/>
            <a:ext cx="76960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š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zovemo </a:t>
            </a:r>
            <a:r>
              <a:rPr b="0" lang="hr-HR" sz="2400" spc="-1" strike="noStrike">
                <a:solidFill>
                  <a:srgbClr val="b26b02"/>
                </a:solidFill>
                <a:latin typeface="Times New Roman"/>
              </a:rPr>
              <a:t>DIFERENCIJ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FINITEZIMALNO (bes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lo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b26b02"/>
                </a:solidFill>
                <a:latin typeface="Times New Roman"/>
              </a:rPr>
              <a:t>LOKAL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b26b02"/>
                </a:solidFill>
                <a:latin typeface="Times New Roman"/>
              </a:rPr>
              <a:t>TRENUT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36:58Z</dcterms:created>
  <dc:creator>Zlatan Soskic</dc:creator>
  <dc:description/>
  <dc:language>en-US</dc:language>
  <cp:lastModifiedBy>Zlatan Soskic</cp:lastModifiedBy>
  <dcterms:modified xsi:type="dcterms:W3CDTF">2019-10-13T23:10:08Z</dcterms:modified>
  <cp:revision>140</cp:revision>
  <dc:subject/>
  <dc:title>Fizički koncepti</dc:title>
</cp:coreProperties>
</file>