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9DAA0-0F50-42B3-B744-CB76107BB219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FE3B3-B611-46AE-A0E8-F1FB179DE1E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2100D-7F65-45BA-8D7C-3CEF5966B98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CFDD1-3A52-4867-97EA-2E4FFE35E13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27571-2C23-4159-9585-8C5E21151B4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D4FD-FB16-4E37-A7C5-972574B5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A3F-A006-426F-8FB2-C79B49A4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E02-DF6B-4B20-AE81-0EF91913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F14B-B0F0-4D18-8D54-9F0ADF17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D206-6C94-4634-A274-0F72B7F1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C187-0BAD-4C98-8246-3CFE0C50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B1AE-BA9C-4B39-B81D-5A702939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02F6-5984-4634-84C5-2121E79D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8CEC-6525-4B11-A1B8-F964D292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40D0-9FD8-4348-B61F-840AFCA9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B10F-F8CA-401E-8634-87A50EA7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475-4C5C-42AC-9BCC-AFDEAC0D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2B43-D97E-4658-B871-14378396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1902-70F9-4D0E-9492-4BC59E1C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4F06-4384-41BB-A87F-14B7F374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F563-9D5A-4D8D-89C5-343BA0A9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95EE-6544-48D6-B049-0D430DFF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10C82-420C-48EC-B141-7D4D90E4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94205-E5EB-45C1-BAB9-EB6E6DF5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8E300-DBB7-4E7B-8381-40EF036D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6E4A5-D208-45A1-8459-790FC66E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A82AB-8572-443B-9033-49AA8E82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AD7-7099-4F86-9B11-88B8C72A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886B1-845E-4A6C-A2D7-94888041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00FBE-50C3-4947-B1F7-982A0C5C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3FE60-22F3-4283-93D6-3D7EDC05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4DE5E-B23F-4466-9B00-B33DFEFB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92DAC-E5B2-4E87-A49F-D151B874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416F9-AB85-4805-BF0B-1E24DEFC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C04F1-8BA8-4E11-970C-E7BF6C7D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F0444-ACCF-47DC-8275-68C45760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72A20-15ED-482C-81A6-5F793E4F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6A3AD-BB29-4AC2-B3C1-4716D69F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0B4-CA98-4E37-9F31-8A4020C9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CB852-BC0C-41FE-9D29-882F6F6E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912AA-7A8A-44C7-890F-69537E30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6E040-0081-4C6F-BDF2-E7C206A1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E1335-BCCF-4C5E-9BEC-90889E92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DD82B-8E4B-4F62-9745-3C5FC361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054EB-12FB-4F34-A3CB-9496724A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BB055-F703-4D15-8E4E-2F4F4C3D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4FEE5-4BC0-4709-91FF-3DDBDD5D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5E2EB-415E-4A72-AD28-2A03FBB2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ED0F7-7F10-48AA-96C4-447193BB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EC0-BA0B-4048-9BE0-DA391861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BC0FE-81C6-4BFE-A064-C6D6DE02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6EA43-CB5A-4537-AD77-812C37AA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83848-5830-4E79-8BB3-43E2FF76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A45C7-485D-4674-957F-BC7C2102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9AFA5-CA7A-46A1-BEC5-98DA805C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55E71-9C08-4376-A144-71A422C8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CAB4B-A924-4DB7-BFA8-3718A58F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9F221-3F4F-4601-BB08-114DB398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A733B-83F1-4D0D-87AC-47AE19AF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4888A-AADD-4D5C-9C98-2BACD4D4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841D-6448-43D2-883B-847FA143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7EBDD-C628-42E2-85D6-2A1C14B2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67BCF-8CF8-4777-A3AD-EB43B397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20D38-E389-4D77-A242-FACAE69F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3F97F-25A2-4347-9FE3-8EA2DFE4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5A25C-3B72-4728-B7E8-CA2BD144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621BE-11ED-464C-A11C-42D20BE3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CD247-2FC1-43B8-A7D5-FDBBD118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3261C-5AFC-4F71-AA92-F0402939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50387-2FE9-4C48-BCA3-E03E578E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19DD3-6170-4E23-805A-A2E2B17B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0FC3-CAC7-430A-8749-CEDFA375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184E0-AB81-4289-B5EF-560A2437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FF469-A005-4ECE-9061-5E480237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37C93-B59C-4B55-89E3-A61EF83A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F14-21D9-43FB-A58A-588F4453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0E53-DEB5-4263-AD39-1C89F580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39DA6-934F-4EB9-89D6-2312C7E28207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9B900-BD41-48A5-A24D-41AA6A6B6ACA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EE5EA-387D-4E92-AD23-DC4BDC8DBCA7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D966B-1DAC-4451-9116-719EAF019D27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2E5BB-1F34-469D-831E-D9AB784DD5F9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2C007-225D-4DE6-8597-1F9515BFE71A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FIZIČKI KONCEPT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d0d0d"/>
                </a:solidFill>
                <a:latin typeface="Tw Cen MT"/>
              </a:rPr>
              <a:t>Koncept kretanj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BRZINA KRETA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914400" y="2666880"/>
            <a:ext cx="74674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rzina kretanja je prvi izvod vektora položa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 vremen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3352680" y="5181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 = 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[t]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=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6"/>
              <p:cNvSpPr txBox="1"/>
              <p:nvPr/>
            </p:nvSpPr>
            <p:spPr>
              <a:xfrm>
                <a:off x="3830760" y="3691080"/>
                <a:ext cx="123984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PRIRODNO OPISIVANJE BRZIN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3" name="Freeform 3"/>
          <p:cNvSpPr/>
          <p:nvPr/>
        </p:nvSpPr>
        <p:spPr>
          <a:xfrm>
            <a:off x="2286000" y="3273480"/>
            <a:ext cx="2006640" cy="2400120"/>
          </a:xfrm>
          <a:custGeom>
            <a:avLst/>
            <a:gdLst/>
            <a:ahLst/>
            <a:rect l="l" t="t" r="r" b="b"/>
            <a:pathLst>
              <a:path w="1264" h="1512">
                <a:moveTo>
                  <a:pt x="1056" y="1512"/>
                </a:moveTo>
                <a:cubicBezTo>
                  <a:pt x="1160" y="1364"/>
                  <a:pt x="1264" y="1216"/>
                  <a:pt x="1248" y="1080"/>
                </a:cubicBezTo>
                <a:cubicBezTo>
                  <a:pt x="1232" y="944"/>
                  <a:pt x="1064" y="768"/>
                  <a:pt x="960" y="696"/>
                </a:cubicBezTo>
                <a:cubicBezTo>
                  <a:pt x="856" y="624"/>
                  <a:pt x="744" y="688"/>
                  <a:pt x="624" y="648"/>
                </a:cubicBezTo>
                <a:cubicBezTo>
                  <a:pt x="504" y="608"/>
                  <a:pt x="312" y="536"/>
                  <a:pt x="240" y="456"/>
                </a:cubicBezTo>
                <a:cubicBezTo>
                  <a:pt x="168" y="376"/>
                  <a:pt x="216" y="240"/>
                  <a:pt x="192" y="168"/>
                </a:cubicBezTo>
                <a:cubicBezTo>
                  <a:pt x="168" y="96"/>
                  <a:pt x="128" y="48"/>
                  <a:pt x="96" y="24"/>
                </a:cubicBezTo>
                <a:cubicBezTo>
                  <a:pt x="64" y="0"/>
                  <a:pt x="16" y="24"/>
                  <a:pt x="0" y="24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914400" y="52164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Line 5"/>
          <p:cNvSpPr/>
          <p:nvPr/>
        </p:nvSpPr>
        <p:spPr>
          <a:xfrm flipV="1">
            <a:off x="1219320" y="30826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Oval 6"/>
          <p:cNvSpPr/>
          <p:nvPr/>
        </p:nvSpPr>
        <p:spPr>
          <a:xfrm>
            <a:off x="1143000" y="5140440"/>
            <a:ext cx="15228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Oval 7"/>
          <p:cNvSpPr/>
          <p:nvPr/>
        </p:nvSpPr>
        <p:spPr>
          <a:xfrm>
            <a:off x="3862440" y="5556240"/>
            <a:ext cx="15228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Oval 8"/>
          <p:cNvSpPr/>
          <p:nvPr/>
        </p:nvSpPr>
        <p:spPr>
          <a:xfrm>
            <a:off x="2209680" y="3235320"/>
            <a:ext cx="15264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3999960" y="53690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ševa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2422440" y="30481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71" name="AutoShape 15"/>
          <p:cNvCxnSpPr>
            <a:stCxn id="366" idx="6"/>
            <a:endCxn id="363" idx="1"/>
          </p:cNvCxnSpPr>
          <p:nvPr/>
        </p:nvCxnSpPr>
        <p:spPr>
          <a:xfrm flipV="1">
            <a:off x="1295280" y="4987080"/>
            <a:ext cx="299160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6"/>
          <p:cNvCxnSpPr>
            <a:stCxn id="366" idx="6"/>
            <a:endCxn id="363" idx="2"/>
          </p:cNvCxnSpPr>
          <p:nvPr/>
        </p:nvCxnSpPr>
        <p:spPr>
          <a:xfrm flipV="1">
            <a:off x="1295280" y="4377960"/>
            <a:ext cx="253440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3" name="Line 19"/>
          <p:cNvSpPr/>
          <p:nvPr/>
        </p:nvSpPr>
        <p:spPr>
          <a:xfrm flipH="1" flipV="1">
            <a:off x="3809880" y="441936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Line 20"/>
          <p:cNvSpPr/>
          <p:nvPr/>
        </p:nvSpPr>
        <p:spPr>
          <a:xfrm flipH="1" flipV="1">
            <a:off x="2209320" y="2666880"/>
            <a:ext cx="2514600" cy="281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Line 21"/>
          <p:cNvSpPr/>
          <p:nvPr/>
        </p:nvSpPr>
        <p:spPr>
          <a:xfrm flipH="1" flipV="1">
            <a:off x="3048120" y="3581280"/>
            <a:ext cx="121896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85800" y="52578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ljev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27"/>
              <p:cNvSpPr txBox="1"/>
              <p:nvPr/>
            </p:nvSpPr>
            <p:spPr>
              <a:xfrm>
                <a:off x="2540160" y="5156280"/>
                <a:ext cx="745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28"/>
              <p:cNvSpPr txBox="1"/>
              <p:nvPr/>
            </p:nvSpPr>
            <p:spPr>
              <a:xfrm>
                <a:off x="1531800" y="4257720"/>
                <a:ext cx="14925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29"/>
              <p:cNvSpPr txBox="1"/>
              <p:nvPr/>
            </p:nvSpPr>
            <p:spPr>
              <a:xfrm>
                <a:off x="4148280" y="4282920"/>
                <a:ext cx="576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0"/>
              <p:cNvSpPr txBox="1"/>
              <p:nvPr/>
            </p:nvSpPr>
            <p:spPr>
              <a:xfrm>
                <a:off x="3733920" y="3214800"/>
                <a:ext cx="155880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PRIRODNO OPISIVANJE BRZIN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82" name="Freeform 3"/>
          <p:cNvSpPr/>
          <p:nvPr/>
        </p:nvSpPr>
        <p:spPr>
          <a:xfrm>
            <a:off x="2286000" y="3273480"/>
            <a:ext cx="2006640" cy="2400120"/>
          </a:xfrm>
          <a:custGeom>
            <a:avLst/>
            <a:gdLst/>
            <a:ahLst/>
            <a:rect l="l" t="t" r="r" b="b"/>
            <a:pathLst>
              <a:path w="1264" h="1512">
                <a:moveTo>
                  <a:pt x="1056" y="1512"/>
                </a:moveTo>
                <a:cubicBezTo>
                  <a:pt x="1160" y="1364"/>
                  <a:pt x="1264" y="1216"/>
                  <a:pt x="1248" y="1080"/>
                </a:cubicBezTo>
                <a:cubicBezTo>
                  <a:pt x="1232" y="944"/>
                  <a:pt x="1064" y="768"/>
                  <a:pt x="960" y="696"/>
                </a:cubicBezTo>
                <a:cubicBezTo>
                  <a:pt x="856" y="624"/>
                  <a:pt x="744" y="688"/>
                  <a:pt x="624" y="648"/>
                </a:cubicBezTo>
                <a:cubicBezTo>
                  <a:pt x="504" y="608"/>
                  <a:pt x="312" y="536"/>
                  <a:pt x="240" y="456"/>
                </a:cubicBezTo>
                <a:cubicBezTo>
                  <a:pt x="168" y="376"/>
                  <a:pt x="216" y="240"/>
                  <a:pt x="192" y="168"/>
                </a:cubicBezTo>
                <a:cubicBezTo>
                  <a:pt x="168" y="96"/>
                  <a:pt x="128" y="48"/>
                  <a:pt x="96" y="24"/>
                </a:cubicBezTo>
                <a:cubicBezTo>
                  <a:pt x="64" y="0"/>
                  <a:pt x="16" y="24"/>
                  <a:pt x="0" y="24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Line 4"/>
          <p:cNvSpPr/>
          <p:nvPr/>
        </p:nvSpPr>
        <p:spPr>
          <a:xfrm>
            <a:off x="914400" y="52164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Line 5"/>
          <p:cNvSpPr/>
          <p:nvPr/>
        </p:nvSpPr>
        <p:spPr>
          <a:xfrm flipV="1">
            <a:off x="1219320" y="30826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Oval 6"/>
          <p:cNvSpPr/>
          <p:nvPr/>
        </p:nvSpPr>
        <p:spPr>
          <a:xfrm>
            <a:off x="1143000" y="5140440"/>
            <a:ext cx="15228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Oval 7"/>
          <p:cNvSpPr/>
          <p:nvPr/>
        </p:nvSpPr>
        <p:spPr>
          <a:xfrm>
            <a:off x="3862440" y="5556240"/>
            <a:ext cx="15228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Oval 8"/>
          <p:cNvSpPr/>
          <p:nvPr/>
        </p:nvSpPr>
        <p:spPr>
          <a:xfrm>
            <a:off x="2209680" y="3235320"/>
            <a:ext cx="15264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3999960" y="53690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ševa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2422440" y="30481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90" name="AutoShape 11"/>
          <p:cNvCxnSpPr>
            <a:stCxn id="385" idx="6"/>
            <a:endCxn id="382" idx="1"/>
          </p:cNvCxnSpPr>
          <p:nvPr/>
        </p:nvCxnSpPr>
        <p:spPr>
          <a:xfrm flipV="1">
            <a:off x="1295280" y="4987080"/>
            <a:ext cx="299160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1" name="Text Box 16"/>
          <p:cNvSpPr/>
          <p:nvPr/>
        </p:nvSpPr>
        <p:spPr>
          <a:xfrm>
            <a:off x="685800" y="52578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ljev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Line 17"/>
          <p:cNvSpPr/>
          <p:nvPr/>
        </p:nvSpPr>
        <p:spPr>
          <a:xfrm flipV="1">
            <a:off x="1219320" y="4800600"/>
            <a:ext cx="29718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Line 18"/>
          <p:cNvSpPr/>
          <p:nvPr/>
        </p:nvSpPr>
        <p:spPr>
          <a:xfrm flipH="1" flipV="1">
            <a:off x="3962520" y="3124080"/>
            <a:ext cx="38088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Line 19"/>
          <p:cNvSpPr/>
          <p:nvPr/>
        </p:nvSpPr>
        <p:spPr>
          <a:xfrm flipH="1" flipV="1">
            <a:off x="4038120" y="3657600"/>
            <a:ext cx="2286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20"/>
              <p:cNvSpPr txBox="1"/>
              <p:nvPr/>
            </p:nvSpPr>
            <p:spPr>
              <a:xfrm>
                <a:off x="2540160" y="5156280"/>
                <a:ext cx="745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21"/>
              <p:cNvSpPr txBox="1"/>
              <p:nvPr/>
            </p:nvSpPr>
            <p:spPr>
              <a:xfrm>
                <a:off x="1547640" y="4486320"/>
                <a:ext cx="1459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22"/>
              <p:cNvSpPr txBox="1"/>
              <p:nvPr/>
            </p:nvSpPr>
            <p:spPr>
              <a:xfrm>
                <a:off x="4267080" y="4638600"/>
                <a:ext cx="1494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23"/>
              <p:cNvSpPr txBox="1"/>
              <p:nvPr/>
            </p:nvSpPr>
            <p:spPr>
              <a:xfrm>
                <a:off x="4114800" y="3657600"/>
                <a:ext cx="3380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9" name="Text Box 24"/>
          <p:cNvSpPr/>
          <p:nvPr/>
        </p:nvSpPr>
        <p:spPr>
          <a:xfrm>
            <a:off x="5562720" y="3124080"/>
            <a:ext cx="3504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vac: tangen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er: kretan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zitet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25"/>
              <p:cNvSpPr txBox="1"/>
              <p:nvPr/>
            </p:nvSpPr>
            <p:spPr>
              <a:xfrm>
                <a:off x="6978600" y="3962520"/>
                <a:ext cx="18925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KOORDINATNO OPISIVANJE BRZIN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143000" y="25909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kartove koordinat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4"/>
              <p:cNvSpPr txBox="1"/>
              <p:nvPr/>
            </p:nvSpPr>
            <p:spPr>
              <a:xfrm>
                <a:off x="1066680" y="3054240"/>
                <a:ext cx="77724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)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5"/>
              <p:cNvSpPr txBox="1"/>
              <p:nvPr/>
            </p:nvSpPr>
            <p:spPr>
              <a:xfrm>
                <a:off x="3048120" y="4343400"/>
                <a:ext cx="3409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SMISAO BRZIN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1066680" y="2438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o poznajemo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adašnji položaj tela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rednosti brzine, mo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žemo odrediti položaj tela u bilo kom trenutku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5"/>
              <p:cNvSpPr txBox="1"/>
              <p:nvPr/>
            </p:nvSpPr>
            <p:spPr>
              <a:xfrm>
                <a:off x="966960" y="3232080"/>
                <a:ext cx="77454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Rectangle 6"/>
          <p:cNvSpPr/>
          <p:nvPr/>
        </p:nvSpPr>
        <p:spPr>
          <a:xfrm>
            <a:off x="5181480" y="3352680"/>
            <a:ext cx="358164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3652560" y="5486400"/>
            <a:ext cx="50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istalna kugla za gledanje u budućnos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4328640" y="42670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udućnos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7467840" y="42670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adašnjos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Line 10"/>
          <p:cNvSpPr/>
          <p:nvPr/>
        </p:nvSpPr>
        <p:spPr>
          <a:xfrm flipV="1">
            <a:off x="5257800" y="3886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Line 11"/>
          <p:cNvSpPr/>
          <p:nvPr/>
        </p:nvSpPr>
        <p:spPr>
          <a:xfrm flipH="1" flipV="1">
            <a:off x="7314840" y="3886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Line 12"/>
          <p:cNvSpPr/>
          <p:nvPr/>
        </p:nvSpPr>
        <p:spPr>
          <a:xfrm flipV="1">
            <a:off x="6095880" y="4038480"/>
            <a:ext cx="4572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SMISAO BRZIN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4"/>
              <p:cNvSpPr txBox="1"/>
              <p:nvPr/>
            </p:nvSpPr>
            <p:spPr>
              <a:xfrm>
                <a:off x="1219320" y="2362320"/>
                <a:ext cx="7213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12"/>
              <p:cNvSpPr txBox="1"/>
              <p:nvPr/>
            </p:nvSpPr>
            <p:spPr>
              <a:xfrm>
                <a:off x="1168560" y="2909880"/>
                <a:ext cx="7092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13"/>
              <p:cNvSpPr txBox="1"/>
              <p:nvPr/>
            </p:nvSpPr>
            <p:spPr>
              <a:xfrm>
                <a:off x="1158840" y="3444840"/>
                <a:ext cx="7299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14"/>
              <p:cNvSpPr txBox="1"/>
              <p:nvPr/>
            </p:nvSpPr>
            <p:spPr>
              <a:xfrm>
                <a:off x="1359000" y="4343400"/>
                <a:ext cx="6441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0" name="Text Box 15"/>
          <p:cNvSpPr/>
          <p:nvPr/>
        </p:nvSpPr>
        <p:spPr>
          <a:xfrm>
            <a:off x="2819520" y="5029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li, kako se brzina menja 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UBRZANJE – PROMENA BRZIN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914400" y="2666880"/>
            <a:ext cx="78487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brzanje je prvi izvod brzine kretan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 vremen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3352680" y="51814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a] = [v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[t]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=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s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5"/>
              <p:cNvSpPr txBox="1"/>
              <p:nvPr/>
            </p:nvSpPr>
            <p:spPr>
              <a:xfrm>
                <a:off x="3263760" y="3657600"/>
                <a:ext cx="23749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35b74"/>
                </a:solidFill>
                <a:latin typeface="Arial"/>
              </a:rPr>
              <a:t>Prirodno opisivanje </a:t>
            </a:r>
            <a:r>
              <a:rPr b="1" lang="hr-HR" sz="3600" spc="-1" strike="noStrike">
                <a:solidFill>
                  <a:srgbClr val="335b74"/>
                </a:solidFill>
                <a:latin typeface="Arial"/>
              </a:rPr>
              <a:t>ubrzanj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Freeform 3"/>
          <p:cNvSpPr/>
          <p:nvPr/>
        </p:nvSpPr>
        <p:spPr>
          <a:xfrm>
            <a:off x="1676520" y="2587680"/>
            <a:ext cx="2006640" cy="2400120"/>
          </a:xfrm>
          <a:custGeom>
            <a:avLst/>
            <a:gdLst/>
            <a:ahLst/>
            <a:rect l="l" t="t" r="r" b="b"/>
            <a:pathLst>
              <a:path w="1264" h="1512">
                <a:moveTo>
                  <a:pt x="1056" y="1512"/>
                </a:moveTo>
                <a:cubicBezTo>
                  <a:pt x="1160" y="1364"/>
                  <a:pt x="1264" y="1216"/>
                  <a:pt x="1248" y="1080"/>
                </a:cubicBezTo>
                <a:cubicBezTo>
                  <a:pt x="1232" y="944"/>
                  <a:pt x="1064" y="768"/>
                  <a:pt x="960" y="696"/>
                </a:cubicBezTo>
                <a:cubicBezTo>
                  <a:pt x="856" y="624"/>
                  <a:pt x="744" y="688"/>
                  <a:pt x="624" y="648"/>
                </a:cubicBezTo>
                <a:cubicBezTo>
                  <a:pt x="504" y="608"/>
                  <a:pt x="312" y="536"/>
                  <a:pt x="240" y="456"/>
                </a:cubicBezTo>
                <a:cubicBezTo>
                  <a:pt x="168" y="376"/>
                  <a:pt x="216" y="240"/>
                  <a:pt x="192" y="168"/>
                </a:cubicBezTo>
                <a:cubicBezTo>
                  <a:pt x="168" y="96"/>
                  <a:pt x="128" y="48"/>
                  <a:pt x="96" y="24"/>
                </a:cubicBezTo>
                <a:cubicBezTo>
                  <a:pt x="64" y="0"/>
                  <a:pt x="16" y="24"/>
                  <a:pt x="0" y="24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Line 4"/>
          <p:cNvSpPr/>
          <p:nvPr/>
        </p:nvSpPr>
        <p:spPr>
          <a:xfrm>
            <a:off x="914400" y="45306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Line 5"/>
          <p:cNvSpPr/>
          <p:nvPr/>
        </p:nvSpPr>
        <p:spPr>
          <a:xfrm flipV="1">
            <a:off x="1219320" y="23968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Oval 6"/>
          <p:cNvSpPr/>
          <p:nvPr/>
        </p:nvSpPr>
        <p:spPr>
          <a:xfrm>
            <a:off x="1143000" y="4454640"/>
            <a:ext cx="15228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Oval 7"/>
          <p:cNvSpPr/>
          <p:nvPr/>
        </p:nvSpPr>
        <p:spPr>
          <a:xfrm>
            <a:off x="3252960" y="4870440"/>
            <a:ext cx="15228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Oval 8"/>
          <p:cNvSpPr/>
          <p:nvPr/>
        </p:nvSpPr>
        <p:spPr>
          <a:xfrm>
            <a:off x="1600200" y="2549520"/>
            <a:ext cx="15228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Text Box 9"/>
          <p:cNvSpPr/>
          <p:nvPr/>
        </p:nvSpPr>
        <p:spPr>
          <a:xfrm>
            <a:off x="3390480" y="46832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ševa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Text Box 10"/>
          <p:cNvSpPr/>
          <p:nvPr/>
        </p:nvSpPr>
        <p:spPr>
          <a:xfrm>
            <a:off x="1812960" y="23623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Text Box 16"/>
          <p:cNvSpPr/>
          <p:nvPr/>
        </p:nvSpPr>
        <p:spPr>
          <a:xfrm>
            <a:off x="685800" y="45720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ljev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17"/>
              <p:cNvSpPr txBox="1"/>
              <p:nvPr/>
            </p:nvSpPr>
            <p:spPr>
              <a:xfrm>
                <a:off x="3809880" y="3809880"/>
                <a:ext cx="7462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8"/>
              <p:cNvSpPr txBox="1"/>
              <p:nvPr/>
            </p:nvSpPr>
            <p:spPr>
              <a:xfrm>
                <a:off x="2819520" y="2962440"/>
                <a:ext cx="1492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Line 21"/>
          <p:cNvSpPr/>
          <p:nvPr/>
        </p:nvSpPr>
        <p:spPr>
          <a:xfrm flipV="1">
            <a:off x="3657600" y="3505320"/>
            <a:ext cx="1522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Line 22"/>
          <p:cNvSpPr/>
          <p:nvPr/>
        </p:nvSpPr>
        <p:spPr>
          <a:xfrm flipH="1" flipV="1">
            <a:off x="2514600" y="3048120"/>
            <a:ext cx="9144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29"/>
              <p:cNvSpPr txBox="1"/>
              <p:nvPr/>
            </p:nvSpPr>
            <p:spPr>
              <a:xfrm>
                <a:off x="7256520" y="5019840"/>
                <a:ext cx="57636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30"/>
              <p:cNvSpPr txBox="1"/>
              <p:nvPr/>
            </p:nvSpPr>
            <p:spPr>
              <a:xfrm>
                <a:off x="4081320" y="5129280"/>
                <a:ext cx="159408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1" name="Line 31"/>
          <p:cNvSpPr/>
          <p:nvPr/>
        </p:nvSpPr>
        <p:spPr>
          <a:xfrm flipV="1">
            <a:off x="7940520" y="5486400"/>
            <a:ext cx="1526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32"/>
              <p:cNvSpPr txBox="1"/>
              <p:nvPr/>
            </p:nvSpPr>
            <p:spPr>
              <a:xfrm>
                <a:off x="8001000" y="5800680"/>
                <a:ext cx="7462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Line 33"/>
          <p:cNvSpPr/>
          <p:nvPr/>
        </p:nvSpPr>
        <p:spPr>
          <a:xfrm flipH="1" flipV="1">
            <a:off x="7026120" y="5562720"/>
            <a:ext cx="9144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34"/>
              <p:cNvSpPr txBox="1"/>
              <p:nvPr/>
            </p:nvSpPr>
            <p:spPr>
              <a:xfrm>
                <a:off x="6095880" y="5943600"/>
                <a:ext cx="1492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Line 35"/>
          <p:cNvSpPr/>
          <p:nvPr/>
        </p:nvSpPr>
        <p:spPr>
          <a:xfrm flipH="1">
            <a:off x="7086600" y="549576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Line 36"/>
          <p:cNvSpPr/>
          <p:nvPr/>
        </p:nvSpPr>
        <p:spPr>
          <a:xfrm flipH="1">
            <a:off x="5699160" y="5495760"/>
            <a:ext cx="236232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35b74"/>
                </a:solidFill>
                <a:latin typeface="Arial"/>
              </a:rPr>
              <a:t>Prirodno opisivanje </a:t>
            </a:r>
            <a:r>
              <a:rPr b="1" lang="hr-HR" sz="3600" spc="-1" strike="noStrike">
                <a:solidFill>
                  <a:srgbClr val="335b74"/>
                </a:solidFill>
                <a:latin typeface="Arial"/>
              </a:rPr>
              <a:t>ubrzanj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Freeform 3"/>
          <p:cNvSpPr/>
          <p:nvPr/>
        </p:nvSpPr>
        <p:spPr>
          <a:xfrm>
            <a:off x="2987640" y="3238560"/>
            <a:ext cx="2006640" cy="2400120"/>
          </a:xfrm>
          <a:custGeom>
            <a:avLst/>
            <a:gdLst/>
            <a:ahLst/>
            <a:rect l="l" t="t" r="r" b="b"/>
            <a:pathLst>
              <a:path w="1264" h="1512">
                <a:moveTo>
                  <a:pt x="1056" y="1512"/>
                </a:moveTo>
                <a:cubicBezTo>
                  <a:pt x="1160" y="1364"/>
                  <a:pt x="1264" y="1216"/>
                  <a:pt x="1248" y="1080"/>
                </a:cubicBezTo>
                <a:cubicBezTo>
                  <a:pt x="1232" y="944"/>
                  <a:pt x="1064" y="768"/>
                  <a:pt x="960" y="696"/>
                </a:cubicBezTo>
                <a:cubicBezTo>
                  <a:pt x="856" y="624"/>
                  <a:pt x="744" y="688"/>
                  <a:pt x="624" y="648"/>
                </a:cubicBezTo>
                <a:cubicBezTo>
                  <a:pt x="504" y="608"/>
                  <a:pt x="312" y="536"/>
                  <a:pt x="240" y="456"/>
                </a:cubicBezTo>
                <a:cubicBezTo>
                  <a:pt x="168" y="376"/>
                  <a:pt x="216" y="240"/>
                  <a:pt x="192" y="168"/>
                </a:cubicBezTo>
                <a:cubicBezTo>
                  <a:pt x="168" y="96"/>
                  <a:pt x="128" y="48"/>
                  <a:pt x="96" y="24"/>
                </a:cubicBezTo>
                <a:cubicBezTo>
                  <a:pt x="64" y="0"/>
                  <a:pt x="16" y="24"/>
                  <a:pt x="0" y="24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Line 4"/>
          <p:cNvSpPr/>
          <p:nvPr/>
        </p:nvSpPr>
        <p:spPr>
          <a:xfrm>
            <a:off x="2225520" y="5105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Line 5"/>
          <p:cNvSpPr/>
          <p:nvPr/>
        </p:nvSpPr>
        <p:spPr>
          <a:xfrm flipV="1">
            <a:off x="2530440" y="293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Oval 6"/>
          <p:cNvSpPr/>
          <p:nvPr/>
        </p:nvSpPr>
        <p:spPr>
          <a:xfrm>
            <a:off x="2454120" y="5029200"/>
            <a:ext cx="15264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Oval 7"/>
          <p:cNvSpPr/>
          <p:nvPr/>
        </p:nvSpPr>
        <p:spPr>
          <a:xfrm>
            <a:off x="4564080" y="5486400"/>
            <a:ext cx="15228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Oval 8"/>
          <p:cNvSpPr/>
          <p:nvPr/>
        </p:nvSpPr>
        <p:spPr>
          <a:xfrm>
            <a:off x="2911320" y="3165480"/>
            <a:ext cx="15264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4701600" y="52164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ševa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Text Box 10"/>
          <p:cNvSpPr/>
          <p:nvPr/>
        </p:nvSpPr>
        <p:spPr>
          <a:xfrm>
            <a:off x="3124080" y="28954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Text Box 11"/>
          <p:cNvSpPr/>
          <p:nvPr/>
        </p:nvSpPr>
        <p:spPr>
          <a:xfrm>
            <a:off x="1981080" y="51814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ljev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2"/>
              <p:cNvSpPr txBox="1"/>
              <p:nvPr/>
            </p:nvSpPr>
            <p:spPr>
              <a:xfrm>
                <a:off x="5121360" y="4384800"/>
                <a:ext cx="745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3"/>
              <p:cNvSpPr txBox="1"/>
              <p:nvPr/>
            </p:nvSpPr>
            <p:spPr>
              <a:xfrm>
                <a:off x="3994200" y="3460680"/>
                <a:ext cx="1458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Line 14"/>
          <p:cNvSpPr/>
          <p:nvPr/>
        </p:nvSpPr>
        <p:spPr>
          <a:xfrm flipV="1">
            <a:off x="4968720" y="4121280"/>
            <a:ext cx="1526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17"/>
              <p:cNvSpPr txBox="1"/>
              <p:nvPr/>
            </p:nvSpPr>
            <p:spPr>
              <a:xfrm>
                <a:off x="2556000" y="4114800"/>
                <a:ext cx="125388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1" name="Line 25"/>
          <p:cNvSpPr/>
          <p:nvPr/>
        </p:nvSpPr>
        <p:spPr>
          <a:xfrm flipH="1" flipV="1">
            <a:off x="4556160" y="3886200"/>
            <a:ext cx="3808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Line 26"/>
          <p:cNvSpPr/>
          <p:nvPr/>
        </p:nvSpPr>
        <p:spPr>
          <a:xfrm flipH="1" flipV="1">
            <a:off x="3749760" y="4273200"/>
            <a:ext cx="121896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reeform 3"/>
          <p:cNvSpPr/>
          <p:nvPr/>
        </p:nvSpPr>
        <p:spPr>
          <a:xfrm>
            <a:off x="2971800" y="3197160"/>
            <a:ext cx="2006640" cy="2400480"/>
          </a:xfrm>
          <a:custGeom>
            <a:avLst/>
            <a:gdLst/>
            <a:ahLst/>
            <a:rect l="l" t="t" r="r" b="b"/>
            <a:pathLst>
              <a:path w="1264" h="1512">
                <a:moveTo>
                  <a:pt x="1056" y="1512"/>
                </a:moveTo>
                <a:cubicBezTo>
                  <a:pt x="1160" y="1364"/>
                  <a:pt x="1264" y="1216"/>
                  <a:pt x="1248" y="1080"/>
                </a:cubicBezTo>
                <a:cubicBezTo>
                  <a:pt x="1232" y="944"/>
                  <a:pt x="1064" y="768"/>
                  <a:pt x="960" y="696"/>
                </a:cubicBezTo>
                <a:cubicBezTo>
                  <a:pt x="856" y="624"/>
                  <a:pt x="744" y="688"/>
                  <a:pt x="624" y="648"/>
                </a:cubicBezTo>
                <a:cubicBezTo>
                  <a:pt x="504" y="608"/>
                  <a:pt x="312" y="536"/>
                  <a:pt x="240" y="456"/>
                </a:cubicBezTo>
                <a:cubicBezTo>
                  <a:pt x="168" y="376"/>
                  <a:pt x="216" y="240"/>
                  <a:pt x="192" y="168"/>
                </a:cubicBezTo>
                <a:cubicBezTo>
                  <a:pt x="168" y="96"/>
                  <a:pt x="128" y="48"/>
                  <a:pt x="96" y="24"/>
                </a:cubicBezTo>
                <a:cubicBezTo>
                  <a:pt x="64" y="0"/>
                  <a:pt x="16" y="24"/>
                  <a:pt x="0" y="24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Line 4"/>
          <p:cNvSpPr/>
          <p:nvPr/>
        </p:nvSpPr>
        <p:spPr>
          <a:xfrm>
            <a:off x="2209680" y="514044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Line 5"/>
          <p:cNvSpPr/>
          <p:nvPr/>
        </p:nvSpPr>
        <p:spPr>
          <a:xfrm flipV="1">
            <a:off x="2514600" y="30063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Oval 6"/>
          <p:cNvSpPr/>
          <p:nvPr/>
        </p:nvSpPr>
        <p:spPr>
          <a:xfrm>
            <a:off x="2438280" y="5064120"/>
            <a:ext cx="15264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Oval 7"/>
          <p:cNvSpPr/>
          <p:nvPr/>
        </p:nvSpPr>
        <p:spPr>
          <a:xfrm>
            <a:off x="4548240" y="5479920"/>
            <a:ext cx="152280" cy="15264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Oval 8"/>
          <p:cNvSpPr/>
          <p:nvPr/>
        </p:nvSpPr>
        <p:spPr>
          <a:xfrm>
            <a:off x="2895480" y="3159000"/>
            <a:ext cx="152640" cy="15264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4685760" y="52927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ševa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3108240" y="28954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1981080" y="51814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ljev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15"/>
              <p:cNvSpPr txBox="1"/>
              <p:nvPr/>
            </p:nvSpPr>
            <p:spPr>
              <a:xfrm>
                <a:off x="3395520" y="4038480"/>
                <a:ext cx="3384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73" name="Line 17"/>
          <p:cNvSpPr/>
          <p:nvPr/>
        </p:nvSpPr>
        <p:spPr>
          <a:xfrm flipH="1" flipV="1">
            <a:off x="3733920" y="4266720"/>
            <a:ext cx="121896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Line 19"/>
          <p:cNvSpPr/>
          <p:nvPr/>
        </p:nvSpPr>
        <p:spPr>
          <a:xfrm flipH="1">
            <a:off x="4800240" y="3200400"/>
            <a:ext cx="30492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Line 20"/>
          <p:cNvSpPr/>
          <p:nvPr/>
        </p:nvSpPr>
        <p:spPr>
          <a:xfrm>
            <a:off x="3352680" y="4800600"/>
            <a:ext cx="3657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Line 22"/>
          <p:cNvSpPr/>
          <p:nvPr/>
        </p:nvSpPr>
        <p:spPr>
          <a:xfrm>
            <a:off x="3733920" y="4267080"/>
            <a:ext cx="1295280" cy="152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Line 23"/>
          <p:cNvSpPr/>
          <p:nvPr/>
        </p:nvSpPr>
        <p:spPr>
          <a:xfrm flipV="1">
            <a:off x="4952880" y="4419360"/>
            <a:ext cx="4608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Line 24"/>
          <p:cNvSpPr/>
          <p:nvPr/>
        </p:nvSpPr>
        <p:spPr>
          <a:xfrm flipH="1">
            <a:off x="3657600" y="4267080"/>
            <a:ext cx="76320" cy="557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Line 25"/>
          <p:cNvSpPr/>
          <p:nvPr/>
        </p:nvSpPr>
        <p:spPr>
          <a:xfrm flipH="1" flipV="1">
            <a:off x="3657600" y="4822560"/>
            <a:ext cx="1295280" cy="14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26"/>
              <p:cNvSpPr txBox="1"/>
              <p:nvPr/>
            </p:nvSpPr>
            <p:spPr>
              <a:xfrm>
                <a:off x="4962600" y="4335480"/>
                <a:ext cx="406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27"/>
              <p:cNvSpPr txBox="1"/>
              <p:nvPr/>
            </p:nvSpPr>
            <p:spPr>
              <a:xfrm>
                <a:off x="3979800" y="4800600"/>
                <a:ext cx="474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2" name="Rectangle 29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35b74"/>
                </a:solidFill>
                <a:latin typeface="Arial"/>
              </a:rPr>
              <a:t>Prirodno opisivanje </a:t>
            </a:r>
            <a:r>
              <a:rPr b="1" lang="hr-HR" sz="3600" spc="-1" strike="noStrike">
                <a:solidFill>
                  <a:srgbClr val="335b74"/>
                </a:solidFill>
                <a:latin typeface="Arial"/>
              </a:rPr>
              <a:t>ubrzanj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RETANJE - DEFINICI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219320" y="3635280"/>
            <a:ext cx="69339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ehaničko kretanje je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mena položaja jednog tela u odnosu na drug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PRIRODNO OPISIVANJE 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UBRZA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914040" y="2133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angencijalno ubrzanj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zrok: promena intenziteta brzin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4"/>
              <p:cNvSpPr txBox="1"/>
              <p:nvPr/>
            </p:nvSpPr>
            <p:spPr>
              <a:xfrm>
                <a:off x="2819520" y="3352680"/>
                <a:ext cx="27432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|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|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6"/>
              <p:cNvSpPr txBox="1"/>
              <p:nvPr/>
            </p:nvSpPr>
            <p:spPr>
              <a:xfrm>
                <a:off x="3683160" y="5257800"/>
                <a:ext cx="1015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7" name="Rectangle 3"/>
          <p:cNvSpPr/>
          <p:nvPr/>
        </p:nvSpPr>
        <p:spPr>
          <a:xfrm>
            <a:off x="1066680" y="434340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ormalno ubrzanj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zrok: promena intenziteta brzin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SMISAO UBRZA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3"/>
              <p:cNvSpPr txBox="1"/>
              <p:nvPr/>
            </p:nvSpPr>
            <p:spPr>
              <a:xfrm>
                <a:off x="1204920" y="2362320"/>
                <a:ext cx="7243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6"/>
              <p:cNvSpPr txBox="1"/>
              <p:nvPr/>
            </p:nvSpPr>
            <p:spPr>
              <a:xfrm>
                <a:off x="1344600" y="4343400"/>
                <a:ext cx="647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1" name="Text Box 7"/>
          <p:cNvSpPr/>
          <p:nvPr/>
        </p:nvSpPr>
        <p:spPr>
          <a:xfrm>
            <a:off x="2743200" y="5029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Ali, kako se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brzanje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dre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je</a:t>
            </a: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8"/>
              <p:cNvSpPr txBox="1"/>
              <p:nvPr/>
            </p:nvSpPr>
            <p:spPr>
              <a:xfrm>
                <a:off x="1233360" y="2833560"/>
                <a:ext cx="72136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9"/>
              <p:cNvSpPr txBox="1"/>
              <p:nvPr/>
            </p:nvSpPr>
            <p:spPr>
              <a:xfrm>
                <a:off x="1174680" y="3352680"/>
                <a:ext cx="7332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RAVOLINIJSKO KRETA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Putanja – prava linij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914400" y="358128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Postoji samo tangencijalno ubrzanj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Jednodimenzionalno kretanj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Koristi se samo jedna osa za opisivanj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5"/>
              <p:cNvSpPr txBox="1"/>
              <p:nvPr/>
            </p:nvSpPr>
            <p:spPr>
              <a:xfrm>
                <a:off x="3352680" y="2971800"/>
                <a:ext cx="1955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RAVOLINIJSKO KRETA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Ravnomerno (a=0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Ravnomerno ubrzano (a=const.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Impulsn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Oscilatorn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RAVNOMERNO PRAVOLINIJSKO KRETA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5996160" y="2084400"/>
          <a:ext cx="1604880" cy="3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96160" y="2084400"/>
                    <a:ext cx="1604880" cy="3319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3" name="Object 14"/>
          <p:cNvGraphicFramePr/>
          <p:nvPr/>
        </p:nvGraphicFramePr>
        <p:xfrm>
          <a:off x="1384200" y="2987640"/>
          <a:ext cx="3946680" cy="86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84200" y="2987640"/>
                    <a:ext cx="394668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Object 16"/>
          <p:cNvGraphicFramePr/>
          <p:nvPr/>
        </p:nvGraphicFramePr>
        <p:xfrm>
          <a:off x="5978520" y="3297240"/>
          <a:ext cx="165420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78520" y="3297240"/>
                    <a:ext cx="1654200" cy="411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7" name="Object 17"/>
          <p:cNvGraphicFramePr/>
          <p:nvPr/>
        </p:nvGraphicFramePr>
        <p:xfrm>
          <a:off x="2185920" y="5664240"/>
          <a:ext cx="275112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8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85920" y="5664240"/>
                    <a:ext cx="27511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18"/>
          <p:cNvGraphicFramePr/>
          <p:nvPr/>
        </p:nvGraphicFramePr>
        <p:xfrm>
          <a:off x="5943600" y="4718160"/>
          <a:ext cx="1352520" cy="40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0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4718160"/>
                    <a:ext cx="1352520" cy="4078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1" name="Object 17"/>
          <p:cNvGraphicFramePr/>
          <p:nvPr/>
        </p:nvGraphicFramePr>
        <p:xfrm>
          <a:off x="1413000" y="4191120"/>
          <a:ext cx="3921120" cy="40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2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13000" y="4191120"/>
                    <a:ext cx="39211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17"/>
          <p:cNvGraphicFramePr/>
          <p:nvPr/>
        </p:nvGraphicFramePr>
        <p:xfrm>
          <a:off x="1434960" y="4667400"/>
          <a:ext cx="3895920" cy="45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4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34960" y="4667400"/>
                    <a:ext cx="38959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1"/>
          <p:cNvGraphicFramePr/>
          <p:nvPr/>
        </p:nvGraphicFramePr>
        <p:xfrm>
          <a:off x="5956200" y="5769000"/>
          <a:ext cx="736560" cy="25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16" name="Object 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56200" y="5769000"/>
                    <a:ext cx="736560" cy="252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RETANJE - RELATIVNOS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133720" y="327636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"U odnosu" = RELATIVN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b26b02"/>
                </a:solidFill>
                <a:latin typeface="Tw Cen MT"/>
              </a:rPr>
              <a:t>REFERENTNO TEL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KLASIFIKACIJA KRETANJA PO OBJEKTU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graphicFrame>
        <p:nvGraphicFramePr>
          <p:cNvPr id="269" name="Object 3"/>
          <p:cNvGraphicFramePr/>
          <p:nvPr/>
        </p:nvGraphicFramePr>
        <p:xfrm>
          <a:off x="914400" y="2362320"/>
          <a:ext cx="8001000" cy="20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8001000" cy="20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4"/>
          <p:cNvSpPr/>
          <p:nvPr/>
        </p:nvSpPr>
        <p:spPr>
          <a:xfrm>
            <a:off x="990720" y="4572000"/>
            <a:ext cx="78483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aterijalna tačka je telo čije su dimenzije mnogo manje od dimenzija putanje po kojoj se telo kreć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990720" y="5616720"/>
            <a:ext cx="7848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to telo je telo čiji se oblik tokom kretanja ne men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OPISIVANJE POLOŽA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392436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Vektor položa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Line 8"/>
          <p:cNvSpPr/>
          <p:nvPr/>
        </p:nvSpPr>
        <p:spPr>
          <a:xfrm>
            <a:off x="2438280" y="52578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Line 9"/>
          <p:cNvSpPr/>
          <p:nvPr/>
        </p:nvSpPr>
        <p:spPr>
          <a:xfrm flipV="1">
            <a:off x="2743200" y="3123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277" name="AutoShape 14"/>
          <p:cNvCxnSpPr>
            <a:stCxn id="278" idx="6"/>
            <a:endCxn id="279" idx="3"/>
          </p:cNvCxnSpPr>
          <p:nvPr/>
        </p:nvCxnSpPr>
        <p:spPr>
          <a:xfrm>
            <a:off x="2819520" y="5257440"/>
            <a:ext cx="2589840" cy="470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0" name="AutoShape 15"/>
          <p:cNvCxnSpPr>
            <a:stCxn id="278" idx="7"/>
            <a:endCxn id="281" idx="3"/>
          </p:cNvCxnSpPr>
          <p:nvPr/>
        </p:nvCxnSpPr>
        <p:spPr>
          <a:xfrm flipV="1">
            <a:off x="2796840" y="3406320"/>
            <a:ext cx="959400" cy="1797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282" name="Group 22"/>
          <p:cNvGrpSpPr/>
          <p:nvPr/>
        </p:nvGrpSpPr>
        <p:grpSpPr>
          <a:xfrm>
            <a:off x="1523880" y="5181480"/>
            <a:ext cx="1295640" cy="459720"/>
            <a:chOff x="1523880" y="5181480"/>
            <a:chExt cx="1295640" cy="459720"/>
          </a:xfrm>
        </p:grpSpPr>
        <p:sp>
          <p:nvSpPr>
            <p:cNvPr id="278" name="Oval 10"/>
            <p:cNvSpPr/>
            <p:nvPr/>
          </p:nvSpPr>
          <p:spPr>
            <a:xfrm>
              <a:off x="2666880" y="5181480"/>
              <a:ext cx="152640" cy="15264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3" name="Text Box 16"/>
            <p:cNvSpPr/>
            <p:nvPr/>
          </p:nvSpPr>
          <p:spPr>
            <a:xfrm>
              <a:off x="1523880" y="5181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raljevo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284" name="Group 23"/>
          <p:cNvGrpSpPr/>
          <p:nvPr/>
        </p:nvGrpSpPr>
        <p:grpSpPr>
          <a:xfrm>
            <a:off x="5386320" y="5410080"/>
            <a:ext cx="1470240" cy="459720"/>
            <a:chOff x="5386320" y="5410080"/>
            <a:chExt cx="1470240" cy="459720"/>
          </a:xfrm>
        </p:grpSpPr>
        <p:sp>
          <p:nvSpPr>
            <p:cNvPr id="279" name="Oval 11"/>
            <p:cNvSpPr/>
            <p:nvPr/>
          </p:nvSpPr>
          <p:spPr>
            <a:xfrm>
              <a:off x="5386320" y="5597640"/>
              <a:ext cx="152640" cy="15228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5" name="Text Box 17"/>
            <p:cNvSpPr/>
            <p:nvPr/>
          </p:nvSpPr>
          <p:spPr>
            <a:xfrm>
              <a:off x="5523840" y="541008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ruševac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286" name="Group 24"/>
          <p:cNvGrpSpPr/>
          <p:nvPr/>
        </p:nvGrpSpPr>
        <p:grpSpPr>
          <a:xfrm>
            <a:off x="3733920" y="3089160"/>
            <a:ext cx="1800000" cy="459720"/>
            <a:chOff x="3733920" y="3089160"/>
            <a:chExt cx="1800000" cy="459720"/>
          </a:xfrm>
        </p:grpSpPr>
        <p:sp>
          <p:nvSpPr>
            <p:cNvPr id="281" name="Oval 12"/>
            <p:cNvSpPr/>
            <p:nvPr/>
          </p:nvSpPr>
          <p:spPr>
            <a:xfrm>
              <a:off x="3733920" y="3276720"/>
              <a:ext cx="152280" cy="152280"/>
            </a:xfrm>
            <a:prstGeom prst="ellipse">
              <a:avLst/>
            </a:prstGeom>
            <a:solidFill>
              <a:srgbClr val="1cad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7" name="Text Box 18"/>
            <p:cNvSpPr/>
            <p:nvPr/>
          </p:nvSpPr>
          <p:spPr>
            <a:xfrm>
              <a:off x="3946680" y="3089160"/>
              <a:ext cx="158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ragujevac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8" name="Object 19"/>
              <p:cNvSpPr txBox="1"/>
              <p:nvPr/>
            </p:nvSpPr>
            <p:spPr>
              <a:xfrm>
                <a:off x="3352680" y="3962520"/>
                <a:ext cx="609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1"/>
              <p:cNvSpPr txBox="1"/>
              <p:nvPr/>
            </p:nvSpPr>
            <p:spPr>
              <a:xfrm>
                <a:off x="3919680" y="5410080"/>
                <a:ext cx="576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3"/>
          <p:cNvSpPr/>
          <p:nvPr/>
        </p:nvSpPr>
        <p:spPr>
          <a:xfrm>
            <a:off x="4876920" y="3886200"/>
            <a:ext cx="3581280" cy="762120"/>
          </a:xfrm>
          <a:prstGeom prst="rect">
            <a:avLst/>
          </a:prstGeom>
          <a:solidFill>
            <a:srgbClr val="1cade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OPISIVANJE KRETA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Vektor po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ra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Line 9"/>
          <p:cNvSpPr/>
          <p:nvPr/>
        </p:nvSpPr>
        <p:spPr>
          <a:xfrm>
            <a:off x="2438280" y="52578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Line 10"/>
          <p:cNvSpPr/>
          <p:nvPr/>
        </p:nvSpPr>
        <p:spPr>
          <a:xfrm flipV="1">
            <a:off x="2743200" y="3123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2666880" y="5181480"/>
            <a:ext cx="152640" cy="15264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Oval 12"/>
          <p:cNvSpPr/>
          <p:nvPr/>
        </p:nvSpPr>
        <p:spPr>
          <a:xfrm>
            <a:off x="5386320" y="5597640"/>
            <a:ext cx="15264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Oval 13"/>
          <p:cNvSpPr/>
          <p:nvPr/>
        </p:nvSpPr>
        <p:spPr>
          <a:xfrm>
            <a:off x="3733920" y="3276720"/>
            <a:ext cx="15228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298" name="AutoShape 14"/>
          <p:cNvCxnSpPr>
            <a:stCxn id="295" idx="5"/>
            <a:endCxn id="296" idx="3"/>
          </p:cNvCxnSpPr>
          <p:nvPr/>
        </p:nvCxnSpPr>
        <p:spPr>
          <a:xfrm>
            <a:off x="2797200" y="5311440"/>
            <a:ext cx="261216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AutoShape 15"/>
          <p:cNvCxnSpPr>
            <a:stCxn id="295" idx="7"/>
            <a:endCxn id="297" idx="3"/>
          </p:cNvCxnSpPr>
          <p:nvPr/>
        </p:nvCxnSpPr>
        <p:spPr>
          <a:xfrm flipV="1">
            <a:off x="2796840" y="3406320"/>
            <a:ext cx="959400" cy="179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0" name="Text Box 16"/>
          <p:cNvSpPr/>
          <p:nvPr/>
        </p:nvSpPr>
        <p:spPr>
          <a:xfrm>
            <a:off x="1523880" y="51814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ljev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5523840" y="5410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ševa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Text Box 18"/>
          <p:cNvSpPr/>
          <p:nvPr/>
        </p:nvSpPr>
        <p:spPr>
          <a:xfrm>
            <a:off x="3946680" y="308916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9"/>
              <p:cNvSpPr txBox="1"/>
              <p:nvPr/>
            </p:nvSpPr>
            <p:spPr>
              <a:xfrm>
                <a:off x="3352680" y="4005360"/>
                <a:ext cx="9493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ajnj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0"/>
              <p:cNvSpPr txBox="1"/>
              <p:nvPr/>
            </p:nvSpPr>
            <p:spPr>
              <a:xfrm>
                <a:off x="3886200" y="5392800"/>
                <a:ext cx="6444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305" name="AutoShape 21"/>
          <p:cNvCxnSpPr>
            <a:stCxn id="296" idx="1"/>
            <a:endCxn id="297" idx="4"/>
          </p:cNvCxnSpPr>
          <p:nvPr/>
        </p:nvCxnSpPr>
        <p:spPr>
          <a:xfrm flipH="1" flipV="1">
            <a:off x="3809160" y="3428280"/>
            <a:ext cx="1599480" cy="2191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06" name="Object 22"/>
              <p:cNvSpPr txBox="1"/>
              <p:nvPr/>
            </p:nvSpPr>
            <p:spPr>
              <a:xfrm>
                <a:off x="4952880" y="3892680"/>
                <a:ext cx="35053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ajnj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reeform 19"/>
          <p:cNvSpPr/>
          <p:nvPr/>
        </p:nvSpPr>
        <p:spPr>
          <a:xfrm>
            <a:off x="3809880" y="3044880"/>
            <a:ext cx="2006640" cy="2400120"/>
          </a:xfrm>
          <a:custGeom>
            <a:avLst/>
            <a:gdLst/>
            <a:ahLst/>
            <a:rect l="l" t="t" r="r" b="b"/>
            <a:pathLst>
              <a:path w="1264" h="1512">
                <a:moveTo>
                  <a:pt x="1056" y="1512"/>
                </a:moveTo>
                <a:cubicBezTo>
                  <a:pt x="1160" y="1364"/>
                  <a:pt x="1264" y="1216"/>
                  <a:pt x="1248" y="1080"/>
                </a:cubicBezTo>
                <a:cubicBezTo>
                  <a:pt x="1232" y="944"/>
                  <a:pt x="1064" y="768"/>
                  <a:pt x="960" y="696"/>
                </a:cubicBezTo>
                <a:cubicBezTo>
                  <a:pt x="856" y="624"/>
                  <a:pt x="744" y="688"/>
                  <a:pt x="624" y="648"/>
                </a:cubicBezTo>
                <a:cubicBezTo>
                  <a:pt x="504" y="608"/>
                  <a:pt x="312" y="536"/>
                  <a:pt x="240" y="456"/>
                </a:cubicBezTo>
                <a:cubicBezTo>
                  <a:pt x="168" y="376"/>
                  <a:pt x="216" y="240"/>
                  <a:pt x="192" y="168"/>
                </a:cubicBezTo>
                <a:cubicBezTo>
                  <a:pt x="168" y="96"/>
                  <a:pt x="128" y="48"/>
                  <a:pt x="96" y="24"/>
                </a:cubicBezTo>
                <a:cubicBezTo>
                  <a:pt x="64" y="0"/>
                  <a:pt x="16" y="24"/>
                  <a:pt x="0" y="24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OPISIVANJE KRETA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Trajektorija (putanja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Line 5"/>
          <p:cNvSpPr/>
          <p:nvPr/>
        </p:nvSpPr>
        <p:spPr>
          <a:xfrm>
            <a:off x="2438280" y="49878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Line 6"/>
          <p:cNvSpPr/>
          <p:nvPr/>
        </p:nvSpPr>
        <p:spPr>
          <a:xfrm flipV="1">
            <a:off x="2743200" y="28540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Oval 7"/>
          <p:cNvSpPr/>
          <p:nvPr/>
        </p:nvSpPr>
        <p:spPr>
          <a:xfrm>
            <a:off x="2666880" y="4911840"/>
            <a:ext cx="15264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Oval 8"/>
          <p:cNvSpPr/>
          <p:nvPr/>
        </p:nvSpPr>
        <p:spPr>
          <a:xfrm>
            <a:off x="5386320" y="5327640"/>
            <a:ext cx="15264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Oval 9"/>
          <p:cNvSpPr/>
          <p:nvPr/>
        </p:nvSpPr>
        <p:spPr>
          <a:xfrm>
            <a:off x="3733920" y="3006720"/>
            <a:ext cx="152280" cy="152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15" name="AutoShape 10"/>
          <p:cNvCxnSpPr>
            <a:stCxn id="312" idx="7"/>
            <a:endCxn id="313" idx="3"/>
          </p:cNvCxnSpPr>
          <p:nvPr/>
        </p:nvCxnSpPr>
        <p:spPr>
          <a:xfrm>
            <a:off x="2797200" y="4933800"/>
            <a:ext cx="2612160" cy="52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AutoShape 11"/>
          <p:cNvCxnSpPr>
            <a:stCxn id="312" idx="7"/>
            <a:endCxn id="314" idx="3"/>
          </p:cNvCxnSpPr>
          <p:nvPr/>
        </p:nvCxnSpPr>
        <p:spPr>
          <a:xfrm flipV="1">
            <a:off x="2796840" y="3136320"/>
            <a:ext cx="959400" cy="17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12"/>
          <p:cNvSpPr/>
          <p:nvPr/>
        </p:nvSpPr>
        <p:spPr>
          <a:xfrm>
            <a:off x="1523880" y="49118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ljev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5523840" y="51404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ševa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3946680" y="28195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15"/>
              <p:cNvSpPr txBox="1"/>
              <p:nvPr/>
            </p:nvSpPr>
            <p:spPr>
              <a:xfrm>
                <a:off x="3241800" y="3887640"/>
                <a:ext cx="9493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ajnj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16"/>
              <p:cNvSpPr txBox="1"/>
              <p:nvPr/>
            </p:nvSpPr>
            <p:spPr>
              <a:xfrm>
                <a:off x="3886200" y="5122800"/>
                <a:ext cx="64440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322" name="AutoShape 20"/>
          <p:cNvCxnSpPr>
            <a:stCxn id="312" idx="6"/>
            <a:endCxn id="307" idx="1"/>
          </p:cNvCxnSpPr>
          <p:nvPr/>
        </p:nvCxnSpPr>
        <p:spPr>
          <a:xfrm flipV="1">
            <a:off x="2819520" y="4758480"/>
            <a:ext cx="29916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21"/>
          <p:cNvCxnSpPr>
            <a:stCxn id="312" idx="6"/>
            <a:endCxn id="307" idx="2"/>
          </p:cNvCxnSpPr>
          <p:nvPr/>
        </p:nvCxnSpPr>
        <p:spPr>
          <a:xfrm flipV="1">
            <a:off x="2819520" y="4149360"/>
            <a:ext cx="25344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4" name="Line 23"/>
          <p:cNvSpPr/>
          <p:nvPr/>
        </p:nvSpPr>
        <p:spPr>
          <a:xfrm flipV="1">
            <a:off x="2819520" y="392076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Line 24"/>
          <p:cNvSpPr/>
          <p:nvPr/>
        </p:nvSpPr>
        <p:spPr>
          <a:xfrm flipV="1">
            <a:off x="2743200" y="3539880"/>
            <a:ext cx="137160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OPISIVANJE KRETA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143000" y="2743200"/>
            <a:ext cx="69343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rajektorija (putanja) je geometrijsko mesto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jeva vektora položaja tokom kretan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143000" y="4473720"/>
            <a:ext cx="69343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ut je dužina putan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3733920" y="54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r] = [s] = 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POMERAJ I PU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cxnSp>
        <p:nvCxnSpPr>
          <p:cNvPr id="331" name="Straight Arrow Connector 3"/>
          <p:cNvCxnSpPr/>
          <p:nvPr/>
        </p:nvCxnSpPr>
        <p:spPr>
          <a:xfrm>
            <a:off x="2255760" y="2533320"/>
            <a:ext cx="502992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2" name="Straight Arrow Connector 4"/>
          <p:cNvCxnSpPr/>
          <p:nvPr/>
        </p:nvCxnSpPr>
        <p:spPr>
          <a:xfrm flipH="1">
            <a:off x="2255400" y="2685600"/>
            <a:ext cx="502992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333" name="Object 5"/>
          <p:cNvGraphicFramePr/>
          <p:nvPr/>
        </p:nvGraphicFramePr>
        <p:xfrm>
          <a:off x="4605480" y="2762280"/>
          <a:ext cx="241200" cy="44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5480" y="2762280"/>
                    <a:ext cx="2412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Oval 6"/>
          <p:cNvSpPr/>
          <p:nvPr/>
        </p:nvSpPr>
        <p:spPr>
          <a:xfrm>
            <a:off x="1951200" y="2496960"/>
            <a:ext cx="228600" cy="228600"/>
          </a:xfrm>
          <a:prstGeom prst="ellipse">
            <a:avLst/>
          </a:prstGeom>
          <a:solidFill>
            <a:srgbClr val="1cade4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Oval 7"/>
          <p:cNvSpPr/>
          <p:nvPr/>
        </p:nvSpPr>
        <p:spPr>
          <a:xfrm>
            <a:off x="7361280" y="2492280"/>
            <a:ext cx="228600" cy="228600"/>
          </a:xfrm>
          <a:prstGeom prst="ellipse">
            <a:avLst/>
          </a:prstGeom>
          <a:solidFill>
            <a:srgbClr val="1cade4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37" name="Object 8"/>
          <p:cNvGraphicFramePr/>
          <p:nvPr/>
        </p:nvGraphicFramePr>
        <p:xfrm>
          <a:off x="1870200" y="2779560"/>
          <a:ext cx="37944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0200" y="2779560"/>
                    <a:ext cx="3794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9"/>
          <p:cNvGraphicFramePr/>
          <p:nvPr/>
        </p:nvGraphicFramePr>
        <p:xfrm>
          <a:off x="7316640" y="2725560"/>
          <a:ext cx="379440" cy="41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6640" y="2725560"/>
                    <a:ext cx="3794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10"/>
          <p:cNvGraphicFramePr/>
          <p:nvPr/>
        </p:nvGraphicFramePr>
        <p:xfrm>
          <a:off x="3494160" y="3295800"/>
          <a:ext cx="2343240" cy="51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4160" y="3295800"/>
                    <a:ext cx="23432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 Box 3"/>
          <p:cNvSpPr/>
          <p:nvPr/>
        </p:nvSpPr>
        <p:spPr>
          <a:xfrm>
            <a:off x="1143000" y="5581800"/>
            <a:ext cx="746748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Put i dužina pomeraja su jednaki</a:t>
            </a:r>
            <a:br>
              <a:rPr sz="2400"/>
            </a:b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SAMO</a:t>
            </a:r>
            <a:br>
              <a:rPr sz="2400"/>
            </a:b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kod pravolinijskog kretanja bez promene smer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Arc 12"/>
          <p:cNvSpPr/>
          <p:nvPr/>
        </p:nvSpPr>
        <p:spPr>
          <a:xfrm>
            <a:off x="2743200" y="3981600"/>
            <a:ext cx="3763800" cy="1523880"/>
          </a:xfrm>
          <a:custGeom>
            <a:avLst/>
            <a:gdLst/>
            <a:ahLst/>
            <a:rect l="l" t="t" r="r" b="b"/>
            <a:pathLst>
              <a:path stroke="0" w="3763963" h="1524000">
                <a:moveTo>
                  <a:pt x="2203" y="798858"/>
                </a:moveTo>
                <a:cubicBezTo>
                  <a:pt x="-41513" y="433357"/>
                  <a:pt x="562625" y="106880"/>
                  <a:pt x="1441265" y="21188"/>
                </a:cubicBezTo>
                <a:cubicBezTo>
                  <a:pt x="1724710" y="-6456"/>
                  <a:pt x="2020141" y="-7058"/>
                  <a:pt x="2304259" y="19429"/>
                </a:cubicBezTo>
                <a:cubicBezTo>
                  <a:pt x="3158608" y="99077"/>
                  <a:pt x="3763964" y="407029"/>
                  <a:pt x="3763964" y="761999"/>
                </a:cubicBezTo>
                <a:lnTo>
                  <a:pt x="1881982" y="762000"/>
                </a:lnTo>
                <a:lnTo>
                  <a:pt x="2203" y="798858"/>
                </a:lnTo>
                <a:close/>
              </a:path>
              <a:path fill="none" w="3763963" h="1524000">
                <a:moveTo>
                  <a:pt x="2203" y="798858"/>
                </a:moveTo>
                <a:cubicBezTo>
                  <a:pt x="-41513" y="433357"/>
                  <a:pt x="562625" y="106880"/>
                  <a:pt x="1441265" y="21188"/>
                </a:cubicBezTo>
                <a:cubicBezTo>
                  <a:pt x="1724710" y="-6456"/>
                  <a:pt x="2020141" y="-7058"/>
                  <a:pt x="2304259" y="19429"/>
                </a:cubicBezTo>
                <a:cubicBezTo>
                  <a:pt x="3158608" y="99077"/>
                  <a:pt x="3763964" y="407029"/>
                  <a:pt x="3763964" y="761999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Oval 13"/>
          <p:cNvSpPr/>
          <p:nvPr/>
        </p:nvSpPr>
        <p:spPr>
          <a:xfrm>
            <a:off x="2631960" y="4667400"/>
            <a:ext cx="228600" cy="228600"/>
          </a:xfrm>
          <a:prstGeom prst="ellipse">
            <a:avLst/>
          </a:prstGeom>
          <a:solidFill>
            <a:srgbClr val="1cade4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46" name="Object 14"/>
          <p:cNvGraphicFramePr/>
          <p:nvPr/>
        </p:nvGraphicFramePr>
        <p:xfrm>
          <a:off x="2550960" y="4948200"/>
          <a:ext cx="37944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7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0960" y="4948200"/>
                    <a:ext cx="3794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Oval 15"/>
          <p:cNvSpPr/>
          <p:nvPr/>
        </p:nvSpPr>
        <p:spPr>
          <a:xfrm>
            <a:off x="6407280" y="4667400"/>
            <a:ext cx="228600" cy="228600"/>
          </a:xfrm>
          <a:prstGeom prst="ellipse">
            <a:avLst/>
          </a:prstGeom>
          <a:solidFill>
            <a:srgbClr val="1cade4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49" name="Object 16"/>
          <p:cNvGraphicFramePr/>
          <p:nvPr/>
        </p:nvGraphicFramePr>
        <p:xfrm>
          <a:off x="6326280" y="5024520"/>
          <a:ext cx="37944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0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26280" y="5024520"/>
                    <a:ext cx="3794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17"/>
          <p:cNvGraphicFramePr/>
          <p:nvPr/>
        </p:nvGraphicFramePr>
        <p:xfrm>
          <a:off x="4419720" y="4017960"/>
          <a:ext cx="311040" cy="344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2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19720" y="4017960"/>
                    <a:ext cx="3110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18"/>
          <p:cNvGraphicFramePr/>
          <p:nvPr/>
        </p:nvGraphicFramePr>
        <p:xfrm>
          <a:off x="4343400" y="4863960"/>
          <a:ext cx="550800" cy="412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54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43400" y="4863960"/>
                    <a:ext cx="550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55" name="Straight Arrow Connector 19"/>
          <p:cNvCxnSpPr>
            <a:stCxn id="345" idx="6"/>
            <a:endCxn id="348" idx="2"/>
          </p:cNvCxnSpPr>
          <p:nvPr/>
        </p:nvCxnSpPr>
        <p:spPr>
          <a:xfrm>
            <a:off x="2860560" y="4781160"/>
            <a:ext cx="354744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356" name="Object 20"/>
          <p:cNvGraphicFramePr/>
          <p:nvPr/>
        </p:nvGraphicFramePr>
        <p:xfrm>
          <a:off x="7047000" y="4379760"/>
          <a:ext cx="1239840" cy="619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57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47000" y="4379760"/>
                    <a:ext cx="12398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23:35:50Z</dcterms:created>
  <dc:creator>Zlatan Soskic</dc:creator>
  <dc:description/>
  <dc:language>en-US</dc:language>
  <cp:lastModifiedBy>Zlatan Soskic</cp:lastModifiedBy>
  <dcterms:modified xsi:type="dcterms:W3CDTF">2019-10-14T20:45:56Z</dcterms:modified>
  <cp:revision>155</cp:revision>
  <dc:subject/>
  <dc:title>Fizički koncepti</dc:title>
</cp:coreProperties>
</file>