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77E75-7048-4BF3-BCA4-4B606B54A22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0C4A9-C229-4896-B08B-1ABDC8E3A1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73AF1-0490-4CC7-A13A-7741707087B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5740A-5457-47F7-91AA-C49ECB43FB9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D8803-BA5E-4C10-B1CC-54195E63FF4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6EDC3-A603-45CC-8DF5-6CE2B7E7D9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CEB2F-CC83-4635-BDFA-6E90AD9DB64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697F6-8D90-4A9C-B240-A97E1660D7D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1899B-515C-4DD2-91FF-058A392CBA2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C4A2E-ABBC-4F43-8C95-BFE314D32A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A02B6-C447-454A-9208-33A8EB4E64C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8A9B2-A9E6-469A-906C-85EB9FC5CE4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90A97-5EAA-4F3D-8522-7C0A413BF2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158B2-BDF5-4C73-9613-A29FC001BB6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21D8E-5A3F-4BB6-B138-2CBB1EB5E21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BD063-2556-4FBA-8876-9C98D2DA75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6B2D5-AB60-45EC-A2E0-C82C9692236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A6BB0-E6E7-48FB-83B6-46F364BBE7A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23876-BF71-4104-94AA-793E0738B6E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941FA-A3FB-4ACB-9E5E-A1CF21F78F5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265-6010-4D04-A75B-30D7425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2FF-C083-4FA8-823A-60D7F16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4E8-2E13-49F3-8C2B-C972B5BF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CF4-8AF2-4229-9037-FD26F7EF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8EC-6DE8-4CF7-BF99-236C8EE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964-C12B-4C46-B605-16D51D3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DEE3-DF05-47C1-A5E7-D0BBE6E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91D-3324-480A-B9DF-829E005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CC8-5955-4EE9-8709-9021DFE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FE3-56D1-4DC3-A048-27F0BA3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C107-B16D-4E2C-8E90-5828AC7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C7C-209E-43B1-ABC3-12C49663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FFD9-0A60-4989-B379-04E0EF6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F46-A60C-4746-A9D1-556E2DB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C985-316D-4439-89D8-7DE3C3B7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BC20-45EA-4EE1-9CF1-94CEFD53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BBD3-4100-4026-93D7-5F7B032C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68B5-F5F2-4901-87A3-FE02F36A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346D-F110-416E-8045-92DCF9F1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4923-EDD5-4BFB-8E44-8F07083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D00B-EF96-45A3-B6AD-D8F4F008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6A06-5806-4594-8C4C-49401E4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7AD-07D4-4241-BD4E-AD6E560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4AC3-5496-4E9A-88A0-79F11570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44CB-13ED-42B5-90FD-508BA57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0DD1-245B-4F6D-8D12-0BE32C6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8BB4-0182-470C-AD3C-53BB0C4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0356-B368-437E-B0FF-3AD415A1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28DE-D20E-4487-BF35-FE1AE4CB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2D87-D4F6-40A3-9F4F-1108BE01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8D2F-D377-4EA2-B145-ABEC63BC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71E8-267D-426A-97B0-738E7FB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2A51-37B3-4826-933B-3BB120E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AB3-9944-4063-8AB5-952FBFF6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7668-AA09-46F1-B6C2-0C09F01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B74A-141C-4492-9FDA-D66D068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B164-AA33-4CDC-8AFD-490D749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FF67-257F-464E-BF0B-252038C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73E6-D128-4C76-974A-52ABE14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3BAC-7D7E-4642-ADE9-E1DA467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AA39-CCE1-4F01-82A6-1726202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894D-B470-4218-A3D7-C35FFC64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9055-6511-4792-AE8C-3D26AB1A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F6E9-86D4-49F3-9FBA-22ED51F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86C-6726-41D5-B427-99D587E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6D5F-645D-4C0D-826E-C97BCB2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956E-B974-44A8-9BC6-86E8DA6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8930-17FD-4DB0-B010-95AEE65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D00A-55C9-4AD0-B8CA-03288F71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239F-E645-46F5-8FAE-B0D6216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69BD-B217-4F0D-B666-A926D46E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DEA6-DA90-4122-92B3-6A26A72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163F-E83F-4E0F-A075-62A144B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9FE5-CD2F-4A71-92C7-B0F7933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248F-7247-4A47-9516-0B628576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E4F-FE87-4901-ADA6-D10EB8A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DCBE-D722-4FDB-AF99-32401CC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34C6-D6F0-45AC-97DE-EDFE374C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6A6A-7DEE-4D14-B067-33253D5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106B-53CA-4132-A56D-91B7849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A66A-8DFE-4F83-89F6-0815FC03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45EFB-4936-4F12-841A-F42C694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0303-B615-405C-B04C-013DCD2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B255-168E-4D1F-B05F-767E7CF1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30BD-D37D-4560-86B8-F77946F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AB516-E738-4D4E-B5BC-13A6AF4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8FA-25EF-443E-A56D-FEECBA8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3BDD-FFB7-49EF-9ADA-C3E2ACF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C365-3CAB-48CE-8F84-99F7CB2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0499-7C67-4E2A-A201-4255F787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482-7A88-4729-9CDE-B93A69E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AA0-0F69-43E4-9626-543CF99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C28C6-7ACB-435D-BC89-BAE5AE38C27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ED9F3-A3D2-4633-96C7-A3956E80022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B52BC-7179-4E31-98BC-FCA148EE41F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113E2-41A3-4EEE-B8F3-EB2CBBC1253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8B401-B761-4839-8F5B-A846CD0AE1C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008BA-549B-4A40-B50F-2C9919F35B4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Koncept si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247920" y="836640"/>
            <a:ext cx="2732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II NJUTNOV ZAKON – AKCIJA I REAK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755640" y="2421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e se javljaju u parovi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1306440" y="4176720"/>
            <a:ext cx="7632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2514600" y="3208320"/>
            <a:ext cx="7632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1371600" y="3885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0"/>
              <p:cNvSpPr txBox="1"/>
              <p:nvPr/>
            </p:nvSpPr>
            <p:spPr>
              <a:xfrm>
                <a:off x="1141560" y="3581280"/>
                <a:ext cx="45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" name="Text Box 15"/>
          <p:cNvSpPr/>
          <p:nvPr/>
        </p:nvSpPr>
        <p:spPr>
          <a:xfrm>
            <a:off x="1371600" y="4191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666880" y="31543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133720" y="32767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"/>
              <p:cNvSpPr txBox="1"/>
              <p:nvPr/>
            </p:nvSpPr>
            <p:spPr>
              <a:xfrm>
                <a:off x="1981080" y="2895480"/>
                <a:ext cx="449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438280" y="4114800"/>
                <a:ext cx="206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31" name="Picture 20" descr=""/>
          <p:cNvPicPr/>
          <p:nvPr/>
        </p:nvPicPr>
        <p:blipFill>
          <a:blip r:embed="rId1"/>
          <a:stretch/>
        </p:blipFill>
        <p:spPr>
          <a:xfrm>
            <a:off x="4572000" y="305424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2"/>
          <p:cNvSpPr/>
          <p:nvPr/>
        </p:nvSpPr>
        <p:spPr>
          <a:xfrm>
            <a:off x="5105520" y="5486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7391520" y="3809880"/>
            <a:ext cx="0" cy="762120"/>
          </a:xfrm>
          <a:prstGeom prst="line">
            <a:avLst/>
          </a:prstGeom>
          <a:ln w="28440">
            <a:solidFill>
              <a:srgbClr val="b26b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7391520" y="4572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Line 25"/>
          <p:cNvSpPr/>
          <p:nvPr/>
        </p:nvSpPr>
        <p:spPr>
          <a:xfrm>
            <a:off x="7391520" y="5638680"/>
            <a:ext cx="0" cy="76212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481880" y="4648320"/>
                <a:ext cx="3668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7453440" y="3941640"/>
                <a:ext cx="3952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7481880" y="5653080"/>
                <a:ext cx="366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9" name="Line 29"/>
          <p:cNvSpPr/>
          <p:nvPr/>
        </p:nvSpPr>
        <p:spPr>
          <a:xfrm>
            <a:off x="7924680" y="4267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Line 30"/>
          <p:cNvSpPr/>
          <p:nvPr/>
        </p:nvSpPr>
        <p:spPr>
          <a:xfrm>
            <a:off x="8458200" y="42670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Line 31"/>
          <p:cNvSpPr/>
          <p:nvPr/>
        </p:nvSpPr>
        <p:spPr>
          <a:xfrm flipH="1">
            <a:off x="79246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755640" y="6356520"/>
            <a:ext cx="81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w Cen MT"/>
              </a:rPr>
              <a:t>Par sila iz III Njutnovog zakona deluje na različita tel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UBRZANO PRAVOLINIJSK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1066680" y="3809880"/>
                <a:ext cx="1273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6"/>
          <p:cNvGraphicFramePr/>
          <p:nvPr/>
        </p:nvGraphicFramePr>
        <p:xfrm>
          <a:off x="1042920" y="4165560"/>
          <a:ext cx="458316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65560"/>
                    <a:ext cx="45831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879480" y="2743200"/>
                <a:ext cx="4073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5818320" y="2398680"/>
                <a:ext cx="218736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o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Text Box 9"/>
          <p:cNvSpPr/>
          <p:nvPr/>
        </p:nvSpPr>
        <p:spPr>
          <a:xfrm>
            <a:off x="838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lov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50" name="Object 11"/>
          <p:cNvGraphicFramePr/>
          <p:nvPr/>
        </p:nvGraphicFramePr>
        <p:xfrm>
          <a:off x="5864400" y="4365720"/>
          <a:ext cx="1427040" cy="40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4400" y="4365720"/>
                    <a:ext cx="1427040" cy="409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5818320" y="3809880"/>
                <a:ext cx="1272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3" name="Object 13"/>
          <p:cNvGraphicFramePr/>
          <p:nvPr/>
        </p:nvGraphicFramePr>
        <p:xfrm>
          <a:off x="888840" y="5270400"/>
          <a:ext cx="4864320" cy="132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5270400"/>
                    <a:ext cx="486432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5"/>
          <p:cNvGraphicFramePr/>
          <p:nvPr/>
        </p:nvGraphicFramePr>
        <p:xfrm>
          <a:off x="5796000" y="5029200"/>
          <a:ext cx="2395440" cy="163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5029200"/>
                    <a:ext cx="2395440" cy="1635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UBRZANO PRAVOLINIJSK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2"/>
              <p:cNvSpPr txBox="1"/>
              <p:nvPr/>
            </p:nvSpPr>
            <p:spPr>
              <a:xfrm>
                <a:off x="1219320" y="2590920"/>
                <a:ext cx="310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τ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4"/>
              <p:cNvSpPr txBox="1"/>
              <p:nvPr/>
            </p:nvSpPr>
            <p:spPr>
              <a:xfrm>
                <a:off x="1274760" y="3549600"/>
                <a:ext cx="6421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τ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5"/>
              <p:cNvSpPr txBox="1"/>
              <p:nvPr/>
            </p:nvSpPr>
            <p:spPr>
              <a:xfrm>
                <a:off x="3600360" y="5029200"/>
                <a:ext cx="1657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 Box 16"/>
          <p:cNvSpPr/>
          <p:nvPr/>
        </p:nvSpPr>
        <p:spPr>
          <a:xfrm>
            <a:off x="1888920" y="59850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na brz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037400" y="59436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brz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96240" y="56386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6093000" y="50292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đeni 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3200400" y="54864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Line 21"/>
          <p:cNvSpPr/>
          <p:nvPr/>
        </p:nvSpPr>
        <p:spPr>
          <a:xfrm flipH="1" flipV="1">
            <a:off x="4419360" y="563832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Line 22"/>
          <p:cNvSpPr/>
          <p:nvPr/>
        </p:nvSpPr>
        <p:spPr>
          <a:xfrm flipH="1" flipV="1">
            <a:off x="5181480" y="5638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Line 23"/>
          <p:cNvSpPr/>
          <p:nvPr/>
        </p:nvSpPr>
        <p:spPr>
          <a:xfrm flipH="1">
            <a:off x="5334120" y="5257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U GRAVITACIONOM POLJU ZEML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odela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Bez početne brzine – slobodan pa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Sa početnom brzinom - hitac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914400" y="2362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blizini Zeml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5"/>
              <p:cNvSpPr txBox="1"/>
              <p:nvPr/>
            </p:nvSpPr>
            <p:spPr>
              <a:xfrm>
                <a:off x="1981080" y="2743200"/>
                <a:ext cx="457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Rectangle 6"/>
          <p:cNvSpPr/>
          <p:nvPr/>
        </p:nvSpPr>
        <p:spPr>
          <a:xfrm>
            <a:off x="914400" y="3505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mase tela !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7"/>
              <p:cNvSpPr txBox="1"/>
              <p:nvPr/>
            </p:nvSpPr>
            <p:spPr>
              <a:xfrm>
                <a:off x="2363760" y="4165560"/>
                <a:ext cx="3808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Rectangle 8"/>
          <p:cNvSpPr/>
          <p:nvPr/>
        </p:nvSpPr>
        <p:spPr>
          <a:xfrm>
            <a:off x="914400" y="4648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položaja, već samo visine !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7" name="Line 4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Line 6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2133720" y="320040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Line 8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Line 11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2"/>
              <p:cNvSpPr txBox="1"/>
              <p:nvPr/>
            </p:nvSpPr>
            <p:spPr>
              <a:xfrm>
                <a:off x="2349360" y="3278160"/>
                <a:ext cx="300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6" name="Oval 13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Line 14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7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8"/>
              <p:cNvSpPr txBox="1"/>
              <p:nvPr/>
            </p:nvSpPr>
            <p:spPr>
              <a:xfrm>
                <a:off x="4191120" y="2438280"/>
                <a:ext cx="277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2" name="Line 19"/>
          <p:cNvSpPr/>
          <p:nvPr/>
        </p:nvSpPr>
        <p:spPr>
          <a:xfrm>
            <a:off x="3429000" y="3276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0"/>
              <p:cNvSpPr txBox="1"/>
              <p:nvPr/>
            </p:nvSpPr>
            <p:spPr>
              <a:xfrm>
                <a:off x="3484440" y="3611520"/>
                <a:ext cx="249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21"/>
              <p:cNvSpPr txBox="1"/>
              <p:nvPr/>
            </p:nvSpPr>
            <p:spPr>
              <a:xfrm>
                <a:off x="4352760" y="3430440"/>
                <a:ext cx="1773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22"/>
              <p:cNvSpPr txBox="1"/>
              <p:nvPr/>
            </p:nvSpPr>
            <p:spPr>
              <a:xfrm>
                <a:off x="4343400" y="388620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3"/>
              <p:cNvSpPr txBox="1"/>
              <p:nvPr/>
            </p:nvSpPr>
            <p:spPr>
              <a:xfrm>
                <a:off x="4373640" y="4194000"/>
                <a:ext cx="2079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4343400" y="4476600"/>
                <a:ext cx="3830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Text Box 27"/>
          <p:cNvSpPr/>
          <p:nvPr/>
        </p:nvSpPr>
        <p:spPr>
          <a:xfrm>
            <a:off x="4267080" y="3124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0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1"/>
              <p:cNvSpPr txBox="1"/>
              <p:nvPr/>
            </p:nvSpPr>
            <p:spPr>
              <a:xfrm>
                <a:off x="4419720" y="5162400"/>
                <a:ext cx="2282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LOBODAN PA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2" name="Text Box 32"/>
          <p:cNvSpPr/>
          <p:nvPr/>
        </p:nvSpPr>
        <p:spPr>
          <a:xfrm>
            <a:off x="1219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33"/>
              <p:cNvSpPr txBox="1"/>
              <p:nvPr/>
            </p:nvSpPr>
            <p:spPr>
              <a:xfrm>
                <a:off x="1252440" y="2743200"/>
                <a:ext cx="4996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4"/>
              <p:cNvSpPr txBox="1"/>
              <p:nvPr/>
            </p:nvSpPr>
            <p:spPr>
              <a:xfrm>
                <a:off x="1295280" y="3884760"/>
                <a:ext cx="460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6" name="Line 4"/>
          <p:cNvSpPr/>
          <p:nvPr/>
        </p:nvSpPr>
        <p:spPr>
          <a:xfrm flipV="1">
            <a:off x="1219320" y="242892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868320" y="242892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6"/>
          <p:cNvSpPr/>
          <p:nvPr/>
        </p:nvSpPr>
        <p:spPr>
          <a:xfrm>
            <a:off x="1066680" y="654372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2133720" y="31910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Line 8"/>
          <p:cNvSpPr/>
          <p:nvPr/>
        </p:nvSpPr>
        <p:spPr>
          <a:xfrm flipH="1">
            <a:off x="990360" y="3267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447920" y="3267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10"/>
              <p:cNvSpPr txBox="1"/>
              <p:nvPr/>
            </p:nvSpPr>
            <p:spPr>
              <a:xfrm>
                <a:off x="148752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8"/>
              <p:cNvSpPr txBox="1"/>
              <p:nvPr/>
            </p:nvSpPr>
            <p:spPr>
              <a:xfrm>
                <a:off x="4191120" y="2428920"/>
                <a:ext cx="2074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4" name="Line 19"/>
          <p:cNvSpPr/>
          <p:nvPr/>
        </p:nvSpPr>
        <p:spPr>
          <a:xfrm>
            <a:off x="3429000" y="3267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0"/>
              <p:cNvSpPr txBox="1"/>
              <p:nvPr/>
            </p:nvSpPr>
            <p:spPr>
              <a:xfrm>
                <a:off x="3484440" y="3602160"/>
                <a:ext cx="249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1"/>
              <p:cNvSpPr txBox="1"/>
              <p:nvPr/>
            </p:nvSpPr>
            <p:spPr>
              <a:xfrm>
                <a:off x="4352760" y="3276720"/>
                <a:ext cx="1773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2"/>
              <p:cNvSpPr txBox="1"/>
              <p:nvPr/>
            </p:nvSpPr>
            <p:spPr>
              <a:xfrm>
                <a:off x="4395960" y="380988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3"/>
              <p:cNvSpPr txBox="1"/>
              <p:nvPr/>
            </p:nvSpPr>
            <p:spPr>
              <a:xfrm>
                <a:off x="4373640" y="4114800"/>
                <a:ext cx="240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4"/>
              <p:cNvSpPr txBox="1"/>
              <p:nvPr/>
            </p:nvSpPr>
            <p:spPr>
              <a:xfrm>
                <a:off x="4400640" y="4467240"/>
                <a:ext cx="443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Text Box 25"/>
          <p:cNvSpPr/>
          <p:nvPr/>
        </p:nvSpPr>
        <p:spPr>
          <a:xfrm>
            <a:off x="4267080" y="2971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Line 30"/>
          <p:cNvSpPr/>
          <p:nvPr/>
        </p:nvSpPr>
        <p:spPr>
          <a:xfrm flipV="1">
            <a:off x="22096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1"/>
              <p:cNvSpPr txBox="1"/>
              <p:nvPr/>
            </p:nvSpPr>
            <p:spPr>
              <a:xfrm>
                <a:off x="2343240" y="2736720"/>
                <a:ext cx="323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914400" y="481824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 visine H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g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21"/>
              <p:cNvSpPr txBox="1"/>
              <p:nvPr/>
            </p:nvSpPr>
            <p:spPr>
              <a:xfrm>
                <a:off x="1928880" y="4800600"/>
                <a:ext cx="5157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6" name="Text Box 22"/>
          <p:cNvSpPr/>
          <p:nvPr/>
        </p:nvSpPr>
        <p:spPr>
          <a:xfrm>
            <a:off x="990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3"/>
              <p:cNvSpPr txBox="1"/>
              <p:nvPr/>
            </p:nvSpPr>
            <p:spPr>
              <a:xfrm>
                <a:off x="1163520" y="3281400"/>
                <a:ext cx="4170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24"/>
              <p:cNvSpPr txBox="1"/>
              <p:nvPr/>
            </p:nvSpPr>
            <p:spPr>
              <a:xfrm>
                <a:off x="2362320" y="2438280"/>
                <a:ext cx="695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Text Box 25"/>
          <p:cNvSpPr/>
          <p:nvPr/>
        </p:nvSpPr>
        <p:spPr>
          <a:xfrm>
            <a:off x="3495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6"/>
              <p:cNvSpPr txBox="1"/>
              <p:nvPr/>
            </p:nvSpPr>
            <p:spPr>
              <a:xfrm>
                <a:off x="4867200" y="2438280"/>
                <a:ext cx="695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Text Box 27"/>
          <p:cNvSpPr/>
          <p:nvPr/>
        </p:nvSpPr>
        <p:spPr>
          <a:xfrm>
            <a:off x="9907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h put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8"/>
              <p:cNvSpPr txBox="1"/>
              <p:nvPr/>
            </p:nvSpPr>
            <p:spPr>
              <a:xfrm>
                <a:off x="1143000" y="3844800"/>
                <a:ext cx="6966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9"/>
              <p:cNvSpPr txBox="1"/>
              <p:nvPr/>
            </p:nvSpPr>
            <p:spPr>
              <a:xfrm>
                <a:off x="2255760" y="6062760"/>
                <a:ext cx="405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3"/>
              <p:cNvSpPr txBox="1"/>
              <p:nvPr/>
            </p:nvSpPr>
            <p:spPr>
              <a:xfrm>
                <a:off x="1066680" y="2766960"/>
                <a:ext cx="400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6" name="Text Box 14"/>
          <p:cNvSpPr/>
          <p:nvPr/>
        </p:nvSpPr>
        <p:spPr>
          <a:xfrm>
            <a:off x="99072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me le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914400" y="4233960"/>
                <a:ext cx="806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NJANJ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Text Box 16"/>
          <p:cNvSpPr/>
          <p:nvPr/>
        </p:nvSpPr>
        <p:spPr>
          <a:xfrm>
            <a:off x="106668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an pu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RTIKALNI HITAC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1133640" y="3014640"/>
                <a:ext cx="480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Text Box 4"/>
          <p:cNvSpPr/>
          <p:nvPr/>
        </p:nvSpPr>
        <p:spPr>
          <a:xfrm>
            <a:off x="990720" y="251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kalni hitac sa Zemlje (H=0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7"/>
              <p:cNvSpPr txBox="1"/>
              <p:nvPr/>
            </p:nvSpPr>
            <p:spPr>
              <a:xfrm>
                <a:off x="1098720" y="4044960"/>
                <a:ext cx="2863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STORIJSKI OSVRT NA POJAM S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Aristotel (IV vek p.n.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ostoje kretanje i mirovan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a bi se telo kretalo, na njega mora da deluje neka sila, inače telo miruj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a je uzročnik kret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Njutn (XVIII vek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retanje je relativno, i mirovanje takođ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a je uzrok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promen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kretanja (ili mirovanj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le deluju među teli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066680" y="6019920"/>
            <a:ext cx="762012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w Cen MT"/>
              </a:rPr>
              <a:t>Sila je mera za interakciju tel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LIČINE - MAS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ka se tela lakše pokreću, a neka tež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b26b02"/>
                </a:solidFill>
                <a:latin typeface="Tw Cen MT"/>
              </a:rPr>
              <a:t>INERTNOST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– svojstvo supstanci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Text Box 1031"/>
          <p:cNvSpPr/>
          <p:nvPr/>
        </p:nvSpPr>
        <p:spPr>
          <a:xfrm>
            <a:off x="2362320" y="3581280"/>
            <a:ext cx="39621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je mera za inertnost te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Text Box 1032"/>
          <p:cNvSpPr/>
          <p:nvPr/>
        </p:nvSpPr>
        <p:spPr>
          <a:xfrm>
            <a:off x="3809880" y="4495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m] = k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LIČINE - KOLIČINA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izička veličina koja meri kre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914400" y="2971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Tw Cen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ća masa, ista brzin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više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Tw Cen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Ista masa, veća brzin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više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048120" y="4133880"/>
            <a:ext cx="2361960" cy="51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24"/>
              <p:cNvSpPr txBox="1"/>
              <p:nvPr/>
            </p:nvSpPr>
            <p:spPr>
              <a:xfrm>
                <a:off x="3606840" y="4122720"/>
                <a:ext cx="1422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77" name="Text Box 9"/>
          <p:cNvSpPr/>
          <p:nvPr/>
        </p:nvSpPr>
        <p:spPr>
          <a:xfrm>
            <a:off x="297180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K]=[m][v] = kgm/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LIČINE - SIL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ila je mera za interakciju tela, za uticaj tela na tel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Rectangle 1029"/>
          <p:cNvSpPr/>
          <p:nvPr/>
        </p:nvSpPr>
        <p:spPr>
          <a:xfrm>
            <a:off x="914400" y="28954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Tw Cen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Jača sila, veća promena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75000"/>
              <a:buFont typeface="Tw Cen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Jača sila, brža promena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Text Box 1030"/>
          <p:cNvSpPr/>
          <p:nvPr/>
        </p:nvSpPr>
        <p:spPr>
          <a:xfrm>
            <a:off x="3048120" y="4133880"/>
            <a:ext cx="2361960" cy="101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Text Box 1032"/>
          <p:cNvSpPr/>
          <p:nvPr/>
        </p:nvSpPr>
        <p:spPr>
          <a:xfrm>
            <a:off x="266688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F]=[K]/[t] = kgm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3581280" y="4191120"/>
          <a:ext cx="114300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191120"/>
                    <a:ext cx="11430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 NJUTNOV ZAKON – ZAKON INERCI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040" y="5028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amo druga tela mogu da utiču na promenu kretanja nekog te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ma “samokretanja” ni “samozaustavljanja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43000" y="2281320"/>
            <a:ext cx="74674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na neko telo ne deluju spoljašnje sile, ono se kreće konstantnom brzinom (ili miruje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24"/>
              <p:cNvSpPr txBox="1"/>
              <p:nvPr/>
            </p:nvSpPr>
            <p:spPr>
              <a:xfrm>
                <a:off x="1219320" y="3357720"/>
                <a:ext cx="71676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Text Box 6"/>
          <p:cNvSpPr/>
          <p:nvPr/>
        </p:nvSpPr>
        <p:spPr>
          <a:xfrm>
            <a:off x="2209680" y="411156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menja smer, ne menja pravac, ne menja intenzit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362320" y="450864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de po pravoj liniji konsta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m brzinom ili miruj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I NJUTNOV ZAKON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00200" y="3657600"/>
            <a:ext cx="7632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895480" y="2743200"/>
            <a:ext cx="76320" cy="7632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3048120" y="3733920"/>
            <a:ext cx="7596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1676520" y="3352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Line 12"/>
          <p:cNvSpPr/>
          <p:nvPr/>
        </p:nvSpPr>
        <p:spPr>
          <a:xfrm flipH="1">
            <a:off x="1050840" y="369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1676520" y="3733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024"/>
              <p:cNvSpPr txBox="1"/>
              <p:nvPr/>
            </p:nvSpPr>
            <p:spPr>
              <a:xfrm>
                <a:off x="1474920" y="2895480"/>
                <a:ext cx="393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25"/>
              <p:cNvSpPr txBox="1"/>
              <p:nvPr/>
            </p:nvSpPr>
            <p:spPr>
              <a:xfrm>
                <a:off x="865080" y="3720960"/>
                <a:ext cx="393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26"/>
              <p:cNvSpPr txBox="1"/>
              <p:nvPr/>
            </p:nvSpPr>
            <p:spPr>
              <a:xfrm>
                <a:off x="1703520" y="4343400"/>
                <a:ext cx="393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Text Box 17"/>
          <p:cNvSpPr/>
          <p:nvPr/>
        </p:nvSpPr>
        <p:spPr>
          <a:xfrm>
            <a:off x="1523880" y="3733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2362320" y="4343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3124080" y="3657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2971800" y="262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27"/>
              <p:cNvSpPr txBox="1"/>
              <p:nvPr/>
            </p:nvSpPr>
            <p:spPr>
              <a:xfrm>
                <a:off x="5105520" y="2514600"/>
                <a:ext cx="1447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028"/>
              <p:cNvSpPr txBox="1"/>
              <p:nvPr/>
            </p:nvSpPr>
            <p:spPr>
              <a:xfrm>
                <a:off x="3962520" y="4267080"/>
                <a:ext cx="44244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029"/>
              <p:cNvSpPr txBox="1"/>
              <p:nvPr/>
            </p:nvSpPr>
            <p:spPr>
              <a:xfrm>
                <a:off x="5248440" y="5349960"/>
                <a:ext cx="1228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Text Box 25"/>
          <p:cNvSpPr/>
          <p:nvPr/>
        </p:nvSpPr>
        <p:spPr>
          <a:xfrm>
            <a:off x="45720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Ako je masa konstantn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NAČAJ II NJUTNOVOG ZAKO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040" y="3429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sile, znamo budućnost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971800" y="38862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3" name="Text Box 5"/>
          <p:cNvSpPr/>
          <p:nvPr/>
        </p:nvSpPr>
        <p:spPr>
          <a:xfrm>
            <a:off x="2514600" y="4343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rektni problem dinami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838080" y="5029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kretanje u prošlosti, znamo sile koje su ga izazv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2971800" y="54864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6" name="Text Box 8"/>
          <p:cNvSpPr/>
          <p:nvPr/>
        </p:nvSpPr>
        <p:spPr>
          <a:xfrm>
            <a:off x="2514600" y="5943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verzni problem dinami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914400" y="2438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ređuje ubrz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NAČAJ II NJUTNOVOG ZAKO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838080" y="2438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snova fizike kao nau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etod fizike – primena koncepta s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Gledaj prošlost – otkrićeš s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Opiši sadašnj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ada znaš sa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šnjost i sile, znaćeš budućn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aznanje sila je spona prošlosti budućnost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ako opisati tela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Koje sile deluju među njima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29:59Z</dcterms:created>
  <dc:creator>Zlatan Soskic</dc:creator>
  <dc:description/>
  <dc:language>en-US</dc:language>
  <cp:lastModifiedBy>Zlatan Soskic</cp:lastModifiedBy>
  <dcterms:modified xsi:type="dcterms:W3CDTF">2019-10-21T13:08:00Z</dcterms:modified>
  <cp:revision>110</cp:revision>
  <dc:subject/>
  <dc:title>Koncept sile</dc:title>
</cp:coreProperties>
</file>