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0BF9-7C5B-417C-B9D2-33DB073679F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D4B6-E4AB-4CD4-A2F6-DF3A39A4405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A866-BBDC-456D-8A24-B080AF5BEAA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40E4-994B-497C-96F7-831DCC26F95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A46D-F9E0-40D8-8F37-D15F3157DDA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1AEA-C843-4FDE-851A-4B8FD21A583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45D-B340-43BD-B8D7-898945D01D0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595F-5B23-4436-936C-74614B2BF00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063F-F25E-41E8-BC03-4FDB82AB10D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6502-3092-40BA-A034-5BD49A1637F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FFC6-4433-4274-A9EF-79C0618177C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24D-B993-4540-9001-3EF440A9E49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61F-A179-4998-AC65-87080F9C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595-8559-4E16-99C8-ED9E33C6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25E-F396-4AA9-A3BA-82279089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D61-1F55-4A5D-987D-AD2AF290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08C-FA5D-4124-A8B3-E73DDEBB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BC6A-6B90-437A-8A1C-5346A5EE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2115-86E5-49EA-A5A3-1E8572C9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B025-754D-44EE-BBC0-AC66C72D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E53A-DBAF-4EFE-AF80-95FC636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C6CF-89BF-4965-9015-0734BC4B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88E5-25E6-484C-99E8-F8F168D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A38-B914-4D11-BA9E-C7EEFF32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63E4-43B6-4D2C-B0D6-2777AEBA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BB35-43FB-4DCF-8607-163DA97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560D-53A4-4FD7-951B-B99C9911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474E-05E9-4F63-852C-E5682D4F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8E85-27A1-465B-AD18-5A88029A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B4DC6-2788-4AC7-AAB5-EFE55CD8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64C5-12F1-4EF3-80DB-B69082B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BF33-8800-429B-BE2F-E91AEC03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C8370-A72F-4851-9B65-B3F2D9F1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4D6A-B7DC-485A-B2B9-2AB9093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C25-0897-4FFA-8256-7DFD099E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35BF-0E85-44DC-9A4E-A3C7EAAE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DD04-52FD-442C-94B0-56FEEB99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635D0-50DC-45F4-96B1-C6838E4C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5F23-5FD4-4164-8D46-9071A533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EF99-B480-4AEE-8CDA-C61F37F2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CC3D-3389-4D89-82CE-35CED456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D0A4-23C9-435E-BACE-2A6D5A5B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DE57-2BCF-4117-AA8B-FB6E8F3A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A16D-56D0-46AC-8837-728AC534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FEEB-3585-4A1F-9212-AD5188CD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184-1A98-4C71-80BF-EEA1018D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E981-FC78-4965-B6E3-FD80D59C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4A47-DDD1-4916-A017-883E4D1F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FA05E-C44C-41EE-825B-6E046D8A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17B3-B4D8-458E-BB21-7B7BD98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C4934-EA2F-4B12-8A09-3FF5E71C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3202-582F-4DEF-AEFA-A0FEE4A3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D62C-E274-4A0A-817A-97B4980C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118A-D3D8-4E8E-99E7-EA651140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DC1E0-DF15-4E69-9FD8-AEE3332B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41554-FF6B-4687-9208-C722BBEA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749-F90C-4FB9-9632-9359B18D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57C80-5E05-467F-A2C6-15638C6E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67CF8-A2C7-4BC7-8790-98DF1EBC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3E60-FB0F-4688-8D3B-446BA6F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DBCD6-662A-4E3C-9490-8EA0B9B0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AC2E-2250-44F4-9193-412CBA18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2A0E3-7FBA-4241-9431-F66BB3B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DC652-F545-4511-ADFB-23D635D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2C6C2-6330-4875-9D59-73815A0B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0439-54A2-4550-A8F0-E1939D71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B839F-0496-4BC8-96BF-B71A6D5A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58F-5CD7-4128-BDAC-E55D91C1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9B6F-006B-4B7D-AEA5-902D42D3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C6DFE-A741-44E7-9A39-CF07D0AF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B8A7-39D3-4A00-B48C-12987DA4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12853-564F-494F-9BD1-D0726C6F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F2070-4F48-49B9-A19A-D295655E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5AAF1-CB86-4F0D-B1E5-8B64111C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7FDC9-22C8-47E8-BF3F-01A50034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32B73-6C5C-4EFA-ABA8-0F0C8DC4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60F35-9EE8-44C1-A9D7-1552F8BC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49F7-2742-4313-BF86-58CDC85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E61-074E-4B9E-B3A0-D263C7E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AF20C-A1B9-411B-B7A2-28850464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4897D-93C2-4EC5-A501-76FECF48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77D8-D625-4218-AA6E-02A321AF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8A9ED-0665-4C90-A105-66AA3585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D7952-5254-41B9-A973-BC420E3D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233B-6CAC-46AF-97AC-949E0AF4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7C09E-8A4C-486F-BFE1-30BD79D0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4948C-339F-4800-B56C-5F1EF6F8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59E17-8713-4DF9-87EA-F05DCC6C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C8AC-6E28-40F1-9E0C-5F125D6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303-BB43-438D-83E7-0A48E63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6486D-EDC5-44F7-84CC-7E9C1D3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AA53D-C407-4384-8CF9-B37D23C2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39B4B-2749-4863-A68B-12B05833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9BC76-6DDC-47DB-BA98-92BE48E1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5BAD9-F460-4700-8DC5-1BCCC4B6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3DB-9467-4E1C-9465-6BE05C99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8B82-DED2-4AA1-ABC7-F17A98C0AED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6936-3DE5-47C7-9625-BE8E600F903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236D-BF11-47FB-97A5-80D7FF971C2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E3BF-A1AA-4E4E-8E20-85E232A404A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2F1B-FF12-402B-B8CE-65E437950A4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A024-9877-4BF2-B780-7B5B17E000E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2609-02A7-4F86-AC1A-BB9DDE958EF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IZI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w Cen MT"/>
              </a:rPr>
              <a:t>Uvod u fiziku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CILJ FIZIK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bjasniti prošlos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b26b02"/>
                </a:solidFill>
                <a:latin typeface="Tw Cen MT"/>
              </a:rPr>
              <a:t>Predvideti budućnos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FIZIKA U ZAŠTITI ČOVEKOVE OKOLI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Fizika opisuje čovekovu okolin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ZADATAK PREDMETA TEHNIČKA FIZIK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ako Fizika opisuje prirodu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NASTAVNO OSOBLJ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92436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w Cen MT"/>
                <a:ea typeface="Arial"/>
              </a:rPr>
              <a:t>Nastavni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  <a:ea typeface="Arial"/>
              </a:rPr>
              <a:t>Prof. dr Zlatan Šoški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8" name="Picture 10" descr="Miki-mala"/>
          <p:cNvPicPr/>
          <p:nvPr/>
        </p:nvPicPr>
        <p:blipFill>
          <a:blip r:embed="rId1"/>
          <a:srcRect l="16668" t="0" r="8334" b="0"/>
          <a:stretch/>
        </p:blipFill>
        <p:spPr>
          <a:xfrm>
            <a:off x="10666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4800600" y="3375000"/>
            <a:ext cx="4343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Jelena Tom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876920" y="5105520"/>
            <a:ext cx="3924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Labo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Milorad Stambol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3" descr="Jelena_Jankovic"/>
          <p:cNvPicPr/>
          <p:nvPr/>
        </p:nvPicPr>
        <p:blipFill>
          <a:blip r:embed="rId2"/>
          <a:stretch/>
        </p:blipFill>
        <p:spPr>
          <a:xfrm>
            <a:off x="1066680" y="2610000"/>
            <a:ext cx="2971800" cy="3714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5" descr="dr Zlatan Soskic"/>
          <p:cNvPicPr/>
          <p:nvPr/>
        </p:nvPicPr>
        <p:blipFill>
          <a:blip r:embed="rId3"/>
          <a:stretch/>
        </p:blipFill>
        <p:spPr>
          <a:xfrm>
            <a:off x="1314360" y="2428920"/>
            <a:ext cx="26481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d0d0d"/>
                </a:solidFill>
                <a:latin typeface="Tw Cen MT Condensed"/>
              </a:rPr>
              <a:t>NASTAVNI PROSTOR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371600" y="2361960"/>
            <a:ext cx="7499520" cy="335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Kabinet za fiziku i elektrotehnik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I sprat, kancelarija 210 /nastavnik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I sprat, kancelarija 209 /asistent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I sprat, kancelarija 208 /laborant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Laboratorija za fizik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</a:t>
            </a:r>
            <a:r>
              <a:rPr b="0" lang="sr-Latn-RS" sz="1600" spc="-1" strike="noStrike">
                <a:solidFill>
                  <a:srgbClr val="000000"/>
                </a:solidFill>
                <a:latin typeface="Tw Cen MT"/>
              </a:rPr>
              <a:t>rizemlje, preko puta studentske služb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5" name="Picture 2" descr="https://encrypted-tbn3.gstatic.com/images?q=tbn:ANd9GcQq7OHOuBoSxmuWFNJf5aohvoVOHpgbaM2WuvfCX71HhzpUw3DLhA"/>
          <p:cNvPicPr/>
          <p:nvPr/>
        </p:nvPicPr>
        <p:blipFill>
          <a:blip r:embed="rId1"/>
          <a:stretch/>
        </p:blipFill>
        <p:spPr>
          <a:xfrm>
            <a:off x="6477120" y="76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NASTAVNI PLA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2 časa predavanja sedmičn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1+1 časa auditornih vežb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0+1 čas laboratorijskih vežb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ISPI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isustvo predavanjima i auditornim vežba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10 poen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dbrana laboratorijskih vežb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10 poen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ismeni ispi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80 poen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Parcijalno polaganje na kolokvijumim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OCEN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51-60 poena: 6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61-70 poena: 7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71-80 poena: 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81-90 poena: 9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91-100 poena: 1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Kolokvijum se polaže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svajanjem preko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10 poe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LITERATUR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90360" y="2362320"/>
            <a:ext cx="749916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Udžbenik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Miloš Vujović: "Fizika" – skript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M. Satarić: „Fizika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ačunske vežb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Z.Šoškić: “</a:t>
            </a: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Zbirka zadataka iz Tehničke fizike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Z.Šoškić: “Praktikum za računske vežbe iz fizike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Laboratorij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ke vežb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Z.Šoškić: “Praktikum za </a:t>
            </a: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laboratorijske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vežbe iz fizike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Vlastimir Vučić: "Laboratorijske vežbe iz Fizike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lektronska for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ww.m</a:t>
            </a: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kv.</a:t>
            </a: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kg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Tw Cen MT"/>
              </a:rPr>
              <a:t>ac.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rpska verzija, studentski servi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PREDMET FIZIK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040" y="2438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oučavanje prirodnih proce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iroda: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prostor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i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vreme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ispunjeni </a:t>
            </a:r>
            <a:r>
              <a:rPr b="1" lang="hr-HR" sz="2000" spc="-1" strike="noStrike">
                <a:solidFill>
                  <a:srgbClr val="000000"/>
                </a:solidFill>
                <a:latin typeface="Tw Cen MT"/>
              </a:rPr>
              <a:t>materij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aterija je jedino što postoj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w Cen MT"/>
              </a:rPr>
              <a:t>Supstancija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: zauzima prostor [tela]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w Cen MT"/>
              </a:rPr>
              <a:t>Fizičko polje</a:t>
            </a: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: prostor izmenjen postojanjem tel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d0d0d"/>
                </a:solidFill>
                <a:latin typeface="Tw Cen MT Condensed"/>
              </a:rPr>
              <a:t>METOD FIZIK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Egzaktnos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Izražavanje brojevim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w Cen MT"/>
              </a:rPr>
              <a:t>Primena matematik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0:39:41Z</dcterms:created>
  <dc:creator>Zlatan Soskic</dc:creator>
  <dc:description/>
  <dc:language>en-US</dc:language>
  <cp:lastModifiedBy>Zlatan Soskic</cp:lastModifiedBy>
  <dcterms:modified xsi:type="dcterms:W3CDTF">2019-10-02T21:45:59Z</dcterms:modified>
  <cp:revision>82</cp:revision>
  <dc:subject/>
  <dc:title>Fizika</dc:title>
</cp:coreProperties>
</file>