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7.png" ContentType="image/png"/>
  <Override PartName="/ppt/media/image11.gif" ContentType="image/gif"/>
  <Override PartName="/ppt/media/image6.gif" ContentType="image/gif"/>
  <Override PartName="/ppt/media/image9.png" ContentType="image/png"/>
  <Override PartName="/ppt/media/image17.wmf" ContentType="image/x-wmf"/>
  <Override PartName="/ppt/media/image10.gif" ContentType="image/gif"/>
  <Override PartName="/ppt/media/image5.gif" ContentType="image/gif"/>
  <Override PartName="/ppt/media/image14.jpeg" ContentType="image/jpeg"/>
  <Override PartName="/ppt/media/image3.png" ContentType="image/png"/>
  <Override PartName="/ppt/media/image28.png" ContentType="image/png"/>
  <Override PartName="/ppt/media/image27.jpeg" ContentType="image/jpeg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0BE7-A1E1-4AC7-A4F9-DCC83D6C082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069D-659C-4096-A0B1-12A67EFE2F5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2380-9B7C-40E9-A631-2A6076E0358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6579-ED34-4D26-A745-8FE6E073330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F2E0-4E2C-45C0-B085-2D2F762FFEA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092D-65A0-4F49-8EF2-2043A33CD91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3F66-6792-4938-B4CC-AF6ADC20650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FF46-5905-4C07-ABE7-0082341CB3D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285C-4823-4D98-ADB2-A20711E5E76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91B3-82E6-4F9D-848E-5112139A316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5AF4-203F-404D-8558-C7A83FE46D6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4CCE-0EEF-4CA6-B6B6-D6388B52D2B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74E6-9CAC-49EC-B1A6-4FB51E15043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2AED-5C32-4787-B835-001F62B6B36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A753-8677-4DA0-9312-B5AD2C7B71C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14C0-40DB-4375-8864-044D78427BC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31D8-EB48-494B-9DA3-657D2E66090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BD11-3876-4A91-BC46-2B4D4124217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294F-FEDA-408A-A74F-6D52AB02D7B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D3A6-993E-4BB8-9D81-9AA2ECA2950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2CBE-4EA7-4D7D-84A5-54E52C7123F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86F0-B7D0-40A7-B8B3-20D86AD227C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4B49-9E7F-4C67-BFCD-633AE666DDF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9946-07B8-4135-9C63-7C2D74B43CD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8C62-7D1C-4245-AE22-F67218CA627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B5A5-B054-4020-958B-519B285F957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7161-FD26-4515-B78D-33D7C53306E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55FA-2698-4747-87E7-B25C9D06097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1240-D9DC-4841-BF45-630FA4B43C5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4755-E6FB-4149-8186-7B6C3EAF329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7392-7C08-4EB2-81F1-C7AFBADCCA9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0D29-D15B-4EEE-8F6D-E44E24D0533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8E5E-A5C2-4ADE-8FAB-4A2D4A7D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4AF-AA3C-4BB4-BE45-89A4B8E0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075-2FA8-4CE5-BEA6-0F66778F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7BA5-BD0B-478F-8A5B-68A2E84C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955A-EC9A-4339-B115-596BA0A1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AAB2-DDEF-412A-B835-8E980A02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8CA4-476F-4D65-AAEF-58B6D8C2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93CB-5820-463F-BD70-1E668AE9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5C20-B5BF-47AE-9623-6C7432FF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C057-0D03-4056-A705-559BD0D8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A182-CE63-4859-8D86-C1D365FC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5168-9DB8-4E28-A2AA-719EAABA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5875-78DB-420D-975D-7B784114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EC6F-E9F1-4E98-846C-A85EBC48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444B-E1C3-4B09-A24A-AE5562E9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5803-03AF-4569-873A-637DE7D0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44D2-94FA-454E-A652-E316E9FC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90A7A-25FA-4E33-9848-EC9BB46C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D4245-17C7-4667-8CDA-F312093F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7D716-5BF8-4C74-85CF-0FF31B74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37983-929E-4FA6-9794-FAE6BE12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B0C0D-0631-4B61-B8E2-BCCF0E11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E8E-B1C9-4D9A-AB65-98B8E8D0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263D7-3168-4629-BC7F-E6F14807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4C4BB-6577-4C6F-9AC7-3AE124F3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C9CBB-0FCD-4D4E-B819-DBF57171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93AAE-251E-484D-81FF-DF7EDDB7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117A0-CDBB-420F-8382-51A2BB88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740F2-6632-4530-84D0-8C6EC1F5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DE64A-56E1-41EE-A835-4CC00DC8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64F8F-DA0B-45C3-8B26-5C536E33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50CE5-6EB0-4F5E-BCAC-6CE3F3DA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8414E-8F3C-4521-820B-5CE78F77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564-5769-4947-AA26-9E0C9465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D1112-08F4-49B2-A1CD-2612E8D5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AE823-F07A-4253-9C89-CB3C23B3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D7999-53FA-4EF8-A715-85B45599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3A09D-FC12-42EA-B3A8-85EE674D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94DAF-48EA-4038-9B1E-2C58C2D3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99041-15A8-4B8D-B310-8A14F7D7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29DC8-4314-4732-8497-DCC76D82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0CA61-9BCA-41F6-B42F-375B4119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D0670-7A3A-487A-A7BC-D665A5CC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652F3-F647-43EB-8669-D0C30A1D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6E2-8BEB-4F59-A4D2-B8A97F71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6E9E7-FBC2-4B8A-A779-55A265CC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B6EBF-9D44-4EFF-8644-CE6BD3C1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0699B-C52C-4323-A704-2AF90131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47555-EE37-4E02-A466-F50367A6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F3692-DCB3-49ED-9C78-66168D15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ADE8D-1CD7-4C08-B16E-D031AD0E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A790D-B17E-4942-AD48-56DB8BD7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52D29-D910-4EEB-B25E-ADD4B37D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40504-AE21-4218-B8AA-9A82AB9B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54E51-AA0F-440A-9F9D-C21205F4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E59-6E3C-4A3C-BDE2-F0AB7BA9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61BC2-0DA7-4AFF-9563-D772D9D8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B5115-60C4-4166-955E-13D6A3CB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A6F29-7777-424D-B9F2-EB9B8CB4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E1A91-CDCD-4634-8069-AA58F2AC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91D5F-033B-49BD-B906-587D1F5D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7B2B0-9E3F-4304-948B-CD192A1A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A88AC-51FF-45B2-8E0F-D38FDC95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6095D-7CAC-4FEF-9459-EB54AA60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5F018-2C95-457C-A6B6-990FD062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2F259-09CB-4FB2-BAA8-C1619748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4B6-3029-4DDC-8243-359BA043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E61A4-CD1D-4BEC-9FE4-249E678F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186EA-F68F-4024-97B2-5DFD50C5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D34BA-6FD3-495C-8E22-9029FE93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6E0-AFD3-41CD-81D7-F0A8F7AC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C3A1-349C-4654-A67E-34B2CA8A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3A91-7431-4B19-A161-0D9F55E3B257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126E-8620-4334-9584-07401628BD92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0112-778D-4E88-81FC-C772705C4C97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2BEC-763D-4F7B-AFA4-9159117DBFE9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CD66-B460-4645-89B0-4E5D4B8B43B1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4918-5558-45BF-8447-30E7BFF4036A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ALAS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w Cen MT"/>
              </a:rPr>
              <a:t>Efekti talas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d0d0d"/>
                </a:solidFill>
                <a:latin typeface="Tw Cen MT Condensed"/>
              </a:rPr>
              <a:t>TALASNI FRONT I TALASNI ZRACI </a:t>
            </a:r>
            <a:br>
              <a:rPr sz="4000"/>
            </a:br>
            <a:r>
              <a:rPr b="0" lang="hr-HR" sz="2900" spc="-1" strike="noStrike">
                <a:solidFill>
                  <a:srgbClr val="0d0d0d"/>
                </a:solidFill>
                <a:latin typeface="Tw Cen MT Condensed"/>
              </a:rPr>
              <a:t>SFERNI TALASI</a:t>
            </a:r>
            <a:endParaRPr b="0" lang="en-US" sz="29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5738760" cy="1447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Izvor: tačk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Frontovi: sfer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Zraci: radijalno polaze iz izvor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162320" y="5181480"/>
            <a:ext cx="76320" cy="7632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15"/>
          <p:cNvGrpSpPr/>
          <p:nvPr/>
        </p:nvGrpSpPr>
        <p:grpSpPr>
          <a:xfrm>
            <a:off x="3276720" y="4267080"/>
            <a:ext cx="1828800" cy="1828800"/>
            <a:chOff x="3276720" y="4267080"/>
            <a:chExt cx="1828800" cy="1828800"/>
          </a:xfrm>
        </p:grpSpPr>
        <p:sp>
          <p:nvSpPr>
            <p:cNvPr id="322" name="Oval 5"/>
            <p:cNvSpPr/>
            <p:nvPr/>
          </p:nvSpPr>
          <p:spPr>
            <a:xfrm>
              <a:off x="3505320" y="4495680"/>
              <a:ext cx="1371600" cy="137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6"/>
            <p:cNvSpPr/>
            <p:nvPr/>
          </p:nvSpPr>
          <p:spPr>
            <a:xfrm>
              <a:off x="3276720" y="4267080"/>
              <a:ext cx="18288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16"/>
          <p:cNvGrpSpPr/>
          <p:nvPr/>
        </p:nvGrpSpPr>
        <p:grpSpPr>
          <a:xfrm>
            <a:off x="2971440" y="4038120"/>
            <a:ext cx="2756160" cy="2286360"/>
            <a:chOff x="2971440" y="4038120"/>
            <a:chExt cx="2756160" cy="2286360"/>
          </a:xfrm>
        </p:grpSpPr>
        <p:sp>
          <p:nvSpPr>
            <p:cNvPr id="325" name="Line 7"/>
            <p:cNvSpPr/>
            <p:nvPr/>
          </p:nvSpPr>
          <p:spPr>
            <a:xfrm>
              <a:off x="4213080" y="521964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8"/>
            <p:cNvSpPr/>
            <p:nvPr/>
          </p:nvSpPr>
          <p:spPr>
            <a:xfrm flipV="1">
              <a:off x="4200480" y="4267080"/>
              <a:ext cx="981000" cy="9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"/>
            <p:cNvSpPr/>
            <p:nvPr/>
          </p:nvSpPr>
          <p:spPr>
            <a:xfrm flipV="1">
              <a:off x="4200480" y="403812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10"/>
            <p:cNvSpPr/>
            <p:nvPr/>
          </p:nvSpPr>
          <p:spPr>
            <a:xfrm flipH="1" flipV="1">
              <a:off x="3428640" y="4343400"/>
              <a:ext cx="771480" cy="8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1"/>
            <p:cNvSpPr/>
            <p:nvPr/>
          </p:nvSpPr>
          <p:spPr>
            <a:xfrm flipH="1">
              <a:off x="2971440" y="5226120"/>
              <a:ext cx="12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2"/>
            <p:cNvSpPr/>
            <p:nvPr/>
          </p:nvSpPr>
          <p:spPr>
            <a:xfrm flipH="1">
              <a:off x="3276720" y="5226120"/>
              <a:ext cx="923760" cy="71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3"/>
            <p:cNvSpPr/>
            <p:nvPr/>
          </p:nvSpPr>
          <p:spPr>
            <a:xfrm>
              <a:off x="4200480" y="5226120"/>
              <a:ext cx="0" cy="10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4"/>
            <p:cNvSpPr/>
            <p:nvPr/>
          </p:nvSpPr>
          <p:spPr>
            <a:xfrm>
              <a:off x="4200480" y="5226120"/>
              <a:ext cx="98100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d0d0d"/>
                </a:solidFill>
                <a:latin typeface="Tw Cen MT Condensed"/>
              </a:rPr>
              <a:t>TALASNI FRONT I TALASNI ZRACI </a:t>
            </a:r>
            <a:br>
              <a:rPr sz="4000"/>
            </a:br>
            <a:r>
              <a:rPr b="0" lang="hr-HR" sz="2900" spc="-1" strike="noStrike">
                <a:solidFill>
                  <a:srgbClr val="0d0d0d"/>
                </a:solidFill>
                <a:latin typeface="Tw Cen MT Condensed"/>
              </a:rPr>
              <a:t>CILINDRIČNI TALASI</a:t>
            </a:r>
            <a:endParaRPr b="0" lang="en-US" sz="29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6629400" cy="1447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Izvor: linijsk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Frontovi: cilindr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Zraci: normalni na pravac izvor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5" name="Picture 15" descr="CilidricniTAlas"/>
          <p:cNvPicPr/>
          <p:nvPr/>
        </p:nvPicPr>
        <p:blipFill>
          <a:blip r:embed="rId1"/>
          <a:stretch/>
        </p:blipFill>
        <p:spPr>
          <a:xfrm>
            <a:off x="2209680" y="3733920"/>
            <a:ext cx="46101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d0d0d"/>
                </a:solidFill>
                <a:latin typeface="Tw Cen MT Condensed"/>
              </a:rPr>
              <a:t>TALASNI FRONT I TALASNI ZRACI </a:t>
            </a:r>
            <a:br>
              <a:rPr sz="4000"/>
            </a:br>
            <a:r>
              <a:rPr b="0" lang="hr-HR" sz="2900" spc="-1" strike="noStrike">
                <a:solidFill>
                  <a:srgbClr val="0d0d0d"/>
                </a:solidFill>
                <a:latin typeface="Tw Cen MT Condensed"/>
              </a:rPr>
              <a:t>RAVANSKI TALASI</a:t>
            </a:r>
            <a:endParaRPr b="0" lang="en-US" sz="29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Izvor: rava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Frontovi: ravn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Zraci: normale na ravn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8" name="Picture 6" descr="plane-wave"/>
          <p:cNvPicPr/>
          <p:nvPr/>
        </p:nvPicPr>
        <p:blipFill>
          <a:blip r:embed="rId1"/>
          <a:stretch/>
        </p:blipFill>
        <p:spPr>
          <a:xfrm>
            <a:off x="1860480" y="3639960"/>
            <a:ext cx="46166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OBLICI TALAS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14040" y="2361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Tranzijent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Kontinualni talas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OBLICI TALAS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TRANZIJENT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914040" y="23619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Tranzijenti predstavljaju vremenski kratkotrajne poremećaje (udari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Impulsni tal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43" name="Group 10"/>
          <p:cNvGrpSpPr/>
          <p:nvPr/>
        </p:nvGrpSpPr>
        <p:grpSpPr>
          <a:xfrm>
            <a:off x="1371600" y="3962160"/>
            <a:ext cx="2057400" cy="1447920"/>
            <a:chOff x="1371600" y="3962160"/>
            <a:chExt cx="2057400" cy="1447920"/>
          </a:xfrm>
        </p:grpSpPr>
        <p:sp>
          <p:nvSpPr>
            <p:cNvPr id="344" name="Line 5"/>
            <p:cNvSpPr/>
            <p:nvPr/>
          </p:nvSpPr>
          <p:spPr>
            <a:xfrm>
              <a:off x="1371600" y="54100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6"/>
            <p:cNvSpPr/>
            <p:nvPr/>
          </p:nvSpPr>
          <p:spPr>
            <a:xfrm flipV="1">
              <a:off x="1981080" y="396216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7"/>
            <p:cNvSpPr/>
            <p:nvPr/>
          </p:nvSpPr>
          <p:spPr>
            <a:xfrm>
              <a:off x="1981080" y="39625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>
              <a:off x="2743200" y="396252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>
              <a:off x="2743200" y="5410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Rectangle 13"/>
          <p:cNvSpPr/>
          <p:nvPr/>
        </p:nvSpPr>
        <p:spPr>
          <a:xfrm>
            <a:off x="3581280" y="3733920"/>
            <a:ext cx="2590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Brzina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mplituda 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rajanj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Du</a:t>
            </a: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ina</a:t>
            </a: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14"/>
              <p:cNvSpPr txBox="1"/>
              <p:nvPr/>
            </p:nvSpPr>
            <p:spPr>
              <a:xfrm>
                <a:off x="1905120" y="6095880"/>
                <a:ext cx="8953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cτ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1" name="Group 24"/>
          <p:cNvGrpSpPr/>
          <p:nvPr/>
        </p:nvGrpSpPr>
        <p:grpSpPr>
          <a:xfrm>
            <a:off x="1981080" y="5510160"/>
            <a:ext cx="762120" cy="281160"/>
            <a:chOff x="1981080" y="5510160"/>
            <a:chExt cx="762120" cy="281160"/>
          </a:xfrm>
        </p:grpSpPr>
        <p:sp>
          <p:nvSpPr>
            <p:cNvPr id="352" name="Line 15"/>
            <p:cNvSpPr/>
            <p:nvPr/>
          </p:nvSpPr>
          <p:spPr>
            <a:xfrm>
              <a:off x="1981080" y="57913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3" name="Object 16"/>
                <p:cNvSpPr txBox="1"/>
                <p:nvPr/>
              </p:nvSpPr>
              <p:spPr>
                <a:xfrm>
                  <a:off x="2259000" y="5510160"/>
                  <a:ext cx="25560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4" name="Group 21"/>
          <p:cNvGrpSpPr/>
          <p:nvPr/>
        </p:nvGrpSpPr>
        <p:grpSpPr>
          <a:xfrm>
            <a:off x="1981080" y="4191120"/>
            <a:ext cx="762120" cy="331560"/>
            <a:chOff x="1981080" y="4191120"/>
            <a:chExt cx="762120" cy="331560"/>
          </a:xfrm>
        </p:grpSpPr>
        <p:sp>
          <p:nvSpPr>
            <p:cNvPr id="355" name="Line 17"/>
            <p:cNvSpPr/>
            <p:nvPr/>
          </p:nvSpPr>
          <p:spPr>
            <a:xfrm>
              <a:off x="1981080" y="44971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Object 18"/>
                <p:cNvSpPr txBox="1"/>
                <p:nvPr/>
              </p:nvSpPr>
              <p:spPr>
                <a:xfrm>
                  <a:off x="2246400" y="4191120"/>
                  <a:ext cx="28080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Group 23"/>
          <p:cNvGrpSpPr/>
          <p:nvPr/>
        </p:nvGrpSpPr>
        <p:grpSpPr>
          <a:xfrm>
            <a:off x="1219320" y="3962520"/>
            <a:ext cx="407880" cy="1523880"/>
            <a:chOff x="1219320" y="3962520"/>
            <a:chExt cx="407880" cy="1523880"/>
          </a:xfrm>
        </p:grpSpPr>
        <p:sp>
          <p:nvSpPr>
            <p:cNvPr id="358" name="Line 11"/>
            <p:cNvSpPr/>
            <p:nvPr/>
          </p:nvSpPr>
          <p:spPr>
            <a:xfrm>
              <a:off x="1219320" y="39625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Object 19"/>
                <p:cNvSpPr txBox="1"/>
                <p:nvPr/>
              </p:nvSpPr>
              <p:spPr>
                <a:xfrm>
                  <a:off x="1293840" y="4483080"/>
                  <a:ext cx="33336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0" name="Group 25"/>
          <p:cNvGrpSpPr/>
          <p:nvPr/>
        </p:nvGrpSpPr>
        <p:grpSpPr>
          <a:xfrm>
            <a:off x="2743200" y="4419720"/>
            <a:ext cx="533520" cy="304560"/>
            <a:chOff x="2743200" y="4419720"/>
            <a:chExt cx="533520" cy="304560"/>
          </a:xfrm>
        </p:grpSpPr>
        <p:sp>
          <p:nvSpPr>
            <p:cNvPr id="361" name="Line 20"/>
            <p:cNvSpPr/>
            <p:nvPr/>
          </p:nvSpPr>
          <p:spPr>
            <a:xfrm>
              <a:off x="2743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Object 22"/>
                <p:cNvSpPr txBox="1"/>
                <p:nvPr/>
              </p:nvSpPr>
              <p:spPr>
                <a:xfrm>
                  <a:off x="2894040" y="4419720"/>
                  <a:ext cx="230040" cy="28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3" name="Rectangle 26"/>
          <p:cNvSpPr/>
          <p:nvPr/>
        </p:nvSpPr>
        <p:spPr>
          <a:xfrm>
            <a:off x="3581280" y="3733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Karakterist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6095880" y="3657600"/>
            <a:ext cx="259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rajanj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mplitudu 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Du</a:t>
            </a: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žinu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8"/>
          <p:cNvSpPr/>
          <p:nvPr/>
        </p:nvSpPr>
        <p:spPr>
          <a:xfrm>
            <a:off x="6095880" y="3657600"/>
            <a:ext cx="25909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Izvor određ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9"/>
          <p:cNvSpPr/>
          <p:nvPr/>
        </p:nvSpPr>
        <p:spPr>
          <a:xfrm>
            <a:off x="6019920" y="5181480"/>
            <a:ext cx="2590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Brzinu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Dužinu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30"/>
          <p:cNvSpPr/>
          <p:nvPr/>
        </p:nvSpPr>
        <p:spPr>
          <a:xfrm>
            <a:off x="6019920" y="51814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Sredina određu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OBLICI TALAS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ONTINUALNI TALAS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Kontinualni talasi predstavljaju poremećaje koje izvor talasa generiše u dužem vremenskom  period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OBLICI TALAS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ERIODIČNI TALAS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eriodični talasi predstavljaju poremećaje koje izvor talasa generiše na isti način u pravilnim vremenskim intervalim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Izvor određuj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eriod talasa</a:t>
            </a: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 T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frekvenc</a:t>
            </a: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talasa</a:t>
            </a: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 f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kru</a:t>
            </a: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</a:t>
            </a: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frekvenc</a:t>
            </a: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u talasa </a:t>
            </a:r>
            <a:r>
              <a:rPr b="0" lang="hr-HR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OBLICI TALAS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ERIODIČNI TALAS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040" y="52574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redina određu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alasn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du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n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alasni vekto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Picture 4" descr="perioodicniTalas"/>
          <p:cNvPicPr/>
          <p:nvPr/>
        </p:nvPicPr>
        <p:blipFill>
          <a:blip r:embed="rId1"/>
          <a:srcRect l="0" t="28465" r="0" b="22371"/>
          <a:stretch/>
        </p:blipFill>
        <p:spPr>
          <a:xfrm>
            <a:off x="1143000" y="2362320"/>
            <a:ext cx="4670280" cy="1447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5" name="Object 5"/>
              <p:cNvSpPr txBox="1"/>
              <p:nvPr/>
            </p:nvSpPr>
            <p:spPr>
              <a:xfrm>
                <a:off x="1084320" y="4038480"/>
                <a:ext cx="10605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6"/>
              <p:cNvSpPr txBox="1"/>
              <p:nvPr/>
            </p:nvSpPr>
            <p:spPr>
              <a:xfrm>
                <a:off x="2362320" y="3809880"/>
                <a:ext cx="8334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7"/>
              <p:cNvSpPr txBox="1"/>
              <p:nvPr/>
            </p:nvSpPr>
            <p:spPr>
              <a:xfrm>
                <a:off x="4361040" y="3809880"/>
                <a:ext cx="25761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f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8"/>
              <p:cNvSpPr txBox="1"/>
              <p:nvPr/>
            </p:nvSpPr>
            <p:spPr>
              <a:xfrm>
                <a:off x="7499520" y="3835440"/>
                <a:ext cx="9586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d0d0d"/>
                </a:solidFill>
                <a:latin typeface="Tw Cen MT Condensed"/>
              </a:rPr>
              <a:t>TALASNI FRONT I TALASNI ZRACI </a:t>
            </a:r>
            <a:br>
              <a:rPr sz="2900"/>
            </a:br>
            <a:r>
              <a:rPr b="0" lang="sr-Latn-CS" sz="2900" spc="-1" strike="noStrike">
                <a:solidFill>
                  <a:srgbClr val="0d0d0d"/>
                </a:solidFill>
                <a:latin typeface="Tw Cen MT Condensed"/>
              </a:rPr>
              <a:t>DOPLEROV EFEKAT</a:t>
            </a:r>
            <a:endParaRPr b="0" lang="en-US" sz="29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w Cen MT"/>
              </a:rPr>
              <a:t>Zavisnost frekvence talasa koju opaža prijemnik u od relativnog kretanja prijemnika i izvor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1" name="Picture 6" descr="DOPPLER1"/>
          <p:cNvPicPr/>
          <p:nvPr/>
        </p:nvPicPr>
        <p:blipFill>
          <a:blip r:embed="rId1"/>
          <a:stretch/>
        </p:blipFill>
        <p:spPr>
          <a:xfrm>
            <a:off x="900000" y="3357720"/>
            <a:ext cx="3292560" cy="32922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DOPPLER2"/>
          <p:cNvPicPr/>
          <p:nvPr/>
        </p:nvPicPr>
        <p:blipFill>
          <a:blip r:embed="rId2"/>
          <a:stretch/>
        </p:blipFill>
        <p:spPr>
          <a:xfrm>
            <a:off x="4859280" y="3357720"/>
            <a:ext cx="3292560" cy="329220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0"/>
          <p:cNvSpPr/>
          <p:nvPr/>
        </p:nvSpPr>
        <p:spPr>
          <a:xfrm>
            <a:off x="1636200" y="623412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nepokretni iz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5721480" y="623736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okretni iz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d0d0d"/>
                </a:solidFill>
                <a:latin typeface="Tw Cen MT Condensed"/>
              </a:rPr>
              <a:t>TALASNI FRONT I TALASNI ZRACI </a:t>
            </a:r>
            <a:br>
              <a:rPr sz="2900"/>
            </a:br>
            <a:r>
              <a:rPr b="0" lang="sr-Latn-CS" sz="2900" spc="-1" strike="noStrike">
                <a:solidFill>
                  <a:srgbClr val="0d0d0d"/>
                </a:solidFill>
                <a:latin typeface="Tw Cen MT Condensed"/>
              </a:rPr>
              <a:t>DOPLEROV EFEKAT</a:t>
            </a:r>
            <a:endParaRPr b="0" lang="en-US" sz="29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221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7000"/>
          </a:bodyPr>
          <a:p>
            <a:pPr marL="78480" indent="-78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ako se izvor kreće ka prijemniku frekvenca primljenog talasa rast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78480" indent="-78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ako se izvor kreće od prijemnik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</a:t>
            </a: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 frekvenca primljenog talasa opad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30400" indent="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78480" indent="-78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ako se prijemnik kreće ka izvoru frekvence primljenog talasa rast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78480" indent="-78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ako se prijemnik kreće od izvor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</a:t>
            </a: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 frekvenca primljenog talasa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pad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30400" indent="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87" name="Object 4"/>
          <p:cNvGraphicFramePr/>
          <p:nvPr/>
        </p:nvGraphicFramePr>
        <p:xfrm>
          <a:off x="3070080" y="4735440"/>
          <a:ext cx="2395800" cy="8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0080" y="4735440"/>
                    <a:ext cx="2395800" cy="80352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NASTAJANJE TALAS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14040" y="23623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rostiranje talasa: svaka tačka radi isto što i susedna, samo malo kasni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Koliko kasnije: dok talas stigne od suseda do n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990720" y="44956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Gde sve to počinje? U izvoru tal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6"/>
              <p:cNvSpPr txBox="1"/>
              <p:nvPr/>
            </p:nvSpPr>
            <p:spPr>
              <a:xfrm>
                <a:off x="2857680" y="3549600"/>
                <a:ext cx="11538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Text Box 7"/>
          <p:cNvSpPr/>
          <p:nvPr/>
        </p:nvSpPr>
        <p:spPr>
          <a:xfrm>
            <a:off x="4097160" y="369396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ašnjenje za sus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1143000" y="5124600"/>
            <a:ext cx="8864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w Cen MT"/>
              </a:rPr>
              <a:t>Svaka tačka pogođena talasom ponavlja ponašanje izv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9"/>
              <p:cNvSpPr txBox="1"/>
              <p:nvPr/>
            </p:nvSpPr>
            <p:spPr>
              <a:xfrm>
                <a:off x="3060720" y="5759280"/>
                <a:ext cx="7700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Text Box 10"/>
          <p:cNvSpPr/>
          <p:nvPr/>
        </p:nvSpPr>
        <p:spPr>
          <a:xfrm>
            <a:off x="4111560" y="5904000"/>
            <a:ext cx="345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w Cen MT"/>
              </a:rPr>
              <a:t>kašnjenje za izvo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d0d0d"/>
                </a:solidFill>
                <a:latin typeface="Tw Cen MT Condensed"/>
              </a:rPr>
              <a:t>TALASNI FRONT I TALASNI ZRACI </a:t>
            </a:r>
            <a:br>
              <a:rPr sz="2900"/>
            </a:br>
            <a:r>
              <a:rPr b="0" lang="sr-Latn-CS" sz="2900" spc="-1" strike="noStrike">
                <a:solidFill>
                  <a:srgbClr val="0d0d0d"/>
                </a:solidFill>
                <a:latin typeface="Tw Cen MT Condensed"/>
              </a:rPr>
              <a:t>DOPLEROV EFEKAT</a:t>
            </a:r>
            <a:endParaRPr b="0" lang="en-US" sz="29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24040" y="2362320"/>
            <a:ext cx="2219400" cy="38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Zvučni zi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9" descr="DOPPLER5"/>
          <p:cNvPicPr/>
          <p:nvPr/>
        </p:nvPicPr>
        <p:blipFill>
          <a:blip r:embed="rId1"/>
          <a:stretch/>
        </p:blipFill>
        <p:spPr>
          <a:xfrm>
            <a:off x="992160" y="2492280"/>
            <a:ext cx="3292560" cy="32925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10"/>
          <p:cNvSpPr/>
          <p:nvPr/>
        </p:nvSpPr>
        <p:spPr>
          <a:xfrm>
            <a:off x="5334120" y="2895480"/>
            <a:ext cx="2219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Mahov ko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11" descr="MACH1"/>
          <p:cNvPicPr/>
          <p:nvPr/>
        </p:nvPicPr>
        <p:blipFill>
          <a:blip r:embed="rId2"/>
          <a:stretch/>
        </p:blipFill>
        <p:spPr>
          <a:xfrm>
            <a:off x="5486400" y="3503520"/>
            <a:ext cx="3403440" cy="2440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2" descr="DOPPLER4"/>
          <p:cNvPicPr/>
          <p:nvPr/>
        </p:nvPicPr>
        <p:blipFill>
          <a:blip r:embed="rId3"/>
          <a:stretch/>
        </p:blipFill>
        <p:spPr>
          <a:xfrm>
            <a:off x="762120" y="2584440"/>
            <a:ext cx="32922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OBLICI TALAS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HARMONIJSKI TALAS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040" y="23623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eriodični talas čiji je profil harmonijska funkcij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1752480" y="3276720"/>
                <a:ext cx="35308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1752480" y="3657600"/>
                <a:ext cx="40449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6095880" y="3276720"/>
                <a:ext cx="12272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ϕ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0" name="Line 8"/>
          <p:cNvSpPr/>
          <p:nvPr/>
        </p:nvSpPr>
        <p:spPr>
          <a:xfrm>
            <a:off x="548640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5037120" y="2790720"/>
                <a:ext cx="29638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2" name="Picture 10" descr="D:\SoskicZ Documents\Nastava\Fizika\Predavanja\HAR_TAL.BMP"/>
          <p:cNvPicPr/>
          <p:nvPr/>
        </p:nvPicPr>
        <p:blipFill>
          <a:blip r:embed="rId1"/>
          <a:srcRect l="12964" t="11110" r="12964" b="44449"/>
          <a:stretch/>
        </p:blipFill>
        <p:spPr>
          <a:xfrm>
            <a:off x="1447920" y="4648320"/>
            <a:ext cx="4724280" cy="216036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13"/>
          <p:cNvGrpSpPr/>
          <p:nvPr/>
        </p:nvGrpSpPr>
        <p:grpSpPr>
          <a:xfrm>
            <a:off x="2971800" y="4670280"/>
            <a:ext cx="1143000" cy="358920"/>
            <a:chOff x="2971800" y="4670280"/>
            <a:chExt cx="1143000" cy="358920"/>
          </a:xfrm>
        </p:grpSpPr>
        <p:sp>
          <p:nvSpPr>
            <p:cNvPr id="404" name="Line 11"/>
            <p:cNvSpPr/>
            <p:nvPr/>
          </p:nvSpPr>
          <p:spPr>
            <a:xfrm>
              <a:off x="2971800" y="4876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Object 10"/>
                <p:cNvSpPr txBox="1"/>
                <p:nvPr/>
              </p:nvSpPr>
              <p:spPr>
                <a:xfrm>
                  <a:off x="3352680" y="4670280"/>
                  <a:ext cx="28116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6" name="Group 14"/>
          <p:cNvGrpSpPr/>
          <p:nvPr/>
        </p:nvGrpSpPr>
        <p:grpSpPr>
          <a:xfrm>
            <a:off x="3505320" y="5889600"/>
            <a:ext cx="1143000" cy="358920"/>
            <a:chOff x="3505320" y="5889600"/>
            <a:chExt cx="1143000" cy="358920"/>
          </a:xfrm>
        </p:grpSpPr>
        <p:sp>
          <p:nvSpPr>
            <p:cNvPr id="407" name="Line 15"/>
            <p:cNvSpPr/>
            <p:nvPr/>
          </p:nvSpPr>
          <p:spPr>
            <a:xfrm>
              <a:off x="3505320" y="60962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8" name="Object 9"/>
                <p:cNvSpPr txBox="1"/>
                <p:nvPr/>
              </p:nvSpPr>
              <p:spPr>
                <a:xfrm>
                  <a:off x="3886200" y="5889600"/>
                  <a:ext cx="28116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9" name="Group 17"/>
          <p:cNvGrpSpPr/>
          <p:nvPr/>
        </p:nvGrpSpPr>
        <p:grpSpPr>
          <a:xfrm>
            <a:off x="4343400" y="5410080"/>
            <a:ext cx="1143000" cy="358920"/>
            <a:chOff x="4343400" y="5410080"/>
            <a:chExt cx="1143000" cy="358920"/>
          </a:xfrm>
        </p:grpSpPr>
        <p:sp>
          <p:nvSpPr>
            <p:cNvPr id="410" name="Line 18"/>
            <p:cNvSpPr/>
            <p:nvPr/>
          </p:nvSpPr>
          <p:spPr>
            <a:xfrm>
              <a:off x="4343400" y="56167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1" name="Object 8"/>
                <p:cNvSpPr txBox="1"/>
                <p:nvPr/>
              </p:nvSpPr>
              <p:spPr>
                <a:xfrm>
                  <a:off x="4724280" y="5410080"/>
                  <a:ext cx="28116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2" name="Object 6"/>
              <p:cNvSpPr txBox="1"/>
              <p:nvPr/>
            </p:nvSpPr>
            <p:spPr>
              <a:xfrm>
                <a:off x="1778040" y="2743200"/>
                <a:ext cx="29685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13" name="Object 7"/>
          <p:cNvGraphicFramePr/>
          <p:nvPr/>
        </p:nvGraphicFramePr>
        <p:xfrm>
          <a:off x="6524640" y="5157720"/>
          <a:ext cx="126828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24640" y="5157720"/>
                    <a:ext cx="12682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w Cen MT Condensed"/>
              </a:rPr>
              <a:t>OBLICI TALASA</a:t>
            </a:r>
            <a:br>
              <a:rPr sz="4000"/>
            </a:br>
            <a:r>
              <a:rPr b="0" lang="hr-HR" sz="4000" spc="-1" strike="noStrike">
                <a:solidFill>
                  <a:srgbClr val="0d0d0d"/>
                </a:solidFill>
                <a:latin typeface="Tw Cen MT Condensed"/>
              </a:rPr>
              <a:t>FURIJEOVA ANALIZA I SPEKTAR TALASA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040" y="2361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Osnovna tez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vaki talas se može predstaviti kao zbir harmonijskih talas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Furijeova analiza omogućava da se odredi od kakvih harmonijskih talasa je sastavljen neki tal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Frekvenc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Amplitud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očetna faz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pektar je skup svih komponenti koje sačinjavaju jedan tal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w Cen MT Condensed"/>
              </a:rPr>
              <a:t>OBLICI TALASA</a:t>
            </a:r>
            <a:br>
              <a:rPr sz="4000"/>
            </a:br>
            <a:r>
              <a:rPr b="0" lang="hr-HR" sz="4000" spc="-1" strike="noStrike">
                <a:solidFill>
                  <a:srgbClr val="0d0d0d"/>
                </a:solidFill>
                <a:latin typeface="Tw Cen MT Condensed"/>
              </a:rPr>
              <a:t>FURIJEOVA ANALIZA I SPEKTAR TALASA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14040" y="236196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Amplitudno-frekventni spekta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Prikazuje amplitude komponenti prema njihovim frekvencam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762120" y="4495680"/>
            <a:ext cx="4952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Fazno-frekventni (fazni) spek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Prikazuje početne faze komponenti prema njihovim frekvenc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6" descr="D:\SoskicZ Documents\Nastava\Fizika\Predavanja\am-frek.bmp"/>
          <p:cNvPicPr/>
          <p:nvPr/>
        </p:nvPicPr>
        <p:blipFill>
          <a:blip r:embed="rId1"/>
          <a:srcRect l="7106" t="13397" r="10016" b="0"/>
          <a:stretch/>
        </p:blipFill>
        <p:spPr>
          <a:xfrm>
            <a:off x="5791320" y="2438280"/>
            <a:ext cx="2666880" cy="1970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D:\SoskicZ Documents\Nastava\Fizika\Predavanja\faz-frek.bmp"/>
          <p:cNvPicPr/>
          <p:nvPr/>
        </p:nvPicPr>
        <p:blipFill>
          <a:blip r:embed="rId2"/>
          <a:srcRect l="4734" t="6698" r="10016" b="6207"/>
          <a:stretch/>
        </p:blipFill>
        <p:spPr>
          <a:xfrm>
            <a:off x="5715000" y="4572000"/>
            <a:ext cx="2743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w Cen MT Condensed"/>
              </a:rPr>
              <a:t>OBLICI TALASA</a:t>
            </a:r>
            <a:br>
              <a:rPr sz="4000"/>
            </a:br>
            <a:r>
              <a:rPr b="0" lang="hr-HR" sz="4000" spc="-1" strike="noStrike">
                <a:solidFill>
                  <a:srgbClr val="0d0d0d"/>
                </a:solidFill>
                <a:latin typeface="Tw Cen MT Condensed"/>
              </a:rPr>
              <a:t>FURIJEOVA ANALIZA I SPEKTAR TALASA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423" name="Picture 8" descr="D:\My Documents\Nastava\Fizika\Stof\4\FFT-1a.gif"/>
          <p:cNvPicPr/>
          <p:nvPr/>
        </p:nvPicPr>
        <p:blipFill>
          <a:blip r:embed="rId1"/>
          <a:stretch/>
        </p:blipFill>
        <p:spPr>
          <a:xfrm>
            <a:off x="762120" y="2305080"/>
            <a:ext cx="7619760" cy="2247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9" descr="D:\My Documents\Nastava\Fizika\Stof\4\FFT-1b.gif"/>
          <p:cNvPicPr/>
          <p:nvPr/>
        </p:nvPicPr>
        <p:blipFill>
          <a:blip r:embed="rId2"/>
          <a:stretch/>
        </p:blipFill>
        <p:spPr>
          <a:xfrm>
            <a:off x="762120" y="4533840"/>
            <a:ext cx="7619760" cy="22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Object 5"/>
          <p:cNvGraphicFramePr/>
          <p:nvPr/>
        </p:nvGraphicFramePr>
        <p:xfrm>
          <a:off x="5692680" y="2428920"/>
          <a:ext cx="165420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92680" y="2428920"/>
                    <a:ext cx="16542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6"/>
          <p:cNvGraphicFramePr/>
          <p:nvPr/>
        </p:nvGraphicFramePr>
        <p:xfrm>
          <a:off x="5321160" y="4689360"/>
          <a:ext cx="3335400" cy="38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21160" y="4689360"/>
                    <a:ext cx="33354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w Cen MT Condensed"/>
              </a:rPr>
              <a:t>OBLICI TALASA</a:t>
            </a:r>
            <a:br>
              <a:rPr sz="4000"/>
            </a:br>
            <a:r>
              <a:rPr b="0" lang="hr-HR" sz="4000" spc="-1" strike="noStrike">
                <a:solidFill>
                  <a:srgbClr val="0d0d0d"/>
                </a:solidFill>
                <a:latin typeface="Tw Cen MT Condensed"/>
              </a:rPr>
              <a:t>FURIJEOVA ANALIZA I SPEKTAR TALASA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040" y="49525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Blage ivi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ostoje samo komponente talasa niskih frekvenc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Oštre ivi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ostoje i komponente talasa visokih frekvenc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1" name="Picture 5" descr="D:\My Documents\Nastava\Fizika\Stof\4\FFT-1j.gif"/>
          <p:cNvPicPr/>
          <p:nvPr/>
        </p:nvPicPr>
        <p:blipFill>
          <a:blip r:embed="rId1"/>
          <a:srcRect l="1871" t="0" r="2802" b="0"/>
          <a:stretch/>
        </p:blipFill>
        <p:spPr>
          <a:xfrm>
            <a:off x="762120" y="2354400"/>
            <a:ext cx="81532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FREKVENCE ZVUČNIH TALAS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899640" y="2362320"/>
            <a:ext cx="800100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Zvuk su mehanički talasi na koje je osetljivo ljudsko uh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Longitudinalni, jer uho ispunjava flui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2738520" y="3718080"/>
            <a:ext cx="2879640" cy="21744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1009800" y="3719520"/>
            <a:ext cx="172872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3798360" y="3214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v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9"/>
          <p:cNvSpPr/>
          <p:nvPr/>
        </p:nvSpPr>
        <p:spPr>
          <a:xfrm>
            <a:off x="1098720" y="31892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nfrazv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6787800" y="31431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ltrazv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11"/>
              <p:cNvSpPr txBox="1"/>
              <p:nvPr/>
            </p:nvSpPr>
            <p:spPr>
              <a:xfrm>
                <a:off x="771480" y="4006800"/>
                <a:ext cx="655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12"/>
              <p:cNvSpPr txBox="1"/>
              <p:nvPr/>
            </p:nvSpPr>
            <p:spPr>
              <a:xfrm>
                <a:off x="2378160" y="4006800"/>
                <a:ext cx="7826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AutoShape 13"/>
          <p:cNvSpPr/>
          <p:nvPr/>
        </p:nvSpPr>
        <p:spPr>
          <a:xfrm>
            <a:off x="5618160" y="3603600"/>
            <a:ext cx="3240000" cy="432000"/>
          </a:xfrm>
          <a:prstGeom prst="rightArrow">
            <a:avLst>
              <a:gd name="adj1" fmla="val 50000"/>
              <a:gd name="adj2" fmla="val 187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14"/>
              <p:cNvSpPr txBox="1"/>
              <p:nvPr/>
            </p:nvSpPr>
            <p:spPr>
              <a:xfrm>
                <a:off x="5203800" y="3935520"/>
                <a:ext cx="9097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15"/>
              <p:cNvSpPr txBox="1"/>
              <p:nvPr/>
            </p:nvSpPr>
            <p:spPr>
              <a:xfrm>
                <a:off x="2438280" y="4384800"/>
                <a:ext cx="6811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16"/>
              <p:cNvSpPr txBox="1"/>
              <p:nvPr/>
            </p:nvSpPr>
            <p:spPr>
              <a:xfrm>
                <a:off x="5218200" y="4357800"/>
                <a:ext cx="9079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Rectangle 3"/>
          <p:cNvSpPr/>
          <p:nvPr/>
        </p:nvSpPr>
        <p:spPr>
          <a:xfrm>
            <a:off x="1000080" y="4714920"/>
            <a:ext cx="35719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Infrazv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Niske frekv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Velike tal. duž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iska energ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Širenje pri prostiran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ug do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5500800" y="4714920"/>
            <a:ext cx="35719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ltra</a:t>
            </a: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zv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Visoke</a:t>
            </a: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 frekv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Kratke</a:t>
            </a: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 tal. duž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Visoka energ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avolinijsko prostir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Jaka apsorp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TALASNE DUŽINE EM TALAS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90000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Tw Cen MT"/>
              </a:rPr>
              <a:t>Prema talasnoj duži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Radio talasi ( </a:t>
            </a:r>
            <a:r>
              <a:rPr b="0" lang="sr-Latn-R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 &gt; 1 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Mikrotalasi (100 cm &gt; </a:t>
            </a:r>
            <a:r>
              <a:rPr b="0" lang="sr-Latn-R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 &gt; 0,1 c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Infracrveni zraci (100 </a:t>
            </a:r>
            <a:r>
              <a:rPr b="0" lang="sr-Latn-R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m &gt; </a:t>
            </a:r>
            <a:r>
              <a:rPr b="0" lang="sr-Latn-R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 &gt; 0,8 </a:t>
            </a:r>
            <a:r>
              <a:rPr b="0" lang="sr-Latn-R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Svetlosni zraci (780 nm &gt; </a:t>
            </a:r>
            <a:r>
              <a:rPr b="0" lang="sr-Latn-R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 &gt; 330 n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Ultraljubičasti zraci (330 nm &gt; </a:t>
            </a:r>
            <a:r>
              <a:rPr b="0" lang="sr-Latn-R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 &gt; 10 n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Rendgenski zraci (10 nm &gt; </a:t>
            </a:r>
            <a:r>
              <a:rPr b="0" lang="sr-Latn-R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 &gt; 1 p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Gama zraci (</a:t>
            </a:r>
            <a:r>
              <a:rPr b="0" lang="sr-Latn-R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 &lt; 1 p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REFLEKSIJA I TRANSMISIJA TALAS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91404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ada talas pri prostiranju nai</a:t>
            </a:r>
            <a:r>
              <a:rPr b="0" lang="sr-Latn-CS" sz="2400" spc="-1" strike="noStrike">
                <a:solidFill>
                  <a:srgbClr val="000000"/>
                </a:solidFill>
                <a:latin typeface="Tw Cen MT"/>
              </a:rPr>
              <a:t>đe na granicu sredine kroz koju se do tada prostirao, nastaju dva talas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reflektovani (odbijeni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w Cen MT"/>
              </a:rPr>
              <a:t>suprotni sme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w Cen MT"/>
              </a:rPr>
              <a:t>ista sredin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w Cen MT"/>
              </a:rPr>
              <a:t>ista brzin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transmitovani (preneseni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w Cen MT"/>
              </a:rPr>
              <a:t>isti sme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w Cen MT"/>
              </a:rPr>
              <a:t>nova sredin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w Cen MT"/>
              </a:rPr>
              <a:t>nova brzin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Intenziteti oba talasa manji od intenziteta upadnog talas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Zbir intenziteta reflektovanog i transmitovanog talasa jednak je intenzitetu upadnog talas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4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ODBIJANJE TALAS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91404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Tw Cen MT"/>
              </a:rPr>
              <a:t>Odbijeni talas menja pravac prostiranja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Tw Cen MT"/>
              </a:rPr>
              <a:t>Dekartov zako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53" name="Group 4"/>
          <p:cNvGrpSpPr/>
          <p:nvPr/>
        </p:nvGrpSpPr>
        <p:grpSpPr>
          <a:xfrm>
            <a:off x="2133720" y="3124080"/>
            <a:ext cx="4190400" cy="2590560"/>
            <a:chOff x="2133720" y="3124080"/>
            <a:chExt cx="4190400" cy="2590560"/>
          </a:xfrm>
        </p:grpSpPr>
        <p:pic>
          <p:nvPicPr>
            <p:cNvPr id="454" name="Picture 5" descr="OdbijanjeDekart"/>
            <p:cNvPicPr/>
            <p:nvPr/>
          </p:nvPicPr>
          <p:blipFill>
            <a:blip r:embed="rId1"/>
            <a:stretch/>
          </p:blipFill>
          <p:spPr>
            <a:xfrm>
              <a:off x="2133720" y="3124080"/>
              <a:ext cx="4115880" cy="253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Line 6"/>
            <p:cNvSpPr/>
            <p:nvPr/>
          </p:nvSpPr>
          <p:spPr>
            <a:xfrm>
              <a:off x="2806920" y="5714640"/>
              <a:ext cx="351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Rectangle 7"/>
          <p:cNvSpPr/>
          <p:nvPr/>
        </p:nvSpPr>
        <p:spPr>
          <a:xfrm>
            <a:off x="914400" y="60199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adni zrak, odbojni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 i normala leže u istoj rav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d0d0d"/>
                </a:solidFill>
                <a:latin typeface="Tw Cen MT Condensed"/>
              </a:rPr>
              <a:t>PROSTIRANJE TALAS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Drugačije od kretanja tel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w Cen MT"/>
              </a:rPr>
              <a:t>superpozicij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w Cen MT"/>
              </a:rPr>
              <a:t>Interferencij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rezonancij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w Cen MT"/>
              </a:rPr>
              <a:t>difrakcij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w Cen MT"/>
              </a:rPr>
              <a:t>refleksija (odbijanje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w Cen MT"/>
              </a:rPr>
              <a:t>refrakcija (prelamanje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w Cen MT"/>
              </a:rPr>
              <a:t>disperzij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Pokazuje da talasi nisu snopovi čestic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Glavni razlog za proučavanje talas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7"/>
          <p:cNvSpPr/>
          <p:nvPr/>
        </p:nvSpPr>
        <p:spPr>
          <a:xfrm>
            <a:off x="1143000" y="4572000"/>
            <a:ext cx="2971800" cy="190512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RELAMANJE TALAS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91404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Tw Cen MT"/>
              </a:rPr>
              <a:t>Transmitovani talas menja pravac prostiranja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Tw Cen MT"/>
              </a:rPr>
              <a:t>Snelov zako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Line 12"/>
          <p:cNvSpPr/>
          <p:nvPr/>
        </p:nvSpPr>
        <p:spPr>
          <a:xfrm>
            <a:off x="1143000" y="457200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"/>
          <p:cNvSpPr/>
          <p:nvPr/>
        </p:nvSpPr>
        <p:spPr>
          <a:xfrm>
            <a:off x="2514600" y="30481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4"/>
          <p:cNvSpPr/>
          <p:nvPr/>
        </p:nvSpPr>
        <p:spPr>
          <a:xfrm>
            <a:off x="1523880" y="3429000"/>
            <a:ext cx="9907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5"/>
          <p:cNvSpPr/>
          <p:nvPr/>
        </p:nvSpPr>
        <p:spPr>
          <a:xfrm>
            <a:off x="2514600" y="4572000"/>
            <a:ext cx="53352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8"/>
          <p:cNvSpPr/>
          <p:nvPr/>
        </p:nvSpPr>
        <p:spPr>
          <a:xfrm>
            <a:off x="4267080" y="3048120"/>
            <a:ext cx="4648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adni zrak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lomlj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 i normala leže u istoj rav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9"/>
          <p:cNvSpPr/>
          <p:nvPr/>
        </p:nvSpPr>
        <p:spPr>
          <a:xfrm>
            <a:off x="3416040" y="40449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20"/>
          <p:cNvSpPr/>
          <p:nvPr/>
        </p:nvSpPr>
        <p:spPr>
          <a:xfrm>
            <a:off x="3436920" y="45784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Object 0"/>
          <p:cNvGraphicFramePr/>
          <p:nvPr/>
        </p:nvGraphicFramePr>
        <p:xfrm>
          <a:off x="4940280" y="3759120"/>
          <a:ext cx="1359000" cy="8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0280" y="3759120"/>
                    <a:ext cx="13590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9" name="Group 28"/>
          <p:cNvGrpSpPr/>
          <p:nvPr/>
        </p:nvGrpSpPr>
        <p:grpSpPr>
          <a:xfrm>
            <a:off x="1968120" y="3809880"/>
            <a:ext cx="614160" cy="762120"/>
            <a:chOff x="1968120" y="3809880"/>
            <a:chExt cx="614160" cy="762120"/>
          </a:xfrm>
        </p:grpSpPr>
        <p:sp>
          <p:nvSpPr>
            <p:cNvPr id="470" name="Text Box 16"/>
            <p:cNvSpPr/>
            <p:nvPr/>
          </p:nvSpPr>
          <p:spPr>
            <a:xfrm>
              <a:off x="2121120" y="380988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Arc 24"/>
            <p:cNvSpPr/>
            <p:nvPr/>
          </p:nvSpPr>
          <p:spPr>
            <a:xfrm flipH="1">
              <a:off x="1967760" y="3809880"/>
              <a:ext cx="546120" cy="762120"/>
            </a:xfrm>
            <a:custGeom>
              <a:avLst/>
              <a:gdLst>
                <a:gd name="textAreaLeft" fmla="*/ -360 w 546120"/>
                <a:gd name="textAreaRight" fmla="*/ 546120 w 5461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fill="none" w="13203" h="21600">
                  <a:moveTo>
                    <a:pt x="-1" y="0"/>
                  </a:moveTo>
                  <a:cubicBezTo>
                    <a:pt x="4778" y="0"/>
                    <a:pt x="9421" y="1584"/>
                    <a:pt x="13203" y="4504"/>
                  </a:cubicBezTo>
                </a:path>
                <a:path stroke="0" w="13203" h="21600">
                  <a:moveTo>
                    <a:pt x="-1" y="0"/>
                  </a:moveTo>
                  <a:cubicBezTo>
                    <a:pt x="4778" y="0"/>
                    <a:pt x="9421" y="1584"/>
                    <a:pt x="13203" y="450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Group 29"/>
          <p:cNvGrpSpPr/>
          <p:nvPr/>
        </p:nvGrpSpPr>
        <p:grpSpPr>
          <a:xfrm>
            <a:off x="2446560" y="4572000"/>
            <a:ext cx="485640" cy="1295280"/>
            <a:chOff x="2446560" y="4572000"/>
            <a:chExt cx="485640" cy="1295280"/>
          </a:xfrm>
        </p:grpSpPr>
        <p:sp>
          <p:nvSpPr>
            <p:cNvPr id="473" name="Text Box 17"/>
            <p:cNvSpPr/>
            <p:nvPr/>
          </p:nvSpPr>
          <p:spPr>
            <a:xfrm>
              <a:off x="2446560" y="533412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Arc 26"/>
            <p:cNvSpPr/>
            <p:nvPr/>
          </p:nvSpPr>
          <p:spPr>
            <a:xfrm flipV="1">
              <a:off x="2514600" y="4572000"/>
              <a:ext cx="417600" cy="12952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360 h 1295280"/>
                <a:gd name="textAreaBottom" fmla="*/ 1296000 h 1295280"/>
              </a:gdLst>
              <a:ahLst/>
              <a:rect l="textAreaLeft" t="textAreaTop" r="textAreaRight" b="textAreaBottom"/>
              <a:pathLst>
                <a:path fill="none" w="7681" h="21600">
                  <a:moveTo>
                    <a:pt x="-1" y="0"/>
                  </a:moveTo>
                  <a:cubicBezTo>
                    <a:pt x="2624" y="0"/>
                    <a:pt x="5227" y="478"/>
                    <a:pt x="7681" y="1411"/>
                  </a:cubicBezTo>
                </a:path>
                <a:path stroke="0" w="7681" h="21600">
                  <a:moveTo>
                    <a:pt x="-1" y="0"/>
                  </a:moveTo>
                  <a:cubicBezTo>
                    <a:pt x="2624" y="0"/>
                    <a:pt x="5227" y="478"/>
                    <a:pt x="7681" y="1411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TOTALNA REFLEKSI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476" name="Picture 3" descr="OptickaVlakna"/>
          <p:cNvPicPr/>
          <p:nvPr/>
        </p:nvPicPr>
        <p:blipFill>
          <a:blip r:embed="rId1"/>
          <a:stretch/>
        </p:blipFill>
        <p:spPr>
          <a:xfrm>
            <a:off x="3124080" y="2438280"/>
            <a:ext cx="4496040" cy="300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77" name="Object 4"/>
              <p:cNvSpPr txBox="1"/>
              <p:nvPr/>
            </p:nvSpPr>
            <p:spPr>
              <a:xfrm>
                <a:off x="3200400" y="5715000"/>
                <a:ext cx="45752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1219320" y="2328840"/>
            <a:ext cx="1268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SUPERPOZICIJA TALAS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abiranje” talas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Mogu se sabirati samo talasi različitih pravaca ili smerova prostiran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6" name="Picture 4" descr="SUPER1"/>
          <p:cNvPicPr/>
          <p:nvPr/>
        </p:nvPicPr>
        <p:blipFill>
          <a:blip r:embed="rId1"/>
          <a:stretch/>
        </p:blipFill>
        <p:spPr>
          <a:xfrm>
            <a:off x="2651040" y="3489480"/>
            <a:ext cx="329256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w Cen MT Condensed"/>
              </a:rPr>
              <a:t>SUPERPOZICIJA TALASA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44953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pecifi</a:t>
            </a:r>
            <a:r>
              <a:rPr b="0" lang="sr-Latn-CS" sz="2400" spc="-1" strike="noStrike">
                <a:solidFill>
                  <a:srgbClr val="000000"/>
                </a:solidFill>
                <a:latin typeface="Tw Cen MT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o </a:t>
            </a:r>
            <a:r>
              <a:rPr b="0" lang="sr-Latn-CS" sz="2400" spc="-1" strike="noStrike">
                <a:solidFill>
                  <a:srgbClr val="000000"/>
                </a:solidFill>
                <a:latin typeface="Tw Cen MT"/>
              </a:rPr>
              <a:t>svojstvo prostiranj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talas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čestice se ne mogu sabirat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dve čestice ne mogu u istom trenutku da budu na istom mestu, a dva talasa mog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talas </a:t>
            </a:r>
            <a:r>
              <a:rPr b="1" i="1" lang="sr-Latn-CS" sz="2000" spc="-1" strike="noStrike">
                <a:solidFill>
                  <a:srgbClr val="000000"/>
                </a:solidFill>
                <a:latin typeface="Tw Cen MT"/>
              </a:rPr>
              <a:t>nije materija</a:t>
            </a: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, talas je </a:t>
            </a:r>
            <a:r>
              <a:rPr b="1" i="1" lang="sr-Latn-CS" sz="2000" spc="-1" strike="noStrike">
                <a:solidFill>
                  <a:srgbClr val="000000"/>
                </a:solidFill>
                <a:latin typeface="Tw Cen MT"/>
              </a:rPr>
              <a:t>način prostiranja poremećaja kroz materiju</a:t>
            </a: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; talas je način kretanja i može se slagat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9" name="Picture 8" descr="SUPER1start"/>
          <p:cNvPicPr/>
          <p:nvPr/>
        </p:nvPicPr>
        <p:blipFill>
          <a:blip r:embed="rId1"/>
          <a:srcRect l="0" t="18005" r="0" b="17690"/>
          <a:stretch/>
        </p:blipFill>
        <p:spPr>
          <a:xfrm>
            <a:off x="76320" y="1219320"/>
            <a:ext cx="2962080" cy="1904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SUPER1sredina"/>
          <p:cNvPicPr/>
          <p:nvPr/>
        </p:nvPicPr>
        <p:blipFill>
          <a:blip r:embed="rId2"/>
          <a:srcRect l="0" t="18005" r="0" b="20262"/>
          <a:stretch/>
        </p:blipFill>
        <p:spPr>
          <a:xfrm>
            <a:off x="3124080" y="1752480"/>
            <a:ext cx="2962440" cy="18288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" descr="SUPER1kraj"/>
          <p:cNvPicPr/>
          <p:nvPr/>
        </p:nvPicPr>
        <p:blipFill>
          <a:blip r:embed="rId3"/>
          <a:srcRect l="0" t="18005" r="0" b="20262"/>
          <a:stretch/>
        </p:blipFill>
        <p:spPr>
          <a:xfrm>
            <a:off x="6105600" y="2362320"/>
            <a:ext cx="2962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ALASI U PROSTORU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040" y="411444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zvor nije samo jedna ta</a:t>
            </a:r>
            <a:r>
              <a:rPr b="0" lang="sr-Latn-CS" sz="2400" spc="-1" strike="noStrike">
                <a:solidFill>
                  <a:srgbClr val="000000"/>
                </a:solidFill>
                <a:latin typeface="Tw Cen MT"/>
              </a:rPr>
              <a:t>čka, izvori su te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w Cen MT"/>
              </a:rPr>
              <a:t>Svaka tačka izvora ima sopstveno ponašan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w Cen MT"/>
              </a:rPr>
              <a:t>Svaka tačka stvara svoj tal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w Cen MT"/>
              </a:rPr>
              <a:t>Svaki realni talas je superpozicija talasa koje stvaraju sve tačke izvor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2274120" y="2438280"/>
            <a:ext cx="39618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ačka na mestu x, u trenutku 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e ponaša i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ao i izvor pre x/c vre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TALASI U PROSTORU</a:t>
            </a:r>
            <a:br>
              <a:rPr sz="4400"/>
            </a:br>
            <a:r>
              <a:rPr b="0" lang="hr-HR" sz="3200" spc="-1" strike="noStrike">
                <a:solidFill>
                  <a:srgbClr val="0d0d0d"/>
                </a:solidFill>
                <a:latin typeface="Tw Cen MT Condensed"/>
              </a:rPr>
              <a:t>HAJGENSOV PRINCIP</a:t>
            </a:r>
            <a:endParaRPr b="0" lang="en-US" sz="3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857240" y="2590920"/>
            <a:ext cx="4551480" cy="1373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vaka tačka pogođena talas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naša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ao izvor novih tal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7" descr="p_huygens1"/>
          <p:cNvPicPr/>
          <p:nvPr/>
        </p:nvPicPr>
        <p:blipFill>
          <a:blip r:embed="rId1"/>
          <a:stretch/>
        </p:blipFill>
        <p:spPr>
          <a:xfrm>
            <a:off x="3147840" y="4245120"/>
            <a:ext cx="2338560" cy="21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ALASI U PROSTORU</a:t>
            </a:r>
            <a:br>
              <a:rPr sz="4400"/>
            </a:br>
            <a:r>
              <a:rPr b="0" lang="en-US" sz="3200" spc="-1" strike="noStrike">
                <a:solidFill>
                  <a:srgbClr val="0d0d0d"/>
                </a:solidFill>
                <a:latin typeface="Tw Cen MT Condensed"/>
              </a:rPr>
              <a:t>TALASNI FRONT</a:t>
            </a:r>
            <a:endParaRPr b="0" lang="en-US" sz="3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914400" y="3657600"/>
            <a:ext cx="42670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mer: talas u ravni koji izaziva tačkasti iz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sto se ponašaju tačke koje su jednako udaljene od izv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alasni frontovi su kružn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997560" y="2575080"/>
            <a:ext cx="718344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asni front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e geometrijsko mesto tačaka koje imaju istu faz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kojima se uvek događa is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11" descr="monopole"/>
          <p:cNvPicPr/>
          <p:nvPr/>
        </p:nvPicPr>
        <p:blipFill>
          <a:blip r:embed="rId1"/>
          <a:stretch/>
        </p:blipFill>
        <p:spPr>
          <a:xfrm>
            <a:off x="5486400" y="3429000"/>
            <a:ext cx="32925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d0d0d"/>
                </a:solidFill>
                <a:latin typeface="Tw Cen MT Condensed"/>
              </a:rPr>
              <a:t>TALASNI ZRAK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218040" y="1773360"/>
            <a:ext cx="309168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alasni zrak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ormala na talasni 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914400" y="2924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okazuje pravac prostiranja ta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6"/>
          <p:cNvSpPr/>
          <p:nvPr/>
        </p:nvSpPr>
        <p:spPr>
          <a:xfrm>
            <a:off x="2050920" y="3995640"/>
            <a:ext cx="720720" cy="720720"/>
          </a:xfrm>
          <a:prstGeom prst="ellipse">
            <a:avLst/>
          </a:prstGeom>
          <a:noFill/>
          <a:ln w="38160">
            <a:solidFill>
              <a:srgbClr val="b26b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8"/>
          <p:cNvSpPr/>
          <p:nvPr/>
        </p:nvSpPr>
        <p:spPr>
          <a:xfrm>
            <a:off x="1908000" y="3851280"/>
            <a:ext cx="1008360" cy="1009800"/>
          </a:xfrm>
          <a:prstGeom prst="ellipse">
            <a:avLst/>
          </a:prstGeom>
          <a:noFill/>
          <a:ln w="38160">
            <a:solidFill>
              <a:srgbClr val="b26b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9"/>
          <p:cNvSpPr/>
          <p:nvPr/>
        </p:nvSpPr>
        <p:spPr>
          <a:xfrm>
            <a:off x="2224080" y="4168800"/>
            <a:ext cx="360360" cy="360360"/>
          </a:xfrm>
          <a:prstGeom prst="ellipse">
            <a:avLst/>
          </a:prstGeom>
          <a:noFill/>
          <a:ln w="38160">
            <a:solidFill>
              <a:srgbClr val="b26b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27"/>
          <p:cNvGrpSpPr/>
          <p:nvPr/>
        </p:nvGrpSpPr>
        <p:grpSpPr>
          <a:xfrm>
            <a:off x="1692000" y="3499920"/>
            <a:ext cx="1511640" cy="1729080"/>
            <a:chOff x="1692000" y="3499920"/>
            <a:chExt cx="1511640" cy="1729080"/>
          </a:xfrm>
        </p:grpSpPr>
        <p:sp>
          <p:nvSpPr>
            <p:cNvPr id="299" name="Line 10"/>
            <p:cNvSpPr/>
            <p:nvPr/>
          </p:nvSpPr>
          <p:spPr>
            <a:xfrm>
              <a:off x="2411280" y="436392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1"/>
            <p:cNvSpPr/>
            <p:nvPr/>
          </p:nvSpPr>
          <p:spPr>
            <a:xfrm>
              <a:off x="2411280" y="436392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2"/>
            <p:cNvSpPr/>
            <p:nvPr/>
          </p:nvSpPr>
          <p:spPr>
            <a:xfrm>
              <a:off x="2411280" y="4363920"/>
              <a:ext cx="7207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3"/>
            <p:cNvSpPr/>
            <p:nvPr/>
          </p:nvSpPr>
          <p:spPr>
            <a:xfrm flipV="1">
              <a:off x="2411280" y="3644640"/>
              <a:ext cx="72072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4"/>
            <p:cNvSpPr/>
            <p:nvPr/>
          </p:nvSpPr>
          <p:spPr>
            <a:xfrm flipV="1">
              <a:off x="2411280" y="349992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15"/>
            <p:cNvSpPr/>
            <p:nvPr/>
          </p:nvSpPr>
          <p:spPr>
            <a:xfrm flipH="1">
              <a:off x="1692000" y="436392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6"/>
            <p:cNvSpPr/>
            <p:nvPr/>
          </p:nvSpPr>
          <p:spPr>
            <a:xfrm flipH="1" flipV="1">
              <a:off x="1763280" y="3644640"/>
              <a:ext cx="64764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7"/>
            <p:cNvSpPr/>
            <p:nvPr/>
          </p:nvSpPr>
          <p:spPr>
            <a:xfrm flipH="1">
              <a:off x="1692000" y="4363920"/>
              <a:ext cx="7189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Line 18"/>
          <p:cNvSpPr/>
          <p:nvPr/>
        </p:nvSpPr>
        <p:spPr>
          <a:xfrm>
            <a:off x="6012000" y="3645000"/>
            <a:ext cx="0" cy="1439640"/>
          </a:xfrm>
          <a:prstGeom prst="line">
            <a:avLst/>
          </a:prstGeom>
          <a:ln w="38160">
            <a:solidFill>
              <a:srgbClr val="b26b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>
            <a:off x="6300720" y="3645000"/>
            <a:ext cx="0" cy="1439640"/>
          </a:xfrm>
          <a:prstGeom prst="line">
            <a:avLst/>
          </a:prstGeom>
          <a:ln w="38160">
            <a:solidFill>
              <a:srgbClr val="b26b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0"/>
          <p:cNvSpPr/>
          <p:nvPr/>
        </p:nvSpPr>
        <p:spPr>
          <a:xfrm>
            <a:off x="6588000" y="3645000"/>
            <a:ext cx="0" cy="1439640"/>
          </a:xfrm>
          <a:prstGeom prst="line">
            <a:avLst/>
          </a:prstGeom>
          <a:ln w="38160">
            <a:solidFill>
              <a:srgbClr val="b26b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28"/>
          <p:cNvGrpSpPr/>
          <p:nvPr/>
        </p:nvGrpSpPr>
        <p:grpSpPr>
          <a:xfrm>
            <a:off x="5867280" y="4003560"/>
            <a:ext cx="1009800" cy="720720"/>
            <a:chOff x="5867280" y="4003560"/>
            <a:chExt cx="1009800" cy="720720"/>
          </a:xfrm>
        </p:grpSpPr>
        <p:sp>
          <p:nvSpPr>
            <p:cNvPr id="311" name="Line 21"/>
            <p:cNvSpPr/>
            <p:nvPr/>
          </p:nvSpPr>
          <p:spPr>
            <a:xfrm>
              <a:off x="5867280" y="400356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2"/>
            <p:cNvSpPr/>
            <p:nvPr/>
          </p:nvSpPr>
          <p:spPr>
            <a:xfrm>
              <a:off x="5867280" y="414792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23"/>
            <p:cNvSpPr/>
            <p:nvPr/>
          </p:nvSpPr>
          <p:spPr>
            <a:xfrm>
              <a:off x="5867280" y="429084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24"/>
            <p:cNvSpPr/>
            <p:nvPr/>
          </p:nvSpPr>
          <p:spPr>
            <a:xfrm>
              <a:off x="5867280" y="443556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25"/>
            <p:cNvSpPr/>
            <p:nvPr/>
          </p:nvSpPr>
          <p:spPr>
            <a:xfrm>
              <a:off x="5867280" y="457992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6"/>
            <p:cNvSpPr/>
            <p:nvPr/>
          </p:nvSpPr>
          <p:spPr>
            <a:xfrm>
              <a:off x="5867280" y="472428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Rectangle 3"/>
          <p:cNvSpPr/>
          <p:nvPr/>
        </p:nvSpPr>
        <p:spPr>
          <a:xfrm>
            <a:off x="838080" y="55990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Oblik talasnog fronta zavisi od oblika izv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Osnovni oblici: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ferni</a:t>
            </a: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cilindri</a:t>
            </a: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i i ravanski tala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13:28:25Z</dcterms:created>
  <dc:creator>Zlatan Soskic</dc:creator>
  <dc:description/>
  <dc:language>en-US</dc:language>
  <cp:lastModifiedBy>Zlatan Soskic</cp:lastModifiedBy>
  <dcterms:modified xsi:type="dcterms:W3CDTF">2019-12-21T13:26:51Z</dcterms:modified>
  <cp:revision>610</cp:revision>
  <dc:subject/>
  <dc:title>Talasi</dc:title>
</cp:coreProperties>
</file>