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27.wmf" ContentType="image/x-wmf"/>
  <Override PartName="/ppt/media/image24.png" ContentType="image/png"/>
  <Override PartName="/ppt/media/image21.gif" ContentType="image/gif"/>
  <Override PartName="/ppt/media/image14.png" ContentType="image/png"/>
  <Override PartName="/ppt/media/image20.png" ContentType="image/png"/>
  <Override PartName="/ppt/media/image18.wmf" ContentType="image/x-wmf"/>
  <Override PartName="/ppt/media/image16.gif" ContentType="image/gif"/>
  <Override PartName="/ppt/media/image11.png" ContentType="image/png"/>
  <Override PartName="/ppt/media/image29.wmf" ContentType="image/x-wmf"/>
  <Override PartName="/ppt/media/image7.png" ContentType="image/png"/>
  <Override PartName="/ppt/media/image1.jpeg" ContentType="image/jpeg"/>
  <Override PartName="/ppt/media/image9.gif" ContentType="image/gif"/>
  <Override PartName="/ppt/media/image35.wmf" ContentType="image/x-wmf"/>
  <Override PartName="/ppt/media/image13.gif" ContentType="image/gif"/>
  <Override PartName="/ppt/media/image36.wmf" ContentType="image/x-wmf"/>
  <Override PartName="/ppt/media/image30.wmf" ContentType="image/x-wmf"/>
  <Override PartName="/ppt/media/image32.wmf" ContentType="image/x-wmf"/>
  <Override PartName="/ppt/media/image33.wmf" ContentType="image/x-wmf"/>
  <Override PartName="/ppt/media/image10.gif" ContentType="image/gif"/>
  <Override PartName="/ppt/media/image34.wmf" ContentType="image/x-wmf"/>
  <Override PartName="/ppt/media/image8.png" ContentType="image/png"/>
  <Override PartName="/ppt/media/image31.wmf" ContentType="image/x-wmf"/>
  <Override PartName="/ppt/media/image5.gif" ContentType="image/gif"/>
  <Override PartName="/ppt/media/image37.wmf" ContentType="image/x-wmf"/>
  <Override PartName="/ppt/media/image6.png" ContentType="image/png"/>
  <Override PartName="/ppt/media/image4.png" ContentType="image/png"/>
  <Override PartName="/ppt/media/image3.png" ContentType="image/png"/>
  <Override PartName="/ppt/media/image12.gif" ContentType="image/gif"/>
  <Override PartName="/ppt/media/image17.jpeg" ContentType="image/jpeg"/>
  <Override PartName="/ppt/media/image23.gif" ContentType="image/gif"/>
  <Override PartName="/ppt/media/image26.png" ContentType="image/png"/>
  <Override PartName="/ppt/media/image2.png" ContentType="image/png"/>
  <Override PartName="/ppt/media/image15.png" ContentType="image/png"/>
  <Override PartName="/ppt/media/image22.gif" ContentType="image/gif"/>
  <Override PartName="/ppt/media/image19.jpeg" ContentType="image/jpeg"/>
  <Override PartName="/ppt/media/image25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4214-9E41-47D2-A94A-7B5BBF23C9DE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EE86-6622-43C7-9D35-5E9503F36AB3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F31B-B523-4CB1-88C8-D93655B2608A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EFB7-5A54-47D0-BA7D-8BADB97A536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69A7-7224-450C-B032-B17B0E59AED4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4525-299C-41FD-8632-B0F967C98D41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8009-12BA-49BC-9D6B-C3B7494897C8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8853-943D-4C68-9FEF-B972816D81DE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83BC-451B-482B-B23B-1E7D37BE4034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CD72-C20A-4681-8025-5298F6C813B8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AA07-4977-48DC-B2E7-7C8FDE61C11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5D1D-4245-4163-9AF7-EE06DC03DE8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28D9-6A97-4E45-98BD-9A844D33C412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338B-30FF-4E77-BF2B-AE3E57F6E141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392B-CA2B-479E-A820-1EF5725514C4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9AE3-67D1-4A0E-BEDD-4B1D59FDA6D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6577-7E96-47A1-A5A1-8CC942DA59B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1FBC-A487-4FF0-ACAE-F5FCD4ACB073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C99B-5548-450F-94C9-ACFBDDDCBB5B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5723-8713-4FB9-871A-54BEC69D395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A253-60BB-4B02-BE46-127411482670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1F61-5571-4798-9E59-6742A0535E0D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6EC6-BAA4-4918-9096-721AEC891F2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2DD2-0666-4335-A43F-E27C0E7B780B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78DD-D0AD-46F2-8574-6328385788F3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76E0-708A-47D2-BD16-3B087F823E90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147E-96B9-47CC-973B-A6C5EBC934C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4BAC-78F0-4D8C-8EF8-6C5031C49523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0705-4164-4D5A-B186-E2A52A740B8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FD84-4736-4964-9F35-2970B2ABFF14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A0A4-C450-4965-8329-F0F74E68EC5B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6EBC-01C7-4C05-B5EA-3A92B21A335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5E43-B165-4375-B293-F6FF9193968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341E-3ED4-4953-B3EA-5D9A550D206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1238-E0FE-4D53-A6D2-BE049F2BD7C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E11F-7D3B-40F7-9BC7-B2B0AE62126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C83D-4277-45C4-93B3-D2050DB92C02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D4EB-E29F-4DD6-959C-7F396FEC895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0DF0-D8F9-483F-9DB9-38BE66537C6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A7A6-C874-49CB-9C32-8DEC9130658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0AE9-061E-4A9A-B7C5-92A65952946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9E10-9354-42CC-B27A-CBB36ED4F5DB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1EEF-C128-4795-B5F8-CEFED6E31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9A63-645C-48D7-8072-F510D3C2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1C4C-C546-47BA-9E82-B9BD4A0AC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2202-7117-4FFA-A9A5-CD0D5384A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0B0CF-5AE2-4F3E-8A7C-6E96D2884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AF34-3AFC-4FB2-81CB-516BE49C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01AC-5F51-4E1D-B532-023B328E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B6C28-7EA3-40B3-94CD-DD5B1B2C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01C5-4D2A-47E3-AD85-F9F38037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726B-91A7-4CF2-843B-945F9489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AAC3-A960-436E-B8B6-6FCF0AC8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585B-2647-4C44-B741-6F9CBF5A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8792-538C-4EF2-B236-06408428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3A30-7EFA-4E96-9027-64AD043B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782F-65DF-476A-A8E8-8E5CFC2D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2872-BA13-4CE6-87BA-CBDEE8EC0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7ACA-96FF-4699-B6C6-416EFC12B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4B458-5611-41EC-B2AE-0E1A95A0C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D11CC-E855-4CC5-9A4D-873E8622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BE0E2-6B94-4DCD-9659-E77EA132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08ED6-28B7-489B-99E1-05EED35B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9F6EB-7DDD-43BC-BC6F-DBF966C7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9F0E-D9F6-4DD9-B1F6-460D6EA4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F1E7A-7674-49FC-9F15-F8618152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E5B44-B883-459C-9FA6-191A7A2B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BB0E3-2C61-4A1C-96EA-1A1E9A8C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CF275-78AD-4A78-AA45-008D5F48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BE8B5-8DC7-4D72-AE5D-09A0DB58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B4F9E-A6F2-4DC2-8C8B-5EF3A051C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D357A-FFC5-4185-A314-F1A14A509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2C794-F99E-4307-8979-78D7D02D0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2B918-6A2D-447B-9763-9247A794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008F5-0200-450F-83AF-ED4F2BA7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B29A-F19E-4027-BCFD-44B57764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5BFA1-0AED-4F35-A776-9CD624C8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00339-E5CD-44D2-9D25-1E652E45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A3991-AA93-4DD2-A37E-001D19DF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34688-9DEB-45C9-9FFB-D3A7A23A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F622A-FAF7-45DE-BF58-DB97D3D5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2AB73-579E-43C6-9365-ADF223A8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12460-646E-4D29-9A18-2B17EA12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5A47B-872B-4180-9FA4-63B3E80C3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6789D-9C89-433D-9ABC-391042AAB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11ECC-178C-42E8-B92F-2C60A9544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2998-E85C-46E8-932E-E2D97662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3E666-B8CA-4339-8035-726C1F6C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EE684-2337-453A-97AF-EA662F73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9EFE6-8DD3-43D0-ACD5-4376472F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C57C1-354D-4F20-8638-27C7B5AC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8E7DC-5DC0-49D5-9A38-4C6F11BB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07DC0-375E-4907-A349-3C14D915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6E27E-7451-4919-AAE8-6487ACC5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F4B9C-37DF-44C6-A294-9EF5B7A3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A2802-A579-4A89-94AF-7B430057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4852A-7AB9-4FF9-8E87-2D1E25642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0242-22C7-43F8-81D4-32A24DFA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F742B-97F6-440A-9987-3A130E8B5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DA400-73FA-417E-B096-3BF8D8025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AF203-2178-4568-8BED-F4EF3AAD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E9C41-13C4-4701-8824-25724E52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CB97D-98E9-4D26-B14D-513F72FB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C1D89-F64E-4A86-8332-ABA944CE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6C35D-6E7C-4F6A-A365-D7BBF8AF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CFDD7-7B46-4664-B66E-ECE189CD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4457B-3291-4DD3-BE1E-F9A2746C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31CD7-7163-4418-BA4A-8279147B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EAF8-71FB-4E7C-BD17-9FDF0A9E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2F46D-7A31-47A3-977C-AE20D5C9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B9FD1-F04B-4224-B487-F7ABF41BE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82237-C3F7-4D86-B136-4B65390D9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AFB74-7A98-40AA-9121-660075C92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D12CE-7978-43A0-B4D7-E876D37B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32B27-A153-4486-8B7F-B94278B5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091CC-B8D4-4F68-A625-DE09F2BA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8390B-7419-4948-A29E-AF5E7273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8645D-3965-40B9-851C-033F6262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E6B5B-DE5E-4C1D-978E-F01A07AB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A117-C08D-4EB6-AC94-1397B092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E9653-F7D7-419B-867E-E2D3CA9C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46B86-B3DA-4BEE-8C6F-7DA1F9D2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3E1B6-5499-4652-A790-E0B63138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4C9CC-99E0-43A7-A0AB-5C906C791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D8DC1-4988-47FC-92EE-E8C7E6D1B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9E6B-3EB8-4A2E-87EA-C153E05A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5A2C-E1C5-4D37-B3C3-CA8C288C8E9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4A0F-66B9-42A9-8C9E-623F02BBAD9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48DA-9F06-483C-BC40-730E0EC1120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7C81-DCA1-418E-908D-E0CC1A42114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89CD-705D-4C94-8F69-01DE0D3E398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E769-4389-4E4E-9FCE-F0CC4DD3840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E60A-8515-46F4-B5BC-48C0C336DCB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alas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Prostiranje talas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Talasni front i talasni zraci </a:t>
            </a:r>
            <a:br>
              <a:rPr sz="3900"/>
            </a:br>
            <a:r>
              <a:rPr b="0" lang="hr-HR" sz="2900" spc="-1" strike="noStrike">
                <a:solidFill>
                  <a:srgbClr val="572314"/>
                </a:solidFill>
                <a:latin typeface="Gill Sans MT"/>
              </a:rPr>
              <a:t>Sferni talasi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914040" y="2361960"/>
            <a:ext cx="573876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Izvor: tačk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Frontovi: sfer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Zraci: radijalno polaze iz izvor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Oval 4"/>
          <p:cNvSpPr/>
          <p:nvPr/>
        </p:nvSpPr>
        <p:spPr>
          <a:xfrm>
            <a:off x="4162320" y="5181480"/>
            <a:ext cx="76320" cy="7632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Group 15"/>
          <p:cNvGrpSpPr/>
          <p:nvPr/>
        </p:nvGrpSpPr>
        <p:grpSpPr>
          <a:xfrm>
            <a:off x="3276720" y="4267080"/>
            <a:ext cx="1828800" cy="1828800"/>
            <a:chOff x="3276720" y="4267080"/>
            <a:chExt cx="1828800" cy="1828800"/>
          </a:xfrm>
        </p:grpSpPr>
        <p:sp>
          <p:nvSpPr>
            <p:cNvPr id="378" name="Oval 5"/>
            <p:cNvSpPr/>
            <p:nvPr/>
          </p:nvSpPr>
          <p:spPr>
            <a:xfrm>
              <a:off x="3505320" y="4495680"/>
              <a:ext cx="1371600" cy="1371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Oval 6"/>
            <p:cNvSpPr/>
            <p:nvPr/>
          </p:nvSpPr>
          <p:spPr>
            <a:xfrm>
              <a:off x="3276720" y="4267080"/>
              <a:ext cx="1828800" cy="182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Group 16"/>
          <p:cNvGrpSpPr/>
          <p:nvPr/>
        </p:nvGrpSpPr>
        <p:grpSpPr>
          <a:xfrm>
            <a:off x="2971440" y="4038120"/>
            <a:ext cx="2756160" cy="2286360"/>
            <a:chOff x="2971440" y="4038120"/>
            <a:chExt cx="2756160" cy="2286360"/>
          </a:xfrm>
        </p:grpSpPr>
        <p:sp>
          <p:nvSpPr>
            <p:cNvPr id="381" name="Line 7"/>
            <p:cNvSpPr/>
            <p:nvPr/>
          </p:nvSpPr>
          <p:spPr>
            <a:xfrm>
              <a:off x="4213080" y="5219640"/>
              <a:ext cx="15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"/>
            <p:cNvSpPr/>
            <p:nvPr/>
          </p:nvSpPr>
          <p:spPr>
            <a:xfrm flipV="1">
              <a:off x="4200480" y="4267080"/>
              <a:ext cx="981000" cy="95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9"/>
            <p:cNvSpPr/>
            <p:nvPr/>
          </p:nvSpPr>
          <p:spPr>
            <a:xfrm flipV="1">
              <a:off x="4200480" y="4038120"/>
              <a:ext cx="0" cy="11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10"/>
            <p:cNvSpPr/>
            <p:nvPr/>
          </p:nvSpPr>
          <p:spPr>
            <a:xfrm flipH="1" flipV="1">
              <a:off x="3428640" y="4343400"/>
              <a:ext cx="771480" cy="88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11"/>
            <p:cNvSpPr/>
            <p:nvPr/>
          </p:nvSpPr>
          <p:spPr>
            <a:xfrm flipH="1">
              <a:off x="2971440" y="5226120"/>
              <a:ext cx="122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12"/>
            <p:cNvSpPr/>
            <p:nvPr/>
          </p:nvSpPr>
          <p:spPr>
            <a:xfrm flipH="1">
              <a:off x="3276720" y="5226120"/>
              <a:ext cx="923760" cy="71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13"/>
            <p:cNvSpPr/>
            <p:nvPr/>
          </p:nvSpPr>
          <p:spPr>
            <a:xfrm>
              <a:off x="4200480" y="5226120"/>
              <a:ext cx="0" cy="10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14"/>
            <p:cNvSpPr/>
            <p:nvPr/>
          </p:nvSpPr>
          <p:spPr>
            <a:xfrm>
              <a:off x="4200480" y="5226120"/>
              <a:ext cx="981000" cy="7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Talasni front i talasni zraci </a:t>
            </a:r>
            <a:br>
              <a:rPr sz="3900"/>
            </a:br>
            <a:r>
              <a:rPr b="0" lang="hr-HR" sz="2900" spc="-1" strike="noStrike">
                <a:solidFill>
                  <a:srgbClr val="572314"/>
                </a:solidFill>
                <a:latin typeface="Gill Sans MT"/>
              </a:rPr>
              <a:t>Cilindrični talasi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14040" y="2361960"/>
            <a:ext cx="66294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Izvor: linijsk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Frontovi: cilindr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Zraci: normalni na pravac izvor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1" name="Picture 15" descr="CilidricniTAlas"/>
          <p:cNvPicPr/>
          <p:nvPr/>
        </p:nvPicPr>
        <p:blipFill>
          <a:blip r:embed="rId1"/>
          <a:stretch/>
        </p:blipFill>
        <p:spPr>
          <a:xfrm>
            <a:off x="2209680" y="3733920"/>
            <a:ext cx="461016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Talasni front i talasni zraci </a:t>
            </a:r>
            <a:br>
              <a:rPr sz="3900"/>
            </a:br>
            <a:r>
              <a:rPr b="0" lang="hr-HR" sz="2900" spc="-1" strike="noStrike">
                <a:solidFill>
                  <a:srgbClr val="572314"/>
                </a:solidFill>
                <a:latin typeface="Gill Sans MT"/>
              </a:rPr>
              <a:t>Ravanski talasi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914400" y="2362320"/>
            <a:ext cx="68580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Izvor: rava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Frontovi: ravn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Zraci: normale na ravn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4" name="Picture 6" descr="plane-wave"/>
          <p:cNvPicPr/>
          <p:nvPr/>
        </p:nvPicPr>
        <p:blipFill>
          <a:blip r:embed="rId1"/>
          <a:stretch/>
        </p:blipFill>
        <p:spPr>
          <a:xfrm>
            <a:off x="1860480" y="3639960"/>
            <a:ext cx="461664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572314"/>
                </a:solidFill>
                <a:latin typeface="Gill Sans MT"/>
              </a:rPr>
              <a:t>P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rostiranje talasa</a:t>
            </a:r>
            <a:br>
              <a:rPr sz="3900"/>
            </a:br>
            <a:r>
              <a:rPr b="0" lang="hr-HR" sz="2900" spc="-1" strike="noStrike">
                <a:solidFill>
                  <a:srgbClr val="572314"/>
                </a:solidFill>
                <a:latin typeface="Gill Sans MT"/>
              </a:rPr>
              <a:t>Difrakcija talasa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914040" y="2362320"/>
            <a:ext cx="35053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Difrakcija je pojava promene oblika talasnog fronta pri nailasku talasa na prepreke i otvor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Objašnjava se Hajgensovim principo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7" name="Picture 9" descr="huygen"/>
          <p:cNvPicPr/>
          <p:nvPr/>
        </p:nvPicPr>
        <p:blipFill>
          <a:blip r:embed="rId1"/>
          <a:stretch/>
        </p:blipFill>
        <p:spPr>
          <a:xfrm>
            <a:off x="4387680" y="2514600"/>
            <a:ext cx="4222800" cy="3886200"/>
          </a:xfrm>
          <a:prstGeom prst="rect">
            <a:avLst/>
          </a:prstGeom>
          <a:ln w="0">
            <a:noFill/>
          </a:ln>
        </p:spPr>
      </p:pic>
      <p:grpSp>
        <p:nvGrpSpPr>
          <p:cNvPr id="398" name="Group 13"/>
          <p:cNvGrpSpPr/>
          <p:nvPr/>
        </p:nvGrpSpPr>
        <p:grpSpPr>
          <a:xfrm>
            <a:off x="6661080" y="2590920"/>
            <a:ext cx="0" cy="3429000"/>
            <a:chOff x="6661080" y="2590920"/>
            <a:chExt cx="0" cy="3429000"/>
          </a:xfrm>
        </p:grpSpPr>
        <p:sp>
          <p:nvSpPr>
            <p:cNvPr id="399" name="Line 10"/>
            <p:cNvSpPr/>
            <p:nvPr/>
          </p:nvSpPr>
          <p:spPr>
            <a:xfrm>
              <a:off x="6661080" y="259092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11"/>
            <p:cNvSpPr/>
            <p:nvPr/>
          </p:nvSpPr>
          <p:spPr>
            <a:xfrm>
              <a:off x="6661080" y="441972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Line 12"/>
          <p:cNvSpPr/>
          <p:nvPr/>
        </p:nvSpPr>
        <p:spPr>
          <a:xfrm>
            <a:off x="4572000" y="2666880"/>
            <a:ext cx="0" cy="36576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14"/>
          <p:cNvSpPr/>
          <p:nvPr/>
        </p:nvSpPr>
        <p:spPr>
          <a:xfrm>
            <a:off x="4191120" y="44020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Group 18"/>
          <p:cNvGrpSpPr/>
          <p:nvPr/>
        </p:nvGrpSpPr>
        <p:grpSpPr>
          <a:xfrm>
            <a:off x="6653160" y="3428640"/>
            <a:ext cx="1957320" cy="1600560"/>
            <a:chOff x="6653160" y="3428640"/>
            <a:chExt cx="1957320" cy="1600560"/>
          </a:xfrm>
        </p:grpSpPr>
        <p:sp>
          <p:nvSpPr>
            <p:cNvPr id="404" name="Line 15"/>
            <p:cNvSpPr/>
            <p:nvPr/>
          </p:nvSpPr>
          <p:spPr>
            <a:xfrm flipV="1">
              <a:off x="6653160" y="3428640"/>
              <a:ext cx="1576440" cy="9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16"/>
            <p:cNvSpPr/>
            <p:nvPr/>
          </p:nvSpPr>
          <p:spPr>
            <a:xfrm>
              <a:off x="6653160" y="4402080"/>
              <a:ext cx="1576440" cy="62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17"/>
            <p:cNvSpPr/>
            <p:nvPr/>
          </p:nvSpPr>
          <p:spPr>
            <a:xfrm>
              <a:off x="6653160" y="4402080"/>
              <a:ext cx="195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Rectangle 19"/>
          <p:cNvSpPr/>
          <p:nvPr/>
        </p:nvSpPr>
        <p:spPr>
          <a:xfrm>
            <a:off x="914400" y="4419720"/>
            <a:ext cx="35053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nop zraka se ši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Talas zahvata prostor štićen preprek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Tako nešto se snopu čestica ne bi moglo desi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572314"/>
                </a:solidFill>
                <a:latin typeface="Gill Sans MT"/>
              </a:rPr>
              <a:t>P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rostiranje talasa</a:t>
            </a:r>
            <a:br>
              <a:rPr sz="3900"/>
            </a:br>
            <a:r>
              <a:rPr b="0" lang="hr-HR" sz="2900" spc="-1" strike="noStrike">
                <a:solidFill>
                  <a:srgbClr val="572314"/>
                </a:solidFill>
                <a:latin typeface="Gill Sans MT"/>
              </a:rPr>
              <a:t>Difrakcija talasa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914040" y="2361960"/>
            <a:ext cx="74674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Svaki realan otvor sadrži veliki broj tačaka, pa je za određivanje rezultata difrakcije potrebno uračunati efekte superpozicije (interferencije) svih sekundarnih talasa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0" name="Picture 4" descr="Diffgaps"/>
          <p:cNvPicPr/>
          <p:nvPr/>
        </p:nvPicPr>
        <p:blipFill>
          <a:blip r:embed="rId1"/>
          <a:stretch/>
        </p:blipFill>
        <p:spPr>
          <a:xfrm>
            <a:off x="1982880" y="3429000"/>
            <a:ext cx="4570200" cy="33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572314"/>
                </a:solidFill>
                <a:latin typeface="Gill Sans MT"/>
              </a:rPr>
              <a:t>P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rostiranje talasa</a:t>
            </a:r>
            <a:br>
              <a:rPr sz="3900"/>
            </a:br>
            <a:r>
              <a:rPr b="0" lang="hr-HR" sz="2900" spc="-1" strike="noStrike">
                <a:solidFill>
                  <a:srgbClr val="572314"/>
                </a:solidFill>
                <a:latin typeface="Gill Sans MT"/>
              </a:rPr>
              <a:t>Difrakcija talasa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914040" y="2361960"/>
            <a:ext cx="74674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ticaj difrakcije na prostiranje talasa zavisi od veličine otvor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ill Sans MT"/>
              </a:rPr>
              <a:t>Veliki otvo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velika širina u poređenju sa talasnom dužinom talas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Arial"/>
              </a:rPr>
              <a:t>D&gt;&gt;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mala difrakcij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rednji otvo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širina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bliska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 talasno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j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 dužin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 talas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Arial"/>
              </a:rPr>
              <a:t>D~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zražena difrakcij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ill Sans MT"/>
              </a:rPr>
              <a:t>Mali otvo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mala širina u poređenju sa talasnom dužinom talas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Arial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&lt;&lt;</a:t>
            </a:r>
            <a:r>
              <a:rPr b="0" lang="sr-Latn-C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ogromna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 difrakcija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, svaki talas se pretvara u sferni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4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4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4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4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4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4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572314"/>
                </a:solidFill>
                <a:latin typeface="Gill Sans MT"/>
              </a:rPr>
              <a:t>P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rostiranje talasa</a:t>
            </a:r>
            <a:br>
              <a:rPr sz="3900"/>
            </a:br>
            <a:r>
              <a:rPr b="0" lang="hr-HR" sz="2900" spc="-1" strike="noStrike">
                <a:solidFill>
                  <a:srgbClr val="572314"/>
                </a:solidFill>
                <a:latin typeface="Gill Sans MT"/>
              </a:rPr>
              <a:t>Difrakcija talasa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914040" y="236232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Difrakcija na prepreka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5" name="Picture 1028" descr="diffisland"/>
          <p:cNvPicPr/>
          <p:nvPr/>
        </p:nvPicPr>
        <p:blipFill>
          <a:blip r:embed="rId1"/>
          <a:srcRect l="0" t="0" r="0" b="14551"/>
          <a:stretch/>
        </p:blipFill>
        <p:spPr>
          <a:xfrm>
            <a:off x="1295280" y="2819520"/>
            <a:ext cx="701064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572314"/>
                </a:solidFill>
                <a:latin typeface="Gill Sans MT"/>
              </a:rPr>
              <a:t>P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rostiranje talasa</a:t>
            </a:r>
            <a:br>
              <a:rPr sz="3900"/>
            </a:br>
            <a:r>
              <a:rPr b="0" lang="hr-HR" sz="2900" spc="-1" strike="noStrike">
                <a:solidFill>
                  <a:srgbClr val="572314"/>
                </a:solidFill>
                <a:latin typeface="Gill Sans MT"/>
              </a:rPr>
              <a:t>Difrakcija talasa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914040" y="2361960"/>
            <a:ext cx="74674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ticaj difrakcije na prostiranje talasa zavisi od veličine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reprek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ill Sans MT"/>
              </a:rPr>
              <a:t>Velik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 preprek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velika širina u poređenju sa talasnom dužinom talas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Arial"/>
              </a:rPr>
              <a:t>D&gt;&gt;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mala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 difrakcija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– velika senk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rednja preprek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širina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bliska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 talasno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j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 dužin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 talas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Arial"/>
              </a:rPr>
              <a:t>D~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zražena difrakcija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– smanjena senk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ill Sans MT"/>
              </a:rPr>
              <a:t>Mal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 preprek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mala širina u poređenju sa talasnom dužinom talas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Arial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&lt;&lt;</a:t>
            </a:r>
            <a:r>
              <a:rPr b="0" lang="sr-Latn-C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Velika difrakcija – senke uop</a:t>
            </a:r>
            <a:r>
              <a:rPr b="0" lang="hr-HR" sz="1600" spc="-1" strike="noStrike">
                <a:solidFill>
                  <a:srgbClr val="000000"/>
                </a:solidFill>
                <a:latin typeface="Gill Sans MT"/>
              </a:rPr>
              <a:t>š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te nem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4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4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4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4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Difrakcija svetlosti</a:t>
            </a:r>
            <a:br>
              <a:rPr sz="3900"/>
            </a:br>
            <a:r>
              <a:rPr b="0" lang="hr-HR" sz="2900" spc="-1" strike="noStrike">
                <a:solidFill>
                  <a:srgbClr val="572314"/>
                </a:solidFill>
                <a:latin typeface="Gill Sans MT"/>
              </a:rPr>
              <a:t>Difrakciona rešetka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762120" y="2361960"/>
            <a:ext cx="35812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ređaj namenjen upotrebi difrakcije za određivanje talasne dužine svetlosti i razlaganje svetlosti na spektralne komponen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522720" indent="-522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Sastoji se od velikog broja proreza na jednakom međusobnom rastojanju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Object 4"/>
              <p:cNvSpPr txBox="1"/>
              <p:nvPr/>
            </p:nvSpPr>
            <p:spPr>
              <a:xfrm>
                <a:off x="3274920" y="5791320"/>
                <a:ext cx="218772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,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21" name="Picture 6" descr="difRes"/>
          <p:cNvPicPr/>
          <p:nvPr/>
        </p:nvPicPr>
        <p:blipFill>
          <a:blip r:embed="rId1"/>
          <a:stretch/>
        </p:blipFill>
        <p:spPr>
          <a:xfrm>
            <a:off x="4724280" y="2362320"/>
            <a:ext cx="425304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572314"/>
                </a:solidFill>
                <a:latin typeface="Gill Sans MT"/>
              </a:rPr>
              <a:t>P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rostiranje talasa</a:t>
            </a:r>
            <a:br>
              <a:rPr sz="3900"/>
            </a:br>
            <a:r>
              <a:rPr b="0" lang="hr-HR" sz="2900" spc="-1" strike="noStrike">
                <a:solidFill>
                  <a:srgbClr val="572314"/>
                </a:solidFill>
                <a:latin typeface="Gill Sans MT"/>
              </a:rPr>
              <a:t>Refleksija i transmisija talasa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914040" y="23619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ada talas pri prostiranju nai</a:t>
            </a:r>
            <a:r>
              <a:rPr b="0" lang="sr-Latn-CS" sz="2400" spc="-1" strike="noStrike">
                <a:solidFill>
                  <a:srgbClr val="000000"/>
                </a:solidFill>
                <a:latin typeface="Gill Sans MT"/>
              </a:rPr>
              <a:t>đe na granicu sredine kroz koju se do tada prostirao, nastaju dva talas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reflektovani (odbijeni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ill Sans MT"/>
              </a:rPr>
              <a:t>suprotni sme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ill Sans MT"/>
              </a:rPr>
              <a:t>ista sredin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ill Sans MT"/>
              </a:rPr>
              <a:t>ista brzin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transmitovani (preneseni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ill Sans MT"/>
              </a:rPr>
              <a:t>isti sme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ill Sans MT"/>
              </a:rPr>
              <a:t>nova sredin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ill Sans MT"/>
              </a:rPr>
              <a:t>nova brzin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Intenziteti oba talasa manji od intenziteta upadnog talas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Zbir intenziteta reflektovanog i transmitovanog talasa jednak je intenzitetu upadnog talas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4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4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4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4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572314"/>
                </a:solidFill>
                <a:latin typeface="Gill Sans MT"/>
              </a:rPr>
              <a:t>Prostiranje talas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Drugačije od kretanja tel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ill Sans MT"/>
              </a:rPr>
              <a:t>superpozicij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ill Sans MT"/>
              </a:rPr>
              <a:t>Interferencij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rezonancij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ill Sans MT"/>
              </a:rPr>
              <a:t>difrakcij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ill Sans MT"/>
              </a:rPr>
              <a:t>refleksija (odbijanje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ill Sans MT"/>
              </a:rPr>
              <a:t>refrakcija (prelamanje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ill Sans MT"/>
              </a:rPr>
              <a:t>disperzij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Pokazuje da talasi nisu snopovi čestic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Glavni razlog za proučavanje talas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572314"/>
                </a:solidFill>
                <a:latin typeface="Gill Sans MT"/>
              </a:rPr>
              <a:t>P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rostiranje talasa</a:t>
            </a:r>
            <a:br>
              <a:rPr sz="3900"/>
            </a:br>
            <a:r>
              <a:rPr b="0" lang="hr-HR" sz="2900" spc="-1" strike="noStrike">
                <a:solidFill>
                  <a:srgbClr val="572314"/>
                </a:solidFill>
                <a:latin typeface="Gill Sans MT"/>
              </a:rPr>
              <a:t>Odbijanje talasa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914040" y="2361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ill Sans MT"/>
              </a:rPr>
              <a:t>Odbijeni talas menja pravac prostiranj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ill Sans MT"/>
              </a:rPr>
              <a:t>Dekartov zak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26" name="Group 4"/>
          <p:cNvGrpSpPr/>
          <p:nvPr/>
        </p:nvGrpSpPr>
        <p:grpSpPr>
          <a:xfrm>
            <a:off x="2133720" y="3124080"/>
            <a:ext cx="4190400" cy="2590560"/>
            <a:chOff x="2133720" y="3124080"/>
            <a:chExt cx="4190400" cy="2590560"/>
          </a:xfrm>
        </p:grpSpPr>
        <p:pic>
          <p:nvPicPr>
            <p:cNvPr id="427" name="Picture 5" descr="OdbijanjeDekart"/>
            <p:cNvPicPr/>
            <p:nvPr/>
          </p:nvPicPr>
          <p:blipFill>
            <a:blip r:embed="rId1"/>
            <a:stretch/>
          </p:blipFill>
          <p:spPr>
            <a:xfrm>
              <a:off x="2133720" y="3124080"/>
              <a:ext cx="4115880" cy="253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Line 6"/>
            <p:cNvSpPr/>
            <p:nvPr/>
          </p:nvSpPr>
          <p:spPr>
            <a:xfrm>
              <a:off x="2806920" y="5714640"/>
              <a:ext cx="351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Rectangle 7"/>
          <p:cNvSpPr/>
          <p:nvPr/>
        </p:nvSpPr>
        <p:spPr>
          <a:xfrm>
            <a:off x="914400" y="601992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17320" indent="-517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adni zrak, odbojni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 i normala leže u istoj rav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hr-HR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27"/>
          <p:cNvSpPr/>
          <p:nvPr/>
        </p:nvSpPr>
        <p:spPr>
          <a:xfrm>
            <a:off x="1143000" y="4572000"/>
            <a:ext cx="2971800" cy="19051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572314"/>
                </a:solidFill>
                <a:latin typeface="Gill Sans MT"/>
              </a:rPr>
              <a:t>P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rostiranje talasa</a:t>
            </a:r>
            <a:br>
              <a:rPr sz="3900"/>
            </a:br>
            <a:r>
              <a:rPr b="0" lang="hr-HR" sz="2900" spc="-1" strike="noStrike">
                <a:solidFill>
                  <a:srgbClr val="572314"/>
                </a:solidFill>
                <a:latin typeface="Gill Sans MT"/>
              </a:rPr>
              <a:t>Prelamanje talasa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914040" y="2361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ill Sans MT"/>
              </a:rPr>
              <a:t>Transmitovani talas menja pravac prostiranj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ill Sans MT"/>
              </a:rPr>
              <a:t>Snelov zak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Line 12"/>
          <p:cNvSpPr/>
          <p:nvPr/>
        </p:nvSpPr>
        <p:spPr>
          <a:xfrm>
            <a:off x="1143000" y="4572000"/>
            <a:ext cx="2971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13"/>
          <p:cNvSpPr/>
          <p:nvPr/>
        </p:nvSpPr>
        <p:spPr>
          <a:xfrm>
            <a:off x="2514600" y="304812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14"/>
          <p:cNvSpPr/>
          <p:nvPr/>
        </p:nvSpPr>
        <p:spPr>
          <a:xfrm>
            <a:off x="1523880" y="3429000"/>
            <a:ext cx="9907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Line 15"/>
          <p:cNvSpPr/>
          <p:nvPr/>
        </p:nvSpPr>
        <p:spPr>
          <a:xfrm>
            <a:off x="2514600" y="4572000"/>
            <a:ext cx="533520" cy="167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8"/>
          <p:cNvSpPr/>
          <p:nvPr/>
        </p:nvSpPr>
        <p:spPr>
          <a:xfrm>
            <a:off x="4267080" y="3048120"/>
            <a:ext cx="4648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adni zrak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elomlje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 i normala leže u istoj rav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19"/>
          <p:cNvSpPr/>
          <p:nvPr/>
        </p:nvSpPr>
        <p:spPr>
          <a:xfrm>
            <a:off x="3416040" y="404496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20"/>
          <p:cNvSpPr/>
          <p:nvPr/>
        </p:nvSpPr>
        <p:spPr>
          <a:xfrm>
            <a:off x="3436920" y="457848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0" name="Object 0"/>
          <p:cNvGraphicFramePr/>
          <p:nvPr/>
        </p:nvGraphicFramePr>
        <p:xfrm>
          <a:off x="4940280" y="3759120"/>
          <a:ext cx="1359000" cy="81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40280" y="3759120"/>
                    <a:ext cx="135900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2" name="Group 28"/>
          <p:cNvGrpSpPr/>
          <p:nvPr/>
        </p:nvGrpSpPr>
        <p:grpSpPr>
          <a:xfrm>
            <a:off x="1968120" y="3809880"/>
            <a:ext cx="614160" cy="762120"/>
            <a:chOff x="1968120" y="3809880"/>
            <a:chExt cx="614160" cy="762120"/>
          </a:xfrm>
        </p:grpSpPr>
        <p:sp>
          <p:nvSpPr>
            <p:cNvPr id="443" name="Text Box 16"/>
            <p:cNvSpPr/>
            <p:nvPr/>
          </p:nvSpPr>
          <p:spPr>
            <a:xfrm>
              <a:off x="2121120" y="3809880"/>
              <a:ext cx="46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hr-HR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Arc 24"/>
            <p:cNvSpPr/>
            <p:nvPr/>
          </p:nvSpPr>
          <p:spPr>
            <a:xfrm flipH="1">
              <a:off x="1967760" y="3809880"/>
              <a:ext cx="546120" cy="762120"/>
            </a:xfrm>
            <a:custGeom>
              <a:avLst/>
              <a:gdLst>
                <a:gd name="textAreaLeft" fmla="*/ -360 w 546120"/>
                <a:gd name="textAreaRight" fmla="*/ 546120 w 54612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fill="none" w="13203" h="21600">
                  <a:moveTo>
                    <a:pt x="-1" y="0"/>
                  </a:moveTo>
                  <a:cubicBezTo>
                    <a:pt x="4778" y="0"/>
                    <a:pt x="9421" y="1584"/>
                    <a:pt x="13203" y="4504"/>
                  </a:cubicBezTo>
                </a:path>
                <a:path stroke="0" w="13203" h="21600">
                  <a:moveTo>
                    <a:pt x="-1" y="0"/>
                  </a:moveTo>
                  <a:cubicBezTo>
                    <a:pt x="4778" y="0"/>
                    <a:pt x="9421" y="1584"/>
                    <a:pt x="13203" y="4504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Group 29"/>
          <p:cNvGrpSpPr/>
          <p:nvPr/>
        </p:nvGrpSpPr>
        <p:grpSpPr>
          <a:xfrm>
            <a:off x="2446560" y="4572000"/>
            <a:ext cx="485640" cy="1295280"/>
            <a:chOff x="2446560" y="4572000"/>
            <a:chExt cx="485640" cy="1295280"/>
          </a:xfrm>
        </p:grpSpPr>
        <p:sp>
          <p:nvSpPr>
            <p:cNvPr id="446" name="Text Box 17"/>
            <p:cNvSpPr/>
            <p:nvPr/>
          </p:nvSpPr>
          <p:spPr>
            <a:xfrm>
              <a:off x="2446560" y="5334120"/>
              <a:ext cx="46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hr-HR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Arc 26"/>
            <p:cNvSpPr/>
            <p:nvPr/>
          </p:nvSpPr>
          <p:spPr>
            <a:xfrm flipV="1">
              <a:off x="2514600" y="4572000"/>
              <a:ext cx="417600" cy="129528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360 h 1295280"/>
                <a:gd name="textAreaBottom" fmla="*/ 1296000 h 1295280"/>
              </a:gdLst>
              <a:ahLst/>
              <a:rect l="textAreaLeft" t="textAreaTop" r="textAreaRight" b="textAreaBottom"/>
              <a:pathLst>
                <a:path fill="none" w="7681" h="21600">
                  <a:moveTo>
                    <a:pt x="-1" y="0"/>
                  </a:moveTo>
                  <a:cubicBezTo>
                    <a:pt x="2624" y="0"/>
                    <a:pt x="5227" y="478"/>
                    <a:pt x="7681" y="1411"/>
                  </a:cubicBezTo>
                </a:path>
                <a:path stroke="0" w="7681" h="21600">
                  <a:moveTo>
                    <a:pt x="-1" y="0"/>
                  </a:moveTo>
                  <a:cubicBezTo>
                    <a:pt x="2624" y="0"/>
                    <a:pt x="5227" y="478"/>
                    <a:pt x="7681" y="1411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Totalna refleksi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49" name="Picture 3" descr="OptickaVlakna"/>
          <p:cNvPicPr/>
          <p:nvPr/>
        </p:nvPicPr>
        <p:blipFill>
          <a:blip r:embed="rId1"/>
          <a:stretch/>
        </p:blipFill>
        <p:spPr>
          <a:xfrm>
            <a:off x="3124080" y="2438280"/>
            <a:ext cx="4496040" cy="3002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50" name="Object 4"/>
              <p:cNvSpPr txBox="1"/>
              <p:nvPr/>
            </p:nvSpPr>
            <p:spPr>
              <a:xfrm>
                <a:off x="3200400" y="5715000"/>
                <a:ext cx="457524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51" name="Picture 5" descr=""/>
          <p:cNvPicPr/>
          <p:nvPr/>
        </p:nvPicPr>
        <p:blipFill>
          <a:blip r:embed="rId2"/>
          <a:stretch/>
        </p:blipFill>
        <p:spPr>
          <a:xfrm>
            <a:off x="1219320" y="2328840"/>
            <a:ext cx="12682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72314"/>
                </a:solidFill>
                <a:latin typeface="Gill Sans MT"/>
              </a:rPr>
              <a:t>Vibracije - pojam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914040" y="236196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Kretanje tela kroz koje se prostire tal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rzavanje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apa</a:t>
            </a: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 mase m, dužine d, i poprečnog preseka 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la F deluje vreme </a:t>
            </a:r>
            <a:r>
              <a:rPr b="0" lang="hr-H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Kruto tel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Object 4"/>
              <p:cNvSpPr txBox="1"/>
              <p:nvPr/>
            </p:nvSpPr>
            <p:spPr>
              <a:xfrm>
                <a:off x="1600200" y="3809880"/>
                <a:ext cx="7318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5"/>
              <p:cNvSpPr txBox="1"/>
              <p:nvPr/>
            </p:nvSpPr>
            <p:spPr>
              <a:xfrm>
                <a:off x="2717640" y="3809880"/>
                <a:ext cx="139716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a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τ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6" name="Rectangle 6"/>
          <p:cNvSpPr/>
          <p:nvPr/>
        </p:nvSpPr>
        <p:spPr>
          <a:xfrm>
            <a:off x="914400" y="46483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eformabilno t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roz telo se prostire talasni impuls dužine L=c</a:t>
            </a:r>
            <a:r>
              <a:rPr b="0" lang="sr-Latn-C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7"/>
          <p:cNvSpPr/>
          <p:nvPr/>
        </p:nvSpPr>
        <p:spPr>
          <a:xfrm>
            <a:off x="1752480" y="5791320"/>
            <a:ext cx="2362320" cy="30456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8"/>
          <p:cNvSpPr/>
          <p:nvPr/>
        </p:nvSpPr>
        <p:spPr>
          <a:xfrm>
            <a:off x="5105520" y="5791320"/>
            <a:ext cx="2361960" cy="30456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Group 9"/>
          <p:cNvGrpSpPr/>
          <p:nvPr/>
        </p:nvGrpSpPr>
        <p:grpSpPr>
          <a:xfrm>
            <a:off x="2133720" y="5638680"/>
            <a:ext cx="1395000" cy="1008720"/>
            <a:chOff x="2133720" y="5638680"/>
            <a:chExt cx="1395000" cy="1008720"/>
          </a:xfrm>
        </p:grpSpPr>
        <p:sp>
          <p:nvSpPr>
            <p:cNvPr id="460" name="Line 10"/>
            <p:cNvSpPr/>
            <p:nvPr/>
          </p:nvSpPr>
          <p:spPr>
            <a:xfrm>
              <a:off x="2133720" y="563868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1" name="Group 11"/>
            <p:cNvGrpSpPr/>
            <p:nvPr/>
          </p:nvGrpSpPr>
          <p:grpSpPr>
            <a:xfrm>
              <a:off x="2133720" y="5791320"/>
              <a:ext cx="1395000" cy="856080"/>
              <a:chOff x="2133720" y="5791320"/>
              <a:chExt cx="1395000" cy="856080"/>
            </a:xfrm>
          </p:grpSpPr>
          <p:sp>
            <p:nvSpPr>
              <p:cNvPr id="462" name="Text Box 12"/>
              <p:cNvSpPr/>
              <p:nvPr/>
            </p:nvSpPr>
            <p:spPr>
              <a:xfrm>
                <a:off x="2508120" y="6137280"/>
                <a:ext cx="1020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sr-Latn-C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lt; d/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Rectangle 13"/>
              <p:cNvSpPr/>
              <p:nvPr/>
            </p:nvSpPr>
            <p:spPr>
              <a:xfrm>
                <a:off x="2133720" y="5791320"/>
                <a:ext cx="609480" cy="304560"/>
              </a:xfrm>
              <a:prstGeom prst="rect">
                <a:avLst/>
              </a:prstGeom>
              <a:solidFill>
                <a:srgbClr val="4f27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4" name="Group 14"/>
          <p:cNvGrpSpPr/>
          <p:nvPr/>
        </p:nvGrpSpPr>
        <p:grpSpPr>
          <a:xfrm>
            <a:off x="5976720" y="5562720"/>
            <a:ext cx="1052640" cy="1043280"/>
            <a:chOff x="5976720" y="5562720"/>
            <a:chExt cx="1052640" cy="1043280"/>
          </a:xfrm>
        </p:grpSpPr>
        <p:sp>
          <p:nvSpPr>
            <p:cNvPr id="465" name="Line 15"/>
            <p:cNvSpPr/>
            <p:nvPr/>
          </p:nvSpPr>
          <p:spPr>
            <a:xfrm flipH="1">
              <a:off x="6019920" y="556272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Text Box 16"/>
            <p:cNvSpPr/>
            <p:nvPr/>
          </p:nvSpPr>
          <p:spPr>
            <a:xfrm>
              <a:off x="5976720" y="6095880"/>
              <a:ext cx="1052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&gt; d/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Rectangle 17"/>
            <p:cNvSpPr/>
            <p:nvPr/>
          </p:nvSpPr>
          <p:spPr>
            <a:xfrm>
              <a:off x="6095880" y="5791320"/>
              <a:ext cx="685800" cy="3045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72314"/>
                </a:solidFill>
                <a:latin typeface="Gill Sans MT"/>
              </a:rPr>
              <a:t>Vibracije - pojam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914040" y="23623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2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formabilno telo se kre</a:t>
            </a: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će kao gusenica !!!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2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Va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nje modela krutog tela kada </a:t>
            </a: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talasni impuls zahvata celo telo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(c veliko, </a:t>
            </a:r>
            <a:r>
              <a:rPr b="0" lang="hr-H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veliko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)  za sile koje traju mnogo du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 od L/c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2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Kritično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za veliko L (veliki objekti) ili malo c (fluidi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hr-HR" sz="3200" spc="-1" strike="noStrike">
                <a:solidFill>
                  <a:srgbClr val="572314"/>
                </a:solidFill>
                <a:latin typeface="Gill Sans MT"/>
              </a:rPr>
              <a:t>Vibracije - pojam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Telo se deformiše tokom kret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Kretanje deformabilnog tela ima dve komponen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Kretanje C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nutrašnje kretanje – </a:t>
            </a: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vibraci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Periodično kretan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Oscilovanje deformisanje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72314"/>
                </a:solidFill>
                <a:latin typeface="Gill Sans MT"/>
              </a:rPr>
              <a:t>Vibracije – sopstvene vibracij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914040" y="23619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Reakcija sistema na udar (kratkotrajni kompresioni deformacioni tala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Vibriranje tela prepuštenog samom seb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sr-Latn-CS" sz="3200" spc="-1" strike="noStrike">
                <a:solidFill>
                  <a:srgbClr val="572314"/>
                </a:solidFill>
                <a:latin typeface="Gill Sans MT"/>
              </a:rPr>
              <a:t>S</a:t>
            </a:r>
            <a:r>
              <a:rPr b="0" lang="hr-HR" sz="3200" spc="-1" strike="noStrike">
                <a:solidFill>
                  <a:srgbClr val="572314"/>
                </a:solidFill>
                <a:latin typeface="Gill Sans MT"/>
              </a:rPr>
              <a:t>opstvene vibracije štapa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914400" y="23623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Štap slobodan na oba kra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1476360" y="3141720"/>
            <a:ext cx="2286000" cy="22860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19"/>
          <p:cNvSpPr/>
          <p:nvPr/>
        </p:nvSpPr>
        <p:spPr>
          <a:xfrm>
            <a:off x="5307120" y="23623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Štap fiksiran na oba kra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Group 23"/>
          <p:cNvGrpSpPr/>
          <p:nvPr/>
        </p:nvGrpSpPr>
        <p:grpSpPr>
          <a:xfrm>
            <a:off x="5791320" y="2895480"/>
            <a:ext cx="2590560" cy="609840"/>
            <a:chOff x="5791320" y="2895480"/>
            <a:chExt cx="2590560" cy="609840"/>
          </a:xfrm>
        </p:grpSpPr>
        <p:sp>
          <p:nvSpPr>
            <p:cNvPr id="479" name="Rectangle 24"/>
            <p:cNvSpPr/>
            <p:nvPr/>
          </p:nvSpPr>
          <p:spPr>
            <a:xfrm>
              <a:off x="5943600" y="3124080"/>
              <a:ext cx="2286000" cy="22860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Rectangle 25"/>
            <p:cNvSpPr/>
            <p:nvPr/>
          </p:nvSpPr>
          <p:spPr>
            <a:xfrm>
              <a:off x="5791320" y="2895480"/>
              <a:ext cx="152280" cy="609840"/>
            </a:xfrm>
            <a:prstGeom prst="rect">
              <a:avLst/>
            </a:prstGeom>
            <a:solidFill>
              <a:srgbClr val="feb80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Rectangle 26"/>
            <p:cNvSpPr/>
            <p:nvPr/>
          </p:nvSpPr>
          <p:spPr>
            <a:xfrm>
              <a:off x="8229600" y="2895480"/>
              <a:ext cx="152280" cy="609840"/>
            </a:xfrm>
            <a:prstGeom prst="rect">
              <a:avLst/>
            </a:prstGeom>
            <a:solidFill>
              <a:srgbClr val="feb80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2" name="Object 36"/>
              <p:cNvSpPr txBox="1"/>
              <p:nvPr/>
            </p:nvSpPr>
            <p:spPr>
              <a:xfrm>
                <a:off x="4211640" y="3573360"/>
                <a:ext cx="93204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3" name="Rectangle 46"/>
          <p:cNvSpPr/>
          <p:nvPr/>
        </p:nvSpPr>
        <p:spPr>
          <a:xfrm>
            <a:off x="971640" y="450864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Štap slobodan jednom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 fiksira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na drugom kraj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4" name="Object 47"/>
              <p:cNvSpPr txBox="1"/>
              <p:nvPr/>
            </p:nvSpPr>
            <p:spPr>
              <a:xfrm>
                <a:off x="4211640" y="5877000"/>
                <a:ext cx="93204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85" name="Group 48"/>
          <p:cNvGrpSpPr/>
          <p:nvPr/>
        </p:nvGrpSpPr>
        <p:grpSpPr>
          <a:xfrm>
            <a:off x="3718080" y="4979880"/>
            <a:ext cx="2437920" cy="609840"/>
            <a:chOff x="3718080" y="4979880"/>
            <a:chExt cx="2437920" cy="609840"/>
          </a:xfrm>
        </p:grpSpPr>
        <p:sp>
          <p:nvSpPr>
            <p:cNvPr id="486" name="Rectangle 49"/>
            <p:cNvSpPr/>
            <p:nvPr/>
          </p:nvSpPr>
          <p:spPr>
            <a:xfrm>
              <a:off x="3718080" y="5208480"/>
              <a:ext cx="2285640" cy="22860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Rectangle 50"/>
            <p:cNvSpPr/>
            <p:nvPr/>
          </p:nvSpPr>
          <p:spPr>
            <a:xfrm>
              <a:off x="6003720" y="4979880"/>
              <a:ext cx="152280" cy="609840"/>
            </a:xfrm>
            <a:prstGeom prst="rect">
              <a:avLst/>
            </a:prstGeom>
            <a:solidFill>
              <a:srgbClr val="feb80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</a:t>
            </a:r>
            <a:r>
              <a:rPr b="0" lang="hr-HR" sz="3200" spc="-1" strike="noStrike">
                <a:solidFill>
                  <a:srgbClr val="572314"/>
                </a:solidFill>
                <a:latin typeface="Gill Sans MT"/>
              </a:rPr>
              <a:t>opstvene vibracij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914040" y="236232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Udareni štap vibrira na tačno određenoj učestanosti: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f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Gill Sans MT"/>
              </a:rPr>
              <a:t>0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 –</a:t>
            </a:r>
            <a:r>
              <a:rPr b="1" lang="hr-HR" sz="2400" spc="-1" strike="noStrike">
                <a:solidFill>
                  <a:srgbClr val="000000"/>
                </a:solidFill>
                <a:latin typeface="Gill Sans MT"/>
              </a:rPr>
              <a:t>osnovna učestan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Sopstvene učestanost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čestanosti na kojima vibrira telo prepušteno samo seb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zavise od oblika i dimenzija tel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ko telo mo</a:t>
            </a: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že na više načina da vibrira na istoj frekvenci, onda se ti načini nazivaju </a:t>
            </a:r>
            <a:r>
              <a:rPr b="1" i="1" lang="sr-Latn-CS" sz="2000" spc="-1" strike="noStrike">
                <a:solidFill>
                  <a:srgbClr val="000000"/>
                </a:solidFill>
                <a:latin typeface="Gill Sans MT"/>
              </a:rPr>
              <a:t>modovi vibriran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90" name="Picture 4" descr="MODE12"/>
          <p:cNvPicPr/>
          <p:nvPr/>
        </p:nvPicPr>
        <p:blipFill>
          <a:blip r:embed="rId1"/>
          <a:stretch/>
        </p:blipFill>
        <p:spPr>
          <a:xfrm>
            <a:off x="2286000" y="5060880"/>
            <a:ext cx="1644480" cy="16448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5" descr="MODE21"/>
          <p:cNvPicPr/>
          <p:nvPr/>
        </p:nvPicPr>
        <p:blipFill>
          <a:blip r:embed="rId2"/>
          <a:stretch/>
        </p:blipFill>
        <p:spPr>
          <a:xfrm>
            <a:off x="5137200" y="5060880"/>
            <a:ext cx="1644480" cy="16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500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5" dur="500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500"/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2" descr="MODES"/>
          <p:cNvPicPr/>
          <p:nvPr/>
        </p:nvPicPr>
        <p:blipFill>
          <a:blip r:embed="rId1"/>
          <a:stretch/>
        </p:blipFill>
        <p:spPr>
          <a:xfrm>
            <a:off x="3124080" y="380988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2314"/>
                </a:solidFill>
                <a:latin typeface="Gill Sans MT"/>
              </a:rPr>
              <a:t>S</a:t>
            </a:r>
            <a:r>
              <a:rPr b="0" lang="hr-HR" sz="2800" spc="-1" strike="noStrike">
                <a:solidFill>
                  <a:srgbClr val="572314"/>
                </a:solidFill>
                <a:latin typeface="Gill Sans MT"/>
              </a:rPr>
              <a:t>opstvene vibracije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914040" y="1447560"/>
            <a:ext cx="80010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Viši harmonic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ako neko kretanje ima period T, onda ima i period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 i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 i tako dal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eriod </a:t>
            </a: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T imaju kretanja sa periodima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/2, T/3,…,T/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slično, ako znamo da se neko kretanje ponavlja posle vremena T, frekvence tog kretanja mogu bit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Object 5"/>
              <p:cNvSpPr txBox="1"/>
              <p:nvPr/>
            </p:nvSpPr>
            <p:spPr>
              <a:xfrm>
                <a:off x="1803240" y="3935520"/>
                <a:ext cx="77652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Object 6"/>
              <p:cNvSpPr txBox="1"/>
              <p:nvPr/>
            </p:nvSpPr>
            <p:spPr>
              <a:xfrm>
                <a:off x="2782800" y="3935520"/>
                <a:ext cx="79848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Object 7"/>
              <p:cNvSpPr txBox="1"/>
              <p:nvPr/>
            </p:nvSpPr>
            <p:spPr>
              <a:xfrm>
                <a:off x="4437000" y="3935520"/>
                <a:ext cx="82080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Object 8"/>
              <p:cNvSpPr txBox="1"/>
              <p:nvPr/>
            </p:nvSpPr>
            <p:spPr>
              <a:xfrm>
                <a:off x="3897360" y="4213080"/>
                <a:ext cx="244440" cy="1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Object 9"/>
              <p:cNvSpPr txBox="1"/>
              <p:nvPr/>
            </p:nvSpPr>
            <p:spPr>
              <a:xfrm>
                <a:off x="6095880" y="3933720"/>
                <a:ext cx="208620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0" name="Rectangle 10"/>
          <p:cNvSpPr/>
          <p:nvPr/>
        </p:nvSpPr>
        <p:spPr>
          <a:xfrm>
            <a:off x="914400" y="46483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Harmonici žice fiksirane na dva kra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uperpozicija talas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14040" y="23623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Sabiranje” talas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Mogu se sabirati samo talasi različitih pravaca ili smerova prostir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1" name="Picture 4" descr="SUPER1"/>
          <p:cNvPicPr/>
          <p:nvPr/>
        </p:nvPicPr>
        <p:blipFill>
          <a:blip r:embed="rId1"/>
          <a:stretch/>
        </p:blipFill>
        <p:spPr>
          <a:xfrm>
            <a:off x="2651040" y="3489480"/>
            <a:ext cx="329256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72314"/>
                </a:solidFill>
                <a:latin typeface="Gill Sans MT"/>
              </a:rPr>
              <a:t>Mehanički talasi u čvrstim telima</a:t>
            </a:r>
            <a:br>
              <a:rPr sz="2800"/>
            </a:br>
            <a:r>
              <a:rPr b="0" lang="hr-HR" sz="2800" spc="-1" strike="noStrike">
                <a:solidFill>
                  <a:srgbClr val="572314"/>
                </a:solidFill>
                <a:latin typeface="Gill Sans MT"/>
              </a:rPr>
              <a:t>Vibracije – prinudne vibracije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914040" y="2362320"/>
            <a:ext cx="8001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inudno vibriranj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Vibriranje koje nastaje kao posledica spoljašnje pobude koja se periodično ponavlj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Ljuljanje ljuljaške, vibracije konstrukcije sa uključenim motorom, poskakivanje vagona pri prelasku sa šine na šinu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Posledica: okolina predaje energiju sistemu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50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72314"/>
                </a:solidFill>
                <a:latin typeface="Gill Sans MT"/>
              </a:rPr>
              <a:t>Mehanički talasi u čvrstim telima</a:t>
            </a:r>
            <a:br>
              <a:rPr sz="2800"/>
            </a:br>
            <a:r>
              <a:rPr b="0" lang="hr-HR" sz="2800" spc="-1" strike="noStrike">
                <a:solidFill>
                  <a:srgbClr val="572314"/>
                </a:solidFill>
                <a:latin typeface="Gill Sans MT"/>
              </a:rPr>
              <a:t>Vibracije – prinudne vibracije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914040" y="236232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Rezonanci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1905120" y="3276720"/>
            <a:ext cx="5105160" cy="1922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Rezonancija je pojava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aglog uvećanja amplitude vibracija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ada se frekvenca prinudne sile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klopi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a nekom od sopstvenih učestan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72314"/>
                </a:solidFill>
                <a:latin typeface="Gill Sans MT"/>
              </a:rPr>
              <a:t>Mehanički talasi u čvrstim telima</a:t>
            </a:r>
            <a:br>
              <a:rPr sz="2800"/>
            </a:br>
            <a:r>
              <a:rPr b="0" lang="hr-HR" sz="2800" spc="-1" strike="noStrike">
                <a:solidFill>
                  <a:srgbClr val="572314"/>
                </a:solidFill>
                <a:latin typeface="Gill Sans MT"/>
              </a:rPr>
              <a:t>Vibracije – prinudne vibracije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914040" y="2361960"/>
            <a:ext cx="80010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Rezonanci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Ako je prinudna učestanost jednaka nekoj od sopstvenih, deformacija se akumilir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Deformacija izazvane svakim novim udarom se </a:t>
            </a:r>
            <a:r>
              <a:rPr b="1" i="1" lang="hr-HR" sz="2000" spc="-1" strike="noStrike">
                <a:solidFill>
                  <a:srgbClr val="000000"/>
                </a:solidFill>
                <a:latin typeface="Gill Sans MT"/>
              </a:rPr>
              <a:t>sabiraju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500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72314"/>
                </a:solidFill>
                <a:latin typeface="Gill Sans MT"/>
              </a:rPr>
              <a:t>Mehanički talasi u čvrstim telima</a:t>
            </a:r>
            <a:br>
              <a:rPr sz="2800"/>
            </a:br>
            <a:r>
              <a:rPr b="0" lang="hr-HR" sz="2800" spc="-1" strike="noStrike">
                <a:solidFill>
                  <a:srgbClr val="572314"/>
                </a:solidFill>
                <a:latin typeface="Gill Sans MT"/>
              </a:rPr>
              <a:t>Vibracije – prinudne vibracije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914040" y="236232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Rezonanci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0" name="Rectangle 4"/>
          <p:cNvSpPr/>
          <p:nvPr/>
        </p:nvSpPr>
        <p:spPr>
          <a:xfrm>
            <a:off x="914400" y="5105520"/>
            <a:ext cx="80010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buda male amplitude može izazvati velike deformac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i konstruisanju se mora voditi računa da sopstvene (rezonantne) frekvence sistema budu iznad frekvenci mogućih pobu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Picture 5" descr="force2"/>
          <p:cNvPicPr/>
          <p:nvPr/>
        </p:nvPicPr>
        <p:blipFill>
          <a:blip r:embed="rId1"/>
          <a:stretch/>
        </p:blipFill>
        <p:spPr>
          <a:xfrm>
            <a:off x="1550880" y="2895480"/>
            <a:ext cx="561204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2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7" dur="500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040" y="1218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Energija talas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914040" y="23619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alasi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prenos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energij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 izvora u prostor oko nji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Energija je raspoređena po prostoru i ta raspodela se opisuje gustinom energi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Object 4"/>
              <p:cNvSpPr txBox="1"/>
              <p:nvPr/>
            </p:nvSpPr>
            <p:spPr>
              <a:xfrm>
                <a:off x="3581280" y="3505320"/>
                <a:ext cx="11271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14040" y="1218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Intenzitet talas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914040" y="23623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Fizička veličina koja meri brzinu kojom talasi prenose energiju u neki deo prostor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1447920" y="3505320"/>
            <a:ext cx="1523880" cy="76176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Object 7"/>
              <p:cNvSpPr txBox="1"/>
              <p:nvPr/>
            </p:nvSpPr>
            <p:spPr>
              <a:xfrm>
                <a:off x="3767040" y="4467240"/>
                <a:ext cx="50720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W</m:t>
                    </m:r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w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Object 11"/>
              <p:cNvSpPr txBox="1"/>
              <p:nvPr/>
            </p:nvSpPr>
            <p:spPr>
              <a:xfrm>
                <a:off x="5162400" y="5105520"/>
                <a:ext cx="20005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w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20" name="Group 16"/>
          <p:cNvGrpSpPr/>
          <p:nvPr/>
        </p:nvGrpSpPr>
        <p:grpSpPr>
          <a:xfrm>
            <a:off x="1447920" y="4495680"/>
            <a:ext cx="1523880" cy="357480"/>
            <a:chOff x="1447920" y="4495680"/>
            <a:chExt cx="1523880" cy="357480"/>
          </a:xfrm>
        </p:grpSpPr>
        <mc:AlternateContent>
          <mc:Choice xmlns:a14="http://schemas.microsoft.com/office/drawing/2010/main" Requires="a14">
            <p:sp>
              <p:nvSpPr>
                <p:cNvPr id="521" name="Object 8"/>
                <p:cNvSpPr txBox="1"/>
                <p:nvPr/>
              </p:nvSpPr>
              <p:spPr>
                <a:xfrm>
                  <a:off x="1874880" y="4495680"/>
                  <a:ext cx="639720" cy="35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dt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22" name="Line 12"/>
            <p:cNvSpPr/>
            <p:nvPr/>
          </p:nvSpPr>
          <p:spPr>
            <a:xfrm>
              <a:off x="1447920" y="44956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Group 15"/>
          <p:cNvGrpSpPr/>
          <p:nvPr/>
        </p:nvGrpSpPr>
        <p:grpSpPr>
          <a:xfrm>
            <a:off x="3048120" y="3603600"/>
            <a:ext cx="1172880" cy="358920"/>
            <a:chOff x="3048120" y="3603600"/>
            <a:chExt cx="1172880" cy="358920"/>
          </a:xfrm>
        </p:grpSpPr>
        <p:sp>
          <p:nvSpPr>
            <p:cNvPr id="524" name="Line 5"/>
            <p:cNvSpPr/>
            <p:nvPr/>
          </p:nvSpPr>
          <p:spPr>
            <a:xfrm>
              <a:off x="3048120" y="380988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5" name="Object 13"/>
                <p:cNvSpPr txBox="1"/>
                <p:nvPr/>
              </p:nvSpPr>
              <p:spPr>
                <a:xfrm>
                  <a:off x="3657600" y="3603600"/>
                  <a:ext cx="563400" cy="35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W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26" name="Object 14"/>
              <p:cNvSpPr txBox="1"/>
              <p:nvPr/>
            </p:nvSpPr>
            <p:spPr>
              <a:xfrm>
                <a:off x="5164200" y="6037200"/>
                <a:ext cx="20494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I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27" name="Group 22"/>
          <p:cNvGrpSpPr/>
          <p:nvPr/>
        </p:nvGrpSpPr>
        <p:grpSpPr>
          <a:xfrm>
            <a:off x="2971800" y="3352320"/>
            <a:ext cx="162000" cy="914760"/>
            <a:chOff x="2971800" y="3352320"/>
            <a:chExt cx="162000" cy="914760"/>
          </a:xfrm>
        </p:grpSpPr>
        <p:sp>
          <p:nvSpPr>
            <p:cNvPr id="528" name="Line 18"/>
            <p:cNvSpPr/>
            <p:nvPr/>
          </p:nvSpPr>
          <p:spPr>
            <a:xfrm flipV="1">
              <a:off x="3133800" y="3352320"/>
              <a:ext cx="0" cy="75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9"/>
            <p:cNvSpPr/>
            <p:nvPr/>
          </p:nvSpPr>
          <p:spPr>
            <a:xfrm>
              <a:off x="2971800" y="3503520"/>
              <a:ext cx="0" cy="76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Line 20"/>
            <p:cNvSpPr/>
            <p:nvPr/>
          </p:nvSpPr>
          <p:spPr>
            <a:xfrm flipV="1">
              <a:off x="2971800" y="3352320"/>
              <a:ext cx="16200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Line 21"/>
            <p:cNvSpPr/>
            <p:nvPr/>
          </p:nvSpPr>
          <p:spPr>
            <a:xfrm flipV="1">
              <a:off x="2971800" y="4114440"/>
              <a:ext cx="1620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2" name="Object 26"/>
              <p:cNvSpPr txBox="1"/>
              <p:nvPr/>
            </p:nvSpPr>
            <p:spPr>
              <a:xfrm>
                <a:off x="3276720" y="3141720"/>
                <a:ext cx="4363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040" y="33300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Intenzitet talas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abljenje talas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4572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Smanjenje intenziteta talas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457200"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r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je u prostoru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5280" indent="-380880">
              <a:spcBef>
                <a:spcPts val="451"/>
              </a:spcBef>
              <a:buClr>
                <a:srgbClr val="feb80a"/>
              </a:buClr>
              <a:buFont typeface="Gill Sans M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manjenje intenziteta usled povećanja prostora koji talas zahvat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457200"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psorpcija talas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5280" indent="-380880">
              <a:spcBef>
                <a:spcPts val="451"/>
              </a:spcBef>
              <a:buClr>
                <a:srgbClr val="feb80a"/>
              </a:buClr>
              <a:buFont typeface="Gill Sans M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manjenje intenziteta talasa usled prelaska energije talasa u druge oblik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3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8" dur="500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14040" y="1218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Intenzitet talas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914040" y="236232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Širenje talas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Oval 4"/>
          <p:cNvSpPr/>
          <p:nvPr/>
        </p:nvSpPr>
        <p:spPr>
          <a:xfrm>
            <a:off x="2470320" y="4503600"/>
            <a:ext cx="75960" cy="7632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5"/>
          <p:cNvSpPr/>
          <p:nvPr/>
        </p:nvSpPr>
        <p:spPr>
          <a:xfrm>
            <a:off x="1600200" y="3657600"/>
            <a:ext cx="18288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Oval 6"/>
          <p:cNvSpPr/>
          <p:nvPr/>
        </p:nvSpPr>
        <p:spPr>
          <a:xfrm>
            <a:off x="1143000" y="3200400"/>
            <a:ext cx="2741760" cy="2741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Group 22"/>
          <p:cNvGrpSpPr/>
          <p:nvPr/>
        </p:nvGrpSpPr>
        <p:grpSpPr>
          <a:xfrm>
            <a:off x="2503440" y="3809520"/>
            <a:ext cx="468360" cy="731880"/>
            <a:chOff x="2503440" y="3809520"/>
            <a:chExt cx="468360" cy="731880"/>
          </a:xfrm>
        </p:grpSpPr>
        <p:sp>
          <p:nvSpPr>
            <p:cNvPr id="541" name="Line 7"/>
            <p:cNvSpPr/>
            <p:nvPr/>
          </p:nvSpPr>
          <p:spPr>
            <a:xfrm flipV="1">
              <a:off x="2503440" y="3809520"/>
              <a:ext cx="468360" cy="73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2" name="Object 9"/>
                <p:cNvSpPr txBox="1"/>
                <p:nvPr/>
              </p:nvSpPr>
              <p:spPr>
                <a:xfrm>
                  <a:off x="2562120" y="3906720"/>
                  <a:ext cx="257400" cy="43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3" name="Group 23"/>
          <p:cNvGrpSpPr/>
          <p:nvPr/>
        </p:nvGrpSpPr>
        <p:grpSpPr>
          <a:xfrm>
            <a:off x="2503440" y="4038480"/>
            <a:ext cx="1265400" cy="502920"/>
            <a:chOff x="2503440" y="4038480"/>
            <a:chExt cx="1265400" cy="502920"/>
          </a:xfrm>
        </p:grpSpPr>
        <p:sp>
          <p:nvSpPr>
            <p:cNvPr id="544" name="Line 8"/>
            <p:cNvSpPr/>
            <p:nvPr/>
          </p:nvSpPr>
          <p:spPr>
            <a:xfrm flipV="1">
              <a:off x="2503440" y="4065120"/>
              <a:ext cx="126540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5" name="Object 10"/>
                <p:cNvSpPr txBox="1"/>
                <p:nvPr/>
              </p:nvSpPr>
              <p:spPr>
                <a:xfrm>
                  <a:off x="3070080" y="4038480"/>
                  <a:ext cx="308160" cy="43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46" name="Object 11"/>
              <p:cNvSpPr txBox="1"/>
              <p:nvPr/>
            </p:nvSpPr>
            <p:spPr>
              <a:xfrm>
                <a:off x="4164120" y="3174840"/>
                <a:ext cx="200016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4</m:t>
                        </m:r>
                        <m:sSubSup>
                          <m:e>
                            <m:r>
                              <m:t xml:space="preserve">π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Object 12"/>
              <p:cNvSpPr txBox="1"/>
              <p:nvPr/>
            </p:nvSpPr>
            <p:spPr>
              <a:xfrm>
                <a:off x="4114800" y="4226040"/>
                <a:ext cx="208908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4</m:t>
                        </m:r>
                        <m:sSubSup>
                          <m:e>
                            <m:r>
                              <m:t xml:space="preserve">π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Object 13"/>
              <p:cNvSpPr txBox="1"/>
              <p:nvPr/>
            </p:nvSpPr>
            <p:spPr>
              <a:xfrm>
                <a:off x="4773600" y="5232240"/>
                <a:ext cx="8222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9" name="Text Box 17"/>
          <p:cNvSpPr/>
          <p:nvPr/>
        </p:nvSpPr>
        <p:spPr>
          <a:xfrm>
            <a:off x="4494600" y="2631960"/>
            <a:ext cx="15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ferni ta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8"/>
          <p:cNvSpPr/>
          <p:nvPr/>
        </p:nvSpPr>
        <p:spPr>
          <a:xfrm>
            <a:off x="6854760" y="2590920"/>
            <a:ext cx="21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Cilindrični ta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Object 19"/>
              <p:cNvSpPr txBox="1"/>
              <p:nvPr/>
            </p:nvSpPr>
            <p:spPr>
              <a:xfrm>
                <a:off x="6853320" y="3211560"/>
                <a:ext cx="20444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Object 20"/>
              <p:cNvSpPr txBox="1"/>
              <p:nvPr/>
            </p:nvSpPr>
            <p:spPr>
              <a:xfrm>
                <a:off x="6794640" y="4262400"/>
                <a:ext cx="21556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Object 21"/>
              <p:cNvSpPr txBox="1"/>
              <p:nvPr/>
            </p:nvSpPr>
            <p:spPr>
              <a:xfrm>
                <a:off x="7562880" y="5268960"/>
                <a:ext cx="6667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5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5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nodeType="clickEffect" fill="hold">
                      <p:stCondLst>
                        <p:cond delay="indefinite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14040" y="1218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Intenzitet talas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914040" y="2362320"/>
            <a:ext cx="8001000" cy="114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Apsorpcija talasa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868680" indent="-4341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Gill Sans MT"/>
              </a:rPr>
              <a:t>smanjenje energije usled transformacije energije talasa u druge vidove energi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1" marL="868680" indent="-4341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Gill Sans MT"/>
              </a:rPr>
              <a:t>najčešće u toplot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Object 19"/>
              <p:cNvSpPr txBox="1"/>
              <p:nvPr/>
            </p:nvSpPr>
            <p:spPr>
              <a:xfrm>
                <a:off x="2419200" y="3973680"/>
                <a:ext cx="341316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z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psorpcij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δ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20"/>
              <p:cNvSpPr txBox="1"/>
              <p:nvPr/>
            </p:nvSpPr>
            <p:spPr>
              <a:xfrm>
                <a:off x="2438280" y="4595760"/>
                <a:ext cx="2826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8" name="Text Box 21"/>
          <p:cNvSpPr/>
          <p:nvPr/>
        </p:nvSpPr>
        <p:spPr>
          <a:xfrm>
            <a:off x="2724480" y="4545000"/>
            <a:ext cx="29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- koeficijent apsorp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Object 22"/>
              <p:cNvSpPr txBox="1"/>
              <p:nvPr/>
            </p:nvSpPr>
            <p:spPr>
              <a:xfrm>
                <a:off x="3414600" y="5103720"/>
                <a:ext cx="115740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δ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6" dur="500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5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040" y="907920"/>
            <a:ext cx="800100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572314"/>
                </a:solidFill>
                <a:latin typeface="Gill Sans MT"/>
              </a:rPr>
              <a:t>Intenzitet talasa</a:t>
            </a:r>
            <a:br>
              <a:rPr sz="2900"/>
            </a:br>
            <a:r>
              <a:rPr b="0" lang="hr-HR" sz="2900" spc="-1" strike="noStrike">
                <a:solidFill>
                  <a:srgbClr val="572314"/>
                </a:solidFill>
                <a:latin typeface="Gill Sans MT"/>
              </a:rPr>
              <a:t>Nivo zvuka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914040" y="23623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Da ne bi čuli “previše”, ne čujemo zvuke inteziteta manjeg od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sr-CS" sz="2000" spc="-1" strike="noStrike" baseline="30000">
                <a:solidFill>
                  <a:srgbClr val="000000"/>
                </a:solidFill>
                <a:latin typeface="Corbel"/>
              </a:rPr>
              <a:t>-1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W/m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i="1" lang="sr-Latn-CS" sz="2000" spc="-1" strike="noStrike">
                <a:solidFill>
                  <a:srgbClr val="000000"/>
                </a:solidFill>
                <a:latin typeface="Gill Sans MT"/>
              </a:rPr>
              <a:t>(prag čujnosti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Da bi dobro čuli i slabije i jače zvuke. naš sluh prigušuje jače zvuk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Naš osećaj zvuk izražava se </a:t>
            </a:r>
            <a:r>
              <a:rPr b="1" i="1" lang="sr-Latn-CS" sz="2000" spc="-1" strike="noStrike">
                <a:solidFill>
                  <a:srgbClr val="000000"/>
                </a:solidFill>
                <a:latin typeface="Gill Sans MT"/>
              </a:rPr>
              <a:t>nivoom zvuk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10"/>
              <p:cNvSpPr txBox="1"/>
              <p:nvPr/>
            </p:nvSpPr>
            <p:spPr>
              <a:xfrm>
                <a:off x="1919160" y="4581360"/>
                <a:ext cx="162252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Object 11"/>
              <p:cNvSpPr txBox="1"/>
              <p:nvPr/>
            </p:nvSpPr>
            <p:spPr>
              <a:xfrm>
                <a:off x="5904000" y="4759200"/>
                <a:ext cx="11160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L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Object 12"/>
              <p:cNvSpPr txBox="1"/>
              <p:nvPr/>
            </p:nvSpPr>
            <p:spPr>
              <a:xfrm>
                <a:off x="3948120" y="4606920"/>
                <a:ext cx="16747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f>
                      <m:num>
                        <m:r>
                          <m:t xml:space="preserve">W</m:t>
                        </m:r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7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nodeType="clickEffect" fill="hold">
                      <p:stCondLst>
                        <p:cond delay="indefinite"/>
                      </p:stCondLst>
                      <p:childTnLst>
                        <p:par>
                          <p:cTn id="1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2" dur="500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7" dur="500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7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nodeType="clickEffect" fill="hold">
                      <p:stCondLst>
                        <p:cond delay="indefinite"/>
                      </p:stCondLst>
                      <p:childTnLst>
                        <p:par>
                          <p:cTn id="1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2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Superpozicija talas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4495320"/>
            <a:ext cx="86868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ecifi</a:t>
            </a:r>
            <a:r>
              <a:rPr b="0" lang="sr-Latn-CS" sz="2400" spc="-1" strike="noStrike">
                <a:solidFill>
                  <a:srgbClr val="000000"/>
                </a:solidFill>
                <a:latin typeface="Gill Sans MT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</a:t>
            </a:r>
            <a:r>
              <a:rPr b="0" lang="sr-Latn-CS" sz="2400" spc="-1" strike="noStrike">
                <a:solidFill>
                  <a:srgbClr val="000000"/>
                </a:solidFill>
                <a:latin typeface="Gill Sans MT"/>
              </a:rPr>
              <a:t>svojstvo prostiranja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alas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čestice se ne mogu sabirat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dve čestice ne mogu u istom trenutku da budu na istom mestu, a dva talasa mogu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talas </a:t>
            </a:r>
            <a:r>
              <a:rPr b="1" i="1" lang="sr-Latn-CS" sz="2000" spc="-1" strike="noStrike">
                <a:solidFill>
                  <a:srgbClr val="000000"/>
                </a:solidFill>
                <a:latin typeface="Gill Sans MT"/>
              </a:rPr>
              <a:t>nije materija</a:t>
            </a: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, talas je </a:t>
            </a:r>
            <a:r>
              <a:rPr b="1" i="1" lang="sr-Latn-CS" sz="2000" spc="-1" strike="noStrike">
                <a:solidFill>
                  <a:srgbClr val="000000"/>
                </a:solidFill>
                <a:latin typeface="Gill Sans MT"/>
              </a:rPr>
              <a:t>način prostiranja poremećaja kroz materiju</a:t>
            </a: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; talas je način kretanja i može se slagat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4" name="Picture 8" descr="SUPER1start"/>
          <p:cNvPicPr/>
          <p:nvPr/>
        </p:nvPicPr>
        <p:blipFill>
          <a:blip r:embed="rId1"/>
          <a:srcRect l="0" t="18005" r="0" b="17690"/>
          <a:stretch/>
        </p:blipFill>
        <p:spPr>
          <a:xfrm>
            <a:off x="76320" y="1219320"/>
            <a:ext cx="2962080" cy="19047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SUPER1sredina"/>
          <p:cNvPicPr/>
          <p:nvPr/>
        </p:nvPicPr>
        <p:blipFill>
          <a:blip r:embed="rId2"/>
          <a:srcRect l="0" t="18005" r="0" b="20262"/>
          <a:stretch/>
        </p:blipFill>
        <p:spPr>
          <a:xfrm>
            <a:off x="3124080" y="1752480"/>
            <a:ext cx="2962440" cy="18288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0" descr="SUPER1kraj"/>
          <p:cNvPicPr/>
          <p:nvPr/>
        </p:nvPicPr>
        <p:blipFill>
          <a:blip r:embed="rId3"/>
          <a:srcRect l="0" t="18005" r="0" b="20262"/>
          <a:stretch/>
        </p:blipFill>
        <p:spPr>
          <a:xfrm>
            <a:off x="6105600" y="2362320"/>
            <a:ext cx="2962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4" descr=""/>
          <p:cNvPicPr/>
          <p:nvPr/>
        </p:nvPicPr>
        <p:blipFill>
          <a:blip r:embed="rId1"/>
          <a:stretch/>
        </p:blipFill>
        <p:spPr>
          <a:xfrm>
            <a:off x="933480" y="2362320"/>
            <a:ext cx="7601040" cy="412740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5"/>
          <p:cNvSpPr/>
          <p:nvPr/>
        </p:nvSpPr>
        <p:spPr>
          <a:xfrm>
            <a:off x="914400" y="907920"/>
            <a:ext cx="8001000" cy="9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4f271c"/>
                </a:solidFill>
                <a:latin typeface="Arial"/>
              </a:rPr>
              <a:t>Intenzitet talasa</a:t>
            </a:r>
            <a:br>
              <a:rPr sz="3200"/>
            </a:br>
            <a:r>
              <a:rPr b="1" lang="hr-HR" sz="3200" spc="-1" strike="noStrike">
                <a:solidFill>
                  <a:srgbClr val="4f271c"/>
                </a:solidFill>
                <a:latin typeface="Arial"/>
              </a:rPr>
              <a:t>Nivo zvu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72314"/>
                </a:solidFill>
                <a:latin typeface="Gill Sans MT"/>
              </a:rPr>
              <a:t>Intenzitet talasa</a:t>
            </a:r>
            <a:br>
              <a:rPr sz="3200"/>
            </a:br>
            <a:r>
              <a:rPr b="0" lang="hr-HR" sz="3200" spc="-1" strike="noStrike">
                <a:solidFill>
                  <a:srgbClr val="572314"/>
                </a:solidFill>
                <a:latin typeface="Gill Sans MT"/>
              </a:rPr>
              <a:t>Zvučni pritisak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762120" y="236232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Gill Sans MT"/>
              </a:rPr>
              <a:t>Natpritisak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Gill Sans MT"/>
              </a:rPr>
              <a:t>Povećanje ili smanjenje vazdušnog pritiska usled prostiranja zvuka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Gill Sans MT"/>
              </a:rPr>
              <a:t>može se meriti instrumentima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druge veli</a:t>
            </a:r>
            <a:r>
              <a:rPr b="0" lang="sr-Latn-CS" sz="1900" spc="-1" strike="noStrike">
                <a:solidFill>
                  <a:srgbClr val="000000"/>
                </a:solidFill>
                <a:latin typeface="Gill Sans MT"/>
              </a:rPr>
              <a:t>č</a:t>
            </a: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ine </a:t>
            </a:r>
            <a:r>
              <a:rPr b="0" lang="sr-Latn-CS" sz="1900" spc="-1" strike="noStrike">
                <a:solidFill>
                  <a:srgbClr val="000000"/>
                </a:solidFill>
                <a:latin typeface="Gill Sans MT"/>
              </a:rPr>
              <a:t>treba izraziti preko natpritiska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Object 5"/>
              <p:cNvSpPr txBox="1"/>
              <p:nvPr/>
            </p:nvSpPr>
            <p:spPr>
              <a:xfrm>
                <a:off x="3780000" y="5229360"/>
                <a:ext cx="134280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p</m:t>
                        </m:r>
                        <m:sSup>
                          <m:e>
                            <m:r>
                              <m:t xml:space="preserve">∗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ρ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Object 6"/>
              <p:cNvSpPr txBox="1"/>
              <p:nvPr/>
            </p:nvSpPr>
            <p:spPr>
              <a:xfrm>
                <a:off x="3718080" y="4487760"/>
                <a:ext cx="146844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∗</m:t>
                    </m:r>
                    <m:r>
                      <m:t xml:space="preserve">p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9" dur="5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nodeType="clickEffect" fill="hold">
                      <p:stCondLst>
                        <p:cond delay="indefinite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4" dur="500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nodeType="clickEffect" fill="hold">
                      <p:stCondLst>
                        <p:cond delay="indefinite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500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4" dur="500"/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delay="indefinite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300" spc="-1" strike="noStrike">
                <a:solidFill>
                  <a:srgbClr val="572314"/>
                </a:solidFill>
                <a:latin typeface="Gill Sans MT"/>
              </a:rPr>
              <a:t>Osvetljen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034640" y="126828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Svetlost = Elektromagnetski talasi vidljivi ljudskom oku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alasne dužine 780 nm &gt; </a:t>
            </a:r>
            <a:r>
              <a:rPr b="0" lang="hr-HR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&gt; 330 n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Osetljivost oka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K (0&lt;K&lt;1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Zavisi od talasne dužine svetlosti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K=K(</a:t>
            </a:r>
            <a:r>
              <a:rPr b="0" lang="hr-HR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3" name="Picture 5" descr="D:\My Documents\NASTAVA\Fizika\Stof\4\PhotoEffic.gif"/>
          <p:cNvPicPr/>
          <p:nvPr/>
        </p:nvPicPr>
        <p:blipFill>
          <a:blip r:embed="rId1"/>
          <a:stretch/>
        </p:blipFill>
        <p:spPr>
          <a:xfrm>
            <a:off x="1619280" y="2881440"/>
            <a:ext cx="583236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5" dur="indefinite" restart="never" nodeType="tmRoot">
          <p:childTnLst>
            <p:seq>
              <p:cTn id="1286" dur="indefinite" nodeType="mainSeq">
                <p:childTnLst>
                  <p:par>
                    <p:cTn id="1287" nodeType="clickEffect" fill="hold">
                      <p:stCondLst>
                        <p:cond delay="indefinite"/>
                      </p:stCondLst>
                      <p:childTnLst>
                        <p:par>
                          <p:cTn id="1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1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6" dur="5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1" dur="5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6" dur="50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Svetlost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Osvetljenj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373040" y="15336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zvor svetlost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svetljeni objek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vetlosni sno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6" name="Rectangle 5"/>
          <p:cNvSpPr/>
          <p:nvPr/>
        </p:nvSpPr>
        <p:spPr>
          <a:xfrm>
            <a:off x="4344840" y="5114880"/>
            <a:ext cx="1067040" cy="763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Group 49"/>
          <p:cNvGrpSpPr/>
          <p:nvPr/>
        </p:nvGrpSpPr>
        <p:grpSpPr>
          <a:xfrm>
            <a:off x="4420800" y="1533240"/>
            <a:ext cx="3616560" cy="3581640"/>
            <a:chOff x="4420800" y="1533240"/>
            <a:chExt cx="3616560" cy="3581640"/>
          </a:xfrm>
        </p:grpSpPr>
        <p:cxnSp>
          <p:nvCxnSpPr>
            <p:cNvPr id="578" name="AutoShape 9"/>
            <p:cNvCxnSpPr>
              <a:endCxn id="576" idx="3"/>
            </p:cNvCxnSpPr>
            <p:nvPr/>
          </p:nvCxnSpPr>
          <p:spPr>
            <a:xfrm flipH="1">
              <a:off x="5865840" y="1931760"/>
              <a:ext cx="2171880" cy="2400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9" name="AutoShape 10"/>
            <p:cNvCxnSpPr>
              <a:endCxn id="576" idx="0"/>
            </p:cNvCxnSpPr>
            <p:nvPr/>
          </p:nvCxnSpPr>
          <p:spPr>
            <a:xfrm flipH="1">
              <a:off x="5331600" y="1898640"/>
              <a:ext cx="2624760" cy="2396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80" name="AutoShape 11"/>
            <p:cNvCxnSpPr>
              <a:endCxn id="576" idx="1"/>
            </p:cNvCxnSpPr>
            <p:nvPr/>
          </p:nvCxnSpPr>
          <p:spPr>
            <a:xfrm flipH="1">
              <a:off x="4798440" y="1703520"/>
              <a:ext cx="3239280" cy="262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81" name="Line 13"/>
            <p:cNvSpPr/>
            <p:nvPr/>
          </p:nvSpPr>
          <p:spPr>
            <a:xfrm flipH="1">
              <a:off x="6021000" y="2905200"/>
              <a:ext cx="160020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14"/>
            <p:cNvSpPr/>
            <p:nvPr/>
          </p:nvSpPr>
          <p:spPr>
            <a:xfrm flipH="1">
              <a:off x="6706800" y="2981160"/>
              <a:ext cx="106668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Line 15"/>
            <p:cNvSpPr/>
            <p:nvPr/>
          </p:nvSpPr>
          <p:spPr>
            <a:xfrm flipH="1">
              <a:off x="4497120" y="2448000"/>
              <a:ext cx="28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Line 16"/>
            <p:cNvSpPr/>
            <p:nvPr/>
          </p:nvSpPr>
          <p:spPr>
            <a:xfrm flipH="1">
              <a:off x="4420800" y="2523960"/>
              <a:ext cx="29718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17"/>
            <p:cNvSpPr/>
            <p:nvPr/>
          </p:nvSpPr>
          <p:spPr>
            <a:xfrm flipH="1">
              <a:off x="4801680" y="2600280"/>
              <a:ext cx="25909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18"/>
            <p:cNvSpPr/>
            <p:nvPr/>
          </p:nvSpPr>
          <p:spPr>
            <a:xfrm flipH="1" flipV="1">
              <a:off x="6173640" y="1533240"/>
              <a:ext cx="12952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19"/>
            <p:cNvSpPr/>
            <p:nvPr/>
          </p:nvSpPr>
          <p:spPr>
            <a:xfrm flipH="1" flipV="1">
              <a:off x="7239960" y="153360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21"/>
            <p:cNvSpPr/>
            <p:nvPr/>
          </p:nvSpPr>
          <p:spPr>
            <a:xfrm flipH="1" flipV="1">
              <a:off x="7773840" y="153324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Line 22"/>
            <p:cNvSpPr/>
            <p:nvPr/>
          </p:nvSpPr>
          <p:spPr>
            <a:xfrm flipH="1" flipV="1">
              <a:off x="5945040" y="1990800"/>
              <a:ext cx="1447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Group 50"/>
          <p:cNvGrpSpPr/>
          <p:nvPr/>
        </p:nvGrpSpPr>
        <p:grpSpPr>
          <a:xfrm>
            <a:off x="4878000" y="3095280"/>
            <a:ext cx="2426400" cy="1448280"/>
            <a:chOff x="4878000" y="3095280"/>
            <a:chExt cx="2426400" cy="1448280"/>
          </a:xfrm>
        </p:grpSpPr>
        <p:cxnSp>
          <p:nvCxnSpPr>
            <p:cNvPr id="591" name="AutoShape 28"/>
            <p:cNvCxnSpPr>
              <a:stCxn id="592" idx="2"/>
              <a:endCxn id="593" idx="2"/>
            </p:cNvCxnSpPr>
            <p:nvPr/>
          </p:nvCxnSpPr>
          <p:spPr>
            <a:xfrm flipV="1">
              <a:off x="4878000" y="4009680"/>
              <a:ext cx="686520" cy="5342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94" name="AutoShape 29"/>
            <p:cNvCxnSpPr>
              <a:stCxn id="593" idx="2"/>
              <a:endCxn id="595" idx="1"/>
            </p:cNvCxnSpPr>
            <p:nvPr/>
          </p:nvCxnSpPr>
          <p:spPr>
            <a:xfrm flipV="1">
              <a:off x="5563800" y="3406680"/>
              <a:ext cx="797400" cy="60372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96" name="AutoShape 30"/>
            <p:cNvCxnSpPr>
              <a:stCxn id="595" idx="1"/>
              <a:endCxn id="597" idx="2"/>
            </p:cNvCxnSpPr>
            <p:nvPr/>
          </p:nvCxnSpPr>
          <p:spPr>
            <a:xfrm flipV="1">
              <a:off x="6360480" y="3095280"/>
              <a:ext cx="423000" cy="3117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98" name="AutoShape 31"/>
            <p:cNvCxnSpPr>
              <a:stCxn id="592" idx="6"/>
              <a:endCxn id="593" idx="6"/>
            </p:cNvCxnSpPr>
            <p:nvPr/>
          </p:nvCxnSpPr>
          <p:spPr>
            <a:xfrm flipV="1">
              <a:off x="6173640" y="4009680"/>
              <a:ext cx="457920" cy="5342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99" name="AutoShape 32"/>
            <p:cNvCxnSpPr>
              <a:stCxn id="593" idx="6"/>
              <a:endCxn id="595" idx="6"/>
            </p:cNvCxnSpPr>
            <p:nvPr/>
          </p:nvCxnSpPr>
          <p:spPr>
            <a:xfrm flipV="1">
              <a:off x="6630840" y="3514320"/>
              <a:ext cx="381600" cy="49608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600" name="AutoShape 33"/>
            <p:cNvCxnSpPr>
              <a:stCxn id="595" idx="6"/>
              <a:endCxn id="597" idx="5"/>
            </p:cNvCxnSpPr>
            <p:nvPr/>
          </p:nvCxnSpPr>
          <p:spPr>
            <a:xfrm flipV="1">
              <a:off x="7011720" y="3175920"/>
              <a:ext cx="293040" cy="3387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</p:cxnSp>
      </p:grpSp>
      <p:sp>
        <p:nvSpPr>
          <p:cNvPr id="601" name="Text Box 36"/>
          <p:cNvSpPr/>
          <p:nvPr/>
        </p:nvSpPr>
        <p:spPr>
          <a:xfrm>
            <a:off x="1443600" y="2905200"/>
            <a:ext cx="23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ergetski fluk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[J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37"/>
          <p:cNvSpPr/>
          <p:nvPr/>
        </p:nvSpPr>
        <p:spPr>
          <a:xfrm>
            <a:off x="1442520" y="3743280"/>
            <a:ext cx="278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vetlosni fluks F [lume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Object 38"/>
              <p:cNvSpPr txBox="1"/>
              <p:nvPr/>
            </p:nvSpPr>
            <p:spPr>
              <a:xfrm>
                <a:off x="1484280" y="3362400"/>
                <a:ext cx="27082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F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dΦ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Object 39"/>
              <p:cNvSpPr txBox="1"/>
              <p:nvPr/>
            </p:nvSpPr>
            <p:spPr>
              <a:xfrm>
                <a:off x="1525680" y="3940200"/>
                <a:ext cx="233496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λ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dΦ</m:t>
                        </m:r>
                        <m:r>
                          <m:t xml:space="preserve">(</m:t>
                        </m:r>
                        <m:r>
                          <m:t xml:space="preserve">λ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05" name="Text Box 40"/>
          <p:cNvSpPr/>
          <p:nvPr/>
        </p:nvSpPr>
        <p:spPr>
          <a:xfrm>
            <a:off x="1445400" y="4794120"/>
            <a:ext cx="22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a svetlost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[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6" name="Object 41"/>
              <p:cNvSpPr txBox="1"/>
              <p:nvPr/>
            </p:nvSpPr>
            <p:spPr>
              <a:xfrm>
                <a:off x="1525680" y="5103720"/>
                <a:ext cx="101916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07" name="Group 54"/>
          <p:cNvGrpSpPr/>
          <p:nvPr/>
        </p:nvGrpSpPr>
        <p:grpSpPr>
          <a:xfrm>
            <a:off x="4878360" y="4352760"/>
            <a:ext cx="1295280" cy="381240"/>
            <a:chOff x="4878360" y="4352760"/>
            <a:chExt cx="1295280" cy="381240"/>
          </a:xfrm>
        </p:grpSpPr>
        <p:sp>
          <p:nvSpPr>
            <p:cNvPr id="592" name="Oval 24"/>
            <p:cNvSpPr/>
            <p:nvPr/>
          </p:nvSpPr>
          <p:spPr>
            <a:xfrm>
              <a:off x="4878360" y="4352760"/>
              <a:ext cx="1295280" cy="381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8" name="Object 42"/>
                <p:cNvSpPr txBox="1"/>
                <p:nvPr/>
              </p:nvSpPr>
              <p:spPr>
                <a:xfrm>
                  <a:off x="5259240" y="4384800"/>
                  <a:ext cx="47304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09" name="Group 53"/>
          <p:cNvGrpSpPr/>
          <p:nvPr/>
        </p:nvGrpSpPr>
        <p:grpSpPr>
          <a:xfrm>
            <a:off x="5564160" y="3819600"/>
            <a:ext cx="1066680" cy="380880"/>
            <a:chOff x="5564160" y="3819600"/>
            <a:chExt cx="1066680" cy="380880"/>
          </a:xfrm>
        </p:grpSpPr>
        <p:sp>
          <p:nvSpPr>
            <p:cNvPr id="593" name="Oval 23"/>
            <p:cNvSpPr/>
            <p:nvPr/>
          </p:nvSpPr>
          <p:spPr>
            <a:xfrm>
              <a:off x="5564160" y="3819600"/>
              <a:ext cx="1066680" cy="380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0" name="Object 43"/>
                <p:cNvSpPr txBox="1"/>
                <p:nvPr/>
              </p:nvSpPr>
              <p:spPr>
                <a:xfrm>
                  <a:off x="5852880" y="3851280"/>
                  <a:ext cx="47304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1" name="Group 52"/>
          <p:cNvGrpSpPr/>
          <p:nvPr/>
        </p:nvGrpSpPr>
        <p:grpSpPr>
          <a:xfrm>
            <a:off x="6249960" y="3317760"/>
            <a:ext cx="761760" cy="349200"/>
            <a:chOff x="6249960" y="3317760"/>
            <a:chExt cx="761760" cy="349200"/>
          </a:xfrm>
        </p:grpSpPr>
        <p:sp>
          <p:nvSpPr>
            <p:cNvPr id="595" name="Oval 26"/>
            <p:cNvSpPr/>
            <p:nvPr/>
          </p:nvSpPr>
          <p:spPr>
            <a:xfrm>
              <a:off x="6249960" y="3362400"/>
              <a:ext cx="761760" cy="304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2" name="Object 44"/>
                <p:cNvSpPr txBox="1"/>
                <p:nvPr/>
              </p:nvSpPr>
              <p:spPr>
                <a:xfrm>
                  <a:off x="6386400" y="3317760"/>
                  <a:ext cx="47304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3" name="Group 51"/>
          <p:cNvGrpSpPr/>
          <p:nvPr/>
        </p:nvGrpSpPr>
        <p:grpSpPr>
          <a:xfrm>
            <a:off x="6783480" y="2905200"/>
            <a:ext cx="609480" cy="349200"/>
            <a:chOff x="6783480" y="2905200"/>
            <a:chExt cx="609480" cy="349200"/>
          </a:xfrm>
        </p:grpSpPr>
        <p:sp>
          <p:nvSpPr>
            <p:cNvPr id="597" name="Oval 27"/>
            <p:cNvSpPr/>
            <p:nvPr/>
          </p:nvSpPr>
          <p:spPr>
            <a:xfrm>
              <a:off x="6783480" y="2981160"/>
              <a:ext cx="609480" cy="228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4" name="Object 45"/>
                <p:cNvSpPr txBox="1"/>
                <p:nvPr/>
              </p:nvSpPr>
              <p:spPr>
                <a:xfrm>
                  <a:off x="6783480" y="2905200"/>
                  <a:ext cx="47268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15" name="Text Box 46"/>
          <p:cNvSpPr/>
          <p:nvPr/>
        </p:nvSpPr>
        <p:spPr>
          <a:xfrm>
            <a:off x="5455800" y="4886280"/>
            <a:ext cx="1409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dS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Times New Roman"/>
              </a:rPr>
              <a:t>osvetlj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47"/>
          <p:cNvSpPr/>
          <p:nvPr/>
        </p:nvSpPr>
        <p:spPr>
          <a:xfrm>
            <a:off x="7848360" y="2143080"/>
            <a:ext cx="1073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dS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Times New Roman"/>
              </a:rPr>
              <a:t>izv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Object 48"/>
              <p:cNvSpPr txBox="1"/>
              <p:nvPr/>
            </p:nvSpPr>
            <p:spPr>
              <a:xfrm>
                <a:off x="2668680" y="5267160"/>
                <a:ext cx="2136600" cy="3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ume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ra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8" name="AutoShape 12"/>
          <p:cNvSpPr/>
          <p:nvPr/>
        </p:nvSpPr>
        <p:spPr>
          <a:xfrm rot="16200000">
            <a:off x="7392960" y="1762200"/>
            <a:ext cx="1295280" cy="1295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295280"/>
              <a:gd name="textAreaBottom" fmla="*/ 462600 h 129528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1" dur="indefinite" restart="never" nodeType="tmRoot">
          <p:childTnLst>
            <p:seq>
              <p:cTn id="1312" dur="indefinite" nodeType="mainSeq">
                <p:childTnLst>
                  <p:par>
                    <p:cTn id="1313" nodeType="clickEffect" fill="hold">
                      <p:stCondLst>
                        <p:cond delay="indefinite"/>
                      </p:stCondLst>
                      <p:childTnLst>
                        <p:par>
                          <p:cTn id="1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7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nodeType="clickEffect" fill="hold">
                      <p:stCondLst>
                        <p:cond delay="indefinite"/>
                      </p:stCondLst>
                      <p:childTnLst>
                        <p:par>
                          <p:cTn id="1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2" dur="5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nodeType="clickEffect" fill="hold">
                      <p:stCondLst>
                        <p:cond delay="indefinite"/>
                      </p:stCondLst>
                      <p:childTnLst>
                        <p:par>
                          <p:cTn id="1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7" dur="500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nodeType="clickEffect" fill="hold">
                      <p:stCondLst>
                        <p:cond delay="indefinite"/>
                      </p:stCondLst>
                      <p:childTnLst>
                        <p:par>
                          <p:cTn id="1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6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nodeType="clickEffect" fill="hold">
                      <p:stCondLst>
                        <p:cond delay="indefinite"/>
                      </p:stCondLst>
                      <p:childTnLst>
                        <p:par>
                          <p:cTn id="1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nodeType="clickEffect" fill="hold">
                      <p:stCondLst>
                        <p:cond delay="indefinite"/>
                      </p:stCondLst>
                      <p:childTnLst>
                        <p:par>
                          <p:cTn id="1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nodeType="clickEffect" fill="hold">
                      <p:stCondLst>
                        <p:cond delay="indefinite"/>
                      </p:stCondLst>
                      <p:childTnLst>
                        <p:par>
                          <p:cTn id="1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nodeType="clickEffect" fill="hold">
                      <p:stCondLst>
                        <p:cond delay="indefinite"/>
                      </p:stCondLst>
                      <p:childTnLst>
                        <p:par>
                          <p:cTn id="1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nodeType="clickEffect" fill="hold">
                      <p:stCondLst>
                        <p:cond delay="indefinite"/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nodeType="clickEffect" fill="hold">
                      <p:stCondLst>
                        <p:cond delay="indefinite"/>
                      </p:stCondLst>
                      <p:childTnLst>
                        <p:par>
                          <p:cTn id="1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5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nodeType="clickEffect" fill="hold">
                      <p:stCondLst>
                        <p:cond delay="indefinite"/>
                      </p:stCondLst>
                      <p:childTnLst>
                        <p:par>
                          <p:cTn id="1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nodeType="clickEffect" fill="hold">
                      <p:stCondLst>
                        <p:cond delay="indefinite"/>
                      </p:stCondLst>
                      <p:childTnLst>
                        <p:par>
                          <p:cTn id="1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5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nodeType="clickEffect" fill="hold">
                      <p:stCondLst>
                        <p:cond delay="indefinite"/>
                      </p:stCondLst>
                      <p:childTnLst>
                        <p:par>
                          <p:cTn id="1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0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nodeType="clickEffect" fill="hold">
                      <p:stCondLst>
                        <p:cond delay="indefinite"/>
                      </p:stCondLst>
                      <p:childTnLst>
                        <p:par>
                          <p:cTn id="1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nodeType="clickEffect" fill="hold">
                      <p:stCondLst>
                        <p:cond delay="indefinite"/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nodeType="clickEffect" fill="hold">
                      <p:stCondLst>
                        <p:cond delay="indefinite"/>
                      </p:stCondLst>
                      <p:childTnLst>
                        <p:par>
                          <p:cTn id="1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5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Svetlost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Osvetljenj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218960" y="1557360"/>
            <a:ext cx="33526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zvor svetlost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1" name="Rectangle 40"/>
          <p:cNvSpPr/>
          <p:nvPr/>
        </p:nvSpPr>
        <p:spPr>
          <a:xfrm>
            <a:off x="1219320" y="292896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vetljeni objek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2" name="Object 41"/>
          <p:cNvGraphicFramePr/>
          <p:nvPr/>
        </p:nvGraphicFramePr>
        <p:xfrm>
          <a:off x="3814920" y="1940040"/>
          <a:ext cx="131580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3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14920" y="1940040"/>
                    <a:ext cx="131580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4" name="Object 42"/>
          <p:cNvGraphicFramePr/>
          <p:nvPr/>
        </p:nvGraphicFramePr>
        <p:xfrm>
          <a:off x="6629400" y="1963800"/>
          <a:ext cx="1998720" cy="81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5" name="Object 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9400" y="1963800"/>
                    <a:ext cx="19987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6" name="Object 43"/>
          <p:cNvGraphicFramePr/>
          <p:nvPr/>
        </p:nvGraphicFramePr>
        <p:xfrm>
          <a:off x="4340160" y="3565440"/>
          <a:ext cx="1316160" cy="709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7" name="Object 4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0160" y="3565440"/>
                    <a:ext cx="131616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8" name="Object 44"/>
          <p:cNvGraphicFramePr/>
          <p:nvPr/>
        </p:nvGraphicFramePr>
        <p:xfrm>
          <a:off x="6932520" y="3409920"/>
          <a:ext cx="1873440" cy="711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9" name="Object 4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32520" y="3409920"/>
                    <a:ext cx="187344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0" name="Rectangle 45"/>
          <p:cNvSpPr/>
          <p:nvPr/>
        </p:nvSpPr>
        <p:spPr>
          <a:xfrm>
            <a:off x="1143000" y="445284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6000"/>
          </a:bodyPr>
          <a:p>
            <a:pPr marL="88920" indent="-88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nop sijalice od 100 W F~1400 lumena, J ~ 100 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unce u zenitu L ~1,5 Gnit, električni luk L ~0,7 G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nevno svetlo do E ~ 10</a:t>
            </a:r>
            <a:r>
              <a:rPr b="0" lang="hr-HR" sz="20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lux, mesečina E ~ 0,2 l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a čitanje je potrebno oko E ~ 50 l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2960" indent="-74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Group 54"/>
          <p:cNvGrpSpPr/>
          <p:nvPr/>
        </p:nvGrpSpPr>
        <p:grpSpPr>
          <a:xfrm>
            <a:off x="1371600" y="3386160"/>
            <a:ext cx="1447920" cy="1218960"/>
            <a:chOff x="1371600" y="3386160"/>
            <a:chExt cx="1447920" cy="1218960"/>
          </a:xfrm>
        </p:grpSpPr>
        <p:grpSp>
          <p:nvGrpSpPr>
            <p:cNvPr id="632" name="Group 53"/>
            <p:cNvGrpSpPr/>
            <p:nvPr/>
          </p:nvGrpSpPr>
          <p:grpSpPr>
            <a:xfrm>
              <a:off x="1371600" y="3386160"/>
              <a:ext cx="1447920" cy="761760"/>
              <a:chOff x="1371600" y="3386160"/>
              <a:chExt cx="1447920" cy="761760"/>
            </a:xfrm>
          </p:grpSpPr>
          <p:sp>
            <p:nvSpPr>
              <p:cNvPr id="633" name="Line 46"/>
              <p:cNvSpPr/>
              <p:nvPr/>
            </p:nvSpPr>
            <p:spPr>
              <a:xfrm flipH="1">
                <a:off x="1981080" y="3386160"/>
                <a:ext cx="53316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Rectangle 47"/>
              <p:cNvSpPr/>
              <p:nvPr/>
            </p:nvSpPr>
            <p:spPr>
              <a:xfrm>
                <a:off x="1371600" y="4071960"/>
                <a:ext cx="1447920" cy="75960"/>
              </a:xfrm>
              <a:prstGeom prst="rect">
                <a:avLst/>
              </a:prstGeom>
              <a:solidFill>
                <a:srgbClr val="3891a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Arc 50"/>
              <p:cNvSpPr/>
              <p:nvPr/>
            </p:nvSpPr>
            <p:spPr>
              <a:xfrm>
                <a:off x="1981440" y="3387600"/>
                <a:ext cx="412560" cy="693720"/>
              </a:xfrm>
              <a:custGeom>
                <a:avLst/>
                <a:gdLst/>
                <a:ahLst/>
                <a:rect l="l" t="t" r="r" b="b"/>
                <a:pathLst>
                  <a:path fill="none" w="12269" h="21597">
                    <a:moveTo>
                      <a:pt x="342" y="-1"/>
                    </a:moveTo>
                    <a:cubicBezTo>
                      <a:pt x="4607" y="67"/>
                      <a:pt x="8757" y="1396"/>
                      <a:pt x="12269" y="3819"/>
                    </a:cubicBezTo>
                  </a:path>
                  <a:path stroke="0" w="12269" h="21597">
                    <a:moveTo>
                      <a:pt x="342" y="-1"/>
                    </a:moveTo>
                    <a:cubicBezTo>
                      <a:pt x="4607" y="67"/>
                      <a:pt x="8757" y="1396"/>
                      <a:pt x="12269" y="3819"/>
                    </a:cubicBezTo>
                    <a:lnTo>
                      <a:pt x="0" y="21597"/>
                    </a:lnTo>
                    <a:lnTo>
                      <a:pt x="342" y="-1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36" name="Object 51"/>
                  <p:cNvSpPr txBox="1"/>
                  <p:nvPr/>
                </p:nvSpPr>
                <p:spPr>
                  <a:xfrm>
                    <a:off x="2006640" y="3487680"/>
                    <a:ext cx="279360" cy="279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α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637" name="Line 52"/>
            <p:cNvSpPr/>
            <p:nvPr/>
          </p:nvSpPr>
          <p:spPr>
            <a:xfrm>
              <a:off x="1981440" y="338616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6" dur="indefinite" restart="never" nodeType="tmRoot">
          <p:childTnLst>
            <p:seq>
              <p:cTn id="1407" dur="indefinite" nodeType="mainSeq">
                <p:childTnLst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2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nodeType="clickEffect" fill="hold">
                      <p:stCondLst>
                        <p:cond delay="indefinite"/>
                      </p:stCondLst>
                      <p:childTnLst>
                        <p:par>
                          <p:cTn id="1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nodeType="clickEffect" fill="hold">
                      <p:stCondLst>
                        <p:cond delay="indefinite"/>
                      </p:stCondLst>
                      <p:childTnLst>
                        <p:par>
                          <p:cTn id="1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7" dur="5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nodeType="clickEffect" fill="hold">
                      <p:stCondLst>
                        <p:cond delay="indefinite"/>
                      </p:stCondLst>
                      <p:childTnLst>
                        <p:par>
                          <p:cTn id="1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nodeType="clickEffect" fill="hold">
                      <p:stCondLst>
                        <p:cond delay="indefinite"/>
                      </p:stCondLst>
                      <p:childTnLst>
                        <p:par>
                          <p:cTn id="1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1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6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nodeType="clickEffect" fill="hold">
                      <p:stCondLst>
                        <p:cond delay="indefinite"/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5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nodeType="clickEffect" fill="hold">
                      <p:stCondLst>
                        <p:cond delay="indefinite"/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6" dur="5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nodeType="clickEffect" fill="hold">
                      <p:stCondLst>
                        <p:cond delay="indefinite"/>
                      </p:stCondLst>
                      <p:childTnLst>
                        <p:par>
                          <p:cTn id="1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1" dur="5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300" spc="-1" strike="noStrike">
                <a:solidFill>
                  <a:srgbClr val="572314"/>
                </a:solidFill>
                <a:latin typeface="Gill Sans MT"/>
              </a:rPr>
              <a:t>Zakon obrnutih kvadrat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9" name="Rectangle 5"/>
          <p:cNvSpPr/>
          <p:nvPr/>
        </p:nvSpPr>
        <p:spPr>
          <a:xfrm>
            <a:off x="1325520" y="1557360"/>
            <a:ext cx="403848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Gill Sans MT"/>
              </a:rPr>
              <a:t>Osvetljenost objekta je inverzno proporcionalna kvadratu njegovog rastojanju od tačkastog izvo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Gill Sans MT"/>
              </a:rPr>
              <a:t>Dalje-tamnije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Gill Sans MT"/>
              </a:rPr>
              <a:t>Važi za tačkaste izvo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0" name="Object 8"/>
          <p:cNvGraphicFramePr/>
          <p:nvPr/>
        </p:nvGraphicFramePr>
        <p:xfrm>
          <a:off x="4067280" y="4095720"/>
          <a:ext cx="4787640" cy="24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4095720"/>
                    <a:ext cx="478764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2" name="Object 4"/>
          <p:cNvGraphicFramePr/>
          <p:nvPr/>
        </p:nvGraphicFramePr>
        <p:xfrm>
          <a:off x="2062080" y="5665680"/>
          <a:ext cx="1573200" cy="78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62080" y="5665680"/>
                    <a:ext cx="157320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300" spc="-1" strike="noStrike">
                <a:solidFill>
                  <a:srgbClr val="572314"/>
                </a:solidFill>
                <a:latin typeface="Gill Sans MT"/>
              </a:rPr>
              <a:t>Kosinusni zak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5" name="Rectangle 4"/>
          <p:cNvSpPr/>
          <p:nvPr/>
        </p:nvSpPr>
        <p:spPr>
          <a:xfrm>
            <a:off x="1311120" y="1719360"/>
            <a:ext cx="591516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Gill Sans MT"/>
              </a:rPr>
              <a:t>Omogućava proračun osvetljenost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Gill Sans MT"/>
              </a:rPr>
              <a:t>U više položa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Gill Sans MT"/>
              </a:rPr>
              <a:t>Složenih izvo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Gill Sans MT"/>
              </a:rPr>
              <a:t>Više izvo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Gill Sans MT"/>
              </a:rPr>
              <a:t>Sa refleksija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6" name="Object 5"/>
          <p:cNvGraphicFramePr/>
          <p:nvPr/>
        </p:nvGraphicFramePr>
        <p:xfrm>
          <a:off x="4637160" y="2852640"/>
          <a:ext cx="4038480" cy="17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7160" y="2852640"/>
                    <a:ext cx="403848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8" name="Object 6"/>
          <p:cNvGraphicFramePr/>
          <p:nvPr/>
        </p:nvGraphicFramePr>
        <p:xfrm>
          <a:off x="5983200" y="4724280"/>
          <a:ext cx="1828800" cy="78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83200" y="4724280"/>
                    <a:ext cx="182880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300" spc="-1" strike="noStrike">
                <a:solidFill>
                  <a:srgbClr val="572314"/>
                </a:solidFill>
                <a:latin typeface="Gill Sans MT"/>
              </a:rPr>
              <a:t>Kosinusni zak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1" name="Rectangle 3"/>
          <p:cNvSpPr/>
          <p:nvPr/>
        </p:nvSpPr>
        <p:spPr>
          <a:xfrm>
            <a:off x="1166760" y="1268280"/>
            <a:ext cx="403848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Gill Sans MT"/>
              </a:rPr>
              <a:t>Rastojanja se ne mere, već se računaju na osnovu visina i Pitagorine teore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Gill Sans MT"/>
              </a:rPr>
              <a:t>Ugao očitavamo kod izvo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2" name="Object 5"/>
          <p:cNvGraphicFramePr/>
          <p:nvPr/>
        </p:nvGraphicFramePr>
        <p:xfrm>
          <a:off x="5076720" y="1268280"/>
          <a:ext cx="4038840" cy="357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268280"/>
                    <a:ext cx="4038840" cy="35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54" name="Object 4"/>
              <p:cNvSpPr txBox="1"/>
              <p:nvPr/>
            </p:nvSpPr>
            <p:spPr>
              <a:xfrm>
                <a:off x="1671480" y="3898800"/>
                <a:ext cx="124488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655" name="Object 5"/>
          <p:cNvGraphicFramePr/>
          <p:nvPr/>
        </p:nvGraphicFramePr>
        <p:xfrm>
          <a:off x="3327480" y="3865680"/>
          <a:ext cx="1244520" cy="78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27480" y="3865680"/>
                    <a:ext cx="124452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57" name="Object 6"/>
              <p:cNvSpPr txBox="1"/>
              <p:nvPr/>
            </p:nvSpPr>
            <p:spPr>
              <a:xfrm>
                <a:off x="1843200" y="5229360"/>
                <a:ext cx="251280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(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58" name="Object 7"/>
          <p:cNvGraphicFramePr/>
          <p:nvPr/>
        </p:nvGraphicFramePr>
        <p:xfrm>
          <a:off x="6114960" y="5614920"/>
          <a:ext cx="1778040" cy="73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4960" y="5614920"/>
                    <a:ext cx="1778040" cy="73656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alasi u prostoru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914040" y="411444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zvor nije samo jedna ta</a:t>
            </a:r>
            <a:r>
              <a:rPr b="0" lang="sr-Latn-CS" sz="2400" spc="-1" strike="noStrike">
                <a:solidFill>
                  <a:srgbClr val="000000"/>
                </a:solidFill>
                <a:latin typeface="Gill Sans MT"/>
              </a:rPr>
              <a:t>čka, izvori su tel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Gill Sans MT"/>
              </a:rPr>
              <a:t>Svaka tačka izvora ima sopstveno ponašan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Gill Sans MT"/>
              </a:rPr>
              <a:t>Svaka tačka stvara svoj tala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Gill Sans MT"/>
              </a:rPr>
              <a:t>Svaki realni talas je superpozicija talasa koje stvaraju sve tačke izvor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2274120" y="2438280"/>
            <a:ext cx="396180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Tačka na mestu x, u trenutku 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e ponaša i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ao i izvor pre x/c vrem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Talasi u prostoru</a:t>
            </a:r>
            <a:br>
              <a:rPr sz="3900"/>
            </a:br>
            <a:r>
              <a:rPr b="0" lang="hr-HR" sz="2900" spc="-1" strike="noStrike">
                <a:solidFill>
                  <a:srgbClr val="572314"/>
                </a:solidFill>
                <a:latin typeface="Gill Sans MT"/>
              </a:rPr>
              <a:t>Hajgensov princip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1857240" y="2590920"/>
            <a:ext cx="4551480" cy="1373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Svaka tačka pogođena talas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onaša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kao izvor novih tal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7" descr="p_huygens1"/>
          <p:cNvPicPr/>
          <p:nvPr/>
        </p:nvPicPr>
        <p:blipFill>
          <a:blip r:embed="rId1"/>
          <a:stretch/>
        </p:blipFill>
        <p:spPr>
          <a:xfrm>
            <a:off x="3147840" y="4245120"/>
            <a:ext cx="2338560" cy="21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Talasi u prostoru</a:t>
            </a:r>
            <a:br>
              <a:rPr sz="3900"/>
            </a:br>
            <a:r>
              <a:rPr b="0" lang="en-US" sz="2900" spc="-1" strike="noStrike">
                <a:solidFill>
                  <a:srgbClr val="572314"/>
                </a:solidFill>
                <a:latin typeface="Gill Sans MT"/>
              </a:rPr>
              <a:t>Talasni front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914400" y="3657600"/>
            <a:ext cx="42670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imer: talas u ravni koji izaziva tačkasti izv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sto se ponašaju tačke koje su jednako udaljene od izv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alasni frontovi su kružn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9"/>
          <p:cNvSpPr/>
          <p:nvPr/>
        </p:nvSpPr>
        <p:spPr>
          <a:xfrm>
            <a:off x="997560" y="2575080"/>
            <a:ext cx="718344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lasni front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je geometrijsko mesto tačaka koje imaju istu faz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kojima se uvek događa is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Picture 11" descr="monopole"/>
          <p:cNvPicPr/>
          <p:nvPr/>
        </p:nvPicPr>
        <p:blipFill>
          <a:blip r:embed="rId1"/>
          <a:stretch/>
        </p:blipFill>
        <p:spPr>
          <a:xfrm>
            <a:off x="5486400" y="3429000"/>
            <a:ext cx="329256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572314"/>
                </a:solidFill>
                <a:latin typeface="Gill Sans MT"/>
              </a:rPr>
              <a:t>Talasni zrak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3218040" y="1628640"/>
            <a:ext cx="309168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Talasni zrak 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ormala na talasni 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914400" y="273060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kazuje pravac prostiranja tal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Oval 6"/>
          <p:cNvSpPr/>
          <p:nvPr/>
        </p:nvSpPr>
        <p:spPr>
          <a:xfrm>
            <a:off x="2050920" y="4005360"/>
            <a:ext cx="720720" cy="720720"/>
          </a:xfrm>
          <a:prstGeom prst="ellipse">
            <a:avLst/>
          </a:prstGeom>
          <a:noFill/>
          <a:ln w="38160">
            <a:solidFill>
              <a:srgbClr val="aa8a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Oval 8"/>
          <p:cNvSpPr/>
          <p:nvPr/>
        </p:nvSpPr>
        <p:spPr>
          <a:xfrm>
            <a:off x="1908000" y="3860640"/>
            <a:ext cx="1008360" cy="1009800"/>
          </a:xfrm>
          <a:prstGeom prst="ellipse">
            <a:avLst/>
          </a:prstGeom>
          <a:noFill/>
          <a:ln w="38160">
            <a:solidFill>
              <a:srgbClr val="aa8a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Oval 9"/>
          <p:cNvSpPr/>
          <p:nvPr/>
        </p:nvSpPr>
        <p:spPr>
          <a:xfrm>
            <a:off x="2224080" y="4178160"/>
            <a:ext cx="360360" cy="360360"/>
          </a:xfrm>
          <a:prstGeom prst="ellipse">
            <a:avLst/>
          </a:prstGeom>
          <a:noFill/>
          <a:ln w="38160">
            <a:solidFill>
              <a:srgbClr val="aa8a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27"/>
          <p:cNvGrpSpPr/>
          <p:nvPr/>
        </p:nvGrpSpPr>
        <p:grpSpPr>
          <a:xfrm>
            <a:off x="1692000" y="3509640"/>
            <a:ext cx="1511640" cy="1729080"/>
            <a:chOff x="1692000" y="3509640"/>
            <a:chExt cx="1511640" cy="1729080"/>
          </a:xfrm>
        </p:grpSpPr>
        <p:sp>
          <p:nvSpPr>
            <p:cNvPr id="354" name="Line 10"/>
            <p:cNvSpPr/>
            <p:nvPr/>
          </p:nvSpPr>
          <p:spPr>
            <a:xfrm>
              <a:off x="2411280" y="4373640"/>
              <a:ext cx="7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11"/>
            <p:cNvSpPr/>
            <p:nvPr/>
          </p:nvSpPr>
          <p:spPr>
            <a:xfrm>
              <a:off x="2411280" y="4373640"/>
              <a:ext cx="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12"/>
            <p:cNvSpPr/>
            <p:nvPr/>
          </p:nvSpPr>
          <p:spPr>
            <a:xfrm>
              <a:off x="2411280" y="4373640"/>
              <a:ext cx="72072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13"/>
            <p:cNvSpPr/>
            <p:nvPr/>
          </p:nvSpPr>
          <p:spPr>
            <a:xfrm flipV="1">
              <a:off x="2411280" y="3654360"/>
              <a:ext cx="72072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14"/>
            <p:cNvSpPr/>
            <p:nvPr/>
          </p:nvSpPr>
          <p:spPr>
            <a:xfrm flipV="1">
              <a:off x="2411280" y="350964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15"/>
            <p:cNvSpPr/>
            <p:nvPr/>
          </p:nvSpPr>
          <p:spPr>
            <a:xfrm flipH="1">
              <a:off x="1692000" y="437364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16"/>
            <p:cNvSpPr/>
            <p:nvPr/>
          </p:nvSpPr>
          <p:spPr>
            <a:xfrm flipH="1" flipV="1">
              <a:off x="1763280" y="3654360"/>
              <a:ext cx="64764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17"/>
            <p:cNvSpPr/>
            <p:nvPr/>
          </p:nvSpPr>
          <p:spPr>
            <a:xfrm flipH="1">
              <a:off x="1692000" y="4373640"/>
              <a:ext cx="71892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Line 18"/>
          <p:cNvSpPr/>
          <p:nvPr/>
        </p:nvSpPr>
        <p:spPr>
          <a:xfrm>
            <a:off x="6012000" y="3654360"/>
            <a:ext cx="0" cy="1440000"/>
          </a:xfrm>
          <a:prstGeom prst="line">
            <a:avLst/>
          </a:prstGeom>
          <a:ln w="38160">
            <a:solidFill>
              <a:srgbClr val="aa8a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9"/>
          <p:cNvSpPr/>
          <p:nvPr/>
        </p:nvSpPr>
        <p:spPr>
          <a:xfrm>
            <a:off x="6300720" y="3654360"/>
            <a:ext cx="0" cy="1440000"/>
          </a:xfrm>
          <a:prstGeom prst="line">
            <a:avLst/>
          </a:prstGeom>
          <a:ln w="38160">
            <a:solidFill>
              <a:srgbClr val="aa8a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20"/>
          <p:cNvSpPr/>
          <p:nvPr/>
        </p:nvSpPr>
        <p:spPr>
          <a:xfrm>
            <a:off x="6588000" y="3654360"/>
            <a:ext cx="0" cy="1440000"/>
          </a:xfrm>
          <a:prstGeom prst="line">
            <a:avLst/>
          </a:prstGeom>
          <a:ln w="38160">
            <a:solidFill>
              <a:srgbClr val="aa8a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Group 28"/>
          <p:cNvGrpSpPr/>
          <p:nvPr/>
        </p:nvGrpSpPr>
        <p:grpSpPr>
          <a:xfrm>
            <a:off x="5867280" y="4013280"/>
            <a:ext cx="1009800" cy="720720"/>
            <a:chOff x="5867280" y="4013280"/>
            <a:chExt cx="1009800" cy="720720"/>
          </a:xfrm>
        </p:grpSpPr>
        <p:sp>
          <p:nvSpPr>
            <p:cNvPr id="366" name="Line 21"/>
            <p:cNvSpPr/>
            <p:nvPr/>
          </p:nvSpPr>
          <p:spPr>
            <a:xfrm>
              <a:off x="5867280" y="4013280"/>
              <a:ext cx="100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22"/>
            <p:cNvSpPr/>
            <p:nvPr/>
          </p:nvSpPr>
          <p:spPr>
            <a:xfrm>
              <a:off x="5867280" y="4157640"/>
              <a:ext cx="100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23"/>
            <p:cNvSpPr/>
            <p:nvPr/>
          </p:nvSpPr>
          <p:spPr>
            <a:xfrm>
              <a:off x="5867280" y="4300560"/>
              <a:ext cx="100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24"/>
            <p:cNvSpPr/>
            <p:nvPr/>
          </p:nvSpPr>
          <p:spPr>
            <a:xfrm>
              <a:off x="5867280" y="4445280"/>
              <a:ext cx="100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25"/>
            <p:cNvSpPr/>
            <p:nvPr/>
          </p:nvSpPr>
          <p:spPr>
            <a:xfrm>
              <a:off x="5867280" y="4589640"/>
              <a:ext cx="100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26"/>
            <p:cNvSpPr/>
            <p:nvPr/>
          </p:nvSpPr>
          <p:spPr>
            <a:xfrm>
              <a:off x="5867280" y="4734000"/>
              <a:ext cx="100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Talasni front i talasni zrac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837720" y="1267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blik talasnog fronta zavisi od oblika izvor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Osnovni oblici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ferni</a:t>
            </a: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cilindri</a:t>
            </a: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i i ravanski talas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0T13:28:25Z</dcterms:created>
  <dc:creator>Zlatan Soskic</dc:creator>
  <dc:description/>
  <dc:language>en-US</dc:language>
  <cp:lastModifiedBy>Zlatan Soskic</cp:lastModifiedBy>
  <dcterms:modified xsi:type="dcterms:W3CDTF">2016-04-03T11:33:36Z</dcterms:modified>
  <cp:revision>617</cp:revision>
  <dc:subject/>
  <dc:title>Talasi</dc:title>
</cp:coreProperties>
</file>