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9.png" ContentType="image/png"/>
  <Override PartName="/ppt/media/image17.wmf" ContentType="image/x-wmf"/>
  <Override PartName="/ppt/media/image16.png" ContentType="image/png"/>
  <Override PartName="/ppt/media/image18.wmf" ContentType="image/x-wmf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8BA-3BD6-4E1B-8A1B-C3ECB23C35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E43-0CBE-4E64-A094-8F107C5350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F788-4577-47B9-B04D-6E059680230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F70-495E-4671-B664-74E111E7047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B1A-49E1-4FF2-9BC4-98E5DC4AF8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02C-DCE5-4883-93DB-12A2860B6D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3FB-F7FA-45EC-83EB-E692BA1DB93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156-4772-41DB-AB35-CFFF6E5020F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083-E525-4BB9-8B8E-6C23C8778F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7FAA-FA48-4D18-8E60-FEEDA097C8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1FD-CBBA-43EA-B85E-47966441DD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B3FE-B174-40B5-9A37-0DC1C447568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C8E1-6AD6-4490-9180-D47366B7719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D6C-8DAA-4027-9457-EDB2F0F1E9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5B5-D24E-43C8-A738-BF9AA0F9AF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9FD-080A-443D-949B-EFABFF3770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76E7-A8C7-43A8-BABC-85A181FB183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B3C-C531-4CE5-BC78-5BA4499F2C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99AC-B074-46C0-A9C8-5CA13927989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8989-D3A7-4A4A-8D6C-62CCBAAD791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8304-3F2E-4E2C-B066-E6869705AC8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E28-C227-4707-8CF4-635C691F455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FAD-99B3-4E21-89E3-E359AC45635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B2E-5614-44F4-9031-08D779CA75F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E54-2074-4F8C-BD49-36E48651FF1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972E-7594-423A-A59A-4E41FA6034B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FAB-2195-4097-8304-329DC965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3CB-4F71-43C7-A84A-2DBB4C9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81D-0A59-4E47-84DD-DCB9DAA3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88D-FE3A-4409-AB10-99BB53E7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2F88-B952-484D-BA77-2BEC3EAA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8C1D-D312-43B6-AD9B-E712932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8D3F-D13E-4552-876E-CD841870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324-88F8-4F4B-8570-E6E94C6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8C8-1AF6-47E5-956F-1A44A84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3E6-168B-4D73-8F1E-75BA64A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9FC-C30D-42F6-BEF2-FD973D5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704-4BF1-4F75-A791-B405D0C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D95-6BBB-425C-867E-2207E63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46A9-D5F0-4A08-8049-A6ABC41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98F-2DA4-4485-A879-E2411AB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A1F9-6D57-4B27-A57F-3A957E73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216-000D-4CC3-92EE-ACB88C98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B1D7-CA6B-4ABB-8477-16A7CBE7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58F0-9E74-41D5-8D17-FAE2F563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90E0-89D3-4CEB-B8EB-8FD26D4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4651-5DFD-4DBD-8252-D8F8183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5767-E04A-4F5A-9AE4-731EF7C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441-7546-4AB3-9C15-CAEE2180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ECC4-5C80-4CB4-B526-8DDA9E3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3A5D-B27F-4291-9650-F3E875A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F685-FD12-4F76-9741-B597CBE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9206-8D17-4B80-84C8-F4CC82C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1114-1942-41E4-A2C0-00174CA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FC59-EC52-4C7C-9B68-48CA7E66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14A1-779D-414C-9965-230496FD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3120-CDD7-47B6-AD75-CC647C32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53B4-FAC1-4476-B07D-B344463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E91B-72E6-4897-A809-0358C994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BA7-5CB2-49DB-BB8E-B95A82C7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7D8C-0483-49B5-8C24-0DAE1B5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F22F-E978-48B9-A701-5DD076CD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FFFA-27BF-4F57-84B9-CFB21E61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09BC-4620-45AB-B3E4-82B016D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496C-F44D-4007-9E6D-90FD61B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DC6C-0210-404E-AC0D-426684D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E15B-31CB-4DB5-A29C-FD03488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45FB-9EE0-4627-815E-6E6CD464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9168-C611-4CE0-9D22-A0BB2419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48A0-3DB9-41E0-88D4-8212DC9C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B8D-BB3E-4A04-811C-A60E162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DAA3-A861-4064-8E41-BB01677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0A9B-8DBE-4760-ACA3-9C6A9BC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4F3A-1F16-464F-B5B9-EDB1D07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21C5-5B7B-43B2-B48B-60E57AC2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C110-4FE6-4930-AE93-F494487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78C0-964B-4A17-B9E1-111A41D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1A3E-E862-4841-8D1A-A9BA4F2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4EED-9415-467D-9903-0299162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AB77-7E53-4476-96F3-C136209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3D74-94B7-4718-A9A8-AB07BE0C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5A0-A8FA-42AB-A1B2-DCB5E83C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9ED0-EAD6-4F9E-99EA-F422BF5B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E41FF-CFD8-47DF-8FC6-254D1B0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83C5A-982D-4F57-B9C5-90492A9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8DC8-885D-4D8E-840C-05894B8B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0280-ECEB-45DD-A0C2-7676C815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8504-04C4-4133-A249-44C241E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377A-F352-4678-B0CE-13DECA06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94400-0E9A-4D35-B7BC-8062DEE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1705C-2631-4CED-91F3-5C4BD9A4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0138-D1AC-4422-9F5B-2D0A645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96A-E090-4ECB-A86D-27D1208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BF58-ACD5-4148-BD9A-0D9E4DB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89EA-630B-4FF0-8FDC-F675B4AD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24E5-D925-4627-907A-DFDBFEA9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D963-F61B-478C-862A-C120B044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C0CD8-B2E5-4878-A939-0B363783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D025-C353-40A4-8292-FD93321B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4080-A9A7-4A30-B868-ED6B984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8DE30-55EF-4EA6-84A0-5B7A198A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9F189-36A4-44B2-A05A-21C7F277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4EFE-9A08-473D-AA2D-336F4ED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252-28C7-47EA-B371-E3FE42F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0168-92AB-4242-B759-9518767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B1AD-43E1-4799-9138-0609ABE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4799-2D50-4492-835E-FCFD6EC4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AF8D-DE67-4551-AB20-1DCC077A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5559-6393-44A2-921C-77DB128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F2F-6B33-4A0F-B813-15D5BBC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0AE0-F4DE-4DA6-BD5C-9BDA4EF353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D8D-76F3-498E-866C-64F7A92A01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82B2-F7D4-4CAC-9D14-5825674A82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58C-41C5-4EF5-9E0D-7A1A0A0426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0490-DCF5-49AF-BEB5-DAECD76D2D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E4C5-5128-413F-9267-62BB0A9191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5D3-5226-4897-BEB9-F1244A6E53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520" y="4220640"/>
            <a:ext cx="4146480" cy="528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stiranje poremeća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visi samo 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rste tala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redine kroz koju se talas prosti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 zavisi 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nergije koju talas preno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zina mehaničkih talasa (zvuka) u čvrstim te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693800" y="3087720"/>
                <a:ext cx="1177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4284720" y="3054240"/>
                <a:ext cx="12031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5" name="Text Box 6"/>
          <p:cNvSpPr/>
          <p:nvPr/>
        </p:nvSpPr>
        <p:spPr>
          <a:xfrm>
            <a:off x="1401120" y="4195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ngitudin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068720" y="41544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verz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900000" y="4809960"/>
            <a:ext cx="8001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zina mehaničkih talasa (zvuka) u vazd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1476360" y="5373720"/>
                <a:ext cx="248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9" name="Text Box 10"/>
          <p:cNvSpPr/>
          <p:nvPr/>
        </p:nvSpPr>
        <p:spPr>
          <a:xfrm>
            <a:off x="4281120" y="5445000"/>
            <a:ext cx="41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5/3 za jednoatomske gas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7/5 za dvoatomske gas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1"/>
              <p:cNvSpPr txBox="1"/>
              <p:nvPr/>
            </p:nvSpPr>
            <p:spPr>
              <a:xfrm>
                <a:off x="6746760" y="343044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2"/>
              <p:cNvSpPr txBox="1"/>
              <p:nvPr/>
            </p:nvSpPr>
            <p:spPr>
              <a:xfrm>
                <a:off x="6746760" y="378936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Text Box 13"/>
          <p:cNvSpPr/>
          <p:nvPr/>
        </p:nvSpPr>
        <p:spPr>
          <a:xfrm>
            <a:off x="6948360" y="3068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4"/>
              <p:cNvSpPr txBox="1"/>
              <p:nvPr/>
            </p:nvSpPr>
            <p:spPr>
              <a:xfrm>
                <a:off x="6777000" y="6237360"/>
                <a:ext cx="1827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Brzina elektromagnetskih talasa (svetlost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5"/>
              <p:cNvSpPr txBox="1"/>
              <p:nvPr/>
            </p:nvSpPr>
            <p:spPr>
              <a:xfrm>
                <a:off x="2700360" y="3916440"/>
                <a:ext cx="844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1"/>
              <p:cNvSpPr txBox="1"/>
              <p:nvPr/>
            </p:nvSpPr>
            <p:spPr>
              <a:xfrm>
                <a:off x="3851280" y="3763800"/>
                <a:ext cx="3855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Text Box 14"/>
          <p:cNvSpPr/>
          <p:nvPr/>
        </p:nvSpPr>
        <p:spPr>
          <a:xfrm>
            <a:off x="3771360" y="431316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deks prelamanj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stajanj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stiranje talasa: svaka tačka radi isto što i susedna, samo malo kasn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iko kasnije: dok talas stigne od suseda do 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990720" y="4495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de sve to počinje? U izvoru ta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2857680" y="3549600"/>
                <a:ext cx="1153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Text Box 7"/>
          <p:cNvSpPr/>
          <p:nvPr/>
        </p:nvSpPr>
        <p:spPr>
          <a:xfrm>
            <a:off x="4097160" y="36939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šnjenje za sus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140840" y="5124600"/>
            <a:ext cx="72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a tačka pogođena talasom ponavlja ponašanje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9"/>
              <p:cNvSpPr txBox="1"/>
              <p:nvPr/>
            </p:nvSpPr>
            <p:spPr>
              <a:xfrm>
                <a:off x="3060720" y="5759280"/>
                <a:ext cx="770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Text Box 10"/>
          <p:cNvSpPr/>
          <p:nvPr/>
        </p:nvSpPr>
        <p:spPr>
          <a:xfrm>
            <a:off x="4108680" y="59040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šnjenje za izvo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anzij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inualni talas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zijent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anzijenti predstavljaju vremenski kratkotrajne poremećaje (udar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ulsni tal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1371600" y="3962160"/>
            <a:ext cx="2057400" cy="1447920"/>
            <a:chOff x="1371600" y="3962160"/>
            <a:chExt cx="2057400" cy="1447920"/>
          </a:xfrm>
        </p:grpSpPr>
        <p:sp>
          <p:nvSpPr>
            <p:cNvPr id="402" name="Line 5"/>
            <p:cNvSpPr/>
            <p:nvPr/>
          </p:nvSpPr>
          <p:spPr>
            <a:xfrm>
              <a:off x="1371600" y="5410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 flipV="1">
              <a:off x="1981080" y="39621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1981080" y="3962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2743200" y="39625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"/>
            <p:cNvSpPr/>
            <p:nvPr/>
          </p:nvSpPr>
          <p:spPr>
            <a:xfrm>
              <a:off x="2743200" y="5410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3581280" y="3733920"/>
            <a:ext cx="259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tuda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anj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4"/>
              <p:cNvSpPr txBox="1"/>
              <p:nvPr/>
            </p:nvSpPr>
            <p:spPr>
              <a:xfrm>
                <a:off x="1905120" y="6095880"/>
                <a:ext cx="8953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τ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9" name="Group 24"/>
          <p:cNvGrpSpPr/>
          <p:nvPr/>
        </p:nvGrpSpPr>
        <p:grpSpPr>
          <a:xfrm>
            <a:off x="1981080" y="5510160"/>
            <a:ext cx="762120" cy="281160"/>
            <a:chOff x="1981080" y="5510160"/>
            <a:chExt cx="762120" cy="281160"/>
          </a:xfrm>
        </p:grpSpPr>
        <p:sp>
          <p:nvSpPr>
            <p:cNvPr id="410" name="Line 15"/>
            <p:cNvSpPr/>
            <p:nvPr/>
          </p:nvSpPr>
          <p:spPr>
            <a:xfrm>
              <a:off x="198108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16"/>
                <p:cNvSpPr txBox="1"/>
                <p:nvPr/>
              </p:nvSpPr>
              <p:spPr>
                <a:xfrm>
                  <a:off x="2259000" y="5510160"/>
                  <a:ext cx="2556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2" name="Group 21"/>
          <p:cNvGrpSpPr/>
          <p:nvPr/>
        </p:nvGrpSpPr>
        <p:grpSpPr>
          <a:xfrm>
            <a:off x="1981080" y="4191120"/>
            <a:ext cx="762120" cy="331560"/>
            <a:chOff x="1981080" y="4191120"/>
            <a:chExt cx="762120" cy="331560"/>
          </a:xfrm>
        </p:grpSpPr>
        <p:sp>
          <p:nvSpPr>
            <p:cNvPr id="413" name="Line 17"/>
            <p:cNvSpPr/>
            <p:nvPr/>
          </p:nvSpPr>
          <p:spPr>
            <a:xfrm>
              <a:off x="1981080" y="4497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8"/>
                <p:cNvSpPr txBox="1"/>
                <p:nvPr/>
              </p:nvSpPr>
              <p:spPr>
                <a:xfrm>
                  <a:off x="2246400" y="4191120"/>
                  <a:ext cx="28080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5" name="Group 23"/>
          <p:cNvGrpSpPr/>
          <p:nvPr/>
        </p:nvGrpSpPr>
        <p:grpSpPr>
          <a:xfrm>
            <a:off x="1219320" y="3962520"/>
            <a:ext cx="407880" cy="1523880"/>
            <a:chOff x="1219320" y="3962520"/>
            <a:chExt cx="407880" cy="1523880"/>
          </a:xfrm>
        </p:grpSpPr>
        <p:sp>
          <p:nvSpPr>
            <p:cNvPr id="416" name="Line 11"/>
            <p:cNvSpPr/>
            <p:nvPr/>
          </p:nvSpPr>
          <p:spPr>
            <a:xfrm>
              <a:off x="1219320" y="3962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19"/>
                <p:cNvSpPr txBox="1"/>
                <p:nvPr/>
              </p:nvSpPr>
              <p:spPr>
                <a:xfrm>
                  <a:off x="1293840" y="4483080"/>
                  <a:ext cx="333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8" name="Group 25"/>
          <p:cNvGrpSpPr/>
          <p:nvPr/>
        </p:nvGrpSpPr>
        <p:grpSpPr>
          <a:xfrm>
            <a:off x="2743200" y="4419720"/>
            <a:ext cx="533520" cy="304560"/>
            <a:chOff x="2743200" y="4419720"/>
            <a:chExt cx="533520" cy="304560"/>
          </a:xfrm>
        </p:grpSpPr>
        <p:sp>
          <p:nvSpPr>
            <p:cNvPr id="419" name="Line 20"/>
            <p:cNvSpPr/>
            <p:nvPr/>
          </p:nvSpPr>
          <p:spPr>
            <a:xfrm>
              <a:off x="2743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Object 22"/>
                <p:cNvSpPr txBox="1"/>
                <p:nvPr/>
              </p:nvSpPr>
              <p:spPr>
                <a:xfrm>
                  <a:off x="2894040" y="4419720"/>
                  <a:ext cx="23004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1" name="Rectangle 26"/>
          <p:cNvSpPr/>
          <p:nvPr/>
        </p:nvSpPr>
        <p:spPr>
          <a:xfrm>
            <a:off x="3581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rakterist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7"/>
          <p:cNvSpPr/>
          <p:nvPr/>
        </p:nvSpPr>
        <p:spPr>
          <a:xfrm>
            <a:off x="6095880" y="36576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anj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tudu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nu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6095880" y="3657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or određ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9"/>
          <p:cNvSpPr/>
          <p:nvPr/>
        </p:nvSpPr>
        <p:spPr>
          <a:xfrm>
            <a:off x="6019920" y="518148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u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užinu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0"/>
          <p:cNvSpPr/>
          <p:nvPr/>
        </p:nvSpPr>
        <p:spPr>
          <a:xfrm>
            <a:off x="6019920" y="5181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ina određ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ontinu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inualni talasi predstavljaju poremećaje koje izvor talasa generiše u dužem vremenskom  period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eriodič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eriodični talasi predstavljaju poremećaje koje izvor talasa generiše na isti način u pravilnim vremenskim interval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vor određu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iod talasa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kvenc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alasa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ru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rekvenc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talasa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eriodič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5257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redina određu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lasn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u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lasni vek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" name="Picture 4" descr="perioodicniTalas"/>
          <p:cNvPicPr/>
          <p:nvPr/>
        </p:nvPicPr>
        <p:blipFill>
          <a:blip r:embed="rId1"/>
          <a:srcRect l="0" t="28465" r="0" b="22371"/>
          <a:stretch/>
        </p:blipFill>
        <p:spPr>
          <a:xfrm>
            <a:off x="1143000" y="2362320"/>
            <a:ext cx="4670280" cy="144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1084320" y="4038480"/>
                <a:ext cx="10605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2362320" y="3809880"/>
                <a:ext cx="833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7"/>
              <p:cNvSpPr txBox="1"/>
              <p:nvPr/>
            </p:nvSpPr>
            <p:spPr>
              <a:xfrm>
                <a:off x="4361040" y="3809880"/>
                <a:ext cx="2576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8"/>
              <p:cNvSpPr txBox="1"/>
              <p:nvPr/>
            </p:nvSpPr>
            <p:spPr>
              <a:xfrm>
                <a:off x="7499520" y="3835440"/>
                <a:ext cx="95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eriodični talas čiji je profil harmonijska fun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752480" y="3276720"/>
                <a:ext cx="353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6095880" y="3276720"/>
                <a:ext cx="12272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Line 8"/>
          <p:cNvSpPr/>
          <p:nvPr/>
        </p:nvSpPr>
        <p:spPr>
          <a:xfrm>
            <a:off x="54864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037120" y="2790720"/>
                <a:ext cx="2963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10" descr="D:\SoskicZ Documents\Nastava\Fizika\Predavanja\HAR_TAL.BMP"/>
          <p:cNvPicPr/>
          <p:nvPr/>
        </p:nvPicPr>
        <p:blipFill>
          <a:blip r:embed="rId1"/>
          <a:srcRect l="12964" t="11110" r="12964" b="44449"/>
          <a:stretch/>
        </p:blipFill>
        <p:spPr>
          <a:xfrm>
            <a:off x="1447920" y="4076640"/>
            <a:ext cx="472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13"/>
          <p:cNvGrpSpPr/>
          <p:nvPr/>
        </p:nvGrpSpPr>
        <p:grpSpPr>
          <a:xfrm>
            <a:off x="2971800" y="4272120"/>
            <a:ext cx="1143000" cy="358560"/>
            <a:chOff x="2971800" y="4272120"/>
            <a:chExt cx="1143000" cy="358560"/>
          </a:xfrm>
        </p:grpSpPr>
        <p:sp>
          <p:nvSpPr>
            <p:cNvPr id="445" name="Line 11"/>
            <p:cNvSpPr/>
            <p:nvPr/>
          </p:nvSpPr>
          <p:spPr>
            <a:xfrm>
              <a:off x="2971800" y="4478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10"/>
                <p:cNvSpPr txBox="1"/>
                <p:nvPr/>
              </p:nvSpPr>
              <p:spPr>
                <a:xfrm>
                  <a:off x="3352680" y="427212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7" name="Group 14"/>
          <p:cNvGrpSpPr/>
          <p:nvPr/>
        </p:nvGrpSpPr>
        <p:grpSpPr>
          <a:xfrm>
            <a:off x="3505320" y="5326200"/>
            <a:ext cx="1143000" cy="358560"/>
            <a:chOff x="3505320" y="5326200"/>
            <a:chExt cx="1143000" cy="358560"/>
          </a:xfrm>
        </p:grpSpPr>
        <p:sp>
          <p:nvSpPr>
            <p:cNvPr id="448" name="Line 15"/>
            <p:cNvSpPr/>
            <p:nvPr/>
          </p:nvSpPr>
          <p:spPr>
            <a:xfrm>
              <a:off x="3505320" y="5532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9"/>
                <p:cNvSpPr txBox="1"/>
                <p:nvPr/>
              </p:nvSpPr>
              <p:spPr>
                <a:xfrm>
                  <a:off x="3886200" y="532620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0" name="Group 17"/>
          <p:cNvGrpSpPr/>
          <p:nvPr/>
        </p:nvGrpSpPr>
        <p:grpSpPr>
          <a:xfrm>
            <a:off x="4343400" y="4846680"/>
            <a:ext cx="1143000" cy="358560"/>
            <a:chOff x="4343400" y="4846680"/>
            <a:chExt cx="1143000" cy="358560"/>
          </a:xfrm>
        </p:grpSpPr>
        <p:sp>
          <p:nvSpPr>
            <p:cNvPr id="451" name="Line 18"/>
            <p:cNvSpPr/>
            <p:nvPr/>
          </p:nvSpPr>
          <p:spPr>
            <a:xfrm>
              <a:off x="4343400" y="5052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Object 8"/>
                <p:cNvSpPr txBox="1"/>
                <p:nvPr/>
              </p:nvSpPr>
              <p:spPr>
                <a:xfrm>
                  <a:off x="4724280" y="484668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3" name="Object 6"/>
              <p:cNvSpPr txBox="1"/>
              <p:nvPr/>
            </p:nvSpPr>
            <p:spPr>
              <a:xfrm>
                <a:off x="1778040" y="2743200"/>
                <a:ext cx="2968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4" name="Object 7"/>
          <p:cNvGraphicFramePr/>
          <p:nvPr/>
        </p:nvGraphicFramePr>
        <p:xfrm>
          <a:off x="6523200" y="4586400"/>
          <a:ext cx="1271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0" y="4586400"/>
                    <a:ext cx="127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Navijački tal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1028" descr="peoplewave"/>
          <p:cNvPicPr/>
          <p:nvPr/>
        </p:nvPicPr>
        <p:blipFill>
          <a:blip r:embed="rId1"/>
          <a:stretch/>
        </p:blipFill>
        <p:spPr>
          <a:xfrm>
            <a:off x="965160" y="3733920"/>
            <a:ext cx="7211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snovna t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talas se može predstaviti kao zbir harmonijskih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urijeova analiza omogućava da se odredi od kakvih harmonijskih talasa je sastavljen neki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Frekven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mplitud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pektar je skup svih komponenti koje sačinjavaju jedan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560" y="236196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plitudno-frekventni spek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kazuje amplitude komponenti prema njihovim frekvenc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979560" y="4495680"/>
            <a:ext cx="4952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zno-frekventni (fazni) spek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kazuje početne faze komponenti prema njihovim frekven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6" descr="D:\SoskicZ Documents\Nastava\Fizika\Predavanja\am-frek.bmp"/>
          <p:cNvPicPr/>
          <p:nvPr/>
        </p:nvPicPr>
        <p:blipFill>
          <a:blip r:embed="rId1"/>
          <a:srcRect l="7106" t="13397" r="10016" b="0"/>
          <a:stretch/>
        </p:blipFill>
        <p:spPr>
          <a:xfrm>
            <a:off x="6008760" y="2438280"/>
            <a:ext cx="2666880" cy="1970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D:\SoskicZ Documents\Nastava\Fizika\Predavanja\faz-frek.bmp"/>
          <p:cNvPicPr/>
          <p:nvPr/>
        </p:nvPicPr>
        <p:blipFill>
          <a:blip r:embed="rId2"/>
          <a:srcRect l="4734" t="6698" r="10016" b="6207"/>
          <a:stretch/>
        </p:blipFill>
        <p:spPr>
          <a:xfrm>
            <a:off x="5932440" y="457200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4" name="Picture 8" descr="D:\My Documents\Nastava\Fizika\Stof\4\FFT-1a.gif"/>
          <p:cNvPicPr/>
          <p:nvPr/>
        </p:nvPicPr>
        <p:blipFill>
          <a:blip r:embed="rId1"/>
          <a:stretch/>
        </p:blipFill>
        <p:spPr>
          <a:xfrm>
            <a:off x="1200240" y="1989000"/>
            <a:ext cx="7619760" cy="2248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D:\My Documents\Nastava\Fizika\Stof\4\FFT-1b.gif"/>
          <p:cNvPicPr/>
          <p:nvPr/>
        </p:nvPicPr>
        <p:blipFill>
          <a:blip r:embed="rId2"/>
          <a:stretch/>
        </p:blipFill>
        <p:spPr>
          <a:xfrm>
            <a:off x="1200240" y="4218120"/>
            <a:ext cx="761976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5"/>
          <p:cNvGraphicFramePr/>
          <p:nvPr/>
        </p:nvGraphicFramePr>
        <p:xfrm>
          <a:off x="5797440" y="2428920"/>
          <a:ext cx="165420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2428920"/>
                    <a:ext cx="1654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6"/>
          <p:cNvGraphicFramePr/>
          <p:nvPr/>
        </p:nvGraphicFramePr>
        <p:xfrm>
          <a:off x="5700600" y="4689360"/>
          <a:ext cx="333540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4689360"/>
                    <a:ext cx="33354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53800" y="4952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lage i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stoje samo komponente talasa niskih frekvenc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štre i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stoje i komponente talasa visokih frekvenc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2" name="Picture 5" descr="D:\My Documents\Nastava\Fizika\Stof\4\FFT-1j.gif"/>
          <p:cNvPicPr/>
          <p:nvPr/>
        </p:nvPicPr>
        <p:blipFill>
          <a:blip r:embed="rId1"/>
          <a:srcRect l="1871" t="0" r="2802" b="0"/>
          <a:stretch/>
        </p:blipFill>
        <p:spPr>
          <a:xfrm>
            <a:off x="1001880" y="2354400"/>
            <a:ext cx="8153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rekvence zvučnih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63360" y="2362320"/>
            <a:ext cx="80010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 su mehanički talasi na koje je osetljivo ljudsko uh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Longitudinalni, jer uho ispunjava flu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2738520" y="3718080"/>
            <a:ext cx="2879640" cy="2174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009800" y="3719520"/>
            <a:ext cx="1728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3798360" y="3214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1098720" y="31892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6787800" y="3143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lt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771480" y="4006800"/>
                <a:ext cx="655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2"/>
              <p:cNvSpPr txBox="1"/>
              <p:nvPr/>
            </p:nvSpPr>
            <p:spPr>
              <a:xfrm>
                <a:off x="2378160" y="4006800"/>
                <a:ext cx="782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AutoShape 13"/>
          <p:cNvSpPr/>
          <p:nvPr/>
        </p:nvSpPr>
        <p:spPr>
          <a:xfrm>
            <a:off x="5618160" y="3603600"/>
            <a:ext cx="3240000" cy="432000"/>
          </a:xfrm>
          <a:prstGeom prst="rightArrow">
            <a:avLst>
              <a:gd name="adj1" fmla="val 50000"/>
              <a:gd name="adj2" fmla="val 18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14"/>
              <p:cNvSpPr txBox="1"/>
              <p:nvPr/>
            </p:nvSpPr>
            <p:spPr>
              <a:xfrm>
                <a:off x="5203800" y="3935520"/>
                <a:ext cx="909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5"/>
              <p:cNvSpPr txBox="1"/>
              <p:nvPr/>
            </p:nvSpPr>
            <p:spPr>
              <a:xfrm>
                <a:off x="2438280" y="4384800"/>
                <a:ext cx="6811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16"/>
              <p:cNvSpPr txBox="1"/>
              <p:nvPr/>
            </p:nvSpPr>
            <p:spPr>
              <a:xfrm>
                <a:off x="5218200" y="4357800"/>
                <a:ext cx="90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Rectangle 3"/>
          <p:cNvSpPr/>
          <p:nvPr/>
        </p:nvSpPr>
        <p:spPr>
          <a:xfrm>
            <a:off x="100008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Infra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Niske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Velike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is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Širenje pri prostir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g do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50080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ltr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sok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ratk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so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avolinijsko pros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ka apsorp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alasne dužine EM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2361960"/>
            <a:ext cx="80010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tlost predstavljaju elektromagnetski talasi na koje je osetljivo ljudsko ok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900000" y="319392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ma talasnoj duž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dec9"/>
                </a:solidFill>
                <a:latin typeface="Arial"/>
              </a:rPr>
              <a:t>Radio talasi ( </a:t>
            </a:r>
            <a:r>
              <a:rPr b="0" lang="hr-HR" sz="2400" spc="-1" strike="noStrike">
                <a:solidFill>
                  <a:srgbClr val="e7dec9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e7dec9"/>
                </a:solidFill>
                <a:latin typeface="Arial"/>
              </a:rPr>
              <a:t> &gt; 1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Mikrotalasi (100 cm &gt; </a:t>
            </a:r>
            <a:r>
              <a:rPr b="0" lang="hr-HR" sz="2400" spc="-1" strike="noStrike">
                <a:solidFill>
                  <a:srgbClr val="cc00c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 &gt; 0,1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Infracrveni zraci (100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m &gt;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&gt; 0,8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f271c"/>
                </a:solidFill>
                <a:latin typeface="Arial"/>
              </a:rPr>
              <a:t>Svetlosni zraci (780 nm &gt; </a:t>
            </a:r>
            <a:r>
              <a:rPr b="0" lang="hr-HR" sz="2400" spc="-1" strike="noStrike">
                <a:solidFill>
                  <a:srgbClr val="4f271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4f271c"/>
                </a:solidFill>
                <a:latin typeface="Arial"/>
              </a:rPr>
              <a:t> &gt; 330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Arial"/>
              </a:rPr>
              <a:t>Ultraljubičasti zraci (330 nm &gt; </a:t>
            </a:r>
            <a:r>
              <a:rPr b="0" lang="hr-HR" sz="24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0066ff"/>
                </a:solidFill>
                <a:latin typeface="Arial"/>
              </a:rPr>
              <a:t> &gt; 10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Rendgenski zraci (10 nm &gt; </a:t>
            </a:r>
            <a:r>
              <a:rPr b="0" lang="hr-HR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 &gt; 1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Gama zraci (</a:t>
            </a:r>
            <a:r>
              <a:rPr b="0" lang="hr-HR" sz="24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&lt; 1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ja kroz materi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utr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je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siste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ćaja je moguć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kroz tela i kroz fizi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ProfilTalasa"/>
          <p:cNvPicPr/>
          <p:nvPr/>
        </p:nvPicPr>
        <p:blipFill>
          <a:blip r:embed="rId1"/>
          <a:stretch/>
        </p:blipFill>
        <p:spPr>
          <a:xfrm>
            <a:off x="5105520" y="4191120"/>
            <a:ext cx="3500280" cy="22082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900000" y="4221000"/>
            <a:ext cx="8001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am profila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jam brzine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az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azn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ije isto što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grupn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rst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ehanički talas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nutrašnje kretanje deformabilnog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remećaj je kretanje delov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avijački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orski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ostiranje udara kroz te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d mehaničkih talasa se sredina kroz koju se prostire talas zaista kreće i deformiš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rst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040" y="2361960"/>
            <a:ext cx="80010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i talas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remećaj polja, a ne tel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mene jačine električnog i magnetskog pol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vetl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476360" y="5086440"/>
            <a:ext cx="431640" cy="431640"/>
          </a:xfrm>
          <a:prstGeom prst="irregularSeal1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212400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241308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226836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1"/>
              <p:cNvSpPr txBox="1"/>
              <p:nvPr/>
            </p:nvSpPr>
            <p:spPr>
              <a:xfrm>
                <a:off x="2124000" y="4221000"/>
                <a:ext cx="308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42" name="Group 15"/>
          <p:cNvGrpSpPr/>
          <p:nvPr/>
        </p:nvGrpSpPr>
        <p:grpSpPr>
          <a:xfrm>
            <a:off x="2916360" y="4726080"/>
            <a:ext cx="288720" cy="576000"/>
            <a:chOff x="2916360" y="4726080"/>
            <a:chExt cx="288720" cy="576000"/>
          </a:xfrm>
        </p:grpSpPr>
        <p:sp>
          <p:nvSpPr>
            <p:cNvPr id="343" name="Line 12"/>
            <p:cNvSpPr/>
            <p:nvPr/>
          </p:nvSpPr>
          <p:spPr>
            <a:xfrm flipV="1"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3"/>
            <p:cNvSpPr/>
            <p:nvPr/>
          </p:nvSpPr>
          <p:spPr>
            <a:xfrm flipV="1"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 flipV="1"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6"/>
          <p:cNvGrpSpPr/>
          <p:nvPr/>
        </p:nvGrpSpPr>
        <p:grpSpPr>
          <a:xfrm>
            <a:off x="3780000" y="4726080"/>
            <a:ext cx="288720" cy="576000"/>
            <a:chOff x="3780000" y="4726080"/>
            <a:chExt cx="288720" cy="576000"/>
          </a:xfrm>
        </p:grpSpPr>
        <p:sp>
          <p:nvSpPr>
            <p:cNvPr id="347" name="Line 17"/>
            <p:cNvSpPr/>
            <p:nvPr/>
          </p:nvSpPr>
          <p:spPr>
            <a:xfrm flipV="1">
              <a:off x="3780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 flipV="1">
              <a:off x="4068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 flipV="1">
              <a:off x="3924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24"/>
          <p:cNvGrpSpPr/>
          <p:nvPr/>
        </p:nvGrpSpPr>
        <p:grpSpPr>
          <a:xfrm>
            <a:off x="4572000" y="4726080"/>
            <a:ext cx="288720" cy="576000"/>
            <a:chOff x="4572000" y="4726080"/>
            <a:chExt cx="288720" cy="576000"/>
          </a:xfrm>
        </p:grpSpPr>
        <p:sp>
          <p:nvSpPr>
            <p:cNvPr id="351" name="Line 25"/>
            <p:cNvSpPr/>
            <p:nvPr/>
          </p:nvSpPr>
          <p:spPr>
            <a:xfrm flipV="1">
              <a:off x="4572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V="1">
              <a:off x="48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V="1">
              <a:off x="47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Line 28"/>
          <p:cNvSpPr/>
          <p:nvPr/>
        </p:nvSpPr>
        <p:spPr>
          <a:xfrm>
            <a:off x="2050920" y="530208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9"/>
              <p:cNvSpPr txBox="1"/>
              <p:nvPr/>
            </p:nvSpPr>
            <p:spPr>
              <a:xfrm>
                <a:off x="6122880" y="5148360"/>
                <a:ext cx="230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Rectangle 30"/>
          <p:cNvSpPr/>
          <p:nvPr/>
        </p:nvSpPr>
        <p:spPr>
          <a:xfrm>
            <a:off x="971640" y="566100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redina kroz koju se kreće elektromagnetski talas se ne po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verzal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ongit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al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šovi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sverz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ransverzalni talasi su oni kod kojih je poremećaj normalan na pravac prostiranj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vijački talas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alasi na struni (bič, tepih koji se tres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vetlos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6" descr="peoplewave"/>
          <p:cNvPicPr/>
          <p:nvPr/>
        </p:nvPicPr>
        <p:blipFill>
          <a:blip r:embed="rId1"/>
          <a:stretch/>
        </p:blipFill>
        <p:spPr>
          <a:xfrm>
            <a:off x="965160" y="3809880"/>
            <a:ext cx="7211880" cy="1611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stringpulse"/>
          <p:cNvPicPr/>
          <p:nvPr/>
        </p:nvPicPr>
        <p:blipFill>
          <a:blip r:embed="rId2"/>
          <a:stretch/>
        </p:blipFill>
        <p:spPr>
          <a:xfrm>
            <a:off x="2325600" y="5516640"/>
            <a:ext cx="44928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sverz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magnetski talas predstavlja i talas električnog i magnetskog polja, i oba su transverzal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6" descr="EMTalas"/>
          <p:cNvPicPr/>
          <p:nvPr/>
        </p:nvPicPr>
        <p:blipFill>
          <a:blip r:embed="rId1"/>
          <a:stretch/>
        </p:blipFill>
        <p:spPr>
          <a:xfrm>
            <a:off x="900000" y="3068640"/>
            <a:ext cx="76201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ong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ongitudinalni talasi su oni kod kojih je poremećaj paralelan pravcu prostiranja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lazak vago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6" descr="wavepulse"/>
          <p:cNvPicPr/>
          <p:nvPr/>
        </p:nvPicPr>
        <p:blipFill>
          <a:blip r:embed="rId1"/>
          <a:stretch/>
        </p:blipFill>
        <p:spPr>
          <a:xfrm>
            <a:off x="1846440" y="4378320"/>
            <a:ext cx="5451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9-12-10T10:21:28Z</dcterms:modified>
  <cp:revision>496</cp:revision>
  <dc:subject/>
  <dc:title>Talasi</dc:title>
</cp:coreProperties>
</file>