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6C1-E522-4C09-A6FB-7B05A99A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E86-0EB0-4980-8178-04BA290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220-A0BB-4755-8A55-159344EB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604-C10E-4294-A80C-2C3E24E9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4882-627C-46FC-8B8F-204BEC1A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CE97-2661-4462-B5D5-156C21F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7FEB-61B1-4657-BC53-1605F3CB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19FE-6F90-4A6C-8706-25B21783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14AC-B92B-4D45-B27E-0549ABDE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34B-5021-4455-B036-9A7D22DE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8751-811C-49C4-B418-5B9C9F6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506-6AD0-4D7C-A9FC-D9F589DD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FAC6-E059-4EBA-884A-F0D05EA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D924-E599-45B2-B5C6-CFECA84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2A89-F22D-498A-A236-A43B6F8A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5331-7E2D-4AD5-AF43-38EEB71F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5BF6-DD68-4B15-A88D-89631A1D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5751-F2DF-4A97-983A-0C85C760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A27A-39D8-46FC-815E-00FAF0B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AB64-D678-4ABC-87FF-FFF99F2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D44A-9AEC-4A6C-80A2-88CE6B3B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3D79-419E-42D3-B0EE-2FBAB4C9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AB5-5D98-4BDB-8B4C-5ED65B58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5ADC-AD55-43A8-B543-1C10DF0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AAB9-15B8-43B5-9D69-1EB022E8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9F5F-BD46-4232-8FAA-BB0415F8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7507-7E82-4DC8-AFC9-0BB2B788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AC49-DA4F-4548-AE10-8BF8319B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7667-67B1-48A6-A512-998B8E42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AF12-A818-4754-94D5-8DB7E559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9EC8-3EEF-493B-BA7C-514B1E1D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54F5-F777-4DEE-85EF-BF64ECE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D497-E755-4B95-9C3C-A2FAEC4C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FCC-30BF-49C9-9093-641FDCCC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2276-03E9-4466-96F2-C31762EF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029C-8CCB-4E2E-944D-7C5BDCB8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AEE8-8C6F-4D4A-B3C8-E3040D2F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B1739-6DE0-491D-9EBD-94446422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76B85-1F04-4C08-9B0E-EABFE31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4D97-9E09-4081-8882-C0EFA4B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54E0-1792-4FD6-A9DF-8778165D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8AB1-0C27-4B43-95E7-0598554E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FC8E-2351-41BC-B943-B0DAE9C8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D02A-506D-4F3C-87B7-B91F461A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5A8-0B02-4F3E-829A-642761DB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F4A8-9C8F-4605-9D7D-DAA1596D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C3AE3-DB18-453A-8A16-53F4061A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3820-0740-4788-8C7E-B53CBE74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3051E-82DF-4AD8-B750-1EFB1D46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6A04-D60F-427E-B5F3-A095E44E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0BCF-52FD-4912-9159-237F6DEC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9BC4-3606-4462-9FDA-D5BE824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45D8-9998-482B-89CC-CA5B1B1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8D625-65A8-4634-9700-4E107ECA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A75F-B131-4233-922A-FA719A17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6F9-CF1A-41D0-87DB-717FCECC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6FDB-A851-47A0-9F42-3DE4F280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C839D-1A5C-4435-8C73-8A925ADA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13BF-5B11-4F12-90EC-347A790D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A792-A13F-4DAA-9F1C-67340E04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28C25-1A0D-4235-BD36-4F8D95E1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6574B-9ED4-4C77-9F5D-EDDED9B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D1DF-10F1-4089-90D1-CA79BAB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1B220-741B-4C9E-9D8C-B96E370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D6D48-A222-4D11-9F03-15EDD0A6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15819-3E10-4C44-AD63-8EED156B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8C8-BB47-49A8-8741-BF2B0D4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7D58-9CBD-4B1F-B3C5-6ABAD416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C2247-599B-4BB5-A7EE-D3824804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0A6F-D3FB-49B0-9935-77990749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7EE37-C7CD-43ED-80E8-96896F14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DBAC-C812-4D4C-BC5B-94CD18F2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C9637-8EF9-4168-8D7C-485D3F7E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B3108-C985-4E04-9470-F848FE51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AF09-DFE5-4E7C-99BA-2FC35232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6AB3-3601-4777-8912-D7D173A4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8DCF-B9E6-4A31-909F-84F15B29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8C1-0ED2-4046-AD85-A759C8B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30F8-9847-46A9-AD0C-2025BCB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ADEA-9401-4220-B252-08E75CD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A2FE5-FF1C-4E36-9D3D-B838D931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A9F67-10C2-40B6-8D21-3A15D134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55C7-740D-42A3-BDBC-7A6EADD4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633-F409-4DD7-988B-FF5B392D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DC9F-426F-42E0-8637-A7355764B8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6424-8E70-4296-8516-7BCABF269E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FF9E-7779-4B89-A37C-7588ED37A5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93B-DC56-413C-999F-2410BFFD36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C31-24D4-435B-9954-9907759CC6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363E-2647-4A24-8A1D-E4AC3279D3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C709-E25C-4C3D-9326-145DD62FD6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i struktura mater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Fundamentalne interak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kcije - klasifik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1084320" y="2438280"/>
          <a:ext cx="66704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438280"/>
                    <a:ext cx="66704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undamentalne interak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995400" y="2548080"/>
          <a:ext cx="30718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548080"/>
                    <a:ext cx="30718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4"/>
          <p:cNvSpPr/>
          <p:nvPr/>
        </p:nvSpPr>
        <p:spPr>
          <a:xfrm>
            <a:off x="4343400" y="2438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ne interakcije se ne mogu objasniti pom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ću drugih intera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lasifikacija fundamentalnih interakcija prema domet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terakcije kratkog dome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uklearna slab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uklearna ja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terakcije dugog dome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Gravitacio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lektromagnets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ntenzitet fundamentalnih interak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uklearna ja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ktromagnets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uklearna slab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Gravitacio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0"/>
              <p:cNvSpPr txBox="1"/>
              <p:nvPr/>
            </p:nvSpPr>
            <p:spPr>
              <a:xfrm>
                <a:off x="990720" y="4800600"/>
                <a:ext cx="3327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ektromagnetsk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ravitacion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ktrona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"/>
              <p:cNvSpPr txBox="1"/>
              <p:nvPr/>
            </p:nvSpPr>
            <p:spPr>
              <a:xfrm>
                <a:off x="4495680" y="4800600"/>
                <a:ext cx="3276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lektromagnetsk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ravitacion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tona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59:36Z</dcterms:created>
  <dc:creator>Zlatan Soskic</dc:creator>
  <dc:description/>
  <dc:language>en-US</dc:language>
  <cp:lastModifiedBy>Korisnik</cp:lastModifiedBy>
  <dcterms:modified xsi:type="dcterms:W3CDTF">2012-10-05T07:18:38Z</dcterms:modified>
  <cp:revision>26</cp:revision>
  <dc:subject/>
  <dc:title>Interakcije i struktura materije</dc:title>
</cp:coreProperties>
</file>