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2366-7A58-4A07-8316-61F07D294A7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2C00-5132-4FC0-933A-075FF1618E6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7687-5FB4-4AA4-8DED-E949C3D42FC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8ED-2E2A-41F6-B793-155F9EEBD84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183E-7C8C-4C77-AE5F-F3B48AA92AA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B124-3C52-44F6-A45D-E9EA617E133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7CDF-59F7-4830-8199-244410F64F1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BC8-F364-4003-8B91-1E2AFAEC42C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E419-E57C-490E-93A1-275127F1872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8EE6-0EB5-4591-BAB0-8059B148409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CDAB-4658-4731-80A7-CC5483E9B81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FD89-FE60-4BA2-9764-F5BCAB44775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93C9-9E39-4156-ACB5-1600B3EFF78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0878-CA46-4E08-B5E7-5789C909F09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E5F2-404D-452E-9420-AB7AA022200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517-D171-4A7F-B4E7-59538B23DBF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FDC3-8228-4595-ACE3-D5D7F3481E6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0537-EDAA-449B-B7AA-3404A935543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8F7-216F-4336-8AD9-6697135438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7A4B-901D-4138-ABA2-2468D096451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28EE-A8C4-4117-ABF4-332F9CFF9F4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8FF0-4AC8-40C8-8411-F11335FCCE8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B7E1-1202-4A34-AC18-5DA6F610D79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E4C-4571-4C9B-8C30-E9515B91806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15D7-F84F-42E2-BC07-5D10133162F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4995-0AFC-4910-A650-74166069E6D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6F77-C213-47BE-8730-C1DA2430273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638-5B2E-4B2B-B61D-A4B43A5981C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E43C-E5C9-4597-AB21-634477A1B6D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A8E1-FB79-4F31-A011-3C94CF3CE92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084-D09C-439F-AF28-5B60EB84F5B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2938-5BAB-4652-B238-548B749E59E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223-60CD-43EB-BC87-418D39DE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2D1-6FD3-4600-9C48-162412C9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B86-C295-4BD6-869E-7DF23A07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95C-282E-4314-9235-A51091FA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1F93-4F38-4A5A-B10C-A3339285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C19A-4AC8-4182-BE78-705BF881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48B2-758A-4622-B0D6-F5FA5491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17D2-4607-403B-9A78-AE3ECE3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2884-C0FF-4C6D-B943-168AF02F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E51C-4BC7-4062-BEC4-53529C53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3768-7743-4C21-9E5C-75AB767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3D6-90A1-40F3-AFA6-CD9904B9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3CD0-7696-4CBF-BED4-083788D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EFDA-9F1F-46C5-AC63-223F354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3DB4-0432-4FB7-8B1E-F6F94EAD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EC9B-1D6A-4B59-AC3D-4B2FA047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008F-E6D5-4647-B2A9-8E138227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5DAC-54DA-4131-BA47-9B463A9B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D6B1-A8E2-4625-8A94-DC27CBC9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2E2E-F889-41FA-ACB7-2EA49F3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E3A7-0FEA-4F0D-9B1D-9C0FBB7C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7897-1EE2-426F-9FF3-545047BD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0A8-0814-4B28-BB9C-20348C8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5A89-D2F3-4CAA-8B0B-D762FC44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C8F1-A68A-42D0-91E4-737994E3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5FE2-A7C3-46BD-9970-94470D6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F00B-264C-41F2-871D-6A4BA5B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753F-E51B-49BB-9AE1-9BED899A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B19B-2135-4509-8E9F-6CEA69F4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607A-01FB-48AC-8A21-FFECF2DE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23D2D-B221-4801-8683-51229894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5FF7-0DBB-4F20-8674-E35C401C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2C60-84CE-429F-B82D-CF3F921B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567-5384-4383-A23E-B5BA4F45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EC45-B58A-475B-816F-8A02C392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22E8-11D0-440D-B5CD-BB146D9B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4D22-D7C0-4023-9B09-E3B7CFFE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B6D6-D4D6-44E4-B664-CE942B1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CEDB-22DB-4D78-A0BB-EB8A9FE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3F0C-CEE1-4602-8504-4492383D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016F-8F1F-4CFF-B206-10C3B5B7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D69F4-9DF4-4344-9C12-459408B9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A338-F559-48EA-8809-8DD3F919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7F4C-A817-40A9-B85B-5B40E97A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34A-7599-4601-81FC-0E21234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E55D7-2233-4173-AE39-FDADE434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18C8-01C1-4609-902A-CB8DFAB7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2FD1-8F82-45C4-A715-9397F990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88D53-59AF-45FD-A196-D2BEB601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349B-6A19-4443-88E4-F26E02A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B84C8-C69F-4992-BD4F-999F645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109DA-0E6C-4B02-B48F-B74FD3D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BF7FF-DD8D-4C19-B6B3-85B8747D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9ACA-9DBB-4D69-804C-20B370C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12AC-B932-43D2-8364-4D0EE994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A4C-0CDE-4E38-8622-AED31C67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6F840-7AB7-48DC-8279-34A4D1E6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0250D-A5F0-4372-BC8E-23EBEE60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4078-8F9C-4015-9965-C4E8B4AC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5E9B2-9846-4690-B974-66C36397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932B0-FD56-4722-88AC-DEE2B390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1E105-3168-4244-B8A1-67480399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5326-9AB1-41DD-A3AC-64CDD6F7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E6ED-A559-4A31-B443-EDF36DA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93C2-74B6-4363-9A61-A67E9F9D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72B26-7AA7-4A30-95EA-B4F16A8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E79-0F03-4A6C-A24D-EC159B98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E2782-71FE-4D00-82AF-0AE2CB39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37E6-ACF3-44A4-A0F4-B755693A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69718-800E-4644-9264-C95DA450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74E8-5BF0-4672-9B3C-17BA4568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60F46-715B-46B1-919D-ECF40D08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9777D-9DC5-436B-A7F1-A9815BDD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B975A-79CE-4218-8D34-4ECF701B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94BA8-137F-4CA6-BD84-40B6C7C3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9F879-1034-49B9-9F1E-2D9FA50C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D9FEC-C5B3-4BBD-92A5-425FB7F9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BEC-1CB0-41FE-BD7E-13A67FF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AA91-47F0-4D99-813B-5F6B02F0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DAE48-D433-4340-947D-D5A1C30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531A-E49D-4345-9A3F-0E347228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C7DD8-8206-4861-82A0-E5BFC81E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7F9B-F260-4C01-A303-4D8CCCD0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826-DBD3-4408-B546-523A480D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988E-9D47-428A-BCB7-F5353CBE01D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5A0-F686-4DDB-8286-B325AC368F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1B78-C80B-4B06-BEA5-00A06CD1BB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79B-3B65-4A46-B521-03CFB9BC7C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E77C-EAB7-491F-B178-B31BA1C40A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33E9-C90E-4BCA-BEEA-F0943390B73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B5ED-FFF8-47C1-9F59-E716FD52310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Elektromagnetske</a:t>
            </a:r>
            <a:br>
              <a:rPr sz="2600"/>
            </a:b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nterak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truktura ato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nergija električnog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ačkasto naelektris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974960" y="2971800"/>
                <a:ext cx="521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2" name="Rectangle 6"/>
          <p:cNvSpPr/>
          <p:nvPr/>
        </p:nvSpPr>
        <p:spPr>
          <a:xfrm>
            <a:off x="914400" y="396252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elektrisanja istog z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ele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&gt;0, kretanje slobod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nimum potencijalne energije kada r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elektrisanja suprotnog z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ele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&lt;0, kretanje može biti i vezano i slobod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nimum potencijalne energije kada r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 električnog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ačkasto naelektris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6"/>
              <p:cNvSpPr txBox="1"/>
              <p:nvPr/>
            </p:nvSpPr>
            <p:spPr>
              <a:xfrm>
                <a:off x="1336680" y="2949480"/>
                <a:ext cx="5813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444840" y="3863880"/>
                <a:ext cx="1871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8"/>
          <p:cNvSpPr/>
          <p:nvPr/>
        </p:nvSpPr>
        <p:spPr>
          <a:xfrm>
            <a:off x="5547960" y="40035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apon i rad u električn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2362320" y="2541600"/>
                <a:ext cx="1619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4495680" y="2567160"/>
                <a:ext cx="1062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Rectangle 5"/>
          <p:cNvSpPr/>
          <p:nvPr/>
        </p:nvSpPr>
        <p:spPr>
          <a:xfrm>
            <a:off x="914400" y="32004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encijal je potencijal jedne ta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pon je pojam koji se odnosi na dve ta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6"/>
              <p:cNvSpPr txBox="1"/>
              <p:nvPr/>
            </p:nvSpPr>
            <p:spPr>
              <a:xfrm>
                <a:off x="1020600" y="4419720"/>
                <a:ext cx="75898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3886200" y="5183280"/>
                <a:ext cx="15429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e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8"/>
              <p:cNvSpPr txBox="1"/>
              <p:nvPr/>
            </p:nvSpPr>
            <p:spPr>
              <a:xfrm>
                <a:off x="3048120" y="6097680"/>
                <a:ext cx="34401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agnets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04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gnetizam ru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gnetizam Zeml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1295280" y="3651120"/>
            <a:ext cx="74678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mper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gnetsko polje stvaraju naelektrisanja u kretanj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ono deluje na naelektrisanja u kret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agnets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685800" y="25146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avitaciono po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3633840" y="2616120"/>
                <a:ext cx="328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4114800" y="2438280"/>
                <a:ext cx="277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3632040" y="3632040"/>
                <a:ext cx="2541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9"/>
              <p:cNvSpPr txBox="1"/>
              <p:nvPr/>
            </p:nvSpPr>
            <p:spPr>
              <a:xfrm>
                <a:off x="4114800" y="3479760"/>
                <a:ext cx="303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3505320" y="4597560"/>
                <a:ext cx="583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1"/>
              <p:cNvSpPr txBox="1"/>
              <p:nvPr/>
            </p:nvSpPr>
            <p:spPr>
              <a:xfrm>
                <a:off x="4192560" y="4546440"/>
                <a:ext cx="303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6" name="Text Box 12"/>
          <p:cNvSpPr/>
          <p:nvPr/>
        </p:nvSpPr>
        <p:spPr>
          <a:xfrm>
            <a:off x="4572000" y="2514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grav.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457200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elek.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457200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dukcija mag.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5"/>
              <p:cNvSpPr txBox="1"/>
              <p:nvPr/>
            </p:nvSpPr>
            <p:spPr>
              <a:xfrm>
                <a:off x="2583000" y="5410080"/>
                <a:ext cx="35128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C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6"/>
              <p:cNvSpPr txBox="1"/>
              <p:nvPr/>
            </p:nvSpPr>
            <p:spPr>
              <a:xfrm>
                <a:off x="7315200" y="2336760"/>
                <a:ext cx="12366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7"/>
              <p:cNvSpPr txBox="1"/>
              <p:nvPr/>
            </p:nvSpPr>
            <p:spPr>
              <a:xfrm>
                <a:off x="7323120" y="3352680"/>
                <a:ext cx="12114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Rectangle 19"/>
          <p:cNvSpPr/>
          <p:nvPr/>
        </p:nvSpPr>
        <p:spPr>
          <a:xfrm>
            <a:off x="685800" y="3505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lektrično po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0"/>
          <p:cNvSpPr/>
          <p:nvPr/>
        </p:nvSpPr>
        <p:spPr>
          <a:xfrm>
            <a:off x="685800" y="45720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gnetsko po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1"/>
              <p:cNvSpPr txBox="1"/>
              <p:nvPr/>
            </p:nvSpPr>
            <p:spPr>
              <a:xfrm>
                <a:off x="7400880" y="4381560"/>
                <a:ext cx="1514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g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 Box 22"/>
          <p:cNvSpPr/>
          <p:nvPr/>
        </p:nvSpPr>
        <p:spPr>
          <a:xfrm>
            <a:off x="6401160" y="5562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agnets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7720" y="457164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Linije magnetskog polja su zatvore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Intenzitet magnetskog polja opada sa rastojanj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1219320" y="34434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2819520" y="2986200"/>
            <a:ext cx="4572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9"/>
          <p:cNvSpPr/>
          <p:nvPr/>
        </p:nvSpPr>
        <p:spPr>
          <a:xfrm>
            <a:off x="2666880" y="2757600"/>
            <a:ext cx="76212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20"/>
          <p:cNvSpPr/>
          <p:nvPr/>
        </p:nvSpPr>
        <p:spPr>
          <a:xfrm>
            <a:off x="2438280" y="2452680"/>
            <a:ext cx="121932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21"/>
          <p:cNvSpPr/>
          <p:nvPr/>
        </p:nvSpPr>
        <p:spPr>
          <a:xfrm>
            <a:off x="1371600" y="2986200"/>
            <a:ext cx="4572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22"/>
          <p:cNvSpPr/>
          <p:nvPr/>
        </p:nvSpPr>
        <p:spPr>
          <a:xfrm>
            <a:off x="1219320" y="2757600"/>
            <a:ext cx="76176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23"/>
          <p:cNvSpPr/>
          <p:nvPr/>
        </p:nvSpPr>
        <p:spPr>
          <a:xfrm>
            <a:off x="990720" y="2452680"/>
            <a:ext cx="121896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AutoShape 24"/>
          <p:cNvCxnSpPr>
            <a:stCxn id="444" idx="0"/>
            <a:endCxn id="441" idx="0"/>
          </p:cNvCxnSpPr>
          <p:nvPr/>
        </p:nvCxnSpPr>
        <p:spPr>
          <a:xfrm>
            <a:off x="1600200" y="2437920"/>
            <a:ext cx="1448640" cy="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446" name="AutoShape 25"/>
          <p:cNvCxnSpPr>
            <a:stCxn id="444" idx="4"/>
            <a:endCxn id="441" idx="4"/>
          </p:cNvCxnSpPr>
          <p:nvPr/>
        </p:nvCxnSpPr>
        <p:spPr>
          <a:xfrm>
            <a:off x="1600200" y="4524120"/>
            <a:ext cx="1448640" cy="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pic>
        <p:nvPicPr>
          <p:cNvPr id="447" name="Picture 26" descr="D:\My Documents\NASTAVA\Fizika\Predavanja\Magnet.jpg"/>
          <p:cNvPicPr/>
          <p:nvPr/>
        </p:nvPicPr>
        <p:blipFill>
          <a:blip r:embed="rId1"/>
          <a:stretch/>
        </p:blipFill>
        <p:spPr>
          <a:xfrm>
            <a:off x="4648320" y="2666880"/>
            <a:ext cx="3450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orencova si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koja deluje na tačkasto naelektrisanje u kretanj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5"/>
              <p:cNvSpPr txBox="1"/>
              <p:nvPr/>
            </p:nvSpPr>
            <p:spPr>
              <a:xfrm>
                <a:off x="3570120" y="3340080"/>
                <a:ext cx="1841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Rectangle 6"/>
          <p:cNvSpPr/>
          <p:nvPr/>
        </p:nvSpPr>
        <p:spPr>
          <a:xfrm>
            <a:off x="838080" y="41148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la je normalna na brzi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la je normalna na pome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843480" y="5403960"/>
            <a:ext cx="816192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orencova sila ne vrši rad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orencova sila ne menja kinetičku energiju čestica na koje del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magnetsko polje se ne vezuje potencijalna 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u magnetsk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4" name="Object 3"/>
          <p:cNvGraphicFramePr/>
          <p:nvPr/>
        </p:nvGraphicFramePr>
        <p:xfrm>
          <a:off x="4110120" y="3678120"/>
          <a:ext cx="8413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0120" y="3678120"/>
                    <a:ext cx="8413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4"/>
          <p:cNvSpPr/>
          <p:nvPr/>
        </p:nvSpPr>
        <p:spPr>
          <a:xfrm>
            <a:off x="914400" y="23623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la normalna na brzinu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užno kre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u magnetsk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8" name="Object 4"/>
          <p:cNvGraphicFramePr/>
          <p:nvPr/>
        </p:nvGraphicFramePr>
        <p:xfrm>
          <a:off x="4121280" y="5689440"/>
          <a:ext cx="90144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1280" y="5689440"/>
                    <a:ext cx="90144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0" name="Object 6"/>
              <p:cNvSpPr txBox="1"/>
              <p:nvPr/>
            </p:nvSpPr>
            <p:spPr>
              <a:xfrm>
                <a:off x="1371600" y="2514600"/>
                <a:ext cx="623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v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v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7"/>
              <p:cNvSpPr txBox="1"/>
              <p:nvPr/>
            </p:nvSpPr>
            <p:spPr>
              <a:xfrm>
                <a:off x="1406520" y="3124080"/>
                <a:ext cx="1260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8"/>
              <p:cNvSpPr txBox="1"/>
              <p:nvPr/>
            </p:nvSpPr>
            <p:spPr>
              <a:xfrm>
                <a:off x="1447920" y="3936960"/>
                <a:ext cx="4435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v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lektromagnetske intera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elektrisanja koja se promenljivo (ubrzano) kreću stvaraju promenljivo pol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o polje je elektromagnetsko polje kome su električno i magnetsko polje samo kompon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mene polja se šire u prostoru kao emitovani elektromagnetski talas usled kojeg se energija čestice umanjuje a energija polja uveć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ktromagnetske intera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akcije iz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đu tela koja imaju naelektris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snovno svojstvo mater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ve vrste naelektris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lo koje ima višak jedne vrste naelektrisanja nazivamo naelektrisani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eri se fizičkom veličinom koja se naziva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količina naelektris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oličina naelektrisanja je aditivna velič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Jedinica za količinu naelektrisanja – Kulon [C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truktura ato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14040" y="2362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Demokrit: "A tomos" – nedeljiv, bezsastav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Hemija: jedinjenja i element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Atomi iste vrste grade elemen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Atomi različitih vrsta formiraju molekule koji grade jedinje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endeljejev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Osam grupa elemenata sličnog ponaša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Elementi iste grupe razlikuju se po masi ato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eriodni si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an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92 elementa u prirod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Dvadesetak veštački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lanetarni model ato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040" y="22860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ils B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Svi atomi imaju istu st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ktur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azlikuju se po atomskom broju Z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ozitivno naelektrisano jezgr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 proto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 neutro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Negativno naelektrisani omotač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 elektron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9" name="Picture 4" descr="D:\My Documents\NASTAVA\Fizika\Predavanja\Atom.jpg"/>
          <p:cNvPicPr/>
          <p:nvPr/>
        </p:nvPicPr>
        <p:blipFill>
          <a:blip r:embed="rId1"/>
          <a:stretch/>
        </p:blipFill>
        <p:spPr>
          <a:xfrm>
            <a:off x="4952880" y="2666880"/>
            <a:ext cx="3845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lanetarni model atom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aelektrisanje atom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14400" y="23623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prot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+e=+1,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19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neutr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jezgra +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elektrona q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-e=-1,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19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 omotača –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tom kao celina je elektroneutra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lanetarni model atom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sa atom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7720" y="2362320"/>
            <a:ext cx="6705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sa protona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1,67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27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g =1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neutron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 1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jezgr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N) 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elektron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,1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31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g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1839 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omotača Z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&lt;&lt;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j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la masa atoma je koncentrisana u jezgr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N) ajm=A ajm    A-maseni broj ato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7772400" y="5562720"/>
                <a:ext cx="7588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 Borov postul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4"/>
              <p:cNvSpPr txBox="1"/>
              <p:nvPr/>
            </p:nvSpPr>
            <p:spPr>
              <a:xfrm>
                <a:off x="2143080" y="4267080"/>
                <a:ext cx="494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ezgr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e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Z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5"/>
              <p:cNvSpPr txBox="1"/>
              <p:nvPr/>
            </p:nvSpPr>
            <p:spPr>
              <a:xfrm>
                <a:off x="2143080" y="5105520"/>
                <a:ext cx="1362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7"/>
              <p:cNvSpPr txBox="1"/>
              <p:nvPr/>
            </p:nvSpPr>
            <p:spPr>
              <a:xfrm>
                <a:off x="2133720" y="5867280"/>
                <a:ext cx="5173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f>
                      <m:num>
                        <m:r>
                          <m:t xml:space="preserve">Z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9" name="Rectangle 9"/>
          <p:cNvSpPr/>
          <p:nvPr/>
        </p:nvSpPr>
        <p:spPr>
          <a:xfrm>
            <a:off x="914400" y="2362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nutaratomsko kre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1295280" y="2895480"/>
            <a:ext cx="6248520" cy="1081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 u atomu se k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u oko nepokretnog jezgra po kružnim putanjama pod uticajem privlačne elektrostatičke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Borov postul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1404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ko se elektroni kreću kružno (ubrzano), zašto ne gube energiju zračenje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914400" y="3276720"/>
            <a:ext cx="7696080" cy="838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 u atomu 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aj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u samo po stacionarnim orbitama, na kojima ne gube energ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914400" y="42670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oje stacionarne i nestacionarne orb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nestacionarnim elektron ne može opstati traj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acionarne orbite su "naročit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Borov postul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4"/>
              <p:cNvSpPr txBox="1"/>
              <p:nvPr/>
            </p:nvSpPr>
            <p:spPr>
              <a:xfrm>
                <a:off x="2631960" y="2276640"/>
                <a:ext cx="355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cionar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6"/>
              <p:cNvSpPr txBox="1"/>
              <p:nvPr/>
            </p:nvSpPr>
            <p:spPr>
              <a:xfrm>
                <a:off x="1168560" y="2809800"/>
                <a:ext cx="1158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8"/>
              <p:cNvSpPr txBox="1"/>
              <p:nvPr/>
            </p:nvSpPr>
            <p:spPr>
              <a:xfrm>
                <a:off x="1106640" y="3191040"/>
                <a:ext cx="2896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10"/>
              <p:cNvSpPr txBox="1"/>
              <p:nvPr/>
            </p:nvSpPr>
            <p:spPr>
              <a:xfrm>
                <a:off x="4156200" y="3343320"/>
                <a:ext cx="224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Text Box 11"/>
          <p:cNvSpPr/>
          <p:nvPr/>
        </p:nvSpPr>
        <p:spPr>
          <a:xfrm>
            <a:off x="6517080" y="334332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lankova konst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1108080" y="3952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stac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 može imati samo neke vrednosti, a ne s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VANTOVANJE, KVANT (skok) 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VANTNA MEHANIKA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LASIČNA MEHA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14"/>
              <p:cNvSpPr txBox="1"/>
              <p:nvPr/>
            </p:nvSpPr>
            <p:spPr>
              <a:xfrm>
                <a:off x="1635120" y="6035760"/>
                <a:ext cx="718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0000000000000000000000000000010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4156200" y="5705640"/>
                <a:ext cx="17618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↔</m:t>
                    </m:r>
                    <m:r>
                      <m:t xml:space="preserve">ℏ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sledice Borovih postul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4765680" y="2286000"/>
                <a:ext cx="259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2"/>
              <p:cNvSpPr txBox="1"/>
              <p:nvPr/>
            </p:nvSpPr>
            <p:spPr>
              <a:xfrm>
                <a:off x="1793880" y="2286000"/>
                <a:ext cx="2751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3"/>
              <p:cNvSpPr txBox="1"/>
              <p:nvPr/>
            </p:nvSpPr>
            <p:spPr>
              <a:xfrm>
                <a:off x="1714680" y="3200400"/>
                <a:ext cx="5271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P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P</m:t>
                            </m:r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8" name="Group 20"/>
          <p:cNvGrpSpPr/>
          <p:nvPr/>
        </p:nvGrpSpPr>
        <p:grpSpPr>
          <a:xfrm>
            <a:off x="1271520" y="4267080"/>
            <a:ext cx="7467480" cy="1143000"/>
            <a:chOff x="1271520" y="4267080"/>
            <a:chExt cx="7467480" cy="1143000"/>
          </a:xfrm>
        </p:grpSpPr>
        <mc:AlternateContent>
          <mc:Choice xmlns:a14="http://schemas.microsoft.com/office/drawing/2010/main" Requires="a14">
            <p:sp>
              <p:nvSpPr>
                <p:cNvPr id="499" name="Object 14"/>
                <p:cNvSpPr txBox="1"/>
                <p:nvPr/>
              </p:nvSpPr>
              <p:spPr>
                <a:xfrm>
                  <a:off x="4014720" y="4419720"/>
                  <a:ext cx="45147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ℏ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2,2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Text Box 15"/>
            <p:cNvSpPr/>
            <p:nvPr/>
          </p:nvSpPr>
          <p:spPr>
            <a:xfrm>
              <a:off x="1352160" y="4613400"/>
              <a:ext cx="26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vantovanje brz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6"/>
            <p:cNvSpPr/>
            <p:nvPr/>
          </p:nvSpPr>
          <p:spPr>
            <a:xfrm>
              <a:off x="1271520" y="4267080"/>
              <a:ext cx="7467480" cy="1143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21"/>
          <p:cNvGrpSpPr/>
          <p:nvPr/>
        </p:nvGrpSpPr>
        <p:grpSpPr>
          <a:xfrm>
            <a:off x="1040760" y="5562720"/>
            <a:ext cx="8003160" cy="1143000"/>
            <a:chOff x="1040760" y="5562720"/>
            <a:chExt cx="8003160" cy="1143000"/>
          </a:xfrm>
        </p:grpSpPr>
        <mc:AlternateContent>
          <mc:Choice xmlns:a14="http://schemas.microsoft.com/office/drawing/2010/main" Requires="a14">
            <p:sp>
              <p:nvSpPr>
                <p:cNvPr id="503" name="Object 17"/>
                <p:cNvSpPr txBox="1"/>
                <p:nvPr/>
              </p:nvSpPr>
              <p:spPr>
                <a:xfrm>
                  <a:off x="3862440" y="5638680"/>
                  <a:ext cx="50212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p>
                      </m:sSup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Text Box 18"/>
            <p:cNvSpPr/>
            <p:nvPr/>
          </p:nvSpPr>
          <p:spPr>
            <a:xfrm>
              <a:off x="1040760" y="5867280"/>
              <a:ext cx="28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vantovanje putan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9"/>
            <p:cNvSpPr/>
            <p:nvPr/>
          </p:nvSpPr>
          <p:spPr>
            <a:xfrm>
              <a:off x="1042920" y="5562720"/>
              <a:ext cx="8001000" cy="1143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sledice Borovih postul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12"/>
              <p:cNvSpPr txBox="1"/>
              <p:nvPr/>
            </p:nvSpPr>
            <p:spPr>
              <a:xfrm>
                <a:off x="1743120" y="2438280"/>
                <a:ext cx="5070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13"/>
              <p:cNvSpPr txBox="1"/>
              <p:nvPr/>
            </p:nvSpPr>
            <p:spPr>
              <a:xfrm>
                <a:off x="1743120" y="3276720"/>
                <a:ext cx="5548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9" name="Group 15"/>
          <p:cNvGrpSpPr/>
          <p:nvPr/>
        </p:nvGrpSpPr>
        <p:grpSpPr>
          <a:xfrm>
            <a:off x="1042920" y="4876920"/>
            <a:ext cx="8001000" cy="1447560"/>
            <a:chOff x="1042920" y="4876920"/>
            <a:chExt cx="8001000" cy="1447560"/>
          </a:xfrm>
        </p:grpSpPr>
        <p:sp>
          <p:nvSpPr>
            <p:cNvPr id="510" name="Text Box 10"/>
            <p:cNvSpPr/>
            <p:nvPr/>
          </p:nvSpPr>
          <p:spPr>
            <a:xfrm>
              <a:off x="3341880" y="4952880"/>
              <a:ext cx="288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vantovanje energ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1042920" y="4876920"/>
              <a:ext cx="8001000" cy="14475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14"/>
                <p:cNvSpPr txBox="1"/>
                <p:nvPr/>
              </p:nvSpPr>
              <p:spPr>
                <a:xfrm>
                  <a:off x="1498680" y="5410080"/>
                  <a:ext cx="716436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sup>
                      </m:sSup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,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e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vantovanje u atomu vodon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990720" y="2438280"/>
                <a:ext cx="70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5" name="Object 4"/>
          <p:cNvGraphicFramePr/>
          <p:nvPr/>
        </p:nvGraphicFramePr>
        <p:xfrm>
          <a:off x="3990960" y="4087800"/>
          <a:ext cx="123048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0960" y="4087800"/>
                    <a:ext cx="12304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ktromagnetske intera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ktromagnetska interakcija je složenija za opisivanje od gravitacio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ri vida elektromagnetskih interakc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lektrostatičke, deluju među naelektrisanjima koja međusobno miruj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Magnetske, deluju među naelektrisanjima koja se međusobno ravnomerno kreć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lektromagnetske, deluju među naelektrisanjima koja se međusobno kreću promenljivim brzin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aulijev princ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140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va elektrona u atomu ne mogu imati iste pu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 orbiti n može biti najviše 2n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elektro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ektroni teže minimalnoj potencijalnoj energiji – osnovno stanje ato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4"/>
              <p:cNvSpPr txBox="1"/>
              <p:nvPr/>
            </p:nvSpPr>
            <p:spPr>
              <a:xfrm>
                <a:off x="1376280" y="4724280"/>
                <a:ext cx="909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5"/>
              <p:cNvSpPr txBox="1"/>
              <p:nvPr/>
            </p:nvSpPr>
            <p:spPr>
              <a:xfrm>
                <a:off x="7238880" y="4724280"/>
                <a:ext cx="10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6"/>
              <p:cNvSpPr txBox="1"/>
              <p:nvPr/>
            </p:nvSpPr>
            <p:spPr>
              <a:xfrm>
                <a:off x="1295280" y="5384880"/>
                <a:ext cx="1160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7"/>
              <p:cNvSpPr txBox="1"/>
              <p:nvPr/>
            </p:nvSpPr>
            <p:spPr>
              <a:xfrm>
                <a:off x="3057480" y="541008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5"/>
              <p:cNvSpPr txBox="1"/>
              <p:nvPr/>
            </p:nvSpPr>
            <p:spPr>
              <a:xfrm>
                <a:off x="4708440" y="5384880"/>
                <a:ext cx="1158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6"/>
              <p:cNvSpPr txBox="1"/>
              <p:nvPr/>
            </p:nvSpPr>
            <p:spPr>
              <a:xfrm>
                <a:off x="1295280" y="6006960"/>
                <a:ext cx="1538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7"/>
              <p:cNvSpPr txBox="1"/>
              <p:nvPr/>
            </p:nvSpPr>
            <p:spPr>
              <a:xfrm>
                <a:off x="2971800" y="6019920"/>
                <a:ext cx="1663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8"/>
              <p:cNvSpPr txBox="1"/>
              <p:nvPr/>
            </p:nvSpPr>
            <p:spPr>
              <a:xfrm>
                <a:off x="4724280" y="5994360"/>
                <a:ext cx="1513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9"/>
              <p:cNvSpPr txBox="1"/>
              <p:nvPr/>
            </p:nvSpPr>
            <p:spPr>
              <a:xfrm>
                <a:off x="7248600" y="5321160"/>
                <a:ext cx="1361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1"/>
              <p:cNvSpPr txBox="1"/>
              <p:nvPr/>
            </p:nvSpPr>
            <p:spPr>
              <a:xfrm>
                <a:off x="6629400" y="5562720"/>
                <a:ext cx="277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22"/>
              <p:cNvSpPr txBox="1"/>
              <p:nvPr/>
            </p:nvSpPr>
            <p:spPr>
              <a:xfrm>
                <a:off x="6629400" y="6248520"/>
                <a:ext cx="277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Group 24"/>
          <p:cNvGrpSpPr/>
          <p:nvPr/>
        </p:nvGrpSpPr>
        <p:grpSpPr>
          <a:xfrm>
            <a:off x="1219320" y="4648320"/>
            <a:ext cx="7467480" cy="1981080"/>
            <a:chOff x="1219320" y="4648320"/>
            <a:chExt cx="7467480" cy="1981080"/>
          </a:xfrm>
        </p:grpSpPr>
        <p:sp>
          <p:nvSpPr>
            <p:cNvPr id="531" name="Line 8"/>
            <p:cNvSpPr/>
            <p:nvPr/>
          </p:nvSpPr>
          <p:spPr>
            <a:xfrm>
              <a:off x="1219320" y="4648320"/>
              <a:ext cx="7467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9"/>
            <p:cNvSpPr/>
            <p:nvPr/>
          </p:nvSpPr>
          <p:spPr>
            <a:xfrm>
              <a:off x="1219320" y="464832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0"/>
            <p:cNvSpPr/>
            <p:nvPr/>
          </p:nvSpPr>
          <p:spPr>
            <a:xfrm>
              <a:off x="2971800" y="464832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1"/>
            <p:cNvSpPr/>
            <p:nvPr/>
          </p:nvSpPr>
          <p:spPr>
            <a:xfrm>
              <a:off x="464832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2"/>
            <p:cNvSpPr/>
            <p:nvPr/>
          </p:nvSpPr>
          <p:spPr>
            <a:xfrm>
              <a:off x="868680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3"/>
            <p:cNvSpPr/>
            <p:nvPr/>
          </p:nvSpPr>
          <p:spPr>
            <a:xfrm>
              <a:off x="1219320" y="52578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4"/>
            <p:cNvSpPr/>
            <p:nvPr/>
          </p:nvSpPr>
          <p:spPr>
            <a:xfrm>
              <a:off x="7162920" y="4648320"/>
              <a:ext cx="0" cy="19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3"/>
            <p:cNvSpPr/>
            <p:nvPr/>
          </p:nvSpPr>
          <p:spPr>
            <a:xfrm>
              <a:off x="1219320" y="586728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Borov model i sli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čnost elemena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Atom je po dimenzijama izrazito nesklad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čnik jezgra oko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-15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čnik prve orbite oko 100-10000 puta već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čnik druge orbite 4 puta veći od prve orb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ečnik treće orbite 9 puta veći od prve orb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poljašnja okolina interaguje samo sa spoljašnjom - tzv. </a:t>
            </a:r>
            <a:r>
              <a:rPr b="1" i="1" lang="hr-HR" sz="2800" spc="-1" strike="noStrike">
                <a:solidFill>
                  <a:srgbClr val="000000"/>
                </a:solidFill>
                <a:latin typeface="Gill Sans MT"/>
              </a:rPr>
              <a:t>valentnom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orbit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lične valentne orbite – slično ponašanje ato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lektrostatička si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la koja vlada 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đu naelektrisanim telima koja miruj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že se primenjivati u slučajevima kada se naelektrisana tela kreću malim brzinama (mnogo manjim od brzine svetlost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ivlačna među telima naelektrisanim različitim vrstama naelektrisanja, odbojna među telima naelektrisanim istim vrstama nelektris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truktura elektrostatičkog polja slična strukturi gravitacionog pol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ektrostatičk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terijalne tačk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avac duži koja spaja materijalne tačk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5475240" y="4473720"/>
                <a:ext cx="23511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10080" y="5340240"/>
                <a:ext cx="29577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Rectangle 15"/>
          <p:cNvSpPr/>
          <p:nvPr/>
        </p:nvSpPr>
        <p:spPr>
          <a:xfrm>
            <a:off x="4991040" y="3200400"/>
            <a:ext cx="4152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vrsta naelektris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: Kulonov za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2"/>
              <p:cNvSpPr txBox="1"/>
              <p:nvPr/>
            </p:nvSpPr>
            <p:spPr>
              <a:xfrm>
                <a:off x="3252960" y="6200640"/>
                <a:ext cx="566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azduh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rafin</m:t>
                        </m:r>
                      </m:e>
                    </m:d>
                    <m:r>
                      <m:t xml:space="preserve">≈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etal</m:t>
                        </m:r>
                      </m:e>
                    </m:d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Oval 23"/>
          <p:cNvSpPr/>
          <p:nvPr/>
        </p:nvSpPr>
        <p:spPr>
          <a:xfrm>
            <a:off x="1600200" y="440064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5"/>
              <p:cNvSpPr txBox="1"/>
              <p:nvPr/>
            </p:nvSpPr>
            <p:spPr>
              <a:xfrm>
                <a:off x="1500120" y="4448160"/>
                <a:ext cx="303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6"/>
              <p:cNvSpPr txBox="1"/>
              <p:nvPr/>
            </p:nvSpPr>
            <p:spPr>
              <a:xfrm>
                <a:off x="3430440" y="4400640"/>
                <a:ext cx="3542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44" name="AutoShape 27"/>
          <p:cNvCxnSpPr/>
          <p:nvPr/>
        </p:nvCxnSpPr>
        <p:spPr>
          <a:xfrm>
            <a:off x="1676520" y="44478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45" name="Line 28"/>
          <p:cNvSpPr/>
          <p:nvPr/>
        </p:nvSpPr>
        <p:spPr>
          <a:xfrm>
            <a:off x="1676520" y="44481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2895480" y="44481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30"/>
              <p:cNvSpPr txBox="1"/>
              <p:nvPr/>
            </p:nvSpPr>
            <p:spPr>
              <a:xfrm>
                <a:off x="1754280" y="39178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1"/>
              <p:cNvSpPr txBox="1"/>
              <p:nvPr/>
            </p:nvSpPr>
            <p:spPr>
              <a:xfrm>
                <a:off x="3048120" y="389268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9" name="Group 32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350" name="Object 33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Line 34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35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Text Box 37"/>
          <p:cNvSpPr/>
          <p:nvPr/>
        </p:nvSpPr>
        <p:spPr>
          <a:xfrm>
            <a:off x="759240" y="61722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električna kon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ektrostatičk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ektrični dipo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42640" y="2362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del za tela koja sadrže naelektrisanja, ali su ukupno elektroneutral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Oval 25"/>
          <p:cNvSpPr/>
          <p:nvPr/>
        </p:nvSpPr>
        <p:spPr>
          <a:xfrm>
            <a:off x="1066680" y="5638680"/>
            <a:ext cx="21337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26"/>
          <p:cNvSpPr/>
          <p:nvPr/>
        </p:nvSpPr>
        <p:spPr>
          <a:xfrm>
            <a:off x="1711440" y="594360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7"/>
              <p:cNvSpPr txBox="1"/>
              <p:nvPr/>
            </p:nvSpPr>
            <p:spPr>
              <a:xfrm>
                <a:off x="1523880" y="6048360"/>
                <a:ext cx="4795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Oval 28"/>
          <p:cNvSpPr/>
          <p:nvPr/>
        </p:nvSpPr>
        <p:spPr>
          <a:xfrm>
            <a:off x="2397240" y="594036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9"/>
              <p:cNvSpPr txBox="1"/>
              <p:nvPr/>
            </p:nvSpPr>
            <p:spPr>
              <a:xfrm>
                <a:off x="2184480" y="6049800"/>
                <a:ext cx="482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Text Box 30"/>
          <p:cNvSpPr/>
          <p:nvPr/>
        </p:nvSpPr>
        <p:spPr>
          <a:xfrm>
            <a:off x="3364560" y="5943600"/>
            <a:ext cx="3134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olni moment: p =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31"/>
          <p:cNvSpPr/>
          <p:nvPr/>
        </p:nvSpPr>
        <p:spPr>
          <a:xfrm>
            <a:off x="1498680" y="449568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AutoShape 32"/>
          <p:cNvCxnSpPr>
            <a:stCxn id="358" idx="0"/>
            <a:endCxn id="363" idx="4"/>
          </p:cNvCxnSpPr>
          <p:nvPr/>
        </p:nvCxnSpPr>
        <p:spPr>
          <a:xfrm flipH="1" flipV="1">
            <a:off x="1536120" y="4571640"/>
            <a:ext cx="2134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AutoShape 33"/>
          <p:cNvCxnSpPr>
            <a:stCxn id="360" idx="0"/>
            <a:endCxn id="363" idx="5"/>
          </p:cNvCxnSpPr>
          <p:nvPr/>
        </p:nvCxnSpPr>
        <p:spPr>
          <a:xfrm flipH="1" flipV="1">
            <a:off x="1563120" y="4560480"/>
            <a:ext cx="8722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366" name="Object 34"/>
              <p:cNvSpPr txBox="1"/>
              <p:nvPr/>
            </p:nvSpPr>
            <p:spPr>
              <a:xfrm>
                <a:off x="736560" y="4470480"/>
                <a:ext cx="787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5"/>
              <p:cNvSpPr txBox="1"/>
              <p:nvPr/>
            </p:nvSpPr>
            <p:spPr>
              <a:xfrm>
                <a:off x="2209680" y="5181480"/>
                <a:ext cx="30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6"/>
              <p:cNvSpPr txBox="1"/>
              <p:nvPr/>
            </p:nvSpPr>
            <p:spPr>
              <a:xfrm>
                <a:off x="1447920" y="51814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Line 37"/>
          <p:cNvSpPr/>
          <p:nvPr/>
        </p:nvSpPr>
        <p:spPr>
          <a:xfrm flipH="1" flipV="1">
            <a:off x="1294920" y="3428640"/>
            <a:ext cx="2286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9"/>
          <p:cNvSpPr/>
          <p:nvPr/>
        </p:nvSpPr>
        <p:spPr>
          <a:xfrm>
            <a:off x="1571760" y="4560840"/>
            <a:ext cx="384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1295280" y="3429000"/>
            <a:ext cx="384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AutoShape 43"/>
          <p:cNvCxnSpPr>
            <a:stCxn id="363" idx="7"/>
            <a:endCxn id="371" idx="0"/>
          </p:cNvCxnSpPr>
          <p:nvPr/>
        </p:nvCxnSpPr>
        <p:spPr>
          <a:xfrm flipV="1">
            <a:off x="1563480" y="4037760"/>
            <a:ext cx="116280" cy="4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44"/>
          <p:cNvCxnSpPr>
            <a:stCxn id="371" idx="1"/>
            <a:endCxn id="370" idx="0"/>
          </p:cNvCxnSpPr>
          <p:nvPr/>
        </p:nvCxnSpPr>
        <p:spPr>
          <a:xfrm>
            <a:off x="1679400" y="4038480"/>
            <a:ext cx="277200" cy="1146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mc:AlternateContent>
        <mc:Choice xmlns:a14="http://schemas.microsoft.com/office/drawing/2010/main" Requires="a14">
          <p:sp>
            <p:nvSpPr>
              <p:cNvPr id="374" name="Object 45"/>
              <p:cNvSpPr txBox="1"/>
              <p:nvPr/>
            </p:nvSpPr>
            <p:spPr>
              <a:xfrm>
                <a:off x="1676520" y="4394160"/>
                <a:ext cx="380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46"/>
              <p:cNvSpPr txBox="1"/>
              <p:nvPr/>
            </p:nvSpPr>
            <p:spPr>
              <a:xfrm>
                <a:off x="1066680" y="3809880"/>
                <a:ext cx="381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7"/>
              <p:cNvSpPr txBox="1"/>
              <p:nvPr/>
            </p:nvSpPr>
            <p:spPr>
              <a:xfrm>
                <a:off x="1701720" y="3720960"/>
                <a:ext cx="50796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7" name="Rectangle 48"/>
          <p:cNvSpPr/>
          <p:nvPr/>
        </p:nvSpPr>
        <p:spPr>
          <a:xfrm>
            <a:off x="3962520" y="3124080"/>
            <a:ext cx="4952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a zavisi 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ožaja prob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č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nog naelektris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ojanja od dip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ličine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lektrisanja dip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maka nae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trisan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dipo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Object 49"/>
          <p:cNvGraphicFramePr/>
          <p:nvPr/>
        </p:nvGraphicFramePr>
        <p:xfrm>
          <a:off x="6691320" y="5803920"/>
          <a:ext cx="192096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5803920"/>
                    <a:ext cx="1920960" cy="7588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ktr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1143000" y="2819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električnog pol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143000" y="2286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elektrisa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6"/>
              <p:cNvSpPr txBox="1"/>
              <p:nvPr/>
            </p:nvSpPr>
            <p:spPr>
              <a:xfrm>
                <a:off x="1765440" y="3355920"/>
                <a:ext cx="1517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4" name="Object 7"/>
          <p:cNvGraphicFramePr/>
          <p:nvPr/>
        </p:nvGraphicFramePr>
        <p:xfrm>
          <a:off x="3416400" y="3505320"/>
          <a:ext cx="197316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3505320"/>
                    <a:ext cx="19731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Text Box 8"/>
          <p:cNvSpPr/>
          <p:nvPr/>
        </p:nvSpPr>
        <p:spPr>
          <a:xfrm>
            <a:off x="1143000" y="4572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 polja tačkastog naelektrisa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219320" y="51055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avac: radija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mer: zavisi od naelekt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0"/>
              <p:cNvSpPr txBox="1"/>
              <p:nvPr/>
            </p:nvSpPr>
            <p:spPr>
              <a:xfrm>
                <a:off x="4900680" y="4952880"/>
                <a:ext cx="374004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bno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lektrično polje tačkastog naelektrisanja – Linije s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90" name="Group 9"/>
          <p:cNvGrpSpPr/>
          <p:nvPr/>
        </p:nvGrpSpPr>
        <p:grpSpPr>
          <a:xfrm>
            <a:off x="990720" y="2384280"/>
            <a:ext cx="7086600" cy="3635640"/>
            <a:chOff x="990720" y="2384280"/>
            <a:chExt cx="7086600" cy="3635640"/>
          </a:xfrm>
        </p:grpSpPr>
        <p:pic>
          <p:nvPicPr>
            <p:cNvPr id="391" name="Picture 5" descr="D:\My Documents\NASTAVA\Fizika\Predavanja\TackNael.jpg"/>
            <p:cNvPicPr/>
            <p:nvPr/>
          </p:nvPicPr>
          <p:blipFill>
            <a:blip r:embed="rId1"/>
            <a:stretch/>
          </p:blipFill>
          <p:spPr>
            <a:xfrm>
              <a:off x="990720" y="2384280"/>
              <a:ext cx="7086600" cy="36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6"/>
            <p:cNvSpPr/>
            <p:nvPr/>
          </p:nvSpPr>
          <p:spPr>
            <a:xfrm>
              <a:off x="3125880" y="396252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+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7"/>
            <p:cNvSpPr/>
            <p:nvPr/>
          </p:nvSpPr>
          <p:spPr>
            <a:xfrm>
              <a:off x="6936120" y="39625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-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Text Box 8"/>
          <p:cNvSpPr/>
          <p:nvPr/>
        </p:nvSpPr>
        <p:spPr>
          <a:xfrm>
            <a:off x="914400" y="5943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ektrično polje tačkastog naelektrisanja ima istu strukturu kao gravitaciono polje materijalne tač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ktr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 polje dipo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3214800" y="3027240"/>
          <a:ext cx="232416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3027240"/>
                    <a:ext cx="23241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Text Box 5"/>
          <p:cNvSpPr/>
          <p:nvPr/>
        </p:nvSpPr>
        <p:spPr>
          <a:xfrm>
            <a:off x="1295280" y="458784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 dalj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olje dipola "liči" na oslabljeno polje tačkastog naelektris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4:36:08Z</dcterms:created>
  <dc:creator>Zlatan Soskic</dc:creator>
  <dc:description/>
  <dc:language>en-US</dc:language>
  <cp:lastModifiedBy>Zlatan Soskic</cp:lastModifiedBy>
  <dcterms:modified xsi:type="dcterms:W3CDTF">2014-12-11T12:48:25Z</dcterms:modified>
  <cp:revision>317</cp:revision>
  <dc:subject/>
  <dc:title>Interakcije i struktura materije</dc:title>
</cp:coreProperties>
</file>