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wmf" ContentType="image/x-wmf"/>
  <Override PartName="/ppt/media/image9.png" ContentType="image/png"/>
  <Override PartName="/ppt/media/image8.wmf" ContentType="image/x-wmf"/>
  <Override PartName="/ppt/media/image11.png" ContentType="image/png"/>
  <Override PartName="/ppt/media/image7.jpeg" ContentType="image/jpeg"/>
  <Override PartName="/ppt/media/image15.gif" ContentType="image/gif"/>
  <Override PartName="/ppt/media/image20.gif" ContentType="image/gif"/>
  <Override PartName="/ppt/media/image19.wmf" ContentType="image/x-wmf"/>
  <Override PartName="/ppt/media/image16.gif" ContentType="image/gif"/>
  <Override PartName="/ppt/media/image2.png" ContentType="image/png"/>
  <Override PartName="/ppt/media/image18.wmf" ContentType="image/x-wmf"/>
  <Override PartName="/ppt/media/image17.gif" ContentType="image/gif"/>
  <Override PartName="/ppt/media/image3.png" ContentType="image/png"/>
  <Override PartName="/ppt/media/image14.png" ContentType="image/png"/>
  <Override PartName="/ppt/media/image1.jpeg" ContentType="image/jpeg"/>
  <Override PartName="/ppt/media/image4.png" ContentType="image/png"/>
  <Override PartName="/ppt/media/image10.png" ContentType="image/png"/>
  <Override PartName="/ppt/media/image5.wmf" ContentType="image/x-wmf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47A5-6D1F-4A1C-956F-C694EDFE4C2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DA18-DAD9-4C21-BDEF-0A72DD21C0A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475C-497D-4737-8928-F564644D422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1F18-3FD4-42E7-84E6-D487CF1A0E0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2A4B-44AA-4629-A1F3-A51B9237E9B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6831-4E45-4AAD-9975-2CF96F5B7D1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295E-8079-48B5-8A7F-FB9BA27516A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4562-D37B-408E-9EA8-2307455BC46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3E3F-BF5B-4787-9A81-A74F0EC0D7F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60C7-D81D-40FC-8294-48D55D403EE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9328-25B0-421E-980A-A133687C50F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4339-2ED6-4A9A-9617-5C8411D09A2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E575-EB55-4843-94F3-811DB805D69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8A23-7866-4665-9C77-6BEC6517638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CFEE-AD02-4D5A-8E52-9E47112331C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4F9B-9B39-4BFB-B96D-58A955217CDE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4D83-4550-4B43-A7E7-39AFE1C5A70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3612-9A41-450A-A3E6-3FEBF96F990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65F2-9C34-4C5C-A625-D862EA3213E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CC77-95AF-46C0-B837-8F1875CCF1B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D09D-AF77-47A8-A8CB-42362434BC1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C6B4-867E-4EA8-8F29-F38A95CE7DE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81CE-99F5-4E7C-A76D-2518492DC9D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A3B4-5DE1-4808-979F-0E9EF1C2151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115A-EEA0-48F9-8951-95FC459ED5FE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2B5F-9469-437B-B629-65EA8BB0AAB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DD3D-ED4C-486A-A5B9-A87D58383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9278-6005-4DDA-9503-6A0205A8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41B5-5705-4DD7-AA14-5AD9E44B0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DD9F-40F3-4BAF-9716-D60CB04B2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8AC5-39DB-44D1-B127-27F9A5A16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C8F4-0377-4C7C-810A-E3D4339F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9573-4F61-4DC1-AC9D-5F6BBCBB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FFBF-17DD-4DF9-B897-D46581E9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B60C-CD1B-45AE-B705-1CCD8808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6900-DF06-4711-83A7-831F29EE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DF71-0338-424B-9230-495FDDC3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7165-3032-4B55-A456-54A4F846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778F-72F7-4D60-9AB7-67D6848B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CD2C-29BE-4549-9E08-8E699AB4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72DD-5898-4F9E-AA10-81D95BD9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5B31-6DC4-4C00-9C23-00C33D64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BCD7-34FB-43F3-BB28-A46682266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E6A18-D53E-4B63-B7E4-F480C8C9C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0DFF6-64DB-42FC-A227-A5DD04C6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0E6C2-8A4E-4187-8CF3-B63FC9C1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1FEB6-E5B3-4D20-B093-A2C8C2EF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69475-2EA2-496D-8F56-B0C73F66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CEF4-C1FB-4569-A346-0714C194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A7F5B-1A69-485F-875F-5F0367CB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634D7-179A-40F7-80FF-57413454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04A72-B4CE-4848-9308-EF1C815F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6E86A-ABF4-4730-9F5A-89987FF1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15E7A-6DB5-458E-8B9A-A9EF3860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93DDE-E15C-48C3-A3B6-A923E0A97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7C852-39B8-4613-8DEA-7F34FA39B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B2C4D-4ECD-440F-86ED-A8F86F526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68053-A068-4C35-9932-BFA70947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6D140-CB80-488F-8407-3DB5C242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C595-26EF-4446-AA10-5380C752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64D97-F6EE-4D56-922F-1DE23AB9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633A9-0979-46E2-92A7-1473E4F1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F5937-6FF0-41D2-BDF8-8D17CDCF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D4680-58A1-487A-8492-35D0CF18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80DCC-2358-4391-835E-F8138C2E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5EE15-569C-48AC-B5BC-090AE018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66857-9509-4252-98C1-DF25FA09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8E0C9-9F1E-4FEA-AD0F-9EBEC5524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29D34-51D2-42C8-9814-C7D07F5B4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3E3C7-BD9D-4CDC-8D40-1E3B776D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77EE-1B7D-4426-85EF-CF2C7821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D4878-8D89-4919-BD09-FD8832FE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5D536-1B7E-4A29-822D-9BD57AB0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F093C-716E-48B5-B068-4E48BC24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BAAC9-DC79-4154-ADBE-BD5968A7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DA84B-6405-4104-9733-1F3B37ED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4E8CE-4FEA-44D6-BFE6-9FB686DE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D28CE-C41F-44BD-A7BF-2B6A8380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8A52F-4E90-468B-BAE3-25D1DC33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820F5-38AB-48B1-AA98-C5E41D49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79211-6300-430C-8433-C7BA8537E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2FC7-BB33-47D5-A768-1837EEB7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5686F-6ACB-41D1-9CB2-2D292D943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610F5-9B35-428F-AAA1-B7F944C71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09125-CDF3-47B6-8945-CE63F8B0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9B15C-F4BC-4E02-AD40-CE55C252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C6AD3-DECA-4410-8CB5-B88DD217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D9E81-CF73-480D-9CB3-2B54C27A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930C7-D26D-4043-A9FF-00B541D9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C045E-413B-43A2-BBFD-5AB03F00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019EF-14ED-4C08-B0F0-0A068C55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5C6AF-D927-4D3A-A914-34915A58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0B42-3BC2-4EF2-9A73-D7B2A425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68D7F-CF94-4290-9CD8-E73EB6D7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1E892-24AA-4C7E-83F9-2DB549AD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94162-BFAC-447B-8AD1-185ECFB76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302CA-DEF2-4F86-A350-6C6F961C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6BCD8-DCFE-4D24-86D2-833A49DA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11507-7905-4D2E-8E87-CA2AA3B6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5A532-BED4-4463-B301-D7D54433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85A8C-1992-4326-8E4E-714B33D1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FDFE7-7E39-4279-90FF-516D34B4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9F2B0-9060-4EEA-9D7C-296B144B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B949-ED57-445E-A192-BF6289A1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D5457-CEAD-4884-9497-28F6B3AE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84FCE-567A-4D62-B565-22CD0153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FA7A2-98CA-42BF-8132-785EDD85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34747-C971-477B-9B37-52B1C7BC1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BC4E5-5EA4-4B2F-960E-96538E98C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5947-A31C-4B95-B276-62030090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6C7D-A3B2-48E9-9000-C9BAE13DAEE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1B07-EBD6-408E-A019-41746A71E0A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1413-2E28-4FC7-A82B-A17E01A47F0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3271-CD89-42A0-950F-22F37DC9209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D244-303B-43E5-8A89-673B1C898B5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3E54-C373-4EF0-BE87-03768D70288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DDAF-50E6-4AC8-B48F-EF53B1E6B21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../Applets/ph14yu/keplerlaw1_yu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../Applets/ph14yu/keplerlaw2_yu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terakcije i struktura materi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0" y="2927520"/>
            <a:ext cx="3936960" cy="1822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20e04"/>
                </a:solidFill>
                <a:latin typeface="Gill Sans MT"/>
              </a:rPr>
              <a:t>Gravitaciona interakcija</a:t>
            </a:r>
            <a:br>
              <a:rPr sz="2600"/>
            </a:br>
            <a:r>
              <a:rPr b="0" lang="hr-HR" sz="2600" spc="-1" strike="noStrike">
                <a:solidFill>
                  <a:srgbClr val="320e04"/>
                </a:solidFill>
                <a:latin typeface="Gill Sans MT"/>
              </a:rPr>
              <a:t>Struktura kosmos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Gravitaciona energij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Tela na površini Zemlj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Object 7"/>
              <p:cNvSpPr txBox="1"/>
              <p:nvPr/>
            </p:nvSpPr>
            <p:spPr>
              <a:xfrm>
                <a:off x="914400" y="2362320"/>
                <a:ext cx="434664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ΔΠ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G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G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8"/>
              <p:cNvSpPr txBox="1"/>
              <p:nvPr/>
            </p:nvSpPr>
            <p:spPr>
              <a:xfrm>
                <a:off x="914400" y="3352680"/>
                <a:ext cx="639432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ΔΠ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G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h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9"/>
              <p:cNvSpPr txBox="1"/>
              <p:nvPr/>
            </p:nvSpPr>
            <p:spPr>
              <a:xfrm>
                <a:off x="914400" y="4448160"/>
                <a:ext cx="26049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G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10"/>
              <p:cNvSpPr txBox="1"/>
              <p:nvPr/>
            </p:nvSpPr>
            <p:spPr>
              <a:xfrm>
                <a:off x="990720" y="5388120"/>
                <a:ext cx="51051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h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73</m:t>
                    </m:r>
                    <m:r>
                      <m:t xml:space="preserve">&lt;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h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27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9" name="Group 15"/>
          <p:cNvGrpSpPr/>
          <p:nvPr/>
        </p:nvGrpSpPr>
        <p:grpSpPr>
          <a:xfrm>
            <a:off x="6019920" y="4191120"/>
            <a:ext cx="1752480" cy="1600200"/>
            <a:chOff x="6019920" y="4191120"/>
            <a:chExt cx="1752480" cy="1600200"/>
          </a:xfrm>
        </p:grpSpPr>
        <p:sp>
          <p:nvSpPr>
            <p:cNvPr id="460" name="Line 11"/>
            <p:cNvSpPr/>
            <p:nvPr/>
          </p:nvSpPr>
          <p:spPr>
            <a:xfrm>
              <a:off x="6019920" y="487692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12"/>
            <p:cNvSpPr/>
            <p:nvPr/>
          </p:nvSpPr>
          <p:spPr>
            <a:xfrm>
              <a:off x="6172200" y="57913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13"/>
            <p:cNvSpPr/>
            <p:nvPr/>
          </p:nvSpPr>
          <p:spPr>
            <a:xfrm>
              <a:off x="7772400" y="4191120"/>
              <a:ext cx="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3" name="Object 14"/>
              <p:cNvSpPr txBox="1"/>
              <p:nvPr/>
            </p:nvSpPr>
            <p:spPr>
              <a:xfrm>
                <a:off x="6705720" y="5562720"/>
                <a:ext cx="17938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ΔΠ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g</m:t>
                    </m:r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Gravitaciono polje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Jačina polj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1143000" y="2819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Jačina gravitacionog pol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11430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zvo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sa t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Object 5"/>
              <p:cNvSpPr txBox="1"/>
              <p:nvPr/>
            </p:nvSpPr>
            <p:spPr>
              <a:xfrm>
                <a:off x="1752480" y="3355920"/>
                <a:ext cx="154332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6"/>
              <p:cNvSpPr txBox="1"/>
              <p:nvPr/>
            </p:nvSpPr>
            <p:spPr>
              <a:xfrm>
                <a:off x="3441600" y="3454560"/>
                <a:ext cx="19224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/>
                    </m:d>
                    <m:r>
                      <m:t xml:space="preserve"> 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9" name="Text Box 7"/>
          <p:cNvSpPr/>
          <p:nvPr/>
        </p:nvSpPr>
        <p:spPr>
          <a:xfrm>
            <a:off x="1143000" y="45720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Jačina gravitacionog polja kug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8"/>
          <p:cNvSpPr/>
          <p:nvPr/>
        </p:nvSpPr>
        <p:spPr>
          <a:xfrm>
            <a:off x="1219320" y="5105520"/>
            <a:ext cx="392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ravac: radijal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Smer: ka centru kug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Intenzit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Object 9"/>
              <p:cNvSpPr txBox="1"/>
              <p:nvPr/>
            </p:nvSpPr>
            <p:spPr>
              <a:xfrm>
                <a:off x="4724280" y="4952880"/>
                <a:ext cx="4094280" cy="12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robno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472" name="Object 1"/>
          <p:cNvGraphicFramePr/>
          <p:nvPr/>
        </p:nvGraphicFramePr>
        <p:xfrm>
          <a:off x="6091200" y="3549600"/>
          <a:ext cx="809640" cy="4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1200" y="3549600"/>
                    <a:ext cx="809640" cy="45576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Gravitaciono polje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Linije sila - kugl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75" name="Picture 11" descr="D:\My Documents\NASTAVA\Fizika\Predavanja\KuglaSile.gif"/>
          <p:cNvPicPr/>
          <p:nvPr/>
        </p:nvPicPr>
        <p:blipFill>
          <a:blip r:embed="rId1"/>
          <a:stretch/>
        </p:blipFill>
        <p:spPr>
          <a:xfrm>
            <a:off x="838080" y="2819520"/>
            <a:ext cx="2907000" cy="2376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2" descr="D:\My Documents\NASTAVA\Fizika\Predavanja\KuglaLinSile.gif"/>
          <p:cNvPicPr/>
          <p:nvPr/>
        </p:nvPicPr>
        <p:blipFill>
          <a:blip r:embed="rId2"/>
          <a:srcRect l="0" t="0" r="23337" b="0"/>
          <a:stretch/>
        </p:blipFill>
        <p:spPr>
          <a:xfrm>
            <a:off x="5073480" y="2666880"/>
            <a:ext cx="3537000" cy="2865600"/>
          </a:xfrm>
          <a:prstGeom prst="rect">
            <a:avLst/>
          </a:prstGeom>
          <a:ln w="0">
            <a:noFill/>
          </a:ln>
        </p:spPr>
      </p:pic>
      <p:sp>
        <p:nvSpPr>
          <p:cNvPr id="477" name="Line 13"/>
          <p:cNvSpPr/>
          <p:nvPr/>
        </p:nvSpPr>
        <p:spPr>
          <a:xfrm>
            <a:off x="4191120" y="41911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Gravitaciono polje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Linije sila – dve kugl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79" name="Picture 3" descr="D:\My Documents\NASTAVA\Fizika\Predavanja\DveKugleSile.gif"/>
          <p:cNvPicPr/>
          <p:nvPr/>
        </p:nvPicPr>
        <p:blipFill>
          <a:blip r:embed="rId1"/>
          <a:stretch/>
        </p:blipFill>
        <p:spPr>
          <a:xfrm>
            <a:off x="2174760" y="2666880"/>
            <a:ext cx="5978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Gravitaciono polje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Linije sila – dve kugl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81" name="Picture 5" descr="D:\My Documents\NASTAVA\Fizika\Predavanja\DveKugleLinSile.gif"/>
          <p:cNvPicPr/>
          <p:nvPr/>
        </p:nvPicPr>
        <p:blipFill>
          <a:blip r:embed="rId1"/>
          <a:stretch/>
        </p:blipFill>
        <p:spPr>
          <a:xfrm>
            <a:off x="1219320" y="2473200"/>
            <a:ext cx="630864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Gravitaciono polje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Potencij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2433600" y="24382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cijal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gravitacionog pol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Object 6"/>
              <p:cNvSpPr txBox="1"/>
              <p:nvPr/>
            </p:nvSpPr>
            <p:spPr>
              <a:xfrm>
                <a:off x="2841480" y="3075120"/>
                <a:ext cx="19479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ra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Object 7"/>
              <p:cNvSpPr txBox="1"/>
              <p:nvPr/>
            </p:nvSpPr>
            <p:spPr>
              <a:xfrm>
                <a:off x="5073480" y="3127320"/>
                <a:ext cx="123984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Π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6" name="Text Box 8"/>
          <p:cNvSpPr/>
          <p:nvPr/>
        </p:nvSpPr>
        <p:spPr>
          <a:xfrm>
            <a:off x="2433600" y="42670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cijal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ja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ug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Object 10"/>
              <p:cNvSpPr txBox="1"/>
              <p:nvPr/>
            </p:nvSpPr>
            <p:spPr>
              <a:xfrm>
                <a:off x="2208240" y="4648320"/>
                <a:ext cx="4878360" cy="12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ra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G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robn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G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488" name="Object 1"/>
          <p:cNvGraphicFramePr/>
          <p:nvPr/>
        </p:nvGraphicFramePr>
        <p:xfrm>
          <a:off x="7099200" y="3308400"/>
          <a:ext cx="1214640" cy="45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9200" y="3308400"/>
                    <a:ext cx="1214640" cy="45540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truktura kosmos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1" name="Rectangle 10"/>
          <p:cNvSpPr/>
          <p:nvPr/>
        </p:nvSpPr>
        <p:spPr>
          <a:xfrm>
            <a:off x="838080" y="2362320"/>
            <a:ext cx="80773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osmos je uglavnom uređen gravitacionim sil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ela stvaraju formiraju gravitaciona polja oko sebe i kreću se u nj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LJUČ RAZUMEVANJA PROCESA U KOSMOSU JE POZNAVANJE KRETANJA U GRAVITACIONOM POLJ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retanje u gravitacionom polju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838080" y="2361960"/>
            <a:ext cx="6553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Kretanje u gravitacionom polju zavisi od pravca, smera i intenziteta početne brzi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Kretanje može biti i vezano i slobodn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Putanje su konusni presec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Prav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Parabol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lips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Kru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Hiperbol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94" name="Picture 5" descr="D:\My Documents\NASTAVA\Fizika\Stof\konusni-preseci.gif"/>
          <p:cNvPicPr/>
          <p:nvPr/>
        </p:nvPicPr>
        <p:blipFill>
          <a:blip r:embed="rId1"/>
          <a:stretch/>
        </p:blipFill>
        <p:spPr>
          <a:xfrm>
            <a:off x="5029200" y="35812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retanje u gravitacionom polju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Text Box 8"/>
          <p:cNvSpPr/>
          <p:nvPr/>
        </p:nvSpPr>
        <p:spPr>
          <a:xfrm>
            <a:off x="2390040" y="3505320"/>
            <a:ext cx="10951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Vez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6144840" y="3505320"/>
            <a:ext cx="13327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lobod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934560" y="4343400"/>
            <a:ext cx="15202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ovršins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11"/>
          <p:cNvSpPr/>
          <p:nvPr/>
        </p:nvSpPr>
        <p:spPr>
          <a:xfrm>
            <a:off x="3489480" y="4343400"/>
            <a:ext cx="13694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atelits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12"/>
          <p:cNvSpPr/>
          <p:nvPr/>
        </p:nvSpPr>
        <p:spPr>
          <a:xfrm>
            <a:off x="2223360" y="2514600"/>
            <a:ext cx="4006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etanja u gravitacionom polj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Group 31"/>
          <p:cNvGrpSpPr/>
          <p:nvPr/>
        </p:nvGrpSpPr>
        <p:grpSpPr>
          <a:xfrm>
            <a:off x="762120" y="5105520"/>
            <a:ext cx="1980720" cy="914400"/>
            <a:chOff x="762120" y="5105520"/>
            <a:chExt cx="1980720" cy="914400"/>
          </a:xfrm>
        </p:grpSpPr>
        <p:sp>
          <p:nvSpPr>
            <p:cNvPr id="502" name="Text Box 13"/>
            <p:cNvSpPr/>
            <p:nvPr/>
          </p:nvSpPr>
          <p:spPr>
            <a:xfrm>
              <a:off x="1154520" y="5181480"/>
              <a:ext cx="1249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arabol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Prav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Oval 18"/>
            <p:cNvSpPr/>
            <p:nvPr/>
          </p:nvSpPr>
          <p:spPr>
            <a:xfrm>
              <a:off x="762120" y="5105520"/>
              <a:ext cx="198072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Group 32"/>
          <p:cNvGrpSpPr/>
          <p:nvPr/>
        </p:nvGrpSpPr>
        <p:grpSpPr>
          <a:xfrm>
            <a:off x="3352680" y="5105520"/>
            <a:ext cx="1752480" cy="914400"/>
            <a:chOff x="3352680" y="5105520"/>
            <a:chExt cx="1752480" cy="914400"/>
          </a:xfrm>
        </p:grpSpPr>
        <p:sp>
          <p:nvSpPr>
            <p:cNvPr id="505" name="Text Box 14"/>
            <p:cNvSpPr/>
            <p:nvPr/>
          </p:nvSpPr>
          <p:spPr>
            <a:xfrm>
              <a:off x="3526560" y="5105520"/>
              <a:ext cx="1299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lips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Kružn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Oval 19"/>
            <p:cNvSpPr/>
            <p:nvPr/>
          </p:nvSpPr>
          <p:spPr>
            <a:xfrm>
              <a:off x="3352680" y="5105520"/>
              <a:ext cx="175248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Group 33"/>
          <p:cNvGrpSpPr/>
          <p:nvPr/>
        </p:nvGrpSpPr>
        <p:grpSpPr>
          <a:xfrm>
            <a:off x="6019920" y="5105520"/>
            <a:ext cx="1752480" cy="914400"/>
            <a:chOff x="6019920" y="5105520"/>
            <a:chExt cx="1752480" cy="914400"/>
          </a:xfrm>
        </p:grpSpPr>
        <p:sp>
          <p:nvSpPr>
            <p:cNvPr id="508" name="Text Box 15"/>
            <p:cNvSpPr/>
            <p:nvPr/>
          </p:nvSpPr>
          <p:spPr>
            <a:xfrm>
              <a:off x="6199200" y="5181480"/>
              <a:ext cx="140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iperbol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Prav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Oval 20"/>
            <p:cNvSpPr/>
            <p:nvPr/>
          </p:nvSpPr>
          <p:spPr>
            <a:xfrm>
              <a:off x="6019920" y="5105520"/>
              <a:ext cx="175248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Line 21"/>
          <p:cNvSpPr/>
          <p:nvPr/>
        </p:nvSpPr>
        <p:spPr>
          <a:xfrm>
            <a:off x="2895480" y="4267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22"/>
          <p:cNvSpPr/>
          <p:nvPr/>
        </p:nvSpPr>
        <p:spPr>
          <a:xfrm>
            <a:off x="5410080" y="4267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23"/>
          <p:cNvSpPr/>
          <p:nvPr/>
        </p:nvSpPr>
        <p:spPr>
          <a:xfrm>
            <a:off x="1607760" y="6183360"/>
            <a:ext cx="229752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1. Kosmička brz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24"/>
          <p:cNvSpPr/>
          <p:nvPr/>
        </p:nvSpPr>
        <p:spPr>
          <a:xfrm>
            <a:off x="4282560" y="6183360"/>
            <a:ext cx="229752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2. Kosmička brz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Group 34"/>
          <p:cNvGrpSpPr/>
          <p:nvPr/>
        </p:nvGrpSpPr>
        <p:grpSpPr>
          <a:xfrm>
            <a:off x="2937600" y="3029040"/>
            <a:ext cx="3873600" cy="457560"/>
            <a:chOff x="2937600" y="3029040"/>
            <a:chExt cx="3873600" cy="457560"/>
          </a:xfrm>
        </p:grpSpPr>
        <p:cxnSp>
          <p:nvCxnSpPr>
            <p:cNvPr id="515" name="AutoShape 26"/>
            <p:cNvCxnSpPr>
              <a:stCxn id="500" idx="2"/>
              <a:endCxn id="496" idx="0"/>
            </p:cNvCxnSpPr>
            <p:nvPr/>
          </p:nvCxnSpPr>
          <p:spPr>
            <a:xfrm rot="5400000">
              <a:off x="3353400" y="2612880"/>
              <a:ext cx="457920" cy="1289880"/>
            </a:xfrm>
            <a:prstGeom prst="bentConnector3">
              <a:avLst>
                <a:gd name="adj1" fmla="val 4996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6" name="AutoShape 27"/>
            <p:cNvCxnSpPr>
              <a:stCxn id="500" idx="2"/>
              <a:endCxn id="497" idx="0"/>
            </p:cNvCxnSpPr>
            <p:nvPr/>
          </p:nvCxnSpPr>
          <p:spPr>
            <a:xfrm flipH="1" rot="16200000">
              <a:off x="5290200" y="1965240"/>
              <a:ext cx="457920" cy="2585160"/>
            </a:xfrm>
            <a:prstGeom prst="bentConnector3">
              <a:avLst>
                <a:gd name="adj1" fmla="val 4996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17" name="Group 35"/>
          <p:cNvGrpSpPr/>
          <p:nvPr/>
        </p:nvGrpSpPr>
        <p:grpSpPr>
          <a:xfrm>
            <a:off x="1695240" y="4019040"/>
            <a:ext cx="2480400" cy="305280"/>
            <a:chOff x="1695240" y="4019040"/>
            <a:chExt cx="2480400" cy="305280"/>
          </a:xfrm>
        </p:grpSpPr>
        <p:cxnSp>
          <p:nvCxnSpPr>
            <p:cNvPr id="518" name="AutoShape 28"/>
            <p:cNvCxnSpPr>
              <a:stCxn id="496" idx="2"/>
              <a:endCxn id="498" idx="0"/>
            </p:cNvCxnSpPr>
            <p:nvPr/>
          </p:nvCxnSpPr>
          <p:spPr>
            <a:xfrm rot="5400000">
              <a:off x="2163960" y="3550320"/>
              <a:ext cx="305640" cy="1243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9" name="AutoShape 29"/>
            <p:cNvCxnSpPr>
              <a:stCxn id="496" idx="2"/>
              <a:endCxn id="499" idx="0"/>
            </p:cNvCxnSpPr>
            <p:nvPr/>
          </p:nvCxnSpPr>
          <p:spPr>
            <a:xfrm flipH="1" rot="16200000">
              <a:off x="3404160" y="3552840"/>
              <a:ext cx="305640" cy="1237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Kretanje u gravitacionom polju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Vezana kretanj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521" name="Picture 3" descr="D:\My Documents\NASTAVA\Fizika\Stof\KamenPada.gif"/>
          <p:cNvPicPr/>
          <p:nvPr/>
        </p:nvPicPr>
        <p:blipFill>
          <a:blip r:embed="rId1"/>
          <a:stretch/>
        </p:blipFill>
        <p:spPr>
          <a:xfrm>
            <a:off x="990720" y="3200400"/>
            <a:ext cx="2149200" cy="20462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4" descr="D:\My Documents\NASTAVA\Fizika\Stof\KamenElipticnno.gif"/>
          <p:cNvPicPr/>
          <p:nvPr/>
        </p:nvPicPr>
        <p:blipFill>
          <a:blip r:embed="rId2"/>
          <a:stretch/>
        </p:blipFill>
        <p:spPr>
          <a:xfrm>
            <a:off x="3497400" y="3211560"/>
            <a:ext cx="2149200" cy="20462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5" descr="D:\My Documents\NASTAVA\Fizika\Stof\KamenKruzno.gif"/>
          <p:cNvPicPr/>
          <p:nvPr/>
        </p:nvPicPr>
        <p:blipFill>
          <a:blip r:embed="rId3"/>
          <a:stretch/>
        </p:blipFill>
        <p:spPr>
          <a:xfrm>
            <a:off x="6156360" y="3211560"/>
            <a:ext cx="2149560" cy="204624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6"/>
          <p:cNvSpPr/>
          <p:nvPr/>
        </p:nvSpPr>
        <p:spPr>
          <a:xfrm>
            <a:off x="1417680" y="25909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arab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7"/>
          <p:cNvSpPr/>
          <p:nvPr/>
        </p:nvSpPr>
        <p:spPr>
          <a:xfrm>
            <a:off x="3932280" y="25909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lip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8"/>
          <p:cNvSpPr/>
          <p:nvPr/>
        </p:nvSpPr>
        <p:spPr>
          <a:xfrm>
            <a:off x="6553440" y="2590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už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3276720" y="2590920"/>
            <a:ext cx="0" cy="3124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Gravitaciona sil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Materijalne tačk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990680" y="2362320"/>
            <a:ext cx="3924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Pravac duži koja spaja materijalne tačk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5"/>
              <p:cNvSpPr txBox="1"/>
              <p:nvPr/>
            </p:nvSpPr>
            <p:spPr>
              <a:xfrm>
                <a:off x="5411880" y="4267080"/>
                <a:ext cx="24778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6"/>
              <p:cNvSpPr txBox="1"/>
              <p:nvPr/>
            </p:nvSpPr>
            <p:spPr>
              <a:xfrm>
                <a:off x="5486400" y="5221440"/>
                <a:ext cx="247644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1" name="Oval 7"/>
          <p:cNvSpPr/>
          <p:nvPr/>
        </p:nvSpPr>
        <p:spPr>
          <a:xfrm>
            <a:off x="1600200" y="4400640"/>
            <a:ext cx="76320" cy="7596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8"/>
          <p:cNvSpPr/>
          <p:nvPr/>
        </p:nvSpPr>
        <p:spPr>
          <a:xfrm>
            <a:off x="3505320" y="4400640"/>
            <a:ext cx="75960" cy="7596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9"/>
              <p:cNvSpPr txBox="1"/>
              <p:nvPr/>
            </p:nvSpPr>
            <p:spPr>
              <a:xfrm>
                <a:off x="1474920" y="4448160"/>
                <a:ext cx="3538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10"/>
              <p:cNvSpPr txBox="1"/>
              <p:nvPr/>
            </p:nvSpPr>
            <p:spPr>
              <a:xfrm>
                <a:off x="3405240" y="4400640"/>
                <a:ext cx="4046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335" name="AutoShape 12"/>
          <p:cNvCxnSpPr/>
          <p:nvPr/>
        </p:nvCxnSpPr>
        <p:spPr>
          <a:xfrm>
            <a:off x="1676520" y="444780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336" name="Line 13"/>
          <p:cNvSpPr/>
          <p:nvPr/>
        </p:nvSpPr>
        <p:spPr>
          <a:xfrm>
            <a:off x="1676520" y="44481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5"/>
          <p:cNvSpPr/>
          <p:nvPr/>
        </p:nvSpPr>
        <p:spPr>
          <a:xfrm>
            <a:off x="2895480" y="444816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16"/>
              <p:cNvSpPr txBox="1"/>
              <p:nvPr/>
            </p:nvSpPr>
            <p:spPr>
              <a:xfrm>
                <a:off x="1754280" y="3917880"/>
                <a:ext cx="4046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17"/>
              <p:cNvSpPr txBox="1"/>
              <p:nvPr/>
            </p:nvSpPr>
            <p:spPr>
              <a:xfrm>
                <a:off x="3048120" y="3892680"/>
                <a:ext cx="4046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0" name="Rectangle 18"/>
          <p:cNvSpPr/>
          <p:nvPr/>
        </p:nvSpPr>
        <p:spPr>
          <a:xfrm>
            <a:off x="4991040" y="3200400"/>
            <a:ext cx="3924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mer: privlačna si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20"/>
          <p:cNvSpPr/>
          <p:nvPr/>
        </p:nvSpPr>
        <p:spPr>
          <a:xfrm>
            <a:off x="4991040" y="3657600"/>
            <a:ext cx="3924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ntenzi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Group 26"/>
          <p:cNvGrpSpPr/>
          <p:nvPr/>
        </p:nvGrpSpPr>
        <p:grpSpPr>
          <a:xfrm>
            <a:off x="1635120" y="3429000"/>
            <a:ext cx="1911240" cy="965160"/>
            <a:chOff x="1635120" y="3429000"/>
            <a:chExt cx="1911240" cy="965160"/>
          </a:xfrm>
        </p:grpSpPr>
        <mc:AlternateContent>
          <mc:Choice xmlns:a14="http://schemas.microsoft.com/office/drawing/2010/main" Requires="a14">
            <p:sp>
              <p:nvSpPr>
                <p:cNvPr id="343" name="Object 21"/>
                <p:cNvSpPr txBox="1"/>
                <p:nvPr/>
              </p:nvSpPr>
              <p:spPr>
                <a:xfrm>
                  <a:off x="2451240" y="3429000"/>
                  <a:ext cx="226800" cy="25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4" name="Line 22"/>
            <p:cNvSpPr/>
            <p:nvPr/>
          </p:nvSpPr>
          <p:spPr>
            <a:xfrm flipV="1">
              <a:off x="1635120" y="35560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24"/>
            <p:cNvSpPr/>
            <p:nvPr/>
          </p:nvSpPr>
          <p:spPr>
            <a:xfrm flipV="1">
              <a:off x="3546360" y="35560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25"/>
            <p:cNvSpPr/>
            <p:nvPr/>
          </p:nvSpPr>
          <p:spPr>
            <a:xfrm>
              <a:off x="1635120" y="36576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Satelitska kretanj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I Keplerov zakon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9" name="Text Box 11"/>
          <p:cNvSpPr/>
          <p:nvPr/>
        </p:nvSpPr>
        <p:spPr>
          <a:xfrm>
            <a:off x="1066680" y="2438280"/>
            <a:ext cx="655344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lanete se kreću po elipsama u čijoj se jednoj žiži nalazi Su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12"/>
          <p:cNvSpPr/>
          <p:nvPr/>
        </p:nvSpPr>
        <p:spPr>
          <a:xfrm>
            <a:off x="1066680" y="3444840"/>
            <a:ext cx="655344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ateliti se kreću po elipsama u čijoj se jednoj žiži nalazi Zeml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3">
            <a:hlinkClick r:id="rId1"/>
          </p:cNvPr>
          <p:cNvSpPr/>
          <p:nvPr/>
        </p:nvSpPr>
        <p:spPr>
          <a:xfrm>
            <a:off x="2590920" y="4800600"/>
            <a:ext cx="3886200" cy="685800"/>
          </a:xfrm>
          <a:prstGeom prst="rect">
            <a:avLst/>
          </a:prstGeom>
          <a:solidFill>
            <a:srgbClr val="3891a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utanje satel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atelitska kretanja</a:t>
            </a:r>
            <a:br>
              <a:rPr sz="4300"/>
            </a:b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II Keplerov zak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1066680" y="2438280"/>
            <a:ext cx="655344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adijus vektor planete u jednakim vremenskim intervalima prebriše jednake površ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1066680" y="3956040"/>
            <a:ext cx="655344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adijus vektor satelita u odnosu na Zemlju u jednakim vremenskim intervalima prebriše jednake površ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5">
            <a:hlinkClick r:id="rId1"/>
          </p:cNvPr>
          <p:cNvSpPr/>
          <p:nvPr/>
        </p:nvSpPr>
        <p:spPr>
          <a:xfrm>
            <a:off x="2590920" y="5638680"/>
            <a:ext cx="3886200" cy="685800"/>
          </a:xfrm>
          <a:prstGeom prst="rect">
            <a:avLst/>
          </a:prstGeom>
          <a:solidFill>
            <a:srgbClr val="3891a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I Keplerov zak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atelitska kretanja</a:t>
            </a:r>
            <a:br>
              <a:rPr sz="4300"/>
            </a:b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III Keplerov zak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1066680" y="2438280"/>
            <a:ext cx="655344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vadrati perioda obilaska planeta oko Sunca proporcionalni su kubovima velikih poluosa njihovih put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8" name="Object 7"/>
          <p:cNvGraphicFramePr/>
          <p:nvPr/>
        </p:nvGraphicFramePr>
        <p:xfrm>
          <a:off x="4070520" y="4395960"/>
          <a:ext cx="73656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0520" y="4395960"/>
                    <a:ext cx="736560" cy="6872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40" name="Object 8"/>
              <p:cNvSpPr txBox="1"/>
              <p:nvPr/>
            </p:nvSpPr>
            <p:spPr>
              <a:xfrm>
                <a:off x="2697120" y="5410080"/>
                <a:ext cx="391968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  <m:r>
                      <m:t xml:space="preserve">⇒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atelitska kretanja</a:t>
            </a:r>
            <a:br>
              <a:rPr sz="4300"/>
            </a:b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Brzina orbitiran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2" name="Oval 6"/>
          <p:cNvSpPr/>
          <p:nvPr/>
        </p:nvSpPr>
        <p:spPr>
          <a:xfrm>
            <a:off x="1523880" y="3505320"/>
            <a:ext cx="1828800" cy="1828800"/>
          </a:xfrm>
          <a:prstGeom prst="ellipse">
            <a:avLst/>
          </a:prstGeom>
          <a:solidFill>
            <a:srgbClr val="3891a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Oval 7"/>
          <p:cNvSpPr/>
          <p:nvPr/>
        </p:nvSpPr>
        <p:spPr>
          <a:xfrm>
            <a:off x="838080" y="2819520"/>
            <a:ext cx="3276720" cy="320040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8"/>
          <p:cNvSpPr/>
          <p:nvPr/>
        </p:nvSpPr>
        <p:spPr>
          <a:xfrm flipV="1">
            <a:off x="2438280" y="3809880"/>
            <a:ext cx="68580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9"/>
          <p:cNvSpPr/>
          <p:nvPr/>
        </p:nvSpPr>
        <p:spPr>
          <a:xfrm flipH="1" flipV="1">
            <a:off x="1066680" y="3505320"/>
            <a:ext cx="13716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Object 10"/>
              <p:cNvSpPr txBox="1"/>
              <p:nvPr/>
            </p:nvSpPr>
            <p:spPr>
              <a:xfrm>
                <a:off x="2716200" y="4192560"/>
                <a:ext cx="30312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Object 11"/>
              <p:cNvSpPr txBox="1"/>
              <p:nvPr/>
            </p:nvSpPr>
            <p:spPr>
              <a:xfrm>
                <a:off x="1449360" y="3481560"/>
                <a:ext cx="22716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8" name="Oval 12"/>
          <p:cNvSpPr/>
          <p:nvPr/>
        </p:nvSpPr>
        <p:spPr>
          <a:xfrm>
            <a:off x="2362320" y="2743200"/>
            <a:ext cx="15228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3"/>
          <p:cNvSpPr/>
          <p:nvPr/>
        </p:nvSpPr>
        <p:spPr>
          <a:xfrm>
            <a:off x="2438280" y="28954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Object 14"/>
              <p:cNvSpPr txBox="1"/>
              <p:nvPr/>
            </p:nvSpPr>
            <p:spPr>
              <a:xfrm>
                <a:off x="2514600" y="2819520"/>
                <a:ext cx="60660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ra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Object 15"/>
              <p:cNvSpPr txBox="1"/>
              <p:nvPr/>
            </p:nvSpPr>
            <p:spPr>
              <a:xfrm>
                <a:off x="4594320" y="2362320"/>
                <a:ext cx="384156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rav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Object 16"/>
              <p:cNvSpPr txBox="1"/>
              <p:nvPr/>
            </p:nvSpPr>
            <p:spPr>
              <a:xfrm>
                <a:off x="4040280" y="5105520"/>
                <a:ext cx="48751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⇒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Object 17"/>
              <p:cNvSpPr txBox="1"/>
              <p:nvPr/>
            </p:nvSpPr>
            <p:spPr>
              <a:xfrm>
                <a:off x="6410160" y="3152880"/>
                <a:ext cx="174312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G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Object 18"/>
              <p:cNvSpPr txBox="1"/>
              <p:nvPr/>
            </p:nvSpPr>
            <p:spPr>
              <a:xfrm>
                <a:off x="4708440" y="3251160"/>
                <a:ext cx="16430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19"/>
              <p:cNvSpPr txBox="1"/>
              <p:nvPr/>
            </p:nvSpPr>
            <p:spPr>
              <a:xfrm>
                <a:off x="4038480" y="5934240"/>
                <a:ext cx="335916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G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56" name="Line 20"/>
          <p:cNvSpPr/>
          <p:nvPr/>
        </p:nvSpPr>
        <p:spPr>
          <a:xfrm>
            <a:off x="6248520" y="41148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Object 21"/>
              <p:cNvSpPr txBox="1"/>
              <p:nvPr/>
            </p:nvSpPr>
            <p:spPr>
              <a:xfrm>
                <a:off x="2236680" y="4471920"/>
                <a:ext cx="4050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Object 23"/>
              <p:cNvSpPr txBox="1"/>
              <p:nvPr/>
            </p:nvSpPr>
            <p:spPr>
              <a:xfrm>
                <a:off x="2314440" y="2401920"/>
                <a:ext cx="32724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atelitska kretanja</a:t>
            </a:r>
            <a:br>
              <a:rPr sz="4300"/>
            </a:b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Brzina orbitiranja Zemljinih satelit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560" name="Object 0"/>
          <p:cNvGraphicFramePr/>
          <p:nvPr/>
        </p:nvGraphicFramePr>
        <p:xfrm>
          <a:off x="3922560" y="5081760"/>
          <a:ext cx="143352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2560" y="5081760"/>
                    <a:ext cx="1433520" cy="6872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62" name="Object 1"/>
              <p:cNvSpPr txBox="1"/>
              <p:nvPr/>
            </p:nvSpPr>
            <p:spPr>
              <a:xfrm>
                <a:off x="838080" y="2401920"/>
                <a:ext cx="404028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Z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G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rad>
                    <m:r>
                      <m:t xml:space="preserve">=</m:t>
                    </m:r>
                    <m:r>
                      <m:t xml:space="preserve">7,9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Object 2"/>
              <p:cNvSpPr txBox="1"/>
              <p:nvPr/>
            </p:nvSpPr>
            <p:spPr>
              <a:xfrm>
                <a:off x="903240" y="3305160"/>
                <a:ext cx="75549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nhron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an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nh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MT</m:t>
                            </m:r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n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n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6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lobodna kretanja u gravitacionom polju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914040" y="23619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Ukupna energija veća od nu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Kinetička energija veća od dubine potencijalne j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6" name="Object 5"/>
              <p:cNvSpPr txBox="1"/>
              <p:nvPr/>
            </p:nvSpPr>
            <p:spPr>
              <a:xfrm>
                <a:off x="1015920" y="3276720"/>
                <a:ext cx="500400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67" name="Rectangle 6"/>
          <p:cNvSpPr/>
          <p:nvPr/>
        </p:nvSpPr>
        <p:spPr>
          <a:xfrm>
            <a:off x="914400" y="4343400"/>
            <a:ext cx="6172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emlja sa površine: v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I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=11,2 k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unce sa površine Zemlje: v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II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=16,7 k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rna rupa: v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I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&gt;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7" descr="D:\My Documents\NASTAVA\Fizika\Stof\CrnaRupa.gif"/>
          <p:cNvPicPr/>
          <p:nvPr/>
        </p:nvPicPr>
        <p:blipFill>
          <a:blip r:embed="rId1"/>
          <a:stretch/>
        </p:blipFill>
        <p:spPr>
          <a:xfrm>
            <a:off x="6934320" y="434340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Gravitaciona sil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Tel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990680" y="2362320"/>
            <a:ext cx="3924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Vektorski zbir sila koje deluju na sve tačke tel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Oval 7"/>
          <p:cNvSpPr/>
          <p:nvPr/>
        </p:nvSpPr>
        <p:spPr>
          <a:xfrm>
            <a:off x="3505320" y="4400640"/>
            <a:ext cx="75960" cy="7596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5"/>
          <p:cNvSpPr/>
          <p:nvPr/>
        </p:nvSpPr>
        <p:spPr>
          <a:xfrm>
            <a:off x="4991040" y="3200400"/>
            <a:ext cx="3924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mer: privlačna si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22"/>
          <p:cNvSpPr/>
          <p:nvPr/>
        </p:nvSpPr>
        <p:spPr>
          <a:xfrm>
            <a:off x="4991040" y="3733920"/>
            <a:ext cx="39243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avac i intenzitet zavise od oblika tela, rasporeda mase na telima i međusobnog položaja t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23"/>
          <p:cNvSpPr/>
          <p:nvPr/>
        </p:nvSpPr>
        <p:spPr>
          <a:xfrm>
            <a:off x="1523880" y="2895480"/>
            <a:ext cx="76320" cy="289584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64"/>
          <p:cNvGrpSpPr/>
          <p:nvPr/>
        </p:nvGrpSpPr>
        <p:grpSpPr>
          <a:xfrm>
            <a:off x="1523880" y="2971800"/>
            <a:ext cx="76320" cy="2743200"/>
            <a:chOff x="1523880" y="2971800"/>
            <a:chExt cx="76320" cy="2743200"/>
          </a:xfrm>
        </p:grpSpPr>
        <p:sp>
          <p:nvSpPr>
            <p:cNvPr id="354" name="Line 25"/>
            <p:cNvSpPr/>
            <p:nvPr/>
          </p:nvSpPr>
          <p:spPr>
            <a:xfrm>
              <a:off x="1523880" y="297180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26"/>
            <p:cNvSpPr/>
            <p:nvPr/>
          </p:nvSpPr>
          <p:spPr>
            <a:xfrm>
              <a:off x="1523880" y="304812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27"/>
            <p:cNvSpPr/>
            <p:nvPr/>
          </p:nvSpPr>
          <p:spPr>
            <a:xfrm>
              <a:off x="1523880" y="312408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28"/>
            <p:cNvSpPr/>
            <p:nvPr/>
          </p:nvSpPr>
          <p:spPr>
            <a:xfrm>
              <a:off x="1523880" y="320040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29"/>
            <p:cNvSpPr/>
            <p:nvPr/>
          </p:nvSpPr>
          <p:spPr>
            <a:xfrm>
              <a:off x="1523880" y="327672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30"/>
            <p:cNvSpPr/>
            <p:nvPr/>
          </p:nvSpPr>
          <p:spPr>
            <a:xfrm>
              <a:off x="1523880" y="335268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31"/>
            <p:cNvSpPr/>
            <p:nvPr/>
          </p:nvSpPr>
          <p:spPr>
            <a:xfrm>
              <a:off x="1523880" y="342900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32"/>
            <p:cNvSpPr/>
            <p:nvPr/>
          </p:nvSpPr>
          <p:spPr>
            <a:xfrm>
              <a:off x="1523880" y="350532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33"/>
            <p:cNvSpPr/>
            <p:nvPr/>
          </p:nvSpPr>
          <p:spPr>
            <a:xfrm>
              <a:off x="1523880" y="358128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34"/>
            <p:cNvSpPr/>
            <p:nvPr/>
          </p:nvSpPr>
          <p:spPr>
            <a:xfrm>
              <a:off x="1523880" y="365760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35"/>
            <p:cNvSpPr/>
            <p:nvPr/>
          </p:nvSpPr>
          <p:spPr>
            <a:xfrm>
              <a:off x="1523880" y="373392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36"/>
            <p:cNvSpPr/>
            <p:nvPr/>
          </p:nvSpPr>
          <p:spPr>
            <a:xfrm>
              <a:off x="1523880" y="380988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37"/>
            <p:cNvSpPr/>
            <p:nvPr/>
          </p:nvSpPr>
          <p:spPr>
            <a:xfrm>
              <a:off x="1523880" y="388620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38"/>
            <p:cNvSpPr/>
            <p:nvPr/>
          </p:nvSpPr>
          <p:spPr>
            <a:xfrm>
              <a:off x="1523880" y="396252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39"/>
            <p:cNvSpPr/>
            <p:nvPr/>
          </p:nvSpPr>
          <p:spPr>
            <a:xfrm>
              <a:off x="1523880" y="403848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40"/>
            <p:cNvSpPr/>
            <p:nvPr/>
          </p:nvSpPr>
          <p:spPr>
            <a:xfrm>
              <a:off x="1523880" y="411480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41"/>
            <p:cNvSpPr/>
            <p:nvPr/>
          </p:nvSpPr>
          <p:spPr>
            <a:xfrm>
              <a:off x="1523880" y="419112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42"/>
            <p:cNvSpPr/>
            <p:nvPr/>
          </p:nvSpPr>
          <p:spPr>
            <a:xfrm>
              <a:off x="1523880" y="426708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43"/>
            <p:cNvSpPr/>
            <p:nvPr/>
          </p:nvSpPr>
          <p:spPr>
            <a:xfrm>
              <a:off x="1523880" y="434340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44"/>
            <p:cNvSpPr/>
            <p:nvPr/>
          </p:nvSpPr>
          <p:spPr>
            <a:xfrm>
              <a:off x="1523880" y="441972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45"/>
            <p:cNvSpPr/>
            <p:nvPr/>
          </p:nvSpPr>
          <p:spPr>
            <a:xfrm>
              <a:off x="1523880" y="449568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46"/>
            <p:cNvSpPr/>
            <p:nvPr/>
          </p:nvSpPr>
          <p:spPr>
            <a:xfrm>
              <a:off x="1523880" y="457200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47"/>
            <p:cNvSpPr/>
            <p:nvPr/>
          </p:nvSpPr>
          <p:spPr>
            <a:xfrm>
              <a:off x="1523880" y="464832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48"/>
            <p:cNvSpPr/>
            <p:nvPr/>
          </p:nvSpPr>
          <p:spPr>
            <a:xfrm>
              <a:off x="1523880" y="472428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49"/>
            <p:cNvSpPr/>
            <p:nvPr/>
          </p:nvSpPr>
          <p:spPr>
            <a:xfrm>
              <a:off x="1523880" y="480060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50"/>
            <p:cNvSpPr/>
            <p:nvPr/>
          </p:nvSpPr>
          <p:spPr>
            <a:xfrm>
              <a:off x="1523880" y="487692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51"/>
            <p:cNvSpPr/>
            <p:nvPr/>
          </p:nvSpPr>
          <p:spPr>
            <a:xfrm>
              <a:off x="1523880" y="495288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52"/>
            <p:cNvSpPr/>
            <p:nvPr/>
          </p:nvSpPr>
          <p:spPr>
            <a:xfrm>
              <a:off x="1523880" y="502920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53"/>
            <p:cNvSpPr/>
            <p:nvPr/>
          </p:nvSpPr>
          <p:spPr>
            <a:xfrm>
              <a:off x="1523880" y="510552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54"/>
            <p:cNvSpPr/>
            <p:nvPr/>
          </p:nvSpPr>
          <p:spPr>
            <a:xfrm>
              <a:off x="1523880" y="518148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55"/>
            <p:cNvSpPr/>
            <p:nvPr/>
          </p:nvSpPr>
          <p:spPr>
            <a:xfrm>
              <a:off x="1523880" y="525780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56"/>
            <p:cNvSpPr/>
            <p:nvPr/>
          </p:nvSpPr>
          <p:spPr>
            <a:xfrm>
              <a:off x="1523880" y="533412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57"/>
            <p:cNvSpPr/>
            <p:nvPr/>
          </p:nvSpPr>
          <p:spPr>
            <a:xfrm>
              <a:off x="1523880" y="541008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58"/>
            <p:cNvSpPr/>
            <p:nvPr/>
          </p:nvSpPr>
          <p:spPr>
            <a:xfrm>
              <a:off x="1523880" y="548640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59"/>
            <p:cNvSpPr/>
            <p:nvPr/>
          </p:nvSpPr>
          <p:spPr>
            <a:xfrm>
              <a:off x="1523880" y="556272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60"/>
            <p:cNvSpPr/>
            <p:nvPr/>
          </p:nvSpPr>
          <p:spPr>
            <a:xfrm>
              <a:off x="1523880" y="563868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61"/>
            <p:cNvSpPr/>
            <p:nvPr/>
          </p:nvSpPr>
          <p:spPr>
            <a:xfrm>
              <a:off x="1523880" y="5715000"/>
              <a:ext cx="7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1" name="Object 65"/>
              <p:cNvSpPr txBox="1"/>
              <p:nvPr/>
            </p:nvSpPr>
            <p:spPr>
              <a:xfrm>
                <a:off x="3405240" y="4524480"/>
                <a:ext cx="32868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66"/>
              <p:cNvSpPr txBox="1"/>
              <p:nvPr/>
            </p:nvSpPr>
            <p:spPr>
              <a:xfrm>
                <a:off x="1371600" y="5921280"/>
                <a:ext cx="40464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67"/>
              <p:cNvSpPr txBox="1"/>
              <p:nvPr/>
            </p:nvSpPr>
            <p:spPr>
              <a:xfrm>
                <a:off x="941400" y="2733840"/>
                <a:ext cx="5824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4" name="Line 69"/>
          <p:cNvSpPr/>
          <p:nvPr/>
        </p:nvSpPr>
        <p:spPr>
          <a:xfrm>
            <a:off x="1600200" y="2971800"/>
            <a:ext cx="190512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70"/>
          <p:cNvSpPr/>
          <p:nvPr/>
        </p:nvSpPr>
        <p:spPr>
          <a:xfrm>
            <a:off x="1600200" y="2971800"/>
            <a:ext cx="6094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71"/>
              <p:cNvSpPr txBox="1"/>
              <p:nvPr/>
            </p:nvSpPr>
            <p:spPr>
              <a:xfrm>
                <a:off x="1841400" y="2797200"/>
                <a:ext cx="4572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72"/>
              <p:cNvSpPr txBox="1"/>
              <p:nvPr/>
            </p:nvSpPr>
            <p:spPr>
              <a:xfrm>
                <a:off x="2438280" y="3657600"/>
                <a:ext cx="25416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8" name="Line 73"/>
          <p:cNvSpPr/>
          <p:nvPr/>
        </p:nvSpPr>
        <p:spPr>
          <a:xfrm>
            <a:off x="1600200" y="4419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74"/>
              <p:cNvSpPr txBox="1"/>
              <p:nvPr/>
            </p:nvSpPr>
            <p:spPr>
              <a:xfrm>
                <a:off x="917640" y="4178160"/>
                <a:ext cx="63180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00" name="Line 75"/>
          <p:cNvSpPr/>
          <p:nvPr/>
        </p:nvSpPr>
        <p:spPr>
          <a:xfrm>
            <a:off x="1600200" y="441972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Object 76"/>
              <p:cNvSpPr txBox="1"/>
              <p:nvPr/>
            </p:nvSpPr>
            <p:spPr>
              <a:xfrm>
                <a:off x="2324160" y="4343400"/>
                <a:ext cx="2793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77"/>
              <p:cNvSpPr txBox="1"/>
              <p:nvPr/>
            </p:nvSpPr>
            <p:spPr>
              <a:xfrm>
                <a:off x="1803240" y="3949560"/>
                <a:ext cx="5083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Gravitaciona sila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Homogene kugl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990680" y="2362320"/>
            <a:ext cx="3924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Pravac duži koja spaja centre kugl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4"/>
              <p:cNvSpPr txBox="1"/>
              <p:nvPr/>
            </p:nvSpPr>
            <p:spPr>
              <a:xfrm>
                <a:off x="5337000" y="4267080"/>
                <a:ext cx="26290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5"/>
              <p:cNvSpPr txBox="1"/>
              <p:nvPr/>
            </p:nvSpPr>
            <p:spPr>
              <a:xfrm>
                <a:off x="5486400" y="5221440"/>
                <a:ext cx="247644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7" name="Oval 6"/>
          <p:cNvSpPr/>
          <p:nvPr/>
        </p:nvSpPr>
        <p:spPr>
          <a:xfrm>
            <a:off x="1398600" y="4400640"/>
            <a:ext cx="457200" cy="45720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7"/>
          <p:cNvSpPr/>
          <p:nvPr/>
        </p:nvSpPr>
        <p:spPr>
          <a:xfrm>
            <a:off x="3317760" y="4395960"/>
            <a:ext cx="457200" cy="45720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8"/>
              <p:cNvSpPr txBox="1"/>
              <p:nvPr/>
            </p:nvSpPr>
            <p:spPr>
              <a:xfrm>
                <a:off x="1424160" y="5000760"/>
                <a:ext cx="4554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9"/>
              <p:cNvSpPr txBox="1"/>
              <p:nvPr/>
            </p:nvSpPr>
            <p:spPr>
              <a:xfrm>
                <a:off x="3367080" y="4952880"/>
                <a:ext cx="4809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411" name="AutoShape 10"/>
          <p:cNvCxnSpPr/>
          <p:nvPr/>
        </p:nvCxnSpPr>
        <p:spPr>
          <a:xfrm>
            <a:off x="1676520" y="462420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12" name="Line 11"/>
          <p:cNvSpPr/>
          <p:nvPr/>
        </p:nvSpPr>
        <p:spPr>
          <a:xfrm>
            <a:off x="1644480" y="462456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2"/>
          <p:cNvSpPr/>
          <p:nvPr/>
        </p:nvSpPr>
        <p:spPr>
          <a:xfrm>
            <a:off x="2943360" y="46245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Object 13"/>
              <p:cNvSpPr txBox="1"/>
              <p:nvPr/>
            </p:nvSpPr>
            <p:spPr>
              <a:xfrm>
                <a:off x="1754280" y="4070520"/>
                <a:ext cx="4046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14"/>
              <p:cNvSpPr txBox="1"/>
              <p:nvPr/>
            </p:nvSpPr>
            <p:spPr>
              <a:xfrm>
                <a:off x="2971800" y="4092480"/>
                <a:ext cx="4046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6" name="Rectangle 15"/>
          <p:cNvSpPr/>
          <p:nvPr/>
        </p:nvSpPr>
        <p:spPr>
          <a:xfrm>
            <a:off x="4991040" y="3200400"/>
            <a:ext cx="3924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mer: privlačna si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6"/>
          <p:cNvSpPr/>
          <p:nvPr/>
        </p:nvSpPr>
        <p:spPr>
          <a:xfrm>
            <a:off x="4991040" y="3657600"/>
            <a:ext cx="3924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ntenzi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Group 17"/>
          <p:cNvGrpSpPr/>
          <p:nvPr/>
        </p:nvGrpSpPr>
        <p:grpSpPr>
          <a:xfrm>
            <a:off x="1635120" y="3429000"/>
            <a:ext cx="1911240" cy="965160"/>
            <a:chOff x="1635120" y="3429000"/>
            <a:chExt cx="1911240" cy="965160"/>
          </a:xfrm>
        </p:grpSpPr>
        <mc:AlternateContent>
          <mc:Choice xmlns:a14="http://schemas.microsoft.com/office/drawing/2010/main" Requires="a14">
            <p:sp>
              <p:nvSpPr>
                <p:cNvPr id="419" name="Object 18"/>
                <p:cNvSpPr txBox="1"/>
                <p:nvPr/>
              </p:nvSpPr>
              <p:spPr>
                <a:xfrm>
                  <a:off x="2451240" y="3429000"/>
                  <a:ext cx="226800" cy="25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20" name="Line 19"/>
            <p:cNvSpPr/>
            <p:nvPr/>
          </p:nvSpPr>
          <p:spPr>
            <a:xfrm flipV="1">
              <a:off x="1635120" y="35560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Line 20"/>
            <p:cNvSpPr/>
            <p:nvPr/>
          </p:nvSpPr>
          <p:spPr>
            <a:xfrm flipV="1">
              <a:off x="3546360" y="35560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21"/>
            <p:cNvSpPr/>
            <p:nvPr/>
          </p:nvSpPr>
          <p:spPr>
            <a:xfrm>
              <a:off x="1635120" y="36576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Gravitaciona sila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Red veli</a:t>
            </a: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čine intenzitet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95252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Čovek i najveći tank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Masa reda 1000000 t = 10</a:t>
            </a:r>
            <a:r>
              <a:rPr b="0" lang="hr-HR" sz="2000" spc="-1" strike="noStrike" baseline="30000">
                <a:solidFill>
                  <a:srgbClr val="000000"/>
                </a:solidFill>
                <a:latin typeface="Gill Sans MT"/>
              </a:rPr>
              <a:t>9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k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Masa čoveka 100 kg = 10</a:t>
            </a:r>
            <a:r>
              <a:rPr b="0" lang="hr-HR" sz="2000" spc="-1" strike="noStrike" baseline="30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k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Širina tankera 50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Privlačna sila reda 10</a:t>
            </a:r>
            <a:r>
              <a:rPr b="0" lang="hr-HR" sz="2000" spc="-1" strike="noStrike" baseline="30000">
                <a:solidFill>
                  <a:srgbClr val="000000"/>
                </a:solidFill>
                <a:latin typeface="Gill Sans MT"/>
              </a:rPr>
              <a:t>-2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Kao težina zrna šećer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838080" y="2362320"/>
            <a:ext cx="3924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va čove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ase reda 100 kg = 10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stojanje reda 5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Privlačna sila reda 10</a:t>
            </a:r>
            <a:r>
              <a:rPr b="0" lang="hr-HR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-7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run prašine mase 0,1mg koja padne na čoveka deluje na njega deset puta većom sil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1219320" y="5334120"/>
            <a:ext cx="7238880" cy="119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Da bi gravitaciona sila bila od uticaja, bar jedno telo mora da bude astronomskih razmera, a druge sile moraju biti zanemarlj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Gravitaciona sil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Tela na površini Zemlj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837720" y="236196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Zemlja –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kugla mase M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Gill Sans MT"/>
              </a:rPr>
              <a:t>Z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6·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Gill Sans MT"/>
              </a:rPr>
              <a:t>22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kg poluprečnika R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Gill Sans MT"/>
              </a:rPr>
              <a:t>Z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6370 km na nivou mor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Biosfera, gde ljudi borave, do 10 km visine i 10 km dubi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29" name="Object 4"/>
          <p:cNvGraphicFramePr/>
          <p:nvPr/>
        </p:nvGraphicFramePr>
        <p:xfrm>
          <a:off x="2212920" y="3835440"/>
          <a:ext cx="4700520" cy="96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2920" y="3835440"/>
                    <a:ext cx="470052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31" name="Object 22"/>
              <p:cNvSpPr txBox="1"/>
              <p:nvPr/>
            </p:nvSpPr>
            <p:spPr>
              <a:xfrm>
                <a:off x="1219320" y="4829040"/>
                <a:ext cx="26049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G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23"/>
              <p:cNvSpPr txBox="1"/>
              <p:nvPr/>
            </p:nvSpPr>
            <p:spPr>
              <a:xfrm>
                <a:off x="1295280" y="5769000"/>
                <a:ext cx="51055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h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73</m:t>
                    </m:r>
                    <m:r>
                      <m:t xml:space="preserve">&lt;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h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27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3" name="Group 30"/>
          <p:cNvGrpSpPr/>
          <p:nvPr/>
        </p:nvGrpSpPr>
        <p:grpSpPr>
          <a:xfrm>
            <a:off x="6324480" y="4572000"/>
            <a:ext cx="1752840" cy="1600200"/>
            <a:chOff x="6324480" y="4572000"/>
            <a:chExt cx="1752840" cy="1600200"/>
          </a:xfrm>
        </p:grpSpPr>
        <p:sp>
          <p:nvSpPr>
            <p:cNvPr id="434" name="Line 24"/>
            <p:cNvSpPr/>
            <p:nvPr/>
          </p:nvSpPr>
          <p:spPr>
            <a:xfrm>
              <a:off x="6324480" y="525780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25"/>
            <p:cNvSpPr/>
            <p:nvPr/>
          </p:nvSpPr>
          <p:spPr>
            <a:xfrm>
              <a:off x="6477120" y="6172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26"/>
            <p:cNvSpPr/>
            <p:nvPr/>
          </p:nvSpPr>
          <p:spPr>
            <a:xfrm flipV="1">
              <a:off x="6934320" y="52578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27"/>
            <p:cNvSpPr/>
            <p:nvPr/>
          </p:nvSpPr>
          <p:spPr>
            <a:xfrm>
              <a:off x="8077320" y="45720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8" name="Object 28"/>
              <p:cNvSpPr txBox="1"/>
              <p:nvPr/>
            </p:nvSpPr>
            <p:spPr>
              <a:xfrm>
                <a:off x="7473960" y="5818320"/>
                <a:ext cx="12891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29"/>
              <p:cNvSpPr txBox="1"/>
              <p:nvPr/>
            </p:nvSpPr>
            <p:spPr>
              <a:xfrm>
                <a:off x="4403880" y="5030640"/>
                <a:ext cx="16938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Gravitaciona energ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837720" y="23619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Spoljašnja sila vrši rad i povećava potencijalnu energiju interakcije kada razdvaja tel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Najveću energiju gravitacione interakcije imaju tela koju su beskrajno razdvojena, koja ne interaguju, dakle maksimalna energija gravitacione potencijalne energije je nul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POTENCIJALNA ENERGIJA GRAVITACIONE INTERAKCIJE JE NEGATIVNA JER JE SILA PRIVLAČN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Gravitaciona energ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837720" y="23623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Potencijalnu energiju merimo radom spoljašnje sile koja ne povećava kinetičku energij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4" name="Picture 5" descr="D:\My Documents\NASTAVA\Fizika\Stof\GravEnergija.gif"/>
          <p:cNvPicPr/>
          <p:nvPr/>
        </p:nvPicPr>
        <p:blipFill>
          <a:blip r:embed="rId1"/>
          <a:stretch/>
        </p:blipFill>
        <p:spPr>
          <a:xfrm>
            <a:off x="2514600" y="3151080"/>
            <a:ext cx="4492800" cy="1725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5" name="Object 6"/>
              <p:cNvSpPr txBox="1"/>
              <p:nvPr/>
            </p:nvSpPr>
            <p:spPr>
              <a:xfrm>
                <a:off x="868320" y="4871880"/>
                <a:ext cx="81993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ra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  <m:r>
                          <m:t xml:space="preserve">=</m:t>
                        </m:r>
                        <m:sSub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∞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7"/>
              <p:cNvSpPr txBox="1"/>
              <p:nvPr/>
            </p:nvSpPr>
            <p:spPr>
              <a:xfrm>
                <a:off x="1362240" y="5845320"/>
                <a:ext cx="43020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ra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∧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ra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8"/>
              <p:cNvSpPr txBox="1"/>
              <p:nvPr/>
            </p:nvSpPr>
            <p:spPr>
              <a:xfrm>
                <a:off x="5686560" y="5845320"/>
                <a:ext cx="26064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ra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8" name="Line 9"/>
          <p:cNvSpPr/>
          <p:nvPr/>
        </p:nvSpPr>
        <p:spPr>
          <a:xfrm>
            <a:off x="4572000" y="365760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Object 10"/>
              <p:cNvSpPr txBox="1"/>
              <p:nvPr/>
            </p:nvSpPr>
            <p:spPr>
              <a:xfrm>
                <a:off x="4724280" y="3703680"/>
                <a:ext cx="6397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ol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Gravitaciona energ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5143680" y="2666880"/>
            <a:ext cx="392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Gravitaciona energija stvara potencijalnu jamu konačne dub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la u gravitacionom polju mogu biti i vezana i slobodna u zavisnosti od njihove kinetičke energ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Gravitaciono polje je </a:t>
            </a: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konzervativno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: rad sila gravitacionog polja ne zavisi od putanje, već samo od početne i krajnje tačk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2" name="Picture 13" descr="D:\My Documents\NASTAVA\Fizika\Predavanja\GravPot.jpg"/>
          <p:cNvPicPr/>
          <p:nvPr/>
        </p:nvPicPr>
        <p:blipFill>
          <a:blip r:embed="rId1"/>
          <a:stretch/>
        </p:blipFill>
        <p:spPr>
          <a:xfrm>
            <a:off x="914400" y="2743200"/>
            <a:ext cx="4119480" cy="3265560"/>
          </a:xfrm>
          <a:prstGeom prst="rect">
            <a:avLst/>
          </a:prstGeom>
          <a:ln w="0">
            <a:noFill/>
          </a:ln>
        </p:spPr>
      </p:pic>
      <p:sp>
        <p:nvSpPr>
          <p:cNvPr id="453" name="Oval 14"/>
          <p:cNvSpPr/>
          <p:nvPr/>
        </p:nvSpPr>
        <p:spPr>
          <a:xfrm>
            <a:off x="2743200" y="3733920"/>
            <a:ext cx="45720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7T13:40:02Z</dcterms:created>
  <dc:creator>Zlatan Soskic</dc:creator>
  <dc:description/>
  <dc:language>en-US</dc:language>
  <cp:lastModifiedBy>Zlatan Soskic</cp:lastModifiedBy>
  <dcterms:modified xsi:type="dcterms:W3CDTF">2013-12-05T14:05:31Z</dcterms:modified>
  <cp:revision>306</cp:revision>
  <dc:subject/>
  <dc:title>Interakcije i struktura materije</dc:title>
</cp:coreProperties>
</file>