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6.png" ContentType="image/png"/>
  <Override PartName="/ppt/media/image7.wmf" ContentType="image/x-wmf"/>
  <Override PartName="/ppt/media/gunshot.wav" ContentType="audio/x-wav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113-85F5-42D5-A890-6286F4F8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F69-ABD6-4FB9-8B58-7154FFE2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943-7106-4687-8DDA-B453F3E2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0EF-7530-4EC4-9878-879554E1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9D6B-B384-45FC-BB20-338F5CC8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0EA-7036-48CC-8C09-A9E832D8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9B17-CCCB-4252-91E6-977D692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F15-8C0C-4CB7-AC80-6FB387AA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A62-73FD-4C68-A8B2-AFE4FD4C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D106-A22D-46AD-9669-1B483992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A493-15BC-4913-9014-787A90CE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34D-4497-402A-B670-464AA2ED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D9DF-9D44-411E-9CFF-0C45A62C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08A9-E64D-4774-94E5-43B768B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FCDA-11F9-4961-9BCE-06805EE5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F56-4ED3-41CA-8C18-02978359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4B08-1E4E-4AC2-81E6-0E43821B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6315-E9CC-4A7C-B0BC-B1064AEF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D4C3-211C-40D5-8199-D683415D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4815-EAF0-4081-8F16-EB13CA65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1DD7-B24B-4A1D-8E28-A6C449F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0B98-87AC-481F-9E27-AE7E4EF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C1D-B918-4FED-A836-426404E7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80E9-35E4-411F-BA75-7920E18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58B1-A47B-4E68-B94D-00A55CA2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FEE3-78BB-4785-9170-A9D14C9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F0EA-4F7B-4472-9A87-FCA789E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1574-C714-4FA7-BBD2-A5E27F9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2106-C895-461C-838F-D70E74B2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853D-0C56-4CCC-9961-7B51E019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6106-065C-4746-B092-760208B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12BC-CA12-449F-8125-81D8D80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BD4C-56C0-4C2D-B46D-1A579FCA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EE2-0BDB-4434-B5F4-8A73E556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0671-533A-45C5-95FC-31B15BF9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417B-4DE2-4915-9A34-2B9D150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FA7D-9905-4738-8381-11E6800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6BEF-8617-4B65-90DA-85FE3054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A249-9412-450B-AB52-CB9A61F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7B6D-9C52-41C8-889A-8B29240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2D49-7F1D-444C-B4B7-9ABA86DC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51F0B-EFCA-4B90-AFD2-0BEB0B2E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7748-C5B1-41DC-979B-CA1A07D3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B8CB-0FE4-456C-B46C-6656CE21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4C0-7027-4B81-B049-94B0178E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C9166-4DCC-49A3-B844-2E1D6142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7899-9609-4430-AA49-EC832DC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BEF4-C97A-4159-8D29-9F368AE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93D25-3C56-4DFF-B525-1C2F3ED7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B9A0-6E30-4983-BF34-B7B74A8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5A8D-AC63-477B-8D93-061437D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8568-24F1-414D-AD46-200FF9F6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BC57-199B-4AB6-BA29-5CB5F81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6830B-0EFF-47CA-8FB5-1D5727F6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9AD6-04E4-40FD-BE21-638AC83C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801-5457-4230-9667-E0582907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69FF-0915-4919-9838-0CE3F3AE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B9E63-447B-4A93-B8A0-C3664A46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49436-E33F-4DB6-BB94-7FD85B4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BCB4B-340D-4DEA-9328-1110321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EA3E4-7A4C-4304-BD2E-8554BE65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9A9F-5A5A-4DA7-9C97-A4A3D4A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FA0DE-00F8-41D5-B90E-894CBC5E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84E4-9335-4F16-9460-2E893B5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CAF34-DCDF-4C16-BFC7-1410D4A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B729C-14BA-4910-88C2-63CA451A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822-7246-408A-B4DD-228AFC4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4E11E-41F7-4DAA-B0A7-727E8478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09997-E90C-4432-BC0D-6C5474B9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F25F-1D30-403A-8B84-A9B868FC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7306-E7D1-40E2-8B8F-BE39ABFB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C1106-4E5E-46AC-AAAC-DB531703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4DA5-7C69-4B67-9221-9881D839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7F7E-E4F8-4835-A77B-4F712CB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D084-3078-44D0-B396-4ACD11A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5161-E7B0-4117-A6A4-2EE027AF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7A217-4316-46B3-8E7A-4320100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357-B789-47B1-9D63-7134061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17BD-D20F-426B-A06C-4C2FCA9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CDE0-FC13-43E9-A93A-1C0E90B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1C0DF-81BE-40CE-852B-8A9AB950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46AC-B494-422B-A4B3-E08E5A3F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62AA7-F4A2-467C-AC94-43F29659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1D6-670E-4244-80EF-E4770ED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D376-0D41-4107-8BA9-21DE534462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8F1-8379-4D10-95DA-B0125EEDD7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16B-D235-4751-A56A-0A84058438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28E9-9865-4338-87F2-41FB230B63A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CAAA-E0DC-447F-AB67-EEA901F7B4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6D7-16A5-4D08-B66C-D8B7A98E29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248-2E34-4F1A-A6B9-FCC1C3F9BD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 i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386100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Fizičke jedin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Dimenziona analiz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38080" y="25146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Pojam dimen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143000" y="3672000"/>
                <a:ext cx="73231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5"/>
          <p:cNvSpPr/>
          <p:nvPr/>
        </p:nvSpPr>
        <p:spPr>
          <a:xfrm>
            <a:off x="274320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jutn ima dimenziju kg m 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nicipi dimenzione analiz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imenzije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lev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des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strane jednačina i nejednačina su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is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tematičke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vez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među dimenzijam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su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is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kao i matematičke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vez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među veličin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imenzija svakog broja je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avila dimenzione analiz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5"/>
              <p:cNvSpPr txBox="1"/>
              <p:nvPr/>
            </p:nvSpPr>
            <p:spPr>
              <a:xfrm>
                <a:off x="2535120" y="3048120"/>
                <a:ext cx="422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2362320" y="2514600"/>
                <a:ext cx="457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±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2840040" y="3505320"/>
                <a:ext cx="3378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787480" y="4572000"/>
                <a:ext cx="344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2665440" y="5265720"/>
                <a:ext cx="3726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"/>
              <p:cNvSpPr txBox="1"/>
              <p:nvPr/>
            </p:nvSpPr>
            <p:spPr>
              <a:xfrm>
                <a:off x="1158840" y="5951520"/>
                <a:ext cx="7070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ne dimenzione analiz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ređivanje izvedenih jedin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vera ispravnosti matematičkih izraz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Jednač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jednač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unkci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azvoj sistema jedi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sistems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akat, stopa, milja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č, bar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stems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CGS: cm, g, s, dyn, er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MKS: m, kg, s, N, J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Tehničke: inč, t, h, kp, kWh, KS, at, m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, c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ill Sans M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SI: MKS dopunjen i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Gill Sans MT"/>
              </a:rPr>
              <a:t>ozakonjen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 198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ot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dinica za silu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je njut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[F] = 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 (=) 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34340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F 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4419720" y="4419720"/>
            <a:ext cx="9903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6"/>
          <p:cNvSpPr/>
          <p:nvPr/>
        </p:nvSpPr>
        <p:spPr>
          <a:xfrm flipV="1">
            <a:off x="4419720" y="4343040"/>
            <a:ext cx="9903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– osnovne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1074600" y="2438280"/>
          <a:ext cx="7604280" cy="39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438280"/>
                    <a:ext cx="76042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– izvedene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846000" y="2903400"/>
          <a:ext cx="806940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03400"/>
                    <a:ext cx="806940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- multip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914400" y="2522520"/>
          <a:ext cx="7856640" cy="38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22520"/>
                    <a:ext cx="785664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- multip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895480" y="2286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90720" y="2895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AM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dan prefiks je dozvol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5181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0 N = 2 d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5181480" y="342900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V="1">
            <a:off x="5257800" y="3352320"/>
            <a:ext cx="21337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312408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g nema prefi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990720" y="4876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fiks samo uz jedinice koje imaju svoje 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9810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 N = 2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2133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m, kN, k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52880" y="5486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00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k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5181480" y="54100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 flipV="1">
            <a:off x="5257800" y="533412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opuštene jedinice u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rađevinarstv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0" name="Object 497"/>
          <p:cNvGraphicFramePr/>
          <p:nvPr/>
        </p:nvGraphicFramePr>
        <p:xfrm>
          <a:off x="457200" y="2938320"/>
          <a:ext cx="845820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38320"/>
                    <a:ext cx="84582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edopuštene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814320" y="2666880"/>
            <a:ext cx="81774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Zlatan Soskic</cp:lastModifiedBy>
  <dcterms:modified xsi:type="dcterms:W3CDTF">2019-10-10T06:53:34Z</dcterms:modified>
  <cp:revision>74</cp:revision>
  <dc:subject/>
  <dc:title>Fizika</dc:title>
</cp:coreProperties>
</file>