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5.wmf" ContentType="image/x-wmf"/>
  <Override PartName="/ppt/media/image53.wmf" ContentType="image/x-wmf"/>
  <Override PartName="/ppt/media/image52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jpeg" ContentType="image/jpeg"/>
  <Override PartName="/ppt/media/image60.wmf" ContentType="image/x-wmf"/>
  <Override PartName="/ppt/media/image43.wmf" ContentType="image/x-wmf"/>
  <Override PartName="/ppt/media/image9.png" ContentType="image/png"/>
  <Override PartName="/ppt/media/image42.jpeg" ContentType="image/jpeg"/>
  <Override PartName="/ppt/media/image40.wmf" ContentType="image/x-wmf"/>
  <Override PartName="/ppt/media/image6.png" ContentType="image/png"/>
  <Override PartName="/ppt/media/image20.wmf" ContentType="image/x-wmf"/>
  <Override PartName="/ppt/media/image57.wmf" ContentType="image/x-wmf"/>
  <Override PartName="/ppt/media/image17.png" ContentType="image/png"/>
  <Override PartName="/ppt/media/image5.png" ContentType="image/png"/>
  <Override PartName="/ppt/media/image13.wmf" ContentType="image/x-wmf"/>
  <Override PartName="/ppt/media/image54.wmf" ContentType="image/x-wmf"/>
  <Override PartName="/ppt/media/image18.wmf" ContentType="image/x-wmf"/>
  <Override PartName="/ppt/media/image22.wmf" ContentType="image/x-wmf"/>
  <Override PartName="/ppt/media/image59.wmf" ContentType="image/x-wmf"/>
  <Override PartName="/ppt/media/image56.wmf" ContentType="image/x-wmf"/>
  <Override PartName="/ppt/media/image21.wmf" ContentType="image/x-wmf"/>
  <Override PartName="/ppt/media/image58.wmf" ContentType="image/x-wmf"/>
  <Override PartName="/ppt/media/image23.wmf" ContentType="image/x-wmf"/>
  <Override PartName="/ppt/media/image72.wmf" ContentType="image/x-wmf"/>
  <Override PartName="/ppt/media/image14.png" ContentType="image/png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66.wmf" ContentType="image/x-wmf"/>
  <Override PartName="/ppt/media/image26.png" ContentType="image/png"/>
  <Override PartName="/ppt/media/image10.png" ContentType="image/png"/>
  <Override PartName="/ppt/media/image1.jpeg" ContentType="image/jpeg"/>
  <Override PartName="/ppt/media/image50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3.png" ContentType="image/png"/>
  <Override PartName="/ppt/media/explode.wav" ContentType="audio/x-wav"/>
  <Override PartName="/ppt/media/image48.wmf" ContentType="image/x-wmf"/>
  <Override PartName="/ppt/media/image11.png" ContentType="image/png"/>
  <Override PartName="/ppt/media/image51.wmf" ContentType="image/x-wmf"/>
  <Override PartName="/ppt/media/image15.wmf" ContentType="image/x-wmf"/>
  <Override PartName="/ppt/media/image8.wmf" ContentType="image/x-wmf"/>
  <Override PartName="/ppt/media/image38.wmf" ContentType="image/x-wmf"/>
  <Override PartName="/ppt/media/image16.png" ContentType="image/png"/>
  <Override PartName="/ppt/media/image4.png" ContentType="image/png"/>
  <Override PartName="/ppt/media/image12.wmf" ContentType="image/x-wmf"/>
  <Override PartName="/ppt/media/image49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41.wmf" ContentType="image/x-wmf"/>
  <Override PartName="/ppt/media/image19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513A-57C7-4EDC-AEB7-A14D38891C6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5C22-D565-44A3-8009-09F3F5A3E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B098-E530-4F4F-85C8-7D3FED654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030F-27A3-49CF-B95D-982AFD077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13F6-25EF-4868-BD7D-A792107C6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B6DF-CCA5-4095-9762-8B923AB92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2FC-0B23-4395-AACC-EF4AE78E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E42-6883-40D0-B16E-33EAF57D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39B-353F-4823-B6AE-D9211D1D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5D8-39AA-4666-8A6E-6A33DE9D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E78A-C73D-4CA9-A5C7-F4DEE495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A53F-1C6D-41C6-BF05-373BEADD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C1DA-2389-4EF3-8849-A16116EA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B200-5626-4ACE-9506-0342E91A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D873-28DE-4544-990C-D8C437D4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E813-59D7-4CB9-9DC9-4C6F0255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2C4E-1750-466A-B074-37DC750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C72-5B66-41CA-920A-E92D6C20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A4CE-E7D1-4D80-BA76-405057D3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6605-4A58-4D50-A03C-69F2A905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73D1-7155-4F06-9187-92B5E550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7112-C60C-4036-8A41-E82EE2E5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1396-0F53-45B9-935E-954D69FD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8F08-D3F5-448D-B756-2F5E3734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7A37-6848-4126-AF6B-5DB7635B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AAE04-32A0-4145-9C84-D8026788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A6A9-2551-4445-A416-01564469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E736-1A27-40F2-B0E8-42158CFC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A2C-B630-4753-94CD-DFB27F95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9DF9-D753-4D48-BC36-ED2F52CC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69F86-3278-47FA-ADD1-6205E2DE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5FDB-09DD-4628-9646-D375438B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27DE-505E-460F-AB72-13D6A343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0838-DEC0-4075-BA74-D7204A22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5E00-FC5A-4671-91F6-8427B8A2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E423-9DD1-4519-B168-BD5C4C2C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C608-31E8-400C-8C93-B4DED443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9DA92-B889-4BEC-A848-9514ED20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CDAE-4027-42B2-9BB2-70C4CDF8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C41-7DB2-46DF-913F-028AD409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27CFD-E247-4AFB-838E-6A424685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B409A-96BD-4039-8241-517D9314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A97C-D64F-4551-952A-36815121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1842-A559-48EC-8BA6-5C547D1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BF76-00C5-47E1-8326-B0A87D6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F45A-48C4-4BC9-81FC-8E1F903F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9715-4E23-4B64-B3A9-2E5D72E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1701-86C2-4C73-8289-B3E7A394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C6BC-53DC-4D3F-9226-D70DED34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8EACA-17A7-4F8B-BF44-3B1CE66A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36E-F0CA-4DAC-8B68-D0FB3D4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D94BB-066C-4091-B056-6D954FB2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9C213-0BD3-4DE3-A3C1-5D530686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8E48-FB7F-4F19-8D4B-61BB093E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88895-8EF3-4245-9EC7-C763054D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6B11F-2562-4770-A802-6416F99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FA5C-AB3F-48AC-8ED4-B137D4A0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38F95-9CB3-485B-B422-BE0AF7C6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85F94-5810-420C-B72F-16C66244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E423B-9C08-4180-BCA9-0E866D70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D1AE5-81D1-4B18-8C60-85B5D846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CCB-5D80-42C3-BF2A-A6EEEBB5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74B79-BC69-43AD-B725-216A6255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8E31F-930E-40FF-89C4-2F4D8981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BD60-F12F-4F25-A5C4-7D5DBFCD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7F31F-9C93-4F37-BEB7-079FAC67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685E0-B5DC-4B66-A4AE-006E9FAD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9B65A-C2F8-45A0-B56B-6C347FC9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3A683-1C3C-44B3-AA4E-E88BE292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BCFC1-27C7-4387-8A64-D96D355D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0279A-D70A-44FB-8A6E-21AF0B86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5075-14DA-4577-99BF-6C856AF2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1C1-2310-4057-A541-6B51628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202D3-B8C7-43C1-B990-9ED185A1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77688-04BC-413D-83DB-C22FD3FF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FEB4A-96EA-49F8-950B-CDF2CAF2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44A6-BBF6-48B6-AAC8-98A11305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2A900-A81B-4F83-8812-BED0AEC4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D5D39-E670-4EDD-9ED3-F5F0FF0B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71FA7-A96A-4D9F-AA58-68509D89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577E-D193-4963-8859-55856F0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455E1-4994-45CE-AB74-B461760F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0A4A2-7723-4746-A76D-8CBC74E0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1E0-0E1C-40EA-9DC8-44078331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8F719-7C75-4445-BE90-10EE25AD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57C0F-E021-4CC4-8BF8-FCEA5F3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DB65-ACF4-43F0-AA53-74928D75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64558-719C-4F1C-A878-104274C0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F8E77-1172-4472-918F-1E8D56DB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6BC-C535-442D-A736-2E58EB65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EABC-6113-4E14-8933-724FD5A0FD6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AA17-DD2A-4CDA-B65D-400087F15C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E1A1-9E2A-4613-B376-A516B665C6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D569-9797-48F6-930C-AC5D05CB7A4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D335-9AFA-4577-99ED-9884F3CDD0C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4C21-D046-4B13-96B0-3DA923FB633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7727-59D6-4946-BC50-572BA54ACE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26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image" Target="../media/image16.png"/><Relationship Id="rId11" Type="http://schemas.openxmlformats.org/officeDocument/2006/relationships/image" Target="../media/image27.png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1.wmf"/><Relationship Id="rId13" Type="http://schemas.openxmlformats.org/officeDocument/2006/relationships/image" Target="../media/image42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3.wmf"/><Relationship Id="rId16" Type="http://schemas.openxmlformats.org/officeDocument/2006/relationships/image" Target="../media/image44.jpe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5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3.wmf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8.wm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i jedin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Fizi</a:t>
            </a: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ke </a:t>
            </a: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velič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Apsolutna greš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55" name="Object 7"/>
          <p:cNvGraphicFramePr/>
          <p:nvPr/>
        </p:nvGraphicFramePr>
        <p:xfrm>
          <a:off x="2584440" y="3193920"/>
          <a:ext cx="22208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4440" y="3193920"/>
                    <a:ext cx="2220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Text Box 12"/>
          <p:cNvSpPr/>
          <p:nvPr/>
        </p:nvSpPr>
        <p:spPr>
          <a:xfrm>
            <a:off x="2386800" y="5119560"/>
            <a:ext cx="21909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rednja vrednost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6449760" y="3673440"/>
            <a:ext cx="22244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psolutna 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 flipH="1" flipV="1">
            <a:off x="3455640" y="3596760"/>
            <a:ext cx="3240" cy="15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Object 1"/>
          <p:cNvGraphicFramePr/>
          <p:nvPr/>
        </p:nvGraphicFramePr>
        <p:xfrm>
          <a:off x="2641680" y="2509920"/>
          <a:ext cx="1876320" cy="40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1680" y="2509920"/>
                    <a:ext cx="18763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62" name="Elbow Connector 4"/>
          <p:cNvCxnSpPr>
            <a:endCxn id="458" idx="1"/>
          </p:cNvCxnSpPr>
          <p:nvPr/>
        </p:nvCxnSpPr>
        <p:spPr>
          <a:xfrm>
            <a:off x="4114800" y="3600360"/>
            <a:ext cx="2326320" cy="48960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463" name="Object 7"/>
          <p:cNvGraphicFramePr/>
          <p:nvPr/>
        </p:nvGraphicFramePr>
        <p:xfrm>
          <a:off x="4718160" y="5362560"/>
          <a:ext cx="13017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8160" y="5362560"/>
                    <a:ext cx="1301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7"/>
          <p:cNvGraphicFramePr/>
          <p:nvPr/>
        </p:nvGraphicFramePr>
        <p:xfrm>
          <a:off x="6730920" y="4572000"/>
          <a:ext cx="14940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0920" y="4572000"/>
                    <a:ext cx="1494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0d0d0d"/>
                </a:solidFill>
                <a:latin typeface="Gill Sans MT"/>
              </a:rPr>
              <a:t>Apsolutna greš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14040" y="22874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Tačnije merenje (NE PRECIZNIJ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MANJI tego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Manja apsolutna greš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69" name="Object 3"/>
          <p:cNvGraphicFramePr/>
          <p:nvPr/>
        </p:nvGraphicFramePr>
        <p:xfrm>
          <a:off x="2413080" y="5662440"/>
          <a:ext cx="13968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3080" y="5662440"/>
                    <a:ext cx="1396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11"/>
          <p:cNvGraphicFramePr/>
          <p:nvPr/>
        </p:nvGraphicFramePr>
        <p:xfrm>
          <a:off x="6178680" y="5624640"/>
          <a:ext cx="182880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8680" y="5624640"/>
                    <a:ext cx="18288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Group 2"/>
          <p:cNvGrpSpPr/>
          <p:nvPr/>
        </p:nvGrpSpPr>
        <p:grpSpPr>
          <a:xfrm>
            <a:off x="1219320" y="3608280"/>
            <a:ext cx="3429000" cy="1981440"/>
            <a:chOff x="1219320" y="3608280"/>
            <a:chExt cx="3429000" cy="1981440"/>
          </a:xfrm>
        </p:grpSpPr>
        <p:sp>
          <p:nvSpPr>
            <p:cNvPr id="474" name="Rectangle 4"/>
            <p:cNvSpPr/>
            <p:nvPr/>
          </p:nvSpPr>
          <p:spPr>
            <a:xfrm>
              <a:off x="3772080" y="4189320"/>
              <a:ext cx="29196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5"/>
            <p:cNvSpPr/>
            <p:nvPr/>
          </p:nvSpPr>
          <p:spPr>
            <a:xfrm>
              <a:off x="3772080" y="3898800"/>
              <a:ext cx="29196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Rectangle 6"/>
            <p:cNvGrpSpPr/>
            <p:nvPr/>
          </p:nvGrpSpPr>
          <p:grpSpPr>
            <a:xfrm>
              <a:off x="1219320" y="4578840"/>
              <a:ext cx="1454400" cy="354240"/>
              <a:chOff x="1219320" y="4578840"/>
              <a:chExt cx="1454400" cy="354240"/>
            </a:xfrm>
          </p:grpSpPr>
          <p:pic>
            <p:nvPicPr>
              <p:cNvPr id="477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1219320" y="4578840"/>
                <a:ext cx="145440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1289160" y="4624920"/>
                <a:ext cx="1314360" cy="2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Rectangle 7"/>
            <p:cNvGrpSpPr/>
            <p:nvPr/>
          </p:nvGrpSpPr>
          <p:grpSpPr>
            <a:xfrm>
              <a:off x="3193920" y="4433760"/>
              <a:ext cx="1454400" cy="354240"/>
              <a:chOff x="3193920" y="4433760"/>
              <a:chExt cx="1454400" cy="354240"/>
            </a:xfrm>
          </p:grpSpPr>
          <p:pic>
            <p:nvPicPr>
              <p:cNvPr id="480" name="Rectangl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3193920" y="4433760"/>
                <a:ext cx="145440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3260880" y="4479840"/>
                <a:ext cx="1314360" cy="2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2" name="Elbow Connector 8" descr=""/>
            <p:cNvPicPr/>
            <p:nvPr/>
          </p:nvPicPr>
          <p:blipFill>
            <a:blip r:embed="rId7"/>
            <a:stretch/>
          </p:blipFill>
          <p:spPr>
            <a:xfrm>
              <a:off x="1879200" y="4654440"/>
              <a:ext cx="2108880" cy="49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Oval 9"/>
            <p:cNvGrpSpPr/>
            <p:nvPr/>
          </p:nvGrpSpPr>
          <p:grpSpPr>
            <a:xfrm>
              <a:off x="2679840" y="5014800"/>
              <a:ext cx="578160" cy="574920"/>
              <a:chOff x="2679840" y="5014800"/>
              <a:chExt cx="578160" cy="574920"/>
            </a:xfrm>
          </p:grpSpPr>
          <p:pic>
            <p:nvPicPr>
              <p:cNvPr id="484" name="Oval 9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9840" y="5014800"/>
                <a:ext cx="57816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2814120" y="5124600"/>
                <a:ext cx="30960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Oval 10"/>
            <p:cNvSpPr/>
            <p:nvPr/>
          </p:nvSpPr>
          <p:spPr>
            <a:xfrm>
              <a:off x="1508400" y="3753360"/>
              <a:ext cx="864000" cy="87156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20"/>
            <p:cNvSpPr/>
            <p:nvPr/>
          </p:nvSpPr>
          <p:spPr>
            <a:xfrm>
              <a:off x="3772080" y="3753360"/>
              <a:ext cx="145800" cy="145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>
              <a:off x="3918240" y="3753360"/>
              <a:ext cx="145800" cy="145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>
              <a:off x="3772080" y="3608280"/>
              <a:ext cx="145800" cy="145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"/>
          <p:cNvGrpSpPr/>
          <p:nvPr/>
        </p:nvGrpSpPr>
        <p:grpSpPr>
          <a:xfrm>
            <a:off x="5334120" y="3382920"/>
            <a:ext cx="3429000" cy="2133720"/>
            <a:chOff x="5334120" y="3382920"/>
            <a:chExt cx="3429000" cy="2133720"/>
          </a:xfrm>
        </p:grpSpPr>
        <p:sp>
          <p:nvSpPr>
            <p:cNvPr id="491" name="Rectangle 12"/>
            <p:cNvSpPr/>
            <p:nvPr/>
          </p:nvSpPr>
          <p:spPr>
            <a:xfrm>
              <a:off x="7886880" y="4257360"/>
              <a:ext cx="291960" cy="29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7886880" y="3965760"/>
              <a:ext cx="291960" cy="29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7886880" y="3674160"/>
              <a:ext cx="291960" cy="29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Rectangle 15"/>
            <p:cNvGrpSpPr/>
            <p:nvPr/>
          </p:nvGrpSpPr>
          <p:grpSpPr>
            <a:xfrm>
              <a:off x="5334120" y="4426560"/>
              <a:ext cx="1454400" cy="361440"/>
              <a:chOff x="5334120" y="4426560"/>
              <a:chExt cx="1454400" cy="361440"/>
            </a:xfrm>
          </p:grpSpPr>
          <p:pic>
            <p:nvPicPr>
              <p:cNvPr id="495" name="Rectangle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5334120" y="4426560"/>
                <a:ext cx="1454400" cy="36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5403960" y="4475520"/>
                <a:ext cx="1314360" cy="2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Rectangle 16"/>
            <p:cNvGrpSpPr/>
            <p:nvPr/>
          </p:nvGrpSpPr>
          <p:grpSpPr>
            <a:xfrm>
              <a:off x="7308720" y="4502520"/>
              <a:ext cx="1454400" cy="355320"/>
              <a:chOff x="7308720" y="4502520"/>
              <a:chExt cx="1454400" cy="355320"/>
            </a:xfrm>
          </p:grpSpPr>
          <p:pic>
            <p:nvPicPr>
              <p:cNvPr id="498" name="Rectangl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08720" y="4502520"/>
                <a:ext cx="14544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7375680" y="4548600"/>
                <a:ext cx="1314360" cy="2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00" name="Elbow Connector 17" descr=""/>
            <p:cNvPicPr/>
            <p:nvPr/>
          </p:nvPicPr>
          <p:blipFill>
            <a:blip r:embed="rId11"/>
            <a:stretch/>
          </p:blipFill>
          <p:spPr>
            <a:xfrm>
              <a:off x="5994000" y="4654080"/>
              <a:ext cx="2108880" cy="42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Oval 18"/>
            <p:cNvGrpSpPr/>
            <p:nvPr/>
          </p:nvGrpSpPr>
          <p:grpSpPr>
            <a:xfrm>
              <a:off x="6794640" y="4939560"/>
              <a:ext cx="578160" cy="577080"/>
              <a:chOff x="6794640" y="4939560"/>
              <a:chExt cx="578160" cy="577080"/>
            </a:xfrm>
          </p:grpSpPr>
          <p:pic>
            <p:nvPicPr>
              <p:cNvPr id="502" name="Oval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94640" y="4939560"/>
                <a:ext cx="57816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6928920" y="5049720"/>
                <a:ext cx="30960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Oval 19"/>
            <p:cNvSpPr/>
            <p:nvPr/>
          </p:nvSpPr>
          <p:spPr>
            <a:xfrm>
              <a:off x="5623200" y="3601440"/>
              <a:ext cx="864000" cy="87444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23"/>
            <p:cNvSpPr/>
            <p:nvPr/>
          </p:nvSpPr>
          <p:spPr>
            <a:xfrm>
              <a:off x="7886880" y="3528360"/>
              <a:ext cx="145800" cy="14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24"/>
            <p:cNvSpPr/>
            <p:nvPr/>
          </p:nvSpPr>
          <p:spPr>
            <a:xfrm>
              <a:off x="8033040" y="3528360"/>
              <a:ext cx="145800" cy="14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25"/>
            <p:cNvSpPr/>
            <p:nvPr/>
          </p:nvSpPr>
          <p:spPr>
            <a:xfrm>
              <a:off x="7886880" y="3382920"/>
              <a:ext cx="145800" cy="14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26"/>
            <p:cNvSpPr/>
            <p:nvPr/>
          </p:nvSpPr>
          <p:spPr>
            <a:xfrm>
              <a:off x="8033040" y="3382920"/>
              <a:ext cx="145800" cy="14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9" name="Object 7"/>
          <p:cNvGraphicFramePr/>
          <p:nvPr/>
        </p:nvGraphicFramePr>
        <p:xfrm>
          <a:off x="3963960" y="6375240"/>
          <a:ext cx="219384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0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3960" y="6375240"/>
                    <a:ext cx="2193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3886200" y="5923080"/>
          <a:ext cx="2386080" cy="401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6200" y="5923080"/>
                    <a:ext cx="2386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0d0d0d"/>
                </a:solidFill>
                <a:latin typeface="Gill Sans MT"/>
              </a:rPr>
              <a:t>Apsolutna greš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68240" y="2286000"/>
            <a:ext cx="82994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Tačnije merenje (NE PRECIZNIJ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MANJI tego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Manja apsolutna greš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Najmanji teg 1 k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Najmanji teg 200 g = 0,2 k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spcAft>
                <a:spcPts val="2401"/>
              </a:spcAft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Najmanji teg 100 g = 0,1 k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Apsolutna greška merenja mase je polovina mase najmanjeg teg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Broj decimala u rezultatu merenja određuje apsolutna greš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15" name="Object 7"/>
          <p:cNvGraphicFramePr/>
          <p:nvPr/>
        </p:nvGraphicFramePr>
        <p:xfrm>
          <a:off x="7093080" y="3954600"/>
          <a:ext cx="180000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3954600"/>
                    <a:ext cx="18000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28"/>
          <p:cNvGraphicFramePr/>
          <p:nvPr/>
        </p:nvGraphicFramePr>
        <p:xfrm>
          <a:off x="4873680" y="3954600"/>
          <a:ext cx="197784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3680" y="3954600"/>
                    <a:ext cx="19778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7"/>
          <p:cNvGraphicFramePr/>
          <p:nvPr/>
        </p:nvGraphicFramePr>
        <p:xfrm>
          <a:off x="7093080" y="3573360"/>
          <a:ext cx="182232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3573360"/>
                    <a:ext cx="18223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32"/>
          <p:cNvGraphicFramePr/>
          <p:nvPr/>
        </p:nvGraphicFramePr>
        <p:xfrm>
          <a:off x="5084640" y="3573360"/>
          <a:ext cx="155592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2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84640" y="3573360"/>
                    <a:ext cx="15559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7"/>
          <p:cNvGraphicFramePr/>
          <p:nvPr/>
        </p:nvGraphicFramePr>
        <p:xfrm>
          <a:off x="7091280" y="4307040"/>
          <a:ext cx="208908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91280" y="4307040"/>
                    <a:ext cx="20890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34"/>
          <p:cNvGraphicFramePr/>
          <p:nvPr/>
        </p:nvGraphicFramePr>
        <p:xfrm>
          <a:off x="4902120" y="4307040"/>
          <a:ext cx="197820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6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02120" y="4307040"/>
                    <a:ext cx="1978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"/>
          <p:cNvPicPr/>
          <p:nvPr/>
        </p:nvPicPr>
        <p:blipFill>
          <a:blip r:embed="rId1"/>
          <a:srcRect l="0" t="38096" r="0" b="0"/>
          <a:stretch/>
        </p:blipFill>
        <p:spPr>
          <a:xfrm>
            <a:off x="1476360" y="3409920"/>
            <a:ext cx="3600360" cy="743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0d0d0d"/>
                </a:solidFill>
                <a:latin typeface="Gill Sans MT"/>
              </a:rPr>
              <a:t>Apsolutna greška Mernih instrumen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2"/>
          <a:srcRect l="0" t="25434" r="0" b="0"/>
          <a:stretch/>
        </p:blipFill>
        <p:spPr>
          <a:xfrm>
            <a:off x="1476360" y="2114640"/>
            <a:ext cx="3600360" cy="89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7"/>
          <p:cNvGraphicFramePr/>
          <p:nvPr/>
        </p:nvGraphicFramePr>
        <p:xfrm>
          <a:off x="2523960" y="2851200"/>
          <a:ext cx="120024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960" y="2851200"/>
                    <a:ext cx="1200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7"/>
          <p:cNvGraphicFramePr/>
          <p:nvPr/>
        </p:nvGraphicFramePr>
        <p:xfrm>
          <a:off x="2158920" y="3943440"/>
          <a:ext cx="22892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8920" y="3943440"/>
                    <a:ext cx="2289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4" name="Picture 5" descr=""/>
          <p:cNvPicPr/>
          <p:nvPr/>
        </p:nvPicPr>
        <p:blipFill>
          <a:blip r:embed="rId7"/>
          <a:stretch/>
        </p:blipFill>
        <p:spPr>
          <a:xfrm>
            <a:off x="5667480" y="1886040"/>
            <a:ext cx="1042920" cy="2508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"/>
          <p:cNvPicPr/>
          <p:nvPr/>
        </p:nvPicPr>
        <p:blipFill>
          <a:blip r:embed="rId8"/>
          <a:stretch/>
        </p:blipFill>
        <p:spPr>
          <a:xfrm>
            <a:off x="7234200" y="1886040"/>
            <a:ext cx="1042920" cy="25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7"/>
          <p:cNvGraphicFramePr/>
          <p:nvPr/>
        </p:nvGraphicFramePr>
        <p:xfrm>
          <a:off x="5905440" y="4422600"/>
          <a:ext cx="102240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05440" y="4422600"/>
                    <a:ext cx="1022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7"/>
          <p:cNvGraphicFramePr/>
          <p:nvPr/>
        </p:nvGraphicFramePr>
        <p:xfrm>
          <a:off x="7419960" y="4400640"/>
          <a:ext cx="1000080" cy="37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19960" y="4400640"/>
                    <a:ext cx="10000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0" name="Picture 13" descr="Image result for pressure gauge"/>
          <p:cNvPicPr/>
          <p:nvPr/>
        </p:nvPicPr>
        <p:blipFill>
          <a:blip r:embed="rId13"/>
          <a:stretch/>
        </p:blipFill>
        <p:spPr>
          <a:xfrm>
            <a:off x="2473200" y="4422600"/>
            <a:ext cx="1670040" cy="21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7"/>
          <p:cNvGraphicFramePr/>
          <p:nvPr/>
        </p:nvGraphicFramePr>
        <p:xfrm>
          <a:off x="2658960" y="6624720"/>
          <a:ext cx="1289160" cy="333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42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58960" y="6624720"/>
                    <a:ext cx="12891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3" name="Picture 17" descr="Image result for digital thermometer"/>
          <p:cNvPicPr/>
          <p:nvPr/>
        </p:nvPicPr>
        <p:blipFill>
          <a:blip r:embed="rId16"/>
          <a:stretch/>
        </p:blipFill>
        <p:spPr>
          <a:xfrm>
            <a:off x="6026040" y="4933800"/>
            <a:ext cx="2968560" cy="16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7"/>
          <p:cNvGraphicFramePr/>
          <p:nvPr/>
        </p:nvGraphicFramePr>
        <p:xfrm>
          <a:off x="6908760" y="6502320"/>
          <a:ext cx="1355760" cy="37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5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08760" y="6502320"/>
                    <a:ext cx="13557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0d0d0d"/>
                </a:solidFill>
                <a:latin typeface="Gill Sans MT"/>
              </a:rPr>
              <a:t>Apsolutna greška DIREKTNIH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2484000"/>
            <a:ext cx="82994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Apsolutna greš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572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Ima istu jedinicu kao i merena velič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572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Je jednaka polovini najmanjeg mernog podeljka mernog instrumen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572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Zavisi od instrumen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3600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Manja greška merenja se dobija boljim instrument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Bolje merenje = skuplje mere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RELATIVNA GREŠ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549" name="Object 4"/>
          <p:cNvGraphicFramePr/>
          <p:nvPr/>
        </p:nvGraphicFramePr>
        <p:xfrm>
          <a:off x="1647720" y="3168720"/>
          <a:ext cx="19051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3168720"/>
                    <a:ext cx="1905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Rectangle 3"/>
          <p:cNvSpPr/>
          <p:nvPr/>
        </p:nvSpPr>
        <p:spPr>
          <a:xfrm>
            <a:off x="900000" y="2421000"/>
            <a:ext cx="8001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lativna 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983600" y="4365720"/>
            <a:ext cx="2124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lativna 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Object 14"/>
          <p:cNvGraphicFramePr/>
          <p:nvPr/>
        </p:nvGraphicFramePr>
        <p:xfrm>
          <a:off x="1801800" y="5483160"/>
          <a:ext cx="17780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1800" y="5483160"/>
                    <a:ext cx="1778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7"/>
          <p:cNvGraphicFramePr/>
          <p:nvPr/>
        </p:nvGraphicFramePr>
        <p:xfrm>
          <a:off x="1803240" y="3581280"/>
          <a:ext cx="12700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3240" y="3581280"/>
                    <a:ext cx="1270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4"/>
          <p:cNvGraphicFramePr/>
          <p:nvPr/>
        </p:nvGraphicFramePr>
        <p:xfrm>
          <a:off x="4915080" y="3147840"/>
          <a:ext cx="24634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15080" y="3147840"/>
                    <a:ext cx="2463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7"/>
          <p:cNvGraphicFramePr/>
          <p:nvPr/>
        </p:nvGraphicFramePr>
        <p:xfrm>
          <a:off x="5464080" y="3581280"/>
          <a:ext cx="12700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64080" y="3581280"/>
                    <a:ext cx="1270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14"/>
          <p:cNvGraphicFramePr/>
          <p:nvPr/>
        </p:nvGraphicFramePr>
        <p:xfrm>
          <a:off x="4613400" y="5483160"/>
          <a:ext cx="297180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3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13400" y="5483160"/>
                    <a:ext cx="29718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14"/>
          <p:cNvGraphicFramePr/>
          <p:nvPr/>
        </p:nvGraphicFramePr>
        <p:xfrm>
          <a:off x="4775040" y="4213080"/>
          <a:ext cx="939960" cy="736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5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75040" y="4213080"/>
                    <a:ext cx="939960" cy="736920"/>
                  </a:xfrm>
                  <a:prstGeom prst="rect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RELATIVNA GREŠKA DIREKTNIH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143000" y="2276280"/>
            <a:ext cx="67816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Relativna greš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572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Nikad nema jedinicu!!! (Bezdimenziona veličin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572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Zavisi od mernog meto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3600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Manja greška merenja se dobija boljim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od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Bolje merenje = skuplje mere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Greška Indirektnih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569" name="Object 12"/>
          <p:cNvGraphicFramePr/>
          <p:nvPr/>
        </p:nvGraphicFramePr>
        <p:xfrm>
          <a:off x="3174840" y="2332080"/>
          <a:ext cx="238788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2332080"/>
                    <a:ext cx="23878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12"/>
          <p:cNvGraphicFramePr/>
          <p:nvPr/>
        </p:nvGraphicFramePr>
        <p:xfrm>
          <a:off x="5562720" y="3029040"/>
          <a:ext cx="26924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029040"/>
                    <a:ext cx="2692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12"/>
          <p:cNvGraphicFramePr/>
          <p:nvPr/>
        </p:nvGraphicFramePr>
        <p:xfrm>
          <a:off x="1155600" y="3029040"/>
          <a:ext cx="28195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5600" y="3029040"/>
                    <a:ext cx="2819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12"/>
          <p:cNvGraphicFramePr/>
          <p:nvPr/>
        </p:nvGraphicFramePr>
        <p:xfrm>
          <a:off x="2921040" y="3573360"/>
          <a:ext cx="347976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1040" y="3573360"/>
                    <a:ext cx="3479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12"/>
          <p:cNvGraphicFramePr/>
          <p:nvPr/>
        </p:nvGraphicFramePr>
        <p:xfrm>
          <a:off x="2914560" y="4246560"/>
          <a:ext cx="345456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4560" y="4246560"/>
                    <a:ext cx="3454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12"/>
          <p:cNvGraphicFramePr/>
          <p:nvPr/>
        </p:nvGraphicFramePr>
        <p:xfrm>
          <a:off x="3530520" y="5013360"/>
          <a:ext cx="22860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30520" y="5013360"/>
                    <a:ext cx="228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12"/>
          <p:cNvGraphicFramePr/>
          <p:nvPr/>
        </p:nvGraphicFramePr>
        <p:xfrm>
          <a:off x="1282680" y="6137280"/>
          <a:ext cx="3276720" cy="482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2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82680" y="6137280"/>
                    <a:ext cx="3276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2"/>
          <p:cNvGraphicFramePr/>
          <p:nvPr/>
        </p:nvGraphicFramePr>
        <p:xfrm>
          <a:off x="3619440" y="5516640"/>
          <a:ext cx="2057400" cy="50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4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19440" y="5516640"/>
                    <a:ext cx="2057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12"/>
          <p:cNvGraphicFramePr/>
          <p:nvPr/>
        </p:nvGraphicFramePr>
        <p:xfrm>
          <a:off x="5029200" y="6172200"/>
          <a:ext cx="3657600" cy="482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6172200"/>
                    <a:ext cx="3657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Greška Indirektnih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10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Greška izračunavanja zbira dve merene veli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47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Greška izračunavanja razlike dve merene veli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89" name="Object 12"/>
          <p:cNvGraphicFramePr/>
          <p:nvPr/>
        </p:nvGraphicFramePr>
        <p:xfrm>
          <a:off x="2793960" y="2819520"/>
          <a:ext cx="3149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960" y="281952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12"/>
          <p:cNvGraphicFramePr/>
          <p:nvPr/>
        </p:nvGraphicFramePr>
        <p:xfrm>
          <a:off x="2793960" y="3429000"/>
          <a:ext cx="330192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960" y="3429000"/>
                    <a:ext cx="33019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12"/>
          <p:cNvGraphicFramePr/>
          <p:nvPr/>
        </p:nvGraphicFramePr>
        <p:xfrm>
          <a:off x="2882880" y="4952880"/>
          <a:ext cx="312408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82880" y="4952880"/>
                    <a:ext cx="3124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Greška Indirektnih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10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Greška izračunavanja proizvoda dve merene veli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47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Greška izračunavanja količnika dve merene veli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97" name="Object 12"/>
          <p:cNvGraphicFramePr/>
          <p:nvPr/>
        </p:nvGraphicFramePr>
        <p:xfrm>
          <a:off x="2844720" y="2895480"/>
          <a:ext cx="30481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720" y="2895480"/>
                    <a:ext cx="3048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12"/>
          <p:cNvGraphicFramePr/>
          <p:nvPr/>
        </p:nvGraphicFramePr>
        <p:xfrm>
          <a:off x="2870280" y="3429000"/>
          <a:ext cx="31496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0280" y="342900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12"/>
          <p:cNvGraphicFramePr/>
          <p:nvPr/>
        </p:nvGraphicFramePr>
        <p:xfrm>
          <a:off x="3048120" y="5470560"/>
          <a:ext cx="27939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5470560"/>
                    <a:ext cx="2793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kazivanje svojstava materije broj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upstanci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Fizičko pol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Jačina pol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tencij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124080" y="259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Fizičke velič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4"/>
          <p:cNvSpPr/>
          <p:nvPr/>
        </p:nvSpPr>
        <p:spPr>
          <a:xfrm>
            <a:off x="3198960" y="2440080"/>
            <a:ext cx="2363760" cy="836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5"/>
          <p:cNvSpPr/>
          <p:nvPr/>
        </p:nvSpPr>
        <p:spPr>
          <a:xfrm flipH="1">
            <a:off x="2666520" y="3276720"/>
            <a:ext cx="1676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990720" y="3962520"/>
            <a:ext cx="3657600" cy="1291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ka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pisuju se jednim bro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5105520" y="3897360"/>
            <a:ext cx="3657600" cy="1413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e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pisuju se sa više broje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4343400" y="3276720"/>
            <a:ext cx="25909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ktor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914040" y="2514600"/>
            <a:ext cx="3924360" cy="373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irod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nzitet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pozitiva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ava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990680" y="2514600"/>
            <a:ext cx="3924360" cy="373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Koordinat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avougaone (Dekartov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6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6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6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lar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ktori na pravc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Line 18"/>
          <p:cNvSpPr/>
          <p:nvPr/>
        </p:nvSpPr>
        <p:spPr>
          <a:xfrm>
            <a:off x="2462040" y="242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9"/>
          <p:cNvSpPr/>
          <p:nvPr/>
        </p:nvSpPr>
        <p:spPr>
          <a:xfrm flipH="1">
            <a:off x="5586480" y="3720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0"/>
          <p:cNvSpPr/>
          <p:nvPr/>
        </p:nvSpPr>
        <p:spPr>
          <a:xfrm>
            <a:off x="2386080" y="3187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1"/>
          <p:cNvSpPr/>
          <p:nvPr/>
        </p:nvSpPr>
        <p:spPr>
          <a:xfrm>
            <a:off x="2462040" y="242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2"/>
          <p:cNvSpPr/>
          <p:nvPr/>
        </p:nvSpPr>
        <p:spPr>
          <a:xfrm>
            <a:off x="3757680" y="3111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23"/>
              <p:cNvSpPr txBox="1"/>
              <p:nvPr/>
            </p:nvSpPr>
            <p:spPr>
              <a:xfrm>
                <a:off x="3224160" y="2349360"/>
                <a:ext cx="43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0" name="Line 24"/>
          <p:cNvSpPr/>
          <p:nvPr/>
        </p:nvSpPr>
        <p:spPr>
          <a:xfrm>
            <a:off x="4367160" y="242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25"/>
          <p:cNvSpPr/>
          <p:nvPr/>
        </p:nvSpPr>
        <p:spPr>
          <a:xfrm flipV="1">
            <a:off x="5586480" y="31874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6"/>
          <p:cNvSpPr/>
          <p:nvPr/>
        </p:nvSpPr>
        <p:spPr>
          <a:xfrm flipV="1">
            <a:off x="6500880" y="31874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7"/>
              <p:cNvSpPr txBox="1"/>
              <p:nvPr/>
            </p:nvSpPr>
            <p:spPr>
              <a:xfrm>
                <a:off x="5865840" y="3720960"/>
                <a:ext cx="4824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624" name="Object 28"/>
          <p:cNvGraphicFramePr/>
          <p:nvPr/>
        </p:nvGraphicFramePr>
        <p:xfrm>
          <a:off x="1257480" y="4365720"/>
          <a:ext cx="374148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4365720"/>
                    <a:ext cx="374148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6" name="Object 29"/>
              <p:cNvSpPr txBox="1"/>
              <p:nvPr/>
            </p:nvSpPr>
            <p:spPr>
              <a:xfrm>
                <a:off x="7491240" y="2946240"/>
                <a:ext cx="433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27" name="Object 1"/>
          <p:cNvGraphicFramePr/>
          <p:nvPr/>
        </p:nvGraphicFramePr>
        <p:xfrm>
          <a:off x="5418000" y="4486320"/>
          <a:ext cx="3202200" cy="17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8000" y="4486320"/>
                    <a:ext cx="320220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2"/>
          <p:cNvGraphicFramePr/>
          <p:nvPr/>
        </p:nvGraphicFramePr>
        <p:xfrm>
          <a:off x="6227640" y="6237360"/>
          <a:ext cx="91944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6237360"/>
                    <a:ext cx="919440" cy="444600"/>
                  </a:xfrm>
                  <a:prstGeom prst="rect">
                    <a:avLst/>
                  </a:prstGeom>
                  <a:ln w="28440">
                    <a:solidFill>
                      <a:srgbClr val="c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ktori u ravn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2" name="Line 23"/>
          <p:cNvSpPr/>
          <p:nvPr/>
        </p:nvSpPr>
        <p:spPr>
          <a:xfrm flipV="1">
            <a:off x="5105520" y="3962520"/>
            <a:ext cx="1828800" cy="156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5"/>
          <p:cNvSpPr/>
          <p:nvPr/>
        </p:nvSpPr>
        <p:spPr>
          <a:xfrm>
            <a:off x="4876920" y="55278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26"/>
              <p:cNvSpPr txBox="1"/>
              <p:nvPr/>
            </p:nvSpPr>
            <p:spPr>
              <a:xfrm>
                <a:off x="5791320" y="4191120"/>
                <a:ext cx="433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35" name="Line 28"/>
          <p:cNvSpPr/>
          <p:nvPr/>
        </p:nvSpPr>
        <p:spPr>
          <a:xfrm flipV="1">
            <a:off x="5105520" y="30128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29"/>
              <p:cNvSpPr txBox="1"/>
              <p:nvPr/>
            </p:nvSpPr>
            <p:spPr>
              <a:xfrm>
                <a:off x="8585280" y="5562720"/>
                <a:ext cx="253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30"/>
              <p:cNvSpPr txBox="1"/>
              <p:nvPr/>
            </p:nvSpPr>
            <p:spPr>
              <a:xfrm>
                <a:off x="4800600" y="3022560"/>
                <a:ext cx="27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Line 31"/>
          <p:cNvSpPr/>
          <p:nvPr/>
        </p:nvSpPr>
        <p:spPr>
          <a:xfrm>
            <a:off x="6934320" y="3962520"/>
            <a:ext cx="0" cy="156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3"/>
          <p:cNvSpPr/>
          <p:nvPr/>
        </p:nvSpPr>
        <p:spPr>
          <a:xfrm flipH="1">
            <a:off x="510552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Object 36"/>
          <p:cNvGraphicFramePr/>
          <p:nvPr/>
        </p:nvGraphicFramePr>
        <p:xfrm>
          <a:off x="5532480" y="5070600"/>
          <a:ext cx="38736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2480" y="5070600"/>
                    <a:ext cx="387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37"/>
          <p:cNvGraphicFramePr/>
          <p:nvPr/>
        </p:nvGraphicFramePr>
        <p:xfrm>
          <a:off x="1158840" y="3147840"/>
          <a:ext cx="2416320" cy="26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8840" y="3147840"/>
                    <a:ext cx="2416320" cy="2606760"/>
                  </a:xfrm>
                  <a:prstGeom prst="rect">
                    <a:avLst/>
                  </a:prstGeom>
                  <a:ln w="25560">
                    <a:solidFill>
                      <a:srgbClr val="8dc765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4" name="Object 38"/>
              <p:cNvSpPr txBox="1"/>
              <p:nvPr/>
            </p:nvSpPr>
            <p:spPr>
              <a:xfrm>
                <a:off x="6732720" y="556272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9"/>
              <p:cNvSpPr txBox="1"/>
              <p:nvPr/>
            </p:nvSpPr>
            <p:spPr>
              <a:xfrm>
                <a:off x="4792680" y="3716280"/>
                <a:ext cx="355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6" name="Arc 1"/>
          <p:cNvSpPr/>
          <p:nvPr/>
        </p:nvSpPr>
        <p:spPr>
          <a:xfrm>
            <a:off x="4017960" y="4602240"/>
            <a:ext cx="2166840" cy="1873080"/>
          </a:xfrm>
          <a:custGeom>
            <a:avLst/>
            <a:gdLst/>
            <a:ahLst/>
            <a:rect l="l" t="t" r="r" b="b"/>
            <a:pathLst>
              <a:path stroke="0" w="2166937" h="1873250">
                <a:moveTo>
                  <a:pt x="1083468" y="0"/>
                </a:moveTo>
                <a:cubicBezTo>
                  <a:pt x="1681851" y="0"/>
                  <a:pt x="2166937" y="419341"/>
                  <a:pt x="2166937" y="936625"/>
                </a:cubicBezTo>
                <a:lnTo>
                  <a:pt x="1083469" y="936625"/>
                </a:lnTo>
                <a:cubicBezTo>
                  <a:pt x="1083469" y="624417"/>
                  <a:pt x="1083468" y="312208"/>
                  <a:pt x="1083468" y="0"/>
                </a:cubicBezTo>
                <a:close/>
              </a:path>
              <a:path fill="none" w="2166937" h="1873250">
                <a:moveTo>
                  <a:pt x="1083468" y="0"/>
                </a:moveTo>
                <a:cubicBezTo>
                  <a:pt x="1681851" y="0"/>
                  <a:pt x="2166937" y="419341"/>
                  <a:pt x="2166937" y="93662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7" name="Object 2"/>
          <p:cNvGraphicFramePr/>
          <p:nvPr/>
        </p:nvGraphicFramePr>
        <p:xfrm>
          <a:off x="5192640" y="4711680"/>
          <a:ext cx="38736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2640" y="4711680"/>
                    <a:ext cx="3873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ktori u ravn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0" name="Line 16"/>
          <p:cNvSpPr/>
          <p:nvPr/>
        </p:nvSpPr>
        <p:spPr>
          <a:xfrm flipV="1">
            <a:off x="5257800" y="441936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7"/>
          <p:cNvSpPr/>
          <p:nvPr/>
        </p:nvSpPr>
        <p:spPr>
          <a:xfrm flipH="1">
            <a:off x="7086600" y="32004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8"/>
          <p:cNvSpPr/>
          <p:nvPr/>
        </p:nvSpPr>
        <p:spPr>
          <a:xfrm>
            <a:off x="5029200" y="5029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19"/>
              <p:cNvSpPr txBox="1"/>
              <p:nvPr/>
            </p:nvSpPr>
            <p:spPr>
              <a:xfrm>
                <a:off x="6119640" y="4495680"/>
                <a:ext cx="43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20"/>
              <p:cNvSpPr txBox="1"/>
              <p:nvPr/>
            </p:nvSpPr>
            <p:spPr>
              <a:xfrm>
                <a:off x="7086600" y="3505320"/>
                <a:ext cx="4827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55" name="Line 21"/>
          <p:cNvSpPr/>
          <p:nvPr/>
        </p:nvSpPr>
        <p:spPr>
          <a:xfrm flipV="1">
            <a:off x="5257800" y="25142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2"/>
              <p:cNvSpPr txBox="1"/>
              <p:nvPr/>
            </p:nvSpPr>
            <p:spPr>
              <a:xfrm>
                <a:off x="8686800" y="5105520"/>
                <a:ext cx="433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3"/>
              <p:cNvSpPr txBox="1"/>
              <p:nvPr/>
            </p:nvSpPr>
            <p:spPr>
              <a:xfrm>
                <a:off x="4700520" y="2514600"/>
                <a:ext cx="482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Line 24"/>
          <p:cNvSpPr/>
          <p:nvPr/>
        </p:nvSpPr>
        <p:spPr>
          <a:xfrm>
            <a:off x="708660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25"/>
          <p:cNvSpPr/>
          <p:nvPr/>
        </p:nvSpPr>
        <p:spPr>
          <a:xfrm>
            <a:off x="754380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26"/>
          <p:cNvSpPr/>
          <p:nvPr/>
        </p:nvSpPr>
        <p:spPr>
          <a:xfrm flipH="1">
            <a:off x="525780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7"/>
          <p:cNvSpPr/>
          <p:nvPr/>
        </p:nvSpPr>
        <p:spPr>
          <a:xfrm flipH="1">
            <a:off x="5257800" y="3200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30"/>
              <p:cNvSpPr txBox="1"/>
              <p:nvPr/>
            </p:nvSpPr>
            <p:spPr>
              <a:xfrm>
                <a:off x="1084320" y="4402080"/>
                <a:ext cx="50115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,1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,2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,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3" name="Line 31"/>
          <p:cNvSpPr/>
          <p:nvPr/>
        </p:nvSpPr>
        <p:spPr>
          <a:xfrm flipV="1">
            <a:off x="5257800" y="3200400"/>
            <a:ext cx="2286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32"/>
              <p:cNvSpPr txBox="1"/>
              <p:nvPr/>
            </p:nvSpPr>
            <p:spPr>
              <a:xfrm>
                <a:off x="5492880" y="3375000"/>
                <a:ext cx="1212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ktori</a:t>
            </a: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 u prostor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Line 7"/>
          <p:cNvSpPr/>
          <p:nvPr/>
        </p:nvSpPr>
        <p:spPr>
          <a:xfrm flipV="1">
            <a:off x="3200400" y="332856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8"/>
          <p:cNvSpPr/>
          <p:nvPr/>
        </p:nvSpPr>
        <p:spPr>
          <a:xfrm>
            <a:off x="1523880" y="4471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9"/>
              <p:cNvSpPr txBox="1"/>
              <p:nvPr/>
            </p:nvSpPr>
            <p:spPr>
              <a:xfrm>
                <a:off x="3429000" y="3633840"/>
                <a:ext cx="433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69" name="Line 10"/>
          <p:cNvSpPr/>
          <p:nvPr/>
        </p:nvSpPr>
        <p:spPr>
          <a:xfrm flipV="1">
            <a:off x="3200400" y="21096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11"/>
              <p:cNvSpPr txBox="1"/>
              <p:nvPr/>
            </p:nvSpPr>
            <p:spPr>
              <a:xfrm>
                <a:off x="5105520" y="4440240"/>
                <a:ext cx="482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Line 12"/>
          <p:cNvSpPr/>
          <p:nvPr/>
        </p:nvSpPr>
        <p:spPr>
          <a:xfrm flipH="1">
            <a:off x="1219320" y="4319640"/>
            <a:ext cx="22096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13"/>
          <p:cNvSpPr/>
          <p:nvPr/>
        </p:nvSpPr>
        <p:spPr>
          <a:xfrm>
            <a:off x="3809880" y="3328920"/>
            <a:ext cx="0" cy="2133720"/>
          </a:xfrm>
          <a:prstGeom prst="line">
            <a:avLst/>
          </a:prstGeom>
          <a:ln w="9360">
            <a:solidFill>
              <a:srgbClr val="8dc7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4"/>
          <p:cNvSpPr/>
          <p:nvPr/>
        </p:nvSpPr>
        <p:spPr>
          <a:xfrm flipV="1">
            <a:off x="3809880" y="4471920"/>
            <a:ext cx="990720" cy="990720"/>
          </a:xfrm>
          <a:prstGeom prst="line">
            <a:avLst/>
          </a:prstGeom>
          <a:ln w="9360">
            <a:solidFill>
              <a:srgbClr val="8dc7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15"/>
          <p:cNvSpPr/>
          <p:nvPr/>
        </p:nvSpPr>
        <p:spPr>
          <a:xfrm flipH="1">
            <a:off x="1904760" y="5462640"/>
            <a:ext cx="1904760" cy="0"/>
          </a:xfrm>
          <a:prstGeom prst="line">
            <a:avLst/>
          </a:prstGeom>
          <a:ln w="9360">
            <a:solidFill>
              <a:srgbClr val="8dc7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6"/>
          <p:cNvSpPr/>
          <p:nvPr/>
        </p:nvSpPr>
        <p:spPr>
          <a:xfrm>
            <a:off x="3200400" y="4471920"/>
            <a:ext cx="609480" cy="990720"/>
          </a:xfrm>
          <a:prstGeom prst="line">
            <a:avLst/>
          </a:prstGeom>
          <a:ln w="9360">
            <a:solidFill>
              <a:srgbClr val="8dc7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7"/>
          <p:cNvSpPr/>
          <p:nvPr/>
        </p:nvSpPr>
        <p:spPr>
          <a:xfrm flipH="1" flipV="1">
            <a:off x="3200040" y="2490840"/>
            <a:ext cx="609480" cy="914400"/>
          </a:xfrm>
          <a:prstGeom prst="line">
            <a:avLst/>
          </a:prstGeom>
          <a:ln w="9360">
            <a:solidFill>
              <a:srgbClr val="8dc7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8"/>
          <p:cNvSpPr/>
          <p:nvPr/>
        </p:nvSpPr>
        <p:spPr>
          <a:xfrm flipV="1">
            <a:off x="3200400" y="2490480"/>
            <a:ext cx="0" cy="198108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9"/>
          <p:cNvSpPr/>
          <p:nvPr/>
        </p:nvSpPr>
        <p:spPr>
          <a:xfrm flipH="1">
            <a:off x="1905120" y="4471920"/>
            <a:ext cx="1295280" cy="99072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0"/>
          <p:cNvSpPr/>
          <p:nvPr/>
        </p:nvSpPr>
        <p:spPr>
          <a:xfrm>
            <a:off x="3200400" y="4471920"/>
            <a:ext cx="16002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21"/>
              <p:cNvSpPr txBox="1"/>
              <p:nvPr/>
            </p:nvSpPr>
            <p:spPr>
              <a:xfrm>
                <a:off x="2362320" y="4595760"/>
                <a:ext cx="6094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22"/>
              <p:cNvSpPr txBox="1"/>
              <p:nvPr/>
            </p:nvSpPr>
            <p:spPr>
              <a:xfrm>
                <a:off x="3733920" y="4043520"/>
                <a:ext cx="6094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3"/>
              <p:cNvSpPr txBox="1"/>
              <p:nvPr/>
            </p:nvSpPr>
            <p:spPr>
              <a:xfrm>
                <a:off x="2992320" y="3068640"/>
                <a:ext cx="567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4"/>
              <p:cNvSpPr txBox="1"/>
              <p:nvPr/>
            </p:nvSpPr>
            <p:spPr>
              <a:xfrm>
                <a:off x="3276720" y="2057400"/>
                <a:ext cx="43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5"/>
              <p:cNvSpPr txBox="1"/>
              <p:nvPr/>
            </p:nvSpPr>
            <p:spPr>
              <a:xfrm>
                <a:off x="5445000" y="2414520"/>
                <a:ext cx="32418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6"/>
              <p:cNvSpPr txBox="1"/>
              <p:nvPr/>
            </p:nvSpPr>
            <p:spPr>
              <a:xfrm>
                <a:off x="1371600" y="5767560"/>
                <a:ext cx="433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ože da iskaže brojem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ožemo da pojmimo manje i veće 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 može da se mer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rikaz fizičke veličine: </a:t>
            </a: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BROJ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 i </a:t>
            </a: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JEDIN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2209680" y="4038480"/>
            <a:ext cx="2057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 = 5 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v =10 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2057400" y="3962520"/>
            <a:ext cx="2438280" cy="1218960"/>
          </a:xfrm>
          <a:prstGeom prst="ellipse">
            <a:avLst/>
          </a:prstGeom>
          <a:noFill/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6172200" y="4876920"/>
            <a:ext cx="2057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v 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6019920" y="4800600"/>
            <a:ext cx="2438280" cy="121932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6019920" y="4724280"/>
            <a:ext cx="251460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 flipV="1">
            <a:off x="6095880" y="4571640"/>
            <a:ext cx="221004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828800" y="5791320"/>
            <a:ext cx="3581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izička veličin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ni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b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 flipH="1">
            <a:off x="3429000" y="35053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"/>
          <p:cNvSpPr/>
          <p:nvPr/>
        </p:nvSpPr>
        <p:spPr>
          <a:xfrm flipH="1">
            <a:off x="4114800" y="3581280"/>
            <a:ext cx="1905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 slučaj da niste do sada ukapirali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BROJEVE proučava MATEMATIKA (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edojev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ić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FIZIKA proučava FIZIČKE VELIČINE (Šoškić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676520" y="4114800"/>
            <a:ext cx="6019560" cy="1099440"/>
          </a:xfrm>
          <a:prstGeom prst="rect">
            <a:avLst/>
          </a:prstGeom>
          <a:noFill/>
          <a:ln w="824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Times New Roman"/>
              </a:rPr>
              <a:t>broj I jedinic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j se naziva MERA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fizičk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l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ređuje se merenj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619280" y="3645000"/>
            <a:ext cx="6019920" cy="2910960"/>
          </a:xfrm>
          <a:prstGeom prst="rect">
            <a:avLst/>
          </a:prstGeom>
          <a:noFill/>
          <a:ln w="824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renje 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poređivanja neke fizičke ve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a njenom jedini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j se naziva MERA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fizičk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l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ređuje se merenj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619280" y="3645000"/>
            <a:ext cx="6019920" cy="2910960"/>
          </a:xfrm>
          <a:prstGeom prst="rect">
            <a:avLst/>
          </a:prstGeom>
          <a:noFill/>
          <a:ln w="824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renje 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poređivanja neke fizičke ve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a njenom jedini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0d0d0d"/>
                </a:solidFill>
                <a:latin typeface="Gill Sans MT"/>
              </a:rPr>
              <a:t>MERENJ</a:t>
            </a:r>
            <a:r>
              <a:rPr b="0" lang="en-US" sz="4300" spc="-1" strike="noStrike">
                <a:solidFill>
                  <a:srgbClr val="0d0d0d"/>
                </a:solidFill>
                <a:latin typeface="Gill Sans MT"/>
              </a:rPr>
              <a:t>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537160" y="3794040"/>
            <a:ext cx="507960" cy="52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5537160" y="3273480"/>
            <a:ext cx="5079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5537160" y="2752560"/>
            <a:ext cx="507960" cy="52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1219320" y="4314960"/>
            <a:ext cx="5715000" cy="1561680"/>
            <a:chOff x="1219320" y="4314960"/>
            <a:chExt cx="5715000" cy="1561680"/>
          </a:xfrm>
        </p:grpSpPr>
        <p:grpSp>
          <p:nvGrpSpPr>
            <p:cNvPr id="354" name="Rectangle 18"/>
            <p:cNvGrpSpPr/>
            <p:nvPr/>
          </p:nvGrpSpPr>
          <p:grpSpPr>
            <a:xfrm>
              <a:off x="1219320" y="4314960"/>
              <a:ext cx="2370240" cy="490680"/>
              <a:chOff x="1219320" y="4314960"/>
              <a:chExt cx="2370240" cy="490680"/>
            </a:xfrm>
          </p:grpSpPr>
          <p:pic>
            <p:nvPicPr>
              <p:cNvPr id="355" name="Rectangle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4314960"/>
                <a:ext cx="2370240" cy="4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1290600" y="4358520"/>
                <a:ext cx="222768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Rectangle 19"/>
            <p:cNvGrpSpPr/>
            <p:nvPr/>
          </p:nvGrpSpPr>
          <p:grpSpPr>
            <a:xfrm>
              <a:off x="4564080" y="4314960"/>
              <a:ext cx="2370240" cy="490680"/>
              <a:chOff x="4564080" y="4314960"/>
              <a:chExt cx="2370240" cy="490680"/>
            </a:xfrm>
          </p:grpSpPr>
          <p:pic>
            <p:nvPicPr>
              <p:cNvPr id="358" name="Rectangl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4564080" y="4314960"/>
                <a:ext cx="2370240" cy="4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4632120" y="4358520"/>
                <a:ext cx="222768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0" name="Elbow Connector 20" descr=""/>
            <p:cNvPicPr/>
            <p:nvPr/>
          </p:nvPicPr>
          <p:blipFill>
            <a:blip r:embed="rId3"/>
            <a:stretch/>
          </p:blipFill>
          <p:spPr>
            <a:xfrm>
              <a:off x="2342160" y="4666320"/>
              <a:ext cx="3481200" cy="87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Oval 21"/>
            <p:cNvGrpSpPr/>
            <p:nvPr/>
          </p:nvGrpSpPr>
          <p:grpSpPr>
            <a:xfrm>
              <a:off x="3696480" y="5028840"/>
              <a:ext cx="884880" cy="847800"/>
              <a:chOff x="3696480" y="5028840"/>
              <a:chExt cx="884880" cy="847800"/>
            </a:xfrm>
          </p:grpSpPr>
          <p:pic>
            <p:nvPicPr>
              <p:cNvPr id="362" name="Oval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696480" y="5028840"/>
                <a:ext cx="884880" cy="8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3874320" y="5177520"/>
                <a:ext cx="524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Oval 22"/>
          <p:cNvSpPr/>
          <p:nvPr/>
        </p:nvSpPr>
        <p:spPr>
          <a:xfrm>
            <a:off x="1600200" y="2752560"/>
            <a:ext cx="1503360" cy="1562400"/>
          </a:xfrm>
          <a:prstGeom prst="ellipse">
            <a:avLst/>
          </a:prstGeom>
          <a:solidFill>
            <a:srgbClr val="b9d77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Object 23"/>
          <p:cNvGraphicFramePr/>
          <p:nvPr/>
        </p:nvGraphicFramePr>
        <p:xfrm>
          <a:off x="7924680" y="3706920"/>
          <a:ext cx="954360" cy="69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3706920"/>
                    <a:ext cx="9543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67" name="Straight Arrow Connector 5"/>
          <p:cNvCxnSpPr>
            <a:stCxn id="350" idx="3"/>
          </p:cNvCxnSpPr>
          <p:nvPr/>
        </p:nvCxnSpPr>
        <p:spPr>
          <a:xfrm>
            <a:off x="6045120" y="4053960"/>
            <a:ext cx="161208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Merenj</a:t>
            </a:r>
            <a:r>
              <a:rPr b="0" lang="en-US" sz="4300" spc="-1" strike="noStrike">
                <a:solidFill>
                  <a:srgbClr val="0d0d0d"/>
                </a:solidFill>
                <a:latin typeface="Gill Sans MT"/>
              </a:rPr>
              <a:t>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2362320"/>
            <a:ext cx="800100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ere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irekt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direkt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0" name="Group 13"/>
          <p:cNvGrpSpPr/>
          <p:nvPr/>
        </p:nvGrpSpPr>
        <p:grpSpPr>
          <a:xfrm>
            <a:off x="1332000" y="4419720"/>
            <a:ext cx="3429000" cy="1828800"/>
            <a:chOff x="1332000" y="4419720"/>
            <a:chExt cx="3429000" cy="1828800"/>
          </a:xfrm>
        </p:grpSpPr>
        <p:sp>
          <p:nvSpPr>
            <p:cNvPr id="371" name="Rectangle 14"/>
            <p:cNvSpPr/>
            <p:nvPr/>
          </p:nvSpPr>
          <p:spPr>
            <a:xfrm>
              <a:off x="3887640" y="4998240"/>
              <a:ext cx="29196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Rectangle 17"/>
            <p:cNvGrpSpPr/>
            <p:nvPr/>
          </p:nvGrpSpPr>
          <p:grpSpPr>
            <a:xfrm>
              <a:off x="1332000" y="5241600"/>
              <a:ext cx="1454400" cy="358560"/>
              <a:chOff x="1332000" y="5241600"/>
              <a:chExt cx="1454400" cy="358560"/>
            </a:xfrm>
          </p:grpSpPr>
          <p:pic>
            <p:nvPicPr>
              <p:cNvPr id="373" name="Rectangle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5241600"/>
                <a:ext cx="1454400" cy="35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1404720" y="5287680"/>
                <a:ext cx="131436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Rectangle 18"/>
            <p:cNvGrpSpPr/>
            <p:nvPr/>
          </p:nvGrpSpPr>
          <p:grpSpPr>
            <a:xfrm>
              <a:off x="3306600" y="5241600"/>
              <a:ext cx="1454400" cy="358560"/>
              <a:chOff x="3306600" y="5241600"/>
              <a:chExt cx="1454400" cy="358560"/>
            </a:xfrm>
          </p:grpSpPr>
          <p:pic>
            <p:nvPicPr>
              <p:cNvPr id="376" name="Rectangl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306600" y="5241600"/>
                <a:ext cx="1454400" cy="35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3376440" y="5287680"/>
                <a:ext cx="131436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8" name="Elbow Connector 19" descr=""/>
            <p:cNvPicPr/>
            <p:nvPr/>
          </p:nvPicPr>
          <p:blipFill>
            <a:blip r:embed="rId3"/>
            <a:stretch/>
          </p:blipFill>
          <p:spPr>
            <a:xfrm>
              <a:off x="1998000" y="5455800"/>
              <a:ext cx="2108880" cy="35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Oval 20"/>
            <p:cNvGrpSpPr/>
            <p:nvPr/>
          </p:nvGrpSpPr>
          <p:grpSpPr>
            <a:xfrm>
              <a:off x="2792520" y="5675760"/>
              <a:ext cx="578160" cy="572760"/>
              <a:chOff x="2792520" y="5675760"/>
              <a:chExt cx="578160" cy="572760"/>
            </a:xfrm>
          </p:grpSpPr>
          <p:pic>
            <p:nvPicPr>
              <p:cNvPr id="380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792520" y="5675760"/>
                <a:ext cx="578160" cy="5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2929680" y="5785560"/>
                <a:ext cx="3096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Rectangle 21"/>
            <p:cNvSpPr/>
            <p:nvPr/>
          </p:nvSpPr>
          <p:spPr>
            <a:xfrm>
              <a:off x="1404720" y="4419720"/>
              <a:ext cx="1314360" cy="86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3" name="Object 12"/>
          <p:cNvGraphicFramePr/>
          <p:nvPr/>
        </p:nvGraphicFramePr>
        <p:xfrm>
          <a:off x="2762280" y="6375240"/>
          <a:ext cx="457200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2280" y="6375240"/>
                    <a:ext cx="45720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36"/>
          <p:cNvGraphicFramePr/>
          <p:nvPr/>
        </p:nvGraphicFramePr>
        <p:xfrm>
          <a:off x="6389640" y="3898800"/>
          <a:ext cx="149868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9640" y="3898800"/>
                    <a:ext cx="1498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7" name="Group 3"/>
          <p:cNvGrpSpPr/>
          <p:nvPr/>
        </p:nvGrpSpPr>
        <p:grpSpPr>
          <a:xfrm>
            <a:off x="5522760" y="4114800"/>
            <a:ext cx="3429000" cy="2130480"/>
            <a:chOff x="5522760" y="4114800"/>
            <a:chExt cx="3429000" cy="2130480"/>
          </a:xfrm>
        </p:grpSpPr>
        <p:sp>
          <p:nvSpPr>
            <p:cNvPr id="388" name="Rectangle 4"/>
            <p:cNvSpPr/>
            <p:nvPr/>
          </p:nvSpPr>
          <p:spPr>
            <a:xfrm>
              <a:off x="8079840" y="4987440"/>
              <a:ext cx="292320" cy="29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5"/>
            <p:cNvSpPr/>
            <p:nvPr/>
          </p:nvSpPr>
          <p:spPr>
            <a:xfrm>
              <a:off x="8079840" y="4695480"/>
              <a:ext cx="292320" cy="29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6"/>
            <p:cNvSpPr/>
            <p:nvPr/>
          </p:nvSpPr>
          <p:spPr>
            <a:xfrm>
              <a:off x="8079840" y="4403520"/>
              <a:ext cx="292320" cy="29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Rectangle 7"/>
            <p:cNvGrpSpPr/>
            <p:nvPr/>
          </p:nvGrpSpPr>
          <p:grpSpPr>
            <a:xfrm>
              <a:off x="5522760" y="5229720"/>
              <a:ext cx="1456920" cy="361800"/>
              <a:chOff x="5522760" y="5229720"/>
              <a:chExt cx="1456920" cy="361800"/>
            </a:xfrm>
          </p:grpSpPr>
          <p:pic>
            <p:nvPicPr>
              <p:cNvPr id="392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5522760" y="5229720"/>
                <a:ext cx="145692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5592600" y="5279040"/>
                <a:ext cx="131652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Rectangle 8"/>
            <p:cNvGrpSpPr/>
            <p:nvPr/>
          </p:nvGrpSpPr>
          <p:grpSpPr>
            <a:xfrm>
              <a:off x="7494840" y="5229720"/>
              <a:ext cx="1456920" cy="361800"/>
              <a:chOff x="7494840" y="5229720"/>
              <a:chExt cx="1456920" cy="361800"/>
            </a:xfrm>
          </p:grpSpPr>
          <p:pic>
            <p:nvPicPr>
              <p:cNvPr id="395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94840" y="5229720"/>
                <a:ext cx="145692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7567920" y="5279040"/>
                <a:ext cx="131652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7" name="Elbow Connector 9" descr=""/>
            <p:cNvPicPr/>
            <p:nvPr/>
          </p:nvPicPr>
          <p:blipFill>
            <a:blip r:embed="rId11"/>
            <a:stretch/>
          </p:blipFill>
          <p:spPr>
            <a:xfrm>
              <a:off x="6189840" y="5451480"/>
              <a:ext cx="2112480" cy="35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Oval 10"/>
            <p:cNvGrpSpPr/>
            <p:nvPr/>
          </p:nvGrpSpPr>
          <p:grpSpPr>
            <a:xfrm>
              <a:off x="6985440" y="5667480"/>
              <a:ext cx="579240" cy="577800"/>
              <a:chOff x="6985440" y="5667480"/>
              <a:chExt cx="579240" cy="577800"/>
            </a:xfrm>
          </p:grpSpPr>
          <p:pic>
            <p:nvPicPr>
              <p:cNvPr id="399" name="Oval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6985440" y="5667480"/>
                <a:ext cx="57924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7119720" y="5780880"/>
                <a:ext cx="31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Rectangle 1"/>
            <p:cNvSpPr/>
            <p:nvPr/>
          </p:nvSpPr>
          <p:spPr>
            <a:xfrm>
              <a:off x="5592600" y="4403520"/>
              <a:ext cx="1316520" cy="875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2"/>
            <p:cNvSpPr/>
            <p:nvPr/>
          </p:nvSpPr>
          <p:spPr>
            <a:xfrm>
              <a:off x="5592600" y="4622400"/>
              <a:ext cx="1316520" cy="65664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37"/>
            <p:cNvSpPr/>
            <p:nvPr/>
          </p:nvSpPr>
          <p:spPr>
            <a:xfrm>
              <a:off x="8079840" y="4114800"/>
              <a:ext cx="292320" cy="29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26"/>
          <p:cNvGrpSpPr/>
          <p:nvPr/>
        </p:nvGrpSpPr>
        <p:grpSpPr>
          <a:xfrm>
            <a:off x="5246640" y="1989000"/>
            <a:ext cx="3429000" cy="1828800"/>
            <a:chOff x="5246640" y="1989000"/>
            <a:chExt cx="3429000" cy="1828800"/>
          </a:xfrm>
        </p:grpSpPr>
        <p:sp>
          <p:nvSpPr>
            <p:cNvPr id="405" name="Rectangle 29"/>
            <p:cNvSpPr/>
            <p:nvPr/>
          </p:nvSpPr>
          <p:spPr>
            <a:xfrm>
              <a:off x="7801920" y="2568240"/>
              <a:ext cx="292320" cy="28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0"/>
            <p:cNvSpPr/>
            <p:nvPr/>
          </p:nvSpPr>
          <p:spPr>
            <a:xfrm>
              <a:off x="7801920" y="2278440"/>
              <a:ext cx="292320" cy="28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1"/>
            <p:cNvSpPr/>
            <p:nvPr/>
          </p:nvSpPr>
          <p:spPr>
            <a:xfrm>
              <a:off x="7801920" y="1989000"/>
              <a:ext cx="292320" cy="28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Rectangle 32"/>
            <p:cNvGrpSpPr/>
            <p:nvPr/>
          </p:nvGrpSpPr>
          <p:grpSpPr>
            <a:xfrm>
              <a:off x="5246640" y="2809800"/>
              <a:ext cx="1456920" cy="358920"/>
              <a:chOff x="5246640" y="2809800"/>
              <a:chExt cx="1456920" cy="358920"/>
            </a:xfrm>
          </p:grpSpPr>
          <p:pic>
            <p:nvPicPr>
              <p:cNvPr id="409" name="Rectangle 32" descr=""/>
              <p:cNvPicPr/>
              <p:nvPr/>
            </p:nvPicPr>
            <p:blipFill>
              <a:blip r:embed="rId13"/>
              <a:stretch/>
            </p:blipFill>
            <p:spPr>
              <a:xfrm>
                <a:off x="5246640" y="2809800"/>
                <a:ext cx="1456920" cy="3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5314680" y="2857680"/>
                <a:ext cx="131652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Rectangle 33"/>
            <p:cNvGrpSpPr/>
            <p:nvPr/>
          </p:nvGrpSpPr>
          <p:grpSpPr>
            <a:xfrm>
              <a:off x="7218720" y="2809800"/>
              <a:ext cx="1456920" cy="358920"/>
              <a:chOff x="7218720" y="2809800"/>
              <a:chExt cx="1456920" cy="358920"/>
            </a:xfrm>
          </p:grpSpPr>
          <p:pic>
            <p:nvPicPr>
              <p:cNvPr id="412" name="Rectangle 33" descr=""/>
              <p:cNvPicPr/>
              <p:nvPr/>
            </p:nvPicPr>
            <p:blipFill>
              <a:blip r:embed="rId14"/>
              <a:stretch/>
            </p:blipFill>
            <p:spPr>
              <a:xfrm>
                <a:off x="7218720" y="2809800"/>
                <a:ext cx="1456920" cy="3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7289640" y="2857680"/>
                <a:ext cx="131652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4" name="Elbow Connector 34" descr=""/>
            <p:cNvPicPr/>
            <p:nvPr/>
          </p:nvPicPr>
          <p:blipFill>
            <a:blip r:embed="rId15"/>
            <a:stretch/>
          </p:blipFill>
          <p:spPr>
            <a:xfrm>
              <a:off x="5907600" y="3030120"/>
              <a:ext cx="2112480" cy="5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Oval 35"/>
            <p:cNvGrpSpPr/>
            <p:nvPr/>
          </p:nvGrpSpPr>
          <p:grpSpPr>
            <a:xfrm>
              <a:off x="6709320" y="3244320"/>
              <a:ext cx="579240" cy="573480"/>
              <a:chOff x="6709320" y="3244320"/>
              <a:chExt cx="579240" cy="573480"/>
            </a:xfrm>
          </p:grpSpPr>
          <p:pic>
            <p:nvPicPr>
              <p:cNvPr id="416" name="Oval 35" descr=""/>
              <p:cNvPicPr/>
              <p:nvPr/>
            </p:nvPicPr>
            <p:blipFill>
              <a:blip r:embed="rId16"/>
              <a:stretch/>
            </p:blipFill>
            <p:spPr>
              <a:xfrm>
                <a:off x="6709320" y="3244320"/>
                <a:ext cx="579240" cy="5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6841800" y="3355920"/>
                <a:ext cx="31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Oval 25"/>
            <p:cNvSpPr/>
            <p:nvPr/>
          </p:nvSpPr>
          <p:spPr>
            <a:xfrm>
              <a:off x="5534280" y="1989000"/>
              <a:ext cx="865440" cy="86904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Greška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900000" y="249408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ma tačnih m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Greška merenja je element merenj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Grešku ne znamo, ali možemo da je proce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Object 14"/>
          <p:cNvGraphicFramePr/>
          <p:nvPr/>
        </p:nvGraphicFramePr>
        <p:xfrm>
          <a:off x="2349360" y="6100920"/>
          <a:ext cx="15242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9360" y="6100920"/>
                    <a:ext cx="15242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Group 1"/>
          <p:cNvGrpSpPr/>
          <p:nvPr/>
        </p:nvGrpSpPr>
        <p:grpSpPr>
          <a:xfrm>
            <a:off x="1219320" y="4191120"/>
            <a:ext cx="3429000" cy="1828800"/>
            <a:chOff x="1219320" y="4191120"/>
            <a:chExt cx="3429000" cy="1828800"/>
          </a:xfrm>
        </p:grpSpPr>
        <p:sp>
          <p:nvSpPr>
            <p:cNvPr id="424" name="Rectangle 16"/>
            <p:cNvSpPr/>
            <p:nvPr/>
          </p:nvSpPr>
          <p:spPr>
            <a:xfrm>
              <a:off x="3772080" y="4479840"/>
              <a:ext cx="29196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7"/>
            <p:cNvSpPr/>
            <p:nvPr/>
          </p:nvSpPr>
          <p:spPr>
            <a:xfrm>
              <a:off x="3772080" y="4191120"/>
              <a:ext cx="29196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Rectangle 19"/>
            <p:cNvGrpSpPr/>
            <p:nvPr/>
          </p:nvGrpSpPr>
          <p:grpSpPr>
            <a:xfrm>
              <a:off x="1219320" y="5014440"/>
              <a:ext cx="1454400" cy="352440"/>
              <a:chOff x="1219320" y="5014440"/>
              <a:chExt cx="1454400" cy="352440"/>
            </a:xfrm>
          </p:grpSpPr>
          <p:pic>
            <p:nvPicPr>
              <p:cNvPr id="427" name="Rectangle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9320" y="5014440"/>
                <a:ext cx="1454400" cy="3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1289160" y="5057640"/>
                <a:ext cx="1314360" cy="2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Rectangle 20"/>
            <p:cNvGrpSpPr/>
            <p:nvPr/>
          </p:nvGrpSpPr>
          <p:grpSpPr>
            <a:xfrm>
              <a:off x="3193920" y="4725360"/>
              <a:ext cx="1454400" cy="352440"/>
              <a:chOff x="3193920" y="4725360"/>
              <a:chExt cx="1454400" cy="352440"/>
            </a:xfrm>
          </p:grpSpPr>
          <p:pic>
            <p:nvPicPr>
              <p:cNvPr id="430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3193920" y="4725360"/>
                <a:ext cx="1454400" cy="3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3260880" y="4768560"/>
                <a:ext cx="1314360" cy="2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32" name="Elbow Connector 21" descr=""/>
            <p:cNvPicPr/>
            <p:nvPr/>
          </p:nvPicPr>
          <p:blipFill>
            <a:blip r:embed="rId5"/>
            <a:stretch/>
          </p:blipFill>
          <p:spPr>
            <a:xfrm>
              <a:off x="1879200" y="4945320"/>
              <a:ext cx="2108880" cy="64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Oval 22"/>
            <p:cNvGrpSpPr/>
            <p:nvPr/>
          </p:nvGrpSpPr>
          <p:grpSpPr>
            <a:xfrm>
              <a:off x="2679840" y="5447880"/>
              <a:ext cx="578160" cy="572040"/>
              <a:chOff x="2679840" y="5447880"/>
              <a:chExt cx="578160" cy="572040"/>
            </a:xfrm>
          </p:grpSpPr>
          <p:pic>
            <p:nvPicPr>
              <p:cNvPr id="434" name="Oval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2679840" y="5447880"/>
                <a:ext cx="57816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2814120" y="5554440"/>
                <a:ext cx="30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Oval 23"/>
            <p:cNvSpPr/>
            <p:nvPr/>
          </p:nvSpPr>
          <p:spPr>
            <a:xfrm>
              <a:off x="1508400" y="4191120"/>
              <a:ext cx="864000" cy="86688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7" name="Object 24"/>
          <p:cNvGraphicFramePr/>
          <p:nvPr/>
        </p:nvGraphicFramePr>
        <p:xfrm>
          <a:off x="6343560" y="6100920"/>
          <a:ext cx="149868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8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43560" y="6100920"/>
                    <a:ext cx="14986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9" name="Group 2"/>
          <p:cNvGrpSpPr/>
          <p:nvPr/>
        </p:nvGrpSpPr>
        <p:grpSpPr>
          <a:xfrm>
            <a:off x="5334120" y="4038480"/>
            <a:ext cx="3429000" cy="1981440"/>
            <a:chOff x="5334120" y="4038480"/>
            <a:chExt cx="3429000" cy="1981440"/>
          </a:xfrm>
        </p:grpSpPr>
        <p:sp>
          <p:nvSpPr>
            <p:cNvPr id="440" name="Rectangle 26"/>
            <p:cNvSpPr/>
            <p:nvPr/>
          </p:nvSpPr>
          <p:spPr>
            <a:xfrm>
              <a:off x="7886880" y="4763880"/>
              <a:ext cx="291960" cy="290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27"/>
            <p:cNvSpPr/>
            <p:nvPr/>
          </p:nvSpPr>
          <p:spPr>
            <a:xfrm>
              <a:off x="7886880" y="4473720"/>
              <a:ext cx="291960" cy="290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8"/>
            <p:cNvSpPr/>
            <p:nvPr/>
          </p:nvSpPr>
          <p:spPr>
            <a:xfrm>
              <a:off x="7886880" y="4183560"/>
              <a:ext cx="291960" cy="290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Rectangle 29"/>
            <p:cNvGrpSpPr/>
            <p:nvPr/>
          </p:nvGrpSpPr>
          <p:grpSpPr>
            <a:xfrm>
              <a:off x="5334120" y="4865400"/>
              <a:ext cx="1454400" cy="353880"/>
              <a:chOff x="5334120" y="4865400"/>
              <a:chExt cx="1454400" cy="353880"/>
            </a:xfrm>
          </p:grpSpPr>
          <p:pic>
            <p:nvPicPr>
              <p:cNvPr id="444" name="Rectangl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5334120" y="4865400"/>
                <a:ext cx="14544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5403960" y="4908600"/>
                <a:ext cx="13143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Rectangle 30"/>
            <p:cNvGrpSpPr/>
            <p:nvPr/>
          </p:nvGrpSpPr>
          <p:grpSpPr>
            <a:xfrm>
              <a:off x="7308720" y="5010480"/>
              <a:ext cx="1454400" cy="353880"/>
              <a:chOff x="7308720" y="5010480"/>
              <a:chExt cx="1454400" cy="353880"/>
            </a:xfrm>
          </p:grpSpPr>
          <p:pic>
            <p:nvPicPr>
              <p:cNvPr id="447" name="Rectangle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08720" y="5010480"/>
                <a:ext cx="14544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7375680" y="5053680"/>
                <a:ext cx="13143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9" name="Elbow Connector 31" descr=""/>
            <p:cNvPicPr/>
            <p:nvPr/>
          </p:nvPicPr>
          <p:blipFill>
            <a:blip r:embed="rId11"/>
            <a:stretch/>
          </p:blipFill>
          <p:spPr>
            <a:xfrm>
              <a:off x="5994000" y="5085720"/>
              <a:ext cx="2108880" cy="49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Oval 32"/>
            <p:cNvGrpSpPr/>
            <p:nvPr/>
          </p:nvGrpSpPr>
          <p:grpSpPr>
            <a:xfrm>
              <a:off x="6794640" y="5445720"/>
              <a:ext cx="578160" cy="574200"/>
              <a:chOff x="6794640" y="5445720"/>
              <a:chExt cx="578160" cy="574200"/>
            </a:xfrm>
          </p:grpSpPr>
          <p:pic>
            <p:nvPicPr>
              <p:cNvPr id="451" name="Oval 3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94640" y="5445720"/>
                <a:ext cx="57816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6928920" y="5552640"/>
                <a:ext cx="30960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Oval 33"/>
            <p:cNvSpPr/>
            <p:nvPr/>
          </p:nvSpPr>
          <p:spPr>
            <a:xfrm>
              <a:off x="5623200" y="4038480"/>
              <a:ext cx="864000" cy="87048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0:39:41Z</dcterms:created>
  <dc:creator>Zlatan Soskic</dc:creator>
  <dc:description/>
  <dc:language>en-US</dc:language>
  <cp:lastModifiedBy>Zlatan Soskic</cp:lastModifiedBy>
  <dcterms:modified xsi:type="dcterms:W3CDTF">2019-10-10T10:38:34Z</dcterms:modified>
  <cp:revision>74</cp:revision>
  <dc:subject/>
  <dc:title>Fizika</dc:title>
</cp:coreProperties>
</file>