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41661-93E9-4D46-9713-55D46836D740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56EC6-2B93-4FEF-AEF0-0DD9B84BD5B2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C4264-D66E-47D0-A7E7-F8F74CC2D7FA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F83C9-4190-4F62-8898-5E673370B4B6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59DF7-5B0E-46C6-BA07-BACE4583ECED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1C861-51A0-40B6-938A-154E282A4925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40FD4-EEF3-4221-8F29-22478419F905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6A412-45ED-45D1-B0ED-2EC8034CAEE0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205EB-5A0D-47B2-9971-34FF9B10D627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DC7FB-E764-43C4-A756-8D0A339FC2C2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95D07-1EEA-4037-85EF-6856AF0BEF53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09D34-7436-4A49-B46B-145FCA4DB0D4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27FC-AD73-4D56-98CE-AEFED205E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EBC5-61D4-49BA-9C1F-972187C46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A46A-F02D-485F-BADD-5ABC62804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4E9D-F35C-4058-BC51-41E653F24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233B7-BB7C-4D2E-955A-B02232508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015C2-A655-401A-B78A-EF36C8F8E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8B133-46CE-467A-A825-FA53BEC2E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53059-E7D9-4875-A4AC-FAD4A1F72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DF671-CFAB-4720-A169-6FA475C1C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1FE0B-5040-4A6B-AD40-8B0A9D4F1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3C2FC-2A72-4ED6-AA5C-0F35081B7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33AD-2932-4E2B-BBBF-4C2A84651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48B69-2D74-4AFE-BDA6-17D70E0A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F06DE-2F75-4ACC-9469-73EB08C9D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1ED71-553D-4A92-8391-F4E63926B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2F014-9A76-4CF9-9B4B-6A9C654F9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CB2AF-B576-4217-B2EB-685F7FD86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6CED4-00FA-48AB-9674-750B25584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812D9-3A93-4E5F-B880-CA0D95F3B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810E9-6389-4BF0-8043-204E698BD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1459B-E59A-46C1-8A7F-62CC7F10F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B0FA0-3AC2-4690-9D86-89536AB1C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79BD-E1D7-45E9-AE63-2F0F478AA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77206-2F8A-4456-A487-53EC2F023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D4380-BBFB-4F4B-896F-ADF2945A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3D14A-2A74-48B5-97B7-B8E67E8B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67C4B-36D4-4726-9E84-FC680589B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5EB24-F652-4A93-9E4D-3D66CF720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91A94-1C98-4BC4-ACDA-D22EBCC94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4DDD7-5D65-475D-AC9C-C649483B6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75C15-16F9-4893-B481-65DF88AF1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42720-65DE-489A-B2C2-6C25787B4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59AF7-6CDD-4B9E-B6F6-112CAC3A1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811A-19D0-48FD-855D-23CDB92BC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98D9A-1522-4E85-A4C8-7E37C17F3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7311D-5464-437F-9344-751A4334D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DF9B1-DF87-424E-BB04-997AC39F6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BFB8B-5B08-4734-BC0D-6D050A80F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5F6CD-C39B-426B-AF8D-9A2537DB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EB25A-E0C9-4675-8541-295734D6E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89450-2B71-4FE6-9231-05B5F8786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AD34B-5870-4A5F-A263-025F810F0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0E552-9D0C-4300-8DFD-C467EB33B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30F41A-1D89-43AD-8CED-2C6797EFC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04AD-EC41-4245-978E-FEC01696D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14AA28-408C-4601-88C3-76E84D4DE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1A9D2-2CAA-45AD-828D-B4AC5085E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6C1B2-485A-457D-A050-B531A0B43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BE3359-0FEC-4029-AC25-B01A321F7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D32FD-7E4F-4722-A1AF-8E0B8C530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4D163-9C37-4286-949A-5CB627C8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D7DA43-EAF3-4D7E-B9EF-97ED51857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5CE8B9-1318-44EE-86DC-A0B3327C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36D35-C4E3-4CC0-97AA-7CB546D32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AC090-D0B7-4638-B004-FDA0CC3B0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E13E-1162-4A0C-891E-3C62E4A14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9A43B-6B32-4B4C-A204-182166CB5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0B9005-9232-4ED8-A13F-0ECA0C515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F56238-0BFB-4325-A384-33BAF58BB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DB7ECD-01D2-4E40-8D5E-B23BD7210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144D06-49AE-473E-830E-11E1FE8EA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2E7024-14EB-48FD-826E-710FC121D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82B191-62F6-4E65-9BE0-2F9994BE1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2A247F-99BA-45F5-864A-6CF8118C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3D2B86-4A13-42C2-9D38-F53F0C74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15290D-C10F-406D-A25D-3F5698A16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2ED6-84A7-4788-8B0B-FF5B64E9D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2F181A-64E3-40F9-93A3-E2D0A2927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D30092-29C4-4CD8-B249-F38794995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6DF161-4B76-470D-8216-94236CC53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49ED15-7CDA-4AD4-9633-E230D28A7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57041B-33E8-4E3E-B310-FFDAFCA41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D3A7FE-E66F-4FEE-B57A-B34F62EB8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3339B0-4CD3-4C1C-85B3-DAD4B014C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F2A7C2-F8DE-440F-BE85-18BA47AB2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66298D-6C66-4C08-B487-BD719E8A5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AAC812-CB6C-4B50-AC80-DC025F19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AF9F-1ABE-4729-99C9-576704268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7F5CE8-300D-4FBB-AFDD-9977D9907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5FD0FD-38A7-4416-BCD3-4D5D4ADC8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1530DA-C06F-475A-85E0-77A1B10F8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78C51A-795C-4016-8C55-594493079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5C7ECA-5D7D-42A4-9414-5F0131DB5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5337-3489-4D18-BC3B-662C2786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90884-BC1F-4F34-B431-5F94A85B5FA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164BC-53D2-454F-AB12-B68E7C617027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43E0E-6D28-4533-8FB7-290E3A594E02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122BF-922F-41D1-9015-33D833E65283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055E5-C794-41E6-AF20-8CF27F8165E2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5552B-C12F-4814-8998-A3EA3427498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46D87-1056-4FBB-B29F-46BF524AF0BD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300" spc="-1" strike="noStrike">
                <a:solidFill>
                  <a:srgbClr val="572314"/>
                </a:solidFill>
                <a:latin typeface="Gill Sans MT"/>
              </a:rPr>
              <a:t>Tehnička f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izik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Uvod u </a:t>
            </a:r>
            <a:r>
              <a:rPr b="0" lang="sr-Latn-RS" sz="2600" spc="-1" strike="noStrike">
                <a:solidFill>
                  <a:srgbClr val="320e04"/>
                </a:solidFill>
                <a:latin typeface="Gill Sans MT"/>
              </a:rPr>
              <a:t>Tehničku </a:t>
            </a: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fiziku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Cilj fizik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Objasniti prošlos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aa8a14"/>
                </a:solidFill>
                <a:latin typeface="Gill Sans MT"/>
              </a:rPr>
              <a:t>Predvideti budućnos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Tehnička fizik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Tehnika </a:t>
            </a:r>
            <a:r>
              <a:rPr b="0" lang="hr-HR" sz="3200" spc="-1" strike="noStrike" u="sng">
                <a:solidFill>
                  <a:srgbClr val="000000"/>
                </a:solidFill>
                <a:uFillTx/>
                <a:latin typeface="Gill Sans MT"/>
              </a:rPr>
              <a:t>je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primenjena fizik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Kretanje-Mehanik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Toplota-Termodinamik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Svetlost-Optik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Zvuk-Akustik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Zadatak predmeta Tehnička fizik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Kako fizika posmatra prirodu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Šta je do sada fizika otkrila o prirodi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Kako tehnički sistem posmatrati kao objekat koji se podvrgava prirodnim zakonima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Nastavno osoblj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800240" y="2361960"/>
            <a:ext cx="39243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Nastavni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  <a:ea typeface="Arial"/>
              </a:rPr>
              <a:t>Prof. dr Zlatan Šoškić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4800600" y="3352680"/>
            <a:ext cx="43434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Asiste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Dr Jelena Tomi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6"/>
          <p:cNvSpPr/>
          <p:nvPr/>
        </p:nvSpPr>
        <p:spPr>
          <a:xfrm>
            <a:off x="4876920" y="5105520"/>
            <a:ext cx="39243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Labor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Milorad Stamboli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Picture 10" descr="Miki-mala"/>
          <p:cNvPicPr/>
          <p:nvPr/>
        </p:nvPicPr>
        <p:blipFill>
          <a:blip r:embed="rId1"/>
          <a:srcRect l="16668" t="0" r="8334" b="0"/>
          <a:stretch/>
        </p:blipFill>
        <p:spPr>
          <a:xfrm>
            <a:off x="1523880" y="214308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3" descr="Jelena_Jankovic"/>
          <p:cNvPicPr/>
          <p:nvPr/>
        </p:nvPicPr>
        <p:blipFill>
          <a:blip r:embed="rId2"/>
          <a:stretch/>
        </p:blipFill>
        <p:spPr>
          <a:xfrm>
            <a:off x="1828800" y="2133720"/>
            <a:ext cx="2971800" cy="371448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5" descr="dr Zlatan Soskic"/>
          <p:cNvPicPr/>
          <p:nvPr/>
        </p:nvPicPr>
        <p:blipFill>
          <a:blip r:embed="rId3"/>
          <a:stretch/>
        </p:blipFill>
        <p:spPr>
          <a:xfrm>
            <a:off x="1905120" y="1981080"/>
            <a:ext cx="264780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300" spc="-1" strike="noStrike">
                <a:solidFill>
                  <a:srgbClr val="572314"/>
                </a:solidFill>
                <a:latin typeface="Gill Sans MT"/>
              </a:rPr>
              <a:t>Nastavni prosto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371600" y="1981080"/>
            <a:ext cx="749952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Gill Sans MT"/>
              </a:rPr>
              <a:t>Kabinet za fiziku i elektrotehniku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Gill Sans MT"/>
              </a:rPr>
              <a:t>I sprat, kancelarija 210 /nastavnik/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Gill Sans MT"/>
              </a:rPr>
              <a:t>I sprat, kancelarija 211 /asistenti/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Gill Sans MT"/>
              </a:rPr>
              <a:t>I sprat, kancelarija 212 /laborant/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Gill Sans MT"/>
              </a:rPr>
              <a:t>Laboratorija za fiziku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</a:t>
            </a:r>
            <a:r>
              <a:rPr b="0" lang="sr-Latn-RS" sz="2800" spc="-1" strike="noStrike">
                <a:solidFill>
                  <a:srgbClr val="000000"/>
                </a:solidFill>
                <a:latin typeface="Gill Sans MT"/>
              </a:rPr>
              <a:t>rizemlje, preko puta studentske služb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6" name="Picture 2" descr="https://encrypted-tbn3.gstatic.com/images?q=tbn:ANd9GcQq7OHOuBoSxmuWFNJf5aohvoVOHpgbaM2WuvfCX71HhzpUw3DLhA"/>
          <p:cNvPicPr/>
          <p:nvPr/>
        </p:nvPicPr>
        <p:blipFill>
          <a:blip r:embed="rId1"/>
          <a:stretch/>
        </p:blipFill>
        <p:spPr>
          <a:xfrm>
            <a:off x="6477120" y="76320"/>
            <a:ext cx="25048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Nastavni pla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2 časa predavanja sedmičn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2 časa računskih vežbi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1 čas laboratorijskih vežbi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Ispi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Prisustvo predavanjima i auditornim vežbam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10 poen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Odbrana laboratorijskih vežbi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10 poen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Pismeni ispi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80 poen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56 poena zadaci+24 poena teorijska pitanj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Parcijalno polaganje na kolokvijumim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Ocen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51-60 poena: 6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61-70 poena: 7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71-80 poena: 8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81-90 poena: 9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91-100 poena: 10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Kolokvijum se polaže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svajanjem preko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10 poen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Literatur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447560" y="144756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Udžbenik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Miloš Vujović: "Fizika" – skript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ačunske vežbe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Z.Šoškić: “</a:t>
            </a:r>
            <a:r>
              <a:rPr b="0" lang="sr-Latn-RS" sz="2000" spc="-1" strike="noStrike">
                <a:solidFill>
                  <a:srgbClr val="000000"/>
                </a:solidFill>
                <a:latin typeface="Gill Sans MT"/>
              </a:rPr>
              <a:t>Zbirka zadataka iz Tehničke fizike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Z.Šoškić: “Praktikum za računske vežbe iz fizike”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Laboratorij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ke vežbe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Z.Šoškić: “Praktikum za </a:t>
            </a:r>
            <a:r>
              <a:rPr b="0" lang="sr-Latn-RS" sz="2000" spc="-1" strike="noStrike">
                <a:solidFill>
                  <a:srgbClr val="000000"/>
                </a:solidFill>
                <a:latin typeface="Gill Sans MT"/>
              </a:rPr>
              <a:t>laboratorijske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vežbe iz fizike”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Vlastimir Vučić: "Laboratorijske vežbe iz Fizike“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lektronska form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ww.m</a:t>
            </a:r>
            <a:r>
              <a:rPr b="0" lang="sr-Latn-CS" sz="2000" spc="-1" strike="noStrike">
                <a:solidFill>
                  <a:srgbClr val="000000"/>
                </a:solidFill>
                <a:latin typeface="Gill Sans MT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kv.</a:t>
            </a:r>
            <a:r>
              <a:rPr b="0" lang="sr-Latn-CS" sz="2000" spc="-1" strike="noStrike">
                <a:solidFill>
                  <a:srgbClr val="000000"/>
                </a:solidFill>
                <a:latin typeface="Gill Sans MT"/>
              </a:rPr>
              <a:t>kg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.</a:t>
            </a:r>
            <a:r>
              <a:rPr b="0" lang="sr-Latn-CS" sz="2000" spc="-1" strike="noStrike">
                <a:solidFill>
                  <a:srgbClr val="000000"/>
                </a:solidFill>
                <a:latin typeface="Gill Sans MT"/>
              </a:rPr>
              <a:t>ac.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rpska verzija, studentski servi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Predmet fizik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914040" y="24382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Gill Sans MT"/>
              </a:rPr>
              <a:t>Proučavanje prirodnih procesa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Gill Sans MT"/>
              </a:rPr>
              <a:t>Priroda: prostor i vreme ispunjeni </a:t>
            </a:r>
            <a:r>
              <a:rPr b="1" lang="hr-HR" sz="3000" spc="-1" strike="noStrike">
                <a:solidFill>
                  <a:srgbClr val="000000"/>
                </a:solidFill>
                <a:latin typeface="Gill Sans MT"/>
              </a:rPr>
              <a:t>materijom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Gill Sans MT"/>
              </a:rPr>
              <a:t>Materija je jedino što postoji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Gill Sans MT"/>
              </a:rPr>
              <a:t>Supstancija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: zauzima prostor [tela]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Gill Sans MT"/>
              </a:rPr>
              <a:t>Fizičko polje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: prostor izmenjen postojanjem tel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Metod fizik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Egzaktnos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Izražavanje brojevim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Primena matematik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2T00:39:41Z</dcterms:created>
  <dc:creator>Zlatan Soskic</dc:creator>
  <dc:description/>
  <dc:language>en-US</dc:language>
  <cp:lastModifiedBy>soskic.z</cp:lastModifiedBy>
  <dcterms:modified xsi:type="dcterms:W3CDTF">2018-10-18T06:31:09Z</dcterms:modified>
  <cp:revision>71</cp:revision>
  <dc:subject/>
  <dc:title>Fizika</dc:title>
</cp:coreProperties>
</file>