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411-A1F4-49A3-8D1A-5CEBF182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A8A-13A3-4155-BD53-F897E839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B60-AA97-4ADB-815C-934021F2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E2C-35C2-45CB-873B-2845ED22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39EE-5211-4500-94BF-878D6ACD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DE76-B9B4-4577-A537-D4A42F0D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32A1-80D3-40CB-AD86-A6C11F13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E9C6-DF67-49A5-9E7D-6E8C0598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7499-F178-4A36-ACEE-381D0390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9985-0249-4503-991F-E76A57E6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9FD6-C9B4-4E59-9B5F-2ECAA1EA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762-3299-4E1E-B611-6070D582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8633-94C9-4C34-A75E-43071F6C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313A-C3C1-4BC2-899C-B8667DA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C605-3F9B-4E95-94B0-B800FF3D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DBC6-2898-4165-B8C8-78BCC181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6EBE-C7BC-4F01-91C2-889E008A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3AE4-0078-46DB-AA88-39116F7D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5672-E24A-4607-965F-23906ECC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3B4F-6B1C-4D20-80B1-5F7449AC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A197-FE26-410D-9C57-80E1497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9C24E-0B14-4840-9A1D-0163E32C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D50-B697-429C-9972-21414288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A91C-5A21-4BE5-9DE4-D2CF2602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436C0-26F5-4EB6-9DFB-E7D261AF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C481-2D79-4AE1-981B-A1BB7E6F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EEA14-1626-43CD-B4E3-CCC4F162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E696-77E3-4A40-BDDE-84F5B996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BF18-CA60-4A65-B438-50134D37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2E84-BD69-4B21-9A9B-6DF220E5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1912-7BC7-4193-A3E9-A0FCAAE7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3E7F-CE6F-40B8-8410-E1FEEEA6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CDC5-729A-47DC-85C6-E02EDA71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988-8380-4988-9695-3C908A1E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0890-EDC8-4F1B-A7C2-60F571C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64D0-DAAA-4D42-9351-043105C2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F48A-3E8F-44BE-97FE-E9DFE9ED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B5C9-3A24-4709-988F-0836FF1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680B-6492-4B5C-BB8B-8CDC5851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115A0-2E57-4AA0-AC88-5594339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D65C-3C03-43D4-B6AC-CDB898C0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2631-A1DD-4C75-89E5-6F4AF1B6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08332-AB8A-4BC3-B549-BCF4B6EC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A4C9-769D-4236-93C5-43CD3FA5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83F-29D6-4195-AF08-F10A2B8B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EF0F3-0050-40AD-B7A8-BD77EA24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8BE3E-366F-4FFF-89FE-91F915F5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4DA05-C6DA-40CC-8F71-D002911F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7B14F-A6CF-4401-85E1-E0E922BE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6530F-FD32-41A9-BB1F-936CDED1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C51C0-CCDA-4EE1-9851-FE15B0A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A289B-386B-41D9-BBC7-4FDF5CF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24224-CFFB-4985-8C88-50B8510B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D71D5-BAF8-4B97-B557-547F5C8E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1E020-8E65-4B1F-9C53-B5029D51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406-6CBD-4A79-A80E-C8A32DF3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A532-C4BF-4C71-8A77-0D438D6E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2634-699A-433D-9507-125B8DC9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B44F-94B9-434F-AABA-CC644759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452F2-C334-45F3-AFF4-F58361B9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0F55-B67F-432C-AC3F-7B882A09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91139-DCDC-4B8C-B40C-8990C012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8D24-C3C7-499E-B6EB-CE3F701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8FEBA-BB7D-4C84-BFE6-EDF1A722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5D62B-6810-4D33-A2A3-931B64B7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AF006-5046-4AD9-83B8-72E9BD36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E85-1EEE-408D-A6BD-5F466B56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5036D-601A-44D0-83D0-7C3920DB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87819-8AB7-4D10-95BE-F621227C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D4CFD-4813-4459-96F4-B01515DE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89EE0-3EF4-4688-AF8D-EFB33B64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8B04B-F726-486F-855E-68BF4BA7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A67AA-2EDB-4861-BEE3-B77BC079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B5439-011A-429B-A276-6FCCB9F4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8E65-3CC9-4E51-81B6-DD8C12C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0730E-9CF9-45AF-BB72-723F5805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0F250-D18C-490D-AB20-F6858BD2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2DC-E4DE-4F7F-947A-3ABD59F4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D068B-D16C-4DB1-818A-C3E7A7D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E55BD-1E50-421F-A05F-57E70C0C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CBA07-8927-4E64-AE4C-F3C077F0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C5FCA-4C5C-420B-B3A6-E3FF94EF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BAB19-A0A4-42A9-BA84-2E02BC66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B63-4F4F-4101-A234-735521B9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F472-A3D6-4902-99A3-1598A042568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00CF-A7E3-4A4E-B350-7C3044FDF2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F925-60BF-4920-AE15-23D996E062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F9D7-5B08-4004-A7F6-7CA31AFA992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81FF-4E4A-4E7E-8297-805C65480E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180F-7507-4A3F-854C-A0CF41088CF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731F-8897-4AFD-B903-A02139D73D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Zakoni održ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ol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e 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eza sa Njutnovim zakon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1511280" y="4213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6"/>
              <p:cNvSpPr txBox="1"/>
              <p:nvPr/>
            </p:nvSpPr>
            <p:spPr>
              <a:xfrm>
                <a:off x="1206360" y="4267080"/>
                <a:ext cx="3844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AutoShape 8"/>
          <p:cNvSpPr/>
          <p:nvPr/>
        </p:nvSpPr>
        <p:spPr>
          <a:xfrm>
            <a:off x="2730600" y="3375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2854440" y="2968560"/>
                <a:ext cx="40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0" name="AutoShape 10"/>
          <p:cNvSpPr/>
          <p:nvPr/>
        </p:nvSpPr>
        <p:spPr>
          <a:xfrm>
            <a:off x="2730600" y="41911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1"/>
              <p:cNvSpPr txBox="1"/>
              <p:nvPr/>
            </p:nvSpPr>
            <p:spPr>
              <a:xfrm>
                <a:off x="2867040" y="4267080"/>
                <a:ext cx="4096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2" name="Line 12"/>
          <p:cNvSpPr/>
          <p:nvPr/>
        </p:nvSpPr>
        <p:spPr>
          <a:xfrm flipV="1">
            <a:off x="1587600" y="4038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3"/>
          <p:cNvSpPr/>
          <p:nvPr/>
        </p:nvSpPr>
        <p:spPr>
          <a:xfrm flipV="1">
            <a:off x="2502000" y="34286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158760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5"/>
          <p:cNvSpPr/>
          <p:nvPr/>
        </p:nvSpPr>
        <p:spPr>
          <a:xfrm>
            <a:off x="227340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6"/>
              <p:cNvSpPr txBox="1"/>
              <p:nvPr/>
            </p:nvSpPr>
            <p:spPr>
              <a:xfrm>
                <a:off x="1359000" y="3600360"/>
                <a:ext cx="438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7"/>
              <p:cNvSpPr txBox="1"/>
              <p:nvPr/>
            </p:nvSpPr>
            <p:spPr>
              <a:xfrm>
                <a:off x="1739880" y="4280040"/>
                <a:ext cx="4381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8"/>
              <p:cNvSpPr txBox="1"/>
              <p:nvPr/>
            </p:nvSpPr>
            <p:spPr>
              <a:xfrm>
                <a:off x="2368440" y="4267080"/>
                <a:ext cx="4381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9"/>
              <p:cNvSpPr txBox="1"/>
              <p:nvPr/>
            </p:nvSpPr>
            <p:spPr>
              <a:xfrm>
                <a:off x="2216160" y="3124080"/>
                <a:ext cx="438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Line 20"/>
          <p:cNvSpPr/>
          <p:nvPr/>
        </p:nvSpPr>
        <p:spPr>
          <a:xfrm flipV="1">
            <a:off x="280656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1"/>
          <p:cNvSpPr/>
          <p:nvPr/>
        </p:nvSpPr>
        <p:spPr>
          <a:xfrm flipV="1">
            <a:off x="280656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2"/>
              <p:cNvSpPr txBox="1"/>
              <p:nvPr/>
            </p:nvSpPr>
            <p:spPr>
              <a:xfrm>
                <a:off x="2889360" y="3767040"/>
                <a:ext cx="463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23"/>
              <p:cNvSpPr txBox="1"/>
              <p:nvPr/>
            </p:nvSpPr>
            <p:spPr>
              <a:xfrm>
                <a:off x="2876400" y="3352680"/>
                <a:ext cx="4636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25"/>
              <p:cNvSpPr txBox="1"/>
              <p:nvPr/>
            </p:nvSpPr>
            <p:spPr>
              <a:xfrm>
                <a:off x="3886200" y="3048120"/>
                <a:ext cx="1298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26"/>
              <p:cNvSpPr txBox="1"/>
              <p:nvPr/>
            </p:nvSpPr>
            <p:spPr>
              <a:xfrm>
                <a:off x="5334120" y="2895480"/>
                <a:ext cx="24606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7"/>
              <p:cNvSpPr txBox="1"/>
              <p:nvPr/>
            </p:nvSpPr>
            <p:spPr>
              <a:xfrm>
                <a:off x="5334120" y="3733920"/>
                <a:ext cx="2562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28"/>
              <p:cNvSpPr txBox="1"/>
              <p:nvPr/>
            </p:nvSpPr>
            <p:spPr>
              <a:xfrm>
                <a:off x="5388120" y="4495680"/>
                <a:ext cx="2511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Line 29"/>
          <p:cNvSpPr/>
          <p:nvPr/>
        </p:nvSpPr>
        <p:spPr>
          <a:xfrm>
            <a:off x="365760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0"/>
              <p:cNvSpPr txBox="1"/>
              <p:nvPr/>
            </p:nvSpPr>
            <p:spPr>
              <a:xfrm>
                <a:off x="990720" y="5564160"/>
                <a:ext cx="1298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1"/>
              <p:cNvSpPr txBox="1"/>
              <p:nvPr/>
            </p:nvSpPr>
            <p:spPr>
              <a:xfrm>
                <a:off x="2319480" y="5411880"/>
                <a:ext cx="6595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1" name="Group 39"/>
          <p:cNvGrpSpPr/>
          <p:nvPr/>
        </p:nvGrpSpPr>
        <p:grpSpPr>
          <a:xfrm>
            <a:off x="4952880" y="6095880"/>
            <a:ext cx="1295640" cy="457200"/>
            <a:chOff x="4952880" y="6095880"/>
            <a:chExt cx="1295640" cy="457200"/>
          </a:xfrm>
        </p:grpSpPr>
        <p:sp>
          <p:nvSpPr>
            <p:cNvPr id="392" name="Line 33"/>
            <p:cNvSpPr/>
            <p:nvPr/>
          </p:nvSpPr>
          <p:spPr>
            <a:xfrm>
              <a:off x="495288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34"/>
            <p:cNvSpPr/>
            <p:nvPr/>
          </p:nvSpPr>
          <p:spPr>
            <a:xfrm>
              <a:off x="624852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4952880" y="65530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1295280" y="2514600"/>
            <a:ext cx="632484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količina energi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2530440" y="4222800"/>
                <a:ext cx="4033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873520" y="5257800"/>
                <a:ext cx="37018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3995640" y="2743200"/>
                <a:ext cx="1370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920960" y="3581280"/>
                <a:ext cx="57592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2" name="Text Box 6"/>
          <p:cNvSpPr/>
          <p:nvPr/>
        </p:nvSpPr>
        <p:spPr>
          <a:xfrm>
            <a:off x="2362320" y="4267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mena energije među te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36232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mena oblika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1600200" y="3429000"/>
            <a:ext cx="63244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1600200" y="5105520"/>
            <a:ext cx="63244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zakona održ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040" y="2362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okazuju da se neka veličina ne menja u </a:t>
            </a:r>
            <a:r>
              <a:rPr b="0" lang="hr-HR" sz="3000" spc="-1" strike="noStrike">
                <a:solidFill>
                  <a:srgbClr val="aa8a14"/>
                </a:solidFill>
                <a:latin typeface="Gill Sans MT"/>
              </a:rPr>
              <a:t>IZOLOVANOM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 sistem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Svemir je izolovani sistem, znači ta veličina se ne menja u prirod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U osnovi zakona održanja leži simetrija prirod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676520" y="5197320"/>
            <a:ext cx="63244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koni održanja se odnose isključivo n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OLOVANE si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i održ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219320" y="3124080"/>
            <a:ext cx="6324480" cy="155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se odnose isključivo na</a:t>
            </a:r>
            <a:br>
              <a:rPr sz="4800"/>
            </a:br>
            <a:r>
              <a:rPr b="0" lang="hr-HR" sz="4800" spc="-1" strike="noStrike">
                <a:solidFill>
                  <a:srgbClr val="000000"/>
                </a:solidFill>
                <a:latin typeface="Times New Roman"/>
              </a:rPr>
              <a:t>IZOLOVANE sist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67652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29718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1240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0384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4100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šti oblik zakona održ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295280" y="2590920"/>
            <a:ext cx="63248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X 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2514600" y="3816360"/>
                <a:ext cx="4067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naelektris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295280" y="2590920"/>
            <a:ext cx="632484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količina naelektrisa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2577960" y="4349880"/>
                <a:ext cx="3938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6" name="AutoShape 5"/>
          <p:cNvSpPr/>
          <p:nvPr/>
        </p:nvSpPr>
        <p:spPr>
          <a:xfrm>
            <a:off x="2133720" y="5943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7"/>
          <p:cNvSpPr/>
          <p:nvPr/>
        </p:nvSpPr>
        <p:spPr>
          <a:xfrm>
            <a:off x="3124080" y="5715000"/>
            <a:ext cx="533520" cy="533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1676520" y="5410080"/>
            <a:ext cx="236196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4495680" y="59436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0"/>
              <p:cNvSpPr txBox="1"/>
              <p:nvPr/>
            </p:nvSpPr>
            <p:spPr>
              <a:xfrm>
                <a:off x="1981080" y="5638680"/>
                <a:ext cx="54000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1"/>
              <p:cNvSpPr txBox="1"/>
              <p:nvPr/>
            </p:nvSpPr>
            <p:spPr>
              <a:xfrm>
                <a:off x="2813040" y="5486400"/>
                <a:ext cx="5396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AutoShape 12"/>
          <p:cNvSpPr/>
          <p:nvPr/>
        </p:nvSpPr>
        <p:spPr>
          <a:xfrm>
            <a:off x="6324480" y="5943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7315200" y="5715000"/>
            <a:ext cx="533520" cy="5335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14"/>
          <p:cNvSpPr/>
          <p:nvPr/>
        </p:nvSpPr>
        <p:spPr>
          <a:xfrm>
            <a:off x="5867280" y="5410080"/>
            <a:ext cx="236232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5"/>
              <p:cNvSpPr txBox="1"/>
              <p:nvPr/>
            </p:nvSpPr>
            <p:spPr>
              <a:xfrm>
                <a:off x="6172200" y="5638680"/>
                <a:ext cx="5396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6"/>
              <p:cNvSpPr txBox="1"/>
              <p:nvPr/>
            </p:nvSpPr>
            <p:spPr>
              <a:xfrm>
                <a:off x="7023240" y="5486400"/>
                <a:ext cx="5014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količin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295280" y="2514600"/>
            <a:ext cx="632484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upna količina kreta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izolovanom sistemu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taje nepromenjena u s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2530440" y="4191120"/>
                <a:ext cx="4033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kupn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količin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990720" y="4579920"/>
                <a:ext cx="7467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4027320" y="2743200"/>
                <a:ext cx="13068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5"/>
              <p:cNvSpPr txBox="1"/>
              <p:nvPr/>
            </p:nvSpPr>
            <p:spPr>
              <a:xfrm>
                <a:off x="2220840" y="3635280"/>
                <a:ext cx="5157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količin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040" y="23623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ektorska priroda zako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edstavlja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Gill Sans MT"/>
              </a:rPr>
              <a:t>tr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jedna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3260880" y="3613320"/>
                <a:ext cx="25714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cetn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3219480" y="4165560"/>
                <a:ext cx="2571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cetn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3200400" y="4730760"/>
                <a:ext cx="2571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cetn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9" name="Text Box 7"/>
          <p:cNvSpPr/>
          <p:nvPr/>
        </p:nvSpPr>
        <p:spPr>
          <a:xfrm>
            <a:off x="1510560" y="3854520"/>
            <a:ext cx="101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6447600" y="3854520"/>
            <a:ext cx="101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kon održanja količin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812880" y="1573200"/>
          <a:ext cx="7365960" cy="59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573200"/>
                    <a:ext cx="736596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58:41Z</dcterms:created>
  <dc:creator>Zlatan Soskic</dc:creator>
  <dc:description/>
  <dc:language>en-US</dc:language>
  <cp:lastModifiedBy>Zlatan Soskic</cp:lastModifiedBy>
  <dcterms:modified xsi:type="dcterms:W3CDTF">2012-11-01T12:01:09Z</dcterms:modified>
  <cp:revision>141</cp:revision>
  <dc:subject/>
  <dc:title>Fizički koncepti</dc:title>
</cp:coreProperties>
</file>