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CB7-AD57-401C-B3C9-3538EF12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6B4-2193-459E-82A2-83AC2EAF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0D4-49C0-41B3-BB88-CFD172B5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3AE-FBA0-4576-9D4F-E88DE233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FE21-FA46-49AF-BBB5-E764E592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3BFA-BE4E-44FF-8DBE-1ED16540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7603-B7D8-46F5-8D35-16250770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9490-9F0D-4FF6-9488-37642CFD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C083-4049-463F-B3B8-83FE240E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CC6C-26C0-48D8-B663-97034AE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EF27-7169-4324-927D-32E5D2E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F70-C4BA-4722-B65A-70C7F05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2E3-1BBC-4D89-98F2-49E7BD1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E0F5-65A3-4D36-8278-F4375A3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8DDC-C55F-4398-95F1-EF094456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1179-811C-49FA-BD76-E1F6726D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A5A2-11DC-4706-BF0A-11EB3696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7ED0-0ED3-44AD-8624-45EAE8A5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A6C2-1BF6-40C8-8257-6A6AA15B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EE71-0023-4DF1-B3ED-A81DAC49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2405-21AB-4AE4-B840-6F268135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F869-5FF4-4C08-ABE9-CAD7C930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9DA-CFB0-408E-A774-58E09E9C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855A-C5F3-4812-AE79-B1BCFEC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2303-7A33-43C0-8E08-C46E1A1B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C6FD-02D6-4E42-BB4E-B46D450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3AA6-8EC7-479B-8351-2AA4364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3717-7D83-48D7-8353-E539DA18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5553-2A84-46FB-831D-CA98CB08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4E7B-92F0-405E-B590-784A5A16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AE0C-C2F4-446B-A5A2-75AD81FA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09F5-DEBE-4FD0-8ADA-CD44064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5D22-55EA-422A-B497-287DAB12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E22-6C39-4857-B26B-1A1C6E23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8122-101C-45D3-BE83-C9DAC04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0B95-A632-44C1-9C58-CC01A431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74B3-7A1D-4F6C-9216-9AB0296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54F7-2D2A-4A2E-90E2-4F974475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4BFC-B03F-4CF3-8BAD-17AAB780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3A03-47BD-4478-99A1-C93E610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8A6A4-035F-4DE5-9D4B-3E0C5D05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B21B-6E3F-42EB-8FEA-CDB96695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016D-3DE3-4FB9-846B-6AA264ED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B1A5-2BEA-417D-B540-F1BC893C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73C-999A-4E1B-A599-66C1AB7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8543-A8D5-4226-9686-B1C3C66C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920A5-46DC-4376-AACF-A2767470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1E20-20A9-4341-BC0D-6943831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07C9-B7EC-456B-82E8-A1882184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1D6A-6E3A-4113-AF79-596A489D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8CD0E-3C8A-4EC2-BD8D-DF71096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5578-D39A-4534-89C7-2D67941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5143-21F4-408A-BE83-AB83B2C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C3FA-B294-4FB3-8AEE-96BC2397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B6200-B930-4BD6-BA22-E071E720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90B-3744-4F1A-9607-3B93919A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86D8B-3D70-4131-A8D4-D49AE465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C5954-FE32-4DB4-8CC4-FFED7100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224A-9C5A-4A07-95D4-9E2EF5F5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52A8-DB6C-4B0E-AB5D-BA91A45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3753-BC1C-45E1-BC86-26A44692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9F5B4-F5EA-426F-9FA3-596957E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DF937-B914-4556-9A13-2F56240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5B5B-BFCB-4EC0-98CB-B5D6C76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0BF32-73CA-411A-ACDF-EDD341C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C8B8-BA5C-4DEB-BA96-AD0C2A3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72B-995F-46CF-92E2-C9157EA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0244-3721-469F-8EFC-5304B17A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3D85-E201-40AE-9957-1D736FAE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7767-BAE0-4C47-BACF-E80153E3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D97CB-A7D1-4B2B-B261-BEFAFD7D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2E2A-F71D-4FB2-A65E-95608536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1C54B-FD96-4084-BFB4-0ACD9DA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C6E7B-066F-4E9D-84A5-28D5C36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7A4D7-9082-45AB-8FA1-EF541A3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4D63-BCBD-4BFA-9F64-146E821B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8C9C-45D8-4296-A958-8E5FA31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CA1-3EE9-4DFE-8E94-6990729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8954-917C-41C0-A1B9-49457E2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D357C-3618-4970-A4BB-BDE32999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63E30-F1DD-44DB-8317-04C776E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CB705-89CF-4ABF-ABEA-EFF9726C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36FEE-3D2D-481F-8E15-AA8C9D44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2BE-534E-4E25-8972-6F05B08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C80-0263-4437-B7A2-865816042B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246-13BA-409B-A3E3-1AFBCC9FD9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FF8-D180-46AD-A3F3-4513B7B145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1AF0-E32E-4CD3-9785-6F344C06A2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8F5B-A837-4A0C-A4CC-26E552AFAD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D4AD-0E4C-4537-8052-A3A5C749CB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DEEF-A1F2-4E1A-B0EC-4174038B00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sist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TRANSLATOR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 svakom trenutku sve komponente imaju međusobno jednake brz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ROTACIO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Brzine svih tačaka leže u ravnima normalnim na osu rotacije, a intenziteti brzina su proporcionalni rastojanju od ose rotaci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KOMBINOV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144792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4320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19112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2819520" y="54864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371600" y="41911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800600" y="2971800"/>
            <a:ext cx="2895480" cy="2666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6095880" y="281952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10"/>
          <p:cNvSpPr/>
          <p:nvPr/>
        </p:nvSpPr>
        <p:spPr>
          <a:xfrm rot="5400000">
            <a:off x="7543440" y="419112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11"/>
          <p:cNvSpPr/>
          <p:nvPr/>
        </p:nvSpPr>
        <p:spPr>
          <a:xfrm rot="10800000">
            <a:off x="6171840" y="548604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12"/>
          <p:cNvSpPr/>
          <p:nvPr/>
        </p:nvSpPr>
        <p:spPr>
          <a:xfrm rot="16200000">
            <a:off x="4724280" y="419076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21337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la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55627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otaci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024"/>
              <p:cNvSpPr txBox="1"/>
              <p:nvPr/>
            </p:nvSpPr>
            <p:spPr>
              <a:xfrm>
                <a:off x="762120" y="2286000"/>
                <a:ext cx="8381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u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025"/>
              <p:cNvSpPr txBox="1"/>
              <p:nvPr/>
            </p:nvSpPr>
            <p:spPr>
              <a:xfrm>
                <a:off x="851040" y="4648320"/>
                <a:ext cx="79754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026"/>
              <p:cNvSpPr txBox="1"/>
              <p:nvPr/>
            </p:nvSpPr>
            <p:spPr>
              <a:xfrm>
                <a:off x="838080" y="3559320"/>
                <a:ext cx="450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027"/>
              <p:cNvSpPr txBox="1"/>
              <p:nvPr/>
            </p:nvSpPr>
            <p:spPr>
              <a:xfrm>
                <a:off x="1989000" y="5410080"/>
                <a:ext cx="5977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oličina kretan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024"/>
              <p:cNvSpPr txBox="1"/>
              <p:nvPr/>
            </p:nvSpPr>
            <p:spPr>
              <a:xfrm>
                <a:off x="1498680" y="3249720"/>
                <a:ext cx="18748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025"/>
              <p:cNvSpPr txBox="1"/>
              <p:nvPr/>
            </p:nvSpPr>
            <p:spPr>
              <a:xfrm>
                <a:off x="3687840" y="3252960"/>
                <a:ext cx="18493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026"/>
              <p:cNvSpPr txBox="1"/>
              <p:nvPr/>
            </p:nvSpPr>
            <p:spPr>
              <a:xfrm>
                <a:off x="5946840" y="3252960"/>
                <a:ext cx="987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1027"/>
              <p:cNvSpPr txBox="1"/>
              <p:nvPr/>
            </p:nvSpPr>
            <p:spPr>
              <a:xfrm>
                <a:off x="3851280" y="4014720"/>
                <a:ext cx="1901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024"/>
              <p:cNvSpPr txBox="1"/>
              <p:nvPr/>
            </p:nvSpPr>
            <p:spPr>
              <a:xfrm>
                <a:off x="958680" y="2286000"/>
                <a:ext cx="781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025"/>
              <p:cNvSpPr txBox="1"/>
              <p:nvPr/>
            </p:nvSpPr>
            <p:spPr>
              <a:xfrm>
                <a:off x="1271520" y="3251160"/>
                <a:ext cx="5129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026"/>
              <p:cNvSpPr txBox="1"/>
              <p:nvPr/>
            </p:nvSpPr>
            <p:spPr>
              <a:xfrm>
                <a:off x="1273320" y="4089240"/>
                <a:ext cx="5103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27"/>
              <p:cNvSpPr txBox="1"/>
              <p:nvPr/>
            </p:nvSpPr>
            <p:spPr>
              <a:xfrm>
                <a:off x="1500120" y="5003640"/>
                <a:ext cx="297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un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024"/>
              <p:cNvSpPr txBox="1"/>
              <p:nvPr/>
            </p:nvSpPr>
            <p:spPr>
              <a:xfrm>
                <a:off x="3335400" y="2438280"/>
                <a:ext cx="2074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025"/>
              <p:cNvSpPr txBox="1"/>
              <p:nvPr/>
            </p:nvSpPr>
            <p:spPr>
              <a:xfrm>
                <a:off x="1790640" y="3403440"/>
                <a:ext cx="18781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026"/>
              <p:cNvSpPr txBox="1"/>
              <p:nvPr/>
            </p:nvSpPr>
            <p:spPr>
              <a:xfrm>
                <a:off x="6019920" y="3352680"/>
                <a:ext cx="1930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2" name="Line 6"/>
          <p:cNvSpPr/>
          <p:nvPr/>
        </p:nvSpPr>
        <p:spPr>
          <a:xfrm flipH="1">
            <a:off x="297144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7"/>
          <p:cNvSpPr/>
          <p:nvPr/>
        </p:nvSpPr>
        <p:spPr>
          <a:xfrm>
            <a:off x="5181480" y="30481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1371600" y="419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144792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kretanja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5715000" y="426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unutrašnjeg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0"/>
              <p:cNvSpPr txBox="1"/>
              <p:nvPr/>
            </p:nvSpPr>
            <p:spPr>
              <a:xfrm>
                <a:off x="3238560" y="3489480"/>
                <a:ext cx="2268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Line 6"/>
          <p:cNvSpPr/>
          <p:nvPr/>
        </p:nvSpPr>
        <p:spPr>
          <a:xfrm flipH="1">
            <a:off x="2971440" y="39625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7"/>
          <p:cNvSpPr/>
          <p:nvPr/>
        </p:nvSpPr>
        <p:spPr>
          <a:xfrm>
            <a:off x="502920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1447920" y="4495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interakcije sa okoli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56272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međuso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terakc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"/>
              <p:cNvSpPr txBox="1"/>
              <p:nvPr/>
            </p:nvSpPr>
            <p:spPr>
              <a:xfrm>
                <a:off x="1743120" y="2438280"/>
                <a:ext cx="51148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polj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kupna energija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743200" y="3489480"/>
                <a:ext cx="2970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Freeform 5"/>
          <p:cNvSpPr/>
          <p:nvPr/>
        </p:nvSpPr>
        <p:spPr>
          <a:xfrm>
            <a:off x="5562720" y="396252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720" h="282">
                <a:moveTo>
                  <a:pt x="0" y="0"/>
                </a:moveTo>
                <a:lnTo>
                  <a:pt x="720" y="28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6095880" y="44514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1752480" y="2362320"/>
                <a:ext cx="52372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up tela koja zadovoljavaju neki kriterij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tojanje nekih interak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stojanje me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u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li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la koja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e sistem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kolina sistema – tela koja ne pripadaju sistem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905120" y="4638600"/>
            <a:ext cx="5410080" cy="1622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stem koji ne interaguje sa okolinom naziva se </a:t>
            </a:r>
            <a:r>
              <a:rPr b="1" lang="hr-HR" sz="2400" spc="-1" strike="noStrike">
                <a:solidFill>
                  <a:srgbClr val="aa8a14"/>
                </a:solidFill>
                <a:latin typeface="Times New Roman"/>
              </a:rPr>
              <a:t>IZOLOVAN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040" y="2362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, energij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ncentracija, gustina, 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ditivne veličine: zbir veličina koje opisuju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adatak: odrediti svojstva sistema kada se poznaju svojstva komponenti i obrnu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ivanje položaja siste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2378160" y="311148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5"/>
          <p:cNvSpPr/>
          <p:nvPr/>
        </p:nvSpPr>
        <p:spPr>
          <a:xfrm>
            <a:off x="3413160" y="30956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6"/>
          <p:cNvSpPr/>
          <p:nvPr/>
        </p:nvSpPr>
        <p:spPr>
          <a:xfrm>
            <a:off x="4435560" y="433080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7"/>
          <p:cNvSpPr/>
          <p:nvPr/>
        </p:nvSpPr>
        <p:spPr>
          <a:xfrm>
            <a:off x="2362320" y="433080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8"/>
          <p:cNvSpPr/>
          <p:nvPr/>
        </p:nvSpPr>
        <p:spPr>
          <a:xfrm>
            <a:off x="3413160" y="385776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0"/>
              <p:cNvSpPr txBox="1"/>
              <p:nvPr/>
            </p:nvSpPr>
            <p:spPr>
              <a:xfrm>
                <a:off x="3032280" y="2882880"/>
                <a:ext cx="409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"/>
              <p:cNvSpPr txBox="1"/>
              <p:nvPr/>
            </p:nvSpPr>
            <p:spPr>
              <a:xfrm>
                <a:off x="4619520" y="415908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876320" y="41148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3"/>
          <p:cNvSpPr/>
          <p:nvPr/>
        </p:nvSpPr>
        <p:spPr>
          <a:xfrm>
            <a:off x="2378160" y="4905360"/>
            <a:ext cx="2133360" cy="12952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3352680" y="487692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4511520" y="612468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2362320" y="612468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7"/>
          <p:cNvSpPr/>
          <p:nvPr/>
        </p:nvSpPr>
        <p:spPr>
          <a:xfrm>
            <a:off x="3413160" y="5181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3565440" y="4724280"/>
                <a:ext cx="5637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619520" y="595296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1828800" y="5956200"/>
                <a:ext cx="4096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3" name="Line 21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987480" y="4719600"/>
            <a:ext cx="3736800" cy="648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AutoShape 23"/>
          <p:cNvCxnSpPr>
            <a:stCxn id="344" idx="0"/>
            <a:endCxn id="330" idx="3"/>
          </p:cNvCxnSpPr>
          <p:nvPr/>
        </p:nvCxnSpPr>
        <p:spPr>
          <a:xfrm flipV="1">
            <a:off x="987480" y="4409640"/>
            <a:ext cx="13881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AutoShape 24"/>
          <p:cNvCxnSpPr>
            <a:stCxn id="344" idx="0"/>
            <a:endCxn id="327" idx="4"/>
          </p:cNvCxnSpPr>
          <p:nvPr/>
        </p:nvCxnSpPr>
        <p:spPr>
          <a:xfrm flipV="1">
            <a:off x="987120" y="4406040"/>
            <a:ext cx="35247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AutoShape 25"/>
          <p:cNvCxnSpPr>
            <a:stCxn id="344" idx="0"/>
            <a:endCxn id="327" idx="0"/>
          </p:cNvCxnSpPr>
          <p:nvPr/>
        </p:nvCxnSpPr>
        <p:spPr>
          <a:xfrm flipV="1">
            <a:off x="987480" y="3110760"/>
            <a:ext cx="2458080" cy="16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AutoShape 26"/>
          <p:cNvCxnSpPr>
            <a:stCxn id="344" idx="0"/>
            <a:endCxn id="331" idx="0"/>
          </p:cNvCxnSpPr>
          <p:nvPr/>
        </p:nvCxnSpPr>
        <p:spPr>
          <a:xfrm flipV="1">
            <a:off x="987480" y="3857400"/>
            <a:ext cx="24724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352680" y="3962520"/>
                <a:ext cx="586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3276720" y="53593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8"/>
              <p:cNvSpPr txBox="1"/>
              <p:nvPr/>
            </p:nvSpPr>
            <p:spPr>
              <a:xfrm>
                <a:off x="5562720" y="3232080"/>
                <a:ext cx="2028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9"/>
              <p:cNvSpPr txBox="1"/>
              <p:nvPr/>
            </p:nvSpPr>
            <p:spPr>
              <a:xfrm>
                <a:off x="5106960" y="5105520"/>
                <a:ext cx="294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057400" y="414036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2435400" y="3219480"/>
                <a:ext cx="384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2108160" y="4038480"/>
                <a:ext cx="406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AutoShape 17"/>
          <p:cNvCxnSpPr>
            <a:stCxn id="362" idx="0"/>
            <a:endCxn id="355" idx="3"/>
          </p:cNvCxnSpPr>
          <p:nvPr/>
        </p:nvCxnSpPr>
        <p:spPr>
          <a:xfrm flipV="1">
            <a:off x="987120" y="4218840"/>
            <a:ext cx="1083240" cy="14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AutoShape 19"/>
          <p:cNvCxnSpPr>
            <a:stCxn id="362" idx="0"/>
            <a:endCxn id="356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AutoShape 20"/>
          <p:cNvCxnSpPr>
            <a:stCxn id="362" idx="0"/>
            <a:endCxn id="357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66" name="Object 24"/>
              <p:cNvSpPr txBox="1"/>
              <p:nvPr/>
            </p:nvSpPr>
            <p:spPr>
              <a:xfrm>
                <a:off x="4803840" y="2438280"/>
                <a:ext cx="3549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5"/>
              <p:cNvSpPr txBox="1"/>
              <p:nvPr/>
            </p:nvSpPr>
            <p:spPr>
              <a:xfrm>
                <a:off x="5715000" y="3451320"/>
                <a:ext cx="170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Text Box 26"/>
          <p:cNvSpPr/>
          <p:nvPr/>
        </p:nvSpPr>
        <p:spPr>
          <a:xfrm>
            <a:off x="5105520" y="4898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entar mase ne 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7"/>
          <p:cNvSpPr/>
          <p:nvPr/>
        </p:nvSpPr>
        <p:spPr>
          <a:xfrm>
            <a:off x="2819520" y="4175280"/>
            <a:ext cx="9180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8"/>
          <p:cNvSpPr/>
          <p:nvPr/>
        </p:nvSpPr>
        <p:spPr>
          <a:xfrm flipV="1">
            <a:off x="990720" y="4228920"/>
            <a:ext cx="1879560" cy="14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entar mas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2" name="Picture 3" descr="D:\My Documents\NASTAVA\Fizika\Predavanja\CentarMase.gif"/>
          <p:cNvPicPr/>
          <p:nvPr/>
        </p:nvPicPr>
        <p:blipFill>
          <a:blip r:embed="rId1"/>
          <a:stretch/>
        </p:blipFill>
        <p:spPr>
          <a:xfrm>
            <a:off x="990720" y="2362320"/>
            <a:ext cx="6629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lo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žaj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Freeform 3"/>
          <p:cNvSpPr/>
          <p:nvPr/>
        </p:nvSpPr>
        <p:spPr>
          <a:xfrm>
            <a:off x="1333440" y="2666880"/>
            <a:ext cx="2667240" cy="252756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2362320" y="32511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3336840" y="462276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2209680" y="2841480"/>
                <a:ext cx="384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4290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9" name="Line 10"/>
          <p:cNvSpPr/>
          <p:nvPr/>
        </p:nvSpPr>
        <p:spPr>
          <a:xfrm flipV="1">
            <a:off x="990720" y="27432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1"/>
          <p:cNvSpPr/>
          <p:nvPr/>
        </p:nvSpPr>
        <p:spPr>
          <a:xfrm>
            <a:off x="987480" y="5632560"/>
            <a:ext cx="3736800" cy="6120"/>
          </a:xfrm>
          <a:custGeom>
            <a:avLst/>
            <a:gdLst>
              <a:gd name="textAreaLeft" fmla="*/ 0 w 3736800"/>
              <a:gd name="textAreaRight" fmla="*/ 3737160 w 37368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354" h="4">
                <a:moveTo>
                  <a:pt x="0" y="0"/>
                </a:moveTo>
                <a:lnTo>
                  <a:pt x="2354" y="4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12"/>
          <p:cNvSpPr/>
          <p:nvPr/>
        </p:nvSpPr>
        <p:spPr>
          <a:xfrm>
            <a:off x="2666880" y="4038480"/>
            <a:ext cx="92160" cy="9216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AutoShape 16"/>
          <p:cNvCxnSpPr>
            <a:stCxn id="380" idx="0"/>
            <a:endCxn id="375" idx="3"/>
          </p:cNvCxnSpPr>
          <p:nvPr/>
        </p:nvCxnSpPr>
        <p:spPr>
          <a:xfrm flipV="1">
            <a:off x="987480" y="3330360"/>
            <a:ext cx="1388160" cy="2302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83" name="AutoShape 17"/>
          <p:cNvCxnSpPr>
            <a:stCxn id="380" idx="0"/>
            <a:endCxn id="376" idx="3"/>
          </p:cNvCxnSpPr>
          <p:nvPr/>
        </p:nvCxnSpPr>
        <p:spPr>
          <a:xfrm flipV="1">
            <a:off x="987480" y="4701960"/>
            <a:ext cx="2363040" cy="930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84" name="AutoShape 18"/>
          <p:cNvCxnSpPr>
            <a:stCxn id="380" idx="0"/>
            <a:endCxn id="381" idx="3"/>
          </p:cNvCxnSpPr>
          <p:nvPr/>
        </p:nvCxnSpPr>
        <p:spPr>
          <a:xfrm flipV="1">
            <a:off x="987120" y="4117320"/>
            <a:ext cx="169308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21"/>
          <p:cNvCxnSpPr>
            <a:stCxn id="381" idx="0"/>
            <a:endCxn id="375" idx="5"/>
          </p:cNvCxnSpPr>
          <p:nvPr/>
        </p:nvCxnSpPr>
        <p:spPr>
          <a:xfrm flipH="1" flipV="1">
            <a:off x="2441160" y="3330360"/>
            <a:ext cx="27216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6" name="Object 22"/>
              <p:cNvSpPr txBox="1"/>
              <p:nvPr/>
            </p:nvSpPr>
            <p:spPr>
              <a:xfrm>
                <a:off x="2590920" y="3413160"/>
                <a:ext cx="347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87" name="AutoShape 26"/>
          <p:cNvCxnSpPr>
            <a:stCxn id="381" idx="5"/>
            <a:endCxn id="376" idx="1"/>
          </p:cNvCxnSpPr>
          <p:nvPr/>
        </p:nvCxnSpPr>
        <p:spPr>
          <a:xfrm>
            <a:off x="2746440" y="4117680"/>
            <a:ext cx="60372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8" name="Object 27"/>
              <p:cNvSpPr txBox="1"/>
              <p:nvPr/>
            </p:nvSpPr>
            <p:spPr>
              <a:xfrm>
                <a:off x="2954160" y="3949560"/>
                <a:ext cx="424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28"/>
              <p:cNvSpPr txBox="1"/>
              <p:nvPr/>
            </p:nvSpPr>
            <p:spPr>
              <a:xfrm>
                <a:off x="5326200" y="3244680"/>
                <a:ext cx="189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29"/>
              <p:cNvSpPr txBox="1"/>
              <p:nvPr/>
            </p:nvSpPr>
            <p:spPr>
              <a:xfrm>
                <a:off x="1930320" y="4343400"/>
                <a:ext cx="482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0"/>
              <p:cNvSpPr txBox="1"/>
              <p:nvPr/>
            </p:nvSpPr>
            <p:spPr>
              <a:xfrm>
                <a:off x="1981080" y="3657600"/>
                <a:ext cx="25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1"/>
              <p:cNvSpPr txBox="1"/>
              <p:nvPr/>
            </p:nvSpPr>
            <p:spPr>
              <a:xfrm>
                <a:off x="2895480" y="464832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2"/>
              <p:cNvSpPr txBox="1"/>
              <p:nvPr/>
            </p:nvSpPr>
            <p:spPr>
              <a:xfrm>
                <a:off x="2438280" y="4267080"/>
                <a:ext cx="586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Freeform 3"/>
          <p:cNvSpPr/>
          <p:nvPr/>
        </p:nvSpPr>
        <p:spPr>
          <a:xfrm>
            <a:off x="1333440" y="3149640"/>
            <a:ext cx="2667240" cy="25272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680" h="1592">
                <a:moveTo>
                  <a:pt x="168" y="656"/>
                </a:moveTo>
                <a:cubicBezTo>
                  <a:pt x="120" y="560"/>
                  <a:pt x="0" y="376"/>
                  <a:pt x="72" y="272"/>
                </a:cubicBezTo>
                <a:cubicBezTo>
                  <a:pt x="144" y="168"/>
                  <a:pt x="376" y="0"/>
                  <a:pt x="600" y="32"/>
                </a:cubicBezTo>
                <a:cubicBezTo>
                  <a:pt x="824" y="64"/>
                  <a:pt x="1264" y="232"/>
                  <a:pt x="1416" y="464"/>
                </a:cubicBezTo>
                <a:cubicBezTo>
                  <a:pt x="1568" y="696"/>
                  <a:pt x="1680" y="1256"/>
                  <a:pt x="1512" y="1424"/>
                </a:cubicBezTo>
                <a:cubicBezTo>
                  <a:pt x="1344" y="1592"/>
                  <a:pt x="640" y="1536"/>
                  <a:pt x="408" y="1472"/>
                </a:cubicBezTo>
                <a:cubicBezTo>
                  <a:pt x="176" y="1408"/>
                  <a:pt x="128" y="1144"/>
                  <a:pt x="120" y="1040"/>
                </a:cubicBezTo>
                <a:cubicBezTo>
                  <a:pt x="112" y="936"/>
                  <a:pt x="352" y="904"/>
                  <a:pt x="360" y="848"/>
                </a:cubicBezTo>
                <a:cubicBezTo>
                  <a:pt x="368" y="792"/>
                  <a:pt x="216" y="752"/>
                  <a:pt x="168" y="656"/>
                </a:cubicBezTo>
                <a:close/>
              </a:path>
            </a:pathLst>
          </a:custGeom>
          <a:solidFill>
            <a:srgbClr val="3891a7"/>
          </a:solidFill>
          <a:ln w="9360">
            <a:solidFill>
              <a:srgbClr val="aa8a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2133720" y="480060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2362320" y="3733920"/>
            <a:ext cx="9180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6"/>
          <p:cNvSpPr/>
          <p:nvPr/>
        </p:nvSpPr>
        <p:spPr>
          <a:xfrm>
            <a:off x="3336840" y="5105520"/>
            <a:ext cx="921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2538360" y="3886200"/>
                <a:ext cx="281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9"/>
              <p:cNvSpPr txBox="1"/>
              <p:nvPr/>
            </p:nvSpPr>
            <p:spPr>
              <a:xfrm>
                <a:off x="2895480" y="49068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2743200" y="4444920"/>
                <a:ext cx="58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Line 12"/>
          <p:cNvSpPr/>
          <p:nvPr/>
        </p:nvSpPr>
        <p:spPr>
          <a:xfrm>
            <a:off x="2438280" y="3809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3"/>
          <p:cNvSpPr/>
          <p:nvPr/>
        </p:nvSpPr>
        <p:spPr>
          <a:xfrm flipH="1" flipV="1">
            <a:off x="1523520" y="4343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1574640" y="4518000"/>
                <a:ext cx="3319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5" name="Line 15"/>
          <p:cNvSpPr/>
          <p:nvPr/>
        </p:nvSpPr>
        <p:spPr>
          <a:xfrm flipH="1">
            <a:off x="3048120" y="5181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6"/>
              <p:cNvSpPr txBox="1"/>
              <p:nvPr/>
            </p:nvSpPr>
            <p:spPr>
              <a:xfrm>
                <a:off x="2819520" y="2314440"/>
                <a:ext cx="59594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Text Box 17"/>
          <p:cNvSpPr/>
          <p:nvPr/>
        </p:nvSpPr>
        <p:spPr>
          <a:xfrm>
            <a:off x="4038480" y="4191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visi od izbora koord.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4191120" y="4876920"/>
            <a:ext cx="4724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boratorijski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&gt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stem CM (v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21"/>
              <p:cNvSpPr txBox="1"/>
              <p:nvPr/>
            </p:nvSpPr>
            <p:spPr>
              <a:xfrm>
                <a:off x="2209680" y="48769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Line 20"/>
          <p:cNvSpPr/>
          <p:nvPr/>
        </p:nvSpPr>
        <p:spPr>
          <a:xfrm flipH="1">
            <a:off x="243792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2"/>
          <p:cNvSpPr/>
          <p:nvPr/>
        </p:nvSpPr>
        <p:spPr>
          <a:xfrm>
            <a:off x="2743200" y="4403880"/>
            <a:ext cx="92160" cy="91800"/>
          </a:xfrm>
          <a:prstGeom prst="ellipse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sis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3651120" y="3276720"/>
                <a:ext cx="1928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Line 5"/>
          <p:cNvSpPr/>
          <p:nvPr/>
        </p:nvSpPr>
        <p:spPr>
          <a:xfrm flipH="1">
            <a:off x="380952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5562720" y="3581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167840" y="4441680"/>
            <a:ext cx="3481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CM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sistema kao c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962240" y="4114800"/>
            <a:ext cx="3332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e kretan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tanje u odnosu na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43:05Z</dcterms:created>
  <dc:creator>Zlatan Soskic</dc:creator>
  <dc:description/>
  <dc:language>en-US</dc:language>
  <cp:lastModifiedBy>Zlatan Soskic</cp:lastModifiedBy>
  <dcterms:modified xsi:type="dcterms:W3CDTF">2019-11-24T15:35:55Z</dcterms:modified>
  <cp:revision>210</cp:revision>
  <dc:subject/>
  <dc:title>Fizički koncepti</dc:title>
</cp:coreProperties>
</file>