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56BA-0458-49E5-B723-811446FD1A7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B36-10FE-4B61-86B4-DD494AEC7D6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F50-B5B5-4375-A1DE-28CDAF3A5F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E4E1-B7FF-4E28-AA9A-E64E139A126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598-8402-4805-BFC6-62FF398F946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4DE-82DE-43E4-8F79-8CDA804E3ED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0B0F-3951-48E5-8A3D-834998A4302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F41-DA5B-4514-8AF9-4C67108C053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64DA-402A-4925-8E99-7AAEF42CC3E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393-54F2-48C0-92B9-ED80EA25BD1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B5B5-44C0-4B95-95DB-10B6F854FD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25D-3E8C-4343-A561-612CA3C9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E1D-C883-4B80-8E26-6AE5FB5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A94-03DE-4EB7-92B1-6FA8BAE3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692-6259-411D-86EC-B5A91D5F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683B-1EA2-42CC-9D48-6F396BF2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2F52-DEC0-42A6-A610-75684F2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8DE7-5B15-4F53-9D9E-9235EF7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8069-2761-4C61-BD7B-21BCA2FC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54D-E295-4608-BF21-D937646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C5E7-6F94-42C7-B6F0-8FFE401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0D4-97CE-48A4-A238-F73B11F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D29-BEA3-4961-AA50-9F513A3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E63-57FE-4E64-AD36-F7F65F6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9C17-94D4-412D-972B-D06CEB9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62C-9A11-4B04-8597-82C7784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2F3-30DC-479B-93CC-7C61BFD8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DCFD-495C-412E-ABD8-56C4ADA7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EF0E-7F83-4A89-9AE6-CF580509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3D32-7863-4254-BE06-215B9AD7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0595-F778-43D8-BB38-D81BF74D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0EFB-E13B-48E6-99DA-726CC21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CB1D-116E-488E-AF41-1CE7DF5A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F80-4BE3-4573-9BD4-7BBB384A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ABFD-8081-4617-B161-7D24FCF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67BC-193A-483A-81A8-3337A6A9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3FA7-AF21-4D14-8FB7-28BB13F8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D640-9971-4531-A625-F9117D8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826D-DC89-49E6-9181-7B96A1E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F1E2-1963-44E7-B278-FFC9278F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E72D-3313-48F8-ACA8-BCD0D5AD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00E5-AFC8-438B-B451-62AAC63F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33855-ED8E-4EAC-B1B6-867579B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B39C-CEF7-401E-95C2-8C29CAA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919-22FB-4D41-B3BB-5194C42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EA00-3D89-4189-B93E-1EF6057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5C55-01B6-4EF4-AD89-EBC9D5D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C689-028C-4E67-B13F-29754A5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2F08-BA20-4761-9613-EC91FA0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AA69-39CB-4457-8D0A-F483E10A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63018-5B47-4FA3-BDD0-C0A9CE9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D13A-D875-4714-9EAC-5CC373D4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D3C7-8926-4B25-8D0F-D537E603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6A0B-925E-4B61-836B-C3CE76C0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A583-E34E-4659-83C0-BC4AA09E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494-CAF0-4285-B161-83D7FA2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9F56-F1E5-463B-9C9E-6C985EBB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45C8F-482F-43B2-BE8F-A90BCE1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5FF3-7E45-4D57-A7D9-54099E1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50D0-3C00-4157-A4C1-3EA53EC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56B4-0786-417C-8DC2-7838151B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7F31-23E6-4511-87E7-70EEFD84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B9D0-7AC5-4B7D-AD8E-3E637EC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3F45-18AF-442D-86B8-77FC7BF1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4445-5EBF-4580-8C8D-B8CD486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CAFA-EFFA-4ED7-A652-F9376556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151-3ACC-4DCA-88E0-697863D2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F049-DE55-4FE9-89F4-1168D0D9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E5B5D-5E10-48B2-9587-FA4B23E5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4009-530A-4F3E-B6D4-551886BE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058A-37CB-4703-B299-F3D78070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428D-69D0-4010-8CCD-7A5C7E4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9C26-2C99-414E-9C4F-9F5EC612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119C5-1B4C-4977-960B-60B31B3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6537-A591-4C01-A564-A7665FA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08DB-108D-47AE-918D-84F7912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F6DCB-C274-47C2-9E36-A008D4E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65F-A4D8-4FD3-BCB2-C2AF724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B2F7-B5A6-41E7-87C0-54975EC5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0BD5-B700-4301-B43C-3604C76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B934D-7F8A-46C2-9576-AD689D93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3FCED-825D-47C5-B944-B4CF644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D2E6-0A4A-4A1C-841E-694ACC0B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2338-98FB-4D5F-B3DC-2B5A432C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B746-2CB6-4285-B5F0-532738C1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8E0FB-69D1-45DA-AFD3-2732F37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27AC8-5212-4443-8658-B280C6A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C5EA-F137-4113-AB91-C6247E3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E68-ABF4-4595-8903-9356E92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82F1-2366-4AF3-A943-6950C2E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4F4E7-E806-4FC0-800C-D489556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8CE6-3C87-4B57-A16B-A9C9C3CF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3337-8569-414A-BC1F-2A4DEEE1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65A2-0F09-4594-AF74-E2574760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DB99-C31A-477E-A4EC-C68D5946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F471E-BD9A-40B1-832D-4D27280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B618-6A04-452D-B157-3326A50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E5DA-503A-4E0A-8930-87E73A1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1188-731E-488D-955C-E4D64C2F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09A-06B3-4A74-841E-9033144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5B78-BF78-4388-9B09-4CF0AFD1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EF9F6-96E6-4054-BF93-7706FDB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376E-C328-4542-BEC3-F032B11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170C-3FB7-4091-863E-4741513D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623D-B406-4A1A-9995-FBA9ECA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EDCAE-6B9B-49AA-B8AA-4C34CBA4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4DFF-9F1B-48D8-BF74-7AD489C6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4F8-46C1-4E2A-94F4-20E652C822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170-6383-4CE2-BE02-E32A62487C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FB1B-1292-4309-BF21-0FAB50A3AF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E5C-156C-47B4-A982-2DD76F2AC9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C36D-38E2-44DA-875E-E8619E722C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F49-014B-4983-9296-B0AE4F12B6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A84-CD9A-442D-8653-2DCD3CE6AE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D1C0-40DA-4D4A-BD9D-E5A4E2C276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si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4" descr="C:\Info\Physics\AnimPhys\FORCES &amp; NEWTON'S LAWS_files\newton.gif"/>
          <p:cNvPicPr/>
          <p:nvPr/>
        </p:nvPicPr>
        <p:blipFill>
          <a:blip r:embed="rId1"/>
          <a:stretch/>
        </p:blipFill>
        <p:spPr>
          <a:xfrm>
            <a:off x="1623960" y="3200400"/>
            <a:ext cx="2732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II Njutnov zakon – akcija i reakcij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1079640" y="2421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le se javljaju u par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1630440" y="417672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2838600" y="320832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 flipV="1">
            <a:off x="1695600" y="388584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0"/>
              <p:cNvSpPr txBox="1"/>
              <p:nvPr/>
            </p:nvSpPr>
            <p:spPr>
              <a:xfrm>
                <a:off x="1465200" y="3581280"/>
                <a:ext cx="45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6" name="Text Box 15"/>
          <p:cNvSpPr/>
          <p:nvPr/>
        </p:nvSpPr>
        <p:spPr>
          <a:xfrm>
            <a:off x="1695600" y="4191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2990880" y="31543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 flipV="1">
            <a:off x="2457360" y="32767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"/>
              <p:cNvSpPr txBox="1"/>
              <p:nvPr/>
            </p:nvSpPr>
            <p:spPr>
              <a:xfrm>
                <a:off x="2305080" y="2895480"/>
                <a:ext cx="449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2762280" y="4114800"/>
                <a:ext cx="2063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41" name="Picture 20" descr="C:\Program Files\Common Files\Microsoft Shared\Clipart\cagcat50\pe01832_.wmf"/>
          <p:cNvPicPr/>
          <p:nvPr/>
        </p:nvPicPr>
        <p:blipFill>
          <a:blip r:embed="rId1"/>
          <a:stretch/>
        </p:blipFill>
        <p:spPr>
          <a:xfrm>
            <a:off x="4896000" y="305424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2"/>
          <p:cNvSpPr/>
          <p:nvPr/>
        </p:nvSpPr>
        <p:spPr>
          <a:xfrm>
            <a:off x="5429160" y="5486400"/>
            <a:ext cx="1295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7715160" y="3809880"/>
            <a:ext cx="0" cy="762120"/>
          </a:xfrm>
          <a:prstGeom prst="line">
            <a:avLst/>
          </a:prstGeom>
          <a:ln w="28440">
            <a:solidFill>
              <a:srgbClr val="aa8a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7715160" y="4572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7715160" y="5638680"/>
            <a:ext cx="0" cy="762120"/>
          </a:xfrm>
          <a:prstGeom prst="line">
            <a:avLst/>
          </a:prstGeom>
          <a:ln w="28440">
            <a:solidFill>
              <a:srgbClr val="aa8a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7805880" y="4648320"/>
                <a:ext cx="366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7777080" y="3941640"/>
                <a:ext cx="3952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7805880" y="5653080"/>
                <a:ext cx="366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9" name="Line 29"/>
          <p:cNvSpPr/>
          <p:nvPr/>
        </p:nvSpPr>
        <p:spPr>
          <a:xfrm>
            <a:off x="8248680" y="4267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0"/>
          <p:cNvSpPr/>
          <p:nvPr/>
        </p:nvSpPr>
        <p:spPr>
          <a:xfrm>
            <a:off x="8782200" y="42670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1"/>
          <p:cNvSpPr/>
          <p:nvPr/>
        </p:nvSpPr>
        <p:spPr>
          <a:xfrm flipH="1">
            <a:off x="82486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1079640" y="6356520"/>
            <a:ext cx="81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r sila iz III Njutnovog zakona deluje na različita t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storijski osvrt na pojam si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Aristotel (IV vek p.n.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oje kretanje i mirovan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da bi se telo kretalo, na njega mora da deluje neka sila, inače telo miruje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a je uzročnik kretan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jutn (XVIII vek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Kretanje je relativno, i mirovanje takođ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a je uzrok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Gill Sans MT"/>
              </a:rPr>
              <a:t>promene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kretanja (ili mirovanj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ile deluju među tel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066680" y="6019920"/>
            <a:ext cx="7620120" cy="520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la je mera za interakciju t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m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ka se tela lakše pokreću, a neka tež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a8a14"/>
                </a:solidFill>
                <a:latin typeface="Gill Sans MT"/>
              </a:rPr>
              <a:t>INERTNOST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– svojstvo supstanci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Text Box 1031"/>
          <p:cNvSpPr/>
          <p:nvPr/>
        </p:nvSpPr>
        <p:spPr>
          <a:xfrm>
            <a:off x="2362320" y="3581280"/>
            <a:ext cx="39621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sa je mera za inertnost 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32"/>
          <p:cNvSpPr/>
          <p:nvPr/>
        </p:nvSpPr>
        <p:spPr>
          <a:xfrm>
            <a:off x="3809880" y="4495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m] =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količi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a veličina koja meri kret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914400" y="2971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ća masa, ista brzin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še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ta masa, veća brzin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še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8120" y="4133880"/>
            <a:ext cx="2361960" cy="51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024"/>
              <p:cNvSpPr txBox="1"/>
              <p:nvPr/>
            </p:nvSpPr>
            <p:spPr>
              <a:xfrm>
                <a:off x="3606840" y="4122720"/>
                <a:ext cx="1422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≡</m:t>
                    </m:r>
                    <m:r>
                      <m:t xml:space="preserve">m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88" name="Text Box 9"/>
          <p:cNvSpPr/>
          <p:nvPr/>
        </p:nvSpPr>
        <p:spPr>
          <a:xfrm>
            <a:off x="297180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K]=[m][v] = kg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Veličine - sil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19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Times New Roman"/>
              </a:rPr>
              <a:t>Sila je mera za interakciju tela, za uticaj tela na tel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Rectangle 1029"/>
          <p:cNvSpPr/>
          <p:nvPr/>
        </p:nvSpPr>
        <p:spPr>
          <a:xfrm>
            <a:off x="914400" y="28954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a sila, veća promena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ča sila, brža promena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30"/>
          <p:cNvSpPr/>
          <p:nvPr/>
        </p:nvSpPr>
        <p:spPr>
          <a:xfrm>
            <a:off x="3048120" y="4133880"/>
            <a:ext cx="2361960" cy="101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032"/>
          <p:cNvSpPr/>
          <p:nvPr/>
        </p:nvSpPr>
        <p:spPr>
          <a:xfrm>
            <a:off x="266688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F]=[K]/[t] = kgm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024"/>
              <p:cNvSpPr txBox="1"/>
              <p:nvPr/>
            </p:nvSpPr>
            <p:spPr>
              <a:xfrm>
                <a:off x="3581280" y="4191120"/>
                <a:ext cx="1143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 Njutnov zakon – zakon iner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040" y="5028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06360" indent="-2372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amo druga tela mogu da utiču na promenu kretanja nekog tela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ma “samokretanja” ni “samozaustavljanja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143000" y="2666880"/>
            <a:ext cx="74674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na neko telo ne deluju spoljašnje sile, ono se kreće konstantnom brzinom (ili miruj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024"/>
              <p:cNvSpPr txBox="1"/>
              <p:nvPr/>
            </p:nvSpPr>
            <p:spPr>
              <a:xfrm>
                <a:off x="1219320" y="3581280"/>
                <a:ext cx="71676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6"/>
          <p:cNvSpPr/>
          <p:nvPr/>
        </p:nvSpPr>
        <p:spPr>
          <a:xfrm>
            <a:off x="2209680" y="4175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e menja smer, ne menja pravac, ne menja intenzi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23623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de po pravoj liniji konstatnom brzinom ili mir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Njutnov zakon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1806480" y="3657600"/>
            <a:ext cx="7632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3102120" y="27432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3254400" y="37339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2492280" y="44197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"/>
          <p:cNvSpPr/>
          <p:nvPr/>
        </p:nvSpPr>
        <p:spPr>
          <a:xfrm flipV="1">
            <a:off x="1882800" y="33523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2"/>
          <p:cNvSpPr/>
          <p:nvPr/>
        </p:nvSpPr>
        <p:spPr>
          <a:xfrm flipH="1">
            <a:off x="1257120" y="3692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3"/>
          <p:cNvSpPr/>
          <p:nvPr/>
        </p:nvSpPr>
        <p:spPr>
          <a:xfrm>
            <a:off x="1882800" y="37339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024"/>
              <p:cNvSpPr txBox="1"/>
              <p:nvPr/>
            </p:nvSpPr>
            <p:spPr>
              <a:xfrm>
                <a:off x="1681200" y="289548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25"/>
              <p:cNvSpPr txBox="1"/>
              <p:nvPr/>
            </p:nvSpPr>
            <p:spPr>
              <a:xfrm>
                <a:off x="1071720" y="3720960"/>
                <a:ext cx="393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026"/>
              <p:cNvSpPr txBox="1"/>
              <p:nvPr/>
            </p:nvSpPr>
            <p:spPr>
              <a:xfrm>
                <a:off x="1909800" y="43434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Text Box 17"/>
          <p:cNvSpPr/>
          <p:nvPr/>
        </p:nvSpPr>
        <p:spPr>
          <a:xfrm>
            <a:off x="1730520" y="37339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2568600" y="4343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330720" y="3657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178080" y="2620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027"/>
              <p:cNvSpPr txBox="1"/>
              <p:nvPr/>
            </p:nvSpPr>
            <p:spPr>
              <a:xfrm>
                <a:off x="5105520" y="2514600"/>
                <a:ext cx="1447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1028"/>
              <p:cNvSpPr txBox="1"/>
              <p:nvPr/>
            </p:nvSpPr>
            <p:spPr>
              <a:xfrm>
                <a:off x="3962520" y="4267080"/>
                <a:ext cx="44244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1029"/>
              <p:cNvSpPr txBox="1"/>
              <p:nvPr/>
            </p:nvSpPr>
            <p:spPr>
              <a:xfrm>
                <a:off x="5248440" y="5349960"/>
                <a:ext cx="1228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25"/>
          <p:cNvSpPr/>
          <p:nvPr/>
        </p:nvSpPr>
        <p:spPr>
          <a:xfrm>
            <a:off x="45720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Ako je masa konstan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čaj II Njutnovog zak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34640" y="3429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sile, znamo budućnost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3092400" y="38862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3" name="Text Box 5"/>
          <p:cNvSpPr/>
          <p:nvPr/>
        </p:nvSpPr>
        <p:spPr>
          <a:xfrm>
            <a:off x="2635200" y="4343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rektni problem dina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958680" y="5029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znamo kretanje u prošlosti, znamo sile koje su ga izaz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7"/>
              <p:cNvSpPr txBox="1"/>
              <p:nvPr/>
            </p:nvSpPr>
            <p:spPr>
              <a:xfrm>
                <a:off x="3092400" y="5486400"/>
                <a:ext cx="2362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26" name="Text Box 8"/>
          <p:cNvSpPr/>
          <p:nvPr/>
        </p:nvSpPr>
        <p:spPr>
          <a:xfrm>
            <a:off x="2635200" y="5943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verzni problem dina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1035000" y="2438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ređuje ubrz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načaj II Njutnovog zako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1035000" y="2438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nova fizike kao na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tod fizike – primena koncepta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ledaj prošlost – otkrićeš s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ši sadašnj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da znaš s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njost i sile, znaćeš 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znanje sila je spona prošlosti buduć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opisati te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e sile deluju među nji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29:59Z</dcterms:created>
  <dc:creator>Zlatan Soskic</dc:creator>
  <dc:description/>
  <dc:language>en-US</dc:language>
  <cp:lastModifiedBy>Korisnik</cp:lastModifiedBy>
  <dcterms:modified xsi:type="dcterms:W3CDTF">2012-10-02T21:22:08Z</dcterms:modified>
  <cp:revision>102</cp:revision>
  <dc:subject/>
  <dc:title>Koncept sile</dc:title>
</cp:coreProperties>
</file>