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7C4-CF48-4C77-B49E-91EE364E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E37-1D22-4492-93A3-B28518CA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947-9E2B-44A2-8AB0-53121B25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827-477C-45D7-851F-69C83CA6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2E85-1C7E-4315-AB9D-1D372EED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1B79-E5C8-40AF-ADBC-6BF807CD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C6C1-7285-4B32-B4A7-E17C038A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B869-609F-4083-99C0-21893901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1D92-22AB-4552-A79F-0A3A46A7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7A2A-7C9D-4252-B9FC-C3C53DB6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7041-0B6C-4E84-B2BB-F2353D29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6FE-E95A-48D4-9445-684549AF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F45A-EA9A-4C9B-AA40-7B38F218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7246-6521-4110-9FDD-784B05CC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9FCD-503D-4764-A2EC-FB16A420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E318-DDF3-49E9-A054-AE9A4792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C1F1-EA59-4474-AAE6-08E36C11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FEE4-BDC4-4319-8BE8-57172BFE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AF2B-BD8C-45F7-A1B6-E1D608F2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45FA3-D1A7-42A7-97C6-54091CC4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3FCE-FA6A-4530-8D8F-12F9B013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79C25-B331-414D-BD38-5292D201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A3E-8998-4F2E-9892-1160A7CD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142F-24F3-456E-9D4A-860966FC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A67A-82CD-441E-85DB-3F0AC1C8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0AD6-FBA6-4C35-81C9-0AD443B1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9DF5-D497-463C-A086-16F343E5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E18E-302A-4D6E-A659-E726D1D6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71A83-AAF9-4E77-9C2E-FAB8BD94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FB9E-E1ED-4E25-95EC-BF973481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683A0-E9AD-44E8-820F-D7292C35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1C2D2-9CA7-4B8C-8792-63749CF8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AAC1A-EB2F-4397-A9B0-D9A24C7E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E72-66A6-4BE7-B69A-2DF1CD73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EF7D1-E271-4F17-8C66-EC82D4FE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AC871-48DE-4A39-9206-B551B30A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43AA6-A7BB-4053-BDCE-DF4EEE44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F75AB-4612-494C-8FB3-3FA73A62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AB880-7857-4BF2-9358-8B3D8C44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F215D-EE51-4B7C-B6BB-DF1B53E4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3DD0-FE6A-417A-B6ED-5BA106C8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EF51A-0703-430A-B157-7D1BD332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30D1-C621-41B2-A128-59DAD8CF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2B7BF-1A3A-4925-A6AD-89D0D451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78D-A4A5-4FA4-9ABE-3AB60269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18E02-06A6-4A3E-ABC4-AF338D73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D3332-05B0-450A-8A9A-FC6927DF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ED42F-1A25-4412-929A-BF793B3F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82EB7-60FD-460E-BDB0-AA473769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D05FB-C599-4989-AA7B-58C5C308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7B0DB-3E3C-46E6-AF2D-8C146A91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A2F04-B66B-4653-884F-D5292956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8E478-FD97-4A4B-B069-C798CFFA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C2B0F-C783-4AB4-9CDF-761E69B9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F86B6-5805-4E94-9233-CCF2514A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FA6-444D-4744-A991-DE23E66D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2EAC1-1FAF-472D-90EE-9F622DF1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13A5C-F80B-4CE2-AFEB-48E24061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5A4CD-BF6C-4BAB-BC64-E402B095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9E898-44B4-439E-BB08-B6A04029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028F4-DDA2-4380-B79E-7E3C6B96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8325B-717B-4E13-8294-7A397D1D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DDBB4-7335-4815-B888-C6D820F0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61972-D626-45E3-970C-AE072A2A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7F87C-CEA0-4EE0-834E-334DFA16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71381-BAD5-4406-AD30-5015A90C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7B0-E501-4126-B956-674A36F7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6B473-2F6E-4196-B8C9-AC38BA57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3CE2A-3D77-4015-819A-DF1DD48B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B1810-FB60-405C-8BD0-C77A2C99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2438F-0C5E-438A-A521-C82FCFEE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ECFA1-4449-4A15-879D-0E5E0231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9A069-12EC-471A-9D9A-90E54F3C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03465-BAAB-44B2-ADEC-8E6E64E4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7DD80-4108-422C-82F7-CFFB5392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157E7-BD67-41C1-958F-162A6C7E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7A6CE-26B5-4A4A-8CC7-D6857F16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210-F444-4A50-B400-6553968B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97C19-6298-4B8F-8223-B1581860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C4B53-584F-4A98-814C-643A3C45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CF420-CD77-43BD-A8E4-0E48D5D7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F452F-A50A-407E-B10A-8360316D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824BB-B6B9-43A9-B343-68A45174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BD146-538B-4C50-8E4C-DC8330B9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04D00-5663-43BD-820A-11E7E9B3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DA112-BB98-408C-8BB1-79789C3A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17262-D42D-492C-BCC4-730BFBD4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9E021-8084-4A32-8FC7-0BF1A5B0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52C-EAEB-4CFA-9C27-09582914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14B24-03BE-4477-89E1-77CF55CB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25B4B-0C1D-4551-B260-0A3470CC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CAF8E-9F27-44E5-B992-2509E08A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27BFA-36B5-4C8D-AAB5-7F7F9B4B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FFCA6-2616-44D0-ACE6-EED1D7DA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7004A-6FD0-4F7A-ABA6-7B7EF1CF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9F91C-D343-4AD2-B4B7-5D69300E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C42A-74D0-491D-A78C-75CE242F377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93AC-B2B9-4A5B-B3B0-97DF2504EAD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6A4F-E735-4BFA-8720-EEC8BB6BA15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3D8B-B468-43F4-B496-A508DDFFF63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59E1-2AF3-4E60-89C4-67647780456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8432-E63C-4BC9-8817-CCE0E3858FA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6300-E6D4-40ED-9D30-9E38C831F15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2936520" y="65289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A63C-B6B0-4253-B504-74AE11DAFBC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kre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rodno opisivanje brz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Freeform 3"/>
          <p:cNvSpPr/>
          <p:nvPr/>
        </p:nvSpPr>
        <p:spPr>
          <a:xfrm>
            <a:off x="4114800" y="3044880"/>
            <a:ext cx="2006640" cy="2400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4"/>
          <p:cNvSpPr/>
          <p:nvPr/>
        </p:nvSpPr>
        <p:spPr>
          <a:xfrm>
            <a:off x="2743200" y="49878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5"/>
          <p:cNvSpPr/>
          <p:nvPr/>
        </p:nvSpPr>
        <p:spPr>
          <a:xfrm flipV="1">
            <a:off x="3048120" y="2854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6"/>
          <p:cNvSpPr/>
          <p:nvPr/>
        </p:nvSpPr>
        <p:spPr>
          <a:xfrm>
            <a:off x="2971800" y="49118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7"/>
          <p:cNvSpPr/>
          <p:nvPr/>
        </p:nvSpPr>
        <p:spPr>
          <a:xfrm>
            <a:off x="5691240" y="53276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8"/>
          <p:cNvSpPr/>
          <p:nvPr/>
        </p:nvSpPr>
        <p:spPr>
          <a:xfrm>
            <a:off x="4038480" y="300672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5828760" y="51404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4251240" y="28195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AutoShape 15"/>
          <p:cNvCxnSpPr>
            <a:stCxn id="465" idx="6"/>
            <a:endCxn id="462" idx="1"/>
          </p:cNvCxnSpPr>
          <p:nvPr/>
        </p:nvCxnSpPr>
        <p:spPr>
          <a:xfrm flipV="1">
            <a:off x="3124080" y="4758480"/>
            <a:ext cx="299160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AutoShape 16"/>
          <p:cNvCxnSpPr>
            <a:stCxn id="465" idx="6"/>
            <a:endCxn id="462" idx="2"/>
          </p:cNvCxnSpPr>
          <p:nvPr/>
        </p:nvCxnSpPr>
        <p:spPr>
          <a:xfrm flipV="1">
            <a:off x="3124080" y="4149360"/>
            <a:ext cx="253440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Line 19"/>
          <p:cNvSpPr/>
          <p:nvPr/>
        </p:nvSpPr>
        <p:spPr>
          <a:xfrm flipH="1" flipV="1">
            <a:off x="5638680" y="419076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20"/>
          <p:cNvSpPr/>
          <p:nvPr/>
        </p:nvSpPr>
        <p:spPr>
          <a:xfrm flipH="1" flipV="1">
            <a:off x="4038120" y="2438280"/>
            <a:ext cx="2514600" cy="281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21"/>
          <p:cNvSpPr/>
          <p:nvPr/>
        </p:nvSpPr>
        <p:spPr>
          <a:xfrm flipH="1" flipV="1">
            <a:off x="4876920" y="3352680"/>
            <a:ext cx="121896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2514600" y="5029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27"/>
              <p:cNvSpPr txBox="1"/>
              <p:nvPr/>
            </p:nvSpPr>
            <p:spPr>
              <a:xfrm>
                <a:off x="4368960" y="4927680"/>
                <a:ext cx="74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8"/>
              <p:cNvSpPr txBox="1"/>
              <p:nvPr/>
            </p:nvSpPr>
            <p:spPr>
              <a:xfrm>
                <a:off x="3360600" y="4029120"/>
                <a:ext cx="14925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9"/>
              <p:cNvSpPr txBox="1"/>
              <p:nvPr/>
            </p:nvSpPr>
            <p:spPr>
              <a:xfrm>
                <a:off x="5977080" y="4054320"/>
                <a:ext cx="576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0"/>
              <p:cNvSpPr txBox="1"/>
              <p:nvPr/>
            </p:nvSpPr>
            <p:spPr>
              <a:xfrm>
                <a:off x="5562720" y="2986200"/>
                <a:ext cx="15588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rodno opisivanje brz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1" name="Freeform 3"/>
          <p:cNvSpPr/>
          <p:nvPr/>
        </p:nvSpPr>
        <p:spPr>
          <a:xfrm>
            <a:off x="2514600" y="3273480"/>
            <a:ext cx="2006640" cy="2400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1143000" y="52164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5"/>
          <p:cNvSpPr/>
          <p:nvPr/>
        </p:nvSpPr>
        <p:spPr>
          <a:xfrm flipV="1">
            <a:off x="1447920" y="30826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6"/>
          <p:cNvSpPr/>
          <p:nvPr/>
        </p:nvSpPr>
        <p:spPr>
          <a:xfrm>
            <a:off x="1371600" y="51404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091040" y="55562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8"/>
          <p:cNvSpPr/>
          <p:nvPr/>
        </p:nvSpPr>
        <p:spPr>
          <a:xfrm>
            <a:off x="2438280" y="323532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4228560" y="53690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2651040" y="3048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AutoShape 11"/>
          <p:cNvCxnSpPr>
            <a:stCxn id="484" idx="6"/>
            <a:endCxn id="481" idx="1"/>
          </p:cNvCxnSpPr>
          <p:nvPr/>
        </p:nvCxnSpPr>
        <p:spPr>
          <a:xfrm flipV="1">
            <a:off x="1523880" y="4987080"/>
            <a:ext cx="299160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Text Box 16"/>
          <p:cNvSpPr/>
          <p:nvPr/>
        </p:nvSpPr>
        <p:spPr>
          <a:xfrm>
            <a:off x="914400" y="52578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7"/>
          <p:cNvSpPr/>
          <p:nvPr/>
        </p:nvSpPr>
        <p:spPr>
          <a:xfrm flipV="1">
            <a:off x="1447920" y="4800600"/>
            <a:ext cx="29718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8"/>
          <p:cNvSpPr/>
          <p:nvPr/>
        </p:nvSpPr>
        <p:spPr>
          <a:xfrm flipH="1" flipV="1">
            <a:off x="4191120" y="3124080"/>
            <a:ext cx="38088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9"/>
          <p:cNvSpPr/>
          <p:nvPr/>
        </p:nvSpPr>
        <p:spPr>
          <a:xfrm flipH="1" flipV="1">
            <a:off x="4266720" y="3657600"/>
            <a:ext cx="2286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20"/>
              <p:cNvSpPr txBox="1"/>
              <p:nvPr/>
            </p:nvSpPr>
            <p:spPr>
              <a:xfrm>
                <a:off x="2768760" y="5156280"/>
                <a:ext cx="74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1"/>
              <p:cNvSpPr txBox="1"/>
              <p:nvPr/>
            </p:nvSpPr>
            <p:spPr>
              <a:xfrm>
                <a:off x="1776240" y="4486320"/>
                <a:ext cx="1459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22"/>
              <p:cNvSpPr txBox="1"/>
              <p:nvPr/>
            </p:nvSpPr>
            <p:spPr>
              <a:xfrm>
                <a:off x="4495680" y="4638600"/>
                <a:ext cx="1494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23"/>
              <p:cNvSpPr txBox="1"/>
              <p:nvPr/>
            </p:nvSpPr>
            <p:spPr>
              <a:xfrm>
                <a:off x="4343400" y="3657600"/>
                <a:ext cx="3380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98" name="Text Box 24"/>
          <p:cNvSpPr/>
          <p:nvPr/>
        </p:nvSpPr>
        <p:spPr>
          <a:xfrm>
            <a:off x="5791320" y="3124080"/>
            <a:ext cx="3504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ac: tan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r: kre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zit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5"/>
              <p:cNvSpPr txBox="1"/>
              <p:nvPr/>
            </p:nvSpPr>
            <p:spPr>
              <a:xfrm>
                <a:off x="7207200" y="3962520"/>
                <a:ext cx="18925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oordinatno opisivanje brz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143000" y="2590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kartove k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4"/>
              <p:cNvSpPr txBox="1"/>
              <p:nvPr/>
            </p:nvSpPr>
            <p:spPr>
              <a:xfrm>
                <a:off x="1066680" y="3054240"/>
                <a:ext cx="77724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5"/>
              <p:cNvSpPr txBox="1"/>
              <p:nvPr/>
            </p:nvSpPr>
            <p:spPr>
              <a:xfrm>
                <a:off x="3048120" y="4343400"/>
                <a:ext cx="3409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misao brz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1066680" y="2438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o poznajemo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dašnji položaj tela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rednosti brzine, m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žemo odrediti položaj tela u bilo kom trenut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5"/>
              <p:cNvSpPr txBox="1"/>
              <p:nvPr/>
            </p:nvSpPr>
            <p:spPr>
              <a:xfrm>
                <a:off x="966960" y="3232080"/>
                <a:ext cx="77454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Rectangle 6"/>
          <p:cNvSpPr/>
          <p:nvPr/>
        </p:nvSpPr>
        <p:spPr>
          <a:xfrm>
            <a:off x="5181480" y="3352680"/>
            <a:ext cx="358164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3652560" y="5486400"/>
            <a:ext cx="50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istalna kugla za gledanje u buduć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432864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uduć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7467840" y="42670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dašnj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0"/>
          <p:cNvSpPr/>
          <p:nvPr/>
        </p:nvSpPr>
        <p:spPr>
          <a:xfrm flipV="1">
            <a:off x="5257800" y="3886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1"/>
          <p:cNvSpPr/>
          <p:nvPr/>
        </p:nvSpPr>
        <p:spPr>
          <a:xfrm flipH="1" flipV="1">
            <a:off x="7314840" y="3886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2"/>
          <p:cNvSpPr/>
          <p:nvPr/>
        </p:nvSpPr>
        <p:spPr>
          <a:xfrm flipV="1">
            <a:off x="6095880" y="40384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misao brz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4"/>
              <p:cNvSpPr txBox="1"/>
              <p:nvPr/>
            </p:nvSpPr>
            <p:spPr>
              <a:xfrm>
                <a:off x="1219320" y="2362320"/>
                <a:ext cx="7213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12"/>
              <p:cNvSpPr txBox="1"/>
              <p:nvPr/>
            </p:nvSpPr>
            <p:spPr>
              <a:xfrm>
                <a:off x="1168560" y="2909880"/>
                <a:ext cx="7092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13"/>
              <p:cNvSpPr txBox="1"/>
              <p:nvPr/>
            </p:nvSpPr>
            <p:spPr>
              <a:xfrm>
                <a:off x="1158840" y="3444840"/>
                <a:ext cx="7299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4"/>
              <p:cNvSpPr txBox="1"/>
              <p:nvPr/>
            </p:nvSpPr>
            <p:spPr>
              <a:xfrm>
                <a:off x="1359000" y="4343400"/>
                <a:ext cx="6441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Text Box 15"/>
          <p:cNvSpPr/>
          <p:nvPr/>
        </p:nvSpPr>
        <p:spPr>
          <a:xfrm>
            <a:off x="2819520" y="5029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li, kako se brzina menj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Ubrzanje – promena brz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914400" y="2666880"/>
            <a:ext cx="78487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brzanje je prvi izvod brzine kretan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 vre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3352680" y="5181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a] = [v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t]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3263760" y="3657600"/>
                <a:ext cx="23749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Arial"/>
              </a:rPr>
              <a:t>Prirodno opisivanje </a:t>
            </a:r>
            <a:r>
              <a:rPr b="1" lang="hr-HR" sz="3600" spc="-1" strike="noStrike">
                <a:solidFill>
                  <a:srgbClr val="4f271c"/>
                </a:solidFill>
                <a:latin typeface="Arial"/>
              </a:rPr>
              <a:t>ubrzan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3"/>
          <p:cNvSpPr/>
          <p:nvPr/>
        </p:nvSpPr>
        <p:spPr>
          <a:xfrm>
            <a:off x="1676520" y="2587680"/>
            <a:ext cx="2006640" cy="2400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4"/>
          <p:cNvSpPr/>
          <p:nvPr/>
        </p:nvSpPr>
        <p:spPr>
          <a:xfrm>
            <a:off x="914400" y="45306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5"/>
          <p:cNvSpPr/>
          <p:nvPr/>
        </p:nvSpPr>
        <p:spPr>
          <a:xfrm flipV="1">
            <a:off x="1219320" y="23968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"/>
          <p:cNvSpPr/>
          <p:nvPr/>
        </p:nvSpPr>
        <p:spPr>
          <a:xfrm>
            <a:off x="1143000" y="44546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7"/>
          <p:cNvSpPr/>
          <p:nvPr/>
        </p:nvSpPr>
        <p:spPr>
          <a:xfrm>
            <a:off x="3252960" y="487044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8"/>
          <p:cNvSpPr/>
          <p:nvPr/>
        </p:nvSpPr>
        <p:spPr>
          <a:xfrm>
            <a:off x="1600200" y="25495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3390480" y="46832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812960" y="23623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685800" y="4572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1024"/>
              <p:cNvSpPr txBox="1"/>
              <p:nvPr/>
            </p:nvSpPr>
            <p:spPr>
              <a:xfrm>
                <a:off x="3809880" y="3809880"/>
                <a:ext cx="746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1025"/>
              <p:cNvSpPr txBox="1"/>
              <p:nvPr/>
            </p:nvSpPr>
            <p:spPr>
              <a:xfrm>
                <a:off x="2819520" y="2962440"/>
                <a:ext cx="1492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Line 21"/>
          <p:cNvSpPr/>
          <p:nvPr/>
        </p:nvSpPr>
        <p:spPr>
          <a:xfrm flipV="1">
            <a:off x="3657600" y="3505320"/>
            <a:ext cx="1522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22"/>
          <p:cNvSpPr/>
          <p:nvPr/>
        </p:nvSpPr>
        <p:spPr>
          <a:xfrm flipH="1" flipV="1">
            <a:off x="2514600" y="3048120"/>
            <a:ext cx="9144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1026"/>
              <p:cNvSpPr txBox="1"/>
              <p:nvPr/>
            </p:nvSpPr>
            <p:spPr>
              <a:xfrm>
                <a:off x="7256520" y="5019840"/>
                <a:ext cx="57636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1027"/>
              <p:cNvSpPr txBox="1"/>
              <p:nvPr/>
            </p:nvSpPr>
            <p:spPr>
              <a:xfrm>
                <a:off x="4081320" y="5129280"/>
                <a:ext cx="159408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Line 31"/>
          <p:cNvSpPr/>
          <p:nvPr/>
        </p:nvSpPr>
        <p:spPr>
          <a:xfrm flipV="1">
            <a:off x="7940520" y="5486400"/>
            <a:ext cx="1526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1028"/>
              <p:cNvSpPr txBox="1"/>
              <p:nvPr/>
            </p:nvSpPr>
            <p:spPr>
              <a:xfrm>
                <a:off x="8001000" y="5800680"/>
                <a:ext cx="746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Line 33"/>
          <p:cNvSpPr/>
          <p:nvPr/>
        </p:nvSpPr>
        <p:spPr>
          <a:xfrm flipH="1" flipV="1">
            <a:off x="7026120" y="5562720"/>
            <a:ext cx="9144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1029"/>
              <p:cNvSpPr txBox="1"/>
              <p:nvPr/>
            </p:nvSpPr>
            <p:spPr>
              <a:xfrm>
                <a:off x="6095880" y="5943600"/>
                <a:ext cx="1492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Line 35"/>
          <p:cNvSpPr/>
          <p:nvPr/>
        </p:nvSpPr>
        <p:spPr>
          <a:xfrm flipH="1">
            <a:off x="7086600" y="549576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36"/>
          <p:cNvSpPr/>
          <p:nvPr/>
        </p:nvSpPr>
        <p:spPr>
          <a:xfrm flipH="1">
            <a:off x="5699160" y="5495760"/>
            <a:ext cx="236232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Arial"/>
              </a:rPr>
              <a:t>Prirodno opisivanje </a:t>
            </a:r>
            <a:r>
              <a:rPr b="1" lang="hr-HR" sz="3600" spc="-1" strike="noStrike">
                <a:solidFill>
                  <a:srgbClr val="4f271c"/>
                </a:solidFill>
                <a:latin typeface="Arial"/>
              </a:rPr>
              <a:t>ubrzan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3"/>
          <p:cNvSpPr/>
          <p:nvPr/>
        </p:nvSpPr>
        <p:spPr>
          <a:xfrm>
            <a:off x="2987640" y="3238560"/>
            <a:ext cx="2006640" cy="2400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"/>
          <p:cNvSpPr/>
          <p:nvPr/>
        </p:nvSpPr>
        <p:spPr>
          <a:xfrm>
            <a:off x="222552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5"/>
          <p:cNvSpPr/>
          <p:nvPr/>
        </p:nvSpPr>
        <p:spPr>
          <a:xfrm flipV="1">
            <a:off x="2530440" y="293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6"/>
          <p:cNvSpPr/>
          <p:nvPr/>
        </p:nvSpPr>
        <p:spPr>
          <a:xfrm>
            <a:off x="2454120" y="502920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7"/>
          <p:cNvSpPr/>
          <p:nvPr/>
        </p:nvSpPr>
        <p:spPr>
          <a:xfrm>
            <a:off x="4564080" y="548640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8"/>
          <p:cNvSpPr/>
          <p:nvPr/>
        </p:nvSpPr>
        <p:spPr>
          <a:xfrm>
            <a:off x="2911320" y="316548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4701600" y="52164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3124080" y="2895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1981080" y="5181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024"/>
              <p:cNvSpPr txBox="1"/>
              <p:nvPr/>
            </p:nvSpPr>
            <p:spPr>
              <a:xfrm>
                <a:off x="5121360" y="4384800"/>
                <a:ext cx="745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025"/>
              <p:cNvSpPr txBox="1"/>
              <p:nvPr/>
            </p:nvSpPr>
            <p:spPr>
              <a:xfrm>
                <a:off x="3994200" y="3460680"/>
                <a:ext cx="1458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8" name="Line 14"/>
          <p:cNvSpPr/>
          <p:nvPr/>
        </p:nvSpPr>
        <p:spPr>
          <a:xfrm flipV="1">
            <a:off x="4968720" y="4121280"/>
            <a:ext cx="1526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1026"/>
              <p:cNvSpPr txBox="1"/>
              <p:nvPr/>
            </p:nvSpPr>
            <p:spPr>
              <a:xfrm>
                <a:off x="2556000" y="4114800"/>
                <a:ext cx="125388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Line 25"/>
          <p:cNvSpPr/>
          <p:nvPr/>
        </p:nvSpPr>
        <p:spPr>
          <a:xfrm flipH="1" flipV="1">
            <a:off x="4556160" y="3886200"/>
            <a:ext cx="3808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26"/>
          <p:cNvSpPr/>
          <p:nvPr/>
        </p:nvSpPr>
        <p:spPr>
          <a:xfrm flipH="1" flipV="1">
            <a:off x="3749760" y="4273200"/>
            <a:ext cx="121896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reeform 3"/>
          <p:cNvSpPr/>
          <p:nvPr/>
        </p:nvSpPr>
        <p:spPr>
          <a:xfrm>
            <a:off x="2971800" y="3197160"/>
            <a:ext cx="2006640" cy="240048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2400480"/>
              <a:gd name="textAreaBottom" fmla="*/ 2400840 h 2400480"/>
            </a:gdLst>
            <a:ahLst/>
            <a:rect l="textAreaLeft" t="textAreaTop" r="textAreaRight" b="textAreaBottom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4"/>
          <p:cNvSpPr/>
          <p:nvPr/>
        </p:nvSpPr>
        <p:spPr>
          <a:xfrm>
            <a:off x="2209680" y="514044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5"/>
          <p:cNvSpPr/>
          <p:nvPr/>
        </p:nvSpPr>
        <p:spPr>
          <a:xfrm flipV="1">
            <a:off x="2514600" y="30063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6"/>
          <p:cNvSpPr/>
          <p:nvPr/>
        </p:nvSpPr>
        <p:spPr>
          <a:xfrm>
            <a:off x="2438280" y="506412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7"/>
          <p:cNvSpPr/>
          <p:nvPr/>
        </p:nvSpPr>
        <p:spPr>
          <a:xfrm>
            <a:off x="4548240" y="5479920"/>
            <a:ext cx="152280" cy="152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8"/>
          <p:cNvSpPr/>
          <p:nvPr/>
        </p:nvSpPr>
        <p:spPr>
          <a:xfrm>
            <a:off x="2895480" y="3159000"/>
            <a:ext cx="152640" cy="152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4685760" y="5292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3108240" y="2895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1981080" y="5181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0"/>
              <p:cNvSpPr txBox="1"/>
              <p:nvPr/>
            </p:nvSpPr>
            <p:spPr>
              <a:xfrm>
                <a:off x="3395520" y="4038480"/>
                <a:ext cx="3384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2" name="Line 17"/>
          <p:cNvSpPr/>
          <p:nvPr/>
        </p:nvSpPr>
        <p:spPr>
          <a:xfrm flipH="1" flipV="1">
            <a:off x="3733920" y="4266720"/>
            <a:ext cx="121896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9"/>
          <p:cNvSpPr/>
          <p:nvPr/>
        </p:nvSpPr>
        <p:spPr>
          <a:xfrm flipH="1">
            <a:off x="4800240" y="3200400"/>
            <a:ext cx="30492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20"/>
          <p:cNvSpPr/>
          <p:nvPr/>
        </p:nvSpPr>
        <p:spPr>
          <a:xfrm>
            <a:off x="3352680" y="4800600"/>
            <a:ext cx="3657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22"/>
          <p:cNvSpPr/>
          <p:nvPr/>
        </p:nvSpPr>
        <p:spPr>
          <a:xfrm>
            <a:off x="3733920" y="4267080"/>
            <a:ext cx="1295280" cy="152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23"/>
          <p:cNvSpPr/>
          <p:nvPr/>
        </p:nvSpPr>
        <p:spPr>
          <a:xfrm flipV="1">
            <a:off x="4952880" y="4419360"/>
            <a:ext cx="4608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4"/>
          <p:cNvSpPr/>
          <p:nvPr/>
        </p:nvSpPr>
        <p:spPr>
          <a:xfrm flipH="1">
            <a:off x="3657600" y="4267080"/>
            <a:ext cx="76320" cy="557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25"/>
          <p:cNvSpPr/>
          <p:nvPr/>
        </p:nvSpPr>
        <p:spPr>
          <a:xfrm flipH="1" flipV="1">
            <a:off x="3657600" y="4822560"/>
            <a:ext cx="1295280" cy="14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"/>
              <p:cNvSpPr txBox="1"/>
              <p:nvPr/>
            </p:nvSpPr>
            <p:spPr>
              <a:xfrm>
                <a:off x="4962600" y="4335480"/>
                <a:ext cx="406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2"/>
              <p:cNvSpPr txBox="1"/>
              <p:nvPr/>
            </p:nvSpPr>
            <p:spPr>
              <a:xfrm>
                <a:off x="3979800" y="4800600"/>
                <a:ext cx="474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1" name="Rectangle 29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Arial"/>
              </a:rPr>
              <a:t>Prirodno opisivanje </a:t>
            </a:r>
            <a:r>
              <a:rPr b="1" lang="hr-HR" sz="3600" spc="-1" strike="noStrike">
                <a:solidFill>
                  <a:srgbClr val="4f271c"/>
                </a:solidFill>
                <a:latin typeface="Arial"/>
              </a:rPr>
              <a:t>ubrzan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rodno opisivanje 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ubrz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914040" y="2361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ngencijalno ubrza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zrok: promena intenziteta brz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4"/>
              <p:cNvSpPr txBox="1"/>
              <p:nvPr/>
            </p:nvSpPr>
            <p:spPr>
              <a:xfrm>
                <a:off x="2819520" y="3352680"/>
                <a:ext cx="2743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|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|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5" name="Rectangle 5"/>
          <p:cNvSpPr/>
          <p:nvPr/>
        </p:nvSpPr>
        <p:spPr>
          <a:xfrm>
            <a:off x="914400" y="4267080"/>
            <a:ext cx="8001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no ubrz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rok: promena pravca brz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6"/>
              <p:cNvSpPr txBox="1"/>
              <p:nvPr/>
            </p:nvSpPr>
            <p:spPr>
              <a:xfrm>
                <a:off x="3683160" y="5257800"/>
                <a:ext cx="1015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- defini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19320" y="3635280"/>
            <a:ext cx="69339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haničko kretanje je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mena položaja jednog tela u odnosu na dru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misao ubrz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3"/>
              <p:cNvSpPr txBox="1"/>
              <p:nvPr/>
            </p:nvSpPr>
            <p:spPr>
              <a:xfrm>
                <a:off x="1204920" y="2362320"/>
                <a:ext cx="7243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6"/>
              <p:cNvSpPr txBox="1"/>
              <p:nvPr/>
            </p:nvSpPr>
            <p:spPr>
              <a:xfrm>
                <a:off x="1344600" y="4343400"/>
                <a:ext cx="647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0" name="Text Box 7"/>
          <p:cNvSpPr/>
          <p:nvPr/>
        </p:nvSpPr>
        <p:spPr>
          <a:xfrm>
            <a:off x="274320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li, kako 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rzan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r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8"/>
              <p:cNvSpPr txBox="1"/>
              <p:nvPr/>
            </p:nvSpPr>
            <p:spPr>
              <a:xfrm>
                <a:off x="1233360" y="2833560"/>
                <a:ext cx="7213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9"/>
              <p:cNvSpPr txBox="1"/>
              <p:nvPr/>
            </p:nvSpPr>
            <p:spPr>
              <a:xfrm>
                <a:off x="1174680" y="3352680"/>
                <a:ext cx="7332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Kretanje - relativnos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3720" y="327636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"U odnosu" = RELATIVN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aa8a14"/>
                </a:solidFill>
                <a:latin typeface="Gill Sans MT"/>
              </a:rPr>
              <a:t>REFERENTNO TEL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položa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3924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ektor položa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2438280" y="52578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9"/>
          <p:cNvSpPr/>
          <p:nvPr/>
        </p:nvSpPr>
        <p:spPr>
          <a:xfrm flipV="1">
            <a:off x="27432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AutoShape 14"/>
          <p:cNvCxnSpPr>
            <a:stCxn id="377" idx="6"/>
            <a:endCxn id="378" idx="3"/>
          </p:cNvCxnSpPr>
          <p:nvPr/>
        </p:nvCxnSpPr>
        <p:spPr>
          <a:xfrm>
            <a:off x="2819520" y="5257440"/>
            <a:ext cx="2589840" cy="470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9" name="AutoShape 15"/>
          <p:cNvCxnSpPr>
            <a:stCxn id="377" idx="7"/>
            <a:endCxn id="380" idx="3"/>
          </p:cNvCxnSpPr>
          <p:nvPr/>
        </p:nvCxnSpPr>
        <p:spPr>
          <a:xfrm flipV="1">
            <a:off x="2796840" y="3406320"/>
            <a:ext cx="959400" cy="1797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381" name="Group 22"/>
          <p:cNvGrpSpPr/>
          <p:nvPr/>
        </p:nvGrpSpPr>
        <p:grpSpPr>
          <a:xfrm>
            <a:off x="1523880" y="5181480"/>
            <a:ext cx="1295640" cy="459720"/>
            <a:chOff x="1523880" y="5181480"/>
            <a:chExt cx="1295640" cy="459720"/>
          </a:xfrm>
        </p:grpSpPr>
        <p:sp>
          <p:nvSpPr>
            <p:cNvPr id="377" name="Oval 10"/>
            <p:cNvSpPr/>
            <p:nvPr/>
          </p:nvSpPr>
          <p:spPr>
            <a:xfrm>
              <a:off x="2666880" y="5181480"/>
              <a:ext cx="152640" cy="15264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16"/>
            <p:cNvSpPr/>
            <p:nvPr/>
          </p:nvSpPr>
          <p:spPr>
            <a:xfrm>
              <a:off x="1523880" y="5181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ralje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23"/>
          <p:cNvGrpSpPr/>
          <p:nvPr/>
        </p:nvGrpSpPr>
        <p:grpSpPr>
          <a:xfrm>
            <a:off x="5386320" y="5410080"/>
            <a:ext cx="1470240" cy="459720"/>
            <a:chOff x="5386320" y="5410080"/>
            <a:chExt cx="1470240" cy="459720"/>
          </a:xfrm>
        </p:grpSpPr>
        <p:sp>
          <p:nvSpPr>
            <p:cNvPr id="378" name="Oval 11"/>
            <p:cNvSpPr/>
            <p:nvPr/>
          </p:nvSpPr>
          <p:spPr>
            <a:xfrm>
              <a:off x="5386320" y="5597640"/>
              <a:ext cx="15264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17"/>
            <p:cNvSpPr/>
            <p:nvPr/>
          </p:nvSpPr>
          <p:spPr>
            <a:xfrm>
              <a:off x="5523840" y="541008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rušev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24"/>
          <p:cNvGrpSpPr/>
          <p:nvPr/>
        </p:nvGrpSpPr>
        <p:grpSpPr>
          <a:xfrm>
            <a:off x="3733920" y="3089160"/>
            <a:ext cx="1800000" cy="459720"/>
            <a:chOff x="3733920" y="3089160"/>
            <a:chExt cx="1800000" cy="459720"/>
          </a:xfrm>
        </p:grpSpPr>
        <p:sp>
          <p:nvSpPr>
            <p:cNvPr id="380" name="Oval 12"/>
            <p:cNvSpPr/>
            <p:nvPr/>
          </p:nvSpPr>
          <p:spPr>
            <a:xfrm>
              <a:off x="3733920" y="3276720"/>
              <a:ext cx="152280" cy="152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3946680" y="308916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ragujev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Object 19"/>
              <p:cNvSpPr txBox="1"/>
              <p:nvPr/>
            </p:nvSpPr>
            <p:spPr>
              <a:xfrm>
                <a:off x="3352680" y="3962520"/>
                <a:ext cx="609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21"/>
              <p:cNvSpPr txBox="1"/>
              <p:nvPr/>
            </p:nvSpPr>
            <p:spPr>
              <a:xfrm>
                <a:off x="3919680" y="5410080"/>
                <a:ext cx="57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3"/>
          <p:cNvSpPr/>
          <p:nvPr/>
        </p:nvSpPr>
        <p:spPr>
          <a:xfrm>
            <a:off x="4876920" y="3886200"/>
            <a:ext cx="3581280" cy="762120"/>
          </a:xfrm>
          <a:prstGeom prst="rect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ektor p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ra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Line 9"/>
          <p:cNvSpPr/>
          <p:nvPr/>
        </p:nvSpPr>
        <p:spPr>
          <a:xfrm>
            <a:off x="2438280" y="52578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"/>
          <p:cNvSpPr/>
          <p:nvPr/>
        </p:nvSpPr>
        <p:spPr>
          <a:xfrm flipV="1">
            <a:off x="27432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2666880" y="5181480"/>
            <a:ext cx="152640" cy="152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12"/>
          <p:cNvSpPr/>
          <p:nvPr/>
        </p:nvSpPr>
        <p:spPr>
          <a:xfrm>
            <a:off x="5386320" y="559764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3733920" y="32767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AutoShape 14"/>
          <p:cNvCxnSpPr>
            <a:stCxn id="394" idx="5"/>
            <a:endCxn id="395" idx="3"/>
          </p:cNvCxnSpPr>
          <p:nvPr/>
        </p:nvCxnSpPr>
        <p:spPr>
          <a:xfrm>
            <a:off x="2797200" y="5311440"/>
            <a:ext cx="261216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AutoShape 15"/>
          <p:cNvCxnSpPr>
            <a:stCxn id="394" idx="7"/>
            <a:endCxn id="396" idx="3"/>
          </p:cNvCxnSpPr>
          <p:nvPr/>
        </p:nvCxnSpPr>
        <p:spPr>
          <a:xfrm flipV="1">
            <a:off x="2796840" y="3406320"/>
            <a:ext cx="959400" cy="179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9" name="Text Box 16"/>
          <p:cNvSpPr/>
          <p:nvPr/>
        </p:nvSpPr>
        <p:spPr>
          <a:xfrm>
            <a:off x="1523880" y="5181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552384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3946680" y="30891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19"/>
              <p:cNvSpPr txBox="1"/>
              <p:nvPr/>
            </p:nvSpPr>
            <p:spPr>
              <a:xfrm>
                <a:off x="3352680" y="4005360"/>
                <a:ext cx="949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0"/>
              <p:cNvSpPr txBox="1"/>
              <p:nvPr/>
            </p:nvSpPr>
            <p:spPr>
              <a:xfrm>
                <a:off x="3886200" y="5392800"/>
                <a:ext cx="6444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404" name="AutoShape 21"/>
          <p:cNvCxnSpPr>
            <a:stCxn id="395" idx="1"/>
            <a:endCxn id="396" idx="4"/>
          </p:cNvCxnSpPr>
          <p:nvPr/>
        </p:nvCxnSpPr>
        <p:spPr>
          <a:xfrm flipH="1" flipV="1">
            <a:off x="3809160" y="3428280"/>
            <a:ext cx="1599480" cy="2191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5" name="Object 22"/>
              <p:cNvSpPr txBox="1"/>
              <p:nvPr/>
            </p:nvSpPr>
            <p:spPr>
              <a:xfrm>
                <a:off x="4952880" y="3892680"/>
                <a:ext cx="35053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reeform 19"/>
          <p:cNvSpPr/>
          <p:nvPr/>
        </p:nvSpPr>
        <p:spPr>
          <a:xfrm>
            <a:off x="3809880" y="3044880"/>
            <a:ext cx="2006640" cy="2400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1264" h="1512">
                <a:moveTo>
                  <a:pt x="1056" y="1512"/>
                </a:moveTo>
                <a:cubicBezTo>
                  <a:pt x="1160" y="1364"/>
                  <a:pt x="1264" y="1216"/>
                  <a:pt x="1248" y="1080"/>
                </a:cubicBezTo>
                <a:cubicBezTo>
                  <a:pt x="1232" y="944"/>
                  <a:pt x="1064" y="768"/>
                  <a:pt x="960" y="696"/>
                </a:cubicBezTo>
                <a:cubicBezTo>
                  <a:pt x="856" y="624"/>
                  <a:pt x="744" y="688"/>
                  <a:pt x="624" y="648"/>
                </a:cubicBezTo>
                <a:cubicBezTo>
                  <a:pt x="504" y="608"/>
                  <a:pt x="312" y="536"/>
                  <a:pt x="240" y="456"/>
                </a:cubicBezTo>
                <a:cubicBezTo>
                  <a:pt x="168" y="376"/>
                  <a:pt x="216" y="240"/>
                  <a:pt x="192" y="168"/>
                </a:cubicBezTo>
                <a:cubicBezTo>
                  <a:pt x="168" y="96"/>
                  <a:pt x="128" y="48"/>
                  <a:pt x="96" y="24"/>
                </a:cubicBezTo>
                <a:cubicBezTo>
                  <a:pt x="64" y="0"/>
                  <a:pt x="16" y="24"/>
                  <a:pt x="0" y="24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Trajektorija (putanj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2438280" y="49878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6"/>
          <p:cNvSpPr/>
          <p:nvPr/>
        </p:nvSpPr>
        <p:spPr>
          <a:xfrm flipV="1">
            <a:off x="2743200" y="2854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"/>
          <p:cNvSpPr/>
          <p:nvPr/>
        </p:nvSpPr>
        <p:spPr>
          <a:xfrm>
            <a:off x="2666880" y="491184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8"/>
          <p:cNvSpPr/>
          <p:nvPr/>
        </p:nvSpPr>
        <p:spPr>
          <a:xfrm>
            <a:off x="5386320" y="5327640"/>
            <a:ext cx="15264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9"/>
          <p:cNvSpPr/>
          <p:nvPr/>
        </p:nvSpPr>
        <p:spPr>
          <a:xfrm>
            <a:off x="3733920" y="3006720"/>
            <a:ext cx="152280" cy="152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AutoShape 10"/>
          <p:cNvCxnSpPr>
            <a:stCxn id="411" idx="7"/>
            <a:endCxn id="412" idx="3"/>
          </p:cNvCxnSpPr>
          <p:nvPr/>
        </p:nvCxnSpPr>
        <p:spPr>
          <a:xfrm>
            <a:off x="2797200" y="4933800"/>
            <a:ext cx="261216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AutoShape 11"/>
          <p:cNvCxnSpPr>
            <a:stCxn id="411" idx="7"/>
            <a:endCxn id="413" idx="3"/>
          </p:cNvCxnSpPr>
          <p:nvPr/>
        </p:nvCxnSpPr>
        <p:spPr>
          <a:xfrm flipV="1">
            <a:off x="2796840" y="3136320"/>
            <a:ext cx="959400" cy="17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6" name="Text Box 12"/>
          <p:cNvSpPr/>
          <p:nvPr/>
        </p:nvSpPr>
        <p:spPr>
          <a:xfrm>
            <a:off x="1523880" y="49118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lj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5523840" y="51404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š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3946680" y="28195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15"/>
              <p:cNvSpPr txBox="1"/>
              <p:nvPr/>
            </p:nvSpPr>
            <p:spPr>
              <a:xfrm>
                <a:off x="3241800" y="3887640"/>
                <a:ext cx="949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ajnj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6"/>
              <p:cNvSpPr txBox="1"/>
              <p:nvPr/>
            </p:nvSpPr>
            <p:spPr>
              <a:xfrm>
                <a:off x="3886200" y="5122800"/>
                <a:ext cx="6444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421" name="AutoShape 20"/>
          <p:cNvCxnSpPr>
            <a:stCxn id="411" idx="6"/>
            <a:endCxn id="406" idx="1"/>
          </p:cNvCxnSpPr>
          <p:nvPr/>
        </p:nvCxnSpPr>
        <p:spPr>
          <a:xfrm flipV="1">
            <a:off x="2819520" y="4758480"/>
            <a:ext cx="2991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21"/>
          <p:cNvCxnSpPr>
            <a:stCxn id="411" idx="6"/>
            <a:endCxn id="406" idx="2"/>
          </p:cNvCxnSpPr>
          <p:nvPr/>
        </p:nvCxnSpPr>
        <p:spPr>
          <a:xfrm flipV="1">
            <a:off x="2819520" y="4149360"/>
            <a:ext cx="25344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Line 23"/>
          <p:cNvSpPr/>
          <p:nvPr/>
        </p:nvSpPr>
        <p:spPr>
          <a:xfrm flipV="1">
            <a:off x="2819520" y="392076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24"/>
          <p:cNvSpPr/>
          <p:nvPr/>
        </p:nvSpPr>
        <p:spPr>
          <a:xfrm flipV="1">
            <a:off x="2743200" y="3539880"/>
            <a:ext cx="13716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1143000" y="2743200"/>
            <a:ext cx="69343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jektorija (putanja) je geometrijsko mesto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ajeva vektora položaja tokom kre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143000" y="4473720"/>
            <a:ext cx="69343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ut je dužina put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3733920" y="54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r] = [s] =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d0d0d"/>
                </a:solidFill>
                <a:latin typeface="Gill Sans MT"/>
              </a:rPr>
              <a:t>Pomeraj i pu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cxnSp>
        <p:nvCxnSpPr>
          <p:cNvPr id="430" name="Straight Arrow Connector 3"/>
          <p:cNvCxnSpPr/>
          <p:nvPr/>
        </p:nvCxnSpPr>
        <p:spPr>
          <a:xfrm>
            <a:off x="2255760" y="2533320"/>
            <a:ext cx="5029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4"/>
          <p:cNvCxnSpPr/>
          <p:nvPr/>
        </p:nvCxnSpPr>
        <p:spPr>
          <a:xfrm flipH="1">
            <a:off x="2255400" y="2685600"/>
            <a:ext cx="5029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432" name="Object 5"/>
          <p:cNvGraphicFramePr/>
          <p:nvPr/>
        </p:nvGraphicFramePr>
        <p:xfrm>
          <a:off x="4605480" y="2762280"/>
          <a:ext cx="24120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5480" y="2762280"/>
                    <a:ext cx="2412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Oval 6"/>
          <p:cNvSpPr/>
          <p:nvPr/>
        </p:nvSpPr>
        <p:spPr>
          <a:xfrm>
            <a:off x="1951200" y="2496960"/>
            <a:ext cx="228600" cy="2286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7"/>
          <p:cNvSpPr/>
          <p:nvPr/>
        </p:nvSpPr>
        <p:spPr>
          <a:xfrm>
            <a:off x="7361280" y="2492280"/>
            <a:ext cx="228600" cy="2286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Object 8"/>
          <p:cNvGraphicFramePr/>
          <p:nvPr/>
        </p:nvGraphicFramePr>
        <p:xfrm>
          <a:off x="1870200" y="2779560"/>
          <a:ext cx="37944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0200" y="2779560"/>
                    <a:ext cx="379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9"/>
          <p:cNvGraphicFramePr/>
          <p:nvPr/>
        </p:nvGraphicFramePr>
        <p:xfrm>
          <a:off x="7316640" y="2725560"/>
          <a:ext cx="37944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6640" y="2725560"/>
                    <a:ext cx="379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10"/>
          <p:cNvGraphicFramePr/>
          <p:nvPr/>
        </p:nvGraphicFramePr>
        <p:xfrm>
          <a:off x="3494160" y="3295800"/>
          <a:ext cx="234324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4160" y="3295800"/>
                    <a:ext cx="23432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Text Box 3"/>
          <p:cNvSpPr/>
          <p:nvPr/>
        </p:nvSpPr>
        <p:spPr>
          <a:xfrm>
            <a:off x="1143000" y="5581800"/>
            <a:ext cx="746748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Put i dužina pomeraja su jednaki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SAMO</a:t>
            </a:r>
            <a:br>
              <a:rPr sz="2400"/>
            </a:b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kod pravolinijskog kretanja bez promene s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rc 12"/>
          <p:cNvSpPr/>
          <p:nvPr/>
        </p:nvSpPr>
        <p:spPr>
          <a:xfrm>
            <a:off x="2743200" y="3981600"/>
            <a:ext cx="3763800" cy="1523880"/>
          </a:xfrm>
          <a:custGeom>
            <a:avLst/>
            <a:gdLst/>
            <a:ahLst/>
            <a:rect l="l" t="t" r="r" b="b"/>
            <a:pathLst>
              <a:path stroke="0" w="3763963" h="1524000">
                <a:moveTo>
                  <a:pt x="2203" y="798858"/>
                </a:moveTo>
                <a:cubicBezTo>
                  <a:pt x="-41513" y="433357"/>
                  <a:pt x="562625" y="106880"/>
                  <a:pt x="1441265" y="21188"/>
                </a:cubicBezTo>
                <a:cubicBezTo>
                  <a:pt x="1724710" y="-6456"/>
                  <a:pt x="2020141" y="-7058"/>
                  <a:pt x="2304259" y="19429"/>
                </a:cubicBezTo>
                <a:cubicBezTo>
                  <a:pt x="3158608" y="99077"/>
                  <a:pt x="3763964" y="407029"/>
                  <a:pt x="3763964" y="761999"/>
                </a:cubicBezTo>
                <a:lnTo>
                  <a:pt x="1881982" y="762000"/>
                </a:lnTo>
                <a:lnTo>
                  <a:pt x="2203" y="798858"/>
                </a:lnTo>
                <a:close/>
              </a:path>
              <a:path fill="none" w="3763963" h="1524000">
                <a:moveTo>
                  <a:pt x="2203" y="798858"/>
                </a:moveTo>
                <a:cubicBezTo>
                  <a:pt x="-41513" y="433357"/>
                  <a:pt x="562625" y="106880"/>
                  <a:pt x="1441265" y="21188"/>
                </a:cubicBezTo>
                <a:cubicBezTo>
                  <a:pt x="1724710" y="-6456"/>
                  <a:pt x="2020141" y="-7058"/>
                  <a:pt x="2304259" y="19429"/>
                </a:cubicBezTo>
                <a:cubicBezTo>
                  <a:pt x="3158608" y="99077"/>
                  <a:pt x="3763964" y="407029"/>
                  <a:pt x="3763964" y="76199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13"/>
          <p:cNvSpPr/>
          <p:nvPr/>
        </p:nvSpPr>
        <p:spPr>
          <a:xfrm>
            <a:off x="2631960" y="4667400"/>
            <a:ext cx="228600" cy="2286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Object 14"/>
          <p:cNvGraphicFramePr/>
          <p:nvPr/>
        </p:nvGraphicFramePr>
        <p:xfrm>
          <a:off x="2550960" y="4948200"/>
          <a:ext cx="37944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6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0960" y="4948200"/>
                    <a:ext cx="3794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Oval 15"/>
          <p:cNvSpPr/>
          <p:nvPr/>
        </p:nvSpPr>
        <p:spPr>
          <a:xfrm>
            <a:off x="6407280" y="4667400"/>
            <a:ext cx="228600" cy="2286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Object 16"/>
          <p:cNvGraphicFramePr/>
          <p:nvPr/>
        </p:nvGraphicFramePr>
        <p:xfrm>
          <a:off x="6326280" y="5024520"/>
          <a:ext cx="37944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9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26280" y="5024520"/>
                    <a:ext cx="379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7"/>
          <p:cNvGraphicFramePr/>
          <p:nvPr/>
        </p:nvGraphicFramePr>
        <p:xfrm>
          <a:off x="4419720" y="4017960"/>
          <a:ext cx="311040" cy="34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1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4017960"/>
                    <a:ext cx="3110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8"/>
          <p:cNvGraphicFramePr/>
          <p:nvPr/>
        </p:nvGraphicFramePr>
        <p:xfrm>
          <a:off x="4343400" y="4863960"/>
          <a:ext cx="55080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43400" y="4863960"/>
                    <a:ext cx="550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54" name="Straight Arrow Connector 19"/>
          <p:cNvCxnSpPr>
            <a:stCxn id="444" idx="6"/>
            <a:endCxn id="447" idx="2"/>
          </p:cNvCxnSpPr>
          <p:nvPr/>
        </p:nvCxnSpPr>
        <p:spPr>
          <a:xfrm>
            <a:off x="2860560" y="4781160"/>
            <a:ext cx="3547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455" name="Object 20"/>
          <p:cNvGraphicFramePr/>
          <p:nvPr/>
        </p:nvGraphicFramePr>
        <p:xfrm>
          <a:off x="7047000" y="4379760"/>
          <a:ext cx="1239840" cy="619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6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47000" y="4379760"/>
                    <a:ext cx="12398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kreta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1219320" y="2666880"/>
            <a:ext cx="74674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rzina kretanja je prvi izvod vektora položa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 vre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42900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 =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[t]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6"/>
              <p:cNvSpPr txBox="1"/>
              <p:nvPr/>
            </p:nvSpPr>
            <p:spPr>
              <a:xfrm>
                <a:off x="3962520" y="3429000"/>
                <a:ext cx="123984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23:35:50Z</dcterms:created>
  <dc:creator>Zlatan Soskic</dc:creator>
  <dc:description/>
  <dc:language>en-US</dc:language>
  <cp:lastModifiedBy>Zlatan Soskic</cp:lastModifiedBy>
  <dcterms:modified xsi:type="dcterms:W3CDTF">2019-10-14T20:09:11Z</dcterms:modified>
  <cp:revision>155</cp:revision>
  <dc:subject/>
  <dc:title>Fizički koncepti</dc:title>
</cp:coreProperties>
</file>