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png" ContentType="image/png"/>
  <Override PartName="/ppt/media/image17.wmf" ContentType="image/x-wmf"/>
  <Override PartName="/ppt/media/image8.wmf" ContentType="image/x-wmf"/>
  <Override PartName="/ppt/media/image7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explode.wav" ContentType="audio/x-wav"/>
  <Override PartName="/ppt/media/image22.wmf" ContentType="image/x-wmf"/>
  <Override PartName="/ppt/media/image4.png" ContentType="image/png"/>
  <Override PartName="/ppt/media/image12.wmf" ContentType="image/x-wmf"/>
  <Override PartName="/ppt/media/glass.wav" ContentType="audio/x-wav"/>
  <Override PartName="/ppt/media/image25.wmf" ContentType="image/x-wmf"/>
  <Override PartName="/ppt/media/image14.png" ContentType="image/png"/>
  <Override PartName="/ppt/media/image24.wmf" ContentType="image/x-wmf"/>
  <Override PartName="/ppt/media/image23.wmf" ContentType="image/x-wmf"/>
  <Override PartName="/ppt/media/image5.png" ContentType="image/png"/>
  <Override PartName="/ppt/media/image21.wmf" ContentType="image/x-wmf"/>
  <Override PartName="/ppt/media/image19.wmf" ContentType="image/x-wmf"/>
  <Override PartName="/ppt/media/image13.jpeg" ContentType="image/jpeg"/>
  <Override PartName="/ppt/media/image20.wmf" ContentType="image/x-wmf"/>
  <Override PartName="/ppt/media/image18.wmf" ContentType="image/x-wmf"/>
  <Override PartName="/ppt/media/image16.wmf" ContentType="image/x-wmf"/>
  <Override PartName="/ppt/media/image1.jpeg" ContentType="image/jpeg"/>
  <Override PartName="/ppt/media/image15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7C2D-3126-4A64-A173-22D4D870B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7C85-E223-43D9-A2C0-B3600190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67CC-86F8-4A4A-BBA6-A0F2A7E88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B8EB-97FB-4188-AFA3-29B1F39CC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F721-471C-486D-ACD4-62085711A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82FB-B655-4281-834A-94763214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253E-AD97-4A79-A14B-ED8CEB48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F19C4-9C12-43B2-A821-2DA4D155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75EA-3577-4B48-8EBE-74E6B3B9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910A-461E-43A9-AEDF-BE937589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0988-8E86-4DE0-87CE-A1AA7C5A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67FE-D420-4CAB-93D1-BEB131FB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D7D4-8DEC-4AC2-B87F-2A6933B5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617F0-28F6-44E0-893D-E785B138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A5CB-8242-4D56-8018-0A97C890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30A2-D22D-4FC8-8B99-157B0C37B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1282-B09A-4B91-AD16-E3024E0F2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09F88-97A5-4F86-AC68-9068C6B97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E3AB7-846A-4C88-8BF5-3890A98A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9EADA-1FA6-4A3C-BF6C-61765EB1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EFD1F-370E-4B61-870E-FC39793C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6853C-01D8-436A-BB0A-1F927B75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0A11-47A2-4D10-BCE3-C1F90515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D2F09-1EDF-41E5-8B78-D5DEBA49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A554B-E60B-4265-A327-3E2E9079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AD96E-0640-42B7-8E25-EC5D3CBF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BC0DC-9516-49B7-817D-8D79A5BF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92699-04D6-4D2F-B3DD-EF3A4FD4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8C5CB-9FBA-473D-8149-EDDCB2531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2B753-DDFA-4C9B-A486-455146C9D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F4B0C-BE2A-41B2-9B60-067EC1AFC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F1648-B43C-4D1B-9701-C49AB0F7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F3206-0E9E-422F-BB0F-4F247AD0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F9BE-9C90-4E92-AD19-5F7F14BE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D617D-F283-41C2-8592-4BDBE74B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5830D-69CC-4E1A-860D-A53B3A03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1BFA6-6A26-4EAE-9C38-31F4AE19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7D0C1-3555-4EAE-BDEB-ABE5A370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61D36-B0E2-4189-AA57-4FCE0135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AC01D-8C3D-4E27-9346-FC5FD97E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5E480-5FD3-4225-8C16-019E1B3C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E27D7-EFD1-4259-982B-01EA8F699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21FA6-0C84-42F6-BB44-6A59D22DE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3DEAF-8399-4BE7-853B-B1F390F4D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8811-8511-40D4-8AD1-6CF59B08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85050-F9F9-4149-9A23-B988AEA4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9D2FF-AD9F-4B09-AEEA-5A1347C9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353FE-C663-4019-9CD0-DAE0424E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25250-6A6D-4321-AFF9-5D607A10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96620-64E9-4AA5-AC4B-CD474099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BB7AE-F65E-4079-9ED3-3F869AF6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26054-5AD8-4969-8F47-75E890F7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E520F-5581-4A28-8A9C-13E885FA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921FB-425C-4290-8EE0-2A2CBA8E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4105C-3EA8-48BD-9403-E57FC48FF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F022-69E5-4BB7-81DB-A15EF127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D40B0-437B-4C58-89E3-FEA2EA705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670BC-72ED-4482-8925-F93310924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769CD-76FD-464D-B6C8-84F64E39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C17EF-24F5-411B-BF89-C5472D22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5285F-D6FF-4E41-B15F-42CE7A0D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60762-8A75-44CD-8F0D-0E04F7CE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F9267-63D6-46C6-A6A2-0F6DCEB2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03751-828F-4A2A-8F0B-19E8F463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23335-9025-4854-8EC0-C0D2305B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5E506-B2BE-4C24-A057-BAFAA566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94D8-7F03-427E-884B-243FC559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B16E2-B147-4690-B969-64FE2F83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2572E-182E-4DAE-9792-37905292B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050B5-F02B-4038-A7E8-456E14798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B5B58-DA04-494A-B79F-046347749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A874B-A876-4B47-8D95-9EF34D8C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2B6BE-376D-4ABB-831F-9F77C01A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0ED97-C4D4-4E96-B620-F1DD163E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AD4BB-14A2-48FF-BA83-53CE9241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08559-62DC-4D89-B592-FDAC6FCC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56638-F35C-427B-8E26-D8B44C88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5BF2-59FE-4503-97C6-A343A670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89CA8-FBC0-4B7F-A3B4-1DDE7768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F31E8-2D41-4106-B790-0F031549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36D0F-ABB2-4D0F-BF22-83DFDA0D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19531-A78D-463B-A1A4-36EE7C7E8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0712C-76A9-4413-BF4E-81B683DBA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E59C-00F8-48B1-83B8-99EB10CD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8446-EE6B-49AC-9266-ABFA3531750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98BD-E08E-4D46-B25A-E9684818A8D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0A26-9468-4E3C-857C-71F08D1A42C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5EE3-7252-4A97-B8AB-264481AE665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33AA-00B4-4DBA-8F85-1ACF2D28696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45AB-2AFB-4EB3-9661-3F6947CB901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2511-4730-4FB5-BD71-2743CE5BABB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image" Target="../media/image13.jpe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5.wmf"/><Relationship Id="rId2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izi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čki koncept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20e04"/>
                </a:solidFill>
                <a:latin typeface="Gill Sans MT"/>
              </a:rPr>
              <a:t>Koncept promen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I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zvod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 - definic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914040" y="23619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d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= 0,4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/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1295280" y="4495680"/>
            <a:ext cx="5639040" cy="157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zvod je infinitezimalni količn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zvod je diferencijalni količn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5"/>
              <p:cNvSpPr txBox="1"/>
              <p:nvPr/>
            </p:nvSpPr>
            <p:spPr>
              <a:xfrm>
                <a:off x="2438280" y="4834080"/>
                <a:ext cx="121932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6"/>
              <p:cNvSpPr txBox="1"/>
              <p:nvPr/>
            </p:nvSpPr>
            <p:spPr>
              <a:xfrm>
                <a:off x="4127400" y="4834080"/>
                <a:ext cx="119232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9" name="Text Box 7"/>
          <p:cNvSpPr/>
          <p:nvPr/>
        </p:nvSpPr>
        <p:spPr>
          <a:xfrm>
            <a:off x="7010280" y="5029200"/>
            <a:ext cx="190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[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[T]/[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I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zvod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 - značen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7"/>
              <p:cNvSpPr txBox="1"/>
              <p:nvPr/>
            </p:nvSpPr>
            <p:spPr>
              <a:xfrm>
                <a:off x="1530360" y="2286000"/>
                <a:ext cx="578484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&gt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c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2" name="Text Box 8"/>
          <p:cNvSpPr/>
          <p:nvPr/>
        </p:nvSpPr>
        <p:spPr>
          <a:xfrm>
            <a:off x="1143000" y="31240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ko je izvod pozitivan, veličina T raste kada R r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9"/>
              <p:cNvSpPr txBox="1"/>
              <p:nvPr/>
            </p:nvSpPr>
            <p:spPr>
              <a:xfrm>
                <a:off x="1542960" y="3657600"/>
                <a:ext cx="575784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c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4" name="Text Box 10"/>
          <p:cNvSpPr/>
          <p:nvPr/>
        </p:nvSpPr>
        <p:spPr>
          <a:xfrm>
            <a:off x="1143000" y="44956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ko je izvod negativan, veličina T opada kada R r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11"/>
              <p:cNvSpPr txBox="1"/>
              <p:nvPr/>
            </p:nvSpPr>
            <p:spPr>
              <a:xfrm>
                <a:off x="1544760" y="5029200"/>
                <a:ext cx="578484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6" name="Text Box 12"/>
          <p:cNvSpPr/>
          <p:nvPr/>
        </p:nvSpPr>
        <p:spPr>
          <a:xfrm>
            <a:off x="1066680" y="5867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ko je izvod nula, veličina T ne zavisi od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I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zvod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 - smisa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914400" y="1981080"/>
            <a:ext cx="8001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Times New Roman"/>
              </a:rPr>
              <a:t>Predviđanje promena, odnosno razvoja proces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Times New Roman"/>
              </a:rPr>
              <a:t>Njutn-Lajbnicova formula – početak moderne nauk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Times New Roman"/>
              </a:rPr>
              <a:t>Na osnovu kratkotrajnih (diferencijalnih) posmatranja predvideti dugotrajne (integralne) prome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9" name="Object 5"/>
          <p:cNvGraphicFramePr/>
          <p:nvPr/>
        </p:nvGraphicFramePr>
        <p:xfrm>
          <a:off x="2033640" y="2511360"/>
          <a:ext cx="4978440" cy="68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3640" y="2511360"/>
                    <a:ext cx="497844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Object 6"/>
          <p:cNvGraphicFramePr/>
          <p:nvPr/>
        </p:nvGraphicFramePr>
        <p:xfrm>
          <a:off x="3238560" y="3200400"/>
          <a:ext cx="297180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38560" y="3200400"/>
                    <a:ext cx="2971800" cy="507960"/>
                  </a:xfrm>
                  <a:prstGeom prst="rect">
                    <a:avLst/>
                  </a:prstGeom>
                  <a:ln w="9360">
                    <a:solidFill>
                      <a:srgbClr val="4f271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73" name="Object 7"/>
          <p:cNvGraphicFramePr/>
          <p:nvPr/>
        </p:nvGraphicFramePr>
        <p:xfrm>
          <a:off x="2273400" y="3906720"/>
          <a:ext cx="5054400" cy="93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73400" y="3906720"/>
                    <a:ext cx="5054400" cy="939960"/>
                  </a:xfrm>
                  <a:prstGeom prst="rect">
                    <a:avLst/>
                  </a:prstGeom>
                  <a:ln w="9360">
                    <a:solidFill>
                      <a:srgbClr val="4f271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75" name="Picture 8" descr="Image result for leibniz"/>
          <p:cNvPicPr/>
          <p:nvPr/>
        </p:nvPicPr>
        <p:blipFill>
          <a:blip r:embed="rId7"/>
          <a:stretch/>
        </p:blipFill>
        <p:spPr>
          <a:xfrm>
            <a:off x="7620120" y="3903840"/>
            <a:ext cx="761760" cy="942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" descr=""/>
          <p:cNvPicPr/>
          <p:nvPr/>
        </p:nvPicPr>
        <p:blipFill>
          <a:blip r:embed="rId8"/>
          <a:stretch/>
        </p:blipFill>
        <p:spPr>
          <a:xfrm>
            <a:off x="1216080" y="3886200"/>
            <a:ext cx="76500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traight Connector 58"/>
          <p:cNvSpPr/>
          <p:nvPr/>
        </p:nvSpPr>
        <p:spPr>
          <a:xfrm>
            <a:off x="5257800" y="4805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I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zvod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 - grafičk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Text Box 11"/>
          <p:cNvSpPr/>
          <p:nvPr/>
        </p:nvSpPr>
        <p:spPr>
          <a:xfrm>
            <a:off x="1295280" y="2743200"/>
            <a:ext cx="66294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GIB NA GRAF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ČKOM PRIKAZ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Straight Arrow Connector 4"/>
          <p:cNvCxnSpPr/>
          <p:nvPr/>
        </p:nvCxnSpPr>
        <p:spPr>
          <a:xfrm flipV="1">
            <a:off x="1828440" y="3428640"/>
            <a:ext cx="1080" cy="312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Straight Arrow Connector 6"/>
          <p:cNvCxnSpPr/>
          <p:nvPr/>
        </p:nvCxnSpPr>
        <p:spPr>
          <a:xfrm>
            <a:off x="1550520" y="6171840"/>
            <a:ext cx="5079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2" name="Oval 7"/>
          <p:cNvSpPr/>
          <p:nvPr/>
        </p:nvSpPr>
        <p:spPr>
          <a:xfrm>
            <a:off x="2438280" y="5410080"/>
            <a:ext cx="71640" cy="7164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Oval 11"/>
          <p:cNvSpPr/>
          <p:nvPr/>
        </p:nvSpPr>
        <p:spPr>
          <a:xfrm>
            <a:off x="3048120" y="4805280"/>
            <a:ext cx="71280" cy="7164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Oval 12"/>
          <p:cNvSpPr/>
          <p:nvPr/>
        </p:nvSpPr>
        <p:spPr>
          <a:xfrm>
            <a:off x="3809880" y="4343400"/>
            <a:ext cx="71640" cy="71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Oval 13"/>
          <p:cNvSpPr/>
          <p:nvPr/>
        </p:nvSpPr>
        <p:spPr>
          <a:xfrm>
            <a:off x="5222880" y="4770360"/>
            <a:ext cx="71280" cy="7164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Oval 14"/>
          <p:cNvSpPr/>
          <p:nvPr/>
        </p:nvSpPr>
        <p:spPr>
          <a:xfrm>
            <a:off x="4495680" y="4348080"/>
            <a:ext cx="71640" cy="7164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7" name="Object 15"/>
          <p:cNvGraphicFramePr/>
          <p:nvPr/>
        </p:nvGraphicFramePr>
        <p:xfrm>
          <a:off x="6738840" y="6039000"/>
          <a:ext cx="155520" cy="26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8840" y="6039000"/>
                    <a:ext cx="155520" cy="26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Object 16"/>
          <p:cNvGraphicFramePr/>
          <p:nvPr/>
        </p:nvGraphicFramePr>
        <p:xfrm>
          <a:off x="1550880" y="3519360"/>
          <a:ext cx="244440" cy="28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0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50880" y="3519360"/>
                    <a:ext cx="24444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Straight Connector 17"/>
          <p:cNvSpPr/>
          <p:nvPr/>
        </p:nvSpPr>
        <p:spPr>
          <a:xfrm>
            <a:off x="2509920" y="5446800"/>
            <a:ext cx="91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Straight Connector 22"/>
          <p:cNvSpPr/>
          <p:nvPr/>
        </p:nvSpPr>
        <p:spPr>
          <a:xfrm>
            <a:off x="3119400" y="4840200"/>
            <a:ext cx="309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Straight Arrow Connector 24"/>
          <p:cNvCxnSpPr/>
          <p:nvPr/>
        </p:nvCxnSpPr>
        <p:spPr>
          <a:xfrm>
            <a:off x="3200400" y="4839840"/>
            <a:ext cx="2160" cy="60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94" name="Straight Connector 26"/>
          <p:cNvSpPr/>
          <p:nvPr/>
        </p:nvSpPr>
        <p:spPr>
          <a:xfrm>
            <a:off x="2475000" y="5481720"/>
            <a:ext cx="0" cy="690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Straight Connector 28"/>
          <p:cNvSpPr/>
          <p:nvPr/>
        </p:nvSpPr>
        <p:spPr>
          <a:xfrm>
            <a:off x="3084480" y="48769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Straight Connector 30"/>
          <p:cNvSpPr/>
          <p:nvPr/>
        </p:nvSpPr>
        <p:spPr>
          <a:xfrm flipV="1">
            <a:off x="2500200" y="4865400"/>
            <a:ext cx="559080" cy="55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Straight Connector 14336"/>
          <p:cNvSpPr/>
          <p:nvPr/>
        </p:nvSpPr>
        <p:spPr>
          <a:xfrm flipV="1">
            <a:off x="3110040" y="4379400"/>
            <a:ext cx="699840" cy="43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Straight Connector 14340"/>
          <p:cNvSpPr/>
          <p:nvPr/>
        </p:nvSpPr>
        <p:spPr>
          <a:xfrm>
            <a:off x="3881520" y="43797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Straight Connector 14344"/>
          <p:cNvSpPr/>
          <p:nvPr/>
        </p:nvSpPr>
        <p:spPr>
          <a:xfrm>
            <a:off x="3881520" y="4379760"/>
            <a:ext cx="6141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Straight Connector 14346"/>
          <p:cNvSpPr/>
          <p:nvPr/>
        </p:nvSpPr>
        <p:spPr>
          <a:xfrm>
            <a:off x="4557600" y="4408560"/>
            <a:ext cx="665280" cy="3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1" name="Straight Arrow Connector 14348"/>
          <p:cNvCxnSpPr/>
          <p:nvPr/>
        </p:nvCxnSpPr>
        <p:spPr>
          <a:xfrm>
            <a:off x="2474640" y="556236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2" name="Arc 14349"/>
          <p:cNvSpPr/>
          <p:nvPr/>
        </p:nvSpPr>
        <p:spPr>
          <a:xfrm>
            <a:off x="2095560" y="5067360"/>
            <a:ext cx="757080" cy="762120"/>
          </a:xfrm>
          <a:custGeom>
            <a:avLst/>
            <a:gdLst/>
            <a:ahLst/>
            <a:rect l="l" t="t" r="r" b="b"/>
            <a:pathLst>
              <a:path stroke="0" w="757238" h="762000">
                <a:moveTo>
                  <a:pt x="647181" y="112438"/>
                </a:moveTo>
                <a:cubicBezTo>
                  <a:pt x="717673" y="183820"/>
                  <a:pt x="757238" y="280366"/>
                  <a:pt x="757238" y="381000"/>
                </a:cubicBezTo>
                <a:lnTo>
                  <a:pt x="378619" y="381000"/>
                </a:lnTo>
                <a:lnTo>
                  <a:pt x="647181" y="112438"/>
                </a:lnTo>
                <a:close/>
              </a:path>
              <a:path fill="none" w="757238" h="762000">
                <a:moveTo>
                  <a:pt x="647181" y="112438"/>
                </a:moveTo>
                <a:cubicBezTo>
                  <a:pt x="717673" y="183820"/>
                  <a:pt x="757238" y="280366"/>
                  <a:pt x="757238" y="3810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Straight Connector 47"/>
          <p:cNvSpPr/>
          <p:nvPr/>
        </p:nvSpPr>
        <p:spPr>
          <a:xfrm>
            <a:off x="4572000" y="43815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4" name="Straight Arrow Connector 48"/>
          <p:cNvCxnSpPr/>
          <p:nvPr/>
        </p:nvCxnSpPr>
        <p:spPr>
          <a:xfrm>
            <a:off x="5417640" y="4379760"/>
            <a:ext cx="1080" cy="41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5" name="Straight Connector 49"/>
          <p:cNvSpPr/>
          <p:nvPr/>
        </p:nvSpPr>
        <p:spPr>
          <a:xfrm>
            <a:off x="4532400" y="44197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6" name="Straight Arrow Connector 50"/>
          <p:cNvCxnSpPr/>
          <p:nvPr/>
        </p:nvCxnSpPr>
        <p:spPr>
          <a:xfrm>
            <a:off x="4532040" y="5028840"/>
            <a:ext cx="726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7" name="Arc 51"/>
          <p:cNvSpPr/>
          <p:nvPr/>
        </p:nvSpPr>
        <p:spPr>
          <a:xfrm>
            <a:off x="4152960" y="3976560"/>
            <a:ext cx="757080" cy="762120"/>
          </a:xfrm>
          <a:custGeom>
            <a:avLst/>
            <a:gdLst/>
            <a:ahLst/>
            <a:rect l="l" t="t" r="r" b="b"/>
            <a:pathLst>
              <a:path stroke="0" w="757238" h="762000">
                <a:moveTo>
                  <a:pt x="756584" y="403384"/>
                </a:moveTo>
                <a:cubicBezTo>
                  <a:pt x="752460" y="473891"/>
                  <a:pt x="728942" y="541857"/>
                  <a:pt x="688654" y="599693"/>
                </a:cubicBezTo>
                <a:lnTo>
                  <a:pt x="378619" y="381000"/>
                </a:lnTo>
                <a:lnTo>
                  <a:pt x="756584" y="403384"/>
                </a:lnTo>
                <a:close/>
              </a:path>
              <a:path fill="none" w="757238" h="762000">
                <a:moveTo>
                  <a:pt x="756584" y="403384"/>
                </a:moveTo>
                <a:cubicBezTo>
                  <a:pt x="752460" y="473891"/>
                  <a:pt x="728942" y="541857"/>
                  <a:pt x="688654" y="599693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Straight Connector 53"/>
          <p:cNvSpPr/>
          <p:nvPr/>
        </p:nvSpPr>
        <p:spPr>
          <a:xfrm>
            <a:off x="5257800" y="4842000"/>
            <a:ext cx="0" cy="133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Object 62"/>
          <p:cNvGraphicFramePr/>
          <p:nvPr/>
        </p:nvGraphicFramePr>
        <p:xfrm>
          <a:off x="3200400" y="5002200"/>
          <a:ext cx="399960" cy="3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0" name="Object 6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5002200"/>
                    <a:ext cx="39996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Object 63"/>
          <p:cNvGraphicFramePr/>
          <p:nvPr/>
        </p:nvGraphicFramePr>
        <p:xfrm>
          <a:off x="2624040" y="5570640"/>
          <a:ext cx="311400" cy="31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2" name="Object 6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24040" y="5570640"/>
                    <a:ext cx="31140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64"/>
          <p:cNvGraphicFramePr/>
          <p:nvPr/>
        </p:nvGraphicFramePr>
        <p:xfrm>
          <a:off x="4738680" y="5056200"/>
          <a:ext cx="311040" cy="311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4" name="Object 6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8680" y="5056200"/>
                    <a:ext cx="31104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65"/>
          <p:cNvGraphicFramePr/>
          <p:nvPr/>
        </p:nvGraphicFramePr>
        <p:xfrm>
          <a:off x="5462640" y="4438800"/>
          <a:ext cx="399960" cy="311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16" name="Object 6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62640" y="4438800"/>
                    <a:ext cx="39996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Object 67"/>
          <p:cNvGraphicFramePr/>
          <p:nvPr/>
        </p:nvGraphicFramePr>
        <p:xfrm>
          <a:off x="2577960" y="4735440"/>
          <a:ext cx="289080" cy="422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18" name="Object 6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77960" y="4735440"/>
                    <a:ext cx="2890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Object 69"/>
          <p:cNvGraphicFramePr/>
          <p:nvPr/>
        </p:nvGraphicFramePr>
        <p:xfrm>
          <a:off x="3254400" y="4178160"/>
          <a:ext cx="289080" cy="422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20" name="Object 6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54400" y="4178160"/>
                    <a:ext cx="2890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Object 70"/>
          <p:cNvGraphicFramePr/>
          <p:nvPr/>
        </p:nvGraphicFramePr>
        <p:xfrm>
          <a:off x="4044960" y="3938760"/>
          <a:ext cx="289080" cy="422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22" name="Object 7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044960" y="3938760"/>
                    <a:ext cx="2890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Object 71"/>
          <p:cNvGraphicFramePr/>
          <p:nvPr/>
        </p:nvGraphicFramePr>
        <p:xfrm>
          <a:off x="4946760" y="4191120"/>
          <a:ext cx="288720" cy="422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24" name="Object 7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946760" y="4191120"/>
                    <a:ext cx="28872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Object 72"/>
          <p:cNvGraphicFramePr/>
          <p:nvPr/>
        </p:nvGraphicFramePr>
        <p:xfrm>
          <a:off x="6707160" y="3914640"/>
          <a:ext cx="1200240" cy="422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26" name="Object 7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707160" y="3914640"/>
                    <a:ext cx="12002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7" name="Object 73"/>
          <p:cNvGraphicFramePr/>
          <p:nvPr/>
        </p:nvGraphicFramePr>
        <p:xfrm>
          <a:off x="6967440" y="4378320"/>
          <a:ext cx="711360" cy="422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28" name="Object 7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967440" y="4378320"/>
                    <a:ext cx="71136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Object 74"/>
          <p:cNvGraphicFramePr/>
          <p:nvPr/>
        </p:nvGraphicFramePr>
        <p:xfrm>
          <a:off x="7007400" y="4835520"/>
          <a:ext cx="688680" cy="422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30" name="Object 7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007400" y="4835520"/>
                    <a:ext cx="6886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Brzina i gradijen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2" name="Rectangle 3"/>
          <p:cNvSpPr/>
          <p:nvPr/>
        </p:nvSpPr>
        <p:spPr>
          <a:xfrm>
            <a:off x="914400" y="23623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Vremenski izvod naziva se </a:t>
            </a:r>
            <a:r>
              <a:rPr b="0" lang="hr-HR" sz="2800" spc="-1" strike="noStrike">
                <a:solidFill>
                  <a:srgbClr val="aa8a14"/>
                </a:solidFill>
                <a:latin typeface="Times New Roman"/>
              </a:rPr>
              <a:t>brzina promene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velič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5"/>
          <p:cNvSpPr/>
          <p:nvPr/>
        </p:nvSpPr>
        <p:spPr>
          <a:xfrm>
            <a:off x="914400" y="44197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rostorni izvod naziva se </a:t>
            </a:r>
            <a:r>
              <a:rPr b="0" lang="hr-HR" sz="2800" spc="-1" strike="noStrike">
                <a:solidFill>
                  <a:srgbClr val="aa8a14"/>
                </a:solidFill>
                <a:latin typeface="Times New Roman"/>
              </a:rPr>
              <a:t>gradijent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velič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Opisivanje priro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3886200" y="2514600"/>
            <a:ext cx="13716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ater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1752480" y="3886200"/>
            <a:ext cx="17528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upstan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5715000" y="3886200"/>
            <a:ext cx="19051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Fizičko pol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4" name="AutoShape 7"/>
          <p:cNvCxnSpPr>
            <a:stCxn id="321" idx="2"/>
            <a:endCxn id="322" idx="0"/>
          </p:cNvCxnSpPr>
          <p:nvPr/>
        </p:nvCxnSpPr>
        <p:spPr>
          <a:xfrm flipH="1">
            <a:off x="2628360" y="3029040"/>
            <a:ext cx="194364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5" name="AutoShape 8"/>
          <p:cNvCxnSpPr>
            <a:stCxn id="321" idx="2"/>
            <a:endCxn id="323" idx="0"/>
          </p:cNvCxnSpPr>
          <p:nvPr/>
        </p:nvCxnSpPr>
        <p:spPr>
          <a:xfrm>
            <a:off x="4571640" y="3029040"/>
            <a:ext cx="20962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6" name="Rectangle 9"/>
          <p:cNvSpPr/>
          <p:nvPr/>
        </p:nvSpPr>
        <p:spPr>
          <a:xfrm>
            <a:off x="2057400" y="4876920"/>
            <a:ext cx="5257800" cy="609480"/>
          </a:xfrm>
          <a:prstGeom prst="rect">
            <a:avLst/>
          </a:prstGeom>
          <a:solidFill>
            <a:srgbClr val="3891a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pis: Fizičke veličine </a:t>
            </a:r>
            <a:r>
              <a:rPr b="0" lang="hr-H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Broj + jedi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rocesi u prirod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914040" y="23623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401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oces = prome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omena </a:t>
            </a:r>
            <a:r>
              <a:rPr b="0" lang="hr-H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promena </a:t>
            </a:r>
            <a:r>
              <a:rPr b="0" lang="hr-HR" sz="3200" spc="-1" strike="noStrike">
                <a:solidFill>
                  <a:srgbClr val="aa8a14"/>
                </a:solidFill>
                <a:latin typeface="Gill Sans MT"/>
              </a:rPr>
              <a:t>broja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fizičke veliči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3048120" y="3581280"/>
            <a:ext cx="4190760" cy="1295640"/>
          </a:xfrm>
          <a:prstGeom prst="rect">
            <a:avLst/>
          </a:prstGeom>
          <a:solidFill>
            <a:srgbClr val="3891a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hr-HR" sz="3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hr-HR" sz="3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hr-HR" sz="36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lang="hr-HR" sz="3600" spc="-1" strike="noStrike" baseline="-25000">
                <a:solidFill>
                  <a:srgbClr val="000000"/>
                </a:solidFill>
                <a:latin typeface="Times New Roman"/>
              </a:rPr>
              <a:t>krajnje</a:t>
            </a:r>
            <a:r>
              <a:rPr b="1" lang="hr-HR" sz="3600" spc="-1" strike="noStrike">
                <a:solidFill>
                  <a:srgbClr val="000000"/>
                </a:solidFill>
                <a:latin typeface="Times New Roman"/>
              </a:rPr>
              <a:t> - X</a:t>
            </a:r>
            <a:r>
              <a:rPr b="1" lang="hr-HR" sz="3600" spc="-1" strike="noStrike" baseline="-25000">
                <a:solidFill>
                  <a:srgbClr val="000000"/>
                </a:solidFill>
                <a:latin typeface="Times New Roman"/>
              </a:rPr>
              <a:t>počet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1371600" y="5486400"/>
            <a:ext cx="304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X = X</a:t>
            </a:r>
            <a:r>
              <a:rPr b="1" lang="hr-HR" sz="2400" spc="-1" strike="noStrike" baseline="-25000">
                <a:solidFill>
                  <a:srgbClr val="000000"/>
                </a:solidFill>
                <a:latin typeface="Times New Roman"/>
              </a:rPr>
              <a:t>početno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 - X</a:t>
            </a:r>
            <a:r>
              <a:rPr b="1" lang="hr-HR" sz="2400" spc="-1" strike="noStrike" baseline="-25000">
                <a:solidFill>
                  <a:srgbClr val="000000"/>
                </a:solidFill>
                <a:latin typeface="Times New Roman"/>
              </a:rPr>
              <a:t>kraj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6"/>
          <p:cNvSpPr/>
          <p:nvPr/>
        </p:nvSpPr>
        <p:spPr>
          <a:xfrm>
            <a:off x="1143000" y="5410080"/>
            <a:ext cx="342900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7"/>
          <p:cNvSpPr/>
          <p:nvPr/>
        </p:nvSpPr>
        <p:spPr>
          <a:xfrm>
            <a:off x="1143000" y="5257800"/>
            <a:ext cx="3429000" cy="121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8"/>
          <p:cNvSpPr/>
          <p:nvPr/>
        </p:nvSpPr>
        <p:spPr>
          <a:xfrm flipH="1">
            <a:off x="1142640" y="5105520"/>
            <a:ext cx="342900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9"/>
          <p:cNvSpPr/>
          <p:nvPr/>
        </p:nvSpPr>
        <p:spPr>
          <a:xfrm>
            <a:off x="6400800" y="5486400"/>
            <a:ext cx="167652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X] = [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rome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ostor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Vremensk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U zavisnosti od drugih veličin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Opisivanje promena - tabelarno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1066680" y="2533680"/>
            <a:ext cx="3554640" cy="36385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"/>
          <p:cNvPicPr/>
          <p:nvPr/>
        </p:nvPicPr>
        <p:blipFill>
          <a:blip r:embed="rId2"/>
          <a:stretch/>
        </p:blipFill>
        <p:spPr>
          <a:xfrm>
            <a:off x="4968720" y="2552760"/>
            <a:ext cx="3565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Opisivanje promena - grafičk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41" name="Object 4"/>
          <p:cNvGraphicFramePr/>
          <p:nvPr/>
        </p:nvGraphicFramePr>
        <p:xfrm>
          <a:off x="1295280" y="240984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40984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Opisivanje promena - grafičk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44" name="Object 3"/>
          <p:cNvGraphicFramePr/>
          <p:nvPr/>
        </p:nvGraphicFramePr>
        <p:xfrm>
          <a:off x="1295280" y="240984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40984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Opisivanje promena - analitički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914400" y="2362320"/>
            <a:ext cx="8001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t –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/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2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ulaz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ula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-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,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/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3124080" y="4952880"/>
            <a:ext cx="2667240" cy="579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-4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0,4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5"/>
          <p:cNvSpPr/>
          <p:nvPr/>
        </p:nvSpPr>
        <p:spPr>
          <a:xfrm>
            <a:off x="3200400" y="4572000"/>
            <a:ext cx="2590920" cy="12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6"/>
          <p:cNvSpPr/>
          <p:nvPr/>
        </p:nvSpPr>
        <p:spPr>
          <a:xfrm flipH="1">
            <a:off x="3276360" y="4419720"/>
            <a:ext cx="236196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Infinitezimalne prome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52" name="Picture 6" descr=""/>
          <p:cNvPicPr/>
          <p:nvPr/>
        </p:nvPicPr>
        <p:blipFill>
          <a:blip r:embed="rId1"/>
          <a:stretch/>
        </p:blipFill>
        <p:spPr>
          <a:xfrm>
            <a:off x="857160" y="2286000"/>
            <a:ext cx="7829640" cy="249084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7"/>
          <p:cNvSpPr/>
          <p:nvPr/>
        </p:nvSpPr>
        <p:spPr>
          <a:xfrm>
            <a:off x="914400" y="4876920"/>
            <a:ext cx="7696080" cy="18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išem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R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i zovemo </a:t>
            </a:r>
            <a:r>
              <a:rPr b="0" lang="hr-HR" sz="2400" spc="-1" strike="noStrike">
                <a:solidFill>
                  <a:srgbClr val="aa8a14"/>
                </a:solidFill>
                <a:latin typeface="Times New Roman"/>
              </a:rPr>
              <a:t>DIFERENCIJ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INFINITEZIMALNO (beskon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a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aa8a14"/>
                </a:solidFill>
                <a:latin typeface="Times New Roman"/>
              </a:rPr>
              <a:t>LOKAL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aa8a14"/>
                </a:solidFill>
                <a:latin typeface="Times New Roman"/>
              </a:rPr>
              <a:t>TRENUT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9T17:36:58Z</dcterms:created>
  <dc:creator>Zlatan Soskic</dc:creator>
  <dc:description/>
  <dc:language>en-US</dc:language>
  <cp:lastModifiedBy>soskic.z</cp:lastModifiedBy>
  <dcterms:modified xsi:type="dcterms:W3CDTF">2018-10-19T13:33:02Z</dcterms:modified>
  <cp:revision>109</cp:revision>
  <dc:subject/>
  <dc:title>Fizički koncepti</dc:title>
</cp:coreProperties>
</file>