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5.png" ContentType="image/png"/>
  <Override PartName="/ppt/media/image9.wmf" ContentType="image/x-wmf"/>
  <Override PartName="/ppt/media/image14.jpeg" ContentType="image/jpeg"/>
  <Override PartName="/ppt/media/image1.jpeg" ContentType="image/jpeg"/>
  <Override PartName="/ppt/media/image5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254-B268-48D5-9C7D-1B6E0996E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3298-BA0F-4E0F-B9D4-18C746D02C8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4E2-667A-4301-B531-26C82B60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228-D541-40A9-95C7-968A31F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B5C-4021-453A-9E70-F9DCE18F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162-CD40-4CFA-A6FB-0EA1893C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C0A-7E8B-496F-8B3E-DC274B43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F45-B41C-4D3D-BFD9-0E1963AD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EEE7-1129-495A-9991-CE2ECB1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8B8-8697-4B16-8A4C-D3FE612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269C-AEF2-4D9D-80D3-BF1AF7C2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F556-198A-40FF-806E-0CD3E2B9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5D14-FF47-4403-92B4-0E2DE58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9DD-6D84-44E9-8375-13EE02FD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848-E24B-485D-B0CC-4664F786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4FED-D5CD-475F-9769-4EB9F3C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0834-8F81-4E8D-A40A-272C54BA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A3D9-06C8-4B49-B906-8865E7B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D8B-EC0B-4682-8708-FE28F312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3B32-43A9-4E9E-B357-14FAD037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54F4-40ED-4345-A1A4-C7ACB77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03DC-F650-4DD0-90A9-C7B1A081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2A52-DC79-47D8-A75A-8517EEEA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273C9-E769-4BD6-BA50-5D851A8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B64-448A-4E6B-A242-B13B9D40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E7AB-11C5-4E09-8E72-29B024D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6A00-EB1E-4298-AB2B-19B8591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27BA-DDF4-45DC-9EE6-9E2D190F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344A-078F-45E4-A2A3-FE37FC0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A661-A982-44DD-A986-43ACD5C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CF1A-FF6F-4652-AC54-87132034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202E-C667-4FC4-8D60-400B1233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4140-9735-4BD3-A848-548F9ACA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DE0A-2CD0-4DDB-9312-4CD279A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5C03-7AA4-4E64-A7FD-DFD13D1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C50-077C-4734-9400-5B8726F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C8CB-17D9-4AAE-B3B2-2CC8C7E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88D88-716C-493D-87AF-7803CBAC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F15B-275A-44EF-81F0-192BA25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720E-ACDC-4B8E-83D1-89BD861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D4D5-9C11-4CF2-95C1-661EB9F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86EC-3971-4025-BEEB-378491E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79F8-0E06-476E-9674-E2DFCF2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6242-58E0-4F11-8232-4427CDCE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C360-2762-4B07-A5BA-550305AE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3BB4-CCE5-48BB-A8C7-1E847925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86B-C696-43CF-A198-1F35A92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477E-1C05-4F3E-8BF8-26D1634C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1A24-F89B-49F4-8440-B0EAE14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4BAB-7A0F-44E1-811C-104267D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0BA9-29EB-45A2-AAB1-CB3E4171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5E57-8CA4-4260-9388-4178B04D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33D17-F7E9-4B8B-9E5E-7BAAB95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11A5-5B99-4213-A378-3A5BC80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B6B27-6A2B-47D9-A99F-E14B86E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3450D-D8C7-4F12-8493-78B92D3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74D0-0E99-4A68-AFF1-3B2F4B03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68F-650A-4FBA-BC75-58F698B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9EF6-99B5-4834-AFDF-7174AAB7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4F41-5778-42EE-9DDA-F999BB2C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BFF67-84B0-47A4-BC96-93EE2B3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A108-332A-428F-8F91-95E8A66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6F26-27D4-40C5-B159-14BA441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3D5D-87C0-4ED2-849D-206086E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673CB-432C-4387-BB61-1BA4E18E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CFE4-CD54-4FF5-9961-70AC52D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A4F7-CC43-4B7B-B13B-8BAE372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600AF-44AB-43A2-962A-DBFEBE7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ED7-9F59-48E4-9210-ABC70C0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867D-BD79-43AB-918A-1E67CE5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F0CB3-3456-4E35-8E7A-9E1CDD06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6618-ECDD-4468-8BBC-0CED5BE7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C5F73-6361-4BC2-AC25-2F7287E9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B0F78-080B-422F-B873-3B1B7C19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3725-153C-41B3-9EAB-798908A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8917-1DF8-4564-BC50-712BD5F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096B-1E26-44C2-97A2-A816A09B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9E7D-FBEA-4888-A741-C70942F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0568D-D361-49F4-9FEA-2AFB03B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B53-B840-42AD-A9AB-A56E970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87A6-51B3-4407-9D44-F5298D91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134D3-4ED0-4E07-8871-843C4F0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B2ED-DC28-42EC-9081-578755C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D226-6A36-4E3A-B383-B9145A78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FBB4-BC19-47D5-9E0D-0BBFFF51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0F3-70A9-47AF-9452-3B6DF0F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1334-7420-4C29-A5B3-F3C9C230FA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B20-3E48-4A31-9951-544ECC37C7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263-3F7B-4CCB-A201-B3DEADC2E7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9B1-AE51-42CA-8DFA-D7348B51FC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33E-3F1E-460E-ACFD-BAFFCE4701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5BB-DC15-4BE4-ADDB-EA65FEA92E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F496-DC2F-4414-B8FD-D52F868331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izi</a:t>
            </a: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čki koncept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stor i vre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dmet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04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oučavanje prirodnih proces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iroda: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prostor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vreme</a:t>
            </a: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 ispunjen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materij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Materija je jedino što postoj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zauzima prostor [tela]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prostor izmenjen postojanjem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14400" y="236232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ju defini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vezujemo i sa promenama mater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 znamo da kažemo št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„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ećina ljudi prestane da misli o prostoru i vremenu još u detinjstvu. Ja sam malo zaostao u razvoju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3306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1404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renutak kao element vrem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Skalarna priroda – jedna dimenz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18.10.2018 10:25:1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18.10.2018 10:25:2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560" indent="-457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Interval između dva trenutka kao mera vremena među n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=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 =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–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5 sekund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2018=1440=5779=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(Ako je t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 = 0, onda je t =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3"/>
          <p:cNvSpPr/>
          <p:nvPr/>
        </p:nvSpPr>
        <p:spPr>
          <a:xfrm>
            <a:off x="7635960" y="4462560"/>
            <a:ext cx="7596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ka kao element prosto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Tri dimenzije A(x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,y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,z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Rastojanje između dve tačke kao mera prostora među n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Pros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1879560" y="4343400"/>
          <a:ext cx="33782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343400"/>
                    <a:ext cx="33782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Line 17"/>
          <p:cNvSpPr/>
          <p:nvPr/>
        </p:nvSpPr>
        <p:spPr>
          <a:xfrm flipH="1">
            <a:off x="7201080" y="449568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4876920" y="6324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Object 19"/>
          <p:cNvGraphicFramePr/>
          <p:nvPr/>
        </p:nvGraphicFramePr>
        <p:xfrm>
          <a:off x="6907320" y="5694480"/>
          <a:ext cx="3045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07320" y="5694480"/>
                    <a:ext cx="304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20"/>
          <p:cNvGraphicFramePr/>
          <p:nvPr/>
        </p:nvGraphicFramePr>
        <p:xfrm>
          <a:off x="7682040" y="4229280"/>
          <a:ext cx="30456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2040" y="4229280"/>
                    <a:ext cx="304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21"/>
          <p:cNvSpPr/>
          <p:nvPr/>
        </p:nvSpPr>
        <p:spPr>
          <a:xfrm flipV="1">
            <a:off x="5372280" y="3809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3"/>
              <p:cNvSpPr txBox="1"/>
              <p:nvPr/>
            </p:nvSpPr>
            <p:spPr>
              <a:xfrm>
                <a:off x="5397480" y="3809880"/>
                <a:ext cx="279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Line 24"/>
          <p:cNvSpPr/>
          <p:nvPr/>
        </p:nvSpPr>
        <p:spPr>
          <a:xfrm>
            <a:off x="7201080" y="5715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765828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537228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7"/>
          <p:cNvSpPr/>
          <p:nvPr/>
        </p:nvSpPr>
        <p:spPr>
          <a:xfrm flipH="1">
            <a:off x="53722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3"/>
          <p:cNvSpPr/>
          <p:nvPr/>
        </p:nvSpPr>
        <p:spPr>
          <a:xfrm>
            <a:off x="7169040" y="5670720"/>
            <a:ext cx="76320" cy="7596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8889840" y="6010200"/>
          <a:ext cx="2541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89840" y="6010200"/>
                    <a:ext cx="254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5"/>
          <p:cNvGraphicFramePr/>
          <p:nvPr/>
        </p:nvGraphicFramePr>
        <p:xfrm>
          <a:off x="1768320" y="4876920"/>
          <a:ext cx="3489480" cy="46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8320" y="4876920"/>
                    <a:ext cx="34894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990720" y="5446800"/>
          <a:ext cx="426708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5446800"/>
                    <a:ext cx="4267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Događaji i proce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Događaj podrazumeva da se posmatrano telo (ili tela) nalaz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 određenoj tački (ili tačkama) pros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 jednom vremenskom trenutk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Proces je niz događa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lasični 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300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alileo Galilei i Isak Njut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Apsolut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Isti za svakog posmatrač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Istovremen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Uniform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Jednaki u svim pravcima / smerov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Nezavisni jedno od drugo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7391520" y="4775040"/>
            <a:ext cx="1600200" cy="195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7388280" y="2743200"/>
            <a:ext cx="1528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Moderni prostor i vrem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040" y="2362320"/>
            <a:ext cx="6629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Albert Ajnštaj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Relativ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Svako ima svoju meru rastojanja i vremene između dva događa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Nema istovreme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Neunifo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Tela deformišu prostor i vre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9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Svetlost ne ide pravolinijsk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9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Vreme se uspor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Prostor i vreme su povezan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7912080" y="2387520"/>
            <a:ext cx="1003320" cy="1279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6159600" y="3886200"/>
            <a:ext cx="27558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36:58Z</dcterms:created>
  <dc:creator>Zlatan Soskic</dc:creator>
  <dc:description/>
  <dc:language>en-US</dc:language>
  <cp:lastModifiedBy>soskic.z</cp:lastModifiedBy>
  <dcterms:modified xsi:type="dcterms:W3CDTF">2018-10-19T13:04:52Z</dcterms:modified>
  <cp:revision>130</cp:revision>
  <dc:subject/>
  <dc:title>Fizički koncepti</dc:title>
</cp:coreProperties>
</file>