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9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15.gif" ContentType="image/gif"/>
  <Override PartName="/ppt/media/image20.gif" ContentType="image/gif"/>
  <Override PartName="/ppt/media/image19.wmf" ContentType="image/x-wmf"/>
  <Override PartName="/ppt/media/image16.gif" ContentType="image/gif"/>
  <Override PartName="/ppt/media/image2.png" ContentType="image/png"/>
  <Override PartName="/ppt/media/image18.wmf" ContentType="image/x-wmf"/>
  <Override PartName="/ppt/media/image17.gif" ContentType="image/gif"/>
  <Override PartName="/ppt/media/image3.png" ContentType="image/png"/>
  <Override PartName="/ppt/media/image14.png" ContentType="image/png"/>
  <Override PartName="/ppt/media/image1.jpeg" ContentType="image/jpe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6390-1206-422C-A737-8388ED40258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F5AF-419F-42FC-BE86-CF6E3041100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5DAA-778E-4B90-981D-CD56938EE0A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8CF2-4544-4A5B-8BD5-C5923F7B47A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EB6F-1D38-427C-90BE-E53FF593FA5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8A31-6680-425B-8A25-3F2BFF540DD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4105-CD43-4B83-8219-84E27DC12FC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7990-FB2D-4D21-8835-85F346DCB3A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3ECB-E07A-4881-AB11-059B35D3BFE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FD2E-16D5-4173-919A-A7A53DD2838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0C6C-7A27-4B98-B6B1-FDEE2B38D71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3EC0-E21E-42C6-B646-BB9FFD696B0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C59E-38C9-4632-8FAE-A29D3EAC2DE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5A0C-8467-4094-82B2-0E1C61DCD9D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54FE-FD66-408F-BA21-3B824F1F15A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4A61-7AFA-4A60-8A1F-F105DA8158B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30A2-7DF2-4AF6-956E-0F1D6AB3A2E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172-3FB2-462F-9B72-2E90D50F08A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E8D6-77BF-421D-842B-1906043854D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E420-6796-4836-9BB6-7131B094E23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30C3-DBE8-457C-A38A-682F7E148EE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9254-71C5-452F-93B9-C0714685DDC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AEAF-F846-471A-AB6C-8FCE4976213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6A2E-8C8B-4E27-9290-4371E55FE6F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34D0-E247-42C9-B82E-057ED540AD1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5184-45E1-46F4-B8A3-6B4C9A9E0C0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02C-4A0E-47FB-934A-3EA8CE43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25D-21AB-4263-9F7F-1FF75C64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03E-02B0-4FB8-93F0-223D6257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43F-3C3E-4E54-BB23-9906037B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7E8A-76B4-4305-9371-CCF2F427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F65E-9515-41A7-8EB3-3EFBB8ED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0269-F3AB-428E-88C4-20AC8026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4459-BD70-49D9-866B-2065D906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E339-4403-4B7C-95F7-840146B0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854A-A416-48FE-B55E-9270D7BF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2B55-AEA6-45FD-97CA-2B559638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52A-8120-4518-9AC5-C5136D66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FFDE-233F-4995-AC2E-1C52EEDE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4B33-FAC5-4AAB-9CA7-52164F64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CCD7-1129-49B7-A0AD-C634E0CD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3AF7-AE33-49F4-961F-8E2F89FD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F774-9663-4DE7-A5DD-1DC585BA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46BAE-C749-42CA-AFF5-97DAA835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A550-7D43-4278-9169-FDB08F7A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AC6B-D853-4052-8BB8-3195F054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26F8-FF44-4A0B-8FFD-8E45A97B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A551-A251-45AC-A324-E2C5D2BF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431-A52E-4BAE-9231-DFE92BD5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89F9-C038-4DE7-A4AE-0AF4B0B5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0AD6-D937-4B94-88F9-2A12E642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174A-CD27-42D4-90A3-370539C1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FB15-48C2-4A83-8FF6-39773BF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0CE2-D159-41B7-8DD0-D97DE944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88202-58A2-4282-8533-F33D73D9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4B89B-FB9E-415F-8959-7DFBFDD3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A97A9-A5FF-4390-A024-6F314160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A590-827B-4F00-8DAD-C5B4AA1B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D6CE2-2D73-4E8F-BEDE-4B1AD16F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B87-1C7D-42DD-9916-C3D2E5B7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332C-F658-424A-BE21-216C5486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7679-49D2-41D1-B6AF-AABBB0F2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08B93-7801-49C4-BB6E-06DBAF20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04143-9E16-4670-BB03-B26D9ACF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77810-62D6-4B6B-A7FA-659E1F35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100D-83C5-4C5F-B99F-31165985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F46E2-6445-49BB-A409-74B2AAA8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55AE7-9C88-4F60-ABE8-8DFFE681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2A66-68EB-4F46-AAF5-F058F857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FEC0-5152-4140-8C1E-CB35E842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08A-AEFE-4007-8CB8-BEBB56A6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D21EE-0AE0-49D2-80F6-12091C78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80A7F-3F2B-4053-B3F8-2E15DBE4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5775B-E737-42BF-8790-07C8D9EF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84E12-28DF-4F15-94EA-7AABDEF1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D8DB-0FA3-4262-82EB-D07367AD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51E7B-7B76-4961-9DB0-FB8765D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00BE2-6EDE-4EBB-9443-9570610F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A00E4-B812-4472-845E-FD56704F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FB394-43FE-4DBF-8A6E-F858B3B2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CFB58-C7BF-4FC5-BFA4-1DC7D288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836-1019-4B55-90A3-83F4260A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16D21-D197-4140-8AD5-E9697323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F1A7C-E5D1-452A-8E4B-F04E1473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1A76D-3E30-4B16-AF1B-9850D0C6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DDC95-C241-4964-A6CB-842288A3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F38D3-5C9E-4F10-A906-B0570E0F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94EFF-BB95-4F4E-9F0B-A0F3C99F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7BE31-7F3C-4BD6-91BD-06B4C68B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7FA4A-D8D6-4D29-9E99-F334D261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FC2C4-939F-44BE-BAC0-62AF395F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7E8F0-5388-4278-9EE2-518F5367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903-A1AD-4B38-B32D-AC87D87D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6A4F8-06D3-4D15-9505-4359F7C8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7E1FE-BFA1-4087-B42F-2346C538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080A-F3DC-48A0-9F7A-42BF1A56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D4795-1B43-4EBF-83D1-718C4947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8D661-1355-43EF-B4DE-B86737B3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A5C15-F579-4F63-A404-F8F864BC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67817-F188-465D-8B7C-35F5CBB3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61ED5-8589-4149-B84F-8EAC8102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FE15C-F44F-41C2-80AD-600AD7B2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01AC7-DA66-4537-9A19-21661F5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89E-630B-40E5-95F2-C752DD7A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EC7CC-E7CF-4F41-B7E5-03F6372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2A680-362C-4D1F-AE9C-75390F71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58551-B90A-4FD5-98FD-1336ED10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5C5E6-3CCD-403F-8EA4-1EFC9538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EE1C9-290C-47B2-8AF2-05BB0AC3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CC4-31CC-47A7-BF67-C883CD0F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EB6E-3577-4B26-8A43-7D51F35C431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7977-9357-4DB7-A201-CE9DA82F242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5157-0A64-4A77-9809-66A5D8B1C95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9E0E-1ED3-4042-AE04-8C4D7BA7D6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916F-29E7-4763-A06C-C316E0BCDE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60C8-E08C-49C1-92B8-E5FFEC0EA89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4A1E-5004-464C-95D9-74755B9ACB9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Applets/ph14yu/keplerlaw1_yu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Applets/ph14yu/keplerlaw2_yu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kcije i struktura mater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0" y="2927520"/>
            <a:ext cx="3936960" cy="1822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Gravitaciona interakcija</a:t>
            </a:r>
            <a:br>
              <a:rPr sz="2600"/>
            </a:b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Struktura kosmo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a energij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la na površini Zeml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7"/>
              <p:cNvSpPr txBox="1"/>
              <p:nvPr/>
            </p:nvSpPr>
            <p:spPr>
              <a:xfrm>
                <a:off x="914400" y="2362320"/>
                <a:ext cx="43466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8"/>
              <p:cNvSpPr txBox="1"/>
              <p:nvPr/>
            </p:nvSpPr>
            <p:spPr>
              <a:xfrm>
                <a:off x="914400" y="3352680"/>
                <a:ext cx="63943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h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9"/>
              <p:cNvSpPr txBox="1"/>
              <p:nvPr/>
            </p:nvSpPr>
            <p:spPr>
              <a:xfrm>
                <a:off x="914400" y="4448160"/>
                <a:ext cx="2604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0"/>
              <p:cNvSpPr txBox="1"/>
              <p:nvPr/>
            </p:nvSpPr>
            <p:spPr>
              <a:xfrm>
                <a:off x="990720" y="5388120"/>
                <a:ext cx="51051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9" name="Group 15"/>
          <p:cNvGrpSpPr/>
          <p:nvPr/>
        </p:nvGrpSpPr>
        <p:grpSpPr>
          <a:xfrm>
            <a:off x="6019920" y="4191120"/>
            <a:ext cx="1752480" cy="1600200"/>
            <a:chOff x="6019920" y="4191120"/>
            <a:chExt cx="1752480" cy="1600200"/>
          </a:xfrm>
        </p:grpSpPr>
        <p:sp>
          <p:nvSpPr>
            <p:cNvPr id="460" name="Line 11"/>
            <p:cNvSpPr/>
            <p:nvPr/>
          </p:nvSpPr>
          <p:spPr>
            <a:xfrm>
              <a:off x="6019920" y="487692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>
              <a:off x="6172200" y="5791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3"/>
            <p:cNvSpPr/>
            <p:nvPr/>
          </p:nvSpPr>
          <p:spPr>
            <a:xfrm>
              <a:off x="7772400" y="41911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Object 14"/>
              <p:cNvSpPr txBox="1"/>
              <p:nvPr/>
            </p:nvSpPr>
            <p:spPr>
              <a:xfrm>
                <a:off x="6705720" y="5562720"/>
                <a:ext cx="17938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o pol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Jačina pol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143000" y="2819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gravitacionog pol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1430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sa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1752480" y="3355920"/>
                <a:ext cx="15433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6"/>
              <p:cNvSpPr txBox="1"/>
              <p:nvPr/>
            </p:nvSpPr>
            <p:spPr>
              <a:xfrm>
                <a:off x="3441600" y="3454560"/>
                <a:ext cx="19224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 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Text Box 7"/>
          <p:cNvSpPr/>
          <p:nvPr/>
        </p:nvSpPr>
        <p:spPr>
          <a:xfrm>
            <a:off x="1143000" y="4572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gravitacionog polja ku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1219320" y="51055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avac: radija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mer: ka centru kug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9"/>
              <p:cNvSpPr txBox="1"/>
              <p:nvPr/>
            </p:nvSpPr>
            <p:spPr>
              <a:xfrm>
                <a:off x="4724280" y="4952880"/>
                <a:ext cx="40942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bno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72" name="Object 1"/>
          <p:cNvGraphicFramePr/>
          <p:nvPr/>
        </p:nvGraphicFramePr>
        <p:xfrm>
          <a:off x="6091200" y="3549600"/>
          <a:ext cx="8096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1200" y="3549600"/>
                    <a:ext cx="809640" cy="4557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o pol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inije sila - kug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5" name="Picture 11" descr="D:\My Documents\NASTAVA\Fizika\Predavanja\KuglaSile.gif"/>
          <p:cNvPicPr/>
          <p:nvPr/>
        </p:nvPicPr>
        <p:blipFill>
          <a:blip r:embed="rId1"/>
          <a:stretch/>
        </p:blipFill>
        <p:spPr>
          <a:xfrm>
            <a:off x="838080" y="2819520"/>
            <a:ext cx="2907000" cy="2376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2" descr="D:\My Documents\NASTAVA\Fizika\Predavanja\KuglaLinSile.gif"/>
          <p:cNvPicPr/>
          <p:nvPr/>
        </p:nvPicPr>
        <p:blipFill>
          <a:blip r:embed="rId2"/>
          <a:srcRect l="0" t="0" r="23337" b="0"/>
          <a:stretch/>
        </p:blipFill>
        <p:spPr>
          <a:xfrm>
            <a:off x="5073480" y="2666880"/>
            <a:ext cx="3537000" cy="2865600"/>
          </a:xfrm>
          <a:prstGeom prst="rect">
            <a:avLst/>
          </a:prstGeom>
          <a:ln w="0">
            <a:noFill/>
          </a:ln>
        </p:spPr>
      </p:pic>
      <p:sp>
        <p:nvSpPr>
          <p:cNvPr id="477" name="Line 13"/>
          <p:cNvSpPr/>
          <p:nvPr/>
        </p:nvSpPr>
        <p:spPr>
          <a:xfrm>
            <a:off x="4191120" y="4191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o pol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inije sila – dve kug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9" name="Picture 3" descr="D:\My Documents\NASTAVA\Fizika\Predavanja\DveKugleSile.gif"/>
          <p:cNvPicPr/>
          <p:nvPr/>
        </p:nvPicPr>
        <p:blipFill>
          <a:blip r:embed="rId1"/>
          <a:stretch/>
        </p:blipFill>
        <p:spPr>
          <a:xfrm>
            <a:off x="2174760" y="2666880"/>
            <a:ext cx="5978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o pol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inije sila – dve kug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81" name="Picture 5" descr="D:\My Documents\NASTAVA\Fizika\Predavanja\DveKugleLinSile.gif"/>
          <p:cNvPicPr/>
          <p:nvPr/>
        </p:nvPicPr>
        <p:blipFill>
          <a:blip r:embed="rId1"/>
          <a:stretch/>
        </p:blipFill>
        <p:spPr>
          <a:xfrm>
            <a:off x="1219320" y="2473200"/>
            <a:ext cx="63086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o pol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otencij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2433600" y="2438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ja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gravitacionog pol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6"/>
              <p:cNvSpPr txBox="1"/>
              <p:nvPr/>
            </p:nvSpPr>
            <p:spPr>
              <a:xfrm>
                <a:off x="2841480" y="3075120"/>
                <a:ext cx="1947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7"/>
              <p:cNvSpPr txBox="1"/>
              <p:nvPr/>
            </p:nvSpPr>
            <p:spPr>
              <a:xfrm>
                <a:off x="5073480" y="3127320"/>
                <a:ext cx="1239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Text Box 8"/>
          <p:cNvSpPr/>
          <p:nvPr/>
        </p:nvSpPr>
        <p:spPr>
          <a:xfrm>
            <a:off x="2433600" y="4267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ja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j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u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10"/>
              <p:cNvSpPr txBox="1"/>
              <p:nvPr/>
            </p:nvSpPr>
            <p:spPr>
              <a:xfrm>
                <a:off x="2208240" y="4648320"/>
                <a:ext cx="48783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bn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88" name="Object 1"/>
          <p:cNvGraphicFramePr/>
          <p:nvPr/>
        </p:nvGraphicFramePr>
        <p:xfrm>
          <a:off x="7099200" y="3308400"/>
          <a:ext cx="121464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9200" y="3308400"/>
                    <a:ext cx="1214640" cy="45540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ruktura kosmo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838080" y="23623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smos je uglavnom uređen gravitacionim si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la stvaraju formiraju gravitaciona polja oko sebe i kreću se u nj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LJUČ RAZUMEVANJA PROCESA U KOSMOSU JE POZNAVANJE KRETANJA U GRAVITACIONOM POL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u gravitacion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8080" y="23619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retanje u gravitacionom polju zavisi od pravca, smera i intenziteta početne brz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retanje može biti i vezano i slobod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utanje su konusni presec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ra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arabo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lip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ru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Hiperbo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4" name="Picture 5" descr="D:\My Documents\NASTAVA\Fizika\Stof\konusni-preseci.gif"/>
          <p:cNvPicPr/>
          <p:nvPr/>
        </p:nvPicPr>
        <p:blipFill>
          <a:blip r:embed="rId1"/>
          <a:stretch/>
        </p:blipFill>
        <p:spPr>
          <a:xfrm>
            <a:off x="5029200" y="35812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u gravitacion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2390040" y="3505320"/>
            <a:ext cx="1095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ez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144840" y="3505320"/>
            <a:ext cx="13327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lobo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934560" y="4343400"/>
            <a:ext cx="1520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vršin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3489480" y="4343400"/>
            <a:ext cx="13694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telit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2223360" y="2514600"/>
            <a:ext cx="4006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a u gravitacionom pol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31"/>
          <p:cNvGrpSpPr/>
          <p:nvPr/>
        </p:nvGrpSpPr>
        <p:grpSpPr>
          <a:xfrm>
            <a:off x="762120" y="5105520"/>
            <a:ext cx="1980720" cy="914400"/>
            <a:chOff x="762120" y="5105520"/>
            <a:chExt cx="1980720" cy="914400"/>
          </a:xfrm>
        </p:grpSpPr>
        <p:sp>
          <p:nvSpPr>
            <p:cNvPr id="502" name="Text Box 13"/>
            <p:cNvSpPr/>
            <p:nvPr/>
          </p:nvSpPr>
          <p:spPr>
            <a:xfrm>
              <a:off x="1154520" y="518148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rab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Pr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18"/>
            <p:cNvSpPr/>
            <p:nvPr/>
          </p:nvSpPr>
          <p:spPr>
            <a:xfrm>
              <a:off x="762120" y="5105520"/>
              <a:ext cx="198072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Group 32"/>
          <p:cNvGrpSpPr/>
          <p:nvPr/>
        </p:nvGrpSpPr>
        <p:grpSpPr>
          <a:xfrm>
            <a:off x="3352680" y="5105520"/>
            <a:ext cx="1752480" cy="914400"/>
            <a:chOff x="3352680" y="5105520"/>
            <a:chExt cx="1752480" cy="914400"/>
          </a:xfrm>
        </p:grpSpPr>
        <p:sp>
          <p:nvSpPr>
            <p:cNvPr id="505" name="Text Box 14"/>
            <p:cNvSpPr/>
            <p:nvPr/>
          </p:nvSpPr>
          <p:spPr>
            <a:xfrm>
              <a:off x="3526560" y="5105520"/>
              <a:ext cx="129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lip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Kružn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Oval 19"/>
            <p:cNvSpPr/>
            <p:nvPr/>
          </p:nvSpPr>
          <p:spPr>
            <a:xfrm>
              <a:off x="3352680" y="5105520"/>
              <a:ext cx="175248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33"/>
          <p:cNvGrpSpPr/>
          <p:nvPr/>
        </p:nvGrpSpPr>
        <p:grpSpPr>
          <a:xfrm>
            <a:off x="6019920" y="5105520"/>
            <a:ext cx="1752480" cy="914400"/>
            <a:chOff x="6019920" y="5105520"/>
            <a:chExt cx="1752480" cy="914400"/>
          </a:xfrm>
        </p:grpSpPr>
        <p:sp>
          <p:nvSpPr>
            <p:cNvPr id="508" name="Text Box 15"/>
            <p:cNvSpPr/>
            <p:nvPr/>
          </p:nvSpPr>
          <p:spPr>
            <a:xfrm>
              <a:off x="6199200" y="5181480"/>
              <a:ext cx="140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perb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Pr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20"/>
            <p:cNvSpPr/>
            <p:nvPr/>
          </p:nvSpPr>
          <p:spPr>
            <a:xfrm>
              <a:off x="6019920" y="5105520"/>
              <a:ext cx="175248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Line 21"/>
          <p:cNvSpPr/>
          <p:nvPr/>
        </p:nvSpPr>
        <p:spPr>
          <a:xfrm>
            <a:off x="2895480" y="4267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2"/>
          <p:cNvSpPr/>
          <p:nvPr/>
        </p:nvSpPr>
        <p:spPr>
          <a:xfrm>
            <a:off x="5410080" y="4267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1607760" y="6183360"/>
            <a:ext cx="22975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1. Kosmička brz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4282560" y="6183360"/>
            <a:ext cx="22975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2. Kosmička brz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4"/>
          <p:cNvGrpSpPr/>
          <p:nvPr/>
        </p:nvGrpSpPr>
        <p:grpSpPr>
          <a:xfrm>
            <a:off x="2937600" y="3029040"/>
            <a:ext cx="3873600" cy="457560"/>
            <a:chOff x="2937600" y="3029040"/>
            <a:chExt cx="3873600" cy="457560"/>
          </a:xfrm>
        </p:grpSpPr>
        <p:cxnSp>
          <p:nvCxnSpPr>
            <p:cNvPr id="515" name="AutoShape 26"/>
            <p:cNvCxnSpPr>
              <a:stCxn id="500" idx="2"/>
              <a:endCxn id="496" idx="0"/>
            </p:cNvCxnSpPr>
            <p:nvPr/>
          </p:nvCxnSpPr>
          <p:spPr>
            <a:xfrm rot="5400000">
              <a:off x="3353400" y="2612880"/>
              <a:ext cx="457920" cy="1289880"/>
            </a:xfrm>
            <a:prstGeom prst="bentConnector3">
              <a:avLst>
                <a:gd name="adj1" fmla="val 4996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AutoShape 27"/>
            <p:cNvCxnSpPr>
              <a:stCxn id="500" idx="2"/>
              <a:endCxn id="497" idx="0"/>
            </p:cNvCxnSpPr>
            <p:nvPr/>
          </p:nvCxnSpPr>
          <p:spPr>
            <a:xfrm flipH="1" rot="16200000">
              <a:off x="5290200" y="1965240"/>
              <a:ext cx="457920" cy="2585160"/>
            </a:xfrm>
            <a:prstGeom prst="bentConnector3">
              <a:avLst>
                <a:gd name="adj1" fmla="val 4996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7" name="Group 35"/>
          <p:cNvGrpSpPr/>
          <p:nvPr/>
        </p:nvGrpSpPr>
        <p:grpSpPr>
          <a:xfrm>
            <a:off x="1695240" y="4019040"/>
            <a:ext cx="2480400" cy="305280"/>
            <a:chOff x="1695240" y="4019040"/>
            <a:chExt cx="2480400" cy="305280"/>
          </a:xfrm>
        </p:grpSpPr>
        <p:cxnSp>
          <p:nvCxnSpPr>
            <p:cNvPr id="518" name="AutoShape 28"/>
            <p:cNvCxnSpPr>
              <a:stCxn id="496" idx="2"/>
              <a:endCxn id="498" idx="0"/>
            </p:cNvCxnSpPr>
            <p:nvPr/>
          </p:nvCxnSpPr>
          <p:spPr>
            <a:xfrm rot="5400000">
              <a:off x="2163960" y="3550320"/>
              <a:ext cx="305640" cy="1243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AutoShape 29"/>
            <p:cNvCxnSpPr>
              <a:stCxn id="496" idx="2"/>
              <a:endCxn id="499" idx="0"/>
            </p:cNvCxnSpPr>
            <p:nvPr/>
          </p:nvCxnSpPr>
          <p:spPr>
            <a:xfrm flipH="1" rot="16200000">
              <a:off x="3404160" y="3552840"/>
              <a:ext cx="305640" cy="1237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retanje u gravitacionom polju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Vezana kretan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21" name="Picture 3" descr="D:\My Documents\NASTAVA\Fizika\Stof\KamenPada.gif"/>
          <p:cNvPicPr/>
          <p:nvPr/>
        </p:nvPicPr>
        <p:blipFill>
          <a:blip r:embed="rId1"/>
          <a:stretch/>
        </p:blipFill>
        <p:spPr>
          <a:xfrm>
            <a:off x="990720" y="3200400"/>
            <a:ext cx="2149200" cy="20462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D:\My Documents\NASTAVA\Fizika\Stof\KamenElipticnno.gif"/>
          <p:cNvPicPr/>
          <p:nvPr/>
        </p:nvPicPr>
        <p:blipFill>
          <a:blip r:embed="rId2"/>
          <a:stretch/>
        </p:blipFill>
        <p:spPr>
          <a:xfrm>
            <a:off x="3497400" y="3211560"/>
            <a:ext cx="2149200" cy="2046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D:\My Documents\NASTAVA\Fizika\Stof\KamenKruzno.gif"/>
          <p:cNvPicPr/>
          <p:nvPr/>
        </p:nvPicPr>
        <p:blipFill>
          <a:blip r:embed="rId3"/>
          <a:stretch/>
        </p:blipFill>
        <p:spPr>
          <a:xfrm>
            <a:off x="6156360" y="3211560"/>
            <a:ext cx="2149560" cy="20462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6"/>
          <p:cNvSpPr/>
          <p:nvPr/>
        </p:nvSpPr>
        <p:spPr>
          <a:xfrm>
            <a:off x="1417680" y="25909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ra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3932280" y="2590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ip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6553440" y="2590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ž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3276720" y="259092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a si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terijalne tačk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avac duži koja spaja materijalne tačk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5"/>
              <p:cNvSpPr txBox="1"/>
              <p:nvPr/>
            </p:nvSpPr>
            <p:spPr>
              <a:xfrm>
                <a:off x="5411880" y="4267080"/>
                <a:ext cx="2477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6"/>
              <p:cNvSpPr txBox="1"/>
              <p:nvPr/>
            </p:nvSpPr>
            <p:spPr>
              <a:xfrm>
                <a:off x="5486400" y="5221440"/>
                <a:ext cx="24764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Oval 7"/>
          <p:cNvSpPr/>
          <p:nvPr/>
        </p:nvSpPr>
        <p:spPr>
          <a:xfrm>
            <a:off x="1600200" y="4400640"/>
            <a:ext cx="7632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3505320" y="4400640"/>
            <a:ext cx="7596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9"/>
              <p:cNvSpPr txBox="1"/>
              <p:nvPr/>
            </p:nvSpPr>
            <p:spPr>
              <a:xfrm>
                <a:off x="1474920" y="4448160"/>
                <a:ext cx="3538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0"/>
              <p:cNvSpPr txBox="1"/>
              <p:nvPr/>
            </p:nvSpPr>
            <p:spPr>
              <a:xfrm>
                <a:off x="3405240" y="4400640"/>
                <a:ext cx="404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35" name="AutoShape 12"/>
          <p:cNvCxnSpPr/>
          <p:nvPr/>
        </p:nvCxnSpPr>
        <p:spPr>
          <a:xfrm>
            <a:off x="1676520" y="444780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36" name="Line 13"/>
          <p:cNvSpPr/>
          <p:nvPr/>
        </p:nvSpPr>
        <p:spPr>
          <a:xfrm>
            <a:off x="1676520" y="44481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2895480" y="44481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6"/>
              <p:cNvSpPr txBox="1"/>
              <p:nvPr/>
            </p:nvSpPr>
            <p:spPr>
              <a:xfrm>
                <a:off x="1754280" y="3917880"/>
                <a:ext cx="404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7"/>
              <p:cNvSpPr txBox="1"/>
              <p:nvPr/>
            </p:nvSpPr>
            <p:spPr>
              <a:xfrm>
                <a:off x="3048120" y="3892680"/>
                <a:ext cx="404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0" name="Rectangle 18"/>
          <p:cNvSpPr/>
          <p:nvPr/>
        </p:nvSpPr>
        <p:spPr>
          <a:xfrm>
            <a:off x="4991040" y="32004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privlačna 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4991040" y="36576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26"/>
          <p:cNvGrpSpPr/>
          <p:nvPr/>
        </p:nvGrpSpPr>
        <p:grpSpPr>
          <a:xfrm>
            <a:off x="1635120" y="3429000"/>
            <a:ext cx="1911240" cy="965160"/>
            <a:chOff x="1635120" y="3429000"/>
            <a:chExt cx="1911240" cy="965160"/>
          </a:xfrm>
        </p:grpSpPr>
        <mc:AlternateContent>
          <mc:Choice xmlns:a14="http://schemas.microsoft.com/office/drawing/2010/main" Requires="a14">
            <p:sp>
              <p:nvSpPr>
                <p:cNvPr id="343" name="Object 21"/>
                <p:cNvSpPr txBox="1"/>
                <p:nvPr/>
              </p:nvSpPr>
              <p:spPr>
                <a:xfrm>
                  <a:off x="2451240" y="3429000"/>
                  <a:ext cx="2268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4" name="Line 22"/>
            <p:cNvSpPr/>
            <p:nvPr/>
          </p:nvSpPr>
          <p:spPr>
            <a:xfrm flipV="1">
              <a:off x="163512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4"/>
            <p:cNvSpPr/>
            <p:nvPr/>
          </p:nvSpPr>
          <p:spPr>
            <a:xfrm flipV="1">
              <a:off x="354636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1635120" y="3657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atelitska kretanj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 Kepler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1066680" y="2438280"/>
            <a:ext cx="6553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lanete se kreću po elipsama u čijoj se jednoj žiži nalazi Su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1066680" y="3444840"/>
            <a:ext cx="6553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teliti se kreću po elipsama u čijoj se jednoj žiži nalazi Zem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>
            <a:hlinkClick r:id="rId1"/>
          </p:cNvPr>
          <p:cNvSpPr/>
          <p:nvPr/>
        </p:nvSpPr>
        <p:spPr>
          <a:xfrm>
            <a:off x="2590920" y="4800600"/>
            <a:ext cx="3886200" cy="685800"/>
          </a:xfrm>
          <a:prstGeom prst="rect">
            <a:avLst/>
          </a:prstGeom>
          <a:solidFill>
            <a:srgbClr val="3891a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utanje sate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atelitska kretanja</a:t>
            </a:r>
            <a:br>
              <a:rPr sz="4300"/>
            </a:b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Keplerov za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1066680" y="2438280"/>
            <a:ext cx="6553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dijus vektor planete u jednakim vremenskim intervalima prebriše jednake povr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066680" y="3956040"/>
            <a:ext cx="65534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dijus vektor satelita u odnosu na Zemlju u jednakim vremenskim intervalima prebriše jednake povr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>
            <a:hlinkClick r:id="rId1"/>
          </p:cNvPr>
          <p:cNvSpPr/>
          <p:nvPr/>
        </p:nvSpPr>
        <p:spPr>
          <a:xfrm>
            <a:off x="2590920" y="5638680"/>
            <a:ext cx="3886200" cy="685800"/>
          </a:xfrm>
          <a:prstGeom prst="rect">
            <a:avLst/>
          </a:prstGeom>
          <a:solidFill>
            <a:srgbClr val="3891a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I Keplerov zak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atelitska kretanja</a:t>
            </a:r>
            <a:br>
              <a:rPr sz="4300"/>
            </a:b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I Keplerov za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1066680" y="2438280"/>
            <a:ext cx="65534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vadrati perioda obilaska planeta oko Sunca proporcionalni su kubovima velikih poluosa njihovih pu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Object 7"/>
          <p:cNvGraphicFramePr/>
          <p:nvPr/>
        </p:nvGraphicFramePr>
        <p:xfrm>
          <a:off x="4070520" y="4395960"/>
          <a:ext cx="73656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0520" y="4395960"/>
                    <a:ext cx="736560" cy="687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Object 8"/>
              <p:cNvSpPr txBox="1"/>
              <p:nvPr/>
            </p:nvSpPr>
            <p:spPr>
              <a:xfrm>
                <a:off x="2697120" y="5410080"/>
                <a:ext cx="39196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atelitska kretanja</a:t>
            </a:r>
            <a:br>
              <a:rPr sz="4300"/>
            </a:b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orbitir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2" name="Oval 6"/>
          <p:cNvSpPr/>
          <p:nvPr/>
        </p:nvSpPr>
        <p:spPr>
          <a:xfrm>
            <a:off x="1523880" y="3505320"/>
            <a:ext cx="1828800" cy="1828800"/>
          </a:xfrm>
          <a:prstGeom prst="ellipse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"/>
          <p:cNvSpPr/>
          <p:nvPr/>
        </p:nvSpPr>
        <p:spPr>
          <a:xfrm>
            <a:off x="838080" y="2819520"/>
            <a:ext cx="3276720" cy="3200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8"/>
          <p:cNvSpPr/>
          <p:nvPr/>
        </p:nvSpPr>
        <p:spPr>
          <a:xfrm flipV="1">
            <a:off x="2438280" y="3809880"/>
            <a:ext cx="6858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9"/>
          <p:cNvSpPr/>
          <p:nvPr/>
        </p:nvSpPr>
        <p:spPr>
          <a:xfrm flipH="1" flipV="1">
            <a:off x="1066680" y="350532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2716200" y="4192560"/>
                <a:ext cx="303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1"/>
              <p:cNvSpPr txBox="1"/>
              <p:nvPr/>
            </p:nvSpPr>
            <p:spPr>
              <a:xfrm>
                <a:off x="1449360" y="3481560"/>
                <a:ext cx="2271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Oval 12"/>
          <p:cNvSpPr/>
          <p:nvPr/>
        </p:nvSpPr>
        <p:spPr>
          <a:xfrm>
            <a:off x="2362320" y="27432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3"/>
          <p:cNvSpPr/>
          <p:nvPr/>
        </p:nvSpPr>
        <p:spPr>
          <a:xfrm>
            <a:off x="2438280" y="2895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14"/>
              <p:cNvSpPr txBox="1"/>
              <p:nvPr/>
            </p:nvSpPr>
            <p:spPr>
              <a:xfrm>
                <a:off x="2514600" y="2819520"/>
                <a:ext cx="606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15"/>
              <p:cNvSpPr txBox="1"/>
              <p:nvPr/>
            </p:nvSpPr>
            <p:spPr>
              <a:xfrm>
                <a:off x="4594320" y="2362320"/>
                <a:ext cx="38415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16"/>
              <p:cNvSpPr txBox="1"/>
              <p:nvPr/>
            </p:nvSpPr>
            <p:spPr>
              <a:xfrm>
                <a:off x="4040280" y="5105520"/>
                <a:ext cx="48751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17"/>
              <p:cNvSpPr txBox="1"/>
              <p:nvPr/>
            </p:nvSpPr>
            <p:spPr>
              <a:xfrm>
                <a:off x="6410160" y="3152880"/>
                <a:ext cx="17431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18"/>
              <p:cNvSpPr txBox="1"/>
              <p:nvPr/>
            </p:nvSpPr>
            <p:spPr>
              <a:xfrm>
                <a:off x="4708440" y="3251160"/>
                <a:ext cx="16430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19"/>
              <p:cNvSpPr txBox="1"/>
              <p:nvPr/>
            </p:nvSpPr>
            <p:spPr>
              <a:xfrm>
                <a:off x="4038480" y="5934240"/>
                <a:ext cx="33591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6" name="Line 20"/>
          <p:cNvSpPr/>
          <p:nvPr/>
        </p:nvSpPr>
        <p:spPr>
          <a:xfrm>
            <a:off x="6248520" y="41148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1"/>
              <p:cNvSpPr txBox="1"/>
              <p:nvPr/>
            </p:nvSpPr>
            <p:spPr>
              <a:xfrm>
                <a:off x="2236680" y="4471920"/>
                <a:ext cx="405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23"/>
              <p:cNvSpPr txBox="1"/>
              <p:nvPr/>
            </p:nvSpPr>
            <p:spPr>
              <a:xfrm>
                <a:off x="2314440" y="2401920"/>
                <a:ext cx="3272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atelitska kretanja</a:t>
            </a:r>
            <a:br>
              <a:rPr sz="4300"/>
            </a:b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orbitiranja Zemljinih sateli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560" name="Object 0"/>
          <p:cNvGraphicFramePr/>
          <p:nvPr/>
        </p:nvGraphicFramePr>
        <p:xfrm>
          <a:off x="3922560" y="5081760"/>
          <a:ext cx="1433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2560" y="5081760"/>
                    <a:ext cx="1433520" cy="687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2" name="Object 1"/>
              <p:cNvSpPr txBox="1"/>
              <p:nvPr/>
            </p:nvSpPr>
            <p:spPr>
              <a:xfrm>
                <a:off x="838080" y="2401920"/>
                <a:ext cx="40402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t xml:space="preserve">7,9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2"/>
              <p:cNvSpPr txBox="1"/>
              <p:nvPr/>
            </p:nvSpPr>
            <p:spPr>
              <a:xfrm>
                <a:off x="903240" y="3305160"/>
                <a:ext cx="7554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hro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T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na kretanja u gravitacion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kupna energija veća od nu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inetička energija veća od dubine potencijalne j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5"/>
              <p:cNvSpPr txBox="1"/>
              <p:nvPr/>
            </p:nvSpPr>
            <p:spPr>
              <a:xfrm>
                <a:off x="1015920" y="3276720"/>
                <a:ext cx="5004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7" name="Rectangle 6"/>
          <p:cNvSpPr/>
          <p:nvPr/>
        </p:nvSpPr>
        <p:spPr>
          <a:xfrm>
            <a:off x="914400" y="4343400"/>
            <a:ext cx="617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a sa površine: 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11,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nce sa površine Zemlje: 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II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16,7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rna rupa: 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&g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7" descr="D:\My Documents\NASTAVA\Fizika\Stof\CrnaRupa.gif"/>
          <p:cNvPicPr/>
          <p:nvPr/>
        </p:nvPicPr>
        <p:blipFill>
          <a:blip r:embed="rId1"/>
          <a:stretch/>
        </p:blipFill>
        <p:spPr>
          <a:xfrm>
            <a:off x="6934320" y="43434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a si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ktorski zbir sila koje deluju na sve tačke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Oval 7"/>
          <p:cNvSpPr/>
          <p:nvPr/>
        </p:nvSpPr>
        <p:spPr>
          <a:xfrm>
            <a:off x="3505320" y="4400640"/>
            <a:ext cx="7596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4991040" y="32004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privlačna 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2"/>
          <p:cNvSpPr/>
          <p:nvPr/>
        </p:nvSpPr>
        <p:spPr>
          <a:xfrm>
            <a:off x="4991040" y="3733920"/>
            <a:ext cx="39243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ac i intenzitet zavise od oblika tela, rasporeda mase na telima i međusobnog položaja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1523880" y="2895480"/>
            <a:ext cx="76320" cy="28958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64"/>
          <p:cNvGrpSpPr/>
          <p:nvPr/>
        </p:nvGrpSpPr>
        <p:grpSpPr>
          <a:xfrm>
            <a:off x="1523880" y="2971800"/>
            <a:ext cx="76320" cy="2743200"/>
            <a:chOff x="1523880" y="2971800"/>
            <a:chExt cx="76320" cy="2743200"/>
          </a:xfrm>
        </p:grpSpPr>
        <p:sp>
          <p:nvSpPr>
            <p:cNvPr id="354" name="Line 25"/>
            <p:cNvSpPr/>
            <p:nvPr/>
          </p:nvSpPr>
          <p:spPr>
            <a:xfrm>
              <a:off x="1523880" y="29718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6"/>
            <p:cNvSpPr/>
            <p:nvPr/>
          </p:nvSpPr>
          <p:spPr>
            <a:xfrm>
              <a:off x="1523880" y="30481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7"/>
            <p:cNvSpPr/>
            <p:nvPr/>
          </p:nvSpPr>
          <p:spPr>
            <a:xfrm>
              <a:off x="1523880" y="31240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8"/>
            <p:cNvSpPr/>
            <p:nvPr/>
          </p:nvSpPr>
          <p:spPr>
            <a:xfrm>
              <a:off x="1523880" y="32004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9"/>
            <p:cNvSpPr/>
            <p:nvPr/>
          </p:nvSpPr>
          <p:spPr>
            <a:xfrm>
              <a:off x="1523880" y="32767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30"/>
            <p:cNvSpPr/>
            <p:nvPr/>
          </p:nvSpPr>
          <p:spPr>
            <a:xfrm>
              <a:off x="1523880" y="33526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31"/>
            <p:cNvSpPr/>
            <p:nvPr/>
          </p:nvSpPr>
          <p:spPr>
            <a:xfrm>
              <a:off x="1523880" y="34290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32"/>
            <p:cNvSpPr/>
            <p:nvPr/>
          </p:nvSpPr>
          <p:spPr>
            <a:xfrm>
              <a:off x="1523880" y="35053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33"/>
            <p:cNvSpPr/>
            <p:nvPr/>
          </p:nvSpPr>
          <p:spPr>
            <a:xfrm>
              <a:off x="1523880" y="35812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34"/>
            <p:cNvSpPr/>
            <p:nvPr/>
          </p:nvSpPr>
          <p:spPr>
            <a:xfrm>
              <a:off x="1523880" y="36576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35"/>
            <p:cNvSpPr/>
            <p:nvPr/>
          </p:nvSpPr>
          <p:spPr>
            <a:xfrm>
              <a:off x="1523880" y="37339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36"/>
            <p:cNvSpPr/>
            <p:nvPr/>
          </p:nvSpPr>
          <p:spPr>
            <a:xfrm>
              <a:off x="1523880" y="38098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37"/>
            <p:cNvSpPr/>
            <p:nvPr/>
          </p:nvSpPr>
          <p:spPr>
            <a:xfrm>
              <a:off x="1523880" y="38862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38"/>
            <p:cNvSpPr/>
            <p:nvPr/>
          </p:nvSpPr>
          <p:spPr>
            <a:xfrm>
              <a:off x="1523880" y="39625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9"/>
            <p:cNvSpPr/>
            <p:nvPr/>
          </p:nvSpPr>
          <p:spPr>
            <a:xfrm>
              <a:off x="1523880" y="40384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40"/>
            <p:cNvSpPr/>
            <p:nvPr/>
          </p:nvSpPr>
          <p:spPr>
            <a:xfrm>
              <a:off x="1523880" y="41148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41"/>
            <p:cNvSpPr/>
            <p:nvPr/>
          </p:nvSpPr>
          <p:spPr>
            <a:xfrm>
              <a:off x="1523880" y="41911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42"/>
            <p:cNvSpPr/>
            <p:nvPr/>
          </p:nvSpPr>
          <p:spPr>
            <a:xfrm>
              <a:off x="1523880" y="42670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43"/>
            <p:cNvSpPr/>
            <p:nvPr/>
          </p:nvSpPr>
          <p:spPr>
            <a:xfrm>
              <a:off x="1523880" y="43434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44"/>
            <p:cNvSpPr/>
            <p:nvPr/>
          </p:nvSpPr>
          <p:spPr>
            <a:xfrm>
              <a:off x="1523880" y="44197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45"/>
            <p:cNvSpPr/>
            <p:nvPr/>
          </p:nvSpPr>
          <p:spPr>
            <a:xfrm>
              <a:off x="1523880" y="44956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46"/>
            <p:cNvSpPr/>
            <p:nvPr/>
          </p:nvSpPr>
          <p:spPr>
            <a:xfrm>
              <a:off x="1523880" y="45720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47"/>
            <p:cNvSpPr/>
            <p:nvPr/>
          </p:nvSpPr>
          <p:spPr>
            <a:xfrm>
              <a:off x="1523880" y="46483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48"/>
            <p:cNvSpPr/>
            <p:nvPr/>
          </p:nvSpPr>
          <p:spPr>
            <a:xfrm>
              <a:off x="1523880" y="47242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49"/>
            <p:cNvSpPr/>
            <p:nvPr/>
          </p:nvSpPr>
          <p:spPr>
            <a:xfrm>
              <a:off x="1523880" y="48006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50"/>
            <p:cNvSpPr/>
            <p:nvPr/>
          </p:nvSpPr>
          <p:spPr>
            <a:xfrm>
              <a:off x="1523880" y="48769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>
              <a:off x="1523880" y="49528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52"/>
            <p:cNvSpPr/>
            <p:nvPr/>
          </p:nvSpPr>
          <p:spPr>
            <a:xfrm>
              <a:off x="1523880" y="50292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53"/>
            <p:cNvSpPr/>
            <p:nvPr/>
          </p:nvSpPr>
          <p:spPr>
            <a:xfrm>
              <a:off x="1523880" y="51055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>
              <a:off x="1523880" y="51814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>
              <a:off x="1523880" y="52578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>
              <a:off x="1523880" y="53341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57"/>
            <p:cNvSpPr/>
            <p:nvPr/>
          </p:nvSpPr>
          <p:spPr>
            <a:xfrm>
              <a:off x="1523880" y="54100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58"/>
            <p:cNvSpPr/>
            <p:nvPr/>
          </p:nvSpPr>
          <p:spPr>
            <a:xfrm>
              <a:off x="1523880" y="54864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>
              <a:off x="1523880" y="55627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60"/>
            <p:cNvSpPr/>
            <p:nvPr/>
          </p:nvSpPr>
          <p:spPr>
            <a:xfrm>
              <a:off x="1523880" y="56386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61"/>
            <p:cNvSpPr/>
            <p:nvPr/>
          </p:nvSpPr>
          <p:spPr>
            <a:xfrm>
              <a:off x="1523880" y="57150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1" name="Object 65"/>
              <p:cNvSpPr txBox="1"/>
              <p:nvPr/>
            </p:nvSpPr>
            <p:spPr>
              <a:xfrm>
                <a:off x="3405240" y="4524480"/>
                <a:ext cx="3286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6"/>
              <p:cNvSpPr txBox="1"/>
              <p:nvPr/>
            </p:nvSpPr>
            <p:spPr>
              <a:xfrm>
                <a:off x="1371600" y="5921280"/>
                <a:ext cx="4046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67"/>
              <p:cNvSpPr txBox="1"/>
              <p:nvPr/>
            </p:nvSpPr>
            <p:spPr>
              <a:xfrm>
                <a:off x="941400" y="2733840"/>
                <a:ext cx="5824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4" name="Line 69"/>
          <p:cNvSpPr/>
          <p:nvPr/>
        </p:nvSpPr>
        <p:spPr>
          <a:xfrm>
            <a:off x="1600200" y="297180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70"/>
          <p:cNvSpPr/>
          <p:nvPr/>
        </p:nvSpPr>
        <p:spPr>
          <a:xfrm>
            <a:off x="1600200" y="29718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71"/>
              <p:cNvSpPr txBox="1"/>
              <p:nvPr/>
            </p:nvSpPr>
            <p:spPr>
              <a:xfrm>
                <a:off x="1841400" y="2797200"/>
                <a:ext cx="457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72"/>
              <p:cNvSpPr txBox="1"/>
              <p:nvPr/>
            </p:nvSpPr>
            <p:spPr>
              <a:xfrm>
                <a:off x="2438280" y="3657600"/>
                <a:ext cx="2541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Line 73"/>
          <p:cNvSpPr/>
          <p:nvPr/>
        </p:nvSpPr>
        <p:spPr>
          <a:xfrm>
            <a:off x="1600200" y="4419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74"/>
              <p:cNvSpPr txBox="1"/>
              <p:nvPr/>
            </p:nvSpPr>
            <p:spPr>
              <a:xfrm>
                <a:off x="917640" y="4178160"/>
                <a:ext cx="6318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0" name="Line 75"/>
          <p:cNvSpPr/>
          <p:nvPr/>
        </p:nvSpPr>
        <p:spPr>
          <a:xfrm>
            <a:off x="1600200" y="44197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76"/>
              <p:cNvSpPr txBox="1"/>
              <p:nvPr/>
            </p:nvSpPr>
            <p:spPr>
              <a:xfrm>
                <a:off x="2324160" y="4343400"/>
                <a:ext cx="279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7"/>
              <p:cNvSpPr txBox="1"/>
              <p:nvPr/>
            </p:nvSpPr>
            <p:spPr>
              <a:xfrm>
                <a:off x="1803240" y="3949560"/>
                <a:ext cx="508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a sila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Homogene kug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avac duži koja spaja centre kugl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5337000" y="4267080"/>
                <a:ext cx="2629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5"/>
              <p:cNvSpPr txBox="1"/>
              <p:nvPr/>
            </p:nvSpPr>
            <p:spPr>
              <a:xfrm>
                <a:off x="5486400" y="5221440"/>
                <a:ext cx="24764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7" name="Oval 6"/>
          <p:cNvSpPr/>
          <p:nvPr/>
        </p:nvSpPr>
        <p:spPr>
          <a:xfrm>
            <a:off x="1398600" y="4400640"/>
            <a:ext cx="457200" cy="4572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7"/>
          <p:cNvSpPr/>
          <p:nvPr/>
        </p:nvSpPr>
        <p:spPr>
          <a:xfrm>
            <a:off x="3317760" y="4395960"/>
            <a:ext cx="457200" cy="4572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8"/>
              <p:cNvSpPr txBox="1"/>
              <p:nvPr/>
            </p:nvSpPr>
            <p:spPr>
              <a:xfrm>
                <a:off x="1424160" y="5000760"/>
                <a:ext cx="4554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3367080" y="4952880"/>
                <a:ext cx="480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411" name="AutoShape 10"/>
          <p:cNvCxnSpPr/>
          <p:nvPr/>
        </p:nvCxnSpPr>
        <p:spPr>
          <a:xfrm>
            <a:off x="1676520" y="462420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12" name="Line 11"/>
          <p:cNvSpPr/>
          <p:nvPr/>
        </p:nvSpPr>
        <p:spPr>
          <a:xfrm>
            <a:off x="1644480" y="46245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2943360" y="462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13"/>
              <p:cNvSpPr txBox="1"/>
              <p:nvPr/>
            </p:nvSpPr>
            <p:spPr>
              <a:xfrm>
                <a:off x="1754280" y="4070520"/>
                <a:ext cx="404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14"/>
              <p:cNvSpPr txBox="1"/>
              <p:nvPr/>
            </p:nvSpPr>
            <p:spPr>
              <a:xfrm>
                <a:off x="2971800" y="4092480"/>
                <a:ext cx="404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Rectangle 15"/>
          <p:cNvSpPr/>
          <p:nvPr/>
        </p:nvSpPr>
        <p:spPr>
          <a:xfrm>
            <a:off x="4991040" y="32004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privlačna 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4991040" y="36576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17"/>
          <p:cNvGrpSpPr/>
          <p:nvPr/>
        </p:nvGrpSpPr>
        <p:grpSpPr>
          <a:xfrm>
            <a:off x="1635120" y="3429000"/>
            <a:ext cx="1911240" cy="965160"/>
            <a:chOff x="1635120" y="3429000"/>
            <a:chExt cx="1911240" cy="965160"/>
          </a:xfrm>
        </p:grpSpPr>
        <mc:AlternateContent>
          <mc:Choice xmlns:a14="http://schemas.microsoft.com/office/drawing/2010/main" Requires="a14">
            <p:sp>
              <p:nvSpPr>
                <p:cNvPr id="419" name="Object 18"/>
                <p:cNvSpPr txBox="1"/>
                <p:nvPr/>
              </p:nvSpPr>
              <p:spPr>
                <a:xfrm>
                  <a:off x="2451240" y="3429000"/>
                  <a:ext cx="2268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0" name="Line 19"/>
            <p:cNvSpPr/>
            <p:nvPr/>
          </p:nvSpPr>
          <p:spPr>
            <a:xfrm flipV="1">
              <a:off x="163512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0"/>
            <p:cNvSpPr/>
            <p:nvPr/>
          </p:nvSpPr>
          <p:spPr>
            <a:xfrm flipV="1">
              <a:off x="354636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1"/>
            <p:cNvSpPr/>
            <p:nvPr/>
          </p:nvSpPr>
          <p:spPr>
            <a:xfrm>
              <a:off x="1635120" y="3657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Gravitaciona sila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d veli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čine intenzite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95252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Čovek i najveći tank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asa reda 1000000 t =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Gill Sans MT"/>
              </a:rPr>
              <a:t>9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asa čoveka 100 kg =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Širina tankera 50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rivlačna sila reda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ao težina zrna šeće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838080" y="2362320"/>
            <a:ext cx="3924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va čove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se reda 100 kg =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stojanje reda 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Privlačna sila reda 10</a:t>
            </a:r>
            <a:r>
              <a:rPr b="0" lang="hr-H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-7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un prašine mase 0,1mg koja padne na čoveka deluje na njega deset puta većom sil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219320" y="5334120"/>
            <a:ext cx="723888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a bi gravitaciona sila bila od uticaja, bar jedno telo mora da bude astronomskih razmera, a druge sile moraju biti zanemarl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a si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la na površini Zeml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37720" y="236196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emlja –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ugla mase 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Z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6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g poluprečnika R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Z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6370 km na nivou mo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Biosfera, gde ljudi borave, do 10 km visine i 10 km dub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29" name="Object 4"/>
          <p:cNvGraphicFramePr/>
          <p:nvPr/>
        </p:nvGraphicFramePr>
        <p:xfrm>
          <a:off x="2212920" y="3835440"/>
          <a:ext cx="470052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3835440"/>
                    <a:ext cx="4700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1" name="Object 22"/>
              <p:cNvSpPr txBox="1"/>
              <p:nvPr/>
            </p:nvSpPr>
            <p:spPr>
              <a:xfrm>
                <a:off x="1219320" y="4829040"/>
                <a:ext cx="2604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3"/>
              <p:cNvSpPr txBox="1"/>
              <p:nvPr/>
            </p:nvSpPr>
            <p:spPr>
              <a:xfrm>
                <a:off x="1295280" y="5769000"/>
                <a:ext cx="51055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3" name="Group 30"/>
          <p:cNvGrpSpPr/>
          <p:nvPr/>
        </p:nvGrpSpPr>
        <p:grpSpPr>
          <a:xfrm>
            <a:off x="6324480" y="4572000"/>
            <a:ext cx="1752840" cy="1600200"/>
            <a:chOff x="6324480" y="4572000"/>
            <a:chExt cx="1752840" cy="1600200"/>
          </a:xfrm>
        </p:grpSpPr>
        <p:sp>
          <p:nvSpPr>
            <p:cNvPr id="434" name="Line 24"/>
            <p:cNvSpPr/>
            <p:nvPr/>
          </p:nvSpPr>
          <p:spPr>
            <a:xfrm>
              <a:off x="6324480" y="52578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25"/>
            <p:cNvSpPr/>
            <p:nvPr/>
          </p:nvSpPr>
          <p:spPr>
            <a:xfrm>
              <a:off x="6477120" y="6172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26"/>
            <p:cNvSpPr/>
            <p:nvPr/>
          </p:nvSpPr>
          <p:spPr>
            <a:xfrm flipV="1">
              <a:off x="6934320" y="5257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7"/>
            <p:cNvSpPr/>
            <p:nvPr/>
          </p:nvSpPr>
          <p:spPr>
            <a:xfrm>
              <a:off x="8077320" y="4572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Object 28"/>
              <p:cNvSpPr txBox="1"/>
              <p:nvPr/>
            </p:nvSpPr>
            <p:spPr>
              <a:xfrm>
                <a:off x="7473960" y="5818320"/>
                <a:ext cx="1289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9"/>
              <p:cNvSpPr txBox="1"/>
              <p:nvPr/>
            </p:nvSpPr>
            <p:spPr>
              <a:xfrm>
                <a:off x="4403880" y="5030640"/>
                <a:ext cx="1693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ravitacion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377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poljašnja sila vrši rad i povećava potencijalnu energiju interakcije kada razdvaja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jveću energiju gravitacione interakcije imaju tela koju su beskrajno razdvojena, koja ne interaguju, dakle maksimalna energija gravitacione potencijalne energije je nu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TENCIJALNA ENERGIJA GRAVITACIONE INTERAKCIJE JE NEGATIVNA JER JE SILA PRIVLAČ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ravitacion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7720" y="23623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tencijalnu energiju merimo radom spoljašnje sile koja ne povećava kinetičku energij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4" name="Picture 5" descr="D:\My Documents\NASTAVA\Fizika\Stof\GravEnergija.gif"/>
          <p:cNvPicPr/>
          <p:nvPr/>
        </p:nvPicPr>
        <p:blipFill>
          <a:blip r:embed="rId1"/>
          <a:stretch/>
        </p:blipFill>
        <p:spPr>
          <a:xfrm>
            <a:off x="2514600" y="3151080"/>
            <a:ext cx="4492800" cy="172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5" name="Object 6"/>
              <p:cNvSpPr txBox="1"/>
              <p:nvPr/>
            </p:nvSpPr>
            <p:spPr>
              <a:xfrm>
                <a:off x="868320" y="4871880"/>
                <a:ext cx="81993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7"/>
              <p:cNvSpPr txBox="1"/>
              <p:nvPr/>
            </p:nvSpPr>
            <p:spPr>
              <a:xfrm>
                <a:off x="1362240" y="5845320"/>
                <a:ext cx="4302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∧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8"/>
              <p:cNvSpPr txBox="1"/>
              <p:nvPr/>
            </p:nvSpPr>
            <p:spPr>
              <a:xfrm>
                <a:off x="5686560" y="5845320"/>
                <a:ext cx="2606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Line 9"/>
          <p:cNvSpPr/>
          <p:nvPr/>
        </p:nvSpPr>
        <p:spPr>
          <a:xfrm>
            <a:off x="4572000" y="36576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0"/>
              <p:cNvSpPr txBox="1"/>
              <p:nvPr/>
            </p:nvSpPr>
            <p:spPr>
              <a:xfrm>
                <a:off x="4724280" y="3703680"/>
                <a:ext cx="639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ravitacion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5143680" y="2666880"/>
            <a:ext cx="392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Gravitaciona energija stvara potencijalnu jamu konačne dub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la u gravitacionom polju mogu biti i vezana i slobodna u zavisnosti od njihove kinetičke energ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Gravitaciono polje je 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konzervativno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: rad sila gravitacionog polja ne zavisi od putanje, već samo od početne i krajnje tač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2" name="Picture 13" descr="D:\My Documents\NASTAVA\Fizika\Predavanja\GravPot.jpg"/>
          <p:cNvPicPr/>
          <p:nvPr/>
        </p:nvPicPr>
        <p:blipFill>
          <a:blip r:embed="rId1"/>
          <a:stretch/>
        </p:blipFill>
        <p:spPr>
          <a:xfrm>
            <a:off x="914400" y="2743200"/>
            <a:ext cx="4119480" cy="3265560"/>
          </a:xfrm>
          <a:prstGeom prst="rect">
            <a:avLst/>
          </a:prstGeom>
          <a:ln w="0">
            <a:noFill/>
          </a:ln>
        </p:spPr>
      </p:pic>
      <p:sp>
        <p:nvSpPr>
          <p:cNvPr id="453" name="Oval 14"/>
          <p:cNvSpPr/>
          <p:nvPr/>
        </p:nvSpPr>
        <p:spPr>
          <a:xfrm>
            <a:off x="2743200" y="37339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3:40:02Z</dcterms:created>
  <dc:creator>Zlatan Soskic</dc:creator>
  <dc:description/>
  <dc:language>en-US</dc:language>
  <cp:lastModifiedBy>Zlatan Soskic</cp:lastModifiedBy>
  <dcterms:modified xsi:type="dcterms:W3CDTF">2013-12-05T14:05:31Z</dcterms:modified>
  <cp:revision>306</cp:revision>
  <dc:subject/>
  <dc:title>Interakcije i struktura materije</dc:title>
</cp:coreProperties>
</file>