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8.wmf" ContentType="image/x-wmf"/>
  <Override PartName="/ppt/media/image13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500B-15FF-411A-A68F-B89A9081C11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2532-9874-4D28-A901-0F8328F27A7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694C-AD33-4574-B958-4EF9CB4C820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98DE-6131-4959-9CE1-870074BD5E8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CD46-B7F7-4E25-ADBF-F01ADD8C8EF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69B0-C658-4FD8-827F-62E6FD4A128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4904-0FA6-4CE9-B5F5-099BBC2CCF0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3E37-3926-4CBD-B4F5-87A9CC53BF8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D0C1-F5B5-4640-9FC2-0DC25BF6F9E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43F3-6570-442A-9AEF-81AAA3EBDB9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052E-B2E9-4ED2-8C50-FF88FF65E68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19CA-857C-442D-A3E7-800412E3A69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6701-5DAB-4BDE-B6C0-4159326CC49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4922-377C-472C-8226-B806885F1D3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2A40-8751-49AA-B18E-0A8881E6DAA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0226-FEC5-4719-A487-8E1AF0684FE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9775-5EE4-42D5-A0EE-0435DE34EE4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1580-8CD1-4458-BC45-89E70E31FFA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7D9A-9638-425E-8736-EA72F919B8B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A6E-8A2C-419C-8DCD-F67422EC736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2B77-716F-443F-B659-4432A62B097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2241-8CBD-46F3-8F9B-2C3ADB4630F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F391-A033-462C-8FA2-38BFA0C6024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FF79-B57A-4CE6-B89D-CA2B8EFAC75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E38E-D49E-42C0-8B59-0130DCAC817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ADA2-36B0-4561-8BA8-9BABCCD6B31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215F-AC12-4097-8051-ED1D8FFB79F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D5DA-0565-456C-B2E6-8A8F6527252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C7C9-27F7-40F3-B9D2-05D09D73447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928F-3B69-46B3-949B-3DE98529C08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878C-4E6F-44A7-BFA1-A4CB7400DA4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5CC2-7DF4-43C6-843A-1337418ACCF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63D-6D4F-4BA5-B4FE-062C0861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319-0149-4405-83AF-11D7ADD4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ADD-6E17-4B25-A5A8-1340E24F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C1B-3DF1-4EA0-99B5-55A26E75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067B-B4A3-42EA-828A-F75725CD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74A3-B38B-4399-9EE8-9BE5234C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DAC6-E6B8-4AFC-B4FF-5F9C050B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C846-79B7-44C5-8C7D-74D36DD9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A43E-8A62-4BED-84C4-293375E8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3361-C81D-4295-881A-DC60F008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8867-ECA1-4F9A-B10C-6B459968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AD3-24BB-4A80-BB5A-A2167C78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9373-A26D-409F-8AFC-62E1377E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C1C9-AF57-4C8B-AB7B-B58EE1C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3EE9-4C6E-4A1F-94D7-DD6BBC3D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EC82-8DD5-4FF7-B9DD-DE4F4757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C7AB-F8FE-4048-AD70-5EFFE395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BFB3-A155-48BB-9636-A743A330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A0F6-3F26-4DEC-B940-737CE401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B019-AB01-4941-AD7B-2B287287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EFD8-05F0-4E89-A733-C849EE73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CD02-AC4F-4118-840D-99E467B4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F55-E2A5-4EDB-B3DB-6E0493D8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16C7-E9AE-4C5C-9DFC-E71CA8EE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CEC8-5F99-4474-ACCF-62618711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FAD93-DFC9-430A-9131-1EE4B310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2A92-8DEF-4E5C-94DD-C638B9F1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B81D-57F3-4D9A-A18B-86307BAD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0B7F-D89D-4358-AA04-297B4A54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9286-161A-4E0E-A07B-6E76D611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3A70-C30C-446B-92B6-01C6C498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AA813-4F1D-4A60-A632-E2053316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66C20-B8CC-4CD1-9619-99E3A41D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4D6-49AE-455F-9894-6F83C8A2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E606-C560-4BB3-977A-133FC8C6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18BF7-1378-486D-8D3A-84CFA3F2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8B83-263F-490B-993F-90FC8865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EE8B-1116-42E5-A0A3-7DE28E0F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ACE61-D213-4C6D-B351-FA097DCC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0573-BE6B-415B-A0B6-1C65EF46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B3D4-14C9-49EA-B3A3-8B45F8D3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D5B11-1FF8-4711-8E54-B0405B05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147B-A24C-4DAD-82BF-810871CA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6C79C-93F9-443C-9B5B-978C35C2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EBF-804E-476E-93C5-D0DB7412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28A68-D1C3-4FC9-AEED-9085A27C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37432-64A9-477F-BFD2-1279BD57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76D13-D034-4E8A-B8E2-6BFD102A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353C4-FC26-4B73-897D-DA7F2B8D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35CEB-0518-4CB8-BCD2-272801C6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43C7E-0E23-4385-913F-EA8B24DF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EC262-616A-48D7-BC0C-D9BA1C47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19011-264A-4232-A7AC-E1629810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FFD83-DF14-4B86-BD3F-026A6B52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FECF8-3E72-4810-813F-C24E52A3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C01-2505-4370-B302-0FB0C612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6791F-C6C7-4B2D-ABA1-4972F4C8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A3FFB-A13C-4E61-A4DE-82FA82B6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7C9A7-5633-44DD-81AF-09F85102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D0DC2-5577-4174-A18C-C7C5AEF5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450A2-8FB4-4B96-9E3A-12A5FA5B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6BBA7-485F-4F4D-906D-64C1B16E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D400B-1670-4F18-B476-92FB576D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CCF51-1174-4768-BF58-37A26967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481DE-4921-4F03-9F04-196CD32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ECC89-24AC-49E8-9600-A32A4B21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9A7-9A50-4D77-8B0C-E089986B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D004E-0324-49BD-8F9C-1B5E10C7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7C11-5817-459B-95B7-DE341F60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E827F-C9B5-439E-AA11-6D8FF44F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2687B-13B5-4E9D-8949-02CC55E4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D4ACA-5F6B-4172-B62F-F7F497ED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D171A-8C04-4DAE-BE23-70F9BE30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35060-AF91-4DEF-8B92-95534DC9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0114C-53E2-4F6B-A282-7F584E25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DDC5A-D9A4-4C36-A69B-D6BD3344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A69E7-1010-4370-9B5D-388A4DBE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748-7112-463E-B909-7428EA43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7DEE2-3F83-4DF1-A632-C152F8C8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B5F30-DD29-4D09-A078-55A71598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262A1-EDBE-42B1-9AB7-E815017A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E8D75-9EEC-4AFE-9C41-E07E1C01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2A65A-D8B7-4F9C-9E24-A536AA8B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7E0-7FBE-41CF-A1B5-9BDB7047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6D17-6D71-48F9-ACC2-80E8E284634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1453-BBCA-41BC-A6FB-4551A57E96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7F1A-4806-4C5F-8E7C-51E8EDEF93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C0D9-F4AA-4585-B76A-40B15B875F7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41A7-34B0-4188-8C0F-A88FFAD99C3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2B90-D39C-4BB0-B63A-7F2E5EEA1C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E344-2BA6-4CAC-8A4C-0447D3C6BDB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kcije i struktura mater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Elektromagnetske</a:t>
            </a:r>
            <a:br>
              <a:rPr sz="2600"/>
            </a:b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nterak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truktura ato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nergija električnog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ačkasto naelektris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1974960" y="2971800"/>
                <a:ext cx="5211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e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2" name="Rectangle 6"/>
          <p:cNvSpPr/>
          <p:nvPr/>
        </p:nvSpPr>
        <p:spPr>
          <a:xfrm>
            <a:off x="914400" y="3962520"/>
            <a:ext cx="8001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elektrisanja istog zn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ele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&gt;0, kretanje slobod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nimum potencijalne energije kada r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elektrisanja suprotnog zn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ele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&lt;0, kretanje može biti i vezano i slobod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nimum potencijalne energije kada r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tencijal električnog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ačkasto naelektris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6"/>
              <p:cNvSpPr txBox="1"/>
              <p:nvPr/>
            </p:nvSpPr>
            <p:spPr>
              <a:xfrm>
                <a:off x="1336680" y="2949480"/>
                <a:ext cx="5813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e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444840" y="3863880"/>
                <a:ext cx="1871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e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Text Box 8"/>
          <p:cNvSpPr/>
          <p:nvPr/>
        </p:nvSpPr>
        <p:spPr>
          <a:xfrm>
            <a:off x="5547960" y="40035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apon i rad u električn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2362320" y="2541600"/>
                <a:ext cx="1619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4495680" y="2567160"/>
                <a:ext cx="1062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Rectangle 5"/>
          <p:cNvSpPr/>
          <p:nvPr/>
        </p:nvSpPr>
        <p:spPr>
          <a:xfrm>
            <a:off x="914400" y="32004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encijal je potencijal jedne tač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pon je pojam koji se odnosi na dve tač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6"/>
              <p:cNvSpPr txBox="1"/>
              <p:nvPr/>
            </p:nvSpPr>
            <p:spPr>
              <a:xfrm>
                <a:off x="1020600" y="4419720"/>
                <a:ext cx="75898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e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7"/>
              <p:cNvSpPr txBox="1"/>
              <p:nvPr/>
            </p:nvSpPr>
            <p:spPr>
              <a:xfrm>
                <a:off x="3886200" y="5183280"/>
                <a:ext cx="15429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e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8"/>
              <p:cNvSpPr txBox="1"/>
              <p:nvPr/>
            </p:nvSpPr>
            <p:spPr>
              <a:xfrm>
                <a:off x="3048120" y="6097680"/>
                <a:ext cx="34401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agnets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040" y="2362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gnetizam ru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gnetizam Zeml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1295280" y="3651120"/>
            <a:ext cx="74678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mper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gnetsko polje stvaraju naelektrisanja u kretanj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ono deluje na naelektrisanja u kreta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agnets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685800" y="25146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avitaciono po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6"/>
              <p:cNvSpPr txBox="1"/>
              <p:nvPr/>
            </p:nvSpPr>
            <p:spPr>
              <a:xfrm>
                <a:off x="3633840" y="2616120"/>
                <a:ext cx="328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7"/>
              <p:cNvSpPr txBox="1"/>
              <p:nvPr/>
            </p:nvSpPr>
            <p:spPr>
              <a:xfrm>
                <a:off x="4114800" y="2438280"/>
                <a:ext cx="277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3632040" y="3632040"/>
                <a:ext cx="2541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9"/>
              <p:cNvSpPr txBox="1"/>
              <p:nvPr/>
            </p:nvSpPr>
            <p:spPr>
              <a:xfrm>
                <a:off x="4114800" y="3479760"/>
                <a:ext cx="303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3505320" y="4597560"/>
                <a:ext cx="583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1"/>
              <p:cNvSpPr txBox="1"/>
              <p:nvPr/>
            </p:nvSpPr>
            <p:spPr>
              <a:xfrm>
                <a:off x="4192560" y="4546440"/>
                <a:ext cx="303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6" name="Text Box 12"/>
          <p:cNvSpPr/>
          <p:nvPr/>
        </p:nvSpPr>
        <p:spPr>
          <a:xfrm>
            <a:off x="4572000" y="2514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grav. po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4572000" y="3505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elek. po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4572000" y="4572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dukcija mag. po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5"/>
              <p:cNvSpPr txBox="1"/>
              <p:nvPr/>
            </p:nvSpPr>
            <p:spPr>
              <a:xfrm>
                <a:off x="2583000" y="5410080"/>
                <a:ext cx="35128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C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6"/>
              <p:cNvSpPr txBox="1"/>
              <p:nvPr/>
            </p:nvSpPr>
            <p:spPr>
              <a:xfrm>
                <a:off x="7315200" y="2336760"/>
                <a:ext cx="12366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ra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7"/>
              <p:cNvSpPr txBox="1"/>
              <p:nvPr/>
            </p:nvSpPr>
            <p:spPr>
              <a:xfrm>
                <a:off x="7323120" y="3352680"/>
                <a:ext cx="12114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e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Rectangle 19"/>
          <p:cNvSpPr/>
          <p:nvPr/>
        </p:nvSpPr>
        <p:spPr>
          <a:xfrm>
            <a:off x="685800" y="3505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lektrično po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0"/>
          <p:cNvSpPr/>
          <p:nvPr/>
        </p:nvSpPr>
        <p:spPr>
          <a:xfrm>
            <a:off x="685800" y="45720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gnetsko po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21"/>
              <p:cNvSpPr txBox="1"/>
              <p:nvPr/>
            </p:nvSpPr>
            <p:spPr>
              <a:xfrm>
                <a:off x="7400880" y="4381560"/>
                <a:ext cx="1514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g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Text Box 22"/>
          <p:cNvSpPr/>
          <p:nvPr/>
        </p:nvSpPr>
        <p:spPr>
          <a:xfrm>
            <a:off x="6401160" y="5562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e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agnets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37720" y="457164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Linije magnetskog polja su zatvore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Intenzitet magnetskog polja opada sa rastojanj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1219320" y="34434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18"/>
          <p:cNvSpPr/>
          <p:nvPr/>
        </p:nvSpPr>
        <p:spPr>
          <a:xfrm>
            <a:off x="2819520" y="2986200"/>
            <a:ext cx="4572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9"/>
          <p:cNvSpPr/>
          <p:nvPr/>
        </p:nvSpPr>
        <p:spPr>
          <a:xfrm>
            <a:off x="2666880" y="2757600"/>
            <a:ext cx="762120" cy="14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20"/>
          <p:cNvSpPr/>
          <p:nvPr/>
        </p:nvSpPr>
        <p:spPr>
          <a:xfrm>
            <a:off x="2438280" y="2452680"/>
            <a:ext cx="121932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21"/>
          <p:cNvSpPr/>
          <p:nvPr/>
        </p:nvSpPr>
        <p:spPr>
          <a:xfrm>
            <a:off x="1371600" y="2986200"/>
            <a:ext cx="4572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22"/>
          <p:cNvSpPr/>
          <p:nvPr/>
        </p:nvSpPr>
        <p:spPr>
          <a:xfrm>
            <a:off x="1219320" y="2757600"/>
            <a:ext cx="761760" cy="14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23"/>
          <p:cNvSpPr/>
          <p:nvPr/>
        </p:nvSpPr>
        <p:spPr>
          <a:xfrm>
            <a:off x="990720" y="2452680"/>
            <a:ext cx="121896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AutoShape 24"/>
          <p:cNvCxnSpPr>
            <a:stCxn id="444" idx="0"/>
            <a:endCxn id="441" idx="0"/>
          </p:cNvCxnSpPr>
          <p:nvPr/>
        </p:nvCxnSpPr>
        <p:spPr>
          <a:xfrm>
            <a:off x="1600200" y="2437920"/>
            <a:ext cx="1448640" cy="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446" name="AutoShape 25"/>
          <p:cNvCxnSpPr>
            <a:stCxn id="444" idx="4"/>
            <a:endCxn id="441" idx="4"/>
          </p:cNvCxnSpPr>
          <p:nvPr/>
        </p:nvCxnSpPr>
        <p:spPr>
          <a:xfrm>
            <a:off x="1600200" y="4524120"/>
            <a:ext cx="1448640" cy="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pic>
        <p:nvPicPr>
          <p:cNvPr id="447" name="Picture 26" descr="D:\My Documents\NASTAVA\Fizika\Predavanja\Magnet.jpg"/>
          <p:cNvPicPr/>
          <p:nvPr/>
        </p:nvPicPr>
        <p:blipFill>
          <a:blip r:embed="rId1"/>
          <a:stretch/>
        </p:blipFill>
        <p:spPr>
          <a:xfrm>
            <a:off x="4648320" y="2666880"/>
            <a:ext cx="3450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orencova si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a koja deluje na tačkasto naelektrisanje u kretanj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5"/>
              <p:cNvSpPr txBox="1"/>
              <p:nvPr/>
            </p:nvSpPr>
            <p:spPr>
              <a:xfrm>
                <a:off x="3570120" y="3340080"/>
                <a:ext cx="1841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g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Rectangle 6"/>
          <p:cNvSpPr/>
          <p:nvPr/>
        </p:nvSpPr>
        <p:spPr>
          <a:xfrm>
            <a:off x="838080" y="41148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la je normalna na brzi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la je normalna na pome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843480" y="5403960"/>
            <a:ext cx="816192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orencova sila ne vrši rad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orencova sila ne menja kinetičku energiju čestica na koje del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magnetsko polje se ne vezuje potencijalna ener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u magnetsk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54" name="Object 3"/>
          <p:cNvGraphicFramePr/>
          <p:nvPr/>
        </p:nvGraphicFramePr>
        <p:xfrm>
          <a:off x="4110120" y="3678120"/>
          <a:ext cx="8413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0120" y="3678120"/>
                    <a:ext cx="8413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4"/>
          <p:cNvSpPr/>
          <p:nvPr/>
        </p:nvSpPr>
        <p:spPr>
          <a:xfrm>
            <a:off x="914400" y="23623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la normalna na brzinu </a:t>
            </a:r>
            <a:r>
              <a:rPr b="0" lang="hr-H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užno kre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u magnetsk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58" name="Object 4"/>
          <p:cNvGraphicFramePr/>
          <p:nvPr/>
        </p:nvGraphicFramePr>
        <p:xfrm>
          <a:off x="4121280" y="5689440"/>
          <a:ext cx="901440" cy="6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1280" y="5689440"/>
                    <a:ext cx="90144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0" name="Object 6"/>
              <p:cNvSpPr txBox="1"/>
              <p:nvPr/>
            </p:nvSpPr>
            <p:spPr>
              <a:xfrm>
                <a:off x="1371600" y="2514600"/>
                <a:ext cx="623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g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v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v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7"/>
              <p:cNvSpPr txBox="1"/>
              <p:nvPr/>
            </p:nvSpPr>
            <p:spPr>
              <a:xfrm>
                <a:off x="1406520" y="3124080"/>
                <a:ext cx="12603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8"/>
              <p:cNvSpPr txBox="1"/>
              <p:nvPr/>
            </p:nvSpPr>
            <p:spPr>
              <a:xfrm>
                <a:off x="1447920" y="3936960"/>
                <a:ext cx="4435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v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lektromagnetske interak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elektrisanja koja se promenljivo (ubrzano) kreću stvaraju promenljivo pol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o polje je elektromagnetsko polje kome su električno i magnetsko polje samo kompone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omene polja se šire u prostoru kao emitovani elektromagnetski talas usled kojeg se energija čestice umanjuje a energija polja uveća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lektromagnetske interak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akcije izm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đu tela koja imaju naelektris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snovno svojstvo mater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ve vrste naelektris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lo koje ima višak jedne vrste naelektrisanja nazivamo naelektrisani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eri se fizičkom veličinom koja se naziva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količina naelektris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oličina naelektrisanja je aditivna velič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Jedinica za količinu naelektrisanja – Kulon [C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truktura ato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14040" y="2362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Demokrit: "A tomos" – nedeljiv, bezsastav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Hemija: jedinjenja i element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Atomi iste vrste grade elemen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Atomi različitih vrsta formiraju molekule koji grade jedinjen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endeljejev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Osam grupa elemenata sličnog ponašan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Elementi iste grupe razlikuju se po masi atom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eriodni si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Dan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92 elementa u prirod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Dvadesetak veštački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lanetarni model ato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914040" y="2286000"/>
            <a:ext cx="3962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ils B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vi atomi imaju istu str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ktur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azlikuju se po atomskom broju Z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zitivno naelektrisano jezgr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 proton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 neutron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egativno naelektrisani omotač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 elektron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9" name="Picture 4" descr="D:\My Documents\NASTAVA\Fizika\Predavanja\Atom.jpg"/>
          <p:cNvPicPr/>
          <p:nvPr/>
        </p:nvPicPr>
        <p:blipFill>
          <a:blip r:embed="rId1"/>
          <a:stretch/>
        </p:blipFill>
        <p:spPr>
          <a:xfrm>
            <a:off x="4952880" y="2666880"/>
            <a:ext cx="3845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lanetarni model atom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Naelektrisanje atom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14400" y="23623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 protona q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+e=+1,6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-19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 neutrona q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 jezgra +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 elektrona q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-e=-1,6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-19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 omotača –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tom kao celina je elektroneutral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lanetarni model atom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sa atom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37720" y="2362320"/>
            <a:ext cx="6705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sa protona 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1,67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-27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g =1aj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neutrona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 1aj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jezgra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N) aj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elektrona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,1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31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g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1839 aj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omotača Z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&lt;&lt;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j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la masa atoma je koncentrisana u jezgr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N) ajm=A ajm    A-maseni broj ato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7772400" y="5562720"/>
                <a:ext cx="7588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 Borov postul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4"/>
              <p:cNvSpPr txBox="1"/>
              <p:nvPr/>
            </p:nvSpPr>
            <p:spPr>
              <a:xfrm>
                <a:off x="2143080" y="4267080"/>
                <a:ext cx="494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ezgr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e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f>
                      <m:num>
                        <m:r>
                          <m:t xml:space="preserve">Z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5"/>
              <p:cNvSpPr txBox="1"/>
              <p:nvPr/>
            </p:nvSpPr>
            <p:spPr>
              <a:xfrm>
                <a:off x="2143080" y="5105520"/>
                <a:ext cx="1362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7"/>
              <p:cNvSpPr txBox="1"/>
              <p:nvPr/>
            </p:nvSpPr>
            <p:spPr>
              <a:xfrm>
                <a:off x="2133720" y="5867280"/>
                <a:ext cx="5173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f>
                      <m:num>
                        <m:r>
                          <m:t xml:space="preserve">Z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9" name="Rectangle 9"/>
          <p:cNvSpPr/>
          <p:nvPr/>
        </p:nvSpPr>
        <p:spPr>
          <a:xfrm>
            <a:off x="914400" y="2362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nutaratomsko kret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1295280" y="2895480"/>
            <a:ext cx="6248520" cy="1081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ni u atomu se k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u oko nepokretnog jezgra po kružnim putanjama pod uticajem privlačne elektrostatičke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Borov postul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14040" y="2362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ko se elektroni kreću kružno (ubrzano), zašto ne gube energiju zračenje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Rectangle 9"/>
          <p:cNvSpPr/>
          <p:nvPr/>
        </p:nvSpPr>
        <p:spPr>
          <a:xfrm>
            <a:off x="914400" y="3276720"/>
            <a:ext cx="7696080" cy="838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ni u atomu 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aj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u samo po stacionarnim orbitama, na kojima ne gube energ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914400" y="42670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oje stacionarne i nestacionarne orb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nestacionarnim elektron ne može opstati traj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acionarne orbite su "naročit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Borov postul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4"/>
              <p:cNvSpPr txBox="1"/>
              <p:nvPr/>
            </p:nvSpPr>
            <p:spPr>
              <a:xfrm>
                <a:off x="2631960" y="2276640"/>
                <a:ext cx="355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cionar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6"/>
              <p:cNvSpPr txBox="1"/>
              <p:nvPr/>
            </p:nvSpPr>
            <p:spPr>
              <a:xfrm>
                <a:off x="1168560" y="2809800"/>
                <a:ext cx="1158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8"/>
              <p:cNvSpPr txBox="1"/>
              <p:nvPr/>
            </p:nvSpPr>
            <p:spPr>
              <a:xfrm>
                <a:off x="1106640" y="3191040"/>
                <a:ext cx="2896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J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10"/>
              <p:cNvSpPr txBox="1"/>
              <p:nvPr/>
            </p:nvSpPr>
            <p:spPr>
              <a:xfrm>
                <a:off x="4156200" y="3343320"/>
                <a:ext cx="2243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≈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J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Text Box 11"/>
          <p:cNvSpPr/>
          <p:nvPr/>
        </p:nvSpPr>
        <p:spPr>
          <a:xfrm>
            <a:off x="6517080" y="334332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lankova konst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1108080" y="3952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stac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stac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stac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 može imati samo neke vrednosti, a ne s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VANTOVANJE, KVANT (skok) j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VANTNA MEHANIKA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LASIČNA MEHA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14"/>
              <p:cNvSpPr txBox="1"/>
              <p:nvPr/>
            </p:nvSpPr>
            <p:spPr>
              <a:xfrm>
                <a:off x="1635120" y="6035760"/>
                <a:ext cx="7184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000000000000000000000000000000105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5"/>
              <p:cNvSpPr txBox="1"/>
              <p:nvPr/>
            </p:nvSpPr>
            <p:spPr>
              <a:xfrm>
                <a:off x="4156200" y="5705640"/>
                <a:ext cx="17618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↔</m:t>
                    </m:r>
                    <m:r>
                      <m:t xml:space="preserve">ℏ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sledice Borovih postul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0"/>
              <p:cNvSpPr txBox="1"/>
              <p:nvPr/>
            </p:nvSpPr>
            <p:spPr>
              <a:xfrm>
                <a:off x="4765680" y="2286000"/>
                <a:ext cx="2598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2"/>
              <p:cNvSpPr txBox="1"/>
              <p:nvPr/>
            </p:nvSpPr>
            <p:spPr>
              <a:xfrm>
                <a:off x="1793880" y="2286000"/>
                <a:ext cx="2751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3"/>
              <p:cNvSpPr txBox="1"/>
              <p:nvPr/>
            </p:nvSpPr>
            <p:spPr>
              <a:xfrm>
                <a:off x="1714680" y="3200400"/>
                <a:ext cx="5271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P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P</m:t>
                            </m:r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8" name="Group 20"/>
          <p:cNvGrpSpPr/>
          <p:nvPr/>
        </p:nvGrpSpPr>
        <p:grpSpPr>
          <a:xfrm>
            <a:off x="1271520" y="4267080"/>
            <a:ext cx="7467480" cy="1143000"/>
            <a:chOff x="1271520" y="4267080"/>
            <a:chExt cx="7467480" cy="1143000"/>
          </a:xfrm>
        </p:grpSpPr>
        <mc:AlternateContent>
          <mc:Choice xmlns:a14="http://schemas.microsoft.com/office/drawing/2010/main" Requires="a14">
            <p:sp>
              <p:nvSpPr>
                <p:cNvPr id="499" name="Object 14"/>
                <p:cNvSpPr txBox="1"/>
                <p:nvPr/>
              </p:nvSpPr>
              <p:spPr>
                <a:xfrm>
                  <a:off x="4014720" y="4419720"/>
                  <a:ext cx="45147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ℏ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2,2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Text Box 15"/>
            <p:cNvSpPr/>
            <p:nvPr/>
          </p:nvSpPr>
          <p:spPr>
            <a:xfrm>
              <a:off x="1352160" y="4613400"/>
              <a:ext cx="266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vantovanje brz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6"/>
            <p:cNvSpPr/>
            <p:nvPr/>
          </p:nvSpPr>
          <p:spPr>
            <a:xfrm>
              <a:off x="1271520" y="4267080"/>
              <a:ext cx="7467480" cy="1143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21"/>
          <p:cNvGrpSpPr/>
          <p:nvPr/>
        </p:nvGrpSpPr>
        <p:grpSpPr>
          <a:xfrm>
            <a:off x="1040760" y="5562720"/>
            <a:ext cx="8003160" cy="1143000"/>
            <a:chOff x="1040760" y="5562720"/>
            <a:chExt cx="8003160" cy="1143000"/>
          </a:xfrm>
        </p:grpSpPr>
        <mc:AlternateContent>
          <mc:Choice xmlns:a14="http://schemas.microsoft.com/office/drawing/2010/main" Requires="a14">
            <p:sp>
              <p:nvSpPr>
                <p:cNvPr id="503" name="Object 17"/>
                <p:cNvSpPr txBox="1"/>
                <p:nvPr/>
              </p:nvSpPr>
              <p:spPr>
                <a:xfrm>
                  <a:off x="3862440" y="5638680"/>
                  <a:ext cx="50212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p>
                      </m:sSup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Text Box 18"/>
            <p:cNvSpPr/>
            <p:nvPr/>
          </p:nvSpPr>
          <p:spPr>
            <a:xfrm>
              <a:off x="1040760" y="5867280"/>
              <a:ext cx="280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vantovanje putan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9"/>
            <p:cNvSpPr/>
            <p:nvPr/>
          </p:nvSpPr>
          <p:spPr>
            <a:xfrm>
              <a:off x="1042920" y="5562720"/>
              <a:ext cx="8001000" cy="1143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sledice Borovih postul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12"/>
              <p:cNvSpPr txBox="1"/>
              <p:nvPr/>
            </p:nvSpPr>
            <p:spPr>
              <a:xfrm>
                <a:off x="1743120" y="2438280"/>
                <a:ext cx="5070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13"/>
              <p:cNvSpPr txBox="1"/>
              <p:nvPr/>
            </p:nvSpPr>
            <p:spPr>
              <a:xfrm>
                <a:off x="1743120" y="3276720"/>
                <a:ext cx="5548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09" name="Group 15"/>
          <p:cNvGrpSpPr/>
          <p:nvPr/>
        </p:nvGrpSpPr>
        <p:grpSpPr>
          <a:xfrm>
            <a:off x="1042920" y="4876920"/>
            <a:ext cx="8001000" cy="1447560"/>
            <a:chOff x="1042920" y="4876920"/>
            <a:chExt cx="8001000" cy="1447560"/>
          </a:xfrm>
        </p:grpSpPr>
        <p:sp>
          <p:nvSpPr>
            <p:cNvPr id="510" name="Text Box 10"/>
            <p:cNvSpPr/>
            <p:nvPr/>
          </p:nvSpPr>
          <p:spPr>
            <a:xfrm>
              <a:off x="3341880" y="4952880"/>
              <a:ext cx="28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vantovanje energi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1042920" y="4876920"/>
              <a:ext cx="8001000" cy="14475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14"/>
                <p:cNvSpPr txBox="1"/>
                <p:nvPr/>
              </p:nvSpPr>
              <p:spPr>
                <a:xfrm>
                  <a:off x="1498680" y="5410080"/>
                  <a:ext cx="716436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sup>
                      </m:sSup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,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e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vantovanje u atomu vodoni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990720" y="2438280"/>
                <a:ext cx="70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5" name="Object 4"/>
          <p:cNvGraphicFramePr/>
          <p:nvPr/>
        </p:nvGraphicFramePr>
        <p:xfrm>
          <a:off x="3990960" y="4087800"/>
          <a:ext cx="123048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0960" y="4087800"/>
                    <a:ext cx="12304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lektromagnetske interak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lektromagnetska interakcija je složenija za opisivanje od gravitaci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ri vida elektromagnetskih interakci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Elektrostatičke, deluju među naelektrisanjima koja međusobno miruj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Magnetske, deluju među naelektrisanjima koja se međusobno ravnomerno kreć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Elektromagnetske, deluju među naelektrisanjima koja se međusobno kreću promenljivim brzin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aulijev princ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14040" y="2362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va elektrona u atomu ne mogu imati iste put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 orbiti n može biti najviše 2n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elektro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ektroni teže minimalnoj potencijalnoj energiji – osnovno stanje ato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4"/>
              <p:cNvSpPr txBox="1"/>
              <p:nvPr/>
            </p:nvSpPr>
            <p:spPr>
              <a:xfrm>
                <a:off x="1376280" y="4724280"/>
                <a:ext cx="909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5"/>
              <p:cNvSpPr txBox="1"/>
              <p:nvPr/>
            </p:nvSpPr>
            <p:spPr>
              <a:xfrm>
                <a:off x="7238880" y="4724280"/>
                <a:ext cx="1084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6"/>
              <p:cNvSpPr txBox="1"/>
              <p:nvPr/>
            </p:nvSpPr>
            <p:spPr>
              <a:xfrm>
                <a:off x="1295280" y="5384880"/>
                <a:ext cx="11606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7"/>
              <p:cNvSpPr txBox="1"/>
              <p:nvPr/>
            </p:nvSpPr>
            <p:spPr>
              <a:xfrm>
                <a:off x="3057480" y="541008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5"/>
              <p:cNvSpPr txBox="1"/>
              <p:nvPr/>
            </p:nvSpPr>
            <p:spPr>
              <a:xfrm>
                <a:off x="4708440" y="5384880"/>
                <a:ext cx="1158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6"/>
              <p:cNvSpPr txBox="1"/>
              <p:nvPr/>
            </p:nvSpPr>
            <p:spPr>
              <a:xfrm>
                <a:off x="1295280" y="6006960"/>
                <a:ext cx="1538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7"/>
              <p:cNvSpPr txBox="1"/>
              <p:nvPr/>
            </p:nvSpPr>
            <p:spPr>
              <a:xfrm>
                <a:off x="2971800" y="6019920"/>
                <a:ext cx="1663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8"/>
              <p:cNvSpPr txBox="1"/>
              <p:nvPr/>
            </p:nvSpPr>
            <p:spPr>
              <a:xfrm>
                <a:off x="4724280" y="5994360"/>
                <a:ext cx="1513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l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9"/>
              <p:cNvSpPr txBox="1"/>
              <p:nvPr/>
            </p:nvSpPr>
            <p:spPr>
              <a:xfrm>
                <a:off x="7248600" y="5321160"/>
                <a:ext cx="1361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21"/>
              <p:cNvSpPr txBox="1"/>
              <p:nvPr/>
            </p:nvSpPr>
            <p:spPr>
              <a:xfrm>
                <a:off x="6629400" y="5562720"/>
                <a:ext cx="277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22"/>
              <p:cNvSpPr txBox="1"/>
              <p:nvPr/>
            </p:nvSpPr>
            <p:spPr>
              <a:xfrm>
                <a:off x="6629400" y="6248520"/>
                <a:ext cx="277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Group 24"/>
          <p:cNvGrpSpPr/>
          <p:nvPr/>
        </p:nvGrpSpPr>
        <p:grpSpPr>
          <a:xfrm>
            <a:off x="1219320" y="4648320"/>
            <a:ext cx="7467480" cy="1981080"/>
            <a:chOff x="1219320" y="4648320"/>
            <a:chExt cx="7467480" cy="1981080"/>
          </a:xfrm>
        </p:grpSpPr>
        <p:sp>
          <p:nvSpPr>
            <p:cNvPr id="531" name="Line 8"/>
            <p:cNvSpPr/>
            <p:nvPr/>
          </p:nvSpPr>
          <p:spPr>
            <a:xfrm>
              <a:off x="1219320" y="4648320"/>
              <a:ext cx="7467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9"/>
            <p:cNvSpPr/>
            <p:nvPr/>
          </p:nvSpPr>
          <p:spPr>
            <a:xfrm>
              <a:off x="1219320" y="464832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0"/>
            <p:cNvSpPr/>
            <p:nvPr/>
          </p:nvSpPr>
          <p:spPr>
            <a:xfrm>
              <a:off x="2971800" y="464832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1"/>
            <p:cNvSpPr/>
            <p:nvPr/>
          </p:nvSpPr>
          <p:spPr>
            <a:xfrm>
              <a:off x="4648320" y="46483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12"/>
            <p:cNvSpPr/>
            <p:nvPr/>
          </p:nvSpPr>
          <p:spPr>
            <a:xfrm>
              <a:off x="8686800" y="46483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13"/>
            <p:cNvSpPr/>
            <p:nvPr/>
          </p:nvSpPr>
          <p:spPr>
            <a:xfrm>
              <a:off x="1219320" y="52578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14"/>
            <p:cNvSpPr/>
            <p:nvPr/>
          </p:nvSpPr>
          <p:spPr>
            <a:xfrm>
              <a:off x="7162920" y="46483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3"/>
            <p:cNvSpPr/>
            <p:nvPr/>
          </p:nvSpPr>
          <p:spPr>
            <a:xfrm>
              <a:off x="1219320" y="586728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Borov model i sli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čnost elemena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Atom je po dimenzijama izrazito nesklad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ečnik jezgra oko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-15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ečnik prve orbite oko 100-10000 puta već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ečnik druge orbite 4 puta veći od prve orb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ečnik treće orbite 9 puta veći od prve orb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poljašnja okolina interaguje samo sa spoljašnjom - tzv. </a:t>
            </a:r>
            <a:r>
              <a:rPr b="1" i="1" lang="hr-HR" sz="2800" spc="-1" strike="noStrike">
                <a:solidFill>
                  <a:srgbClr val="000000"/>
                </a:solidFill>
                <a:latin typeface="Gill Sans MT"/>
              </a:rPr>
              <a:t>valentnom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orbit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lične valentne orbite – slično ponašanje ato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lektrostatička si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la koja vlada m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đu naelektrisanim telima koja miruj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ože se primenjivati u slučajevima kada se naelektrisana tela kreću malim brzinama (mnogo manjim od brzine svetlost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ivlačna među telima naelektrisanim različitim vrstama naelektrisanja, odbojna među telima naelektrisanim istim vrstama nelektris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truktura elektrostatičkog polja slična strukturi gravitacionog pol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ektrostatička si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terijalne tačk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avac duži koja spaja materijalne tačk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5475240" y="4473720"/>
                <a:ext cx="23511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10080" y="5340240"/>
                <a:ext cx="29577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Rectangle 15"/>
          <p:cNvSpPr/>
          <p:nvPr/>
        </p:nvSpPr>
        <p:spPr>
          <a:xfrm>
            <a:off x="4991040" y="3200400"/>
            <a:ext cx="4152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vrsta naelektris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4991040" y="36576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nzitet: Kulonov zak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22"/>
              <p:cNvSpPr txBox="1"/>
              <p:nvPr/>
            </p:nvSpPr>
            <p:spPr>
              <a:xfrm>
                <a:off x="3252960" y="6200640"/>
                <a:ext cx="566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azduh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arafin</m:t>
                        </m:r>
                      </m:e>
                    </m:d>
                    <m:r>
                      <m:t xml:space="preserve">≈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etal</m:t>
                        </m:r>
                      </m:e>
                    </m:d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Oval 23"/>
          <p:cNvSpPr/>
          <p:nvPr/>
        </p:nvSpPr>
        <p:spPr>
          <a:xfrm>
            <a:off x="1600200" y="4400640"/>
            <a:ext cx="7632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3505320" y="4400640"/>
            <a:ext cx="7596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5"/>
              <p:cNvSpPr txBox="1"/>
              <p:nvPr/>
            </p:nvSpPr>
            <p:spPr>
              <a:xfrm>
                <a:off x="1500120" y="4448160"/>
                <a:ext cx="303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6"/>
              <p:cNvSpPr txBox="1"/>
              <p:nvPr/>
            </p:nvSpPr>
            <p:spPr>
              <a:xfrm>
                <a:off x="3430440" y="4400640"/>
                <a:ext cx="3542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44" name="AutoShape 27"/>
          <p:cNvCxnSpPr/>
          <p:nvPr/>
        </p:nvCxnSpPr>
        <p:spPr>
          <a:xfrm>
            <a:off x="1676520" y="444780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45" name="Line 28"/>
          <p:cNvSpPr/>
          <p:nvPr/>
        </p:nvSpPr>
        <p:spPr>
          <a:xfrm>
            <a:off x="1676520" y="44481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2895480" y="44481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30"/>
              <p:cNvSpPr txBox="1"/>
              <p:nvPr/>
            </p:nvSpPr>
            <p:spPr>
              <a:xfrm>
                <a:off x="1754280" y="3917880"/>
                <a:ext cx="404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1"/>
              <p:cNvSpPr txBox="1"/>
              <p:nvPr/>
            </p:nvSpPr>
            <p:spPr>
              <a:xfrm>
                <a:off x="3048120" y="3892680"/>
                <a:ext cx="404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9" name="Group 32"/>
          <p:cNvGrpSpPr/>
          <p:nvPr/>
        </p:nvGrpSpPr>
        <p:grpSpPr>
          <a:xfrm>
            <a:off x="1635120" y="3429000"/>
            <a:ext cx="1911240" cy="965160"/>
            <a:chOff x="1635120" y="3429000"/>
            <a:chExt cx="1911240" cy="965160"/>
          </a:xfrm>
        </p:grpSpPr>
        <mc:AlternateContent>
          <mc:Choice xmlns:a14="http://schemas.microsoft.com/office/drawing/2010/main" Requires="a14">
            <p:sp>
              <p:nvSpPr>
                <p:cNvPr id="350" name="Object 33"/>
                <p:cNvSpPr txBox="1"/>
                <p:nvPr/>
              </p:nvSpPr>
              <p:spPr>
                <a:xfrm>
                  <a:off x="2451240" y="3429000"/>
                  <a:ext cx="2268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Line 34"/>
            <p:cNvSpPr/>
            <p:nvPr/>
          </p:nvSpPr>
          <p:spPr>
            <a:xfrm flipV="1">
              <a:off x="163512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35"/>
            <p:cNvSpPr/>
            <p:nvPr/>
          </p:nvSpPr>
          <p:spPr>
            <a:xfrm flipV="1">
              <a:off x="354636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36"/>
            <p:cNvSpPr/>
            <p:nvPr/>
          </p:nvSpPr>
          <p:spPr>
            <a:xfrm>
              <a:off x="1635120" y="3657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Text Box 37"/>
          <p:cNvSpPr/>
          <p:nvPr/>
        </p:nvSpPr>
        <p:spPr>
          <a:xfrm>
            <a:off x="759240" y="61722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ielektrična kon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ektrostatička si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ektrični dipo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42640" y="2362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odel za tela koja sadrže naelektrisanja, ali su ukupno elektroneutral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Oval 25"/>
          <p:cNvSpPr/>
          <p:nvPr/>
        </p:nvSpPr>
        <p:spPr>
          <a:xfrm>
            <a:off x="1066680" y="5638680"/>
            <a:ext cx="21337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26"/>
          <p:cNvSpPr/>
          <p:nvPr/>
        </p:nvSpPr>
        <p:spPr>
          <a:xfrm>
            <a:off x="1711440" y="594360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7"/>
              <p:cNvSpPr txBox="1"/>
              <p:nvPr/>
            </p:nvSpPr>
            <p:spPr>
              <a:xfrm>
                <a:off x="1523880" y="6048360"/>
                <a:ext cx="4795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Oval 28"/>
          <p:cNvSpPr/>
          <p:nvPr/>
        </p:nvSpPr>
        <p:spPr>
          <a:xfrm>
            <a:off x="2397240" y="594036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9"/>
              <p:cNvSpPr txBox="1"/>
              <p:nvPr/>
            </p:nvSpPr>
            <p:spPr>
              <a:xfrm>
                <a:off x="2184480" y="6049800"/>
                <a:ext cx="482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Text Box 30"/>
          <p:cNvSpPr/>
          <p:nvPr/>
        </p:nvSpPr>
        <p:spPr>
          <a:xfrm>
            <a:off x="3364560" y="5943600"/>
            <a:ext cx="3134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olni moment: p =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31"/>
          <p:cNvSpPr/>
          <p:nvPr/>
        </p:nvSpPr>
        <p:spPr>
          <a:xfrm>
            <a:off x="1498680" y="449568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AutoShape 32"/>
          <p:cNvCxnSpPr>
            <a:stCxn id="358" idx="0"/>
            <a:endCxn id="363" idx="4"/>
          </p:cNvCxnSpPr>
          <p:nvPr/>
        </p:nvCxnSpPr>
        <p:spPr>
          <a:xfrm flipH="1" flipV="1">
            <a:off x="1536120" y="4571640"/>
            <a:ext cx="2134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AutoShape 33"/>
          <p:cNvCxnSpPr>
            <a:stCxn id="360" idx="0"/>
            <a:endCxn id="363" idx="5"/>
          </p:cNvCxnSpPr>
          <p:nvPr/>
        </p:nvCxnSpPr>
        <p:spPr>
          <a:xfrm flipH="1" flipV="1">
            <a:off x="1563120" y="4560480"/>
            <a:ext cx="872280" cy="13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366" name="Object 34"/>
              <p:cNvSpPr txBox="1"/>
              <p:nvPr/>
            </p:nvSpPr>
            <p:spPr>
              <a:xfrm>
                <a:off x="736560" y="4470480"/>
                <a:ext cx="787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5"/>
              <p:cNvSpPr txBox="1"/>
              <p:nvPr/>
            </p:nvSpPr>
            <p:spPr>
              <a:xfrm>
                <a:off x="2209680" y="5181480"/>
                <a:ext cx="304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6"/>
              <p:cNvSpPr txBox="1"/>
              <p:nvPr/>
            </p:nvSpPr>
            <p:spPr>
              <a:xfrm>
                <a:off x="1447920" y="5181480"/>
                <a:ext cx="304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Line 37"/>
          <p:cNvSpPr/>
          <p:nvPr/>
        </p:nvSpPr>
        <p:spPr>
          <a:xfrm flipH="1" flipV="1">
            <a:off x="1294920" y="3428640"/>
            <a:ext cx="2286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39"/>
          <p:cNvSpPr/>
          <p:nvPr/>
        </p:nvSpPr>
        <p:spPr>
          <a:xfrm>
            <a:off x="1571760" y="4560840"/>
            <a:ext cx="384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1295280" y="3429000"/>
            <a:ext cx="384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AutoShape 43"/>
          <p:cNvCxnSpPr>
            <a:stCxn id="363" idx="7"/>
            <a:endCxn id="371" idx="0"/>
          </p:cNvCxnSpPr>
          <p:nvPr/>
        </p:nvCxnSpPr>
        <p:spPr>
          <a:xfrm flipV="1">
            <a:off x="1563480" y="4037760"/>
            <a:ext cx="116280" cy="4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44"/>
          <p:cNvCxnSpPr>
            <a:stCxn id="371" idx="1"/>
            <a:endCxn id="370" idx="0"/>
          </p:cNvCxnSpPr>
          <p:nvPr/>
        </p:nvCxnSpPr>
        <p:spPr>
          <a:xfrm>
            <a:off x="1679400" y="4038480"/>
            <a:ext cx="277200" cy="1146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mc:AlternateContent>
        <mc:Choice xmlns:a14="http://schemas.microsoft.com/office/drawing/2010/main" Requires="a14">
          <p:sp>
            <p:nvSpPr>
              <p:cNvPr id="374" name="Object 45"/>
              <p:cNvSpPr txBox="1"/>
              <p:nvPr/>
            </p:nvSpPr>
            <p:spPr>
              <a:xfrm>
                <a:off x="1676520" y="4394160"/>
                <a:ext cx="380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46"/>
              <p:cNvSpPr txBox="1"/>
              <p:nvPr/>
            </p:nvSpPr>
            <p:spPr>
              <a:xfrm>
                <a:off x="1066680" y="3809880"/>
                <a:ext cx="381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47"/>
              <p:cNvSpPr txBox="1"/>
              <p:nvPr/>
            </p:nvSpPr>
            <p:spPr>
              <a:xfrm>
                <a:off x="1701720" y="3720960"/>
                <a:ext cx="50796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7" name="Rectangle 48"/>
          <p:cNvSpPr/>
          <p:nvPr/>
        </p:nvSpPr>
        <p:spPr>
          <a:xfrm>
            <a:off x="3962520" y="3124080"/>
            <a:ext cx="4952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a zavisi 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ložaja probnog naelektris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č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nog naelektris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ojanja od dip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ličine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lektrisanja dip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maka nael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trisan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dipo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Object 49"/>
          <p:cNvGraphicFramePr/>
          <p:nvPr/>
        </p:nvGraphicFramePr>
        <p:xfrm>
          <a:off x="6691320" y="5803920"/>
          <a:ext cx="192096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5803920"/>
                    <a:ext cx="1920960" cy="75888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lektr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1143000" y="2819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električnog pol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1143000" y="2286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elektrisan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6"/>
              <p:cNvSpPr txBox="1"/>
              <p:nvPr/>
            </p:nvSpPr>
            <p:spPr>
              <a:xfrm>
                <a:off x="1765440" y="3355920"/>
                <a:ext cx="15174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4" name="Object 7"/>
          <p:cNvGraphicFramePr/>
          <p:nvPr/>
        </p:nvGraphicFramePr>
        <p:xfrm>
          <a:off x="3416400" y="3505320"/>
          <a:ext cx="197316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3505320"/>
                    <a:ext cx="19731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Text Box 8"/>
          <p:cNvSpPr/>
          <p:nvPr/>
        </p:nvSpPr>
        <p:spPr>
          <a:xfrm>
            <a:off x="1143000" y="4572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ktr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 polja tačkastog naelektrisa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219320" y="51055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avac: radija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mer: zavisi od naelekt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0"/>
              <p:cNvSpPr txBox="1"/>
              <p:nvPr/>
            </p:nvSpPr>
            <p:spPr>
              <a:xfrm>
                <a:off x="4900680" y="4952880"/>
                <a:ext cx="374004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bno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ektrično polje tačkastog naelektrisanja – Linije si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90" name="Group 9"/>
          <p:cNvGrpSpPr/>
          <p:nvPr/>
        </p:nvGrpSpPr>
        <p:grpSpPr>
          <a:xfrm>
            <a:off x="990720" y="2384280"/>
            <a:ext cx="7086600" cy="3635640"/>
            <a:chOff x="990720" y="2384280"/>
            <a:chExt cx="7086600" cy="3635640"/>
          </a:xfrm>
        </p:grpSpPr>
        <p:pic>
          <p:nvPicPr>
            <p:cNvPr id="391" name="Picture 5" descr="D:\My Documents\NASTAVA\Fizika\Predavanja\TackNael.jpg"/>
            <p:cNvPicPr/>
            <p:nvPr/>
          </p:nvPicPr>
          <p:blipFill>
            <a:blip r:embed="rId1"/>
            <a:stretch/>
          </p:blipFill>
          <p:spPr>
            <a:xfrm>
              <a:off x="990720" y="2384280"/>
              <a:ext cx="7086600" cy="36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6"/>
            <p:cNvSpPr/>
            <p:nvPr/>
          </p:nvSpPr>
          <p:spPr>
            <a:xfrm>
              <a:off x="3125880" y="396252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+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7"/>
            <p:cNvSpPr/>
            <p:nvPr/>
          </p:nvSpPr>
          <p:spPr>
            <a:xfrm>
              <a:off x="6936120" y="39625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-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Text Box 8"/>
          <p:cNvSpPr/>
          <p:nvPr/>
        </p:nvSpPr>
        <p:spPr>
          <a:xfrm>
            <a:off x="914400" y="5943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ektrično polje tačkastog naelektrisanja ima istu strukturu kao gravitaciono polje materijalne tač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lektr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 polje dipo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96" name="Object 4"/>
          <p:cNvGraphicFramePr/>
          <p:nvPr/>
        </p:nvGraphicFramePr>
        <p:xfrm>
          <a:off x="3214800" y="3027240"/>
          <a:ext cx="232416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3027240"/>
                    <a:ext cx="23241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Text Box 5"/>
          <p:cNvSpPr/>
          <p:nvPr/>
        </p:nvSpPr>
        <p:spPr>
          <a:xfrm>
            <a:off x="1295280" y="458784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 dalj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olje dipola "liči" na oslabljeno polje tačkastog naelektris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4:36:08Z</dcterms:created>
  <dc:creator>Zlatan Soskic</dc:creator>
  <dc:description/>
  <dc:language>en-US</dc:language>
  <cp:lastModifiedBy>Zlatan Soskic</cp:lastModifiedBy>
  <dcterms:modified xsi:type="dcterms:W3CDTF">2014-12-11T12:48:25Z</dcterms:modified>
  <cp:revision>317</cp:revision>
  <dc:subject/>
  <dc:title>Interakcije i struktura materije</dc:title>
</cp:coreProperties>
</file>