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2B6-9169-47D7-860C-3F636C53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DF2-607F-41EF-98C8-DA874BAF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414-CE99-4FDC-8899-50042744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534-0E3E-4480-8F0C-3571A7FD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64EC-F22F-4280-BEF4-D66EDFC7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813B-C056-4AE8-9156-76C6D1DE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7A52-B9C7-46BA-9627-779FAB23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7034-55E7-4767-8DF8-95749745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3F4-11A8-4ED0-83AC-89534E83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A164-D715-44F7-96D2-02660278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E320-6A82-4198-A564-48058E7B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360-DCD2-45C1-A668-BDB575BC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8ADA-6C34-4A12-ABBE-4F396FB7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64EE-F971-491B-AC2E-D5654A0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6C2B-60AB-4238-9965-06B4E8F9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4E98-8549-4485-B8F4-CCC50250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D2A7-FD1C-4462-84BF-57313734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0165-9792-4A40-8A5A-6ED267A5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7CAD-5A74-4274-B6CF-3CF366CA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8DDB0-DC22-4566-A0D6-D501E979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A31D-55AB-4332-A2C0-1449057B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33C9-887C-4DD4-A553-B4FA6E56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48F-657E-40DF-B91A-59BA3C97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DC4F-AD8C-4B25-B155-826BCB7B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7F8A-EEC6-4328-B9A2-DB6986E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32E4-D124-46D4-84CC-715C8B6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A7D8-DDDA-445A-87C9-FBFA349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A334-F8B7-4AF9-A756-D835E464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0786-A2DA-4C85-A25E-4809E803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91E3-C17C-4C17-9357-16054042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3B74-9291-4C15-9C19-8620EE84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BC2F-1E7A-4EC2-BADB-D7D6FE6F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D3FB-6CEC-4D69-848A-CDAEC80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F48-A067-4018-94B1-EC82B97C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43AF-B13F-4D74-AA99-12DA8429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05581-542E-442F-9F89-F7068E7E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3FD3-EB58-455D-99A2-B9D005D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DAE9-2580-4FE6-B21C-7183B5BD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9D1E-A2C9-4BB2-841A-FF796914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FD70-B1D7-4EF0-8D64-98B1272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491F-C528-4E16-BE08-93D2FC7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1939-5586-4C4C-8EAA-DF79FF8D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1392-04A6-494D-9454-A826BC1B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7D788-3263-4CF9-9BDB-C8D9CE2F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831-BA1D-42E7-9CBC-DBE2B68C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312B8-E363-49E1-942A-5E5AE1C6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E1F9B-DD4A-4427-B7E2-DD8DA76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CCE58-264D-4531-AA4D-0B5D3FDD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0885-EE16-4BB5-B5C5-820862D8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5EEBD-FDA9-4ED6-A31E-94C6A3E6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ABF4-6D65-4431-8532-E7DB22C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275DB-6121-44B4-AF9C-73938906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1D183-8770-4895-BE97-37B17056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9C7B-E336-4DCD-88E7-7D8E35BD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0452-AA02-4EA9-9C92-D3407523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157-D5C4-42BC-81EF-E6FD10C0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C97D-627B-45C9-A5CE-E6FE4D12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4E3C-8A81-4B23-B1D8-2B86EE5C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1A86-A467-4042-B519-42FB6A6F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0EDC6-EC27-4419-94F3-385B2AE3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11550-3373-4A01-AFA2-B1E06EEB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4E684-2826-405B-8BF4-684F2893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B0BEE-9695-4752-B1FB-EF904686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91139-321E-4CAF-A7EC-0D9DB14D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A9E82-26F6-41CB-ADFB-602EAE0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ED318-EC36-4501-8C67-10E72965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9A2-73BE-415D-8045-BFE6E089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99F71-D0D0-4834-86B3-58EBC7F1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10CD4-7AD2-4860-AE4A-00DFDE9E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26F0-705E-4F38-AB65-CF4EAC17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C2E5E-1583-4AF1-9387-8AF1F33D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EBE5C-61FE-45DD-A117-A65A8603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F8433-418B-4CD3-BAD2-A9FBB9F2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73F0C-57D2-4E83-A3C5-D7884F21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58FA-0728-4E26-94AE-F4F113B1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63D2C-F910-4550-8F93-7E506BC9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24A4F-5690-474B-9657-8C994DE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0D5-71C0-4201-83B0-3B5C7B7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5D356-BDA1-45C3-B602-2391832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178FF-0846-4365-9952-E0DDBB79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E650C-627A-4874-AAB2-832D973A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59F35-A2F2-4E42-AE60-6CDE1509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C2E0-F4CF-4553-9BC5-D18D8837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2BC-876E-44D8-81C2-E82EDF9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D632-0E2E-4957-A7A3-A81588AC4D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F747-679A-4146-89C9-087842E5F7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70E3-D91F-4A3E-97BA-D9BE4CA32B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D8B8-CCF1-4D60-87C7-1D903BE59D2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27C2-7C8C-4ABE-8711-D0A454E316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FCB5-FC2E-4B85-887D-2AA86F8FE29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C23A-D113-49F9-A941-8804107D5B0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Fundamentalne interak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- klasifik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1084320" y="2438280"/>
          <a:ext cx="667044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438280"/>
                    <a:ext cx="66704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undamentalne intera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995400" y="2548080"/>
          <a:ext cx="307188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2548080"/>
                    <a:ext cx="307188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4"/>
          <p:cNvSpPr/>
          <p:nvPr/>
        </p:nvSpPr>
        <p:spPr>
          <a:xfrm>
            <a:off x="4343400" y="2438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ne interakcije se ne mogu objasniti pom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ću drugih intera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lasifikacija fundamentalnih interakcija prema domet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nterakcije kratkog dome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uklearna slab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uklearna jak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nterakcije dugog dome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Gravitacio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lektromagnetsk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ntenzitet fundamentalnih interak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uklearna ja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ktromagnets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uklearna slab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Gravitacio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0"/>
              <p:cNvSpPr txBox="1"/>
              <p:nvPr/>
            </p:nvSpPr>
            <p:spPr>
              <a:xfrm>
                <a:off x="990720" y="4800600"/>
                <a:ext cx="3327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ektromagnetsk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ravitaciona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ktrona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"/>
              <p:cNvSpPr txBox="1"/>
              <p:nvPr/>
            </p:nvSpPr>
            <p:spPr>
              <a:xfrm>
                <a:off x="4495680" y="4800600"/>
                <a:ext cx="3276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ektromagnetsk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ravitaciona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tona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59:36Z</dcterms:created>
  <dc:creator>Zlatan Soskic</dc:creator>
  <dc:description/>
  <dc:language>en-US</dc:language>
  <cp:lastModifiedBy>Korisnik</cp:lastModifiedBy>
  <dcterms:modified xsi:type="dcterms:W3CDTF">2012-10-05T07:18:38Z</dcterms:modified>
  <cp:revision>26</cp:revision>
  <dc:subject/>
  <dc:title>Interakcije i struktura materije</dc:title>
</cp:coreProperties>
</file>